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3532-7D4D-4634-A348-A48E8E8129C6}" type="slidenum">
              <a:rPr b="0" lang="es-MX"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E0446-FB13-489D-AF8C-7D934931831D}"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D975-6899-4513-B197-E8BBD3F2DC91}"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62818-3919-4689-8D76-A03F82A2AE92}"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0BE50-91A3-48CC-9083-EA5209D1595C}"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EB9E-12B9-432A-8B2F-0DEE603C2E11}"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ADBE-FF27-4FF0-A587-152727957347}"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95E7-70E4-4EF6-99FE-D3EC0F41DE0B}"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0DB53-8A96-44B1-A40B-1E166E9DF85C}"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5F310-240B-4CAF-967F-ADD517AC8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96BD8-7AC2-4658-83C6-4A32EF907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36A0F-CC1F-47DA-86B5-411408645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A9CFB-F16C-4393-B1D9-91050B403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3690E-8B2A-4005-8A7E-8A8242051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7FB72-FC83-4677-966A-5AA9B9847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B5306-284D-4A49-B880-FAC3A6535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C37A2-6C32-443D-8781-5D19F090D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3A043-19D6-4531-AE70-AFF302FB4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C77AF-E3AE-4CDF-B55A-EDADB2475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0F5BD-07FE-4FCD-BC24-DCCF0480B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FE38C-7CA9-4FD0-B5F0-F641BC575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452BD-4B9D-4C23-9734-5813D4D07417}"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99760"/>
            <a:ext cx="7772400" cy="307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Fin de la edad de oro de la industrialización, crisis de los 80 (la década perdida), reformas estructurales y desaceleración de la economí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Boom petrolero….1</a:t>
            </a:r>
            <a:endParaRPr b="0" lang="en-US" sz="4400" spc="-1" strike="noStrike">
              <a:solidFill>
                <a:srgbClr val="000000"/>
              </a:solidFill>
              <a:latin typeface="Calibri"/>
            </a:endParaRPr>
          </a:p>
        </p:txBody>
      </p:sp>
      <p:sp>
        <p:nvSpPr>
          <p:cNvPr id="66" name=""/>
          <p:cNvSpPr txBox="1"/>
          <p:nvPr/>
        </p:nvSpPr>
        <p:spPr>
          <a:xfrm>
            <a:off x="457200" y="1000080"/>
            <a:ext cx="8229600" cy="5572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 medio de las consecuencias de la crisis de 1976 se dio el descubrimiento de grandes recursos petroleros (6 mil millones de barriles en 1976 a 40 miles de millones en 1978) en medio de un escenario de altos precios del petróleo lo que permitió: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ontrolar el déficit comercial en 1977-1978</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Reestructuración de las fechas de pago de la deuda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Bajo el supuesto de que los altos precios del petróleo constituían el escenario de largo plazo se lanzó un plan ambicioso de industrialización: incremento en la competitividad de las exportaciones y profundización de la sustitución de importaciones de bienes de capital.</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Un buen intento de reforma fiscal que redujo su regresividad, introducción de ajustes por inflación y simplificación de todo el sistema fiscal.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Boom petrolero….2</a:t>
            </a:r>
            <a:endParaRPr b="0" lang="en-US" sz="4400" spc="-1" strike="noStrike">
              <a:solidFill>
                <a:srgbClr val="000000"/>
              </a:solidFill>
              <a:latin typeface="Calibri"/>
            </a:endParaRPr>
          </a:p>
        </p:txBody>
      </p:sp>
      <p:sp>
        <p:nvSpPr>
          <p:cNvPr id="68" name=""/>
          <p:cNvSpPr txBox="1"/>
          <p:nvPr/>
        </p:nvSpPr>
        <p:spPr>
          <a:xfrm>
            <a:off x="457200" y="1000080"/>
            <a:ext cx="8229600" cy="5572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l boom petrolero permitió una importante recuperación de la economía: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cimiento del PIB de 9% anual entre 1978 y 1981 liderado por la producción y exportación de petróleo</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cimiento del transporte y la construcción derivadas de un boom de inversión tanto pública como privada</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gricultura respondió bien: crecimiento de 5% anual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Boom petrolero….signos de preocupación </a:t>
            </a:r>
            <a:endParaRPr b="0" lang="en-US" sz="3600" spc="-1" strike="noStrike">
              <a:solidFill>
                <a:srgbClr val="000000"/>
              </a:solidFill>
              <a:latin typeface="Calibri"/>
            </a:endParaRPr>
          </a:p>
        </p:txBody>
      </p:sp>
      <p:sp>
        <p:nvSpPr>
          <p:cNvPr id="70" name=""/>
          <p:cNvSpPr txBox="1"/>
          <p:nvPr/>
        </p:nvSpPr>
        <p:spPr>
          <a:xfrm>
            <a:off x="285480" y="714240"/>
            <a:ext cx="8643960" cy="6143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e empezaron a detectar signos de preocupación que fueron mal diagnosticados o que no se les tomó la debida importancia: </a:t>
            </a:r>
            <a:endParaRPr b="0" lang="en-US" sz="2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e redujo el déficit fiscal pero porque los ingresos fiscales se duplicaron por los ingresos petroleros  y eso fue lo que permitió el crecimiento del gasto público</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ntinuó la inflación alta, nivel constante de 18%, apreciando el tipo de cambio. La inflación alcanzó el 25% en 1980</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 pesar del incremento en los ingresos petroleros progresivamente se deterioró la balanza comercial, la cuenta corriente (déficit record de 7.2 miles de millones de dólares en 1980) lo que llevo a crecientes pagos de interés de la deuda externa.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stos desbalances fueron financiados por deuda externa principalmente pública (de US$31.2 miles de millones en 1977 a US$57.4 miles de millones en 1980)</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Indicios de enfermedad holandesa</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Inversión dinámica pero sesgada hacia actividad petrolera (inversión pública), comercio y servicios (inversión privada). Sin inversión la manufactura con excepción del industria automotriz y la industria petroquímica. </a:t>
            </a:r>
            <a:r>
              <a:rPr b="1" lang="es-MX" sz="2000" spc="-1" strike="noStrike">
                <a:solidFill>
                  <a:srgbClr val="000000"/>
                </a:solidFill>
                <a:latin typeface="Calibri"/>
              </a:rPr>
              <a:t>No se cumplió el ambicioso plan industrial.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Entorno internacional adverso  y mala interpretación del entorno</a:t>
            </a:r>
            <a:endParaRPr b="0" lang="en-US" sz="3200" spc="-1" strike="noStrike">
              <a:solidFill>
                <a:srgbClr val="000000"/>
              </a:solidFill>
              <a:latin typeface="Calibri"/>
            </a:endParaRPr>
          </a:p>
        </p:txBody>
      </p:sp>
      <p:sp>
        <p:nvSpPr>
          <p:cNvPr id="72" name=""/>
          <p:cNvSpPr txBox="1"/>
          <p:nvPr/>
        </p:nvSpPr>
        <p:spPr>
          <a:xfrm>
            <a:off x="285480" y="1142640"/>
            <a:ext cx="8643960" cy="5715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compañando los desbalances internos el entorno internacional potenció la fragilidad de la economía mexicana. </a:t>
            </a:r>
            <a:endParaRPr b="0" lang="en-US" sz="1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cremento del precio del petróleo, favorable para la economía mexicana siempre que no terminará. </a:t>
            </a:r>
            <a:endParaRPr b="0" lang="en-US" sz="1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cremento en las tasas de interés internacionales (1979-1980) que incrementaron la oferta de créditos a nivel internacional. </a:t>
            </a:r>
            <a:endParaRPr b="0" lang="en-US" sz="1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os importantes ingresos petroleros de México le permitían acceder a una oferta casi ilimitada de préstamos externos en mejores condiciones que la de muchos países. </a:t>
            </a:r>
            <a:endParaRPr b="0" lang="en-US" sz="1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Diagnóstico de este entorno internacional muy optimista por parte del gobierno  y otros actores económicos a pesar de la alta inflación, la apreciación del tipo de cambio, la caída en las exportaciones no petroleras y el crecimiento de las importaciones , el creciente gasto público y déficit fiscal.  </a:t>
            </a:r>
            <a:endParaRPr b="0" lang="en-US" sz="1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e pensaba que los altos precios del petróleo era un fenómeno permanente mientras que las altas tasas de interés era un fenómeno temporal.  El optimismo continuaba en 1981. </a:t>
            </a:r>
            <a:endParaRPr b="0" lang="en-US" sz="1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as razones de este diagnóstico optimista: mal diagnóstico público, acceso a financiamiento y el ciclo político (5º año de gobierno, año en el que se seleccionaba al candidato  del PRI a la presidenc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Los desbalances hicieron muy vulnerables a la economía</a:t>
            </a:r>
            <a:endParaRPr b="0" lang="en-US" sz="3200" spc="-1" strike="noStrike">
              <a:solidFill>
                <a:srgbClr val="000000"/>
              </a:solidFill>
              <a:latin typeface="Calibri"/>
            </a:endParaRPr>
          </a:p>
        </p:txBody>
      </p:sp>
      <p:sp>
        <p:nvSpPr>
          <p:cNvPr id="74" name=""/>
          <p:cNvSpPr txBox="1"/>
          <p:nvPr/>
        </p:nvSpPr>
        <p:spPr>
          <a:xfrm>
            <a:off x="285480" y="856800"/>
            <a:ext cx="8643960" cy="571500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cimiento del déficit comercial (exportaciones menos importaciones): duplicación entre 1980 y 1981 por la caída en exportaciones no manufactureras y el crecimiento de importaciones</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Déficit de balanza de pagos: 12.5 miles de millones de dólares</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Déficit fiscal</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Uso de deuda externa para cubrir los déficits (de US$57.4 miles de millones a US$72.2 miles de millones).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structura vulnerable de la deuda externa: crecimiento de la deuda externa de corto plazo, más de la mitad del total de la deuda externa total(de US$1.5 miles de millones a finales de 1980 a US$10.8 miles de millones a finales de 1981).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Deuda privada también vulnerable: gran parte de la deuda en dólares.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La crisis de 1982</a:t>
            </a:r>
            <a:endParaRPr b="0" lang="en-US" sz="3600" spc="-1" strike="noStrike">
              <a:solidFill>
                <a:srgbClr val="000000"/>
              </a:solidFill>
              <a:latin typeface="Calibri"/>
            </a:endParaRPr>
          </a:p>
        </p:txBody>
      </p:sp>
      <p:sp>
        <p:nvSpPr>
          <p:cNvPr id="76" name=""/>
          <p:cNvSpPr txBox="1"/>
          <p:nvPr/>
        </p:nvSpPr>
        <p:spPr>
          <a:xfrm>
            <a:off x="285480" y="856800"/>
            <a:ext cx="8643960" cy="571500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No todos los actores compartían el optimismo ante la situación de México y en la primera mitad de 1981 inició un ataque especulativo contra el peso por parte del sector privado. El flujo de capital alcanzó su punto más alto en 1982.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l precio internacional del petróleo comenzó a reducirse en 1981 pero de acuerdo con la visión optimista esto era sólo temporal.</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 principios de 1982 el precio del petróleo continuaba cayendo.</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erca de la mitad de la deuda externa del país debía ser pagado durante 1982.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Se hizo inevitable asumir la presencia de una crisis y la necesidad de cambios de política económica.</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ontracción fiscal y devaluación del peso. Se mantuvo la libre convertibilidad (tipo de cambio flexible)</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Resultado de la crisis de 1982</a:t>
            </a:r>
            <a:endParaRPr b="0" lang="en-US" sz="3600" spc="-1" strike="noStrike">
              <a:solidFill>
                <a:srgbClr val="000000"/>
              </a:solidFill>
              <a:latin typeface="Calibri"/>
            </a:endParaRPr>
          </a:p>
        </p:txBody>
      </p:sp>
      <p:sp>
        <p:nvSpPr>
          <p:cNvPr id="78" name=""/>
          <p:cNvSpPr txBox="1"/>
          <p:nvPr/>
        </p:nvSpPr>
        <p:spPr>
          <a:xfrm>
            <a:off x="285480" y="1213920"/>
            <a:ext cx="8643960" cy="500076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os principales efectos de la crisis y las medidas de política económica que se tomaron fueron: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n 1982, por primera vez desde 1932, el nivel de actividad económica cayó.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 caída en la demanda agregada (del producto) se debió a la caída en la inversión privada afectada por la inflación derivada de la devaluación y la contracción de la inversión y gasto público.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mo resultado de la contracción en la actividad económica la balanza comercial mejoró en el 2º trimestre de 1982. Lo que no se detuvo fue la salida de capitales y la especulación con respecto a la moneda.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n agosto de 1982 las reservas internacionales prácticamente se agotaron y el flujo internacional de préstamos dejo de llegar al país. Se desencadenaron nuevas devaluaciones y suspensión del pago de la deuda externa. INICIO DE LA CRISIS DE LA DEUDA.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Nacionalización de la banca privada en septiembre de 1982.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ntroles a la importación y a la conversión del dóla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A dónde se fueron los excedentes petroleros? </a:t>
            </a:r>
            <a:endParaRPr b="0" lang="en-US" sz="3200" spc="-1" strike="noStrike">
              <a:solidFill>
                <a:srgbClr val="000000"/>
              </a:solidFill>
              <a:latin typeface="Calibri"/>
            </a:endParaRPr>
          </a:p>
        </p:txBody>
      </p:sp>
      <p:sp>
        <p:nvSpPr>
          <p:cNvPr id="80" name=""/>
          <p:cNvSpPr txBox="1"/>
          <p:nvPr/>
        </p:nvSpPr>
        <p:spPr>
          <a:xfrm>
            <a:off x="285480" y="1213920"/>
            <a:ext cx="8643960" cy="500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os excedentes petroleros se utilizaron principalmente en subsidios al sector privado: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ubsidios domésticos para mantener los precios de venta de PEMEX por debajo de los precios internacionales (70% de los excedentes petroleros)</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Transferencias presupuestarias a ciertos sectores como la agricultura y para bienes y servicios públicos: electricidad y transport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Los 80, la década pérdida ajustes ante la crisis</a:t>
            </a:r>
            <a:endParaRPr b="0" lang="en-US" sz="4000" spc="-1" strike="noStrike">
              <a:solidFill>
                <a:srgbClr val="000000"/>
              </a:solidFill>
              <a:latin typeface="Calibri"/>
            </a:endParaRPr>
          </a:p>
        </p:txBody>
      </p:sp>
      <p:graphicFrame>
        <p:nvGraphicFramePr>
          <p:cNvPr id="82" name=""/>
          <p:cNvGraphicFramePr/>
          <p:nvPr/>
        </p:nvGraphicFramePr>
        <p:xfrm>
          <a:off x="285840" y="1285920"/>
          <a:ext cx="8572320" cy="5033880"/>
        </p:xfrm>
        <a:graphic>
          <a:graphicData uri="http://schemas.openxmlformats.org/drawingml/2006/table">
            <a:tbl>
              <a:tblPr/>
              <a:tblGrid>
                <a:gridCol w="3101760"/>
                <a:gridCol w="54705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edida de ajus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Impact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r>
              <a:tr h="9169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demás de la crisis de 1982 la economía mexicana  durante los 80 enfrentó el shock de los precios del petróleo en 1986 que deterioró los términos de intercambio y cortó la mayor parte de los ingresos fiscales y del comercio internacion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ae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rategia ortodoxa (Diciembre de 1982-19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Objetivo: corregir déficit fiscal y restablecer la estabilidad de la balanza de pago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us principales logros: terminar con los déficits de cuenta corriente y cuenta de capitale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Fallo en alcanzar estabilidad de precios (inflación de 3 dígitos en 198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e asumió que la estrategia ortodoxa no serviría para reducir precios y se pasó a una estrategia heterodoxa (Pacto Económico, 1987) junto con una aceleración de la  liberalización del mercado.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Objetivo e instrumentos: bajar la inflación con una combinación de control de precios y salarios y congelamiento del tipo de cambio. Además de un control estricto de la política fiscal y monetari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o anterior junto con la aceleración de las reformas para liberalizar el mercado en el comercio, la política industrial y privatización.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Cómo se ajustó la economía (entre 1982-1984)</a:t>
            </a:r>
            <a:endParaRPr b="0" lang="en-US" sz="3200" spc="-1" strike="noStrike">
              <a:solidFill>
                <a:srgbClr val="000000"/>
              </a:solidFill>
              <a:latin typeface="Calibri"/>
            </a:endParaRPr>
          </a:p>
        </p:txBody>
      </p:sp>
      <p:sp>
        <p:nvSpPr>
          <p:cNvPr id="84" name=""/>
          <p:cNvSpPr txBox="1"/>
          <p:nvPr/>
        </p:nvSpPr>
        <p:spPr>
          <a:xfrm>
            <a:off x="285480" y="1213920"/>
            <a:ext cx="8643960" cy="5000760"/>
          </a:xfrm>
          <a:prstGeom prst="rect">
            <a:avLst/>
          </a:prstGeom>
          <a:noFill/>
          <a:ln w="0">
            <a:noFill/>
          </a:ln>
        </p:spPr>
        <p:txBody>
          <a:bodyPr anchor="t">
            <a:normAutofit fontScale="99000"/>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 contracción de la actividad económica (contracción del gasto doméstico sobre todo la inversión pública y privada) ajustó el balance comercial más por una contracción en la economía que por un aumento en las exportaciones . También contribuyeron los ingresos petroleros.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 corrección del déficit fiscal se debió  a la reducción de la inversión pública y el aumento en el ahorro público externo (diferencia entre ingresos de la exportación de petróleo y los pagos de la deuda externa).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Este ajuste no sentó las bases de una plataforma sólida y sostenida de crecimiento a través de exportaciones.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in embargo, no se contraló la inflación y cualquier inicio de recuperación económica  generaba déficit comercial y fiscal.  En 1985 se dio una nueva  crisis y se devaluó el peso en 20%. En 1986 colapsaron los precios del  petróleo reduciendo los ingresos petroleros. Una vez que se supero la emergencia de esta crisis (restricciones fiscales y de divisas) se busco corregir el problema de inflació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Contenido</a:t>
            </a:r>
            <a:endParaRPr b="0" lang="en-US" sz="4400" spc="-1" strike="noStrike">
              <a:solidFill>
                <a:srgbClr val="000000"/>
              </a:solidFill>
              <a:latin typeface="Calibri"/>
            </a:endParaRPr>
          </a:p>
        </p:txBody>
      </p:sp>
      <p:sp>
        <p:nvSpPr>
          <p:cNvPr id="50" name=""/>
          <p:cNvSpPr txBox="1"/>
          <p:nvPr/>
        </p:nvSpPr>
        <p:spPr>
          <a:xfrm>
            <a:off x="557280" y="1071360"/>
            <a:ext cx="8229600" cy="48574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Anteceden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Fin de la edad de oro de la industrialización: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Desgaste y medida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Boom petrolero e impacto en la política económica</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de corto plaz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Camino a la crisis de 1982: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mal diagnóstico de polític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Medidas ante la crisis de 1980: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Ortodoxa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Heterodoxa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Reformas estructurales: que se esperaba y que se obtuv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Desaceleración de la economía: temas pendiente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Control de la inflación 1987</a:t>
            </a:r>
            <a:endParaRPr b="0" lang="en-US" sz="3600" spc="-1" strike="noStrike">
              <a:solidFill>
                <a:srgbClr val="000000"/>
              </a:solidFill>
              <a:latin typeface="Calibri"/>
            </a:endParaRPr>
          </a:p>
        </p:txBody>
      </p:sp>
      <p:sp>
        <p:nvSpPr>
          <p:cNvPr id="86" name=""/>
          <p:cNvSpPr txBox="1"/>
          <p:nvPr/>
        </p:nvSpPr>
        <p:spPr>
          <a:xfrm>
            <a:off x="285480" y="856800"/>
            <a:ext cx="8643960" cy="5643720"/>
          </a:xfrm>
          <a:prstGeom prst="rect">
            <a:avLst/>
          </a:prstGeom>
          <a:noFill/>
          <a:ln w="0">
            <a:noFill/>
          </a:ln>
        </p:spPr>
        <p:txBody>
          <a:bodyPr anchor="t">
            <a:normAutofit fontScale="94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Dos shocks en 1987: pago de deuda por parte del sector privado y colapso del mercado accionario presionó el peso. Devaluación en diciembre y demandas salariales amenazaban con el surgimiento de hiperinflación. </a:t>
            </a:r>
            <a:endParaRPr b="0" lang="en-US" sz="20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strategia heterodoxa para evitar la hiperinflación: </a:t>
            </a:r>
            <a:endParaRPr b="0" lang="en-US" sz="20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acto entre el gobierno, sindicatos y organizaciones empresariales.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Objetivo: reducir la inflación a través de la indexación de los principales precios de la economía: congelamiento de los salarios, el tipo de cambio y los precios públicos.  Esto se acompaño con medidas de austeridad fiscal y monetaria y aceleración de la liberalización comercial.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l resultado fue una caída de la inflación de 160% en 1987 a 20% en 1989. Esto se dio sin afectar mucho más de lo que ya se habían afectado lo salarios y en un entorno de recuperación de la inversión y de la actividad económica.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l mismo tiempo se reestructuró la deuda externa, entró inversión extranjera, mejoró la balanza de pagos y permitió el financiamiento de la balanza comercial asociada a la recuperación.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s importaciones habían cambiado con respecto a diez años atrás: incremento de bienes de consumo y bienes intermedios y reducción de los bienes de capital.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1420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La década pérdida en cifras</a:t>
            </a:r>
            <a:endParaRPr b="0" lang="en-US" sz="4000" spc="-1" strike="noStrike">
              <a:solidFill>
                <a:srgbClr val="000000"/>
              </a:solidFill>
              <a:latin typeface="Calibri"/>
            </a:endParaRPr>
          </a:p>
        </p:txBody>
      </p:sp>
      <p:graphicFrame>
        <p:nvGraphicFramePr>
          <p:cNvPr id="88" name=""/>
          <p:cNvGraphicFramePr/>
          <p:nvPr/>
        </p:nvGraphicFramePr>
        <p:xfrm>
          <a:off x="357120" y="941400"/>
          <a:ext cx="8286840" cy="4543560"/>
        </p:xfrm>
        <a:graphic>
          <a:graphicData uri="http://schemas.openxmlformats.org/drawingml/2006/table">
            <a:tbl>
              <a:tblPr/>
              <a:tblGrid>
                <a:gridCol w="8286840"/>
              </a:tblGrid>
              <a:tr h="467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alibri"/>
                        </a:rPr>
                        <a:t>Indicadores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6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Interrupción del crecimiento: crecimiento del PIB 0% entre 1982 y 1988</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Caída de más de 15% en PIB percapita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Inflación promedio de 90%</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Gasto público en educación y salud cayeron en el período en 30.2% y en 23.9% respectivamente  (menores salarios y menor inversión)</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Empobrecimiento de la clase media y deterioro de indicadores sociales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umento en 10% de la población en pobreza: 48% a finales de los 80.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31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Reducción de la inversión pública y privada, estancamiento de  la actividad productiva y reducción de ingresos de la población llevó a una reducción de la tasa de ahorro doméstico provocando el envejecimiento del stock de capital y una baja eficiencia global de la economía.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
        <p:nvSpPr>
          <p:cNvPr id="89" name="TextBox 3"/>
          <p:cNvSpPr/>
          <p:nvPr/>
        </p:nvSpPr>
        <p:spPr>
          <a:xfrm>
            <a:off x="642960" y="5643720"/>
            <a:ext cx="77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e es el contexto en el que se dio el proceso de reformas estructurales de la economía mexicana que implicó una fuerte liberalización comercial y una reducción en la participación del Estado en la economía que era culpado de excesivo proteccionismo y participación en la economí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El proceso de reformas estructurales…1 </a:t>
            </a:r>
            <a:endParaRPr b="0" lang="en-US" sz="2800" spc="-1" strike="noStrike">
              <a:solidFill>
                <a:srgbClr val="000000"/>
              </a:solidFill>
              <a:latin typeface="Calibri"/>
            </a:endParaRPr>
          </a:p>
        </p:txBody>
      </p:sp>
      <p:graphicFrame>
        <p:nvGraphicFramePr>
          <p:cNvPr id="91" name=""/>
          <p:cNvGraphicFramePr/>
          <p:nvPr/>
        </p:nvGraphicFramePr>
        <p:xfrm>
          <a:off x="357120" y="754200"/>
          <a:ext cx="8286840" cy="603252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Reforma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Objetiv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80680">
                <a:tc gridSpan="2">
                  <a:txBody>
                    <a:bodyPr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culpaba al Estado de un exceso de proteccionismo y de alta participación en la economía</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Este proceso de reforma se dio en toda América Latina pero fue más rápido en México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97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Reformas a la política comercial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Inició en 1984 con una liberalización moderada del régimen de importaciones que se aceleró en 1985. Se redujo la cobertura de las licencias de importación de 100% en 1982 a 37.5 en 1985.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Incorporación al GATT </a:t>
                      </a:r>
                      <a:r>
                        <a:rPr b="0" i="1" lang="es-MX" sz="1600" spc="-1" strike="noStrike">
                          <a:solidFill>
                            <a:srgbClr val="000000"/>
                          </a:solidFill>
                          <a:latin typeface="Calibri"/>
                        </a:rPr>
                        <a:t>(General Agreement on Tariffs and Trade) </a:t>
                      </a:r>
                      <a:r>
                        <a:rPr b="0" lang="es-MX" sz="1600" spc="-1" strike="noStrike">
                          <a:solidFill>
                            <a:srgbClr val="000000"/>
                          </a:solidFill>
                          <a:latin typeface="Calibri"/>
                        </a:rPr>
                        <a:t>precursor de la Organización Mundial de Comercio (OMC). Reducción de tarifas a las importaciones. Se buscaba convencer al sector privado de la seriedad en la apertura comercial.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La fase culminante de la liberalización fue la firma del TLC (Tratado de Libre Comercio con Norteamérica, Canadá y EU) en 1994. Las negociaciones empezaron en 1990.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México mantuvo restricciones en algunos sectores: agricultura, refinación de petróleo (motivos de soberanía) e industria del equipo de transporte.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esperaba que el TLC llevara a la integración regional.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Los objetivos de México: atraer flujos de capital de Canadá y Estados Unidos, impulsar el comercio, impulsar la inversión de empresas mexicanas y extranjeras en bienes comerciables para aprovechar el mercado estadounidense y la plataforma comercial que representa y garantizar el cumplimiento de las reformas que se implementaban.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El proceso de reformas estructurales…2 </a:t>
            </a:r>
            <a:endParaRPr b="0" lang="en-US" sz="2800" spc="-1" strike="noStrike">
              <a:solidFill>
                <a:srgbClr val="000000"/>
              </a:solidFill>
              <a:latin typeface="Calibri"/>
            </a:endParaRPr>
          </a:p>
        </p:txBody>
      </p:sp>
      <p:graphicFrame>
        <p:nvGraphicFramePr>
          <p:cNvPr id="93" name=""/>
          <p:cNvGraphicFramePr/>
          <p:nvPr/>
        </p:nvGraphicFramePr>
        <p:xfrm>
          <a:off x="357120" y="893880"/>
          <a:ext cx="8286840" cy="553536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Reforma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Objetiv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228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visión a la baja  de la política industrial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formas que se profundizaron entre 1988 y 1994 y que han continuado hasta la presente administración.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liminación de créditos, subsidios, reducción de impuestos, esquemas de protección comercial.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establecieron programas para maximizar ventajas comparativas . Programas con pocos recursos.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Firmas de acuerdos comerciales con otros países en el mundo: Chile, Costa Rica, Colombia, Venezuela, Bolivia y Japón.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stimulo a las maquiladoras.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277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Liberalización comercial y apertura de mercados financiero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n 1973 se estableció el límite de 49% de propiedad extranjera en las compañías mexicanas. La ley se derogó en 1993. Se eliminó la regla del 49% y los sectores con inversión extranjera limitada se redujeron. Los sectores reservados al Estado son: petroquímica, electricidad, energía nuclear, telégrafos y correos, y minerales radioactivos.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Liberalización y apertura de mercados financieros inició en 1988: liberalización de requerimientos de reservas y de techos a las tasas de interés, eliminación de controles de cambio. Se permitió la participación de extranjeros en la bolsa de valores e invertir en bonos de gobiernos.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El proceso de reformas estructurales…3 </a:t>
            </a:r>
            <a:endParaRPr b="0" lang="en-US" sz="2800" spc="-1" strike="noStrike">
              <a:solidFill>
                <a:srgbClr val="000000"/>
              </a:solidFill>
              <a:latin typeface="Calibri"/>
            </a:endParaRPr>
          </a:p>
        </p:txBody>
      </p:sp>
      <p:graphicFrame>
        <p:nvGraphicFramePr>
          <p:cNvPr id="95" name=""/>
          <p:cNvGraphicFramePr/>
          <p:nvPr/>
        </p:nvGraphicFramePr>
        <p:xfrm>
          <a:off x="357120" y="1044720"/>
          <a:ext cx="8286840" cy="495612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Reforma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Objetiv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479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Privatización de empresas pública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A diferencia de otros países en los que la privatización se da por consideraciones de eficiencia en México se asumió que lo principal era una gran necesidad de ingresos públicos para invertir y reducir la carga administrativa del sector privado.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l objetivo era que la participación del Estado en la economía fuera más selectiva y se concentrara en áreas con ventajas comparativas.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1983-1989: se pasó de 1115 empresas públicas a 310. El Estado dejo de participar en 22 actividades industriales. 7% de los compradores eran inversores extranjeros.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1989-1992: privatizaciones muy importantes para conseguir ingresos para el gobierno: Teléfonos de México y de 18 bancos.  Los recursos de estas privatizaciones se usaron para pagar deuda del gobierno  externa e interna. Es importante notar que estas privatizaciones privilegiaron a los mejores postores y no necesariamente a quienes tuvieran mejores propuestas para operar las empresas privatizadas, importante en el caso de los bancos y lo que puede explicar problemas posteriores.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El proceso de reformas estructurales…4 </a:t>
            </a:r>
            <a:endParaRPr b="0" lang="en-US" sz="2800" spc="-1" strike="noStrike">
              <a:solidFill>
                <a:srgbClr val="000000"/>
              </a:solidFill>
              <a:latin typeface="Calibri"/>
            </a:endParaRPr>
          </a:p>
        </p:txBody>
      </p:sp>
      <p:graphicFrame>
        <p:nvGraphicFramePr>
          <p:cNvPr id="97" name=""/>
          <p:cNvGraphicFramePr/>
          <p:nvPr/>
        </p:nvGraphicFramePr>
        <p:xfrm>
          <a:off x="357120" y="785880"/>
          <a:ext cx="8286840" cy="593244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Reforma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Objetiv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45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forma a la tenencia de la tierra y revisión de políticas agropecuaria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Desde 1982 se empezó a desmantelar las políticas de apoyo a la agricultura eliminando precios de soporte.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1988-1994: se diagnosticó que el problema de la agricultura era la excesiva intervención estatal y la ineficiencia de los ejidos que representaban más de la mitad de la tierra cultivable. Con el fin de incrementar la productividad e inversión en la agricultura se reformó el sistema de tenencia de la tierra y se revisaron las políticas agrícola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permitió la privatización de los ejidos y se levantaron las restricciones al uso de la tierr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ducción de licencias de importación y tarifas en productos agrícolas como parte de la reforma global comercial.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liminación de precios de garantía (1991) y de precios de soporte (1999).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ducción de créditos subsidiados, subsidios a fertilizantes y asistencia técnic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Medidas compensatorias: apoyo en comercialización y servicios para productores, transferencia de ingresos para compensar por los efectos de la abolición de precios de garantía y apoyo ante la entrada en vigor del TLC.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establecieron programas para incrementar la productividad en la en la agricultura y el desarrollo rural.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Resultados de las reformas estructurales</a:t>
            </a:r>
            <a:endParaRPr b="0" lang="en-US" sz="4000" spc="-1" strike="noStrike">
              <a:solidFill>
                <a:srgbClr val="000000"/>
              </a:solidFill>
              <a:latin typeface="Calibri"/>
            </a:endParaRPr>
          </a:p>
        </p:txBody>
      </p:sp>
      <p:sp>
        <p:nvSpPr>
          <p:cNvPr id="99" name="TextBox 3"/>
          <p:cNvSpPr/>
          <p:nvPr/>
        </p:nvSpPr>
        <p:spPr>
          <a:xfrm>
            <a:off x="571680" y="1584360"/>
            <a:ext cx="821520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estructurales implicaron el paso  de México de un modelo de crecimiento basado en la protección comercial e industrialización dirigida por el Estado a un modelo con una gran apertura al comercio internacional que fue consolidado con la firma del TLC. En este nuevo modelo el sector privado tendría el rol principal en la asignación de recurso a través de las fuerzas de mercado y la competencia internacional.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esperaba que la apertura comercial desencadenará un crecimiento económico liderado por las exportacion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aluación de estas reformas…1 </a:t>
            </a:r>
            <a:endParaRPr b="0" lang="en-US" sz="4400" spc="-1" strike="noStrike">
              <a:solidFill>
                <a:srgbClr val="000000"/>
              </a:solidFill>
              <a:latin typeface="Calibri"/>
            </a:endParaRPr>
          </a:p>
        </p:txBody>
      </p:sp>
      <p:sp>
        <p:nvSpPr>
          <p:cNvPr id="101" name="TextBox 3"/>
          <p:cNvSpPr/>
          <p:nvPr/>
        </p:nvSpPr>
        <p:spPr>
          <a:xfrm>
            <a:off x="571680" y="714240"/>
            <a:ext cx="8215200" cy="5854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tre 1990 y 1993 se presentó una fuerte entrada de capitales  producto de condiciones externas favorables (caída de las tasas de interés internacion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reformas estructurales contribuyeron a esta entrada de capitales: avances en las negociaciones del TLC, liberalización del mercado doméstico, reducción del riesgo país que hizo a México un país deseable para la inversión (resultado del repago de la deuda externa), apreciación del peso y tasas de interés altas en México.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in embargo, la composición de los flujos de capital estaba sesgado hacia la inversión de portafolio de corto plazo lo que resultó en una situación de vulnerabilidad.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unque era una situación preocupante no se tomaron las medidas de política necesarias para corregir el problema: el déficit de cuenta corriente se comenzó a financiar con reservas internacionales. La creciente salida de capitales se pensó como temporal por lo que no se devaluó el peso por temor a desatar la inflación. El mercado evaluó como insostenible tal política y continuó presionando al peso y generando un mayor desgaste de las reservas internacion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gobierno incremento su deuda en pesos y en dólares pero ni así se detuvo la presión en las reservas internacion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 finales de 1994 México se vio en medio de una crisis financiera y en una recesión mayor a la de 1930.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sistema financiero, en parte como resultado de una privatización que no fue acompañada por una regulación sólida,  se encontraba en una situación muy débil para soportar la crisi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8548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valuación de estas reformas…consecuencias de la Crisis de 1994-1995</a:t>
            </a:r>
            <a:endParaRPr b="0" lang="en-US" sz="4000" spc="-1" strike="noStrike">
              <a:solidFill>
                <a:srgbClr val="000000"/>
              </a:solidFill>
              <a:latin typeface="Calibri"/>
            </a:endParaRPr>
          </a:p>
        </p:txBody>
      </p:sp>
      <p:sp>
        <p:nvSpPr>
          <p:cNvPr id="103" name="TextBox 3"/>
          <p:cNvSpPr/>
          <p:nvPr/>
        </p:nvSpPr>
        <p:spPr>
          <a:xfrm>
            <a:off x="571680" y="2192400"/>
            <a:ext cx="821520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sto del rescate bancario de 20% del PIB  y que fue asumido como deuda pública.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risis bancaria dejo a los hogares y a las empresas (sobre todo pequeñas y medianas) que no cuentan con acceso a financiamiento externo sin ninguna fuente de financiamiento.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ctualmente la cantidad total de crédito al sector privado como proporción del GDP oscila en alrededor del 15%, uno de los menores de América Latina. Sin embargo, las ganancias de los bancos han sido crecien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aluación de estas reformas…2 </a:t>
            </a:r>
            <a:endParaRPr b="0" lang="en-US" sz="4400" spc="-1" strike="noStrike">
              <a:solidFill>
                <a:srgbClr val="000000"/>
              </a:solidFill>
              <a:latin typeface="Calibri"/>
            </a:endParaRPr>
          </a:p>
        </p:txBody>
      </p:sp>
      <p:sp>
        <p:nvSpPr>
          <p:cNvPr id="105" name="TextBox 3"/>
          <p:cNvSpPr/>
          <p:nvPr/>
        </p:nvSpPr>
        <p:spPr>
          <a:xfrm>
            <a:off x="571680" y="1357200"/>
            <a:ext cx="8215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ducción importante de la deuda externa como porcentaje del PIB.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mportante crecimiento de las exportaciones y diversificación de las exportacion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las exportaciones crecieron en 5.8% promedio anual en el período 1982-</a:t>
            </a:r>
            <a:r>
              <a:rPr b="0" lang="es-CL" sz="1800" spc="-1" strike="noStrike">
                <a:solidFill>
                  <a:srgbClr val="000000"/>
                </a:solidFill>
                <a:latin typeface="Calibri"/>
              </a:rPr>
              <a:t>	</a:t>
            </a:r>
            <a:r>
              <a:rPr b="0" lang="es-CL" sz="1800" spc="-1" strike="noStrike">
                <a:solidFill>
                  <a:srgbClr val="000000"/>
                </a:solidFill>
                <a:latin typeface="Calibri"/>
              </a:rPr>
              <a:t>1993 y en 11.1% promedio anual entre 1993 y 2005.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as exportaciones pasaron del 27% del PIB en 1982-84 al 58.2% en 2001-05.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En 1982 las exportaciones petroleras representaban casi el 80% de las </a:t>
            </a:r>
            <a:r>
              <a:rPr b="0" lang="es-CL" sz="1800" spc="-1" strike="noStrike">
                <a:solidFill>
                  <a:srgbClr val="000000"/>
                </a:solidFill>
                <a:latin typeface="Calibri"/>
              </a:rPr>
              <a:t>	</a:t>
            </a:r>
            <a:r>
              <a:rPr b="0" lang="es-CL" sz="1800" spc="-1" strike="noStrike">
                <a:solidFill>
                  <a:srgbClr val="000000"/>
                </a:solidFill>
                <a:latin typeface="Calibri"/>
              </a:rPr>
              <a:t>exportaciones totales y las exportaciones manufactureras menos del 20%. </a:t>
            </a:r>
            <a:r>
              <a:rPr b="0" lang="es-CL" sz="1800" spc="-1" strike="noStrike">
                <a:solidFill>
                  <a:srgbClr val="000000"/>
                </a:solidFill>
                <a:latin typeface="Calibri"/>
              </a:rPr>
              <a:t>	</a:t>
            </a:r>
            <a:r>
              <a:rPr b="0" lang="es-CL" sz="1800" spc="-1" strike="noStrike">
                <a:solidFill>
                  <a:srgbClr val="000000"/>
                </a:solidFill>
                <a:latin typeface="Calibri"/>
              </a:rPr>
              <a:t>En 2006  las exportaciones manufactureras representan poco más del 80% </a:t>
            </a:r>
            <a:r>
              <a:rPr b="0" lang="es-CL" sz="1800" spc="-1" strike="noStrike">
                <a:solidFill>
                  <a:srgbClr val="000000"/>
                </a:solidFill>
                <a:latin typeface="Calibri"/>
              </a:rPr>
              <a:t>	</a:t>
            </a:r>
            <a:r>
              <a:rPr b="0" lang="es-CL" sz="1800" spc="-1" strike="noStrike">
                <a:solidFill>
                  <a:srgbClr val="000000"/>
                </a:solidFill>
                <a:latin typeface="Calibri"/>
              </a:rPr>
              <a:t>de las exportaciones tot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cremento en la sofisticación tecnológica de las exportaciones: el 20% de las exportaciones totales se puede considerar como altamente tecnologizada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in embargo,  la participación de las maquiladoras en las exportaciones ha sido creciente: 15% en 1980, 37% en 1991 y 45% en 2006. Además el éxito exportador se ha concentrado sólo en algunas empresas, aquellas con acceso a tecnologías y  capital extranjero. La mayoría de las empresas medianas y pequeñas luchan por sobrevivir en un entorno altamente competitiv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Antecedentes 1: evaluación del modelo de sustitución de importaciones</a:t>
            </a:r>
            <a:endParaRPr b="0" lang="en-US" sz="3600" spc="-1" strike="noStrike">
              <a:solidFill>
                <a:srgbClr val="000000"/>
              </a:solidFill>
              <a:latin typeface="Calibri"/>
            </a:endParaRPr>
          </a:p>
        </p:txBody>
      </p:sp>
      <p:sp>
        <p:nvSpPr>
          <p:cNvPr id="52" name=""/>
          <p:cNvSpPr txBox="1"/>
          <p:nvPr/>
        </p:nvSpPr>
        <p:spPr>
          <a:xfrm>
            <a:off x="485640" y="1928520"/>
            <a:ext cx="8229600" cy="38574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oceso típico de sustitución de importaciones liderado por una política industrial estatal</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La industria respondió con gran dinamismo basado en: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cumulación de capital: comparable con lo que paso en el sudeste asiático</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Sin embargo, la productividad del trabajo no mostro tal dinamismo. Productividad bajo en general y muy diferente entre sectores de baja y gran escal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La contribución de la manufactura al aumento en productividad se debe a un efecto asignación más que a una productividad generalizad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aluación de estas reformas…3 </a:t>
            </a:r>
            <a:endParaRPr b="0" lang="en-US" sz="4400" spc="-1" strike="noStrike">
              <a:solidFill>
                <a:srgbClr val="000000"/>
              </a:solidFill>
              <a:latin typeface="Calibri"/>
            </a:endParaRPr>
          </a:p>
        </p:txBody>
      </p:sp>
      <p:sp>
        <p:nvSpPr>
          <p:cNvPr id="107" name="TextBox 3"/>
          <p:cNvSpPr/>
          <p:nvPr/>
        </p:nvSpPr>
        <p:spPr>
          <a:xfrm>
            <a:off x="571680" y="1357200"/>
            <a:ext cx="821520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Junto con el boom exportador se han presentado déficits comerciales, con excepción de los momentos de recesión severa.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xplicación es que detrás del boom exportador la liberalización ha traído una entrada masiva de importaciones. Esto era algo que se esperaba dados los años de proteccionismo, el problema es que no se ha revertido (como porcentaje del PIB las importaciones representaban el 10% en 1982, el 38% en 2000 y el 45% en el 2006).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Buena parte del aumento en las importaciones se explica por la dependencia de las exportaciones a los productos importantes. Esto mismo explica el poco valor agregado de las exportaciones mexicanas y la falta de vinculación de las mismas con los productores doméstic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aluación de estas reformas…4 </a:t>
            </a:r>
            <a:endParaRPr b="0" lang="en-US" sz="4400" spc="-1" strike="noStrike">
              <a:solidFill>
                <a:srgbClr val="000000"/>
              </a:solidFill>
              <a:latin typeface="Calibri"/>
            </a:endParaRPr>
          </a:p>
        </p:txBody>
      </p:sp>
      <p:sp>
        <p:nvSpPr>
          <p:cNvPr id="109" name="TextBox 3"/>
          <p:cNvSpPr/>
          <p:nvPr/>
        </p:nvSpPr>
        <p:spPr>
          <a:xfrm>
            <a:off x="571680" y="1357200"/>
            <a:ext cx="82152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 ha incrementado el flujo de inversión extranjera en la agricultura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 ha profundizado el dualismo en la agricultur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asa de crecimiento de la agricultura de 1.9% anual entre 1991-93 y 2003-06.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mportantes diferencias entre el sector comercial de la agricultura y el sector ejida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Comercial: crecimiento de las exportaciones de un 50% de 1989-93 a 1994-</a:t>
            </a:r>
            <a:r>
              <a:rPr b="0" lang="es-CL" sz="1800" spc="-1" strike="noStrike">
                <a:solidFill>
                  <a:srgbClr val="000000"/>
                </a:solidFill>
                <a:latin typeface="Calibri"/>
              </a:rPr>
              <a:t>	</a:t>
            </a:r>
            <a:r>
              <a:rPr b="0" lang="es-CL" sz="1800" spc="-1" strike="noStrike">
                <a:solidFill>
                  <a:srgbClr val="000000"/>
                </a:solidFill>
                <a:latin typeface="Calibri"/>
              </a:rPr>
              <a:t>0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Ejidal: crecimiento de las importaciones en un 53%. Los ejidatarios  no se </a:t>
            </a:r>
            <a:r>
              <a:rPr b="0" lang="es-CL" sz="1800" spc="-1" strike="noStrike">
                <a:solidFill>
                  <a:srgbClr val="000000"/>
                </a:solidFill>
                <a:latin typeface="Calibri"/>
              </a:rPr>
              <a:t>	</a:t>
            </a:r>
            <a:r>
              <a:rPr b="0" lang="es-CL" sz="1800" spc="-1" strike="noStrike">
                <a:solidFill>
                  <a:srgbClr val="000000"/>
                </a:solidFill>
                <a:latin typeface="Calibri"/>
              </a:rPr>
              <a:t>trasladaron a cultivos de alto valor sino que permanecieron en el cultivo de </a:t>
            </a:r>
            <a:r>
              <a:rPr b="0" lang="es-CL" sz="1800" spc="-1" strike="noStrike">
                <a:solidFill>
                  <a:srgbClr val="000000"/>
                </a:solidFill>
                <a:latin typeface="Calibri"/>
              </a:rPr>
              <a:t>	</a:t>
            </a:r>
            <a:r>
              <a:rPr b="0" lang="es-CL" sz="1800" spc="-1" strike="noStrike">
                <a:solidFill>
                  <a:srgbClr val="000000"/>
                </a:solidFill>
                <a:latin typeface="Calibri"/>
              </a:rPr>
              <a:t>maíz y reciben mayor parte de sus ingresos de actividades fuera de la </a:t>
            </a:r>
            <a:r>
              <a:rPr b="0" lang="es-CL" sz="1800" spc="-1" strike="noStrike">
                <a:solidFill>
                  <a:srgbClr val="000000"/>
                </a:solidFill>
                <a:latin typeface="Calibri"/>
              </a:rPr>
              <a:t>	</a:t>
            </a:r>
            <a:r>
              <a:rPr b="0" lang="es-CL" sz="1800" spc="-1" strike="noStrike">
                <a:solidFill>
                  <a:srgbClr val="000000"/>
                </a:solidFill>
                <a:latin typeface="Calibri"/>
              </a:rPr>
              <a:t>agricultura  como las remesa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rendimientos de la agricultura han crecido de manera importante en las áreas de riego mientras que en las áreas de temporal se ha estancado. Es en estas áreas de temporal en la que se localizan los agricultores de subsistenci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principales afectados por la eliminación de los programas de asistencia técnica han sido los pequeños productores que también se han visto afectadas por canales de comercialización de productos dominados por intermediarios oligopólico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l resultado de las reformas en cifras </a:t>
            </a:r>
            <a:endParaRPr b="0" lang="en-US" sz="4000" spc="-1" strike="noStrike">
              <a:solidFill>
                <a:srgbClr val="000000"/>
              </a:solidFill>
              <a:latin typeface="Calibri"/>
            </a:endParaRPr>
          </a:p>
        </p:txBody>
      </p:sp>
      <p:sp>
        <p:nvSpPr>
          <p:cNvPr id="111" name="TextBox 3"/>
          <p:cNvSpPr/>
          <p:nvPr/>
        </p:nvSpPr>
        <p:spPr>
          <a:xfrm>
            <a:off x="571680" y="1143000"/>
            <a:ext cx="8215200" cy="311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crecimiento económico en México está estancado en comparación con lo observado en los 40 años previo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Entre 1985 y 2005 el crecimiento del PIB percapita fue del 5% anual </a:t>
            </a:r>
            <a:r>
              <a:rPr b="0" lang="es-CL" sz="1800" spc="-1" strike="noStrike">
                <a:solidFill>
                  <a:srgbClr val="000000"/>
                </a:solidFill>
                <a:latin typeface="Calibri"/>
              </a:rPr>
              <a:t>	</a:t>
            </a:r>
            <a:r>
              <a:rPr b="0" lang="es-CL" sz="1800" spc="-1" strike="noStrike">
                <a:solidFill>
                  <a:srgbClr val="000000"/>
                </a:solidFill>
                <a:latin typeface="Calibri"/>
              </a:rPr>
              <a:t>(entre 1940 y 1981 el crecimiento promedio fue del 3.2% anua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Incluso en los años de mejor comportamiento de la economía dentro de </a:t>
            </a:r>
            <a:r>
              <a:rPr b="0" lang="es-CL" sz="1800" spc="-1" strike="noStrike">
                <a:solidFill>
                  <a:srgbClr val="000000"/>
                </a:solidFill>
                <a:latin typeface="Calibri"/>
              </a:rPr>
              <a:t>	</a:t>
            </a:r>
            <a:r>
              <a:rPr b="0" lang="es-CL" sz="1800" spc="-1" strike="noStrike">
                <a:solidFill>
                  <a:srgbClr val="000000"/>
                </a:solidFill>
                <a:latin typeface="Calibri"/>
              </a:rPr>
              <a:t>este período  (1990-2005) las tasas de crecimiento del PIB percapita fueron </a:t>
            </a:r>
            <a:r>
              <a:rPr b="0" lang="es-CL" sz="1800" spc="-1" strike="noStrike">
                <a:solidFill>
                  <a:srgbClr val="000000"/>
                </a:solidFill>
                <a:latin typeface="Calibri"/>
              </a:rPr>
              <a:t>	</a:t>
            </a:r>
            <a:r>
              <a:rPr b="0" lang="es-CL" sz="1800" spc="-1" strike="noStrike">
                <a:solidFill>
                  <a:srgbClr val="000000"/>
                </a:solidFill>
                <a:latin typeface="Calibri"/>
              </a:rPr>
              <a:t>de 1.5% anual.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sto es grave considerando que México está en pleno bono demográfico, esto es, la mayor parte de la población es joven y tiene una baja tasa de dependencia. Por lo general las economías que se encuentran en el boom demográfico tienen un importante crecimiento del PIB percapita. </a:t>
            </a:r>
            <a:endParaRPr b="0" lang="en-US" sz="1800" spc="-1" strike="noStrike">
              <a:solidFill>
                <a:srgbClr val="000000"/>
              </a:solidFill>
              <a:latin typeface="Calibri"/>
            </a:endParaRPr>
          </a:p>
        </p:txBody>
      </p:sp>
      <p:sp>
        <p:nvSpPr>
          <p:cNvPr id="112" name="TextBox 4"/>
          <p:cNvSpPr/>
          <p:nvPr/>
        </p:nvSpPr>
        <p:spPr>
          <a:xfrm>
            <a:off x="1428840" y="4200480"/>
            <a:ext cx="7572240" cy="2562840"/>
          </a:xfrm>
          <a:prstGeom prst="rect">
            <a:avLst/>
          </a:prstGeom>
          <a:noFill/>
          <a:ln w="25560">
            <a:solidFill>
              <a:srgbClr val="6ea0b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Posible explicación: la debilidad en la inversión que paso de un 6.1% promedio anual entre 1965-79 y un 6.1% anual entre 1996-03 (entre 1980 y 2003 fue de 3.4% en todo el período)</a:t>
            </a:r>
            <a:br>
              <a:rPr sz="1800"/>
            </a:br>
            <a:r>
              <a:rPr b="1" lang="es-MX" sz="1800" spc="-1" strike="noStrike">
                <a:solidFill>
                  <a:srgbClr val="000000"/>
                </a:solidFill>
                <a:latin typeface="Calibri"/>
              </a:rPr>
              <a:t>- Así que se detuvo la expansión y modernización de la capacidad productiva del país y el crecimiento de la demanda agregad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Las causas de esta reducción en la inversión son: la reducción en la inversión pública, un tipo de cambio real apreciado para la mayor parte del período que inicia en 1990, el desmantelamiento de la política industrial y la reducción en el financiamiento bancari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Fuentes</a:t>
            </a:r>
            <a:endParaRPr b="0" lang="en-US" sz="4400" spc="-1" strike="noStrike">
              <a:solidFill>
                <a:srgbClr val="000000"/>
              </a:solidFill>
              <a:latin typeface="Calibri"/>
            </a:endParaRPr>
          </a:p>
        </p:txBody>
      </p:sp>
      <p:sp>
        <p:nvSpPr>
          <p:cNvPr id="114" name="TextBox 3"/>
          <p:cNvSpPr/>
          <p:nvPr/>
        </p:nvSpPr>
        <p:spPr>
          <a:xfrm>
            <a:off x="1071720" y="1357200"/>
            <a:ext cx="77151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oreno-Brid J.C and J.Ros, (2007), </a:t>
            </a:r>
            <a:r>
              <a:rPr b="0" lang="en-US" sz="1800" spc="-1" strike="noStrike">
                <a:solidFill>
                  <a:srgbClr val="000000"/>
                </a:solidFill>
                <a:latin typeface="Calibri"/>
              </a:rPr>
              <a:t>Mexico’s Economic Development in Historical Perspec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Antecedentes 2: obstáculos que no se removieron en el período de sustitución de importaciones  </a:t>
            </a:r>
            <a:endParaRPr b="0" lang="en-US" sz="3200" spc="-1" strike="noStrike">
              <a:solidFill>
                <a:srgbClr val="000000"/>
              </a:solidFill>
              <a:latin typeface="Calibri"/>
            </a:endParaRPr>
          </a:p>
        </p:txBody>
      </p:sp>
      <p:sp>
        <p:nvSpPr>
          <p:cNvPr id="54" name=""/>
          <p:cNvSpPr txBox="1"/>
          <p:nvPr/>
        </p:nvSpPr>
        <p:spPr>
          <a:xfrm>
            <a:off x="485640" y="1285560"/>
            <a:ext cx="8229600" cy="5143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Mala distribución del ingreso: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bandono de agricultura, problemas evidentes después de 1965.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Términos de intercambio adverso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Baja en la inversión pública y en crédit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oco estimulo al potencial exportador: exportaciones como % del PIB de 7.3% en 1945 a 3.6% en 197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ustitución de importaciones sin desarrollo en bienes de capit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rotección industri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in reforma fiscal y precios de bienes y servicios públicos congelado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Carga fiscal más baja de América Latin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ustitución de importaciones sin desarrollo en bienes de capit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rotección industri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in reforma fiscal y precios de bienes y servicios públicos congelado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Carga fiscal más baja de América Latin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Antecedentes 3: consecuencias</a:t>
            </a:r>
            <a:endParaRPr b="0" lang="en-US" sz="3600" spc="-1" strike="noStrike">
              <a:solidFill>
                <a:srgbClr val="000000"/>
              </a:solidFill>
              <a:latin typeface="Calibri"/>
            </a:endParaRPr>
          </a:p>
        </p:txBody>
      </p:sp>
      <p:sp>
        <p:nvSpPr>
          <p:cNvPr id="56" name=""/>
          <p:cNvSpPr txBox="1"/>
          <p:nvPr/>
        </p:nvSpPr>
        <p:spPr>
          <a:xfrm>
            <a:off x="485640" y="1214280"/>
            <a:ext cx="8229600" cy="54295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Restricción de gasto social frente a una población creciente </a:t>
            </a:r>
            <a:r>
              <a:rPr b="0" lang="es-MX" sz="2200" spc="-1" strike="noStrike">
                <a:solidFill>
                  <a:srgbClr val="000000"/>
                </a:solidFill>
                <a:latin typeface="Calibri"/>
              </a:rPr>
              <a:t>	</a:t>
            </a:r>
            <a:r>
              <a:rPr b="0" lang="es-MX" sz="2200" spc="-1" strike="noStrike">
                <a:solidFill>
                  <a:srgbClr val="000000"/>
                </a:solidFill>
                <a:latin typeface="Calibri"/>
              </a:rPr>
              <a:t>¿educación y salu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Finanzas públicas débiles y dependientes de deuda extern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Balanza de pagos vulnerable a flujos de capital.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1970: nueva administración y introducción de cambios al modelo</a:t>
            </a:r>
            <a:endParaRPr b="0" lang="en-US" sz="3600" spc="-1" strike="noStrike">
              <a:solidFill>
                <a:srgbClr val="000000"/>
              </a:solidFill>
              <a:latin typeface="Calibri"/>
            </a:endParaRPr>
          </a:p>
        </p:txBody>
      </p:sp>
      <p:sp>
        <p:nvSpPr>
          <p:cNvPr id="58" name=""/>
          <p:cNvSpPr txBox="1"/>
          <p:nvPr/>
        </p:nvSpPr>
        <p:spPr>
          <a:xfrm>
            <a:off x="485640" y="1214280"/>
            <a:ext cx="8229600" cy="54295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Calibri"/>
              </a:rPr>
              <a:t>Diagnóstico: </a:t>
            </a:r>
            <a:r>
              <a:rPr b="0" lang="es-MX" sz="2200" spc="-1" strike="noStrike">
                <a:solidFill>
                  <a:srgbClr val="000000"/>
                </a:solidFill>
                <a:latin typeface="Calibri"/>
              </a:rPr>
              <a:t>la estrategia del desarrollo estabilizador (1956-1970) falló en corregir el problema de distribución del ingreso</a:t>
            </a:r>
            <a:endParaRPr b="0" lang="en-US" sz="22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Calibri"/>
              </a:rPr>
              <a:t>Nueva estrategia :</a:t>
            </a:r>
            <a:r>
              <a:rPr b="0" lang="es-MX" sz="2200" spc="-1" strike="noStrike">
                <a:solidFill>
                  <a:srgbClr val="000000"/>
                </a:solidFill>
                <a:latin typeface="Calibri"/>
              </a:rPr>
              <a:t>“Desarrollo compartido” que tenía como objetivo principal el distribuir de manera más justa los beneficios del crecimiento económico a través de las siguientes líneas de acción: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1. Impulsar el desarrollo agropecuario</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2. Realizar una reforma  fiscal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3. Política industrial que: atacara el rezago en la competitividad de las exportaciones, fomentara el desarrollo de industrias de bienes de capital, descentralización de las actividades industriales y regulación de la inversión extranjera.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Nuevas líneas de acción</a:t>
            </a:r>
            <a:endParaRPr b="0" lang="en-US" sz="4400" spc="-1" strike="noStrike">
              <a:solidFill>
                <a:srgbClr val="000000"/>
              </a:solidFill>
              <a:latin typeface="Calibri"/>
            </a:endParaRPr>
          </a:p>
        </p:txBody>
      </p:sp>
      <p:graphicFrame>
        <p:nvGraphicFramePr>
          <p:cNvPr id="60" name=""/>
          <p:cNvGraphicFramePr/>
          <p:nvPr/>
        </p:nvGraphicFramePr>
        <p:xfrm>
          <a:off x="428760" y="1000080"/>
          <a:ext cx="8429400" cy="5303880"/>
        </p:xfrm>
        <a:graphic>
          <a:graphicData uri="http://schemas.openxmlformats.org/drawingml/2006/table">
            <a:tbl>
              <a:tblPr/>
              <a:tblGrid>
                <a:gridCol w="2703240"/>
                <a:gridCol w="572616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Área de política económ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olíticas utilizad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gricultur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Incremento de la inversión</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Incremento de precios de garantí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Expansión del crédito agrícola y extensión de servici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fiscal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e aplicó una reforma limitada por la oposición del sector privado: impuesto de 15% a las compras de bienes de lujo y sólo un pequeño incremento en impuestos a las venta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os precios de bienes y servicios provistos por el estado no se ajustaron y cayeron entre 1970 y 1973.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industri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ubsidios a la exportación</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ebajas arancelaria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éditos de corto plazo</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ubsidios a la importación de maquinarias para producir nuevos bienes de capital</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973: ley de Inversión Extranjera que redefinió las reglas para la participación de inversores extranjeros (restricción del 49% a la propiedad extranjer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3000" y="-14328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Resultados de las nuevas líneas de acción </a:t>
            </a:r>
            <a:endParaRPr b="0" lang="en-US" sz="4000" spc="-1" strike="noStrike">
              <a:solidFill>
                <a:srgbClr val="000000"/>
              </a:solidFill>
              <a:latin typeface="Calibri"/>
            </a:endParaRPr>
          </a:p>
        </p:txBody>
      </p:sp>
      <p:graphicFrame>
        <p:nvGraphicFramePr>
          <p:cNvPr id="62" name=""/>
          <p:cNvGraphicFramePr/>
          <p:nvPr/>
        </p:nvGraphicFramePr>
        <p:xfrm>
          <a:off x="0" y="1000080"/>
          <a:ext cx="9144000" cy="5400720"/>
        </p:xfrm>
        <a:graphic>
          <a:graphicData uri="http://schemas.openxmlformats.org/drawingml/2006/table">
            <a:tbl>
              <a:tblPr/>
              <a:tblGrid>
                <a:gridCol w="4533840"/>
                <a:gridCol w="4610160"/>
              </a:tblGrid>
              <a:tr h="36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Resultados positiv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Desbalances generados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031720">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del PIB de 6.2% anual entre 1970-1976</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ecuperación de la inversión privada en respuesta a la recuperación de la inversión públic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de las manufactura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cremento de los salarios reales sobre el 40% entre 1970-1076</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educción del índice de Gini de 0.54  a 0.49</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l único frente en el que no hubo buenos resultados fue la agricultura debido a la condiciones climáticas, rezago en el inicio de los programas de ayuda, la amenaza de una redistribución de la tierra que desplazó a los grandes agricultores hacia cultivos de bajo valor agregado y más mecanizados.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os avances se acompañaron de desbalances important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cremento en el gasto público por encima del crecimiento del PIB (casi el dobl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gresos públicos rezagados con respecto al gasto resultando un importante déficit fiscal.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flación alcanzó el 20% en 1974: incremento del gasto público, shock petrolero en 1973 (en ese momento México importador de petróleo), shocks negativos de la agricultura, ajustes salariales pasaron de ser anuales a bianu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preciación continúa del tipo de cambio, junto con el déficit fiscal y el incremento de la demanda agregada llevo a un déficit comercial (exportaciones mayores a las importacion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No se profundizo la sustitución de importaciones: reducción de la inversión privada  junto con tipo de cambio adverso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Crisis de 1976</a:t>
            </a:r>
            <a:endParaRPr b="0" lang="en-US" sz="4400" spc="-1" strike="noStrike">
              <a:solidFill>
                <a:srgbClr val="000000"/>
              </a:solidFill>
              <a:latin typeface="Calibri"/>
            </a:endParaRPr>
          </a:p>
        </p:txBody>
      </p:sp>
      <p:sp>
        <p:nvSpPr>
          <p:cNvPr id="64" name=""/>
          <p:cNvSpPr txBox="1"/>
          <p:nvPr/>
        </p:nvSpPr>
        <p:spPr>
          <a:xfrm>
            <a:off x="457200" y="1285920"/>
            <a:ext cx="8229600" cy="48578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Finalmente la situación colapsó: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Salida de capitales por la anticipación de un inevitable cambio en la polít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Gran desbalance de la balanza de pagos llevó a la devaluación del peso después de 20 año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Por primera vez desde 1950 se solicitó ayuda del FMI para asistencia financiera.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aída en salarios reales e inversión privada en 1977</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5:09:13Z</dcterms:created>
  <dc:creator>Your User Name</dc:creator>
  <dc:description/>
  <dc:language>en-US</dc:language>
  <cp:lastModifiedBy>.</cp:lastModifiedBy>
  <dcterms:modified xsi:type="dcterms:W3CDTF">2009-11-17T14:34:34Z</dcterms:modified>
  <cp:revision>679</cp:revision>
  <dc:subject/>
  <dc:title>La revolución mexicana</dc:title>
</cp:coreProperties>
</file>