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8A8E-5C17-433B-9BB0-AACA88495F86}"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8CDF-C759-4D88-A24A-64DD8AF5AE97}"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0FD57-F7AF-49A4-B174-602EDA999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85EFD-EC8E-48C8-8291-DFD146A35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EBC75-A59C-4331-A088-70C8F9632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28492-4EB7-4F15-A137-26A4D0D1D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39540-0368-48B7-A2C7-C4950CB18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F75C6-9622-43B8-B72B-C5FA9E997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5DCE-D7BE-4AA1-B088-9A650B7EB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4EE63-FCED-400C-82D3-DE7C3CF05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66F4-9A1D-4257-93A9-5B0FE66DB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BCF04-A5E4-4058-ACDF-2AD97B17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D0E31-BACE-47B9-9C0B-1E96B1FCD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8F66-FDA8-4586-8E94-A2F70B883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B27A-1ACD-4E9F-A301-70635941E8D8}"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eríodo de entreguerras y desarrollo estabilizador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1930-19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2</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reación de una nueva institucionalidad y expansión de los instrumentos disponibles para el gobierno: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Banco de México 1925, funciona como Banco Central a principios de los 30’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de Crédito Agrícola (192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Hipotecario Urbano y de Obras Públicas (193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La forma en la que se supero la Depresión hizo evidente que el desarrollo económico requiere de un Estado con un rol más activo en la economí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Se reflejo en la política económica del presidente Lázaro Cárdenas (1934-1940)</a:t>
            </a:r>
            <a:endParaRPr b="0" lang="en-US" sz="2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	</a:t>
            </a:r>
            <a:r>
              <a:rPr b="0" lang="es-MX" sz="1700" spc="-1" strike="noStrike">
                <a:solidFill>
                  <a:srgbClr val="000000"/>
                </a:solidFill>
                <a:latin typeface="Calibri"/>
              </a:rPr>
              <a:t>- Plan Sexenal: plan de acción por 6 años y compromiso de desarrollar políticas  que requerían inversiones en agricultura, industria e infraestructura y en desarrollo social.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Nueva institucionalidad: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rédito Ejidal (1935)</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omercio Exterior (1937)</a:t>
            </a:r>
            <a:endParaRPr b="0" lang="en-US" sz="17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Consolidación de un Estado pro-desarrollo en el sentido de tener como uno de sus objetivos principales el aumento del bienestar social y contar con la autonomía y recursos para tener una política económica coheren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2</a:t>
            </a:r>
            <a:endParaRPr b="0" lang="en-US" sz="4000" spc="-1" strike="noStrike">
              <a:solidFill>
                <a:srgbClr val="000000"/>
              </a:solidFill>
              <a:latin typeface="Calibri"/>
            </a:endParaRPr>
          </a:p>
        </p:txBody>
      </p:sp>
      <p:sp>
        <p:nvSpPr>
          <p:cNvPr id="75" name=""/>
          <p:cNvSpPr txBox="1"/>
          <p:nvPr/>
        </p:nvSpPr>
        <p:spPr>
          <a:xfrm>
            <a:off x="485640" y="1285560"/>
            <a:ext cx="8229600" cy="5072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Implementación a gran escala de la reforma agraria en todo el territorio. </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Entre 1925 y 1934 11.6 millones de hectáreas distribuidas, en los 6 años de gobierno de Cárdenas se distribuyeron 18.8 millones de has. a más de 700,000 campesino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 1940 los ejidos representaban la mitad de la tierra cultivable (en 1930 sólo el 13%) y la mitad de la población rural se encontraba en los ejido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La población de las haciendas se redujo de 3 millones en 1910 a 800,000 en 1940.  </a:t>
            </a: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Nacionalización de la industria petrolera</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Antecedentes: disputas sobre la distribución de la renta petrolera y disputas laborales (mexicanización de la fuerza de trabajo, incremento de los salarios y beneficios sociales, semanas laborales de 40 hora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l caso  fue llevado a la Suprema Corte que falló en contra de las compañías petrolera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3</a:t>
            </a:r>
            <a:endParaRPr b="0" lang="en-US" sz="4000" spc="-1" strike="noStrike">
              <a:solidFill>
                <a:srgbClr val="000000"/>
              </a:solidFill>
              <a:latin typeface="Calibri"/>
            </a:endParaRPr>
          </a:p>
        </p:txBody>
      </p:sp>
      <p:sp>
        <p:nvSpPr>
          <p:cNvPr id="77" name=""/>
          <p:cNvSpPr txBox="1"/>
          <p:nvPr/>
        </p:nvSpPr>
        <p:spPr>
          <a:xfrm>
            <a:off x="485640" y="1285560"/>
            <a:ext cx="8229600" cy="5072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Gasto público per capita creció en 41%  sobre el promedio del sexenio anterior. </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Reducción en gastos militares y administrativos del 60 al 44% del total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social del 15 al 1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económico del 25 al 3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México entre 1910 y 1940</a:t>
            </a:r>
            <a:endParaRPr b="0" lang="en-US" sz="4400" spc="-1" strike="noStrike">
              <a:solidFill>
                <a:srgbClr val="000000"/>
              </a:solidFill>
              <a:latin typeface="Calibri"/>
            </a:endParaRPr>
          </a:p>
        </p:txBody>
      </p:sp>
      <p:sp>
        <p:nvSpPr>
          <p:cNvPr id="79" name=""/>
          <p:cNvSpPr txBox="1"/>
          <p:nvPr/>
        </p:nvSpPr>
        <p:spPr>
          <a:xfrm>
            <a:off x="485640" y="1928520"/>
            <a:ext cx="82296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 de trabajo rural, pero la población urbana creció en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asa de analfabetismo paso del 78% al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fesores rurales de no existir en 1910 a 20,000 en 194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peranza de vida al nacer paso de 27.6 a 38.8 añ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a:t>
            </a:r>
            <a:endParaRPr b="0" lang="en-US" sz="4000" spc="-1" strike="noStrike">
              <a:solidFill>
                <a:srgbClr val="000000"/>
              </a:solidFill>
              <a:latin typeface="Calibri"/>
            </a:endParaRPr>
          </a:p>
        </p:txBody>
      </p:sp>
      <p:sp>
        <p:nvSpPr>
          <p:cNvPr id="81" name=""/>
          <p:cNvSpPr txBox="1"/>
          <p:nvPr/>
        </p:nvSpPr>
        <p:spPr>
          <a:xfrm>
            <a:off x="485640" y="1928520"/>
            <a:ext cx="8229600" cy="25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Ya se había llegado a la convicción de que el Estado debía jugar un parel activo en la inversión y la producción si se quería crecer</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000" spc="-1" strike="noStrike">
                <a:solidFill>
                  <a:srgbClr val="000000"/>
                </a:solidFill>
                <a:latin typeface="Calibri"/>
              </a:rPr>
              <a:t>- controlaba recursos fundamentales de la economí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había incrementado el número de instrumentos de política con los que contaba el gobierno.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Resultados</a:t>
            </a:r>
            <a:endParaRPr b="0" lang="en-US" sz="4000" spc="-1" strike="noStrike">
              <a:solidFill>
                <a:srgbClr val="000000"/>
              </a:solidFill>
              <a:latin typeface="Calibri"/>
            </a:endParaRPr>
          </a:p>
        </p:txBody>
      </p:sp>
      <p:graphicFrame>
        <p:nvGraphicFramePr>
          <p:cNvPr id="83" name=""/>
          <p:cNvGraphicFramePr/>
          <p:nvPr/>
        </p:nvGraphicFramePr>
        <p:xfrm>
          <a:off x="714240" y="1285920"/>
          <a:ext cx="7500960" cy="5237280"/>
        </p:xfrm>
        <a:graphic>
          <a:graphicData uri="http://schemas.openxmlformats.org/drawingml/2006/table">
            <a:tbl>
              <a:tblPr/>
              <a:tblGrid>
                <a:gridCol w="2714760"/>
                <a:gridCol w="47862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oncep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Resulta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368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radical de la socie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económi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sostenido a un ritmo de 6.4% en términos reales (P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PIB per capita: 3.2%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manufac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lave del crecimiento del período 8.2% anu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blación urba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de una sociedad agraria a una urbana semi-industrial: población urbana de 35% a 58%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vers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so del 8.6% del PIB al 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versión privada de 5% a 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ños de escolari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e 2.6 a 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peranza de vida al na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legó a los 61 añ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uente de crecimient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 mayor parte del período se debió a la dinámica del mercado doméstico como mayor fuente de deman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a:t>
            </a:r>
            <a:endParaRPr b="0" lang="en-US" sz="4000" spc="-1" strike="noStrike">
              <a:solidFill>
                <a:srgbClr val="000000"/>
              </a:solidFill>
              <a:latin typeface="Calibri"/>
            </a:endParaRPr>
          </a:p>
        </p:txBody>
      </p:sp>
      <p:pic>
        <p:nvPicPr>
          <p:cNvPr id="85" name="Table 4" descr=""/>
          <p:cNvPicPr/>
          <p:nvPr/>
        </p:nvPicPr>
        <p:blipFill>
          <a:blip r:embed="rId1"/>
          <a:stretch/>
        </p:blipFill>
        <p:spPr>
          <a:xfrm>
            <a:off x="639720" y="1639800"/>
            <a:ext cx="8077320" cy="4291200"/>
          </a:xfrm>
          <a:prstGeom prst="rect">
            <a:avLst/>
          </a:prstGeom>
          <a:ln w="0">
            <a:noFill/>
          </a:ln>
        </p:spPr>
      </p:pic>
      <p:sp>
        <p:nvSpPr>
          <p:cNvPr id="86" name=""/>
          <p:cNvSpPr txBox="1"/>
          <p:nvPr/>
        </p:nvSpPr>
        <p:spPr>
          <a:xfrm>
            <a:off x="485640" y="1000080"/>
            <a:ext cx="8229600" cy="571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Objetivo central de la política económica: industrialización </a:t>
            </a:r>
            <a:r>
              <a:rPr b="0" lang="es-MX"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2</a:t>
            </a:r>
            <a:endParaRPr b="0" lang="en-US" sz="4000" spc="-1" strike="noStrike">
              <a:solidFill>
                <a:srgbClr val="000000"/>
              </a:solidFill>
              <a:latin typeface="Calibri"/>
            </a:endParaRPr>
          </a:p>
        </p:txBody>
      </p:sp>
      <p:pic>
        <p:nvPicPr>
          <p:cNvPr id="88" name="Table 4" descr=""/>
          <p:cNvPicPr/>
          <p:nvPr/>
        </p:nvPicPr>
        <p:blipFill>
          <a:blip r:embed="rId1"/>
          <a:stretch/>
        </p:blipFill>
        <p:spPr>
          <a:xfrm>
            <a:off x="639720" y="1219320"/>
            <a:ext cx="8077320" cy="492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3</a:t>
            </a:r>
            <a:endParaRPr b="0" lang="en-US" sz="4000" spc="-1" strike="noStrike">
              <a:solidFill>
                <a:srgbClr val="000000"/>
              </a:solidFill>
              <a:latin typeface="Calibri"/>
            </a:endParaRPr>
          </a:p>
        </p:txBody>
      </p:sp>
      <p:pic>
        <p:nvPicPr>
          <p:cNvPr id="90" name="Table 4" descr=""/>
          <p:cNvPicPr/>
          <p:nvPr/>
        </p:nvPicPr>
        <p:blipFill>
          <a:blip r:embed="rId1"/>
          <a:stretch/>
        </p:blipFill>
        <p:spPr>
          <a:xfrm>
            <a:off x="639720" y="1000080"/>
            <a:ext cx="8077320" cy="574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30-1940: política contra cíc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fin de la revolu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40-1970: edad de oro de la industrializació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El </a:t>
            </a:r>
            <a:r>
              <a:rPr b="0" i="1" lang="es-MX" sz="3000" spc="-1" strike="noStrike">
                <a:solidFill>
                  <a:srgbClr val="000000"/>
                </a:solidFill>
                <a:latin typeface="Calibri"/>
              </a:rPr>
              <a:t>boom </a:t>
            </a:r>
            <a:r>
              <a:rPr b="0" lang="es-MX" sz="3000" spc="-1" strike="noStrike">
                <a:solidFill>
                  <a:srgbClr val="000000"/>
                </a:solidFill>
                <a:latin typeface="Calibri"/>
              </a:rPr>
              <a:t>de la guerra (1941-1945)</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Crecimiento con ciclos de inflación y devaluación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Desarrollo con estabilidad macroeconómica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4</a:t>
            </a:r>
            <a:endParaRPr b="0" lang="en-US" sz="4000" spc="-1" strike="noStrike">
              <a:solidFill>
                <a:srgbClr val="000000"/>
              </a:solidFill>
              <a:latin typeface="Calibri"/>
            </a:endParaRPr>
          </a:p>
        </p:txBody>
      </p:sp>
      <p:pic>
        <p:nvPicPr>
          <p:cNvPr id="92" name="Table 4" descr=""/>
          <p:cNvPicPr/>
          <p:nvPr/>
        </p:nvPicPr>
        <p:blipFill>
          <a:blip r:embed="rId1"/>
          <a:stretch/>
        </p:blipFill>
        <p:spPr>
          <a:xfrm>
            <a:off x="639720" y="1000080"/>
            <a:ext cx="8077320" cy="35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09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olución del proceso de sustitución de importaciones </a:t>
            </a:r>
            <a:endParaRPr b="0" lang="en-US" sz="4400" spc="-1" strike="noStrike">
              <a:solidFill>
                <a:srgbClr val="000000"/>
              </a:solidFill>
              <a:latin typeface="Calibri"/>
            </a:endParaRPr>
          </a:p>
        </p:txBody>
      </p:sp>
      <p:sp>
        <p:nvSpPr>
          <p:cNvPr id="94" name=""/>
          <p:cNvSpPr txBox="1"/>
          <p:nvPr/>
        </p:nvSpPr>
        <p:spPr>
          <a:xfrm>
            <a:off x="485640" y="2357280"/>
            <a:ext cx="8229600" cy="28576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No todo el período de oro de la industrialización es igual</a:t>
            </a:r>
            <a:endParaRPr b="0" lang="en-US" sz="2200" spc="-1" strike="noStrike">
              <a:solidFill>
                <a:srgbClr val="000000"/>
              </a:solidFill>
              <a:latin typeface="Calibri"/>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 lo largo de las diferentes etapas se observan diferentes motores que explican el crecimiento al tiempo que se observan factores de desaceleración que al final explicarán el desgaste del modelo de sustitución de importaciones</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El boom de la guerra (1941-194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recimiento con ciclos de inflación-devaluación (1946-195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Desarrollo con estabilidad macroeconómica (1956-1970)</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boom de la guerra (1941-1945)</a:t>
            </a:r>
            <a:endParaRPr b="0" lang="en-US" sz="4000" spc="-1" strike="noStrike">
              <a:solidFill>
                <a:srgbClr val="000000"/>
              </a:solidFill>
              <a:latin typeface="Calibri"/>
            </a:endParaRPr>
          </a:p>
        </p:txBody>
      </p:sp>
      <p:graphicFrame>
        <p:nvGraphicFramePr>
          <p:cNvPr id="96" name=""/>
          <p:cNvGraphicFramePr/>
          <p:nvPr/>
        </p:nvGraphicFramePr>
        <p:xfrm>
          <a:off x="357120" y="941400"/>
          <a:ext cx="8286840" cy="5702400"/>
        </p:xfrm>
        <a:graphic>
          <a:graphicData uri="http://schemas.openxmlformats.org/drawingml/2006/table">
            <a:tbl>
              <a:tblPr/>
              <a:tblGrid>
                <a:gridCol w="2687760"/>
                <a:gridCol w="5599080"/>
              </a:tblGrid>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2% anual per-capit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10.2% por año se constituye como el motor de crecimi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3% por añ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 dirigida por la demanda externa (exportaciones) más que por la sustitución de importacion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ferente al resto de LA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 pesar de la apreciación del tipo de cambi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 manufactureras pasaron del 7% a casi al 40%. Sobre todo texti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eron pero se rezagaron las importaciones de textiles, químicos y vehículos lo que generó oportunidades para productores nacional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creció a un 14%  anual llevando a un boom de la construcción acompañado también de inversión privad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duplicaron las vialidades y las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en industrias manufacture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uevo grupo de empresario industrialistas: pequeñas plantas manufactureras, con capital local y orientadas hacia el mercado doméstico y con un enfoque proteccionist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forzada por la migración derivada de la guerra: capital y/o habilidad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splazamiento de inversión en la agricultu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f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esiones inflacionarias derivadas de la guerra : escasez de algunos bienes e impacto de excedentes del comercio y entrada de capitales (políticas monetarias incipientes), aumentos salaria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terioro: los salarios pasaron de 29.1% del PIB a 22.6%</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ferta de trabajo proveniente de la agricultura e inexistencia de sindicatos fuert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1946-1955)</a:t>
            </a:r>
            <a:endParaRPr b="0" lang="en-US" sz="2800" spc="-1" strike="noStrike">
              <a:solidFill>
                <a:srgbClr val="000000"/>
              </a:solidFill>
              <a:latin typeface="Calibri"/>
            </a:endParaRPr>
          </a:p>
        </p:txBody>
      </p:sp>
      <p:graphicFrame>
        <p:nvGraphicFramePr>
          <p:cNvPr id="98" name=""/>
          <p:cNvGraphicFramePr/>
          <p:nvPr/>
        </p:nvGraphicFramePr>
        <p:xfrm>
          <a:off x="357120" y="1452600"/>
          <a:ext cx="8286840" cy="5048280"/>
        </p:xfrm>
        <a:graphic>
          <a:graphicData uri="http://schemas.openxmlformats.org/drawingml/2006/table">
            <a:tbl>
              <a:tblPr/>
              <a:tblGrid>
                <a:gridCol w="2687760"/>
                <a:gridCol w="5599080"/>
              </a:tblGrid>
              <a:tr h="46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6.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1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mportante crecimiento de cultivos 5.7% anual y ganadero 3.7% anu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el área cultivable tanto secano como de riego. Incremento del área cultivable por la reforma agra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rendimientos por ha por mejoras en semillas, fertilizantes, pesticidas y maquinaria. Neutralizó el efecto de la baja en los precios agrícol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troducción de cultivos de mayor valor en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ontribución a la industrializació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imentos para la creciente pobl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visión de materias primas y generación de divisas que servían para importar bienes necesarios para la industrializ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ar la oferta de mano de obra  que estuviera dispuesta a trabajar a bajos salarios para cumplir con la demanda creciente de la industria y los servicio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eneración de ahorro a canalizar por el sistema bancario hacia infraestructura e inversión en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Términos de intercambio favorables a la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ansión dl mercado para la producción industrial a través de una pequeña clase media rur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Sustitución de importaciones: factores domésticos, industrialización impulsada por protección comerci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ierde terreno el impulso por 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de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importaciones de bienes de capit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57120" y="1733400"/>
          <a:ext cx="8286840" cy="46958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de tarifas a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in restricciones fuertes los bienes de capital y las materias prim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extranjera posterior a la postguerr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presario diferente: produce manufacturas y no se dedica a comprar bonos del gobierno o de empresa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83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ualidad en la agricultura: brecha entre producción privada en el norte y noroeste y producción ejidal en el centro y su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orte-Noroeste: exportación y beneficiados por inversión en riego y avances tecnológic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entro-Sur: orientado al mercado doméstico, métodos tradicionales. Crecimiento de la población presionó la tenencia de la tierr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todos los tipos de agricultura  crecen.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empiezan a enfrentar déficits comerciales: reducción de la demanda de la demanda externa por el fin de la 2ª Guerra Mundial y caída en los términos de intercambio después de la Guerra de Kore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Pero se contaba con los instrumentos  y recursos para impulsar la recuperación económica a través  de devaluación (crecimiento de exportaciones) y aumento de gasto público (aumento de demanda intern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mpuesto inflacionario ante la ausencia de reformas en el lado de los ingresos fiscales: Inflación promedio anual de 9.3%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0" name="Title 1"/>
          <p:cNvSpPr/>
          <p:nvPr/>
        </p:nvSpPr>
        <p:spPr>
          <a:xfrm>
            <a:off x="0" y="357120"/>
            <a:ext cx="914400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1946-1955)…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14200"/>
            <a:ext cx="91440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a:t>
            </a:r>
            <a:endParaRPr b="0" lang="en-US" sz="2800" spc="-1" strike="noStrike">
              <a:solidFill>
                <a:srgbClr val="000000"/>
              </a:solidFill>
              <a:latin typeface="Calibri"/>
            </a:endParaRPr>
          </a:p>
        </p:txBody>
      </p:sp>
      <p:graphicFrame>
        <p:nvGraphicFramePr>
          <p:cNvPr id="102" name=""/>
          <p:cNvGraphicFramePr/>
          <p:nvPr/>
        </p:nvGraphicFramePr>
        <p:xfrm>
          <a:off x="357120" y="1125360"/>
          <a:ext cx="8286840" cy="4668840"/>
        </p:xfrm>
        <a:graphic>
          <a:graphicData uri="http://schemas.openxmlformats.org/drawingml/2006/table">
            <a:tbl>
              <a:tblPr/>
              <a:tblGrid>
                <a:gridCol w="2687760"/>
                <a:gridCol w="5599080"/>
              </a:tblGrid>
              <a:tr h="47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 y otros dato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7%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nflación 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9% de crecimiento promedio anu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aso del 17.5% de la producción total al 23.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Por debajo del crecimiento de la pob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3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Mercado doméstic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en bienes pesados, intermedios y bienes de consumo durables: industria automotriz, maquinaria , aparatos eléctricos, químic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las exportaciones de los bienes anteriores a través de  transnacionales y maquilado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 objetivo de la industrialización se incorpora el de estabilidad de precios y de balanza de pago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factores que facilitaron  la reducción de la inf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ecimiento de la producción agrícola, al inicio del período, reducción de precios    agrícola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Debilidad de indización salarial (ajuste cada dos añ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nversión públic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forma financiera: recursos obligatorios al sector público vía reservas bancarias    (solución al déficit fisc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57120" y="1682640"/>
          <a:ext cx="8286840" cy="36435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8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sencia de shocks externos: sin impactos positivos o negativos de guerras ni shocks agrícolas negativ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alarios reales crecieron al 4.5%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ucción de la pobreza alimentaria paso del 64.3% al 24.3% de la población</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ergencia de una clase media: aumento del uso de televisión (17.5 a 58.5 por cada mil), teléfonos (14.1 a 29.6), automóviles (12.9 a 24.1).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55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clinación de la producción agrícola por debajo del aumento de la pob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aída en la inversión pública en el agro</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precios de bienes agrícolas en relación con precios de bienes industrial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édito público al agro escaso y reduciendo su participación en el crédito público tot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impacto de la reforma agraria: distribución de tierras menos productiv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Evaluación del modelo de sustitución de importaciones </a:t>
            </a:r>
            <a:endParaRPr b="0" lang="en-US" sz="3600" spc="-1" strike="noStrike">
              <a:solidFill>
                <a:srgbClr val="000000"/>
              </a:solidFill>
              <a:latin typeface="Calibri"/>
            </a:endParaRPr>
          </a:p>
        </p:txBody>
      </p:sp>
      <p:sp>
        <p:nvSpPr>
          <p:cNvPr id="106" name=""/>
          <p:cNvSpPr txBox="1"/>
          <p:nvPr/>
        </p:nvSpPr>
        <p:spPr>
          <a:xfrm>
            <a:off x="485640" y="1214280"/>
            <a:ext cx="8229600" cy="38577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 </a:t>
            </a:r>
            <a:endParaRPr b="0" lang="en-US" sz="3600" spc="-1" strike="noStrike">
              <a:solidFill>
                <a:srgbClr val="000000"/>
              </a:solidFill>
              <a:latin typeface="Calibri"/>
            </a:endParaRPr>
          </a:p>
        </p:txBody>
      </p:sp>
      <p:sp>
        <p:nvSpPr>
          <p:cNvPr id="108" name=""/>
          <p:cNvSpPr txBox="1"/>
          <p:nvPr/>
        </p:nvSpPr>
        <p:spPr>
          <a:xfrm>
            <a:off x="485640" y="1214280"/>
            <a:ext cx="8229600" cy="5429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la distribución del ingreso: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1968: 40% más pobre 11%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0% más rico     42%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970: 24% de malnutrició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45% sin acceso a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22% de la población de 14 años o más analfabetos  </a:t>
            </a:r>
            <a:r>
              <a:rPr b="0" lang="es-MX" sz="2200" spc="-1" strike="noStrike">
                <a:solidFill>
                  <a:srgbClr val="000000"/>
                </a:solidFill>
                <a:latin typeface="Calibri"/>
              </a:rPr>
              <a:t>	</a:t>
            </a:r>
            <a:r>
              <a:rPr b="0" lang="es-MX" sz="2200" spc="-1" strike="noStrike">
                <a:solidFill>
                  <a:srgbClr val="000000"/>
                </a:solidFill>
                <a:latin typeface="Calibri"/>
              </a:rPr>
              <a:t>o sin terminar primari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bandono de agricultura, problemas evidentes después de 1965.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Términos de intercambio adverso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ja en la inversión pública y en crédit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co estimulo al potencial exportador: exportaciones como % del PIB de 7.3% en 1945 a 3.6% en 1970</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Protección comercial y apreciación del tipo de cambi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2 </a:t>
            </a:r>
            <a:endParaRPr b="0" lang="en-US" sz="3600" spc="-1" strike="noStrike">
              <a:solidFill>
                <a:srgbClr val="000000"/>
              </a:solidFill>
              <a:latin typeface="Calibri"/>
            </a:endParaRPr>
          </a:p>
        </p:txBody>
      </p:sp>
      <p:sp>
        <p:nvSpPr>
          <p:cNvPr id="110" name=""/>
          <p:cNvSpPr txBox="1"/>
          <p:nvPr/>
        </p:nvSpPr>
        <p:spPr>
          <a:xfrm>
            <a:off x="485640" y="1214280"/>
            <a:ext cx="8229600" cy="54295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ustitución de importaciones sin desarrollo en biene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Máquinas y herramientas con un contenido de importaciones del 90%, en Brasil 20%</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tección industrial</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no fue temporal para estimular nuevas empresas o industrias tendió a ser permanente. </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n reforma fiscal y precios de bienes y servicios públicos congelados: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arga fiscal más baja de América Lati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Sistema regresivo: carga en ingresos laborales y no en </a:t>
            </a:r>
            <a:r>
              <a:rPr b="0" lang="es-MX" sz="2200" spc="-1" strike="noStrike">
                <a:solidFill>
                  <a:srgbClr val="000000"/>
                </a:solidFill>
                <a:latin typeface="Calibri"/>
              </a:rPr>
              <a:t>	</a:t>
            </a:r>
            <a:r>
              <a:rPr b="0" lang="es-MX" sz="2200" spc="-1" strike="noStrike">
                <a:solidFill>
                  <a:srgbClr val="000000"/>
                </a:solidFill>
                <a:latin typeface="Calibri"/>
              </a:rPr>
              <a:t>ingresos a la propieda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Consecuencias:</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Anteceden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Entre 1920 y 1932 el gobierno había seguido una política económica ortodoxa (pro-cíclica)</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dejo que la oferta monetaria se contrajer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buscaba un balance fiscal e incluso excedentes al reducir el empleo público, reducción de salario de empleados públicos y aumento de impuest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A partir de 1933 cambio radical de la política económica: de contra-cíclica a pro-cíc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México en comparación internacional: PIB percapita de México como porcentaje del PIB percapita de otros países </a:t>
            </a:r>
            <a:endParaRPr b="0" lang="en-US" sz="3200" spc="-1" strike="noStrike">
              <a:solidFill>
                <a:srgbClr val="000000"/>
              </a:solidFill>
              <a:latin typeface="Calibri"/>
            </a:endParaRPr>
          </a:p>
        </p:txBody>
      </p:sp>
      <p:sp>
        <p:nvSpPr>
          <p:cNvPr id="112" name=""/>
          <p:cNvSpPr txBox="1"/>
          <p:nvPr/>
        </p:nvSpPr>
        <p:spPr>
          <a:xfrm>
            <a:off x="485640" y="1214280"/>
            <a:ext cx="8229600" cy="542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3" name=""/>
          <p:cNvGraphicFramePr/>
          <p:nvPr/>
        </p:nvGraphicFramePr>
        <p:xfrm>
          <a:off x="1714680" y="1536840"/>
          <a:ext cx="5814720" cy="3606840"/>
        </p:xfrm>
        <a:graphic>
          <a:graphicData uri="http://schemas.openxmlformats.org/drawingml/2006/table">
            <a:tbl>
              <a:tblPr/>
              <a:tblGrid>
                <a:gridCol w="1161720"/>
                <a:gridCol w="1163880"/>
                <a:gridCol w="1162080"/>
                <a:gridCol w="1163520"/>
                <a:gridCol w="11635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aí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ras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er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7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5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1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lomb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9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hi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7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rugua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Venezue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0.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rgenti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ados Unid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8.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114" name="Text Box 58"/>
          <p:cNvSpPr/>
          <p:nvPr/>
        </p:nvSpPr>
        <p:spPr>
          <a:xfrm>
            <a:off x="1714680" y="5143680"/>
            <a:ext cx="54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6"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a:t>
            </a:r>
            <a:endParaRPr b="0" lang="en-US" sz="4000" spc="-1" strike="noStrike">
              <a:solidFill>
                <a:srgbClr val="000000"/>
              </a:solidFill>
              <a:latin typeface="Calibri"/>
            </a:endParaRPr>
          </a:p>
        </p:txBody>
      </p:sp>
      <p:graphicFrame>
        <p:nvGraphicFramePr>
          <p:cNvPr id="55" name=""/>
          <p:cNvGraphicFramePr/>
          <p:nvPr/>
        </p:nvGraphicFramePr>
        <p:xfrm>
          <a:off x="928800" y="1539720"/>
          <a:ext cx="7572240" cy="521208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moneta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xpansiva: bajo la acción del gobierno la oferta monetaria creció 31% en 1932 y 15% en 1933</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terés pasó del 12% en 1931 al 8% en 1932</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Tipo de cambio : depreciación (1932-1933) y 1938 impulsando las ex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tre 1929 y 1939 el precio relativo de los bienes de consumo importados vs similares productos nacionales subió en 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Se detonó un proceso de sustitución de im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Dado que se detonó a partir de la depreciación del tipo de cambio se trata de una sustitución de importaciones dirigido por la deman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Se permitieron déficits fiscales, 0.6% en 19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Entre 1934-1940 los déficits se usaron para financiar inversión productiva y soci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2</a:t>
            </a:r>
            <a:endParaRPr b="0" lang="en-US" sz="4000" spc="-1" strike="noStrike">
              <a:solidFill>
                <a:srgbClr val="000000"/>
              </a:solidFill>
              <a:latin typeface="Calibri"/>
            </a:endParaRPr>
          </a:p>
        </p:txBody>
      </p:sp>
      <p:graphicFrame>
        <p:nvGraphicFramePr>
          <p:cNvPr id="57" name=""/>
          <p:cNvGraphicFramePr/>
          <p:nvPr/>
        </p:nvGraphicFramePr>
        <p:xfrm>
          <a:off x="928800" y="1539720"/>
          <a:ext cx="7572240" cy="192096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co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 partir de 1930 incremento del nivel de las tarifas a productos de export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de deu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Durante todos los años 30 México permaneció en default con su deuda exter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59"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0" name="Table 3" descr=""/>
          <p:cNvPicPr/>
          <p:nvPr/>
        </p:nvPicPr>
        <p:blipFill>
          <a:blip r:embed="rId1"/>
          <a:stretch/>
        </p:blipFill>
        <p:spPr>
          <a:xfrm>
            <a:off x="1450800" y="2852640"/>
            <a:ext cx="6242400" cy="2914920"/>
          </a:xfrm>
          <a:prstGeom prst="rect">
            <a:avLst/>
          </a:prstGeom>
          <a:ln w="0">
            <a:noFill/>
          </a:ln>
        </p:spPr>
      </p:pic>
      <p:sp>
        <p:nvSpPr>
          <p:cNvPr id="61"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63"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Table 3" descr=""/>
          <p:cNvPicPr/>
          <p:nvPr/>
        </p:nvPicPr>
        <p:blipFill>
          <a:blip r:embed="rId1"/>
          <a:stretch/>
        </p:blipFill>
        <p:spPr>
          <a:xfrm>
            <a:off x="1450800" y="2852640"/>
            <a:ext cx="6242400" cy="2914920"/>
          </a:xfrm>
          <a:prstGeom prst="rect">
            <a:avLst/>
          </a:prstGeom>
          <a:ln w="0">
            <a:noFill/>
          </a:ln>
        </p:spPr>
      </p:pic>
      <p:sp>
        <p:nvSpPr>
          <p:cNvPr id="65"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ntexto internacional</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Recuperación de los términos de intercambio de dos productos importantes: plata y petróleo</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ermitió poner fin al ciclo perverso: reducción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del stock monetario, de los ingresos fiscales y del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to público y del producto total.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Diversificación de las exportaciones: productos alimenticios, frutas tropicales, minerales a diferencia de países como Colombia y Chile que eran monoexportad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1</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Manufactura sector más dinámico de la economía. Tasa de crecimiento promedio anual de 8.1% entre 1932 y 1940</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Oleada de empresarios con visión industrializadora que llegaron escapando de la guerra y las persecuciones: judíos europeos, libaneses, siri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Desplazamiento de la inversión agropecuaria a la manufactura en parte por la Reforma Agr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Gasto gubernamental en infraestructu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05T16:02:23Z</dcterms:modified>
  <cp:revision>315</cp:revision>
  <dc:subject/>
  <dc:title>La revolución mexicana</dc:title>
</cp:coreProperties>
</file>