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188-5BAF-47A9-9C54-789A3CA7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38D-38A6-4F60-8941-E4104750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748-9D27-4474-9D7D-E5ABE582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042-7A88-4889-BD80-C5395287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FBA8-10A3-43B5-8051-ADD27F2E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098-F47A-45A7-A96C-FDFACA26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D1A-2A3D-4AB6-A1BC-21D26742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62C-395E-4E8A-8700-DE7B51C3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6A5-79A4-4027-B74A-08D34E43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292-A4EC-44AA-92E0-6C6EB832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74B-3081-41CC-B4CC-44B8AB5D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100-7916-4423-8F5B-5C1C4C37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B6D7-519B-4C35-B128-01C559480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836640"/>
            <a:ext cx="80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íodo 1990 - hasta hoy, gobierna una misma Coali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1990 – 2010 cuatro gobi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1990 se toma decisión de no hacer cambios radicales a las políticas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conóm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refor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Tributaria 1990 y 1993:  Impuesto utilidades empresa e 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Laboral 1990, mayor equilibrio y poder de neg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umento del Gasto Público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lementación regla fiscal de Balance fiscal estructural: mantener nivel de      gasto, consistente con el PIB potencial y precio del cobre de equilibrio, cuando  la economía crece se ahorra y cuando hay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cesión se g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Comercial  aranceles uniformes  11%  y a partir de 2003 de 6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trada de OMC obliga a desmantelar reintegro,  bandas y sobretasas se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hacen tem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de Tratados de Libre Comercio: 20 acuerdos con más de 50 paí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y de Concesiones: (aumento de inversión fís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erto y Aeropu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am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guro de cesant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ejoramiento de pensiones míni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previ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gramas para personas en condiciones de pobreza pobr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grama AUGE en S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istribución del Ingreso cambios significativos período 1970 –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íodo 1970 a 1990 se deteriora la distribución y la pobreza llega a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tre 1990 y 2006 la pobreza cae a 14% y la indigencia retrocede  del 17% al 3.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istribución del ingreso mejora entre 90 y 98  y luego retrocede por efecto de la crisis asiá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Ffrench – Davis señala: “ en una mirada de largo plazo se observa que la distribución del Ingreso es hoy mejor que en los ochenta, más bien similar a los setenta y más regresiva que los sesent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finición de Pobreza: son aquellos cuyo ingreso familiar per cápita es inferior al costo de dos canastas de alimentos. (aprox. $54.000 por persona, familia promedio de 4,7 miembros $253.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Desafíos para avanzar en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Macroeconomía compatible con desarrollo sosten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dinamismo expor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reocupación por el desarrollo regional y sec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crecimiento de Inversión en infraestru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umentar inversión en capital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ejorar distribución del Ing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ejorar la productividad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Incorporar la participación ciudad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6:24:19Z</dcterms:created>
  <dc:creator>.</dc:creator>
  <dc:description/>
  <dc:language>en-US</dc:language>
  <cp:lastModifiedBy>.</cp:lastModifiedBy>
  <dcterms:modified xsi:type="dcterms:W3CDTF">2009-11-10T16:10:06Z</dcterms:modified>
  <cp:revision>10</cp:revision>
  <dc:subject/>
  <dc:title>Chile: regreso a la Democracia</dc:title>
</cp:coreProperties>
</file>