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A9A-4ECC-4AFD-A0C7-47109180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187-7FAC-4E60-8893-FE63FDF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DA4-E4D2-49DC-8A43-33E1314E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F92-E952-4F75-A9CA-D18933A0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54F-2F46-4B8B-92D2-1FB9D4C8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B5E-E183-422C-90B0-8768769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A4D-3207-45B5-86D6-BFDF6D45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A56-5AC8-4BAF-A667-BE62504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4F4-6DE4-4D1F-B34C-FC4CEE22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0BB-0F4B-4A1F-8656-082690D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A70-B2EC-4384-A26D-2790C047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42C-671E-474A-8914-FA64382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BEC0-B645-4EFF-A40C-669927CC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90 - hasta hoy, gobierna una misma Coali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1990 – 2010 cuatro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1990 se toma decisión de no hacer cambios radicales a las políticas  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conó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Tributaria 1990 y 1993:  Impuesto utilidades empresa e 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Laboral 1990, mayor equilibrio y poder de neg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Gasto Públic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mplementación regla fiscal de Balance fiscal estructural: mantener nivel de      gasto, consistente con el PIB potencial y precio del cobre de equilibrio, cuando  la economía crece se ahorra y cuando hay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cesión se g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omercial  aranceles uniformes  11%  y a partir de 2003 de 6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ada de OMC obliga a desmantelar reintegro,  bandas y sobretasas se 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hacen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Tratados de Libre Comercio: 20 acuerdos con más de 50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y de Concesiones: (aumento de inversión fí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erto y Aeropu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am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ro de ces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joramiento de pensiones míni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orma previ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s para personas en condiciones de pobreza pobr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ograma AUGE en Sal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istribución del Ingreso cambios significativos período 1970 –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eríodo 1970 a 1990 se deteriora la distribución y la pobreza llega a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tre 1990 y 2006 la pobreza cae a 14% y la indigencia retrocede  del 17% al 3.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istribución del ingreso mejora entre 90 y 98  y luego retrocede por efecto de la crisis asiá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french – Davis señala: “ en una mirada de largo plazo se observa que la distribución del Ingreso es hoy mejor que en los ochenta, más bien similar a los setenta y más regresiva que los sesent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finición de Pobreza: son aquellos cuyo ingreso familiar per cápita es inferior al costo de dos canastas de alimentos. (aprox. $54.000 por persona, familia promedio de 4,7 miembros $253.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regreso a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Desafíos para avanzar en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Macroeconomía compatible con desarrollo sos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dinamismo ex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reocupación por el desarrollo regional y sec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antener crecimiento de Inversión en infra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umentar inversión en capital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distribución del I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Mejorar la productividad del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Incorporar la participación ciudad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24:19Z</dcterms:created>
  <dc:creator>.</dc:creator>
  <dc:description/>
  <dc:language>en-US</dc:language>
  <cp:lastModifiedBy>.</cp:lastModifiedBy>
  <dcterms:modified xsi:type="dcterms:W3CDTF">2009-11-10T16:10:06Z</dcterms:modified>
  <cp:revision>10</cp:revision>
  <dc:subject/>
  <dc:title>Chile: regreso a la Democracia</dc:title>
</cp:coreProperties>
</file>