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A0F-FAF2-4E72-910F-46C1911E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FAC-2E11-4545-BB95-44CA6988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D05-1D06-41E6-8DC7-7497DD2A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352-532F-4AAB-BE7B-153FA481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811-2F42-46AE-809C-307455EF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8A6-9D44-4E22-808B-2304AEC3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3CA-AC5D-4BE5-B7F6-D681D558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9A8-4C0A-4C20-B90A-4F4547D7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69B-0ECF-4444-9BBC-7A201D38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E9C-46FD-4C95-8979-EFBC0975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530-5D2C-450D-AF16-87F991D2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854-66A6-4BE2-9CFC-159EF47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DDC-33C7-4632-A2BA-F2F75B872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90 - hasta hoy, gobierna una misma Coal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1990 – 2010 cuatro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1990 se toma decisión de no hacer cambios radicales a las políticas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Tributaria 1990 y 1993:  Impuesto utilidades empresa e 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Laboral 1990, mayor equilibrio y poder de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Gasto Públic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lementación regla fiscal de Balance fiscal estructural: mantener nivel de      gasto, consistente con el PIB potencial y precio del cobre de equilibrio, cuando  la economía crece se ahorra y cuando hay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cesión se g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omercial  aranceles uniformes  11%  y a partir de 2003 de 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ada de OMC obliga a desmantelar reintegro,  bandas y sobretasas se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hacen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Tratados de Libre Comercio: 20 acuerdos con más de 50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y de Concesiones: (aumento de inversión fí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erto y Aeropu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am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ro de ces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joramiento de pensiones mín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previ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s para personas en condiciones de pobreza pobr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 AUGE en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tribución del Ingreso cambios significativos período 1970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70 a 1990 se deteriora la distribución y la pobreza llega a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e 1990 y 2006 la pobreza cae a 14% y la indigencia retrocede  del 17% al 3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istribución del ingreso mejora entre 90 y 98  y luego retrocede por efecto de la crisis asiá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french – Davis señala: “ en una mirada de largo plazo se observa que la distribución del Ingreso es hoy mejor que en los ochenta, más bien similar a los setenta y más regresiva que los sese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inición de Pobreza: son aquellos cuyo ingreso familiar per cápita es inferior al costo de dos canastas de alimentos. (aprox. $54.000 por persona, familia promedio de 4,7 miembros $253.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safíos para avanzar en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Macroeconomía compatible con desarrollo sos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dinamismo expor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ocupación por el desarrollo regional y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crecimiento de Inversión en infra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umentar inversión en capital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la productiv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ncorporar la participación ciudad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24:19Z</dcterms:created>
  <dc:creator>.</dc:creator>
  <dc:description/>
  <dc:language>en-US</dc:language>
  <cp:lastModifiedBy>.</cp:lastModifiedBy>
  <dcterms:modified xsi:type="dcterms:W3CDTF">2009-11-10T16:10:06Z</dcterms:modified>
  <cp:revision>10</cp:revision>
  <dc:subject/>
  <dc:title>Chile: regreso a la Democracia</dc:title>
</cp:coreProperties>
</file>