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A1EB-ED68-411A-B78C-DE44A18E9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B418-0CCD-459F-AB0F-7139F125E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197E-F197-4F89-8EAC-A7762DA84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541-F6AA-479E-9F16-68612571C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F864-BD3B-4D09-96DF-722A9E92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26F-C667-4461-AC7B-891F2932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2690-CBCB-4452-977B-3B4FD0AE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0646-98C1-41B9-85F5-804141D5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DD2-5B64-468C-8A40-0A3057484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1B6F-B75A-4A0C-B8D1-61489AEF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82D6-427C-4719-8F19-77281E4F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A9C-4E31-46F3-A9C5-F912739F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B025-0072-44E6-9E60-4CBDC03D7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610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hile: al modelo neolib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247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gotamiento del modelo ISI coincide con una crisis institu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político Golpe militar, término de vigencia Constitución del 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, crisis terminal modelo ISI, nuevo mode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rga preparación para el camb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venio UC – Chic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quilibrios económicos básicos no resue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iempos de proyectos nuevos cada seis años y excluy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bilidad institucional para canalizar incorporación de sectores medios y baj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internacional de guerra frí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exto sudamericano de golpes milita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volución cuba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hay densidad nacion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hile no escapa a realidad mund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 modelo neo-liberal implementado,  tuvo dos  fas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primera muy ortodoxa de 1973 a 198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a segunda con mayores elementos de pragmatismo 1982 a 19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os aspectos básicos del modelo fuer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Del estado empresario al estado subsidi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Eliminación de los controles de pre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 del comercio exterior en particular importac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del mercado financiero, tasa de interés, actores y nor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ducción del sector públi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Privatización de empresas y devolución de empresas y tier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Reforma tributaria, reducción de impuestos direc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obre estas bases se asume la primera fa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 desequilibrios económicos, en particular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stricción de libertad de asoci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el control de la inflación se basa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Una política monetaria restric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ntrol del tipo de cam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l déficit fiscal, eliminado a 197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inflación cercana al 700% anual del año 73, se reduce al 38% en 1978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ijación del tipo de cambio llevó la inflación a 9.5% en 1981 por un corto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se sostiene el cambio congelado y se debe devaluar y la inflación vuelve a elevarse a tasas del 20% anual, reapareciendo el déficit fisc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En este período se produce una baja de la inflación menor al esperado por las autoridades a un enorme costo de empleo y actividad económ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Liberalización sistema financie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vatización de la banca, en 1973 estaba estat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autoriza la creación de sociedades financieras no sujetas al control de la autor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libera la tasa de interés y normas sobre control del créd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resultado fue un aumento de las tasas de interés  nacionales muy por sobre la internacional en ese perío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No aumentaron los plazos de los créditos inter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tasa de inversión fue menor a la histórica y lo mismo el ahor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l aumento de la deuda externa, en buena parte privada 73%, los créditos relacionados, provocaron la crisis financiera del 1981 y el fin de la primera eta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pertura al comercio exteri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ción total de import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ja de aranceles del 220% en 1973  al 10 %  en 19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érmino de cuotas y depósitos prev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iberaliza compra de divi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omo resultado se tuvo un aumento al doble de las importaciones con un creciente aumento de los productos de consumo como calzado y cueros, alimentos, electrodomésticos y automóviles, textiles y un estancamiento en los bienes de capital un 20% superiores en 1981 respecto a 197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tro efecto importante fue que el 20% de ingresos más altos elevó su participación en el consumo del 44% al 51% y el 20% más pobre lo disminuyó del 7,6 al 5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participación de la industria en el PIB disminuyó de 26% en 1970 a 20% en 1981 y también disminuye la ocupación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73 -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rincipales resultados del perío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IB crece a una tasa promedio de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crecen a una tasa promedio anual  de 13,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desempleo promedio  16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reales 1970 =100 en 1981 75.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promedio anual  138,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Educación disminuye  8,5% entre 1970 y 198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Gasto social en Salud disminuye en igual período en 34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a relación entre el 20% más pobre y 20% más rico aumenta de 12,6 veces en 1972 a 19,6 en 198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 termina el proceso de reforma agraria el 33% de las tierras es devuelta a sus antiguos dueños  y el 20%  es vendida por el est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 fines del período se implementa un sistema privado de pens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uda externa equivale a cuatro veces las exportaciones anu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egunda fase del modelo, aprendiendo de la cri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el ámbito institucional se inicia la reconstrucción  de los movimientos sociales: sindicatos, partidos polít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n lo económico los ajuste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cambiaria  de devaluaciones periód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el sector agríc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ubsidi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gulación del sistema financi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statización de la deuda priv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ducción de la infl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Política comerc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umento del arancel promedio a 35% en 1984 y  15% en 19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olítica de arancel máximo de 3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Bandas de precios en trigo, azúcar y ace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integro simplificado a exportaciones no tradi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Fortalecimiento de institucionalidad (creación de Pro-Ch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El modelo económico 82 -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egulación financi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negociación de la deuda ex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Límites a prestamos relacion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Monitoreo de ac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Obligación de provisionar créditos mal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Tasa de interés libre es reemplazada por intervención del Banco Cent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rincipales resultados período 82 -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Crecimiento PIB 2,9% 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Exportaciones 7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Inflación 20,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sempleo 19,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Salarios 1970= 100 en  1989= 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Relación 20/20  de  18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4:02:22Z</dcterms:created>
  <dc:creator>.</dc:creator>
  <dc:description/>
  <dc:language>en-US</dc:language>
  <cp:lastModifiedBy>.</cp:lastModifiedBy>
  <dcterms:modified xsi:type="dcterms:W3CDTF">2009-11-03T16:52:43Z</dcterms:modified>
  <cp:revision>9</cp:revision>
  <dc:subject/>
  <dc:title>Chile: al modelo neoliberal</dc:title>
</cp:coreProperties>
</file>