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F51-A3DD-4C16-BBA3-A31CC662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6D3-AF23-49F8-9323-EA11D991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4C61-63E3-4B23-94C4-060B1E3D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EF1B-4182-471C-9501-ECCF41DB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301-A606-4A0B-826F-4528D414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3F5-69C2-4E01-B70D-ECE10ECE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14B-EDBD-425F-9ADA-0F7F8BEE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6F41-3477-4311-83E1-9BD1D244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CA7-C98D-47C7-9CA1-EE61DECB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A24A-3713-4D86-A178-01D67550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369-8EC0-41E5-8809-9D294C22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A6F-0B82-4853-B02E-B7886AD1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3ECC-8A2B-44CA-AA15-8ACB22F4A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61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al modelo neolib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agotamiento del modelo ISI coincide con una crisis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político Golpe militar, término de vigencia Constitución del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económico, crisis terminal modelo ISI, nuevo mod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rga preparación para el camb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venio UC – Chic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sequilibrios económicos básicos no resuel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iempos de proyectos nuevos cada seis años y excluy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bilidad institucional para canalizar incorporación de sectores medios y ba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exto internacional de guerra fr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exto sudamericano de golpes milit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revolución cub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hay densidad nacion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hile no escapa a realidad mund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modelo neo-liberal implementado,  tuvo dos  f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a primera muy ortodoxa de 1973 a 198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a segunda con mayores elementos de pragmatismo 1982 a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os aspectos básicos del modelo fuer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Del estado empresario al estado subsidi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iminación de los controles de prec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Apertura  del comercio exterior en particular import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iberalización del mercado financiero, tasa de interés, actores y nor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Reducción del sector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Privatización de empresas y devolución de empresas y tier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Reforma tributaria, reducción de impuestos direc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Sobre estas bases se asume la primera fa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Control de desequilibrios económicos, en particular la infl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iberalización sistema financi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Apertura al comerci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obre estas bases se asume la primera f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rol de desequilibrios económicos, en particular la inf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ción sistema 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pertura al comercio ex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stricción de libertad de aso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n este período el control de la inflación se basa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Una política monetaria restri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rol del tipo de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ducción del déficit fiscal, eliminado a 197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inflación cercana al 700% anual del año 73, se reduce al 38% en 1978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Fijación del tipo de cambio llevó la inflación a 9.5% en 1981 por un corto perí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se sostiene el cambio congelado y se debe devaluar y la inflación vuelve a elevarse a tasas del 20% anual, reapareciendo el déficit fis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n este período se produce una baja de la inflación menor al esperado por las autoridades a un enorme costo de empleo y actividad econó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iberalización sistema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ivatización de la banca, en 1973 estaba estat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autoriza la creación de sociedades financieras no sujetas al control de la auto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libera la tasa de interés y normas sobre control del créd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resultado fue un aumento de las tasas de interés  nacionales muy por sobre la internacional en ese perí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aumentaron los plazos de los créditos inte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tasa de inversión fue menor a la histórica y lo mismo el ahor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aumento de la deuda externa, en buena parte privada 73%, los créditos relacionados, provocaron la crisis financiera del 1981 y el fin de la primer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pertura al comercio exteri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ción total de impor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ja de aranceles del 220% en 1973  al 10 %  en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érmino de cuotas y depósitos prev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 compra de divi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mo resultado se tuvo un aumento al doble de las importaciones con un creciente aumento de los productos de consumo como calzado y cueros, alimentos, electrodomésticos y automóviles, textiles y un estancamiento en los bienes de capital un 20% superiores en 1981 respecto a 197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Otro efecto importante fue que el 20% de ingresos más altos elevó su participación en el consumo del 44% al 51% y el 20% más pobre lo disminuyó del 7,6 al 5,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participación de la industria en el PIB disminuyó de 26% en 1970 a 20% en 1981 y también disminuye la ocupación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incipales resultados del perío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IB crece a una tasa promedio de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xportaciones crecen a una tasa promedio anual  de 13,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asa de desempleo promedio  16,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alarios reales 1970 =100 en 1981 75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nflación promedio anual  138,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Gasto social en Educación disminuye  8,5% entre 1970 y 198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Gasto social en Salud disminuye en igual período en 3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relación entre el 20% más pobre y 20% más rico aumenta de 12,6 veces en 1972 a 19,6 en 19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termina el proceso de reforma agraria el 33% de las tierras es devuelta a sus antiguos dueños  y el 20%  es vendida por 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 fines del período se implementa un sistema privado de pen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uda externa equivale a cuatro veces las exportaciones an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82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gunda fase del modelo, aprendiendo de la cri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el ámbito institucional se inicia la reconstrucción  de los movimientos sociales: sindicatos, partidos polí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económico los ajuste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cambiaria  de devaluaciones periód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ndas de precios en el sector agrí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ubsidio a exportaciones no tradi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gulación del sistema 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statización de la deuda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ducción de la inf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olítica comer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umento del arancel promedio a 35% en 1984 y  15% en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de arancel máximo de 3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ndas de precios en trigo, azúcar y ace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integro simplificado a exportaciones no tradi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Fortalecimiento de institucionalidad (creación de Pro-Ch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82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egul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negociación de la deuda ex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ímites a prestamos relacio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onitoreo de ac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Obligación de provisionar créditos ma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asa de interés libre es reemplazada por intervención del Banco Cent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incipales resultados período 82 -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recimiento PIB 2,9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xportaciones 7,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nflación 20,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sempleo 19,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alarios 1970= 100 en  1989=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lación 20/20  de  18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4:02:22Z</dcterms:created>
  <dc:creator>.</dc:creator>
  <dc:description/>
  <dc:language>en-US</dc:language>
  <cp:lastModifiedBy>.</cp:lastModifiedBy>
  <dcterms:modified xsi:type="dcterms:W3CDTF">2009-11-03T16:52:43Z</dcterms:modified>
  <cp:revision>9</cp:revision>
  <dc:subject/>
  <dc:title>Chile: al modelo neoliberal</dc:title>
</cp:coreProperties>
</file>