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9645-B399-49D0-9BCC-3C9A7020C000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60F3-3325-4DE6-9F3D-4BE8101CB060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70BC-5F7E-4387-AD2C-B7AA1282E68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B53C-253D-43AE-82B7-07DF07CA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7507-9216-4937-8219-2F49B073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6729-9B61-437C-A40B-25BD245C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A30D-E21B-422A-B7A0-A7286331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99F2-95BC-4C1F-91AF-BD2DAF90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6693-2E57-4806-A33C-0166730F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9E64-BBA7-4BA5-B11B-358BBC42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2C1F-C7C9-46D1-81D5-62A46E6A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5FC8-AF79-48C1-9A30-DF30E421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C835-2FFA-4015-A175-A2A8ECD2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0CC9-CE46-4540-BE43-85F89E66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651C-B6B7-4259-853B-001BD193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C565-36BE-4878-8B3C-7A05D71E23E3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La revolución mexic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Invers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aída en la confianza de los inverso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Colapso del orden legal y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Ruptura del mercado n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Quiebre del sistema monet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 Incertidumb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A pesar de la guerra no todo fue tan m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La capacidad física de producción no fue destruida aunque sí se deterior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Extracción de petróleo en el Golfo de México y la producción del henequén en Yucatán expandió su producció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la producción de petróleo no disminuyó en el períod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el primer boom de petróleo mexicano se alcanzó al principio de los 1920’s (</a:t>
            </a:r>
            <a:r>
              <a:rPr b="1" lang="es-MX" sz="2500" spc="-1" strike="noStrike">
                <a:solidFill>
                  <a:srgbClr val="ff0000"/>
                </a:solidFill>
                <a:latin typeface="Calibri"/>
              </a:rPr>
              <a:t>empresas británicas y americanas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)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En 1910 la producción mexicana representaba el 1% de la producción mundial y en 1921 representaba el 25% de la producción mundial (segundo después de EU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80% de la producción mexicana de petróleo a E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Compañías extranjeras: 73% de Estados Unidos, 21% británicas, Holandesas 4% y españolas-mexicanas 2%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6572520" cy="4591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00040" y="120168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roducción de petróleo en Méxic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58"/>
          <p:cNvSpPr/>
          <p:nvPr/>
        </p:nvSpPr>
        <p:spPr>
          <a:xfrm>
            <a:off x="814320" y="6272280"/>
            <a:ext cx="54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Calibri"/>
              </a:rPr>
              <a:t>Moreno-Brid J.C and J.Ros, 200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1392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A pesar de la guerra no todo fue tan mal (2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Expansión de las exportaciones sólo interrumpido entre 1913 y 1914, incluso a tasas mayores a las del porfiriat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Productos mineral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Productos animales y agrícolas (café,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henequén, ixtle, ganad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2643120" y="4500720"/>
            <a:ext cx="62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Razones para esta expansión en medio de la Revolución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La ubicación de las actividades exportadoras en áreas que no se afectaron por la guerra y que estaban cerca del mar por lo que dependían menos del ferrocarr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Incremento de los precios internacion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¿Cómo inició la recuperación generalizad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14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Fin de la hiperinflació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Regreso al patrón oro estableció las bases para la estabilización de los preci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Reversión de la Ley de Gresham: el dinero malo (billetes) reemplazados por el dinero bueno (oro y plata) que habían sido retirados por la emisión de papel de Huerta y los revolucionari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Sucedió en unos cuantos dí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Contribuyó el hecho de que el presidente Carranza empezara a cobrar impuestos en oro y plata esto significaba que los billetes ya no servían como medios de pago. Esto significó una reforma monetaria y que el nivel de precios se ajustará a la moneda circula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El papel-moneda no pudo circular a gran escala hasta 193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¿Cómo inició la recuperación generalizada?..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71424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Exportación de miner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Plata, plomo, zinc y cob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Boom del henequé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Empezó a decrecer en 192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Recuperación de la actividad manufacturer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Recuperación inició en 1919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* desplazamiento de capital y trabajo de la agricultu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* plantas manufactureras no fueron destruidas durante la revolución: porque eran fuentes de financiamiento, voluntarias o no, y por temor a represalias de los países de origen de las inversiones (Estados Unidos era el principal proveedor de armas de los revolucionario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Grandes empresas no fueron destruidas y su estructura organizacional no se cambio por la revolución.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 SE MANTUVO LA CONCETRACIÓN OLIGOPOLICA DE LA PRODUCCIÓN Y SIGUIERON MÁS O MENOS LOS MISMOS EMPRESARIO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La reducción de la inversión durante el período y la baja de productividad hizo que estas empresas demandaran una política de protección comercial y la creación de bancos destinados a financiar actividades industrial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500720" y="5857920"/>
            <a:ext cx="4143240" cy="916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¿Vinculo crecimiento, estabilidad política, protección de derechos de propiedad y seguridad en las política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ambio soc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8564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Transformaciones sociale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Aunque los principales efectos de la revolución se vieron después de 1930 y hubo poca redistribución de tierras igual sucedieron cosas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peonaje debilitado en algunas regiones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(centro-su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incremento y fortalecimiento de los sindicato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mejora en las condiciones de trabajo: reducción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de la jornada laboral de 12 a 8 horas, crecimiento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sostenido en los salarios reales entre 1920-1929, a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pesar del estancamiento de la productivida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Inicia un período de estancamien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8564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Calibri"/>
              </a:rPr>
              <a:t>Recesión interna con tiempos diferentes a la inter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La crisis mexicana empezó antes y terminó antes que la mundial (1926-1932) que en EU y Europ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Problemas en la balanza de pagos inician en 1926 debido a la recesión de EU y la reducción de exportaciones de minerales y petróleo (nivel no se recupera hasta los 70’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* Agotamiento de las reservas conocidas, implementación del artículo 27 y descubrimientos petroleros en Venezue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Reducción en la inversión de 12.1% a 4.5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PIB se redujo en 24%, producción manufacturera del 9% y de la agricultura del 15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Deflación, caída de 25% en los preci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Crédito bancario se contrajo en 28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Caída de los </a:t>
            </a:r>
            <a:r>
              <a:rPr b="0" lang="es-MX" sz="2200" spc="-1" strike="noStrike" u="sng">
                <a:solidFill>
                  <a:srgbClr val="000000"/>
                </a:solidFill>
                <a:uFillTx/>
                <a:latin typeface="Calibri"/>
              </a:rPr>
              <a:t>términos de intercambio</a:t>
            </a: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 afectando a los mineral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Respuesta del gobierno ante la cris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8564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Caída de los ingresos fiscales: ingresos por petróleo y metales representaban 1/3 de los ingresos fiscale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El gobierno buscaba el balance fiscal y si se podía superávit fisc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Contracción del gasto público e incremento de impuest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Afectó al gatos corriente: despidos y reducción de salarios en el empleo públic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La inversión pública en mantener los sistemas de ferrocarriles y las carreteras. Esto evitó el deterioro del potencial de crecimiento futuro de la economía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Respuesta del gobierno ante la crisis..2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8564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El gobierno buscaba prevenir la depreciación del peso al restringir la acuñación de moneda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Reducción de la impresión de monedas lo que </a:t>
            </a:r>
            <a:r>
              <a:rPr b="0" lang="es-MX" sz="2500" spc="-1" strike="noStrike" u="sng">
                <a:solidFill>
                  <a:srgbClr val="000000"/>
                </a:solidFill>
                <a:uFillTx/>
                <a:latin typeface="Calibri"/>
              </a:rPr>
              <a:t>contrajo más la demanda agregada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Todo esto se agravo por el impacto de la Gran Depresión en los EU (1929-193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La respuesta de política inicial fue similar a la del período 1926-1929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El shock externo fue muy grave y las políticas más estricta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Exportacione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Anteced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Breve cronolog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a economía durante el período armado de la revolución (1910-19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ecuperación de la economí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a crisis 1926-19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Impacto de la Gran Depresión  (1929-193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85640" y="164268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Todo esto se agravo por el impacto de la Gran Depresión en los E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La respuesta de política inicial fue similar a la del período 1926-1929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El shock externo fue muy grave y las políticas más estricta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Exportaciones cayeron en 4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Términos de intercambio cayeron en 22% (segunda caída más severa en AL después de Chi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anales de transmisió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8564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Reducción de gasto público (23%) por la reducción en ingresos fiscales (34%). Sin acceso a crédito extern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El déficit comercial hizo que se contrajera la oferta monetaria (60.2% entre 1929 a 1931), la más grande de LA: deflación resultado de caída en la demanda agregada y el aumento en la tasa de interés y decrecimiento del gasto privad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Reducción del PIB en 21% (1928-1932): reducción en la manufactura y gran desempleo (deportaciones de trabajadores mexicanos de EU entre 1930 y 1933 (310000 trabajadores) 6% de la fuerza de trabajo empleada en 1930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Fu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1071720" y="135720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oreno-Brid J.C and J.Ros, (2007)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xico’s Economic Development in Historical Perspe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Porfiriato fase clave en la transición de México de un modelo semifeudal hacia un capitalismo promovido por el Es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No consiguió establecer un pacto social duradero por las disparidades en la distribución del ingreso, las oportunidades, la extensión de la pobre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epresión política y nulas libertades polít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risis económica internacional (190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Breve cronología de la revolució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28800" y="1312920"/>
          <a:ext cx="7572240" cy="4759200"/>
        </p:xfrm>
        <a:graphic>
          <a:graphicData uri="http://schemas.openxmlformats.org/drawingml/2006/table">
            <a:tbl>
              <a:tblPr/>
              <a:tblGrid>
                <a:gridCol w="1568160"/>
                <a:gridCol w="600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ta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era revolución social del S.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0-1920 período de mayor intensidad en la lucha arma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0-19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belión contra Porfirio Dí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derada por Francisco I. Madero (sufragio efectivo no reelecció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ilio de Díaz en Parí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3-19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acuerdo entre los antiguos porfiristas y Mad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3: Asesinato de Madero y su vicepresidente (José María Pino Suárez) y Victoriano Huerta presidente (apoyo de E.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nfasis social de la Revolución: Emiliano Zapata (sur) y Pancho Villa (nort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anda de una reforma agraria, justicia social y edu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uerdos con los revolucionarios liberal-constitucional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4: Huerta huye a E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Breve cronología de la revolución…2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5880" y="928800"/>
          <a:ext cx="7572240" cy="5673600"/>
        </p:xfrm>
        <a:graphic>
          <a:graphicData uri="http://schemas.openxmlformats.org/drawingml/2006/table">
            <a:tbl>
              <a:tblPr/>
              <a:tblGrid>
                <a:gridCol w="1568520"/>
                <a:gridCol w="6003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ta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itución de 19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o de partida la Constitución de 18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alecimiento del poder ejecutivo al establecer el poder de veto , al permitirle en circunstancias especiales el emitir decretos pero establecía la no-reelec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ringió el papel de los extranjeros en política y en econom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efinió la propiedad de la tierra (art.27) y las relaciones laborales (art.1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eció que la nación es la dueña de las tierra, el agua y los recursos del subsuelo (art.27): base para la reforma agraria  (expropiación de latifundios y redistribución en ejidos: tenencia colectiva y explotación privada) e incremento las posibilidades de intervención en minería y petróleo (canceló el Código de 18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 123:  uno de los artículos más progresistas de la época estableciendo el derecho a organizar y pertenecer a sindicatos, salario mínimo, jornadas laborales de 8 horas, semana laboral de 6 días y pago igual por trabajo igual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Breve cronología de la revolución…3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28800" y="1312920"/>
          <a:ext cx="7572240" cy="4394160"/>
        </p:xfrm>
        <a:graphic>
          <a:graphicData uri="http://schemas.openxmlformats.org/drawingml/2006/table">
            <a:tbl>
              <a:tblPr/>
              <a:tblGrid>
                <a:gridCol w="1568160"/>
                <a:gridCol w="600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ta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7-1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nque se redujo la intensidad del conflicto armado continuaron levantamientos aislados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9 asesinato de Za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0 asesinato de Carra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3 asesinato de Vi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8 asesinato de Obreg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3,1927 y 1929 levantamientos milit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6-1929 Guerra Cristera (Guerra Civil) en el centro-oeste originada por lo anticlerical de la Constitu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chos clave para la consolidación de la paz social y la estabilidad polític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reación del Partido Nacional Revolucionario que incorporó a las fuerzas más relevantes de la Revolución: vehículo de control político y única arena para dirimir diferencias polít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Consecuencias Económicas 1910-192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Cambio demográf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osto demográfico de la revolución: 2.1 mill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2/3   por muer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1/4   por nacimientos que no se die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1/10 (poco menos)por migrac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Ruptura del sistema monetar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La cantidad de dinero se multiplicó por 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Emisiones de Huerta para gastos de guer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Emisiones de los diferentes grupos revolucionario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Gobierno de Huerta impuso el préstamos forzados a los banc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Devaluación de las diferentes monedas e hiperinflació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Intervención bancaria en 1916-191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Produc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Ruptura del sistema de ferrocarri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Paralización de la producción en algunas área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agricultura: producción de maíz cayo en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40% entre 1910 y 192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manufacturas: caída de 2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Bienes de consumo e intermedios afectados, sobre todo los últimos (cierre de empresa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Caída en la productividad y en la confianza de los inverso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09:13Z</dcterms:created>
  <dc:creator>Your User Name</dc:creator>
  <dc:description/>
  <dc:language>en-US</dc:language>
  <cp:lastModifiedBy>.</cp:lastModifiedBy>
  <dcterms:modified xsi:type="dcterms:W3CDTF">2009-10-06T17:15:05Z</dcterms:modified>
  <cp:revision>115</cp:revision>
  <dc:subject/>
  <dc:title>La revolución mexicana</dc:title>
</cp:coreProperties>
</file>