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3186-2119-4C4E-89FB-42491397F45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C6F3-133D-4C22-9B14-DC77002A023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636B-81EC-462A-9044-0DA71E966B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DE4-6D95-41F3-A524-B1F8F3C2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AAF-8455-4E72-B1B0-BF9FE5B1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9EB-F99D-4C95-B9D4-E0873989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6BD-19A1-4442-B89A-91DF6B28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AE8-4B04-4FEB-AD66-86C5C313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F29-F3E0-4B6D-913E-35FD6A48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FAF-1EAC-4F8B-9397-E6CF469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8D5-1668-424E-9878-2282A0B2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74F-4F3A-4305-A5CA-32566210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6AA-8049-43EF-AC23-EF2CB80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2E0-5FA8-4792-9427-3A5C500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E85-5306-44A7-9479-894FC97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9D0D-05F1-4BB2-8CE9-DD9FDC8D0E6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 revolución mexic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ver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aída en la confianza de los inver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Colapso del orden legal y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Ruptura del mercado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Quiebre del sistema mon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 Incertidum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A pesar de la guerra no todo fue tan 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capacidad física de producción no fue destruida aunque sí se deterior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xtracción de petróleo en el Golfo de México y la producción del henequén en Yucatán expandió su produc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la producción de petróleo no disminuyó en el perío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l primer boom de petróleo mexicano se alcanzó al principio de los 1920’s (</a:t>
            </a:r>
            <a:r>
              <a:rPr b="1" lang="es-MX" sz="2500" spc="-1" strike="noStrike">
                <a:solidFill>
                  <a:srgbClr val="ff0000"/>
                </a:solidFill>
                <a:latin typeface="Calibri"/>
              </a:rPr>
              <a:t>empresas británicas y americanas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n 1910 la producción mexicana representaba el 1% de la producción mundial y en 1921 representaba el 25% de la producción mundial (segundo después de E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80% de la producción mexicana de petróleo a E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Compañías extranjeras: 73% de Estados Unidos, 21% británicas, Holandesas 4% y españolas-mexicanas 2%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5725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00040" y="1201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ción de petróleo en Mé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814320" y="6272280"/>
            <a:ext cx="54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alibri"/>
              </a:rPr>
              <a:t>Moreno-Brid J.C and J.Ros, 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 pesar de la guerra no todo fue tan mal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xpansión de las exportaciones sólo interrumpido entre 1913 y 1914, incluso a tasas mayores a las del porfiria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mineral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animales y agrícolas (café,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henequén, ixtle, gan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643120" y="4500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es para esta expansión en medio de la Revolu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ubicación de las actividades exportadoras en áreas que no se afectaron por la guerra y que estaban cerca del mar por lo que dependían menos del ferrocar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cremento de los precios interna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¿Cómo inició la recuperación generaliz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Fin de la hiperinfl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greso al patrón oro estableció las bases para la estabilización de los prec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versión de la Ley de Gresham: el dinero malo (billetes) reemplazados por el dinero bueno (oro y plata) que habían sido retirados por la emisión de papel de Huerta y los revolucionar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Sucedió en unos cuantos d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Contribuyó el hecho de que el presidente Carranza empezara a cobrar impuestos en oro y plata esto significaba que los billetes ya no servían como medios de pago. Esto significó una reforma monetaria y que el nivel de precios se ajustará a la moneda circu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papel-moneda no pudo circular a gran escala hasta 19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¿Cómo inició la recuperación generalizada?..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ortación de mi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lata, plomo, zinc y co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Boom del henequé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ezó a decrecer en 19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cuperación de la actividad manufactur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uperación inició en 19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desplazamiento de capital y trabajo de la agricul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plantas manufactureras no fueron destruidas durante la revolución: porque eran fuentes de financiamiento, voluntarias o no, y por temor a represalias de los países de origen de las inversiones (Estados Unidos era el principal proveedor de armas de los revolucionar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randes empresas no fueron destruidas y su estructura organizacional no se cambio por la revolución.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SE MANTUVO LA CONCETRACIÓN OLIGOPOLICA DE LA PRODUCCIÓN Y SIGUIERON MÁS O MENOS LOS MISMOS EMPRESAR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reducción de la inversión durante el período y la baja de productividad hizo que estas empresas demandaran una política de protección comercial y la creación de bancos destinados a financiar actividades industri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00720" y="5857920"/>
            <a:ext cx="4143240" cy="916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¿Vinculo crecimiento, estabilidad política, protección de derechos de propiedad y seguridad en las polític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mbi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ransformaciones soci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unque los principales efectos de la revolución se vieron después de 1930 y hubo poca redistribución de tierras igual sucedieron cosa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peonaje debilitado en algunas regiones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(centro-su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incremento y fortalecimiento de los sindica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mejora en las condiciones de trabajo: reducción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de la jornada laboral de 12 a 8 horas, crecimiento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stenido en los salarios reales entre 1920-1929, a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esar del estancamiento de la productivid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nicia un período de estanca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Recesión interna con tiempos diferentes a la inter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a crisis mexicana empezó antes y terminó antes que la mundial (1926-1932) que en EU y Europ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roblemas en la balanza de pagos inician en 1926 debido a la recesión de EU y la reducción de exportaciones de minerales y petróleo (nivel no se recupera hasta los 70’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* Agotamiento de las reservas conocidas, implementación del artículo 27 y descubrimientos petroleros en Venezu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ducción en la inversión de 12.1% a 4.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IB se redujo en 24%, producción manufacturera del 9% y de la agricultura del 1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Deflación, caída de 25% en los pre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rédito bancario se contrajo en 28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aída de los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alibri"/>
              </a:rPr>
              <a:t>términos de intercambio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afectando a los miner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Caída de los ingresos fiscales: ingresos por petróleo y metales representaban 1/3 de los ingresos fisc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El gobierno buscaba el balance fiscal y si se podía superávit fis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Contracción del gasto público e incremento de impues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Afectó al gatos corriente: despidos y reducción de salarios en el empleo públ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La inversión pública en mantener los sistemas de ferrocarriles y las carreteras. Esto evitó el deterioro del potencial de crecimiento futuro de la economía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..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El gobierno buscaba prevenir la depreciación del peso al restringir la acuñación de moned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ducción de la impresión de monedas lo que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Calibri"/>
              </a:rPr>
              <a:t>contrajo más la demanda agregada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 (1929-193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xportacion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reve cronolog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economía durante el período armado de la revolución (1910-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uperación de la econom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risis 1926-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mpacto de la Gran Depresión  (1929-19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1642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Exportaciones cayeron en 4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Términos de intercambio cayeron en 22% (segunda caída más severa en AL después de Chi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nales de transmisió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 gasto público (23%) por la reducción en ingresos fiscales (34%). Sin acceso a crédito extern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déficit comercial hizo que se contrajera la oferta monetaria (60.2% entre 1929 a 1931), la más grande de LA: deflación resultado de caída en la demanda agregada y el aumento en la tasa de interés y decrecimiento del gasto priv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l PIB en 21% (1928-1932): reducción en la manufactura y gran desempleo (deportaciones de trabajadores mexicanos de EU entre 1930 y 1933 (310000 trabajadores) 6% de la fuerza de trabajo empleada en 193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Fu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71720" y="1357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reno-Brid J.C and J.Ros, (2007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o’s Economic Development in Historical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firiato fase clave en la transición de México de un modelo semifeudal hacia un capitalismo promovido por el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consiguió establecer un pacto social duradero por las disparidades en la distribución del ingreso, las oportunidades, la extensión de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presión política y nulas libertades polí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risis económica internacional (19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Breve cronología de la revolu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312920"/>
          <a:ext cx="7572240" cy="475920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a revolución social del 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20 período de mayor intensidad en la lucha arm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elión contra Porfirio Dí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erada por Francisco I. Madero (sufragio efectivo no reelec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lio de Díaz en Parí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cuerdo entre los antiguos porfiristas y M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: Asesinato de Madero y su vicepresidente (José María Pino Suárez) y Victoriano Huerta presidente (apoyo de E.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nfasis social de la Revolución: Emiliano Zapata (sur) y Pancho Villa (nor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a de una reforma agraria, justicia social y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erdos con los revolucionarios liberal-constitu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: Huerta huye a E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928800"/>
          <a:ext cx="7572240" cy="5673600"/>
        </p:xfrm>
        <a:graphic>
          <a:graphicData uri="http://schemas.openxmlformats.org/drawingml/2006/table">
            <a:tbl>
              <a:tblPr/>
              <a:tblGrid>
                <a:gridCol w="1568520"/>
                <a:gridCol w="600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de 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 de partida la Constitución de 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poder ejecutivo al establecer el poder de veto , al permitirle en circunstancias especiales el emitir decretos pero establecía la no-reel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ringió el papel de los extranjeros en política y en econ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finió la propiedad de la tierra (art.27) y las relaciones laborales (art.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ó que la nación es la dueña de las tierra, el agua y los recursos del subsuelo (art.27): base para la reforma agraria  (expropiación de latifundios y redistribución en ejidos: tenencia colectiva y explotación privada) e incremento las posibilidades de intervención en minería y petróleo (canceló el Código de 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123:  uno de los artículos más progresistas de la época estableciendo el derecho a organizar y pertenecer a sindicatos, salario mínimo, jornadas laborales de 8 horas, semana laboral de 6 días y pago igual por trabajo igu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3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8800" y="1312920"/>
          <a:ext cx="7572240" cy="439416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que se redujo la intensidad del conflicto armado continuaron levantamientos aislado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9 asesinato de Za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 asesinato de Carr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 asesinato de V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8 asesinato de Obreg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,1927 y 1929 levantamientos milit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-1929 Guerra Cristera (Guerra Civil) en el centro-oeste originada por lo anticlerical de la Constit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chos clave para la consolidación de la paz social y la estabilidad polític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reación del Partido Nacional Revolucionario que incorporó a las fuerzas más relevantes de la Revolución: vehículo de control político y única arena para dirimir diferencias polí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Consecuencias Económicas 1910-19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ambio 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sto demográfico de la revolución: 2.1 mill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/3   por m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4   por nacimientos que no se d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10 (poco menos)por migr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Ruptura del sistema mone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cantidad de dinero se multiplicó por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Huerta para gastos de gu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los diferentes grupos revolucionar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Gobierno de Huerta impuso el préstamos forzados a los ban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valuación de las diferentes monedas e hiperinfl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tervención bancaria en 1916-19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Ruptura del sistema de ferrocarr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aralización de la producción en algunas áre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agricultura: producción de maíz cayo en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40% entre 1910 y 19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manufacturas: caída de 2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Bienes de consumo e intermedios afectados, sobre todo los últimos (cierre de empres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ída en la productividad y en la confianza de los invers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09:13Z</dcterms:created>
  <dc:creator>Your User Name</dc:creator>
  <dc:description/>
  <dc:language>en-US</dc:language>
  <cp:lastModifiedBy>.</cp:lastModifiedBy>
  <dcterms:modified xsi:type="dcterms:W3CDTF">2009-10-06T17:15:05Z</dcterms:modified>
  <cp:revision>115</cp:revision>
  <dc:subject/>
  <dc:title>La revolución mexicana</dc:title>
</cp:coreProperties>
</file>