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2.xml.rels" ContentType="application/vnd.openxmlformats-package.relationships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4342B-5406-4E2A-B57C-42E59C138DE3}" type="slidenum">
              <a:rPr b="0" lang="es-MX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50EAF-83F3-474A-9F00-008750C327EC}" type="slidenum">
              <a:rPr b="0" lang="es-MX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24472-7E1A-4006-B659-C0961929E702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52010-B761-413B-B8AF-4FF1F0723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BFD50-5A16-43AC-94A6-FD88FFF1F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9DA74-0CE6-416D-BF76-EE3B37D15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C6A63-4713-4ECD-A7EA-F3D962844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75923-7662-4A68-A8E7-0D138A57E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18799-1AFD-4CCB-BFF3-DD71F1FA5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D28D1-B2FB-42E1-8016-CD14DDB97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7E31B-C819-493C-BF5A-DB29FF7E7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30A16-493C-43F5-82B1-44DC70150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6A955-5FF8-4AF6-A00A-4EBAB81B5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D6655-8676-4543-88DB-0D88A857F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947B9-525B-4F78-A157-BFCAB19A5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25685-F4A3-47B3-AC55-C4579A5B4407}" type="slidenum">
              <a:rPr b="0" lang="es-MX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Calibri"/>
              </a:rPr>
              <a:t>La revolución mexica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0000"/>
                </a:solidFill>
                <a:latin typeface="Calibri"/>
              </a:rPr>
              <a:t>Consecuencias Económicas 1910-1920…4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213920"/>
            <a:ext cx="82296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Calibri"/>
              </a:rPr>
              <a:t>Inversió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Caída en la confianza de los inversor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* Colapso del orden legal y soci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* Ruptura del mercado nac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* Quiebre del sistema monetari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*  Incertidumb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0000"/>
                </a:solidFill>
                <a:latin typeface="Calibri"/>
              </a:rPr>
              <a:t>Consecuencias Económicas 1910-1920…7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213920"/>
            <a:ext cx="82296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000000"/>
                </a:solidFill>
                <a:latin typeface="Calibri"/>
              </a:rPr>
              <a:t>A pesar de la guerra no todo fue tan mal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000000"/>
                </a:solidFill>
                <a:latin typeface="Calibri"/>
              </a:rPr>
              <a:t>La capacidad física de producción no fue destruida aunque sí se deterioró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000000"/>
                </a:solidFill>
                <a:latin typeface="Calibri"/>
              </a:rPr>
              <a:t>Extracción de petróleo en el Golfo de México y la producción del henequén en Yucatán expandió su producción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2500" spc="-1" strike="noStrike">
                <a:solidFill>
                  <a:srgbClr val="000000"/>
                </a:solidFill>
                <a:latin typeface="Calibri"/>
              </a:rPr>
              <a:t>* la producción de petróleo no disminuyó en el período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2500" spc="-1" strike="noStrike">
                <a:solidFill>
                  <a:srgbClr val="000000"/>
                </a:solidFill>
                <a:latin typeface="Calibri"/>
              </a:rPr>
              <a:t>* el primer boom de petróleo mexicano se alcanzó al principio de los 1920’s (</a:t>
            </a:r>
            <a:r>
              <a:rPr b="1" lang="es-MX" sz="2500" spc="-1" strike="noStrike">
                <a:solidFill>
                  <a:srgbClr val="ff0000"/>
                </a:solidFill>
                <a:latin typeface="Calibri"/>
              </a:rPr>
              <a:t>empresas británicas y americanas</a:t>
            </a:r>
            <a:r>
              <a:rPr b="0" lang="es-MX" sz="2500" spc="-1" strike="noStrike">
                <a:solidFill>
                  <a:srgbClr val="000000"/>
                </a:solidFill>
                <a:latin typeface="Calibri"/>
              </a:rPr>
              <a:t>) 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2500" spc="-1" strike="noStrike">
                <a:solidFill>
                  <a:srgbClr val="000000"/>
                </a:solidFill>
                <a:latin typeface="Calibri"/>
              </a:rPr>
              <a:t>* En 1910 la producción mexicana representaba el 1% de la producción mundial y en 1921 representaba el 25% de la producción mundial (segundo después de EU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2500" spc="-1" strike="noStrike">
                <a:solidFill>
                  <a:srgbClr val="000000"/>
                </a:solidFill>
                <a:latin typeface="Calibri"/>
              </a:rPr>
              <a:t>* 80% de la producción mexicana de petróleo a EU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2500" spc="-1" strike="noStrike">
                <a:solidFill>
                  <a:srgbClr val="000000"/>
                </a:solidFill>
                <a:latin typeface="Calibri"/>
              </a:rPr>
              <a:t>* Compañías extranjeras: 73% de Estados Unidos, 21% británicas, Holandesas 4% y españolas-mexicanas 2%. 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0000"/>
                </a:solidFill>
                <a:latin typeface="Calibri"/>
              </a:rPr>
              <a:t>Consecuencias Económicas 1910-1920…5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1357200" y="1571760"/>
            <a:ext cx="6572520" cy="4591080"/>
          </a:xfrm>
          <a:prstGeom prst="rect">
            <a:avLst/>
          </a:prstGeom>
          <a:ln w="0">
            <a:noFill/>
          </a:ln>
        </p:spPr>
      </p:pic>
      <p:sp>
        <p:nvSpPr>
          <p:cNvPr id="72" name="TextBox 5"/>
          <p:cNvSpPr/>
          <p:nvPr/>
        </p:nvSpPr>
        <p:spPr>
          <a:xfrm>
            <a:off x="500040" y="1201680"/>
            <a:ext cx="471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Calibri"/>
              </a:rPr>
              <a:t>Producción de petróleo en México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 Box 58"/>
          <p:cNvSpPr/>
          <p:nvPr/>
        </p:nvSpPr>
        <p:spPr>
          <a:xfrm>
            <a:off x="814320" y="6272280"/>
            <a:ext cx="5400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900" spc="-1" strike="noStrike">
                <a:solidFill>
                  <a:srgbClr val="000000"/>
                </a:solidFill>
                <a:latin typeface="Calibri"/>
              </a:rPr>
              <a:t>Moreno-Brid J.C and J.Ros, 2007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0000"/>
                </a:solidFill>
                <a:latin typeface="Calibri"/>
              </a:rPr>
              <a:t>Consecuencias Económicas 1910-1920…7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213920"/>
            <a:ext cx="8229600" cy="30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000" spc="-1" strike="noStrike">
                <a:solidFill>
                  <a:srgbClr val="000000"/>
                </a:solidFill>
                <a:latin typeface="Calibri"/>
              </a:rPr>
              <a:t>A pesar de la guerra no todo fue tan mal (2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Calibri"/>
              </a:rPr>
              <a:t>Expansión de las exportaciones sólo interrumpido entre 1913 y 1914, incluso a tasas mayores a las del porfiriato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3000" spc="-1" strike="noStrike">
                <a:solidFill>
                  <a:srgbClr val="000000"/>
                </a:solidFill>
                <a:latin typeface="Calibri"/>
              </a:rPr>
              <a:t>* Productos minerales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3000" spc="-1" strike="noStrike">
                <a:solidFill>
                  <a:srgbClr val="000000"/>
                </a:solidFill>
                <a:latin typeface="Calibri"/>
              </a:rPr>
              <a:t>* Productos animales y agrícolas (café, </a:t>
            </a:r>
            <a:r>
              <a:rPr b="0" lang="es-MX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3000" spc="-1" strike="noStrike">
                <a:solidFill>
                  <a:srgbClr val="000000"/>
                </a:solidFill>
                <a:latin typeface="Calibri"/>
              </a:rPr>
              <a:t>henequén, ixtle, ganado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extBox 4"/>
          <p:cNvSpPr/>
          <p:nvPr/>
        </p:nvSpPr>
        <p:spPr>
          <a:xfrm>
            <a:off x="2643120" y="4500720"/>
            <a:ext cx="6215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alibri"/>
              </a:rPr>
              <a:t>Razones para esta expansión en medio de la Revolución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alibri"/>
              </a:rPr>
              <a:t>La ubicación de las actividades exportadoras en áreas que no se afectaron por la guerra y que estaban cerca del mar por lo que dependían menos del ferrocarri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alibri"/>
              </a:rPr>
              <a:t>Incremento de los precios internacional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0000"/>
                </a:solidFill>
                <a:latin typeface="Calibri"/>
              </a:rPr>
              <a:t>¿Cómo inició la recuperación generalizada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214280"/>
            <a:ext cx="822960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000000"/>
                </a:solidFill>
                <a:latin typeface="Calibri"/>
              </a:rPr>
              <a:t>Fin de la hiperinflació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000000"/>
                </a:solidFill>
                <a:latin typeface="Calibri"/>
              </a:rPr>
              <a:t>Regreso al patrón oro estableció las bases para la estabilización de los precio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000000"/>
                </a:solidFill>
                <a:latin typeface="Calibri"/>
              </a:rPr>
              <a:t>Reversión de la Ley de Gresham: el dinero malo (billetes) reemplazados por el dinero bueno (oro y plata) que habían sido retirados por la emisión de papel de Huerta y los revolucionario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000000"/>
                </a:solidFill>
                <a:latin typeface="Calibri"/>
              </a:rPr>
              <a:t>Sucedió en unos cuantos día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000000"/>
                </a:solidFill>
                <a:latin typeface="Calibri"/>
              </a:rPr>
              <a:t>Contribuyó el hecho de que el presidente Carranza empezara a cobrar impuestos en oro y plata esto significaba que los billetes ya no servían como medios de pago. Esto significó una reforma monetaria y que el nivel de precios se ajustará a la moneda circulant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000000"/>
                </a:solidFill>
                <a:latin typeface="Calibri"/>
              </a:rPr>
              <a:t>El papel-moneda no pudo circular a gran escala hasta 1931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-7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0000"/>
                </a:solidFill>
                <a:latin typeface="Calibri"/>
              </a:rPr>
              <a:t>¿Cómo inició la recuperación generalizada?...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714240"/>
            <a:ext cx="822960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Calibri"/>
              </a:rPr>
              <a:t>Exportación de mineral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Plata, plomo, zinc y cob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Boom del henequén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Empezó a decrecer en 192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Calibri"/>
              </a:rPr>
              <a:t>Recuperación de la actividad manufacturera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Recuperación inició en 1919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* desplazamiento de capital y trabajo de la agricultur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* plantas manufactureras no fueron destruidas durante la revolución: porque eran fuentes de financiamiento, voluntarias o no, y por temor a represalias de los países de origen de las inversiones (Estados Unidos era el principal proveedor de armas de los revolucionario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Grandes empresas no fueron destruidas y su estructura organizacional no se cambio por la revolución. </a:t>
            </a:r>
            <a:r>
              <a:rPr b="1" lang="es-MX" sz="2000" spc="-1" strike="noStrike">
                <a:solidFill>
                  <a:srgbClr val="000000"/>
                </a:solidFill>
                <a:latin typeface="Calibri"/>
              </a:rPr>
              <a:t> SE MANTUVO LA CONCETRACIÓN OLIGOPOLICA DE LA PRODUCCIÓN Y SIGUIERON MÁS O MENOS LOS MISMOS EMPRESARIOS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La reducción de la inversión durante el período y la baja de productividad hizo que estas empresas demandaran una política de protección comercial y la creación de bancos destinados a financiar actividades industriale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TextBox 3"/>
          <p:cNvSpPr/>
          <p:nvPr/>
        </p:nvSpPr>
        <p:spPr>
          <a:xfrm>
            <a:off x="4500720" y="5857920"/>
            <a:ext cx="4143240" cy="916920"/>
          </a:xfrm>
          <a:prstGeom prst="rect">
            <a:avLst/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alibri"/>
              </a:rPr>
              <a:t>¿Vinculo crecimiento, estabilidad política, protección de derechos de propiedad y seguridad en las políticas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0000"/>
                </a:solidFill>
                <a:latin typeface="Calibri"/>
              </a:rPr>
              <a:t>Cambio socia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85640" y="1571400"/>
            <a:ext cx="822960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700" spc="-1" strike="noStrike">
                <a:solidFill>
                  <a:srgbClr val="000000"/>
                </a:solidFill>
                <a:latin typeface="Calibri"/>
              </a:rPr>
              <a:t>Transformaciones sociales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700" spc="-1" strike="noStrike">
                <a:solidFill>
                  <a:srgbClr val="000000"/>
                </a:solidFill>
                <a:latin typeface="Calibri"/>
              </a:rPr>
              <a:t>Aunque los principales efectos de la revolución se vieron después de 1930 y hubo poca redistribución de tierras igual sucedieron cosas: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2700" spc="-1" strike="noStrike">
                <a:solidFill>
                  <a:srgbClr val="000000"/>
                </a:solidFill>
                <a:latin typeface="Calibri"/>
              </a:rPr>
              <a:t>* peonaje debilitado en algunas regiones </a:t>
            </a:r>
            <a:r>
              <a:rPr b="0" lang="es-MX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2700" spc="-1" strike="noStrike">
                <a:solidFill>
                  <a:srgbClr val="000000"/>
                </a:solidFill>
                <a:latin typeface="Calibri"/>
              </a:rPr>
              <a:t>(centro-sur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2700" spc="-1" strike="noStrike">
                <a:solidFill>
                  <a:srgbClr val="000000"/>
                </a:solidFill>
                <a:latin typeface="Calibri"/>
              </a:rPr>
              <a:t>* incremento y fortalecimiento de los sindicatos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2700" spc="-1" strike="noStrike">
                <a:solidFill>
                  <a:srgbClr val="000000"/>
                </a:solidFill>
                <a:latin typeface="Calibri"/>
              </a:rPr>
              <a:t>* mejora en las condiciones de trabajo: reducción </a:t>
            </a:r>
            <a:r>
              <a:rPr b="0" lang="es-MX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2700" spc="-1" strike="noStrike">
                <a:solidFill>
                  <a:srgbClr val="000000"/>
                </a:solidFill>
                <a:latin typeface="Calibri"/>
              </a:rPr>
              <a:t>de la jornada laboral de 12 a 8 horas, crecimiento </a:t>
            </a:r>
            <a:r>
              <a:rPr b="0" lang="es-MX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2700" spc="-1" strike="noStrike">
                <a:solidFill>
                  <a:srgbClr val="000000"/>
                </a:solidFill>
                <a:latin typeface="Calibri"/>
              </a:rPr>
              <a:t>sostenido en los salarios reales entre 1920-1929, a </a:t>
            </a:r>
            <a:r>
              <a:rPr b="0" lang="es-MX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2700" spc="-1" strike="noStrike">
                <a:solidFill>
                  <a:srgbClr val="000000"/>
                </a:solidFill>
                <a:latin typeface="Calibri"/>
              </a:rPr>
              <a:t>pesar del estancamiento de la productividad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0000"/>
                </a:solidFill>
                <a:latin typeface="Calibri"/>
              </a:rPr>
              <a:t>Inicia un período de estancamient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85640" y="1214280"/>
            <a:ext cx="8229600" cy="478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Calibri"/>
              </a:rPr>
              <a:t>Recesión interna con tiempos diferentes a la internacion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Calibri"/>
              </a:rPr>
              <a:t>La crisis mexicana empezó antes y terminó antes que la mundial (1926-1932) que en EU y Europa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Calibri"/>
              </a:rPr>
              <a:t>Problemas en la balanza de pagos inician en 1926 debido a la recesión de EU y la reducción de exportaciones de minerales y petróleo (nivel no se recupera hasta los 70’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2200" spc="-1" strike="noStrike">
                <a:solidFill>
                  <a:srgbClr val="000000"/>
                </a:solidFill>
                <a:latin typeface="Calibri"/>
              </a:rPr>
              <a:t>* Agotamiento de las reservas conocidas, implementación del artículo 27 y descubrimientos petroleros en Venezuel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Calibri"/>
              </a:rPr>
              <a:t>Reducción en la inversión de 12.1% a 4.5%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Calibri"/>
              </a:rPr>
              <a:t>PIB se redujo en 24%, producción manufacturera del 9% y de la agricultura del 15%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Calibri"/>
              </a:rPr>
              <a:t>Deflación, caída de 25% en los precio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Calibri"/>
              </a:rPr>
              <a:t>Crédito bancario se contrajo en 28%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Calibri"/>
              </a:rPr>
              <a:t>Caída de los </a:t>
            </a:r>
            <a:r>
              <a:rPr b="0" lang="es-MX" sz="2200" spc="-1" strike="noStrike" u="sng">
                <a:solidFill>
                  <a:srgbClr val="000000"/>
                </a:solidFill>
                <a:uFillTx/>
                <a:latin typeface="Calibri"/>
              </a:rPr>
              <a:t>términos de intercambio</a:t>
            </a:r>
            <a:r>
              <a:rPr b="0" lang="es-MX" sz="2200" spc="-1" strike="noStrike">
                <a:solidFill>
                  <a:srgbClr val="000000"/>
                </a:solidFill>
                <a:latin typeface="Calibri"/>
              </a:rPr>
              <a:t> afectando a los minerale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0000"/>
                </a:solidFill>
                <a:latin typeface="Calibri"/>
              </a:rPr>
              <a:t>Respuesta del gobierno ante la crisis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85640" y="1214280"/>
            <a:ext cx="8229600" cy="478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700" spc="-1" strike="noStrike">
                <a:solidFill>
                  <a:srgbClr val="000000"/>
                </a:solidFill>
                <a:latin typeface="Calibri"/>
              </a:rPr>
              <a:t>Caída de los ingresos fiscales: ingresos por petróleo y metales representaban 1/3 de los ingresos fiscales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700" spc="-1" strike="noStrike">
                <a:solidFill>
                  <a:srgbClr val="000000"/>
                </a:solidFill>
                <a:latin typeface="Calibri"/>
              </a:rPr>
              <a:t>El gobierno buscaba el balance fiscal y si se podía superávit fisca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700" spc="-1" strike="noStrike">
                <a:solidFill>
                  <a:srgbClr val="000000"/>
                </a:solidFill>
                <a:latin typeface="Calibri"/>
              </a:rPr>
              <a:t>Contracción del gasto público e incremento de impuesto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2700" spc="-1" strike="noStrike">
                <a:solidFill>
                  <a:srgbClr val="000000"/>
                </a:solidFill>
                <a:latin typeface="Calibri"/>
              </a:rPr>
              <a:t>* Afectó al gatos corriente: despidos y reducción de salarios en el empleo público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2700" spc="-1" strike="noStrike">
                <a:solidFill>
                  <a:srgbClr val="000000"/>
                </a:solidFill>
                <a:latin typeface="Calibri"/>
              </a:rPr>
              <a:t>* La inversión pública en mantener los sistemas de ferrocarriles y las carreteras. Esto evitó el deterioro del potencial de crecimiento futuro de la economía. 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7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0000"/>
                </a:solidFill>
                <a:latin typeface="Calibri"/>
              </a:rPr>
              <a:t>Respuesta del gobierno ante la crisis..2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85640" y="1214280"/>
            <a:ext cx="8229600" cy="478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000000"/>
                </a:solidFill>
                <a:latin typeface="Calibri"/>
              </a:rPr>
              <a:t>El gobierno buscaba prevenir la depreciación del peso al restringir la acuñación de moneda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000000"/>
                </a:solidFill>
                <a:latin typeface="Calibri"/>
              </a:rPr>
              <a:t>Reducción de la impresión de monedas lo que </a:t>
            </a:r>
            <a:r>
              <a:rPr b="0" lang="es-MX" sz="2500" spc="-1" strike="noStrike" u="sng">
                <a:solidFill>
                  <a:srgbClr val="000000"/>
                </a:solidFill>
                <a:uFillTx/>
                <a:latin typeface="Calibri"/>
              </a:rPr>
              <a:t>contrajo más la demanda agregada</a:t>
            </a:r>
            <a:r>
              <a:rPr b="0" lang="es-MX" sz="25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000000"/>
                </a:solidFill>
                <a:latin typeface="Calibri"/>
              </a:rPr>
              <a:t>Todo esto se agravo por el impacto de la Gran Depresión en los EU (1929-1932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000000"/>
                </a:solidFill>
                <a:latin typeface="Calibri"/>
              </a:rPr>
              <a:t>La respuesta de política inicial fue similar a la del período 1926-1929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000000"/>
                </a:solidFill>
                <a:latin typeface="Calibri"/>
              </a:rPr>
              <a:t>El shock externo fue muy grave y las políticas más estrictas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2500" spc="-1" strike="noStrike">
                <a:solidFill>
                  <a:srgbClr val="000000"/>
                </a:solidFill>
                <a:latin typeface="Calibri"/>
              </a:rPr>
              <a:t>* Exportaciones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0000"/>
                </a:solidFill>
                <a:latin typeface="Calibri"/>
              </a:rPr>
              <a:t>Contenid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Anteceden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Breve cronologí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La economía durante el período armado de la revolución (1910-192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Recuperación de la economí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La crisis 1926-193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0000"/>
                </a:solidFill>
                <a:latin typeface="Calibri"/>
              </a:rPr>
              <a:t>Impacto de la Gran Depresión  (1929-1932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85640" y="1642680"/>
            <a:ext cx="822960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700" spc="-1" strike="noStrike">
                <a:solidFill>
                  <a:srgbClr val="000000"/>
                </a:solidFill>
                <a:latin typeface="Calibri"/>
              </a:rPr>
              <a:t>Todo esto se agravo por el impacto de la Gran Depresión en los EU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700" spc="-1" strike="noStrike">
                <a:solidFill>
                  <a:srgbClr val="000000"/>
                </a:solidFill>
                <a:latin typeface="Calibri"/>
              </a:rPr>
              <a:t>La respuesta de política inicial fue similar a la del período 1926-1929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700" spc="-1" strike="noStrike">
                <a:solidFill>
                  <a:srgbClr val="000000"/>
                </a:solidFill>
                <a:latin typeface="Calibri"/>
              </a:rPr>
              <a:t>El shock externo fue muy grave y las políticas más estrictas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2700" spc="-1" strike="noStrike">
                <a:solidFill>
                  <a:srgbClr val="000000"/>
                </a:solidFill>
                <a:latin typeface="Calibri"/>
              </a:rPr>
              <a:t>* Exportaciones cayeron en 40%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2700" spc="-1" strike="noStrike">
                <a:solidFill>
                  <a:srgbClr val="000000"/>
                </a:solidFill>
                <a:latin typeface="Calibri"/>
              </a:rPr>
              <a:t>* Términos de intercambio cayeron en 22% (segunda caída más severa en AL después de Chile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0000"/>
                </a:solidFill>
                <a:latin typeface="Calibri"/>
              </a:rPr>
              <a:t>Canales de transmisión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85640" y="135684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700" spc="-1" strike="noStrike">
                <a:solidFill>
                  <a:srgbClr val="000000"/>
                </a:solidFill>
                <a:latin typeface="Calibri"/>
              </a:rPr>
              <a:t>Reducción de gasto público (23%) por la reducción en ingresos fiscales (34%). Sin acceso a crédito externo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700" spc="-1" strike="noStrike">
                <a:solidFill>
                  <a:srgbClr val="000000"/>
                </a:solidFill>
                <a:latin typeface="Calibri"/>
              </a:rPr>
              <a:t>El déficit comercial hizo que se contrajera la oferta monetaria (60.2% entre 1929 a 1931), la más grande de LA: deflación resultado de caída en la demanda agregada y el aumento en la tasa de interés y decrecimiento del gasto privado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700" spc="-1" strike="noStrike">
                <a:solidFill>
                  <a:srgbClr val="000000"/>
                </a:solidFill>
                <a:latin typeface="Calibri"/>
              </a:rPr>
              <a:t>Reducción del PIB en 21% (1928-1932): reducción en la manufactura y gran desempleo (deportaciones de trabajadores mexicanos de EU entre 1930 y 1933 (310000 trabajadores) 6% de la fuerza de trabajo empleada en 1930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0000"/>
                </a:solidFill>
                <a:latin typeface="Calibri"/>
              </a:rPr>
              <a:t>Fuen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3"/>
          <p:cNvSpPr/>
          <p:nvPr/>
        </p:nvSpPr>
        <p:spPr>
          <a:xfrm>
            <a:off x="1071720" y="1357200"/>
            <a:ext cx="771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Moreno-Brid J.C and J.Ros, (2007),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exico’s Economic Development in Historical Perspectiv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0000"/>
                </a:solidFill>
                <a:latin typeface="Calibri"/>
              </a:rPr>
              <a:t>Anteceden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Porfiriato fase clave en la transición de México de un modelo semifeudal hacia un capitalismo promovido por el Esta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No consiguió establecer un pacto social duradero por las disparidades en la distribución del ingreso, las oportunidades, la extensión de la pobrez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Represión política y nulas libertades polític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Crisis económica internacional (1907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0000"/>
                </a:solidFill>
                <a:latin typeface="Calibri"/>
              </a:rPr>
              <a:t>Breve cronología de la revolución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928800" y="1312920"/>
          <a:ext cx="7572240" cy="4759200"/>
        </p:xfrm>
        <a:graphic>
          <a:graphicData uri="http://schemas.openxmlformats.org/drawingml/2006/table">
            <a:tbl>
              <a:tblPr/>
              <a:tblGrid>
                <a:gridCol w="1568160"/>
                <a:gridCol w="60040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ñ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ea0b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tal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ea0b0"/>
                    </a:solidFill>
                  </a:tcPr>
                </a:tc>
              </a:tr>
              <a:tr h="6426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imera revolución social del S.X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10-1920 período de mayor intensidad en la lucha armad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10-19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belión contra Porfirio Día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derada por Francisco I. Madero (sufragio efectivo no reelecció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ilio de Díaz en Parí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</a:tr>
              <a:tr h="256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13-19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sacuerdo entre los antiguos porfiristas y Mad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13: Asesinato de Madero y su vicepresidente (José María Pino Suárez) y Victoriano Huerta presidente (apoyo de E.U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Énfasis social de la Revolución: Emiliano Zapata (sur) y Pancho Villa (norte)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manda de una reforma agraria, justicia social y educaci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uerdos con los revolucionarios liberal-constitucionalis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14: Huerta huye a EU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21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0000"/>
                </a:solidFill>
                <a:latin typeface="Calibri"/>
              </a:rPr>
              <a:t>Breve cronología de la revolución…2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785880" y="928800"/>
          <a:ext cx="7572240" cy="5673600"/>
        </p:xfrm>
        <a:graphic>
          <a:graphicData uri="http://schemas.openxmlformats.org/drawingml/2006/table">
            <a:tbl>
              <a:tblPr/>
              <a:tblGrid>
                <a:gridCol w="1568520"/>
                <a:gridCol w="60037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ñ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ea0b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tal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ea0b0"/>
                    </a:solidFill>
                  </a:tcPr>
                </a:tc>
              </a:tr>
              <a:tr h="530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stitución de 19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unto de partida la Constitución de 185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rtalecimiento del poder ejecutivo al establecer el poder de veto , al permitirle en circunstancias especiales el emitir decretos pero establecía la no-reelecció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stringió el papel de los extranjeros en política y en economí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definió la propiedad de la tierra (art.27) y las relaciones laborales (art.12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stableció que la nación es la dueña de las tierra, el agua y los recursos del subsuelo (art.27): base para la reforma agraria  (expropiación de latifundios y redistribución en ejidos: tenencia colectiva y explotación privada) e incremento las posibilidades de intervención en minería y petróleo (canceló el Código de 188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t. 123:  uno de los artículos más progresistas de la época estableciendo el derecho a organizar y pertenecer a sindicatos, salario mínimo, jornadas laborales de 8 horas, semana laboral de 6 días y pago igual por trabajo igual.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0000"/>
                </a:solidFill>
                <a:latin typeface="Calibri"/>
              </a:rPr>
              <a:t>Breve cronología de la revolución…3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928800" y="1312920"/>
          <a:ext cx="7572240" cy="4394160"/>
        </p:xfrm>
        <a:graphic>
          <a:graphicData uri="http://schemas.openxmlformats.org/drawingml/2006/table">
            <a:tbl>
              <a:tblPr/>
              <a:tblGrid>
                <a:gridCol w="1568160"/>
                <a:gridCol w="60040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ñ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ea0b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tal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ea0b0"/>
                    </a:solidFill>
                  </a:tcPr>
                </a:tc>
              </a:tr>
              <a:tr h="256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17-19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unque se redujo la intensidad del conflicto armado continuaron levantamientos aislados: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19 asesinato de Zapa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20 asesinato de Carranz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23 asesinato de Vil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28 asesinato de Obreg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23,1927 y 1929 levantamientos militar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26-1929 Guerra Cristera (Guerra Civil) en el centro-oeste originada por lo anticlerical de la Constitució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chos clave para la consolidación de la paz social y la estabilidad política: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Creación del Partido Nacional Revolucionario que incorporó a las fuerzas más relevantes de la Revolución: vehículo de control político y única arena para dirimir diferencias polític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0000"/>
                </a:solidFill>
                <a:latin typeface="Calibri"/>
              </a:rPr>
              <a:t>Consecuencias Económicas 1910-1920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Calibri"/>
              </a:rPr>
              <a:t>Cambio demográfic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Costo demográfico de la revolución: 2.1 millon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2/3   por muer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1/4   por nacimientos que no se dier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1/10 (poco menos)por migració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0000"/>
                </a:solidFill>
                <a:latin typeface="Calibri"/>
              </a:rPr>
              <a:t>Consecuencias Económicas 1910-1920…2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000" spc="-1" strike="noStrike">
                <a:solidFill>
                  <a:srgbClr val="000000"/>
                </a:solidFill>
                <a:latin typeface="Calibri"/>
              </a:rPr>
              <a:t>Ruptura del sistema monetari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Calibri"/>
              </a:rPr>
              <a:t>La cantidad de dinero se multiplicó por 5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3000" spc="-1" strike="noStrike">
                <a:solidFill>
                  <a:srgbClr val="000000"/>
                </a:solidFill>
                <a:latin typeface="Calibri"/>
              </a:rPr>
              <a:t>* Emisiones de Huerta para gastos de guerr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3000" spc="-1" strike="noStrike">
                <a:solidFill>
                  <a:srgbClr val="000000"/>
                </a:solidFill>
                <a:latin typeface="Calibri"/>
              </a:rPr>
              <a:t>* Emisiones de los diferentes grupos revolucionarios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Calibri"/>
              </a:rPr>
              <a:t>Gobierno de Huerta impuso el préstamos forzados a los banco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Calibri"/>
              </a:rPr>
              <a:t>Devaluación de las diferentes monedas e hiperinflación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Calibri"/>
              </a:rPr>
              <a:t>Intervención bancaria en 1916-1917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0000"/>
                </a:solidFill>
                <a:latin typeface="Calibri"/>
              </a:rPr>
              <a:t>Consecuencias Económicas 1910-1920…3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213920"/>
            <a:ext cx="82296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000" spc="-1" strike="noStrike">
                <a:solidFill>
                  <a:srgbClr val="000000"/>
                </a:solidFill>
                <a:latin typeface="Calibri"/>
              </a:rPr>
              <a:t>Producció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Calibri"/>
              </a:rPr>
              <a:t>Ruptura del sistema de ferrocarril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Calibri"/>
              </a:rPr>
              <a:t>Paralización de la producción en algunas áreas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3000" spc="-1" strike="noStrike">
                <a:solidFill>
                  <a:srgbClr val="000000"/>
                </a:solidFill>
                <a:latin typeface="Calibri"/>
              </a:rPr>
              <a:t>* agricultura: producción de maíz cayo en </a:t>
            </a:r>
            <a:r>
              <a:rPr b="0" lang="es-MX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3000" spc="-1" strike="noStrike">
                <a:solidFill>
                  <a:srgbClr val="000000"/>
                </a:solidFill>
                <a:latin typeface="Calibri"/>
              </a:rPr>
              <a:t>40% entre 1910 y 1920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3000" spc="-1" strike="noStrike">
                <a:solidFill>
                  <a:srgbClr val="000000"/>
                </a:solidFill>
                <a:latin typeface="Calibri"/>
              </a:rPr>
              <a:t>* manufacturas: caída de 25%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Calibri"/>
              </a:rPr>
              <a:t>Bienes de consumo e intermedios afectados, sobre todo los últimos (cierre de empresas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Calibri"/>
              </a:rPr>
              <a:t>Caída en la productividad y en la confianza de los inversor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30T15:09:13Z</dcterms:created>
  <dc:creator>Your User Name</dc:creator>
  <dc:description/>
  <dc:language>en-US</dc:language>
  <cp:lastModifiedBy>.</cp:lastModifiedBy>
  <dcterms:modified xsi:type="dcterms:W3CDTF">2009-10-06T17:15:05Z</dcterms:modified>
  <cp:revision>115</cp:revision>
  <dc:subject/>
  <dc:title>La revolución mexicana</dc:title>
</cp:coreProperties>
</file>