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418-9760-4A76-93C1-56133F36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110-FBC5-4DB4-83A2-F64FB19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FE9-2715-4F8F-8092-343EF761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604-8152-4E1B-8BA7-46541B19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602-4311-4362-891D-1AF82F8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BFB-C616-4F81-90A7-F34FFAA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430-E49C-41CB-819A-1012A99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818-7A12-4540-8B75-1924457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F15-0B5F-4001-A663-DB4443BC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1EF-ABE2-40C5-BC14-CB424EF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D99-7FE1-4EE0-9662-15693C3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62A-362A-4ED2-BA55-A306D32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1937-7624-4842-91CC-94684B36A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492360" y="-7012080"/>
            <a:ext cx="16190640" cy="2176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 Chile este período va de 1810 a 1830 con dos etap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la Guerra por la Independencia. 1810-1814  1814-1817 1818 - 1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Formación del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usas y motivaciones de la Independencia similares a las vistas co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proceso político lo resumiremos al final de la s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l campo económico con el objeto de atraer capitales e inver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dicta en 1811 un tratado de Libre Comerci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umenta puertos abiertos a cuatro (valdivia, Talcahuano, Valparaíso y Coqui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ja el arancel de Importación a 30%, liberando a las armas, libros, imprentas maquinar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centiva el cabotaje nacional con arancel diferenciado 10% a nacionales y 20% a extranj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prohíbe exportación de plata y oro en lingotes sólo acu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imita el comercio al detalle a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extranjeros fundamentalmente británicos son dueños de los grandes almacenes y d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términos generales pretendía ser un programa proteccionista y estimulador de la industria nacional, pero dichas medidas fueron superadas por el estímulo al comerci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clarada la Independencia se cierra el comercio con Perú, afectando las exportaciones en particular las agrícolas y las importaciones con su efecto en el nivel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 en la década del 20 que se restablece el comercio pero ya con Europa, Inglaterra y Francia y con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una gran oferta de productos manufacturados importados, el establecimiento de grandes comerciantes ingleses en Valparaíso y junto con ello la asfixia de todo intento de desarrollar industria nacional incapaz de competir  con las grandes po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gricultura pierde importancia en esta época muy afectada por la guerra y por la carencia de mano de obra derivada del confli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ólo se recuperará en la segunda mitad del siglo  producto de acontecimientos ex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período, el campo se desorganiza y se abandonan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minería, se produjo la llegada de nuevos empresarios que aportaron su conocimiento básicamente comercial del negocio. Hubo algunos adelantos técnicos menores y de poca significación para la produ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descubrieron dos nuevos yacimientos de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el caso del cobre, el aumento de la demanda mundial provocó el interés de compañías británicas por su explotación, esta casi fracasó por la diferencia de remuneraciones con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e fue el primer intento conocido de extraer cobre por empresas extranj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gasto bélico presionó durante hasta 1826 el presupuesto nacional, se aumentó el número de soldados y la producción e importación de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umento de los ingresos fiscales tuvo como fu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.- el aumento de los impuestos ordinarios y creación de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.- las contribuciones forz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.- contribuciones volu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servicio de la deuda equivalía a la mitad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consigue el primer préstamo internacional en 1822 con un banco ing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imposibilidad de cancelar las cuotas hace que se licite el estanco del Tabaco a Portales y Cía. Quien fracasa en este objetivo y debe liquidar el contrato, de aquí viene el nombre de Estanqueros a los adherentes a Por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4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búqueda de un modelo económico se produce una extranjerización de la economía , el comercio es tomado por los ingleses a 1825 se cree que había 3000 de ell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traso en las técnicas comerciales, la partida doble se aplica desde 1885, el desconocimiento de las letras de cambio, la ausencia de bancos y de modelos legales para formar sociedades, provocaron este retraso y perdida de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 así como ganada la independencia, el Estado  tiene un activo papel como determinador de impuestos mantención de situaciones monopólicas y leyes de privileg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a ley en 1840 protege la producción de bienes manufacturados dando el monopolio al empresario favore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o se produce en un ambiente de cierta confusión en que se es liberal en algunas cuestiones y proteccionista en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viene señalar que el período 1830  1860 va a ser de un extraordinario crecimiento del comercio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Al final de este período se produce un aumento significativo de la demanda por cobre el cual luego de corregirse el impuesto a la exportación se empieza a convertir en producto de 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En este caso se incorpora un avance tecnológico ( nuevos Hornos) que permiten  fundir minerales que en el sistema antiguo se despreci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3:05:47Z</dcterms:created>
  <dc:creator>CASA</dc:creator>
  <dc:description/>
  <dc:language>en-US</dc:language>
  <cp:lastModifiedBy>CASA</cp:lastModifiedBy>
  <dcterms:modified xsi:type="dcterms:W3CDTF">2009-08-30T23:08:41Z</dcterms:modified>
  <cp:revision>1</cp:revision>
  <dc:subject/>
  <dc:title>Diapositiva 1</dc:title>
</cp:coreProperties>
</file>