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1DC4-8D71-491A-A579-708E6B045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BEB8-27B8-46E5-A067-D2062D034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1B7D-FB88-4E62-8F08-2ED1B0616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9502-D08B-4C12-AD66-F8F4D7010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E4C0-A117-4DE8-B075-D09E54EE8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E3B0-2456-4B28-BA7D-C9A3C0E7C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B599-BD15-4FC8-8950-BB85C7A3E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21C6-9B7A-4A53-9327-28AED0FF5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8F69-C3EE-415F-B9F6-7374550ED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4A43-BCCD-4A75-9621-32A6F3C22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D83B-904C-46D4-9FA1-A9D44307D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CDE6-3F47-43C3-9CC4-B4CF4E6C2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BC407-3B70-4093-85D0-4B6E620917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492360" y="-7012080"/>
            <a:ext cx="16190640" cy="2176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Formación del Estado 1810 – 18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En  Chile este período va de 1810 a 1830 con dos etap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1.- la Guerra por la Independencia. 1810-1814  1814-1817 1818 - 18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2.- Formación del Esta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Causas y motivaciones de la Independencia similares a las vistas con Argenti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El proceso político lo resumiremos al final de la ses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En el campo económico con el objeto de atraer capitales e inversion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Se dicta en 1811 un tratado de Libre Comercio qu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Aumenta puertos abiertos a cuatro (valdivia, Talcahuano, Valparaíso y Coquimb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Baja el arancel de Importación a 30%, liberando a las armas, libros, imprentas maquinaria industri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Incentiva el cabotaje nacional con arancel diferenciado 10% a nacionales y 20% a extranjer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Se prohíbe exportación de plata y oro en lingotes sólo acuña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Limita el comercio al detalle a los nacion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Los extranjeros fundamentalmente británicos son dueños de los grandes almacenes y del comercio exteri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Formación del Estado 1810 – 1830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En términos generales pretendía ser un programa proteccionista y estimulador de la industria nacional, pero dichas medidas fueron superadas por el estímulo al comercio extern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Declarada la Independencia se cierra el comercio con Perú, afectando las exportaciones en particular las agrícolas y las importaciones con su efecto en el nivel de vi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Es en la década del 20 que se restablece el comercio pero ya con Europa, Inglaterra y Francia y con Estados Uni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Se crea una gran oferta de productos manufacturados importados, el establecimiento de grandes comerciantes ingleses en Valparaíso y junto con ello la asfixia de todo intento de desarrollar industria nacional incapaz de competir  con las grandes potenci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La agricultura pierde importancia en esta época muy afectada por la guerra y por la carencia de mano de obra derivada del conflic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Sólo se recuperará en la segunda mitad del siglo  producto de acontecimientos extern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En este período, el campo se desorganiza y se abandonan tierr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Formación del Estado 1810 – 1830 (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En la minería, se produjo la llegada de nuevos empresarios que aportaron su conocimiento básicamente comercial del negocio. Hubo algunos adelantos técnicos menores y de poca significación para la produc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Se descubrieron dos nuevos yacimientos de pla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En el caso del cobre, el aumento de la demanda mundial provocó el interés de compañías británicas por su explotación, esta casi fracasó por la diferencia de remuneraciones con los nacion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Este fue el primer intento conocido de extraer cobre por empresas extranjer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El gasto bélico presionó durante hasta 1826 el presupuesto nacional, se aumentó el número de soldados y la producción e importación de equip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El aumento de los ingresos fiscales tuvo como fuent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1.- el aumento de los impuestos ordinarios y creación de otr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2.- las contribuciones forzos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3.- contribuciones voluntari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El servicio de la deuda equivalía a la mitad del presupues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Se consigue el primer préstamo internacional en 1822 con un banco ing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La imposibilidad de cancelar las cuotas hace que se licite el estanco del Tabaco a Portales y Cía. Quien fracasa en este objetivo y debe liquidar el contrato, de aquí viene el nombre de Estanqueros a los adherentes a Port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Formación del Estado 1810 – 1830 (4)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En la búqueda de un modelo económico se produce una extranjerización de la economía , el comercio es tomado por los ingleses a 1825 se cree que había 3000 de ellos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El atraso en las técnicas comerciales, la partida doble se aplica desde 1885, el desconocimiento de las letras de cambio, la ausencia de bancos y de modelos legales para formar sociedades, provocaron este retraso y perdida de pod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Es así como ganada la independencia, el Estado  tiene un activo papel como determinador de impuestos mantención de situaciones monopólicas y leyes de privilegi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Una ley en 1840 protege la producción de bienes manufacturados dando el monopolio al empresario favoreci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Esto se produce en un ambiente de cierta confusión en que se es liberal en algunas cuestiones y proteccionista en otr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Conviene señalar que el período 1830  1860 va a ser de un extraordinario crecimiento del comercio mundi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Formación del Estado 1810 – 1830 (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99"/>
                </a:solidFill>
                <a:latin typeface="Arial"/>
              </a:rPr>
              <a:t>Al final de este período se produce un aumento significativo de la demanda por cobre el cual luego de corregirse el impuesto a la exportación se empieza a convertir en producto de export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99"/>
                </a:solidFill>
                <a:latin typeface="Arial"/>
              </a:rPr>
              <a:t>En este caso se incorpora un avance tecnológico ( nuevos Hornos) que permiten  fundir minerales que en el sistema antiguo se despreciab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0T23:05:47Z</dcterms:created>
  <dc:creator>CASA</dc:creator>
  <dc:description/>
  <dc:language>en-US</dc:language>
  <cp:lastModifiedBy>CASA</cp:lastModifiedBy>
  <dcterms:modified xsi:type="dcterms:W3CDTF">2009-08-30T23:08:41Z</dcterms:modified>
  <cp:revision>1</cp:revision>
  <dc:subject/>
  <dc:title>Diapositiva 1</dc:title>
</cp:coreProperties>
</file>