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E861B1-A1E6-49A3-9645-39CCE7C971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4FC7C8-A52D-4F2E-ABD0-5592EC4AB6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722738-D615-4FF5-B9B2-5726D10FE2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1B280C-2F2D-47B5-970F-3578FF1CFA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34859D-5AB7-4933-9798-75CEBD8910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C54F81-EFB7-4565-898B-A17A0BD584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840A17-DE15-4832-8CA9-08319C0CF1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7FA713-6FCA-4731-B862-933E2FAEF7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86DD79-74DA-4DD1-9BCC-C5AC54BA39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F1EEF7-D603-48B6-B86E-CA68C122AD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640576-C1F5-4ABC-BC9A-B5196DBD3A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3510DC-65EC-44D9-9C51-2BF368BD1C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5C558-F3D0-4111-BDBD-75BA3325C48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274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Independencia y Formación del Estado (Argentina)</a:t>
            </a:r>
            <a:endParaRPr b="0" lang="en-US" sz="2400" spc="-1" strike="noStrike">
              <a:solidFill>
                <a:srgbClr val="000000"/>
              </a:solidFill>
              <a:latin typeface="Arial"/>
            </a:endParaRPr>
          </a:p>
        </p:txBody>
      </p:sp>
      <p:sp>
        <p:nvSpPr>
          <p:cNvPr id="42" name="PlaceHolder 2"/>
          <p:cNvSpPr>
            <a:spLocks noGrp="1"/>
          </p:cNvSpPr>
          <p:nvPr>
            <p:ph/>
          </p:nvPr>
        </p:nvSpPr>
        <p:spPr>
          <a:xfrm>
            <a:off x="468360" y="620640"/>
            <a:ext cx="8229600" cy="5832720"/>
          </a:xfrm>
          <a:prstGeom prst="rect">
            <a:avLst/>
          </a:prstGeom>
          <a:noFill/>
          <a:ln w="0">
            <a:noFill/>
          </a:ln>
        </p:spPr>
        <p:txBody>
          <a:bodyPr lIns="90000" rIns="90000" tIns="46800" bIns="46800" anchor="t">
            <a:normAutofit/>
          </a:bodyPr>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ste Proceso en Argentina va de 1810 a 1860.</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Son antecedentes importantes de esta nueva etapa:</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La Revolución Industrial con sus avances tecnológicos, la energía a vapor, el desarrollo textil y los avances agrícolas: rotación de cultivos, mejoramiento de las semillas y cría de animales, iniciando un largo período de aumento de productividad.</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Nuevas formas políticas de reemplazo de la monarquía  por formas democráticas, la Independencia de EE.UU...</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n Argentina el vínculo se hace con la hegemonía de Buenos Aires sobre las provincias y el desarrollo de la ganadería como actividad exportadora.</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La necesidad estratégica de este cambio se dio por la penetración creciente de portugueses y británicos a través de Brasil y Montevideo. </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La revolución de Mayo da paso a la guerra por la Independencia y a guerras civiles entre las provincias y con Buenos Aires hasta 1860.</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La búsqueda de una nueva identidad es en Argentina un proceso arduo conflictivo, se enfrentan:</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Liberales y Conservadores por posiciones político-económicas</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Federalistas y centralistas, por intereses  opuestos</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Criollos y españoles por la conservación de la tradición.</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Son 50 años de guerra externa y guerra civil. </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68360" y="-360"/>
            <a:ext cx="8229600" cy="344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La Pampa Argentina</a:t>
            </a:r>
            <a:endParaRPr b="0" lang="en-US" sz="2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
          <p:cNvSpPr/>
          <p:nvPr/>
        </p:nvSpPr>
        <p:spPr>
          <a:xfrm>
            <a:off x="-2070000" y="1455120"/>
            <a:ext cx="13284000" cy="3949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 encuentra ubicada en el centro y este del país, lo conforman las provincias de Córdoba, Santa Fe, Buenos Aires y La Pampa. </a:t>
            </a:r>
            <a:br>
              <a:rPr sz="1800"/>
            </a:br>
            <a:r>
              <a:rPr b="0" lang="en-US" sz="1800" spc="-1" strike="noStrike">
                <a:solidFill>
                  <a:srgbClr val="000000"/>
                </a:solidFill>
                <a:latin typeface="Arial"/>
              </a:rPr>
              <a:t> </a:t>
            </a:r>
            <a:r>
              <a:rPr b="0" lang="en-US" sz="21700" spc="-1" strike="noStrike">
                <a:solidFill>
                  <a:srgbClr val="000000"/>
                </a:solidFill>
                <a:latin typeface="Arial"/>
              </a:rPr>
              <a:t> </a:t>
            </a:r>
            <a:r>
              <a:rPr b="0" lang="en-US" sz="1800" spc="-1" strike="noStrike">
                <a:solidFill>
                  <a:srgbClr val="000000"/>
                </a:solidFill>
                <a:latin typeface="Arial"/>
              </a:rPr>
              <a:t>                                     </a:t>
            </a:r>
            <a:br>
              <a:rPr sz="1800"/>
            </a:br>
            <a:endParaRPr b="0" lang="en-US" sz="1800" spc="-1" strike="noStrike">
              <a:solidFill>
                <a:srgbClr val="000000"/>
              </a:solidFill>
              <a:latin typeface="Arial"/>
            </a:endParaRPr>
          </a:p>
        </p:txBody>
      </p:sp>
      <p:pic>
        <p:nvPicPr>
          <p:cNvPr id="46" name="" descr=""/>
          <p:cNvPicPr/>
          <p:nvPr/>
        </p:nvPicPr>
        <p:blipFill>
          <a:blip r:embed="rId1"/>
          <a:stretch/>
        </p:blipFill>
        <p:spPr>
          <a:xfrm>
            <a:off x="0" y="476280"/>
            <a:ext cx="9325080" cy="63817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345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Formación del Estado 1810 – 1860  (2)</a:t>
            </a:r>
            <a:endParaRPr b="0" lang="en-US" sz="2400" spc="-1" strike="noStrike">
              <a:solidFill>
                <a:srgbClr val="000000"/>
              </a:solidFill>
              <a:latin typeface="Arial"/>
            </a:endParaRPr>
          </a:p>
        </p:txBody>
      </p:sp>
      <p:sp>
        <p:nvSpPr>
          <p:cNvPr id="48" name="PlaceHolder 2"/>
          <p:cNvSpPr>
            <a:spLocks noGrp="1"/>
          </p:cNvSpPr>
          <p:nvPr>
            <p:ph/>
          </p:nvPr>
        </p:nvSpPr>
        <p:spPr>
          <a:xfrm>
            <a:off x="468360" y="836640"/>
            <a:ext cx="8229600" cy="5688000"/>
          </a:xfrm>
          <a:prstGeom prst="rect">
            <a:avLst/>
          </a:prstGeom>
          <a:noFill/>
          <a:ln w="0">
            <a:noFill/>
          </a:ln>
        </p:spPr>
        <p:txBody>
          <a:bodyPr lIns="90000" rIns="90000" tIns="46800" bIns="46800" anchor="t">
            <a:normAutofit/>
          </a:bodyPr>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Las nuevas condiciones  que facilitan el desarrollo de la ganadería tienen que ver con la:</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Abundancia de tierras fértiles de la Región Pampeana,</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xpansión de la demanda mundial y mejoras en el transporte, </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scasa complejidad de la actividad ganadera y</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Baja demanda de mano de obra. Había un hab. Cada 500 Has. En 1870 uno cada 100. Un capataz, 10 peones atienden 15. 000 Has. y 10.000 cabezas.</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Luego de la liberación del comercio la actividad ganadera se hace rentable, de alta productividad , permitiendo una importante acumulación de capital.</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A fines del siglo XVIII y primera mitad del XIX, se produce la guerra contra los pueblos originarios para ampliar la zona productiva.</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sto produjo una rápida concentración de la propiedad: 8 millones de Has. en mano de 300 propietarios y más adelante 1850 se incorporan 3 millones de has. Para otros 300 propietarios.</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La forma de organización fue la gran extensión (estancia) con contrato de trabajo remunerado, en terrenos fijos y con propiedades alambradas.</a:t>
            </a:r>
            <a:endParaRPr b="0" lang="en-US" sz="16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59920"/>
            <a:ext cx="8229600" cy="36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Formación del Estado 1810 – 1860  (3)</a:t>
            </a:r>
            <a:endParaRPr b="0" lang="en-US" sz="2400" spc="-1" strike="noStrike">
              <a:solidFill>
                <a:srgbClr val="000000"/>
              </a:solidFill>
              <a:latin typeface="Arial"/>
            </a:endParaRPr>
          </a:p>
        </p:txBody>
      </p:sp>
      <p:sp>
        <p:nvSpPr>
          <p:cNvPr id="50" name="PlaceHolder 2"/>
          <p:cNvSpPr>
            <a:spLocks noGrp="1"/>
          </p:cNvSpPr>
          <p:nvPr>
            <p:ph/>
          </p:nvPr>
        </p:nvSpPr>
        <p:spPr>
          <a:xfrm>
            <a:off x="457200" y="764640"/>
            <a:ext cx="8229600" cy="5688360"/>
          </a:xfrm>
          <a:prstGeom prst="rect">
            <a:avLst/>
          </a:prstGeom>
          <a:noFill/>
          <a:ln w="0">
            <a:noFill/>
          </a:ln>
        </p:spPr>
        <p:txBody>
          <a:bodyPr lIns="90000" rIns="90000" tIns="46800" bIns="46800" anchor="t">
            <a:normAutofit/>
          </a:bodyPr>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Los productos principales de exportación fueron: los cueros, el charqui (tasajo) el sebo. En datos de 1840, las exportaciones  se distribuían así: cueros 60%, charqui 8% , lana 6%  y sebo 10%. Veinte años después los cueros habían bajado al 30% la lana aumentó al 35 % y el charqui al 15% el sebo  se mantiene en 10%</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Hacia fines del siglo el producto principal es la lana y se crea la Sociedad Rural Argentina 1870.</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La población argentina que permaneció estable duran 250 años, era de 300.000 a la fecha de la Independencia  y  60 años después, año del primer censo (1869)  alcanzaba a  1.800.000 argentinos la mitad de los cuales vivía en la región del Litoral.</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l proceso de  Independencia implicó el término del Virreinato y la aparición de cuatro estados independientes: Argentina,  Bolivia (1824), Paraguay (1840) y  Uruguay.</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l más relevante  fue la separación del Alto Perú que significó la pérdida de los recursos que entregaba la explotación mineral.</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sto tiene efectos en la formación del Estado y en particular en sus finanzas pública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539640" y="259920"/>
            <a:ext cx="8229600" cy="274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Formación del Estado 1810 – 1860  (4)</a:t>
            </a:r>
            <a:endParaRPr b="0" lang="en-US" sz="2400" spc="-1" strike="noStrike">
              <a:solidFill>
                <a:srgbClr val="000000"/>
              </a:solidFill>
              <a:latin typeface="Arial"/>
            </a:endParaRPr>
          </a:p>
        </p:txBody>
      </p:sp>
      <p:sp>
        <p:nvSpPr>
          <p:cNvPr id="52" name="PlaceHolder 2"/>
          <p:cNvSpPr>
            <a:spLocks noGrp="1"/>
          </p:cNvSpPr>
          <p:nvPr>
            <p:ph/>
          </p:nvPr>
        </p:nvSpPr>
        <p:spPr>
          <a:xfrm>
            <a:off x="457200" y="836280"/>
            <a:ext cx="8229600" cy="5289480"/>
          </a:xfrm>
          <a:prstGeom prst="rect">
            <a:avLst/>
          </a:prstGeom>
          <a:noFill/>
          <a:ln w="0">
            <a:noFill/>
          </a:ln>
        </p:spPr>
        <p:txBody>
          <a:bodyPr lIns="90000" rIns="90000" tIns="46800" bIns="46800" anchor="t">
            <a:normAutofit fontScale="98000"/>
          </a:bodyPr>
          <a:p>
            <a:pPr marL="335880" indent="-3358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Los ingresos públicos eran necesarios por la guerra de la independencia,  las luchas internas y las campañas contra los pueblos originarios, el 60% del gasto lo explica el gasto militar, el resto es para administración del Estado.</a:t>
            </a:r>
            <a:endParaRPr b="0" lang="en-US" sz="1600" spc="-1" strike="noStrike">
              <a:solidFill>
                <a:srgbClr val="000000"/>
              </a:solidFill>
              <a:latin typeface="Arial"/>
            </a:endParaRPr>
          </a:p>
          <a:p>
            <a:pPr marL="335880" indent="-3358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La base del financiamiento estaba dado por los impuestos al comercio, exportaciones e importaciones, otras fuentes fueron los prestamos internos de dos formas, forzosos y colocados por el estado con grandes tasas de descuento y por último la emisión de papel moneda.</a:t>
            </a:r>
            <a:endParaRPr b="0" lang="en-US" sz="1600" spc="-1" strike="noStrike">
              <a:solidFill>
                <a:srgbClr val="000000"/>
              </a:solidFill>
              <a:latin typeface="Arial"/>
            </a:endParaRPr>
          </a:p>
          <a:p>
            <a:pPr marL="335880" indent="-3358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La primera emisión se produce en 1822 por el Banco de la Provincia de Buenos Aires.</a:t>
            </a:r>
            <a:endParaRPr b="0" lang="en-US" sz="1600" spc="-1" strike="noStrike">
              <a:solidFill>
                <a:srgbClr val="000000"/>
              </a:solidFill>
              <a:latin typeface="Arial"/>
            </a:endParaRPr>
          </a:p>
          <a:p>
            <a:pPr marL="335880" indent="-3358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La emisión tiene la “ventaja” que el dinero no se devuelve y no hay que gastar esfuerzos en vender títulos públicos. Los más beneficiados eran los ganaderos y comerciantes que debían comprar títulos cuando el estado los vendía. Pero además eran favorecidos por la inflación que genera la emisión a ciertos niveles.</a:t>
            </a:r>
            <a:endParaRPr b="0" lang="en-US" sz="1600" spc="-1" strike="noStrike">
              <a:solidFill>
                <a:srgbClr val="000000"/>
              </a:solidFill>
              <a:latin typeface="Arial"/>
            </a:endParaRPr>
          </a:p>
          <a:p>
            <a:pPr marL="335880" indent="-3358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Durante toda esta etapa, la política fiscal tendió a financiar los déficit con emisión y por lo tanto trasladó el peso del financiamiento de exportadores y comerciantes a asalariados y trabajadores de bajos ingresos.</a:t>
            </a:r>
            <a:endParaRPr b="0" lang="en-US" sz="1600" spc="-1" strike="noStrike">
              <a:solidFill>
                <a:srgbClr val="000000"/>
              </a:solidFill>
              <a:latin typeface="Arial"/>
            </a:endParaRPr>
          </a:p>
          <a:p>
            <a:pPr marL="335880" indent="-3358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Las contracciones del comercio exterior no tuvieron efectos sobre la capacidad industrial del país, al contraerse las exportaciones y por lo tanto las importaciones, no existía capacidad para trasladar desde el sector ganadero hacia otros sectores como por ejemplo sustituir importaciones una cantidad importante de factores productivos, por lo que el efecto precio era totalmente absorbido por el consumo interno.</a:t>
            </a:r>
            <a:endParaRPr b="0" lang="en-US" sz="1600" spc="-1" strike="noStrike">
              <a:solidFill>
                <a:srgbClr val="000000"/>
              </a:solidFill>
              <a:latin typeface="Arial"/>
            </a:endParaRPr>
          </a:p>
          <a:p>
            <a:pPr marL="3358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345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Formación del Estado 1810 – 1860  (5)</a:t>
            </a:r>
            <a:endParaRPr b="0" lang="en-US" sz="2400" spc="-1" strike="noStrike">
              <a:solidFill>
                <a:srgbClr val="000000"/>
              </a:solidFill>
              <a:latin typeface="Arial"/>
            </a:endParaRPr>
          </a:p>
        </p:txBody>
      </p:sp>
      <p:sp>
        <p:nvSpPr>
          <p:cNvPr id="54" name="PlaceHolder 2"/>
          <p:cNvSpPr>
            <a:spLocks noGrp="1"/>
          </p:cNvSpPr>
          <p:nvPr>
            <p:ph/>
          </p:nvPr>
        </p:nvSpPr>
        <p:spPr>
          <a:xfrm>
            <a:off x="457200" y="907560"/>
            <a:ext cx="8229600" cy="5689800"/>
          </a:xfrm>
          <a:prstGeom prst="rect">
            <a:avLst/>
          </a:prstGeom>
          <a:noFill/>
          <a:ln w="0">
            <a:noFill/>
          </a:ln>
        </p:spPr>
        <p:txBody>
          <a:bodyPr lIns="90000" rIns="90000" tIns="46800" bIns="46800" anchor="t">
            <a:normAutofit/>
          </a:bodyPr>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Al no existir ahorro público, las obras públicas fueron inexistentes y el financiamiento de la guerra contra el indígena, aumentando las tierras cultivables se convirtieron en inversiones públicas, transfiriendo sin costo estas inversiones al sector privado.</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De esta forma sin capacidad empresarial y sin un orden institucional que diera seguridad alas inversiones esta época de transición fue  de un bajo desarrollo económico, que ayudó a potenciar el carácter de economía mono exportadora con la ganadería y sus subproductos como principales productos de exportación, una alta concentración del ingreso y la propiedad y una inflación que provocaba graves desequilibrios internos.</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La población crece por efecto vegetativo, no hay migraciones importantes y  cambia la composición de las exportaciones desplazándose de la plata hacia la ganadería, esto hace que disminuya la importancia de las regiones del norte y aumente la de Buenos Aires y el Litoral.</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Hacia mediados del siglo el 50% de las importaciones realizadas por Buenos Aires compiten con productos del interior lo que provoca el empobrecimiento de las regiones.</a:t>
            </a:r>
            <a:endParaRPr b="0" lang="en-US" sz="16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274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Formación del Estado 1810 – 1860  (6)</a:t>
            </a:r>
            <a:endParaRPr b="0" lang="en-US" sz="2400" spc="-1" strike="noStrike">
              <a:solidFill>
                <a:srgbClr val="000000"/>
              </a:solidFill>
              <a:latin typeface="Arial"/>
            </a:endParaRPr>
          </a:p>
        </p:txBody>
      </p:sp>
      <p:sp>
        <p:nvSpPr>
          <p:cNvPr id="56" name="PlaceHolder 2"/>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l desarrollo Político Institucional (1810 – 1860)</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Invasiones Inglesas (1806 -1807)</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Primera Junta ( Mayo de 1810)</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Junta Grande (Septiembre de 1810)</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Primer Triunvirato (1811-1812)</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Segundo Triunvirato (1812-1814)</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Asamblea Constituyente (1813) Posterga declaración de Independencia.</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Directorio de Posadas (1814-1815) Director Supremo. Inicio de guerras civiles.</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Declaración de Independencia (1816)</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Directorio de Pueyrredón (1816 -1819) -  (expedición libertadora)</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Autonomías Provinciales (1820) TRATADO DE PILAR</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Guerra con Brasil (1826 a 1828)</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Primer Gobierno de  Rosas (1829 -1832) PACTO FEDERAL</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Segundo Gobierno de Rosas (1835 -1852) CARTA DE LA HACIENDA</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Gobierno de Urquiza (1853) ACUERDO DE SAN NICOLAS</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Constitución de 1853  CONFEDERACIÓN ARGENTINA.</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Gobierno de Mitre PACTO DE SAN JOSE DE FLORES.</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Primer Gobierno Nacional 1863 Bartolomé Mitre.</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345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Arial"/>
              </a:rPr>
              <a:t>HITOS INSTITUCIONALES</a:t>
            </a:r>
            <a:endParaRPr b="0" lang="en-US" sz="2400" spc="-1" strike="noStrike">
              <a:solidFill>
                <a:srgbClr val="000000"/>
              </a:solidFill>
              <a:latin typeface="Arial"/>
            </a:endParaRPr>
          </a:p>
        </p:txBody>
      </p:sp>
      <p:sp>
        <p:nvSpPr>
          <p:cNvPr id="58" name="PlaceHolder 2"/>
          <p:cNvSpPr>
            <a:spLocks noGrp="1"/>
          </p:cNvSpPr>
          <p:nvPr>
            <p:ph/>
          </p:nvPr>
        </p:nvSpPr>
        <p:spPr>
          <a:xfrm>
            <a:off x="457200" y="836280"/>
            <a:ext cx="8229600" cy="5289480"/>
          </a:xfrm>
          <a:prstGeom prst="rect">
            <a:avLst/>
          </a:prstGeom>
          <a:noFill/>
          <a:ln w="0">
            <a:noFill/>
          </a:ln>
        </p:spPr>
        <p:txBody>
          <a:bodyPr lIns="90000" rIns="90000" tIns="46800" bIns="46800" anchor="t">
            <a:normAutofit/>
          </a:bodyPr>
          <a:p>
            <a:pPr marL="343080" indent="-343080">
              <a:spcBef>
                <a:spcPts val="4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0000"/>
                </a:solidFill>
                <a:latin typeface="Arial"/>
              </a:rPr>
              <a:t>TRATADO DE PILAR 1820: reconoce vocación Nacional y Federalista.</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0000"/>
                </a:solidFill>
                <a:latin typeface="Arial"/>
              </a:rPr>
              <a:t>PACTO FEDERAL  1831: Adoptar régimen federal cuando hubiera PAZ.</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0000"/>
                </a:solidFill>
                <a:latin typeface="Arial"/>
              </a:rPr>
              <a:t>CARTA DE LA HACIENDA 1834:  No están dadas las condiciones para  que el país se organice constitucionalmente.</a:t>
            </a:r>
            <a:endParaRPr b="0" lang="en-US" sz="1600" spc="-1" strike="noStrike">
              <a:solidFill>
                <a:srgbClr val="000000"/>
              </a:solidFill>
              <a:latin typeface="Arial"/>
            </a:endParaRPr>
          </a:p>
          <a:p>
            <a:pPr marL="343080" indent="-343080">
              <a:spcBef>
                <a:spcPts val="4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0000"/>
                </a:solidFill>
                <a:latin typeface="Arial"/>
              </a:rPr>
              <a:t>ACUERDO DE SAN NICOLAS 1853. crea Congreso Constituyente, abolición de aduanas interiores: libertad de tránsito, nacionaliza aduana de Buenos Aires y crea gobierno provisorio ( Urquiza Director).</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0000"/>
                </a:solidFill>
                <a:latin typeface="Arial"/>
              </a:rPr>
              <a:t>CONFEDERACIÓN ARGENTINA: se sanciona Constitución 13 provincias sin Buenos Aires.</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0000"/>
                </a:solidFill>
                <a:latin typeface="Arial"/>
              </a:rPr>
              <a:t>PACTO DE SAN JOSE DE FLORES. Buenos Aires Ingresa a la Confederación Argentina.</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0000"/>
                </a:solidFill>
                <a:latin typeface="Arial"/>
              </a:rPr>
              <a:t>GOBIERNO NACIONAL PRESIDIDO POR BARTOLOMÉ MITRE.</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30T22:54:46Z</dcterms:created>
  <dc:creator>CASA</dc:creator>
  <dc:description/>
  <dc:language>en-US</dc:language>
  <cp:lastModifiedBy>CASA</cp:lastModifiedBy>
  <dcterms:modified xsi:type="dcterms:W3CDTF">2009-08-30T22:58:45Z</dcterms:modified>
  <cp:revision>1</cp:revision>
  <dc:subject/>
  <dc:title>Independencia y Formación del Estado (Argentina)</dc:title>
</cp:coreProperties>
</file>