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png" ContentType="image/png"/>
  <Override PartName="/ppt/media/image20.png" ContentType="image/png"/>
  <Override PartName="/ppt/media/image2.jpeg" ContentType="image/jpeg"/>
  <Override PartName="/ppt/media/image19.jpeg" ContentType="image/jpeg"/>
  <Override PartName="/ppt/media/image18.jpeg" ContentType="image/jpeg"/>
  <Override PartName="/ppt/media/image7.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80942-E2FC-4D8E-A4F8-B83F29312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D5F54-C537-4709-BBAC-04702F81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BB05D-7504-46C2-85EF-9D6D2F6A3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AE3BB-B8EA-4984-8EE4-ECB7D9407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690CF-4712-4E2B-A026-B7DD66D0A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F4F5E-7BA8-4BDC-9AA9-E5712E8D4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525DE-2328-4E0C-B0D4-325A6F998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FFDEF-814C-45EF-9981-A7913747C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361D9-996A-4325-BF68-E6A3FA6C4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1678-2C4C-4423-A4F7-B4C356DE4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D909C-8B52-495E-9DAC-5E3704360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FF5BD-BB0C-4E46-BE8B-C4CEC7196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0DE2-76AE-45DD-9838-1DED8D023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l/imgres?imgurl=http://www.buscalibros.cl/img_prod_gra/9561017792.jpg&amp;imgrefurl=http://www.buscalibros.cl/libro.php%3Flibro%3D486114&amp;usg=__8RZ8v11uXec6inpTaYmDCLIqjZ4=&amp;h=205&amp;w=144&amp;sz=12&amp;hl=es&amp;start=23&amp;um=1&amp;tbnid=7tuAuiFq3-yR5M:&amp;tbnh=105&amp;tbnw=74&amp;prev=/images%3Fq%3DConstituc%25C3%25B3n%2BPol%25C3%25ADtica%2Bde%2Bla%2BRep%25C3%25BAblica%26ndsp%3D20%26hl%3Des%26cr%3DcountryCL%26sa%3DN%26start%3D20%26um%3D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images.google.cl/imgres?imgurl=http://www.geocities.com/gabrielasaldivar/cambio_files/image008.jpg&amp;imgrefurl=http://www.geocities.com/gabrielasaldivar/cambio.html&amp;usg=__2aPLc5gi3_P0fLBBZBLhAm5ptQw=&amp;h=340&amp;w=267&amp;sz=13&amp;hl=es&amp;start=3&amp;tbnid=UxiOF7lELypKYM:&amp;tbnh=119&amp;tbnw=93&amp;prev=/images%3Fq%3Drestricciones%26gbv%3D2%26hl%3Des"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764640"/>
            <a:ext cx="7772400" cy="190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GRESO NACIO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547640" y="2565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ías Guzmán Silva</a:t>
            </a:r>
            <a:endParaRPr b="0" lang="en-US" sz="3200" spc="-1" strike="noStrike">
              <a:solidFill>
                <a:srgbClr val="000000"/>
              </a:solidFill>
              <a:latin typeface="Arial"/>
            </a:endParaRPr>
          </a:p>
        </p:txBody>
      </p:sp>
      <p:pic>
        <p:nvPicPr>
          <p:cNvPr id="43" name="" descr=""/>
          <p:cNvPicPr/>
          <p:nvPr/>
        </p:nvPicPr>
        <p:blipFill>
          <a:blip r:embed="rId1"/>
          <a:srcRect l="27575" t="29621" r="39150" b="37904"/>
          <a:stretch/>
        </p:blipFill>
        <p:spPr>
          <a:xfrm>
            <a:off x="1116000" y="3500280"/>
            <a:ext cx="6985080" cy="312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cultad de adoptar acuerdos y solicitar antecedentes al Gobierno</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a:t>
            </a:r>
            <a:r>
              <a:rPr b="0" lang="es-ES" sz="2400" spc="-1" strike="noStrike">
                <a:solidFill>
                  <a:srgbClr val="000000"/>
                </a:solidFill>
                <a:latin typeface="Arial"/>
              </a:rPr>
              <a:t>	</a:t>
            </a:r>
            <a:r>
              <a:rPr b="0" lang="es-ES" sz="2400" spc="-1" strike="noStrike">
                <a:solidFill>
                  <a:srgbClr val="000000"/>
                </a:solidFill>
                <a:latin typeface="Arial"/>
              </a:rPr>
              <a:t>Los “</a:t>
            </a:r>
            <a:r>
              <a:rPr b="0" i="1" lang="es-ES" sz="2400" spc="-1" strike="noStrike">
                <a:solidFill>
                  <a:srgbClr val="000000"/>
                </a:solidFill>
                <a:latin typeface="Arial"/>
              </a:rPr>
              <a:t>Acuerdos</a:t>
            </a:r>
            <a:r>
              <a:rPr b="0" lang="es-ES" sz="2400" spc="-1" strike="noStrike">
                <a:solidFill>
                  <a:srgbClr val="000000"/>
                </a:solidFill>
                <a:latin typeface="Arial"/>
              </a:rPr>
              <a:t>” consisten en decisiones adoptadas por la mayoría de los diputados presentes en la correspondiente sesión y que buscan representar al Gobierno una crítica ya sea en cuanto al mérito o a la legalidad de la actuación de un organismos público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i.</a:t>
            </a:r>
            <a:r>
              <a:rPr b="0" lang="es-ES" sz="2400" spc="-1" strike="noStrike">
                <a:solidFill>
                  <a:srgbClr val="000000"/>
                </a:solidFill>
                <a:latin typeface="Arial"/>
              </a:rPr>
              <a:t>	</a:t>
            </a:r>
            <a:r>
              <a:rPr b="0" lang="es-ES" sz="2400" spc="-1" strike="noStrike">
                <a:solidFill>
                  <a:srgbClr val="000000"/>
                </a:solidFill>
                <a:latin typeface="Arial"/>
              </a:rPr>
              <a:t> “</a:t>
            </a:r>
            <a:r>
              <a:rPr b="0" i="1" lang="es-ES" sz="2400" spc="-1" strike="noStrike">
                <a:solidFill>
                  <a:srgbClr val="000000"/>
                </a:solidFill>
                <a:latin typeface="Arial"/>
              </a:rPr>
              <a:t>Sugerir Observaciones</a:t>
            </a:r>
            <a:r>
              <a:rPr b="0" lang="es-ES" sz="2400" spc="-1" strike="noStrike">
                <a:solidFill>
                  <a:srgbClr val="000000"/>
                </a:solidFill>
                <a:latin typeface="Arial"/>
              </a:rPr>
              <a:t>” se distingue del “Acuerdo” por tener una entidad menor, más acotada, referida a una situación más particular. En cambio, el “Acuerdo” dice relación con aspectos de carácter más generale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Gobierno deberá dar respuesta fundada por intermedio del Ministro de Estado correspondiente dentro de los 30 día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1" name="PlaceHolder 2"/>
          <p:cNvSpPr>
            <a:spLocks noGrp="1"/>
          </p:cNvSpPr>
          <p:nvPr>
            <p:ph/>
          </p:nvPr>
        </p:nvSpPr>
        <p:spPr>
          <a:xfrm>
            <a:off x="826560" y="1600200"/>
            <a:ext cx="7859880" cy="398952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Unicode MS"/>
              </a:rPr>
              <a:t>Facultad de solicitar determinados antecedentes al Gobierno con plazo fatal de entrega.</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Unicode MS"/>
              </a:rPr>
              <a:t>Señala el artículo 52 n° 1 que “</a:t>
            </a:r>
            <a:r>
              <a:rPr b="0" i="1" lang="es-ES_tradnl" sz="2800" spc="-1" strike="noStrike">
                <a:solidFill>
                  <a:srgbClr val="000000"/>
                </a:solidFill>
                <a:latin typeface="Arial Unicode MS"/>
              </a:rPr>
              <a:t>Sin perjuicio de lo anterior, cualquier diputado, con el voto favorable de un tercio de los miembros presentes de la </a:t>
            </a:r>
            <a:r>
              <a:rPr b="0" i="1" lang="es-ES_tradnl" sz="2800" spc="-1" strike="noStrike">
                <a:solidFill>
                  <a:srgbClr val="000000"/>
                </a:solidFill>
                <a:latin typeface="Arial"/>
              </a:rPr>
              <a:t>Cámara, podrá solicitar determinados antecedentes al Gobierno. El Presidente de la República contestará fundadamente por intermedio del Ministro de Estado que corresponda</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acultad de interpelar a un Ministro de Estado</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a nueva atribución hace expresamente obligatorio el deber de los ministros de Estado de concurrir cuando sea citado por la Cámara de Diputados o por el Senado. </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rtículo 37 CPR</a:t>
            </a:r>
            <a:endParaRPr b="0" lang="en-US" sz="3200" spc="-1" strike="noStrike">
              <a:solidFill>
                <a:srgbClr val="000000"/>
              </a:solidFill>
              <a:latin typeface="Arial"/>
            </a:endParaRPr>
          </a:p>
        </p:txBody>
      </p:sp>
      <p:pic>
        <p:nvPicPr>
          <p:cNvPr id="74" name="" descr=""/>
          <p:cNvPicPr/>
          <p:nvPr/>
        </p:nvPicPr>
        <p:blipFill>
          <a:blip r:embed="rId1"/>
          <a:stretch/>
        </p:blipFill>
        <p:spPr>
          <a:xfrm>
            <a:off x="3924360" y="4076640"/>
            <a:ext cx="4968720" cy="25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7643880" cy="377352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acultad de interpelar a un Ministro de Estado</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i="1" lang="en-US" sz="3200" spc="-1" strike="noStrike">
                <a:solidFill>
                  <a:srgbClr val="000000"/>
                </a:solidFill>
                <a:latin typeface="Arial Unicode MS"/>
              </a:rPr>
              <a:t>Los ministros de Estado son los colaboradores directos del Presidente de la República</a:t>
            </a:r>
            <a:r>
              <a:rPr b="0" lang="en-US" sz="3200" spc="-1" strike="noStrike">
                <a:solidFill>
                  <a:srgbClr val="000000"/>
                </a:solidFill>
                <a:latin typeface="Arial Unicode MS"/>
              </a:rPr>
              <a:t>” (Art. 33) </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terpelación impropia</a:t>
            </a:r>
            <a:endParaRPr b="0" lang="en-US" sz="3200" spc="-1" strike="noStrike">
              <a:solidFill>
                <a:srgbClr val="000000"/>
              </a:solidFill>
              <a:latin typeface="Arial"/>
            </a:endParaRPr>
          </a:p>
        </p:txBody>
      </p:sp>
      <p:pic>
        <p:nvPicPr>
          <p:cNvPr id="77" name="" descr=""/>
          <p:cNvPicPr/>
          <p:nvPr/>
        </p:nvPicPr>
        <p:blipFill>
          <a:blip r:embed="rId1"/>
          <a:srcRect l="29664" t="45364" r="31613" b="21540"/>
          <a:stretch/>
        </p:blipFill>
        <p:spPr>
          <a:xfrm>
            <a:off x="1116000" y="4365720"/>
            <a:ext cx="6985080" cy="194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5267160" cy="492444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acultad de crear comisiones especiales investigadoras</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Comisiones Investigadoras tienen su origen en el reglamento de la Cámara de Diputados conforme a la Carta de 1925</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constitucionalidad era dudosa</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y son contempladas como una institución constitucional a contar de la vigencia de la ley N° 20.05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rcRect l="23338" t="31019" r="25785" b="23755"/>
          <a:stretch/>
        </p:blipFill>
        <p:spPr>
          <a:xfrm>
            <a:off x="6012000" y="1557360"/>
            <a:ext cx="2600280" cy="2303280"/>
          </a:xfrm>
          <a:prstGeom prst="rect">
            <a:avLst/>
          </a:prstGeom>
          <a:ln w="0">
            <a:noFill/>
          </a:ln>
        </p:spPr>
      </p:pic>
      <p:pic>
        <p:nvPicPr>
          <p:cNvPr id="81" name="" descr=""/>
          <p:cNvPicPr/>
          <p:nvPr/>
        </p:nvPicPr>
        <p:blipFill>
          <a:blip r:embed="rId2"/>
          <a:srcRect l="23338" t="29626" r="25785" b="23770"/>
          <a:stretch/>
        </p:blipFill>
        <p:spPr>
          <a:xfrm>
            <a:off x="5940360" y="4076640"/>
            <a:ext cx="274320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61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tículo 52 N° 2 CPR</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juicio que la Cámara hace respecto de los hechos u omisiones que configuran las causales es de </a:t>
            </a:r>
            <a:r>
              <a:rPr b="1" lang="es-ES" sz="2800" spc="-1" strike="noStrike">
                <a:solidFill>
                  <a:srgbClr val="000000"/>
                </a:solidFill>
                <a:latin typeface="Arial"/>
              </a:rPr>
              <a:t>tipo prudencial</a:t>
            </a:r>
            <a:r>
              <a:rPr b="0" lang="es-ES" sz="2800" spc="-1" strike="noStrike">
                <a:solidFill>
                  <a:srgbClr val="000000"/>
                </a:solidFill>
                <a:latin typeface="Arial"/>
              </a:rPr>
              <a:t>, es decir, sujeto a las apreciaciones de la “</a:t>
            </a:r>
            <a:r>
              <a:rPr b="0" i="1" lang="es-ES" sz="2800" spc="-1" strike="noStrike">
                <a:solidFill>
                  <a:srgbClr val="000000"/>
                </a:solidFill>
                <a:latin typeface="Arial"/>
              </a:rPr>
              <a:t>sana crítica</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84" name="" descr=""/>
          <p:cNvPicPr/>
          <p:nvPr/>
        </p:nvPicPr>
        <p:blipFill>
          <a:blip r:embed="rId1"/>
          <a:stretch/>
        </p:blipFill>
        <p:spPr>
          <a:xfrm>
            <a:off x="5364000" y="1700280"/>
            <a:ext cx="3564000" cy="4392720"/>
          </a:xfrm>
          <a:prstGeom prst="rect">
            <a:avLst/>
          </a:prstGeom>
          <a:ln w="0">
            <a:noFill/>
          </a:ln>
        </p:spPr>
      </p:pic>
      <p:pic>
        <p:nvPicPr>
          <p:cNvPr id="85" name="" descr=""/>
          <p:cNvPicPr/>
          <p:nvPr/>
        </p:nvPicPr>
        <p:blipFill>
          <a:blip r:embed="rId2"/>
          <a:stretch/>
        </p:blipFill>
        <p:spPr>
          <a:xfrm>
            <a:off x="2916360" y="4941720"/>
            <a:ext cx="1171440" cy="13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ríge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icio de resid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mpeach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Ilícitos constitu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icio político o juríd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os de una Acusación Constitucional.</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Debe ser formulada con el respaldo de no menos de diez ni más de veinte diputados, a fin de garantizar una mínima seriedad a la acusación;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Debe señalarse expresamente los hechos u omisiones que constituyen las causales correspondientes;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Deben alcanzarse los quórum que procedan:</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o del Presidente de la República se requiere a mayoría de los diputados en ejercicio,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o de los demás sujetos pasivos de la acusación, solamente la mayoría de los miembros presentes en la sesió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a:t>
            </a:r>
            <a:r>
              <a:rPr b="0" lang="es-ES" sz="2000" spc="-1" strike="noStrike">
                <a:solidFill>
                  <a:srgbClr val="000000"/>
                </a:solidFill>
                <a:latin typeface="Arial"/>
              </a:rPr>
              <a:t>	</a:t>
            </a:r>
            <a:r>
              <a:rPr b="0" lang="es-ES" sz="2000" spc="-1" strike="noStrike">
                <a:solidFill>
                  <a:srgbClr val="000000"/>
                </a:solidFill>
                <a:latin typeface="Arial"/>
              </a:rPr>
              <a:t>Debe acusarse por alguna de las causales expresamente señaladas para cada uno;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a los Ministros no puede acusárseles por “notable abandono de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t>
            </a:r>
            <a:r>
              <a:rPr b="0" lang="es-ES" sz="2000" spc="-1" strike="noStrike">
                <a:solidFill>
                  <a:srgbClr val="000000"/>
                </a:solidFill>
                <a:latin typeface="Arial"/>
              </a:rPr>
              <a:t>	</a:t>
            </a:r>
            <a:r>
              <a:rPr b="0" lang="es-ES" sz="2000" spc="-1" strike="noStrike">
                <a:solidFill>
                  <a:srgbClr val="000000"/>
                </a:solidFill>
                <a:latin typeface="Arial"/>
              </a:rPr>
              <a:t>Que se formule oportunamente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tándose del Presidente de la República mientras esté en funciones y </a:t>
            </a:r>
            <a:r>
              <a:rPr b="1" lang="es-ES" sz="2000" spc="-1" strike="noStrike">
                <a:solidFill>
                  <a:srgbClr val="000000"/>
                </a:solidFill>
                <a:latin typeface="Arial"/>
              </a:rPr>
              <a:t>en los seis meses</a:t>
            </a:r>
            <a:r>
              <a:rPr b="0" lang="es-ES" sz="2000" spc="-1" strike="noStrike">
                <a:solidFill>
                  <a:srgbClr val="000000"/>
                </a:solidFill>
                <a:latin typeface="Arial"/>
              </a:rPr>
              <a:t> siguientes a la expiración de su cargo y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cto de los demás funcionarios mientras estén en funciones o dentro de los </a:t>
            </a:r>
            <a:r>
              <a:rPr b="1" lang="es-ES" sz="2000" spc="-1" strike="noStrike">
                <a:solidFill>
                  <a:srgbClr val="000000"/>
                </a:solidFill>
                <a:latin typeface="Arial"/>
              </a:rPr>
              <a:t>tres meses siguientes</a:t>
            </a:r>
            <a:r>
              <a:rPr b="0" lang="es-ES" sz="2000" spc="-1" strike="noStrike">
                <a:solidFill>
                  <a:srgbClr val="000000"/>
                </a:solidFill>
                <a:latin typeface="Arial"/>
              </a:rPr>
              <a:t> a la expiración de su cargo;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t>
            </a:r>
            <a:r>
              <a:rPr b="0" lang="es-ES" sz="2000" spc="-1" strike="noStrike">
                <a:solidFill>
                  <a:srgbClr val="000000"/>
                </a:solidFill>
                <a:latin typeface="Arial"/>
              </a:rPr>
              <a:t>	</a:t>
            </a:r>
            <a:r>
              <a:rPr b="0" lang="es-ES" sz="2000" spc="-1" strike="noStrike">
                <a:solidFill>
                  <a:srgbClr val="000000"/>
                </a:solidFill>
                <a:latin typeface="Arial"/>
              </a:rPr>
              <a:t>La acusación formulada debe formularse respecto de actos realizados a contar del 11 de marzo de 1990, tal como lo señala el artículo 3° transitorio de la ley orgánica del congreso nacio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jetos pasivos y causales:</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El Presidente de la República por:</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a:t>
            </a:r>
            <a:r>
              <a:rPr b="1" lang="es-ES_tradnl" sz="2800" spc="-1" strike="noStrike">
                <a:solidFill>
                  <a:srgbClr val="000000"/>
                </a:solidFill>
                <a:latin typeface="Arial"/>
              </a:rPr>
              <a:t>Actos que comprometan gravemente el honor o la seguridad de la Na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o consiste en afectar gravemente el prestigio o buen nombre de la Comunidad Nacional o haberla expuesto a un daño o peligro de manera igualmente grave.  Poner en riesgo.</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 </a:t>
            </a:r>
            <a:r>
              <a:rPr b="1" lang="es-ES_tradnl" sz="2800" spc="-1" strike="noStrike">
                <a:solidFill>
                  <a:srgbClr val="000000"/>
                </a:solidFill>
                <a:latin typeface="Arial"/>
              </a:rPr>
              <a:t>Por haber infringido abiertamente la Constitución o las leyes</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 implica haber quebrantado de modo grave o franco la Constitución o la l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analizamos </a:t>
            </a:r>
            <a:br>
              <a:rPr sz="4000"/>
            </a:br>
            <a:r>
              <a:rPr b="0" lang="es-CL" sz="4000" spc="-1" strike="noStrike">
                <a:solidFill>
                  <a:srgbClr val="000000"/>
                </a:solidFill>
                <a:latin typeface="Arial"/>
              </a:rPr>
              <a:t>el Congreso?</a:t>
            </a:r>
            <a:endParaRPr b="0" lang="en-US" sz="4000" spc="-1" strike="noStrike">
              <a:solidFill>
                <a:srgbClr val="000000"/>
              </a:solidFill>
              <a:latin typeface="Arial"/>
            </a:endParaRPr>
          </a:p>
        </p:txBody>
      </p:sp>
      <p:pic>
        <p:nvPicPr>
          <p:cNvPr id="45" name="" descr="">
            <a:hlinkClick r:id="rId1"/>
          </p:cNvPr>
          <p:cNvPicPr/>
          <p:nvPr/>
        </p:nvPicPr>
        <p:blipFill>
          <a:blip r:embed="rId2"/>
          <a:stretch/>
        </p:blipFill>
        <p:spPr>
          <a:xfrm>
            <a:off x="971640" y="2060640"/>
            <a:ext cx="1727280" cy="3456000"/>
          </a:xfrm>
          <a:prstGeom prst="rect">
            <a:avLst/>
          </a:prstGeom>
          <a:ln w="0">
            <a:noFill/>
          </a:ln>
        </p:spPr>
      </p:pic>
      <p:pic>
        <p:nvPicPr>
          <p:cNvPr id="46" name="" descr=""/>
          <p:cNvPicPr/>
          <p:nvPr/>
        </p:nvPicPr>
        <p:blipFill>
          <a:blip r:embed="rId3"/>
          <a:stretch/>
        </p:blipFill>
        <p:spPr>
          <a:xfrm>
            <a:off x="3348000" y="1884240"/>
            <a:ext cx="5400720" cy="395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5" name="PlaceHolder 2"/>
          <p:cNvSpPr>
            <a:spLocks noGrp="1"/>
          </p:cNvSpPr>
          <p:nvPr>
            <p:ph/>
          </p:nvPr>
        </p:nvSpPr>
        <p:spPr>
          <a:xfrm>
            <a:off x="457200" y="1267920"/>
            <a:ext cx="6778800" cy="5185080"/>
          </a:xfrm>
          <a:prstGeom prst="rect">
            <a:avLst/>
          </a:prstGeom>
          <a:noFill/>
          <a:ln w="0">
            <a:noFill/>
          </a:ln>
        </p:spPr>
        <p:txBody>
          <a:bodyPr lIns="90000" rIns="90000" tIns="46800" bIns="46800" anchor="t">
            <a:normAutofit fontScale="99000"/>
          </a:bodyPr>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Los Ministros de Estado, por</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Haber comprometido gravemente el honor o la seguridad de la Nación</a:t>
            </a: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 Infringir la Constitución o las leyes o haber dejado éstas sin ejecución</a:t>
            </a: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respecto de los Ministros el presupuesto para entablar Acusación Constitucional es menor que la primera causal para entablarla en contra del Presidente de la República.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se exige “infringir la Constitución o la ley”, sin distinguir la entidad de la violación.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importante reafirmar que dentro del concepto de “Constitución y ley” se incluyen los Principios positivizados en ellas, tales como las Bases de la Institucionalidad o bien los de Probidad Administrativ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 y por los delitos de traición, concusión, malversación de fondos públicos y soborn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lito de </a:t>
            </a:r>
            <a:r>
              <a:rPr b="1" lang="es-ES_tradnl" sz="2000" spc="-1" strike="noStrike">
                <a:solidFill>
                  <a:srgbClr val="000000"/>
                </a:solidFill>
                <a:latin typeface="Arial"/>
              </a:rPr>
              <a:t>Traición</a:t>
            </a:r>
            <a:r>
              <a:rPr b="0" lang="es-ES_tradnl" sz="2000" spc="-1" strike="noStrike">
                <a:solidFill>
                  <a:srgbClr val="000000"/>
                </a:solidFill>
                <a:latin typeface="Arial"/>
              </a:rPr>
              <a:t> está tipificado en el Código Penal e implica “</a:t>
            </a:r>
            <a:r>
              <a:rPr b="0" i="1" lang="es-ES_tradnl" sz="2000" spc="-1" strike="noStrike">
                <a:solidFill>
                  <a:srgbClr val="000000"/>
                </a:solidFill>
                <a:latin typeface="Arial"/>
              </a:rPr>
              <a:t>el no guardar la fidelidad y lealtad debida a la Patria</a:t>
            </a: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
          <p:cNvPicPr/>
          <p:nvPr/>
        </p:nvPicPr>
        <p:blipFill>
          <a:blip r:embed="rId1"/>
          <a:stretch/>
        </p:blipFill>
        <p:spPr>
          <a:xfrm>
            <a:off x="7380360" y="278136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Concusión</a:t>
            </a:r>
            <a:r>
              <a:rPr b="0" lang="es-ES_tradnl" sz="2400" spc="-1" strike="noStrike">
                <a:solidFill>
                  <a:srgbClr val="000000"/>
                </a:solidFill>
                <a:latin typeface="Arial"/>
              </a:rPr>
              <a:t> (241 CP) “</a:t>
            </a:r>
            <a:r>
              <a:rPr b="0" i="1" lang="es-ES_tradnl" sz="2400" spc="-1" strike="noStrike">
                <a:solidFill>
                  <a:srgbClr val="000000"/>
                </a:solidFill>
                <a:latin typeface="Arial"/>
              </a:rPr>
              <a:t>un funcionario público exige mayores derechos que los señalados en la ley (…) o bien exige un beneficio económico para sí o un tercero por ejecutar un acto que es propio de su cargo, pero por el cual la ley no le da derecho a beneficio pecuniario alguno</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Malversación de Caudales Públicos</a:t>
            </a:r>
            <a:r>
              <a:rPr b="0" lang="es-ES_tradnl" sz="2400" spc="-1" strike="noStrike">
                <a:solidFill>
                  <a:srgbClr val="000000"/>
                </a:solidFill>
                <a:latin typeface="Arial"/>
              </a:rPr>
              <a:t> es en general, aquellos casos en que un funcionario público se apropia de fondos públicos que percibe en razón del cargo.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t>
            </a:r>
            <a:r>
              <a:rPr b="1" lang="es-ES_tradnl" sz="2400" spc="-1" strike="noStrike">
                <a:solidFill>
                  <a:srgbClr val="000000"/>
                </a:solidFill>
                <a:latin typeface="Arial"/>
              </a:rPr>
              <a:t>Soborno</a:t>
            </a:r>
            <a:r>
              <a:rPr b="0" lang="es-ES_tradnl" sz="2400" spc="-1" strike="noStrike">
                <a:solidFill>
                  <a:srgbClr val="000000"/>
                </a:solidFill>
                <a:latin typeface="Arial"/>
              </a:rPr>
              <a:t>, es la hipótesis de Cohecho Activo del artículo 250 del Código Penal y dicho delito funcionario se configura en los casos en que el particular ofreciere o consintiere en dar al funcionario público un beneficio económico en provecho de éste o de un tercero para realizar alguna de las acciones u omisiones propias del Cohecho Pasivo en cualquiera de sus form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3. Los Magistrados de los Tribunales Superiores de Justicia (miembros de las Cortes de Apelaciones y de la Corte Suprema) por </a:t>
            </a:r>
            <a:r>
              <a:rPr b="1" lang="es-ES_tradnl" sz="2000" spc="-1" strike="noStrike">
                <a:solidFill>
                  <a:srgbClr val="000000"/>
                </a:solidFill>
                <a:latin typeface="Arial"/>
                <a:ea typeface="Times New Roman"/>
              </a:rPr>
              <a:t>notable abandono de sus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4. </a:t>
            </a:r>
            <a:r>
              <a:rPr b="1" lang="es-ES" sz="2000" spc="-1" strike="noStrike">
                <a:solidFill>
                  <a:srgbClr val="000000"/>
                </a:solidFill>
                <a:latin typeface="Arial"/>
                <a:ea typeface="Times New Roman"/>
              </a:rPr>
              <a:t>El Contralor General de la República</a:t>
            </a:r>
            <a:r>
              <a:rPr b="0" lang="es-ES" sz="2000" spc="-1" strike="noStrike">
                <a:solidFill>
                  <a:srgbClr val="000000"/>
                </a:solidFill>
                <a:latin typeface="Arial"/>
                <a:ea typeface="Times New Roman"/>
              </a:rPr>
              <a:t> por notable abandono de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Dejar, en grado digno de atención o cuidado, las obligaciones provenientes del cargo.</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Art. 5°, inc. 2° CPR</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5. </a:t>
            </a:r>
            <a:r>
              <a:rPr b="1" lang="es-ES" sz="2000" spc="-1" strike="noStrike">
                <a:solidFill>
                  <a:srgbClr val="000000"/>
                </a:solidFill>
                <a:latin typeface="Arial"/>
                <a:ea typeface="Times New Roman"/>
              </a:rPr>
              <a:t>Los Generales y Almirantes de las Fuerzas Armadas</a:t>
            </a:r>
            <a:r>
              <a:rPr b="0" lang="es-ES" sz="2000" spc="-1" strike="noStrike">
                <a:solidFill>
                  <a:srgbClr val="000000"/>
                </a:solidFill>
                <a:latin typeface="Arial"/>
                <a:ea typeface="Times New Roman"/>
              </a:rPr>
              <a:t> por haber comprometido gravemente el honor y la seguridad de la Nación.</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6. </a:t>
            </a:r>
            <a:r>
              <a:rPr b="1" lang="es-ES_tradnl" sz="2000" spc="-1" strike="noStrike">
                <a:solidFill>
                  <a:srgbClr val="000000"/>
                </a:solidFill>
                <a:latin typeface="Arial"/>
                <a:ea typeface="Times New Roman"/>
              </a:rPr>
              <a:t>Los Intendentes y Gobernadores</a:t>
            </a:r>
            <a:r>
              <a:rPr b="0" lang="es-ES_tradnl" sz="2000" spc="-1" strike="noStrike">
                <a:solidFill>
                  <a:srgbClr val="000000"/>
                </a:solidFill>
                <a:latin typeface="Arial"/>
                <a:ea typeface="Times New Roman"/>
              </a:rPr>
              <a:t> por: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 infracción de la Constitución;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b) por la comisión de delitos funcionarios: la traición, la sedición, la malversación de caudales públicos y la concusión.</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a:t>
            </a:r>
            <a:r>
              <a:rPr b="1" lang="es-ES_tradnl" sz="2000" spc="-1" strike="noStrike">
                <a:solidFill>
                  <a:srgbClr val="000000"/>
                </a:solidFill>
                <a:latin typeface="Arial"/>
                <a:ea typeface="Times New Roman"/>
              </a:rPr>
              <a:t>Sedición </a:t>
            </a:r>
            <a:r>
              <a:rPr b="0" lang="es-ES_tradnl" sz="2000" spc="-1" strike="noStrike">
                <a:solidFill>
                  <a:srgbClr val="000000"/>
                </a:solidFill>
                <a:latin typeface="Arial"/>
                <a:ea typeface="Times New Roman"/>
              </a:rPr>
              <a:t>estaba tipificada en la Constitución de 1925 como el alzamiento en contra de la Constitución. Hoy en día es un delito contemplado en el Código Pe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lo significa que, por ejemplo, no procede contra diputados o senadores, Fiscales regionales o Fiscal Nacional, Consejeros del Banco Central, Tribunal Calificador de Elecciones o Ministros del Tribunal Constitu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4"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cedimiento: Art. 37 al 46 LOC</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acusaciones deben deducirse por escrito y se tienen por presentadas a partir del momento en que se dé cuenta de ellas en la sesión más próxima que celebre la Cámara de Diputados.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dicha sesión además se elegirá, por sorteo y excluyendo a los diputados acusadores y a los miembros de la mesa, una comisión de cinco diputados destinada a informar si procede o no la acusación.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fectado tendrá un plazo de 10 días desde la notificación para presentar sus defensas, ya sea personalmente – concurriendo a la comisión  – o bien por escrito.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no se presentan defensas, igualmente se procederá en aus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6"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misión que se cree para este efecto tendrá un plazo de 6 días para estudiar la acusación y pronunciarse sobre ella.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orme que se remite a la Cámara.</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curridos los 6 días, y habiéndose presentado o no el informe a la Cámara, ésta sesionará diariamente para ocuparse de la acusación.</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Cuestión previa de admisibilidad </a:t>
            </a:r>
            <a:r>
              <a:rPr b="0" lang="es-ES_tradnl" sz="2800" spc="-1" strike="noStrike">
                <a:solidFill>
                  <a:srgbClr val="000000"/>
                </a:solidFill>
                <a:latin typeface="Arial"/>
              </a:rPr>
              <a:t>de palabra o por escrito.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acogerse la </a:t>
            </a:r>
            <a:r>
              <a:rPr b="0" i="1" lang="es-ES_tradnl" sz="2800" spc="-1" strike="noStrike">
                <a:solidFill>
                  <a:srgbClr val="000000"/>
                </a:solidFill>
                <a:latin typeface="Arial"/>
              </a:rPr>
              <a:t>cuestión previa </a:t>
            </a:r>
            <a:r>
              <a:rPr b="0" lang="es-ES_tradnl" sz="2800" spc="-1" strike="noStrike">
                <a:solidFill>
                  <a:srgbClr val="000000"/>
                </a:solidFill>
                <a:latin typeface="Arial"/>
              </a:rPr>
              <a:t>la acusación se entiende por no interpuesta. Si se desechare, no podrá renovarse la discusión acerca de la improcedencia de la acus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8"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0" algn="just">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ser desechada la cuestión previa o si no se dedujo, entonces se procederá del siguiente modo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 el informe de la comisión recomendara aprobar la acusación</a:t>
            </a:r>
            <a:r>
              <a:rPr b="0" lang="es-ES_tradnl" sz="2800" spc="-1" strike="noStrike">
                <a:solidFill>
                  <a:srgbClr val="000000"/>
                </a:solidFill>
                <a:latin typeface="Arial"/>
              </a:rPr>
              <a:t>: se dará la palabra al diputado que la mayoría de la comisión haya designado para sostenerla, y después se oirá al afectado, si estuviere presente, o se leerá la defensa presentada por és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10"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 el informe de la comisión recomendara el rechazo</a:t>
            </a:r>
            <a:r>
              <a:rPr b="0" lang="es-ES_tradnl" sz="2800" spc="-1" strike="noStrike">
                <a:solidFill>
                  <a:srgbClr val="000000"/>
                </a:solidFill>
                <a:latin typeface="Arial"/>
              </a:rPr>
              <a:t> : se da la palabra a un diputado que apoye la acusación y luego contestará el afectado, y si no lo hiciese, un partidario de que se rechace el libel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aprobarse la Acusación, el acusado quedará suspendido de sus funciones desde el momento en que la Cámara </a:t>
            </a:r>
            <a:r>
              <a:rPr b="1" lang="es-ES_tradnl" sz="2800" spc="-1" strike="noStrike">
                <a:solidFill>
                  <a:srgbClr val="000000"/>
                </a:solidFill>
                <a:latin typeface="Arial"/>
              </a:rPr>
              <a:t>declare que ha lugar la Acusación</a:t>
            </a:r>
            <a:r>
              <a:rPr b="0" lang="es-ES_tradnl" sz="2800" spc="-1" strike="noStrike">
                <a:solidFill>
                  <a:srgbClr val="000000"/>
                </a:solidFill>
                <a:latin typeface="Arial"/>
              </a:rPr>
              <a:t>. La suspensión cesará si el Senado desestima la Acusación o bien no se pronuncia dentro de 30 dí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que la Cámara de Diputados acoja la Acusación, ésta pasará al Senado.</a:t>
            </a:r>
            <a:endParaRPr b="0" lang="en-US" sz="2800" spc="-1" strike="noStrike">
              <a:solidFill>
                <a:srgbClr val="000000"/>
              </a:solidFill>
              <a:latin typeface="Arial"/>
            </a:endParaRPr>
          </a:p>
          <a:p>
            <a:pPr marL="343080" indent="0" algn="just">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77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s-ES_tradnl" sz="4000" spc="-1" strike="noStrike">
                <a:solidFill>
                  <a:srgbClr val="000000"/>
                </a:solidFill>
                <a:latin typeface="Arial"/>
              </a:rPr>
              <a:t>Atribuciones Exclusivas </a:t>
            </a:r>
            <a:br>
              <a:rPr sz="4000"/>
            </a:br>
            <a:br>
              <a:rPr sz="4000"/>
            </a:br>
            <a:r>
              <a:rPr b="1" lang="es-ES_tradnl" sz="4000" spc="-1" strike="noStrike">
                <a:solidFill>
                  <a:srgbClr val="000000"/>
                </a:solidFill>
                <a:latin typeface="Arial"/>
              </a:rPr>
              <a:t>Art. 53 de la CPR</a:t>
            </a:r>
            <a:endParaRPr b="0" lang="en-US" sz="4000" spc="-1" strike="noStrike">
              <a:solidFill>
                <a:srgbClr val="000000"/>
              </a:solidFill>
              <a:latin typeface="Arial"/>
            </a:endParaRPr>
          </a:p>
        </p:txBody>
      </p:sp>
      <p:pic>
        <p:nvPicPr>
          <p:cNvPr id="112" name="" descr=""/>
          <p:cNvPicPr/>
          <p:nvPr/>
        </p:nvPicPr>
        <p:blipFill>
          <a:blip r:embed="rId1"/>
          <a:srcRect l="17015" t="31038" r="42734" b="55256"/>
          <a:stretch/>
        </p:blipFill>
        <p:spPr>
          <a:xfrm>
            <a:off x="-468360" y="0"/>
            <a:ext cx="9612360" cy="141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4"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1.</a:t>
            </a:r>
            <a:r>
              <a:rPr b="1" lang="es-ES_tradnl" sz="3200" spc="-1" strike="noStrike">
                <a:solidFill>
                  <a:srgbClr val="000000"/>
                </a:solidFill>
                <a:latin typeface="Arial"/>
              </a:rPr>
              <a:t>	</a:t>
            </a:r>
            <a:r>
              <a:rPr b="1" lang="es-ES_tradnl" sz="3200" spc="-1" strike="noStrike">
                <a:solidFill>
                  <a:srgbClr val="000000"/>
                </a:solidFill>
                <a:latin typeface="Arial"/>
              </a:rPr>
              <a:t>Pronunciamiento sobre la acusación Constitu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ámara deberá comunicar al Senado y al afectado dentro de las 24 horas siguientes de la respectiva sesión (artículo 46 inciso 3° de la ley N° 18.91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Senado procederá a fijar una fecha para comenzar a tratarl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9640" y="260280"/>
            <a:ext cx="3745080" cy="3384720"/>
          </a:xfrm>
          <a:prstGeom prst="rect">
            <a:avLst/>
          </a:prstGeom>
          <a:ln w="0">
            <a:noFill/>
          </a:ln>
        </p:spPr>
      </p:pic>
      <p:sp>
        <p:nvSpPr>
          <p:cNvPr id="48" name="PlaceHolder 1"/>
          <p:cNvSpPr>
            <a:spLocks noGrp="1"/>
          </p:cNvSpPr>
          <p:nvPr>
            <p:ph type="title"/>
          </p:nvPr>
        </p:nvSpPr>
        <p:spPr>
          <a:xfrm>
            <a:off x="2987280" y="27432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es relevante </a:t>
            </a:r>
            <a:br>
              <a:rPr sz="4000"/>
            </a:br>
            <a:r>
              <a:rPr b="0" lang="es-CL" sz="4000" spc="-1" strike="noStrike">
                <a:solidFill>
                  <a:srgbClr val="000000"/>
                </a:solidFill>
                <a:latin typeface="Arial"/>
              </a:rPr>
              <a:t>el Congreso?</a:t>
            </a:r>
            <a:endParaRPr b="0" lang="en-US" sz="4000" spc="-1" strike="noStrike">
              <a:solidFill>
                <a:srgbClr val="000000"/>
              </a:solidFill>
              <a:latin typeface="Arial"/>
            </a:endParaRPr>
          </a:p>
        </p:txBody>
      </p:sp>
      <p:sp>
        <p:nvSpPr>
          <p:cNvPr id="49" name="PlaceHolder 2"/>
          <p:cNvSpPr>
            <a:spLocks noGrp="1"/>
          </p:cNvSpPr>
          <p:nvPr>
            <p:ph/>
          </p:nvPr>
        </p:nvSpPr>
        <p:spPr>
          <a:xfrm>
            <a:off x="4643280" y="1600200"/>
            <a:ext cx="4043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ibe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mocracia</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4221000"/>
            <a:ext cx="8064360" cy="219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6"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a:bodyPr>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 respectiva sesión, el Senado citará tanto al acusado como a la comisión de diputados designada para formalizar y proseguir la acusación en cada una de las sesiones de la cámara alta que se celebraren para conocer de ella (art. 49).</a:t>
            </a:r>
            <a:endParaRPr b="0" lang="en-US" sz="2800" spc="-1" strike="noStrike">
              <a:solidFill>
                <a:srgbClr val="000000"/>
              </a:solidFill>
              <a:latin typeface="Arial"/>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dicha sesión, en primer lugar, la comisión de diputados procederá a formalizar la acusación. A continuación, el acusado procederá a su defensa, ya sea hablando personalmente o bien leyéndose su defensa escrita. El acusado puede hacerse representar por un abogado (art.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8"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éplica y Dúplica del acusado. Cumplido con aquello, el Presidente del Senado anuncia que la votación se tendrá lugar la próxima ses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 sesión, el Senado procederá a votar la Acusa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a se votará por separado, es decir, se votará cada hecho o “capítulo” que de acuerdo a lo señalado por la Cámara de Diputados constituya cada uno de los delitos, infracciones o abusos de poder que motivan el libelo acusatorio. ( art. 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enado, al resolver como jurado, se limitará a declarar </a:t>
            </a:r>
            <a:r>
              <a:rPr b="1" lang="es-ES_tradnl" sz="2800" spc="-1" strike="noStrike">
                <a:solidFill>
                  <a:srgbClr val="000000"/>
                </a:solidFill>
                <a:latin typeface="Arial"/>
              </a:rPr>
              <a:t>si el acusado es o no culpable de cada uno de los capítulos que motivan la acusación</a:t>
            </a:r>
            <a:r>
              <a:rPr b="0" lang="es-ES_tradnl" sz="2800" spc="-1" strike="noStrike">
                <a:solidFill>
                  <a:srgbClr val="000000"/>
                </a:solidFill>
                <a:latin typeface="Arial"/>
              </a:rPr>
              <a:t> ( artículo 53 N° 1, inciso 2° de la Constitu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20"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Quórums para la votación </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ea typeface="Times New Roman"/>
              </a:rPr>
              <a:t>Acusaciones constitucionales dirigidas en contra del Presidente de la República</a:t>
            </a:r>
            <a:r>
              <a:rPr b="0" lang="es-ES_tradnl" sz="2800" spc="-1" strike="noStrike">
                <a:solidFill>
                  <a:srgbClr val="000000"/>
                </a:solidFill>
                <a:latin typeface="Arial"/>
                <a:ea typeface="Times New Roman"/>
              </a:rPr>
              <a:t>: se requiere del voto favorable de 2/3 de los senadores en ejercici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ea typeface="Times New Roman"/>
              </a:rPr>
              <a:t>Acusaciones constitucionales dirigidas en contra de los demás sujetos pasivos</a:t>
            </a:r>
            <a:r>
              <a:rPr b="0" lang="es-ES_tradnl" sz="2800" spc="-1" strike="noStrike">
                <a:solidFill>
                  <a:srgbClr val="000000"/>
                </a:solidFill>
                <a:latin typeface="Arial"/>
                <a:ea typeface="Times New Roman"/>
              </a:rPr>
              <a:t>: la Constitución es menos exigente; solamente requiere del voto favorable de la mayoría simple de los senadores en ejercicio.</a:t>
            </a: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22"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a:t>
            </a:r>
            <a:r>
              <a:rPr b="1" lang="es-ES_tradnl" sz="2800" spc="-1" strike="noStrike">
                <a:solidFill>
                  <a:srgbClr val="000000"/>
                </a:solidFill>
                <a:latin typeface="Arial"/>
              </a:rPr>
              <a:t>	</a:t>
            </a:r>
            <a:r>
              <a:rPr b="1" lang="es-ES_tradnl" sz="2800" spc="-1" strike="noStrike">
                <a:solidFill>
                  <a:srgbClr val="000000"/>
                </a:solidFill>
                <a:latin typeface="Arial"/>
              </a:rPr>
              <a:t>Efectos de la aprobación de una Acusación Constitucional.</a:t>
            </a:r>
            <a:endParaRPr b="0" lang="en-US" sz="2800" spc="-1" strike="noStrike">
              <a:solidFill>
                <a:srgbClr val="000000"/>
              </a:solidFill>
              <a:latin typeface="Arial"/>
            </a:endParaRPr>
          </a:p>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Una vez votada la acusación, su resultado deberá comunicarse al acusado, a la Cámara de Diputados y, según corresponda, al Presidente de la República, a la Corte Suprema o al Contralor General (art. 52); </a:t>
            </a:r>
            <a:endParaRPr b="0" lang="en-US" sz="2800" spc="-1" strike="noStrike">
              <a:solidFill>
                <a:srgbClr val="000000"/>
              </a:solidFill>
              <a:latin typeface="Arial"/>
            </a:endParaRPr>
          </a:p>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i. En caso de ser aprobada la Acusación, los antecedentes deberán remitirse al tribunal ordinario competente (art. 52). </a:t>
            </a:r>
            <a:endParaRPr b="0" lang="en-US" sz="2800" spc="-1" strike="noStrike">
              <a:solidFill>
                <a:srgbClr val="000000"/>
              </a:solidFill>
              <a:latin typeface="Arial"/>
            </a:endParaRPr>
          </a:p>
          <a:p>
            <a:pPr marL="49536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cho tribunal deberá juzgar al acusado  en conformidad a la ley, para poder determinar judicialmente la existencia o no del delito e imponer la correspondiente pena, si es que lo hubiere.</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24"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fontScale="98000"/>
          </a:bodyPr>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o sin perjuicio de que aquel tribunal deberá también determinar la magnitud de los daños y perjuicios que su conducta acarreó al Estado o a los particulares, con la finalidad de hacer efectiva su responsabilidad civil ( artículo 49 N° 1, inciso 5° ); </a:t>
            </a:r>
            <a:endParaRPr b="0" lang="en-US" sz="2800" spc="-1" strike="noStrike">
              <a:solidFill>
                <a:srgbClr val="000000"/>
              </a:solidFill>
              <a:latin typeface="Arial"/>
            </a:endParaRPr>
          </a:p>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ser aprobada la Acusación, el acusado queda inmediatamente destituido del cargo que desempeña ( artículo 49 N° 1, inciso 4° ); </a:t>
            </a:r>
            <a:endParaRPr b="0" lang="en-US" sz="2800" spc="-1" strike="noStrike">
              <a:solidFill>
                <a:srgbClr val="000000"/>
              </a:solidFill>
              <a:latin typeface="Arial"/>
            </a:endParaRPr>
          </a:p>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último, si se aprueba la Acusación, el acusado quedará inhabilitado para desempeñar cualquier función pública- sea o no de elección popular- por el término de 5 años ( artículo 49 N° 1, inciso 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a:t>
            </a:r>
            <a:r>
              <a:rPr b="1" lang="es-ES_tradnl" sz="2400" spc="-1" strike="noStrike">
                <a:solidFill>
                  <a:srgbClr val="000000"/>
                </a:solidFill>
                <a:latin typeface="Arial"/>
              </a:rPr>
              <a:t>	</a:t>
            </a:r>
            <a:r>
              <a:rPr b="1" lang="es-ES_tradnl" sz="2400" spc="-1" strike="noStrike">
                <a:solidFill>
                  <a:srgbClr val="000000"/>
                </a:solidFill>
                <a:latin typeface="Arial"/>
              </a:rPr>
              <a:t>Declarar la admisibilidad de las acciones judiciales dirigidas contra un Ministro de Estado</a:t>
            </a:r>
            <a:endParaRPr b="0" lang="en-US" sz="2400" spc="-1" strike="noStrike">
              <a:solidFill>
                <a:srgbClr val="000000"/>
              </a:solidFill>
              <a:latin typeface="Arial"/>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inistros de Estado responden civilmente por los actos que desempeñen en el ejercicio de su cargo y que ocasionen injustamente algún perjuicio a cualquier persona.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con anterioridad a la interposición de cualquier demanda, se requiere que el Senado resuelva si es o no admisible la demanda que se quiere entablar ante el tribunal ordinario correspondiente (artículo 53 n° 2).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tanto, los requisitos para que proceda una acción civil en contra de un Ministro de Estado s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a:t>
            </a:r>
            <a:r>
              <a:rPr b="1" lang="es-ES_tradnl" sz="2000" spc="-1" strike="noStrike">
                <a:solidFill>
                  <a:srgbClr val="000000"/>
                </a:solidFill>
                <a:latin typeface="Arial"/>
              </a:rPr>
              <a:t>	</a:t>
            </a:r>
            <a:r>
              <a:rPr b="1" lang="es-ES_tradnl" sz="2000" spc="-1" strike="noStrike">
                <a:solidFill>
                  <a:srgbClr val="000000"/>
                </a:solidFill>
                <a:latin typeface="Arial"/>
              </a:rPr>
              <a:t>Declarar la admisibilidad de las acciones judiciales dirigidas contra un Ministro de Estado</a:t>
            </a:r>
            <a:endParaRPr b="0" lang="en-US" sz="2000" spc="-1" strike="noStrike">
              <a:solidFill>
                <a:srgbClr val="000000"/>
              </a:solidFill>
              <a:latin typeface="Arial"/>
            </a:endParaRPr>
          </a:p>
          <a:p>
            <a:pPr marL="3430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 Que exista algún </a:t>
            </a:r>
            <a:r>
              <a:rPr b="1" lang="es-ES_tradnl" sz="2000" spc="-1" strike="noStrike">
                <a:solidFill>
                  <a:srgbClr val="000000"/>
                </a:solidFill>
                <a:latin typeface="Arial"/>
              </a:rPr>
              <a:t>hecho (acto u omisión)</a:t>
            </a:r>
            <a:r>
              <a:rPr b="0" lang="es-ES_tradnl" sz="2000" spc="-1" strike="noStrike">
                <a:solidFill>
                  <a:srgbClr val="000000"/>
                </a:solidFill>
                <a:latin typeface="Arial"/>
              </a:rPr>
              <a:t> ejecutado por un Ministro de Estado en el desempeño de su cargo y que le </a:t>
            </a:r>
            <a:r>
              <a:rPr b="1" lang="es-ES_tradnl" sz="2000" spc="-1" strike="noStrike">
                <a:solidFill>
                  <a:srgbClr val="000000"/>
                </a:solidFill>
                <a:latin typeface="Arial"/>
              </a:rPr>
              <a:t>genere responsabilidad</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i. Que dicho hecho o </a:t>
            </a:r>
            <a:r>
              <a:rPr b="1" lang="es-ES_tradnl" sz="2000" spc="-1" strike="noStrike">
                <a:solidFill>
                  <a:srgbClr val="000000"/>
                </a:solidFill>
                <a:latin typeface="Arial"/>
              </a:rPr>
              <a:t>acto ha irrogado un perjuicio</a:t>
            </a:r>
            <a:r>
              <a:rPr b="0" lang="es-ES_tradnl" sz="2000" spc="-1" strike="noStrike">
                <a:solidFill>
                  <a:srgbClr val="000000"/>
                </a:solidFill>
                <a:latin typeface="Arial"/>
              </a:rPr>
              <a:t> a una persona;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ii. Que el perjuicio se haya </a:t>
            </a:r>
            <a:r>
              <a:rPr b="1" lang="es-ES_tradnl" sz="2000" spc="-1" strike="noStrike">
                <a:solidFill>
                  <a:srgbClr val="000000"/>
                </a:solidFill>
                <a:latin typeface="Arial"/>
              </a:rPr>
              <a:t>irrogado injustamente</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nado resolverá si la demanda debe ser acogida o rechazada; si se considera que debe ser acogida, entonces. según Nogueira, el tribunal sólo fallará la demanda de perjuicios.</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busca impedir el ejercicio injustificado de acciones civiles en contra de los Ministros de Estado, interpuestos en su contra con la finalidad de afectarlos en el cumplimiento de las funciones que le son prop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Conocer de Contiendas de Competencia.</a:t>
            </a:r>
            <a:endParaRPr b="0" lang="en-US" sz="2800" spc="-1" strike="noStrike">
              <a:solidFill>
                <a:srgbClr val="000000"/>
              </a:solidFill>
              <a:latin typeface="Arial"/>
            </a:endParaRPr>
          </a:p>
          <a:p>
            <a:pPr marL="31896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caso de que surja una contienda de competencia entre las autoridades políticas o administrativas y los tribunales superiores de justicia- es decir, las Cortes de Apelaciones, las Cortes Marciales o la Corte Suprema- deberán ser conocidas y resueltas por el Senado (artículo 53 N°3 ).</a:t>
            </a:r>
            <a:endParaRPr b="0" lang="en-US" sz="2800" spc="-1" strike="noStrike">
              <a:solidFill>
                <a:srgbClr val="000000"/>
              </a:solidFill>
              <a:latin typeface="Arial"/>
            </a:endParaRPr>
          </a:p>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contienda de competencia es “</a:t>
            </a:r>
            <a:r>
              <a:rPr b="0" i="1" lang="es-ES" sz="2800" spc="-1" strike="noStrike">
                <a:solidFill>
                  <a:srgbClr val="000000"/>
                </a:solidFill>
                <a:latin typeface="Arial"/>
              </a:rPr>
              <a:t>una disputa promovida entre dos autoridades o tribunales en razón de que ambos consideran que carecen o tienen competencias suficientes para resolver determinado asunto o materia</a:t>
            </a:r>
            <a:r>
              <a:rPr b="0" lang="es-ES" sz="2800" spc="-1" strike="noStrike">
                <a:solidFill>
                  <a:srgbClr val="000000"/>
                </a:solidFill>
                <a:latin typeface="Arial"/>
              </a:rPr>
              <a:t>”.</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onocer de Contiendas de Competencia.</a:t>
            </a:r>
            <a:endParaRPr b="0" lang="en-US" sz="2400" spc="-1" strike="noStrike">
              <a:solidFill>
                <a:srgbClr val="000000"/>
              </a:solidFill>
              <a:latin typeface="Arial"/>
            </a:endParaRPr>
          </a:p>
          <a:p>
            <a:pPr marL="33264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jemplo de ello fue la contienda de competencia surgida entre Contraloría General de la República- órgano administrativo- y la Corte de Apelaciones de Santiago, en torno al trámite de “Toma de Razón”. </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aloría alegaba que era su atribución exclusiva el tomar razón de los actos administrativos y, por tanto, no procedía ningún recurso judicial en contra de ese acto</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rte de Apelaciones de Santiago se opuso, fundándose en sus atribuciones para conocer de todas las causas que se promovieran en el orden de lo temporal. </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tralor interpuso una contienda de competencia ante el Senado, el que falló en su favor el año 1998.</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Otorgar la Rehabilitación de la Ciudadanía.</a:t>
            </a:r>
            <a:endParaRPr b="0" lang="en-US" sz="2400" spc="-1" strike="noStrike">
              <a:solidFill>
                <a:srgbClr val="000000"/>
              </a:solidFill>
              <a:latin typeface="Arial"/>
            </a:endParaRPr>
          </a:p>
          <a:p>
            <a:pPr marL="3358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rtículo 17, N° 2° de la Constitución establece como causal de pérdida de la ciudadanía- lo que en la práctica se traduce en la imposibilidad de votar o de acceder a un cargo de elección popular- la condena por pena aflictiva.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tablece la posibilidad de que las personas que se vean afectadas por dicha causal puedan recuperar la ciudadanía.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lo requieren de una declaración de “Rehabilitación” efectuada por el Senado (artículos 17 inciso 2° y 53 </a:t>
            </a:r>
            <a:r>
              <a:rPr b="1" lang="es-ES_tradnl" sz="2400" spc="-1" strike="noStrike">
                <a:solidFill>
                  <a:srgbClr val="000000"/>
                </a:solidFill>
                <a:latin typeface="Arial"/>
              </a:rPr>
              <a:t>N</a:t>
            </a:r>
            <a:r>
              <a:rPr b="0" lang="es-ES_tradnl" sz="2400" spc="-1" strike="noStrike">
                <a:solidFill>
                  <a:srgbClr val="000000"/>
                </a:solidFill>
                <a:latin typeface="Arial"/>
              </a:rPr>
              <a:t>° 4°).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xige como requisito previo a esta declaración, la extinción de la responsabilidad penal del afectado.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4920" y="1341000"/>
            <a:ext cx="6419880" cy="521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46 y ss. C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N° 18.918, Orgánica Constitucional del Congreso Nacional.</a:t>
            </a:r>
            <a:endParaRPr b="0" lang="en-US" sz="3200" spc="-1" strike="noStrike">
              <a:solidFill>
                <a:srgbClr val="000000"/>
              </a:solidFill>
              <a:latin typeface="Arial"/>
            </a:endParaRPr>
          </a:p>
        </p:txBody>
      </p:sp>
      <p:pic>
        <p:nvPicPr>
          <p:cNvPr id="52" name="" descr="">
            <a:hlinkClick r:id="rId1"/>
          </p:cNvPr>
          <p:cNvPicPr/>
          <p:nvPr/>
        </p:nvPicPr>
        <p:blipFill>
          <a:blip r:embed="rId2"/>
          <a:stretch/>
        </p:blipFill>
        <p:spPr>
          <a:xfrm>
            <a:off x="6443640" y="1484280"/>
            <a:ext cx="2305080" cy="338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a:t>
            </a:r>
            <a:r>
              <a:rPr b="1" lang="en-US" sz="2800" spc="-1" strike="noStrike">
                <a:solidFill>
                  <a:srgbClr val="000000"/>
                </a:solidFill>
                <a:latin typeface="Arial"/>
              </a:rPr>
              <a:t>	</a:t>
            </a:r>
            <a:r>
              <a:rPr b="1" lang="en-US" sz="2800" spc="-1" strike="noStrike">
                <a:solidFill>
                  <a:srgbClr val="000000"/>
                </a:solidFill>
                <a:latin typeface="Arial"/>
              </a:rPr>
              <a:t>Otorgar su acuerdo para que el Presidente de la República se ausente del país por más de 30 días o bien durante los últimos noventa días de su mandato (artículo 53 N° 6° ) ;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Declarar la Inhabilidad del Presidente de la República o del Presidente Electo</a:t>
            </a:r>
            <a:endParaRPr b="0" lang="en-US" sz="2400" spc="-1" strike="noStrike">
              <a:solidFill>
                <a:srgbClr val="000000"/>
              </a:solidFill>
              <a:latin typeface="Arial"/>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itución señala dos situaciones de Inhabilidad: la del Presidente Electo y la del Presidente de la República.</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impedimento es transitorio, asumirá mientras tanto como Vicepresidente de la República el Presidente del Senado (artículo 28 inciso 1°).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impedimento es absoluto o bien debiera durar indefinidamente, y es de carácter físico o mental, el Senado deberá proceder a declarar su Inhabilidad, debiendo oír previamente al Tribunal Constitucional ( artículo 53 N°7 ).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ez días después del acuerdo que declara la inhabilidad del Presidente electo, se procederá a una nueva elección ( artículo 28 inciso 2°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Declarar la Inhabilidad del Presidente de la República o del Presidente Elec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aso de que el Presidente de la República, ya estando en posesión de su cargo, se viera afectado por una Inhabilidad física o mental de carácter absoluta, ella deberá ser declarada por el Senado, debiendo oír previamente al Tribunal Constitucional ( artículo 53 N° 7°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vez declarado vacante el cargo, asumirá como Vicepresidente de la República el Ministro del Interior ( artículo 29 ), quien se encargará de proceder a elegir el sucesor de acuerdo a las normas constitucionales correspondientes.</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Aceptar o rechazar la Renuncia del Presidente de la República a su carg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ntro de nuestro ordenamiento constitucional existe la posibilidad de que el Presidente de la República dimita, es decir, renuncie a su alta investidu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dicha renuncia se exige que sea funda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órgano que le corresponde decidir acerca si es fundada o no la dimisión es al Senado, el que admitirá o desechará la renuncia según corresponda ( artículo 53 N°7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todo caso, previa a cualquier decisión, el Senado deberá oír al Tribunal Constitucion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9.- Aprobación de designaciones en materia judicial.</a:t>
            </a:r>
            <a:r>
              <a:rPr b="1"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itución establece, en primer lugar, un sistema de designación de Ministros y Fiscales Judiciales de Corte Suprema.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opera del modo siguiente: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opia Corte Suprema propondrá una nómina de 5 personas –una quina- para ocupar dichos cargo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continuación, el Presidente de la República deberá elegir un nombre entre los miembros de esa quina. </a:t>
            </a:r>
            <a:endParaRPr b="0" lang="en-US" sz="24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para poder confirmar dicho nombramiento, se requiere que el Senado preste su acuerdo respecto de la persona designada (artículos 53 N°8 y 78 inciso 3°).</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9.- Aprobación de designaciones en materia judicial.</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probación que otorgue el Senado -en ambos casos- deberá realizarse en una sesión especial convocada para ese efecto y deberá contar con el voto favorable de al menos los  2/3 de los senadores en ejercicio.</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0. Dar su dictamen al Presidente de la República en los casos en que éste lo solicite (artículo 53 N°10).</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Consejero”</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ulta debe ser hecha normalmente a través de un oficio suscrito por el Presidente de la República. </a:t>
            </a: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sí, de manera excepcional y a iniciativa del Presidente de la República, el Senado actúa de un modo consultivo.</a:t>
            </a: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1. El Senado y los Nombramientos de Otros órganos del Estado.</a:t>
            </a:r>
            <a:endParaRPr b="0" lang="en-US" sz="2400" spc="-1" strike="noStrike">
              <a:solidFill>
                <a:srgbClr val="000000"/>
              </a:solidFill>
              <a:latin typeface="Arial"/>
            </a:endParaRPr>
          </a:p>
          <a:p>
            <a:pPr marL="32580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enado tiene participación en el Consejo de Seguridad Nacional por medio de su Presidente, quien lo integra, teniendo derecho a voz y voto en él (artículo 106).</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al Senado corresponde el elegir dos Ministros para que integren el Tribunal Constitucional. Esta designación debe efectuarse por medio de la mayoría absoluta de los senadores en ejercicio ( artículo 81 letra 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existe una serie de cargos públicos cuya designación corresponde al Presidente de la República, pero en los que interviene el Senado, en cuanto se requiere de su a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1. El Senado y los Nombramientos de Otros órganos del Estado.</a:t>
            </a:r>
            <a:endParaRPr b="0" lang="en-US" sz="2000" spc="-1" strike="noStrike">
              <a:solidFill>
                <a:srgbClr val="000000"/>
              </a:solidFill>
              <a:latin typeface="Arial"/>
            </a:endParaRPr>
          </a:p>
          <a:p>
            <a:pPr marL="3430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casos se exige la mayoría simple de sus miembros en ejercicio; hay otros en que el quórum es más alto.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s cargos son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alor General de la República (artículo 98 inciso 2°), por los 3/5 de sus miembros;</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nsejeros del Banco Central ( ley N° 18.840 Orgánica Constitucional del Banco Central de Chile )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Director del Registro Electoral (Ley N° 18.556 Orgánica Constitucional sobre Sistema de Inscripciones Electorales y Servicio Electoral);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nsejeros del Consejo Nacional de Televisión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Directores de Televisión Nacion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ciones exclusivas del Congres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54 CPR</a:t>
            </a:r>
            <a:endParaRPr b="0" lang="en-US" sz="3200" spc="-1" strike="noStrike">
              <a:solidFill>
                <a:srgbClr val="000000"/>
              </a:solidFill>
              <a:latin typeface="Arial"/>
            </a:endParaRPr>
          </a:p>
        </p:txBody>
      </p:sp>
      <p:pic>
        <p:nvPicPr>
          <p:cNvPr id="55" name="" descr=""/>
          <p:cNvPicPr/>
          <p:nvPr/>
        </p:nvPicPr>
        <p:blipFill>
          <a:blip r:embed="rId1"/>
          <a:stretch/>
        </p:blipFill>
        <p:spPr>
          <a:xfrm>
            <a:off x="684360" y="2781360"/>
            <a:ext cx="770400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ciones exclusivas del Congreso</a:t>
            </a:r>
            <a:endParaRPr b="0" lang="en-US" sz="4000" spc="-1" strike="noStrike">
              <a:solidFill>
                <a:srgbClr val="000000"/>
              </a:solidFill>
              <a:latin typeface="Arial"/>
            </a:endParaRPr>
          </a:p>
        </p:txBody>
      </p:sp>
      <p:sp>
        <p:nvSpPr>
          <p:cNvPr id="57" name="PlaceHolder 2"/>
          <p:cNvSpPr>
            <a:spLocks noGrp="1"/>
          </p:cNvSpPr>
          <p:nvPr>
            <p:ph/>
          </p:nvPr>
        </p:nvSpPr>
        <p:spPr>
          <a:xfrm>
            <a:off x="456840" y="1600200"/>
            <a:ext cx="5699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probar o desechar tratados intern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nunciarse respecto de los estados de excepción constitucional.</a:t>
            </a:r>
            <a:endParaRPr b="0" lang="en-US" sz="3200" spc="-1" strike="noStrike">
              <a:solidFill>
                <a:srgbClr val="000000"/>
              </a:solidFill>
              <a:latin typeface="Arial"/>
            </a:endParaRPr>
          </a:p>
        </p:txBody>
      </p:sp>
      <p:pic>
        <p:nvPicPr>
          <p:cNvPr id="58" name="" descr=""/>
          <p:cNvPicPr/>
          <p:nvPr/>
        </p:nvPicPr>
        <p:blipFill>
          <a:blip r:embed="rId1"/>
          <a:stretch/>
        </p:blipFill>
        <p:spPr>
          <a:xfrm>
            <a:off x="6516720" y="2421000"/>
            <a:ext cx="2117520" cy="2736720"/>
          </a:xfrm>
          <a:prstGeom prst="rect">
            <a:avLst/>
          </a:prstGeom>
          <a:ln w="0">
            <a:noFill/>
          </a:ln>
        </p:spPr>
      </p:pic>
      <p:pic>
        <p:nvPicPr>
          <p:cNvPr id="59" name="" descr="">
            <a:hlinkClick r:id="rId2"/>
          </p:cNvPr>
          <p:cNvPicPr/>
          <p:nvPr/>
        </p:nvPicPr>
        <p:blipFill>
          <a:blip r:embed="rId3"/>
          <a:stretch/>
        </p:blipFill>
        <p:spPr>
          <a:xfrm>
            <a:off x="1908000" y="4508640"/>
            <a:ext cx="280836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Aprobar o desechar tratados internacionales.</a:t>
            </a:r>
            <a:endParaRPr b="0" lang="en-US" sz="4000" spc="-1" strike="noStrike">
              <a:solidFill>
                <a:srgbClr val="000000"/>
              </a:solidFill>
              <a:latin typeface="Arial"/>
            </a:endParaRPr>
          </a:p>
        </p:txBody>
      </p:sp>
      <p:sp>
        <p:nvSpPr>
          <p:cNvPr id="61" name="PlaceHolder 2"/>
          <p:cNvSpPr>
            <a:spLocks noGrp="1"/>
          </p:cNvSpPr>
          <p:nvPr>
            <p:ph/>
          </p:nvPr>
        </p:nvSpPr>
        <p:spPr>
          <a:xfrm>
            <a:off x="250560" y="2060640"/>
            <a:ext cx="7786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ó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de inform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erv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uerdos en forma simplifica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rogación, modificación o suspensión de los tra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uncia o Retiro de un Trata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ida publicidad sobre los Tra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ol Preventivo ante el Tribunal Constitucional</a:t>
            </a:r>
            <a:r>
              <a:rPr b="0" lang="es-ES" sz="2400" spc="-1" strike="noStrike">
                <a:solidFill>
                  <a:srgbClr val="333399"/>
                </a:solidFill>
                <a:latin typeface="Arial"/>
              </a:rPr>
              <a:t>.</a:t>
            </a:r>
            <a:endParaRPr b="0" lang="en-US" sz="2400" spc="-1" strike="noStrike">
              <a:solidFill>
                <a:srgbClr val="000000"/>
              </a:solidFill>
              <a:latin typeface="Arial"/>
            </a:endParaRPr>
          </a:p>
        </p:txBody>
      </p:sp>
      <p:pic>
        <p:nvPicPr>
          <p:cNvPr id="62" name="" descr=""/>
          <p:cNvPicPr/>
          <p:nvPr/>
        </p:nvPicPr>
        <p:blipFill>
          <a:blip r:embed="rId1"/>
          <a:stretch/>
        </p:blipFill>
        <p:spPr>
          <a:xfrm>
            <a:off x="5651640" y="1125360"/>
            <a:ext cx="3168360" cy="251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stados de excepción constitucional.</a:t>
            </a:r>
            <a:endParaRPr b="0" lang="en-US" sz="3600" spc="-1" strike="noStrike">
              <a:solidFill>
                <a:srgbClr val="000000"/>
              </a:solidFill>
              <a:latin typeface="Arial"/>
            </a:endParaRPr>
          </a:p>
        </p:txBody>
      </p:sp>
      <p:sp>
        <p:nvSpPr>
          <p:cNvPr id="64" name="PlaceHolder 2"/>
          <p:cNvSpPr>
            <a:spLocks noGrp="1"/>
          </p:cNvSpPr>
          <p:nvPr>
            <p:ph/>
          </p:nvPr>
        </p:nvSpPr>
        <p:spPr>
          <a:xfrm>
            <a:off x="457200" y="2060280"/>
            <a:ext cx="5410080" cy="406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Asamblea (guerra exterior) y Estado de Sitio (guerra interna o grave conmoción interi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Catástrofe (calamidad públ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Emergencia (grave alteración del orden público o grave daño para la seguridad de la Nación).</a:t>
            </a:r>
            <a:endParaRPr b="0" lang="en-US" sz="2400" spc="-1" strike="noStrike">
              <a:solidFill>
                <a:srgbClr val="000000"/>
              </a:solidFill>
              <a:latin typeface="Arial"/>
            </a:endParaRPr>
          </a:p>
        </p:txBody>
      </p:sp>
      <p:pic>
        <p:nvPicPr>
          <p:cNvPr id="65" name="" descr=""/>
          <p:cNvPicPr/>
          <p:nvPr/>
        </p:nvPicPr>
        <p:blipFill>
          <a:blip r:embed="rId1"/>
          <a:stretch/>
        </p:blipFill>
        <p:spPr>
          <a:xfrm>
            <a:off x="6012000" y="1700280"/>
            <a:ext cx="2881080" cy="36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94920" y="2565000"/>
            <a:ext cx="7643880" cy="39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ribuciones exclusivas de la Cámara de Diputados</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iscalizar los actos del Gobiern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clarar si ha lugar o no a la acusación constitucional en contra de determinadas autoridades públic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rcRect l="2133" t="16909" r="38504" b="65630"/>
          <a:stretch/>
        </p:blipFill>
        <p:spPr>
          <a:xfrm>
            <a:off x="0" y="-316080"/>
            <a:ext cx="914400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2:23:26Z</dcterms:created>
  <dc:creator>Elías Guzmán Silva</dc:creator>
  <dc:description/>
  <dc:language>en-US</dc:language>
  <cp:lastModifiedBy>CGR</cp:lastModifiedBy>
  <dcterms:modified xsi:type="dcterms:W3CDTF">2009-10-09T14:05:18Z</dcterms:modified>
  <cp:revision>13</cp:revision>
  <dc:subject/>
  <dc:title>CONGRESO NACIONAL</dc:title>
</cp:coreProperties>
</file>