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0E8E6-DB1B-4908-A628-766A2611E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C92A1-146D-4623-8387-7D028A3DD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60EA5-5167-460F-A905-2B2C5A771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95F16-36DE-4A3B-9C04-7B927066A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7A0B4-9744-403C-9D8A-6D8F7C1AB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036D5-6DE7-4371-9122-125FDC193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FC6D7-DDDE-4937-A8F6-E3CB8153A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04412-F082-4A88-8039-9C7BCF844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906E3-DB31-4F48-A836-E72F7D647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CED42-9110-4270-8A6E-4CE42BEAA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074EC-9C5A-4598-9A12-9F7E16109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DB988-2B40-4B96-A894-8C2203417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B67E-D2B9-4326-8206-96BED87F6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l/imgres?imgurl=http://3.bp.blogspot.com/_gOoAoGSFHqk/RlRt0FcQKPI/AAAAAAAAALE/PNYxjz2TNBI/s320/Pregunta.gif&amp;imgrefurl=http://mariale-divagando.blogspot.com/2009_03_01_archive.html&amp;usg=__kPVij78QciEkcRzknLOfKJ4VF7g=&amp;h=248&amp;w=248&amp;sz=2&amp;hl=es&amp;start=2&amp;tbnid=Ve4tHNVzXVzx3M:&amp;tbnh=111&amp;tbnw=111&amp;prev=/images%3Fq%3Dpregunta%26gbv%3D2%26hl%3Des"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l/imgres?imgurl=http://www.jovenesxnavarro.cl/Logo%2520Web.jpg&amp;imgrefurl=http://www.jovenesxnavarro.cl/&amp;usg=__8J4hOI9QBlRCQax7a94WcxTA_ko=&amp;h=449&amp;w=313&amp;sz=157&amp;hl=es&amp;start=20&amp;um=1&amp;tbnid=K00bJEDj_umPYM:&amp;tbnh=127&amp;tbnw=89&amp;prev=/images%3Fq%3Dnavarro%2Bpresidente%26hl%3Des%26sa%3DN%26um%3D1"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rot="210600">
            <a:off x="1618920" y="3186000"/>
            <a:ext cx="6192720" cy="3672000"/>
          </a:xfrm>
          <a:prstGeom prst="rect">
            <a:avLst/>
          </a:prstGeom>
          <a:ln w="0">
            <a:noFill/>
          </a:ln>
        </p:spPr>
      </p:pic>
      <p:sp>
        <p:nvSpPr>
          <p:cNvPr id="42" name=""/>
          <p:cNvSpPr/>
          <p:nvPr/>
        </p:nvSpPr>
        <p:spPr>
          <a:xfrm>
            <a:off x="468360" y="528840"/>
            <a:ext cx="8424720" cy="2989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Arial"/>
              </a:rPr>
              <a:t>GASTO ELECTORAL </a:t>
            </a:r>
            <a:r>
              <a:rPr b="0" lang="es-CL" sz="5400" spc="-1" strike="noStrike">
                <a:solidFill>
                  <a:srgbClr val="000000"/>
                </a:solidFill>
                <a:latin typeface="Arial"/>
              </a:rPr>
              <a:t>Y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00000"/>
                </a:solidFill>
                <a:latin typeface="Arial"/>
              </a:rPr>
              <a:t>FINANCIAMIENTO DE LA POLÍTICA</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ías Guzmán Sil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619280" y="404640"/>
            <a:ext cx="7067520" cy="6453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nciamiento privad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toda contribución en dinero, o estimable en dinero, que se efectúe a un candidato o partido político, sea que se materialice bajo la forma de mutuo, donación, comodato o cualquier acto o contrato a título gratuito, destinado al financiamiento de gastos electorales. (Art. 8°, Ley 19.884).</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anciamiento públic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el otorgado por el Estado, como anticipo o reembolso de gastos electorales en que hubieren incurrido los candidatos y los partidos, en las cantidades, proporciones y formas que establece la ley 19.884. (Art. 13°, Ley 19.884).</a:t>
            </a:r>
            <a:endParaRPr b="0" lang="en-US" sz="2800" spc="-1" strike="noStrike">
              <a:solidFill>
                <a:srgbClr val="000000"/>
              </a:solidFill>
              <a:latin typeface="Arial"/>
            </a:endParaRPr>
          </a:p>
        </p:txBody>
      </p:sp>
      <p:pic>
        <p:nvPicPr>
          <p:cNvPr id="64" name="" descr=""/>
          <p:cNvPicPr/>
          <p:nvPr/>
        </p:nvPicPr>
        <p:blipFill>
          <a:blip r:embed="rId1"/>
          <a:stretch/>
        </p:blipFill>
        <p:spPr>
          <a:xfrm>
            <a:off x="324000" y="1557360"/>
            <a:ext cx="1180800" cy="41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miento Privad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rtes Propios: (Art. 9° inciso 3°, Ley 19.88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aquellos aportes constituidos por el propio patrimonio de los candidatos, tales como los sueldos, asignaciones u honorarios que perciban en el ejercicio de cualquier actividad lícita, pensiones, créditos obtenidos, retiros de capital o de intereses de fondos mutuos o depósitos a plazo,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 única restricción es que no sobrepase lo establecido como límite de gasto electo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ortes Anónimos: (Art. 17, Ley 19.884).</a:t>
            </a:r>
            <a:br>
              <a:rPr sz="2200"/>
            </a:br>
            <a:r>
              <a:rPr b="0" lang="en-US" sz="2200" spc="-1" strike="noStrike">
                <a:solidFill>
                  <a:srgbClr val="000000"/>
                </a:solidFill>
                <a:latin typeface="Arial"/>
              </a:rPr>
              <a:t>Son todos los aportes privados en dinero cuyo importe o monto no supere el equivalente en pesos a veinte unidades de fomento. (20 UF= $418.996)</a:t>
            </a:r>
            <a:br>
              <a:rPr sz="2200"/>
            </a:br>
            <a:r>
              <a:rPr b="0" lang="en-US" sz="2200" spc="-1" strike="noStrike">
                <a:solidFill>
                  <a:srgbClr val="000000"/>
                </a:solidFill>
                <a:latin typeface="Arial"/>
              </a:rPr>
              <a:t>Pero además, durante el período de campaña electoral, ningún candidato o partido político podrá recibir por este concepto más del 20% del límite del gasto electoral definido.</a:t>
            </a:r>
            <a:br>
              <a:rPr sz="2200"/>
            </a:br>
            <a:r>
              <a:rPr b="0" lang="en-US" sz="2200" spc="-1" strike="noStrike">
                <a:solidFill>
                  <a:srgbClr val="000000"/>
                </a:solidFill>
                <a:latin typeface="Arial"/>
              </a:rPr>
              <a:t>Con respecto a la identidad de quien hizo el aporte, se establece que cualquier aportante podrá solicitar se consigne su identidad y el monto de su contribución.</a:t>
            </a:r>
            <a:br>
              <a:rPr sz="2200"/>
            </a:br>
            <a:br>
              <a:rPr sz="2200"/>
            </a:br>
            <a:r>
              <a:rPr b="0" lang="en-US" sz="2200" spc="-1" strike="noStrike">
                <a:solidFill>
                  <a:srgbClr val="000000"/>
                </a:solidFill>
                <a:latin typeface="Arial"/>
              </a:rPr>
              <a:t>Aportes Reservados: (Art. 18, Ley 19.884).</a:t>
            </a:r>
            <a:br>
              <a:rPr sz="2200"/>
            </a:br>
            <a:r>
              <a:rPr b="0" lang="en-US" sz="2200" spc="-1" strike="noStrike">
                <a:solidFill>
                  <a:srgbClr val="000000"/>
                </a:solidFill>
                <a:latin typeface="Arial"/>
              </a:rPr>
              <a:t>Son aquellos aportes privados en dinero superiores a veinte unidades de fomento e inferior al 10% del límite de gasto electoral del candidato o partido político, los que se realizarán entre el 14 de septiembre de 2009 y el 13 de Diciembre de 2009, es decir, período de Campaña Electoral.</a:t>
            </a:r>
            <a:br>
              <a:rPr sz="2200"/>
            </a:br>
            <a:r>
              <a:rPr b="0" lang="en-US" sz="2200" spc="-1" strike="noStrike">
                <a:solidFill>
                  <a:srgbClr val="000000"/>
                </a:solidFill>
                <a:latin typeface="Arial"/>
              </a:rPr>
              <a:t>En lo que respecta a estos aportes debe mantenerse absoluta reserva de la identidad del donante y del monto de su contribu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ortes privados de carácter públicos: (Art. 20°, Ley 19.88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todos los aportes privados que se efectúen en dinero que no tengan el carácter de anónimos o reservados, así como las donaciones de bienes y servicios, que deberán ser estimados en din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sit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portes en dinero, que no sean anónimos ni reservados, y donaciones de bienes y servici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Deben constar por escrito indicándose la identidad del aporta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Este aporte debe consignarse a través de boleta, factura, comprobante de depósito en cuenta bancaria, recibo de dinero o especi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rcRect l="16953" t="38105" r="13062" b="15285"/>
          <a:stretch/>
        </p:blipFill>
        <p:spPr>
          <a:xfrm>
            <a:off x="179280" y="907920"/>
            <a:ext cx="8569440" cy="532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19097" t="19734" r="17303" b="14183"/>
          <a:stretch/>
        </p:blipFill>
        <p:spPr>
          <a:xfrm>
            <a:off x="611280" y="981000"/>
            <a:ext cx="7920000" cy="439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24000" y="189000"/>
            <a:ext cx="8229600" cy="686736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inanciamiento Fiscal. (Art. 13° Ley 19.884).</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ticipo Fiscal: (Art. 14° Ley 19.88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pago efectuado por el Estado a favor de partidos políticos y candidaturas independientes, al inicio del período de campaña electoral, para financiar gastos elector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partido inscrito que presente candidatos a la respectiva elección de Senadores, Diputados y candidaturas independientes, tendrán derecho a este beneficio, el que se calcula por cada territorio electoral (circunscripciones senatoriales, distri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nto del Anticipo a Partidos Políticos: Nº de sufragios obtenidos en la última elección de igual naturaleza, incluidos los independientes que hubieren ido en pacto con él, multiplicado por el equivalente en pesos a diez milésimos de unidad de fom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órmula: 0,01 * UF.* Nº Votos elección anteri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aquellos casos en que el partido no haya participado en elección anterior de igual naturaleza le corresponde igual cantidad que al partido político que hubiere obtenido en ella el menor número de sufragios, en las mismas circunscripciones senatoriales o distri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didaturas independientes: Se prorrateará en partes iguales entre todos ellos un monto similar al que le corresponda al partido que hubiere obtenido en la última elección de igual naturaleza el menor número de votos, en la circunscripción senatorial o distri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8360" y="188640"/>
            <a:ext cx="8229600" cy="6669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embolso a Candidatos de elecciones Presidencial Parlamentarias y a Partidos Políticos que presenten candidatos a elección Presidencial (Art. 15° inciso 2° Art. 13° bis, Ley 19.884).</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ervicio Electoral autorizará la devolución de los gastos en que hubieren incurrido los candidatos de las elecciones parlamentarias y a los partidos políticos que presenten candidatos para la elección presidencial, por una suma que no podrá exceder del equivalente, en pesos, a tres centésimos de unidad de fomento, multiplicado por el número de sufragios obtenidos en la respectiva ele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Reembolso: 0,03 * UF. * Nº Votos Obtenido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mite para el pago: Comparando el total de gastos rendidos por el candidato con el cálculo del reembolso, éste se ajustará siempre a la cantidad menor que resulte de la compa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854680" y="-630360"/>
            <a:ext cx="3289320" cy="7731360"/>
          </a:xfrm>
          <a:prstGeom prst="rect">
            <a:avLst/>
          </a:prstGeom>
          <a:ln w="0">
            <a:noFill/>
          </a:ln>
        </p:spPr>
      </p:pic>
      <p:sp>
        <p:nvSpPr>
          <p:cNvPr id="44" name=""/>
          <p:cNvSpPr/>
          <p:nvPr/>
        </p:nvSpPr>
        <p:spPr>
          <a:xfrm>
            <a:off x="250920" y="1268280"/>
            <a:ext cx="5472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ereses en juego</a:t>
            </a:r>
            <a:endParaRPr b="0" lang="en-US" sz="4400" spc="-1" strike="noStrike">
              <a:solidFill>
                <a:srgbClr val="000000"/>
              </a:solidFill>
              <a:latin typeface="Arial"/>
            </a:endParaRPr>
          </a:p>
        </p:txBody>
      </p:sp>
      <p:pic>
        <p:nvPicPr>
          <p:cNvPr id="45" name="" descr="">
            <a:hlinkClick r:id="rId2"/>
          </p:cNvPr>
          <p:cNvPicPr/>
          <p:nvPr/>
        </p:nvPicPr>
        <p:blipFill>
          <a:blip r:embed="rId3"/>
          <a:stretch/>
        </p:blipFill>
        <p:spPr>
          <a:xfrm>
            <a:off x="1332000" y="2997360"/>
            <a:ext cx="2016000" cy="223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059280" y="1052280"/>
            <a:ext cx="562752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y N° 19.884, sobre transparencia, límite y control del gasto electoral.</a:t>
            </a:r>
            <a:endParaRPr b="0" lang="en-US" sz="3200" spc="-1" strike="noStrike">
              <a:solidFill>
                <a:srgbClr val="000000"/>
              </a:solidFill>
              <a:latin typeface="Arial"/>
            </a:endParaRPr>
          </a:p>
        </p:txBody>
      </p:sp>
      <p:pic>
        <p:nvPicPr>
          <p:cNvPr id="47" name="" descr=""/>
          <p:cNvPicPr/>
          <p:nvPr/>
        </p:nvPicPr>
        <p:blipFill>
          <a:blip r:embed="rId1"/>
          <a:stretch/>
        </p:blipFill>
        <p:spPr>
          <a:xfrm>
            <a:off x="250920" y="765000"/>
            <a:ext cx="2027160" cy="2303640"/>
          </a:xfrm>
          <a:prstGeom prst="rect">
            <a:avLst/>
          </a:prstGeom>
          <a:ln w="0">
            <a:noFill/>
          </a:ln>
        </p:spPr>
      </p:pic>
      <p:pic>
        <p:nvPicPr>
          <p:cNvPr id="48" name="" descr=""/>
          <p:cNvPicPr/>
          <p:nvPr/>
        </p:nvPicPr>
        <p:blipFill>
          <a:blip r:embed="rId2"/>
          <a:stretch/>
        </p:blipFill>
        <p:spPr>
          <a:xfrm>
            <a:off x="0" y="3860640"/>
            <a:ext cx="1033308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419280" y="274680"/>
            <a:ext cx="5267160" cy="560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sto electoral: </a:t>
            </a:r>
            <a:br>
              <a:rPr sz="3000"/>
            </a:br>
            <a:r>
              <a:rPr b="0" lang="en-US" sz="3000" spc="-1" strike="noStrike">
                <a:solidFill>
                  <a:srgbClr val="000000"/>
                </a:solidFill>
                <a:latin typeface="Arial"/>
              </a:rPr>
              <a:t>Es todo desembolso en que se incurra para el financiamiento de los equipos, oficinas y servicios de los partidos políticos y candidatos, con ocasión y a propósito de actos electorales. (Art. 2° inciso 1°, Ley 19.884).</a:t>
            </a:r>
            <a:endParaRPr b="0" lang="en-US" sz="3000" spc="-1" strike="noStrike">
              <a:solidFill>
                <a:srgbClr val="000000"/>
              </a:solidFill>
              <a:latin typeface="Arial"/>
            </a:endParaRPr>
          </a:p>
        </p:txBody>
      </p:sp>
      <p:pic>
        <p:nvPicPr>
          <p:cNvPr id="50" name="" descr=""/>
          <p:cNvPicPr/>
          <p:nvPr/>
        </p:nvPicPr>
        <p:blipFill>
          <a:blip r:embed="rId1"/>
          <a:stretch/>
        </p:blipFill>
        <p:spPr>
          <a:xfrm>
            <a:off x="250920" y="907920"/>
            <a:ext cx="3047760" cy="518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ríodo de propaganda electoral: </a:t>
            </a:r>
            <a:br>
              <a:rPr sz="2700"/>
            </a:br>
            <a:r>
              <a:rPr b="0" lang="en-US" sz="2700" spc="-1" strike="noStrike">
                <a:solidFill>
                  <a:srgbClr val="000000"/>
                </a:solidFill>
                <a:latin typeface="Arial"/>
              </a:rPr>
              <a:t>Lapso de tiempo, dentro del período de campaña electoral, desde el trigésimo y hasta el tercer día anterior al de la elección o plebiscito, ambos días inclusive.</a:t>
            </a:r>
            <a:br>
              <a:rPr sz="2700"/>
            </a:br>
            <a:r>
              <a:rPr b="0" lang="en-US" sz="2700" spc="-1" strike="noStrike">
                <a:solidFill>
                  <a:srgbClr val="000000"/>
                </a:solidFill>
                <a:latin typeface="Arial"/>
              </a:rPr>
              <a:t>Sólo en este período está permitida la propaganda electoral. (Art. 30, Inc. 4° Ley 18.700).</a:t>
            </a:r>
            <a:endParaRPr b="0" lang="en-US" sz="2700" spc="-1" strike="noStrike">
              <a:solidFill>
                <a:srgbClr val="000000"/>
              </a:solidFill>
              <a:latin typeface="Arial"/>
            </a:endParaRPr>
          </a:p>
        </p:txBody>
      </p:sp>
      <p:pic>
        <p:nvPicPr>
          <p:cNvPr id="52" name="" descr=""/>
          <p:cNvPicPr/>
          <p:nvPr/>
        </p:nvPicPr>
        <p:blipFill>
          <a:blip r:embed="rId1"/>
          <a:stretch/>
        </p:blipFill>
        <p:spPr>
          <a:xfrm>
            <a:off x="0" y="4076640"/>
            <a:ext cx="914400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851280" y="1600200"/>
            <a:ext cx="4835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aganda electoral: Es aquella dirigida a inducir a los electores a emitir su voto por candidatos determinados. (Art. 30, Ley 18.700).</a:t>
            </a:r>
            <a:endParaRPr b="0" lang="en-US" sz="3200" spc="-1" strike="noStrike">
              <a:solidFill>
                <a:srgbClr val="000000"/>
              </a:solidFill>
              <a:latin typeface="Arial"/>
            </a:endParaRPr>
          </a:p>
        </p:txBody>
      </p:sp>
      <p:pic>
        <p:nvPicPr>
          <p:cNvPr id="54" name="" descr="">
            <a:hlinkClick r:id="rId1"/>
          </p:cNvPr>
          <p:cNvPicPr/>
          <p:nvPr/>
        </p:nvPicPr>
        <p:blipFill>
          <a:blip r:embed="rId2"/>
          <a:stretch/>
        </p:blipFill>
        <p:spPr>
          <a:xfrm>
            <a:off x="324000" y="836640"/>
            <a:ext cx="3384360" cy="540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rcRect l="7117" t="11788" r="7117" b="19821"/>
          <a:stretch/>
        </p:blipFill>
        <p:spPr>
          <a:xfrm>
            <a:off x="539640" y="260280"/>
            <a:ext cx="8209080" cy="619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asto electoral.</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ley establece los lím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t. 4°. Presiden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100 UF x N° elect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tal $5.086.797.2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Gasto efectivo.</a:t>
            </a:r>
            <a:endParaRPr b="0" lang="en-US" sz="3200" spc="-1" strike="noStrike">
              <a:solidFill>
                <a:srgbClr val="000000"/>
              </a:solidFill>
              <a:latin typeface="Arial"/>
            </a:endParaRPr>
          </a:p>
        </p:txBody>
      </p:sp>
      <p:pic>
        <p:nvPicPr>
          <p:cNvPr id="59" name="" descr=""/>
          <p:cNvPicPr/>
          <p:nvPr/>
        </p:nvPicPr>
        <p:blipFill>
          <a:blip r:embed="rId1"/>
          <a:stretch/>
        </p:blipFill>
        <p:spPr>
          <a:xfrm>
            <a:off x="6156360" y="3357720"/>
            <a:ext cx="1944720" cy="252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inanciamiento.</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ursos prop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nciamiento priv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nciamiento público</a:t>
            </a:r>
            <a:endParaRPr b="0" lang="en-US" sz="3200" spc="-1" strike="noStrike">
              <a:solidFill>
                <a:srgbClr val="000000"/>
              </a:solidFill>
              <a:latin typeface="Arial"/>
            </a:endParaRPr>
          </a:p>
        </p:txBody>
      </p:sp>
      <p:pic>
        <p:nvPicPr>
          <p:cNvPr id="62" name="" descr=""/>
          <p:cNvPicPr/>
          <p:nvPr/>
        </p:nvPicPr>
        <p:blipFill>
          <a:blip r:embed="rId1"/>
          <a:stretch/>
        </p:blipFill>
        <p:spPr>
          <a:xfrm>
            <a:off x="3635280" y="3357720"/>
            <a:ext cx="4970520" cy="323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22:44:01Z</dcterms:created>
  <dc:creator>CGR</dc:creator>
  <dc:description/>
  <dc:language>en-US</dc:language>
  <cp:lastModifiedBy>CGR</cp:lastModifiedBy>
  <cp:lastPrinted>2009-09-29T18:42:43Z</cp:lastPrinted>
  <dcterms:modified xsi:type="dcterms:W3CDTF">2009-09-29T19:26:49Z</dcterms:modified>
  <cp:revision>9</cp:revision>
  <dc:subject/>
  <dc:title>Diapositiva 1</dc:title>
</cp:coreProperties>
</file>