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A26-45D7-4C3F-9DE5-520411F9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919-B30D-4A56-97BE-3CA8CFA3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D1E-C00A-4F28-8F9D-9703B85B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DF9-950F-4744-A62A-17207BDF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F8F-5D98-49F2-A785-A53311DC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98B-C663-42D9-8662-62BECE55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587-AD9D-407E-9A6A-4B0DA135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CD2-CF85-422E-A72C-D74D7379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580-36A2-4F1B-88AA-6429349B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A52-0A0A-4F6D-A18D-C87E3BEB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F24-91BF-46B1-B1C9-2844B6D4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81D-8F11-4525-BE6F-F571BAF1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B22A-2A08-4AE8-9F68-74647D19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br>
              <a:rPr sz="4400"/>
            </a:br>
            <a:br>
              <a:rPr sz="4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ías Guzmán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6949" t="22697" r="78729" b="36073"/>
          <a:stretch/>
        </p:blipFill>
        <p:spPr>
          <a:xfrm>
            <a:off x="0" y="-171360"/>
            <a:ext cx="1835280" cy="702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6949" t="63932" r="78729" b="6703"/>
          <a:stretch/>
        </p:blipFill>
        <p:spPr>
          <a:xfrm>
            <a:off x="7308720" y="0"/>
            <a:ext cx="18352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720" y="333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0"/>
            <a:ext cx="2009520" cy="177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48360" y="1916280"/>
            <a:ext cx="3600360" cy="9363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060640"/>
            <a:ext cx="165744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832120" y="1279440"/>
            <a:ext cx="527040" cy="3673440"/>
          </a:xfrm>
          <a:custGeom>
            <a:avLst/>
            <a:gdLst>
              <a:gd name="textAreaLeft" fmla="*/ 0 w 527040"/>
              <a:gd name="textAreaRight" fmla="*/ 190440 w 527040"/>
              <a:gd name="textAreaTop" fmla="*/ 128160 h 3673440"/>
              <a:gd name="textAreaBottom" fmla="*/ 35452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4"/>
                  <a:pt x="10800" y="2408"/>
                </a:cubicBezTo>
                <a:lnTo>
                  <a:pt x="10800" y="10398"/>
                </a:lnTo>
                <a:cubicBezTo>
                  <a:pt x="10800" y="11602"/>
                  <a:pt x="16200" y="12806"/>
                  <a:pt x="21600" y="12806"/>
                </a:cubicBezTo>
                <a:cubicBezTo>
                  <a:pt x="16200" y="12806"/>
                  <a:pt x="10800" y="14010"/>
                  <a:pt x="10800" y="15214"/>
                </a:cubicBezTo>
                <a:lnTo>
                  <a:pt x="10800" y="19192"/>
                </a:lnTo>
                <a:cubicBezTo>
                  <a:pt x="10800" y="203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295092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liación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% electorado últ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ción de dipu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regiones o 3 reg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6° y 7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os afil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3645000"/>
            <a:ext cx="2663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4797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9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704000" y="3573360"/>
            <a:ext cx="1440000" cy="1378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596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48000" y="1916280"/>
            <a:ext cx="2592360" cy="1296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549360"/>
            <a:ext cx="3600360" cy="93672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77080" y="-171360"/>
            <a:ext cx="2009880" cy="177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56360" y="1989000"/>
            <a:ext cx="2736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dí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 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olver solic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scrip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4508640"/>
            <a:ext cx="1944720" cy="13665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3860640"/>
            <a:ext cx="518328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ículo 16.- Los derechos que correspon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s partidos políticos en materia de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de plebiscitos, sólo podrán ser ejerci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llos que se encontraren inscritos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o de Partidos Político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cimiento del correspondiente plazo par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uras o a la fecha de convocatoria 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biscito, según el caso.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789360"/>
            <a:ext cx="217440" cy="2808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53697" t="24413" r="7176" b="14914"/>
          <a:stretch/>
        </p:blipFill>
        <p:spPr>
          <a:xfrm>
            <a:off x="2050920" y="0"/>
            <a:ext cx="62643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0645" t="19739" r="40601" b="9680"/>
          <a:stretch/>
        </p:blipFill>
        <p:spPr>
          <a:xfrm>
            <a:off x="1835280" y="0"/>
            <a:ext cx="662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19280" y="476280"/>
            <a:ext cx="706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du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CHILEVE", con fecha 27 de febrer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NUEVA FUERZA NACIONAL", con fecha 11 de juni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9 de marzo de 200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1 de agosto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PROGRESISTA", con fecha 07 de septiembre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UNITARIO NACIONAL", con fecha 06 de junio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SOL - Partido del Pueblo", con fecha 12 de diciembre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DEMOCRATICO DE LOS PUEBLOS", con fecha 17 de abril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08000" y="476280"/>
            <a:ext cx="6778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dos políticos en formació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TIDO HUMANISTA DEL N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29 DE ENERO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 ADULTO MAY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0 DE MARZO DE 2009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10811"/>
          <a:stretch/>
        </p:blipFill>
        <p:spPr>
          <a:xfrm>
            <a:off x="3059280" y="3573360"/>
            <a:ext cx="338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24000" y="765000"/>
            <a:ext cx="656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A qué se pueden dedicar los partidos polít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idades permit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rtículo 2°.- Son actividades propias de los partidos políticos sól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…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os partidos políticos podrán, además: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34364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tículo 46.- Las sanciones que pueden imponerse con arreglo a esta ley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Amonestación por escr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Multa a beneficio fis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 Comi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) Inhabilidad para ocupar cargos directivos en partidos polít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) Suspensión, por un término de seis meses a dos años, de todos los derechos que le correspondan en elecciones y plebiscitos, incluidos los relativo a propaganda y publicidad así como todos los beneficios y derechos que le otorga el artículo 36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) Disolución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, podrán aplicarse como procedimiento de apremio, en los casos que determine esta ley, las medidas de suspensión al afiliado de sus derechos como tal y de suspensión de los derechos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lo dispuesto en el artículo 50, la multa tendrá los siguientes gr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Mínimo, de diez a cien unidades tributarias mensu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Medio, de más de cien a doscientas unidades tribu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uale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Máximo, de más de doscientas a trescientas unidades tributarias mens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258920" cy="727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4067280" y="0"/>
            <a:ext cx="4608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Organización interna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22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Partidos Políticos deben establecer una Directiva Central, un Consejo General, Consejos Regionales y un Tribunal Supremo. 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inanciamiento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33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ingresos de los partidos políticos estarán constituidos por las cotizaciones ordinarias y extraordinarias que efectúen sus afiliados, por las donaciones, por las asignaciones testamentarias que se hagan en su favor y por los frutos y productos de los bienes de su patrimonio. Sólo podrán tener ingresos de origen nacional.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835280" y="333000"/>
            <a:ext cx="6851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íticas a la actual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aumentar la participación de los afiliados de los partidos políticos en la toma de decisiones partid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encia de la elección directa de los candidatos a cargos de elección popular y de los máximos dirigentes del partido; como así también la mayor participación de los afiliados en dichos proceso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incentivar la participación de grupos de interés relevantes para el país al interior del partido político (jóvenes, indígena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icipación equilibrada de hombres y muje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tructura actual de los partidos favorece el creciente distanciamiento con la ciudadan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rtidos políticos se han desarrollado como organizaciones cer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55640" y="259920"/>
            <a:ext cx="590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8407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02080" y="1484280"/>
            <a:ext cx="15256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692280"/>
            <a:ext cx="63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PR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N° 18.603, orgánica constitucional de los partidos político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* Proyecto de ley, boletín N° 5887-06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orgánica constitucional de los partidos polí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5640" y="692280"/>
            <a:ext cx="7451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Los partidos políticos no pue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venir en actividades ajenas a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le son propias (artículo 19 N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5 inciso 5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Los partidos políticos no pueden tener privilegio alguno o monopolio de la participación ciudadana (artículo 19 Nº 15 inciso 5º y artículo 1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s organizaciones sindicales y sus dirigentes no pueden intervenir en actividades político – partidistas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os grupos intermedios y sus dirigentes que hagan mal uso de la autonomía reconocida por la Constitución para cumplir con sus propios fines específicos serán sancionados en conformidad con la ley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89000"/>
            <a:ext cx="2227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6920" y="1890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5. Las asociaciones, movimientos o grupos que persigan o realicen actividades propias de los partidos políticos sin constituirse como tales y sin ajustarse a los criterios mencionados son ilícit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. Los registros y contabilidad de los partidos políticos deben ser públic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7. El financiamiento de los partidos políticos no puede provenir de fuente extranjer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8. Los estatutos de los partidos políticos deben contemplar normas que aseguren una efectiva democracia intern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9. Son inconstitucionales los partidos políticos cuyos objetivos, actos o conductas no respeten los principios básicos del régimen democrático y constitucional, procuren el establecimiento de un sistema totalitario, como asimismo aquellos que hagan uso de la violencia, la propugnen o inciten a ella como método de acción política (artículo 19 Nº 15 inciso 6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0. Regulación de los partidos políticos por ley orgánica constitu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8000" y="1052640"/>
            <a:ext cx="7056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on los partidos polít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EY N° 18.60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GANICA CONSTITUCIONAL DE 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S POLI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TICULO 1 Los partidos políticos son asociac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oluntarias, dotadas de personalidad jurídica, forma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ciudadanos que comparten una misma doctr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 de gobierno, cuya finalidad es contribuir 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uncionamiento del régimen democrát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titucional y ejercer una legítima influencia en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ducción del Estado, para alcanzar el bien comú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y servir al interés 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47280" y="90792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4°.- Los partidos políticos quedarán legalmente constituidos una vez practicada su inscripción en el Registro de Partidos Políticos y gozarán de personalidad jurídica desde la fecha de esa in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619280" y="0"/>
            <a:ext cx="734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 y sg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00 Ciudadan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ritura públ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) Individualización completa de los compareciente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) Declaración de la voluntad de constituir un partido polít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) Nombre del partido y, si los tuviere, sigla, lema y descripción literal del símbol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) Declaración de principios del partid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) Estatuto del mismo, 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Nombres y apellidos de las personas que integran la Directiva Central y el Tribunal Supremo provisionales, de acuerdo con lo dispuesto en los artículos 24 y 28, respectivamente; constitución de un domicilio común para todas esas personas y normas para reemplazarlas o subrogarlas en caso de fallecimiento, renuncia o imposibilidad definitiva o transitoria que se produzcan antes de la inscripción del partido. Las personas que integren la Directiva Central y el Tribunal Supremo provisionales deberán concurrir al otorgamiento de la escritura pública a que se refiere este incis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ímbolo, la sigla y el lema que distinguirán al partido, si los tuvie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01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79280" y="333000"/>
            <a:ext cx="670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mi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ículo 8°.- El nombre completo, la sigla, el símbolo y el lema de un partido no podrán presentar igualdad ni manifiesta similitud gráfica o fonética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de partidos ya inscritos o en proceso de formación, ni llevar el nombre o hacer referencia a personas vivas o fallec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erán aceptados como nombres, siglas, símbolos ni lemas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Escudo de Armas de la República, su Lema o la Bandera N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Fotografías o reproducciones de la figura humana o que permitan identificar a personas vivas o falleci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Imágenes contrarias a la moral, a las buenas costumbres o al orden público,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Banderas, uniformes, imágenes, palabras locuciones, de origen nacional o extranjero, reconocidamente representativos de partidos, grupos, movimientos, objetivos, actos o conductas contrarios a  la Constitución o a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03:01Z</dcterms:created>
  <dc:creator>CGR</dc:creator>
  <dc:description/>
  <dc:language>en-US</dc:language>
  <cp:lastModifiedBy>CGR</cp:lastModifiedBy>
  <dcterms:modified xsi:type="dcterms:W3CDTF">2009-09-29T19:31:50Z</dcterms:modified>
  <cp:revision>20</cp:revision>
  <dc:subject/>
  <dc:title>Diapositiva 1</dc:title>
</cp:coreProperties>
</file>