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E05-2DF6-4E1A-9963-3730EA5B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30E-8D6B-473B-AC38-C0CDFA48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6A1-BC1F-4219-BF36-5510D6C6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2B7-E81A-494B-A223-200A8A80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829-2B7E-4A1E-AB8C-EC5DE0A9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1D3-CBA9-4F1F-8CF6-AB72E415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568-92AE-439E-A4ED-7471897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352-855F-4FD1-8561-2F3A16CC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6E5-8997-4A5A-BFD6-1EE4CC1A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8DF-997D-4743-9FC8-ADF9CB0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5829-714B-4322-B5E8-44E18855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CFA-FD92-4C54-9371-F0DCE41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B4E7-AB86-45ED-BE10-00F3EEE9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images.google.cl/imgres?imgurl=http://3.bp.blogspot.com/_gOoAoGSFHqk/RlRt0FcQKPI/AAAAAAAAALE/PNYxjz2TNBI/s320/Pregunta.gif&amp;imgrefurl=http://mariale-divagando.blogspot.com/2009_03_01_archive.html&amp;usg=__kPVij78QciEkcRzknLOfKJ4VF7g=&amp;h=248&amp;w=248&amp;sz=2&amp;hl=es&amp;start=2&amp;tbnid=Ve4tHNVzXVzx3M:&amp;tbnh=111&amp;tbnw=111&amp;prev=/images%3Fq%3Dpregunta%26gbv%3D2%26hl%3Des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l/imgres?imgurl=http://www.buscalibros.cl/img_prod_gra/9561017792.jpg&amp;imgrefurl=http://www.buscalibros.cl/libro.php%3Flibro%3D486114&amp;usg=__8RZ8v11uXec6inpTaYmDCLIqjZ4=&amp;h=205&amp;w=144&amp;sz=12&amp;hl=es&amp;start=23&amp;um=1&amp;tbnid=7tuAuiFq3-yR5M:&amp;tbnh=105&amp;tbnw=74&amp;prev=/images%3Fq%3DConstituc%25C3%25B3n%2BPol%25C3%25ADtica%2Bde%2Bla%2BRep%25C3%25BAblica%26ndsp%3D20%26hl%3Des%26cr%3DcountryCL%26sa%3DN%26start%3D20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br>
              <a:rPr sz="4400"/>
            </a:br>
            <a:br>
              <a:rPr sz="4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ías Guzmán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6949" t="22697" r="78729" b="36073"/>
          <a:stretch/>
        </p:blipFill>
        <p:spPr>
          <a:xfrm>
            <a:off x="0" y="-171360"/>
            <a:ext cx="1835280" cy="702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6949" t="63932" r="78729" b="6703"/>
          <a:stretch/>
        </p:blipFill>
        <p:spPr>
          <a:xfrm>
            <a:off x="7308720" y="0"/>
            <a:ext cx="183528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76720" y="333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1692360" y="0"/>
            <a:ext cx="2009520" cy="1773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148360" y="1916280"/>
            <a:ext cx="3600360" cy="9363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060640"/>
            <a:ext cx="165744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0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2832120" y="1279440"/>
            <a:ext cx="527040" cy="3673440"/>
          </a:xfrm>
          <a:custGeom>
            <a:avLst/>
            <a:gdLst>
              <a:gd name="textAreaLeft" fmla="*/ 0 w 527040"/>
              <a:gd name="textAreaRight" fmla="*/ 190440 w 527040"/>
              <a:gd name="textAreaTop" fmla="*/ 128160 h 3673440"/>
              <a:gd name="textAreaBottom" fmla="*/ 35452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04"/>
                  <a:pt x="10800" y="2408"/>
                </a:cubicBezTo>
                <a:lnTo>
                  <a:pt x="10800" y="10398"/>
                </a:lnTo>
                <a:cubicBezTo>
                  <a:pt x="10800" y="11602"/>
                  <a:pt x="16200" y="12806"/>
                  <a:pt x="21600" y="12806"/>
                </a:cubicBezTo>
                <a:cubicBezTo>
                  <a:pt x="16200" y="12806"/>
                  <a:pt x="10800" y="14010"/>
                  <a:pt x="10800" y="15214"/>
                </a:cubicBezTo>
                <a:lnTo>
                  <a:pt x="10800" y="19192"/>
                </a:lnTo>
                <a:cubicBezTo>
                  <a:pt x="10800" y="2039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295092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iliación miemb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% electorado últ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ción de dipu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regiones o 3 reg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. 6° y 7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sitos afil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3645000"/>
            <a:ext cx="2663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4797360"/>
            <a:ext cx="259236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b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ario O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9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704000" y="3573360"/>
            <a:ext cx="1440000" cy="1378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65964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1916280"/>
            <a:ext cx="2592360" cy="1296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o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549360"/>
            <a:ext cx="3600360" cy="93672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 Político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98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51" t="16978" r="76610" b="74626"/>
          <a:stretch/>
        </p:blipFill>
        <p:spPr>
          <a:xfrm>
            <a:off x="6877080" y="-171360"/>
            <a:ext cx="2009880" cy="177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56360" y="1989000"/>
            <a:ext cx="2736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dí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 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olver solicit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scrip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162864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4508640"/>
            <a:ext cx="1944720" cy="1366560"/>
          </a:xfrm>
          <a:prstGeom prst="rect">
            <a:avLst/>
          </a:prstGeom>
          <a:solidFill>
            <a:srgbClr val="1ed6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scrip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3280" y="3860640"/>
            <a:ext cx="518328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ículo 16.- Los derechos que correspon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s partidos políticos en materia de elec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de plebiscitos, sólo podrán ser ejerci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los que se encontraren inscritos e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o de Partidos Políticos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cimiento del correspondiente plazo para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uras o a la fecha de convocatoria 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biscito, según el caso.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3789360"/>
            <a:ext cx="217440" cy="2808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53697" t="24413" r="7176" b="14914"/>
          <a:stretch/>
        </p:blipFill>
        <p:spPr>
          <a:xfrm>
            <a:off x="2050920" y="0"/>
            <a:ext cx="626436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10645" t="19739" r="40601" b="9680"/>
          <a:stretch/>
        </p:blipFill>
        <p:spPr>
          <a:xfrm>
            <a:off x="1835280" y="0"/>
            <a:ext cx="66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19280" y="476280"/>
            <a:ext cx="706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duc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CHILEVE", con fecha 27 de febrer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NUEVA FUERZA NACIONAL", con fecha 11 de junio de 200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9 de marzo de 200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ECOLOGISTA", con fecha 01 de agosto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PARTIDO PROGRESISTA", con fecha 07 de septiembre de 200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UNITARIO NACIONAL", con fecha 06 de junio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SOL - Partido del Pueblo", con fecha 12 de diciembre de 2008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"MOVIMIENTO DEMOCRATICO DE LOS PUEBLOS", con fecha 17 de abril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rtidos políticos en forma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TIDO HUMANISTA DEL N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29 DE ENERO DE 200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 ADULTO MAY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CRITURA DE CONSTITUCIÓN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30 DE MARZO DE 2009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87280" cy="727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0" b="10811"/>
          <a:stretch/>
        </p:blipFill>
        <p:spPr>
          <a:xfrm>
            <a:off x="3059280" y="3573360"/>
            <a:ext cx="3384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24000" y="765000"/>
            <a:ext cx="65628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A qué se pueden dedicar los partidos polític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idades permit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rtículo 2°.- Son actividades propias de los partidos políticos sól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o…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os partidos políticos podrán, además: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0"/>
            <a:ext cx="734364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ículo 46.- Las sanciones que pueden imponerse con arreglo a esta ley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) Amonestación por escr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) Multa a beneficio fisc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) Comi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) Inhabilidad para ocupar cargos directivos en partidos polít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) Suspensión, por un término de seis meses a dos años, de todos los derechos que le correspondan en elecciones y plebiscitos, incluidos los relativo a propaganda y publicidad así como todos los beneficios y derechos que le otorga el artículo 36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) Disolución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, podrán aplicarse como procedimiento de apremio, en los casos que determine esta ley, las medidas de suspensión al afiliado de sus derechos como tal y de suspensión de los derechos del part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lo dispuesto en el artículo 50, la multa tendrá los siguientes gr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) Mínimo, de diez a cien unidades tributarias mensual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) Medio, de más de cien a doscientas unidades tribu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suales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) Máximo, de más de doscientas a trescientas unidades tributarias mens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258920" cy="727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9180" t="14936" r="2229" b="67338"/>
          <a:stretch/>
        </p:blipFill>
        <p:spPr>
          <a:xfrm>
            <a:off x="4067280" y="0"/>
            <a:ext cx="46083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79640" y="274320"/>
            <a:ext cx="6913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Organización interna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22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Partidos Políticos deben establecer una Directiva Central, un Consejo General, Consejos Regionales y un Tribunal Supremo. 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inanciamiento</a:t>
            </a:r>
            <a:br>
              <a:rPr sz="2300"/>
            </a:b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rt. 33 y sgtes.</a:t>
            </a:r>
            <a:br>
              <a:rPr sz="2300"/>
            </a:b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Los ingresos de los partidos políticos estarán constituidos por las cotizaciones ordinarias y extraordinarias que efectúen sus afiliados, por las donaciones, por las asignaciones testamentarias que se hagan en su favor y por los frutos y productos de los bienes de su patrimonio. Sólo podrán tener ingresos de origen nacional.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5280" y="333000"/>
            <a:ext cx="68515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ríticas a la actual reg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aumentar la participación de los afiliados de los partidos políticos en la toma de decisiones partid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niencia de la elección directa de los candidatos a cargos de elección popular y de los máximos dirigentes del partido; como así también la mayor participación de los afiliados en dichos proceso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incentivar la participación de grupos de interés relevantes para el país al interior del partido político (jóvenes, indígena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ticipación equilibrada de hombres y muje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tructura actual de los partidos favorece el creciente distanciamiento con la ciudadan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artidos políticos se han desarrollado como organizaciones cerr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55640" y="259920"/>
            <a:ext cx="5903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0000"/>
                </a:solidFill>
                <a:latin typeface="Arial"/>
              </a:rPr>
              <a:t>Partidos Político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6840720" cy="295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02080" y="1484280"/>
            <a:ext cx="15256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692280"/>
            <a:ext cx="63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nte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PR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N° 18.603, orgánica constitucional de los partidos políticos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* Proyecto de ley, boletín N° 5887-06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orgánica constitucional de los partidos polí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5640" y="692280"/>
            <a:ext cx="7451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Los partidos políticos no pue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venir en actividades ajenas a 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le son propias (artículo 19 N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5 inciso 5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Los partidos políticos no pueden tener privilegio alguno o monopolio de la participación ciudadana (artículo 19 Nº 15 inciso 5º y artículo 1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. Las organizaciones sindicales y sus dirigentes no pueden intervenir en actividades político – partidistas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. Los grupos intermedios y sus dirigentes que hagan mal uso de la autonomía reconocida por la Constitución para cumplir con sus propios fines específicos serán sancionados en conformidad con la ley (artículo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89000"/>
            <a:ext cx="2227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6920" y="1890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5. Las asociaciones, movimientos o grupos que persigan o realicen actividades propias de los partidos políticos sin constituirse como tales y sin ajustarse a los criterios mencionados son ilícit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. Los registros y contabilidad de los partidos políticos deben ser públicos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7. El financiamiento de los partidos políticos no puede provenir de fuente extranjer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8. Los estatutos de los partidos políticos deben contemplar normas que aseguren una efectiva democracia interna (artículo 19 Nº 15 inciso 5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. Son inconstitucionales los partidos políticos cuyos objetivos, actos o conductas no respeten los principios básicos del régimen democrático y constitucional, procuren el establecimiento de un sistema totalitario, como asimismo aquellos que hagan uso de la violencia, la propugnen o inciten a ella como método de acción política (artículo 19 Nº 15 inciso 6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10. Regulación de los partidos políticos por ley orgánica constitucio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1160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08000" y="1052640"/>
            <a:ext cx="7056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on los partidos polític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Y N° 18.60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RGANICA CONSTITUCIONAL DE L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ARTIDOS POLI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RTICULO 1 Los partidos políticos son asociac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oluntarias, dotadas de personalidad jurídica, formad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ciudadanos que comparten una misma doctr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 de gobierno, cuya finalidad es contribuir 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uncionamiento del régimen democrátic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titucional y ejercer una legítima influencia en 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ducción del Estado, para alcanzar el bien comú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y servir al interés nacion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47280" y="907920"/>
            <a:ext cx="69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4°.- Los partidos políticos quedarán legalmente constituidos una vez practicada su inscripción en el Registro de Partidos Políticos y gozarán de personalidad jurídica desde la fecha de esa in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19280" y="0"/>
            <a:ext cx="734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ómo se constituye un partido polít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. 5 y sg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100 Ciudadan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ritura públ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) Individualización completa de los compareciente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b) Declaración de la voluntad de constituir un partido polític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) Nombre del partido y, si los tuviere, sigla, lema y descripción literal del símbol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) Declaración de principios del partid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) Estatuto del mismo, 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) Nombres y apellidos de las personas que integran la Directiva Central y el Tribunal Supremo provisionales, de acuerdo con lo dispuesto en los artículos 24 y 28, respectivamente; constitución de un domicilio común para todas esas personas y normas para reemplazarlas o subrogarlas en caso de fallecimiento, renuncia o imposibilidad definitiva o transitoria que se produzcan antes de la inscripción del partido. Las personas que integren la Directiva Central y el Tribunal Supremo provisionales deberán concurrir al otorgamiento de la escritura pública a que se refiere este incis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ímbolo, la sigla y el lema que distinguirán al partido, si los tuvie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403280" cy="727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016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imit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ículo 8°.- El nombre completo, la sigla, el símbolo y el lema de un partido no podrán presentar igualdad ni manifiesta similitud gráfica o fonética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de partidos ya inscritos o en proceso de formación, ni llevar el nombre o hacer referencia a personas vivas o fallec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serán aceptados como nombres, siglas, símbolos ni lemas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Escudo de Armas de la República, su Lema o la Bandera Nacio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Fotografías o reproducciones de la figura humana o que permitan identificar a personas vivas o fallecid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Imágenes contrarias a la moral, a las buenas costumbres o al orden público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Banderas, uniformes, imágenes, palabras locuciones, de origen nacional o extranjero, reconocidamente representativos de partidos, grupos, movimientos, objetivos, actos o conductas contrarios a  la Constitución o a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6949" t="22697" r="78729" b="6703"/>
          <a:stretch/>
        </p:blipFill>
        <p:spPr>
          <a:xfrm>
            <a:off x="0" y="-243000"/>
            <a:ext cx="169236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9:03:01Z</dcterms:created>
  <dc:creator>CGR</dc:creator>
  <dc:description/>
  <dc:language>en-US</dc:language>
  <cp:lastModifiedBy>CGR</cp:lastModifiedBy>
  <dcterms:modified xsi:type="dcterms:W3CDTF">2009-09-29T19:31:50Z</dcterms:modified>
  <cp:revision>20</cp:revision>
  <dc:subject/>
  <dc:title>Diapositiva 1</dc:title>
</cp:coreProperties>
</file>