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png" ContentType="image/png"/>
  <Override PartName="/ppt/media/image9.jpeg" ContentType="image/jpe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17.png" ContentType="image/png"/>
  <Override PartName="/ppt/media/image3.jpeg" ContentType="image/jpeg"/>
  <Override PartName="/ppt/media/image24.jpeg" ContentType="image/jpeg"/>
  <Override PartName="/ppt/media/image15.png" ContentType="image/pn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3301-5435-4BE4-9CE0-4136FF2A2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BABC-1934-47D6-9510-1F632952B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7D01-A766-48E2-A89A-D1DD67394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C75F-DF0C-4308-9516-35FCD47C5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62F6-5D5B-47C2-BB3E-CE62F066E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37B2-3086-4F4E-89A8-25766C8FC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C082-144B-46B3-9F15-989859A48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E2F6-20EA-44A5-BD5C-39DC1409C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A62E-4B78-4EB9-A407-4C45DF1AF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7DCA-48ED-4E13-A1E7-5EA7EB17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9CF4-F842-4388-B8B3-4AB324BA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6A50-B628-4BDB-B3C6-CA1F9CA3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25EE6-785A-460E-9459-E86ACC6977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l/imgres?imgurl=http://www.portal.tpecanar.gov.ec/IMAGES/STORIES/votaciones.jpg&amp;imgrefurl=http://graduacioncicsma32uni2xtrinken.blogspot.es/&amp;usg=__-YO_SvQokqdqeextwdw0WE5bGpY=&amp;h=400&amp;w=400&amp;sz=17&amp;hl=es&amp;start=25&amp;tbnid=DhMeOpyv_WFw5M:&amp;tbnh=124&amp;tbnw=124&amp;prev=/images%3Fq%3Dvotaciones%26gbv%3D2%26ndsp%3D20%26hl%3Des%26sa%3DN%26start%3D20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hyperlink" Target="http://kallejero.files.wordpress.com/2009/04/portada1.jpg" TargetMode="External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l/imgres?imgurl=http://www.lanacion.cl/prontus_noticias_v2/site/artic/20080708/imag/FOTO_0120080708230910.jpg&amp;imgrefurl=http://www.lanacion.cl/prontus_noticias_v2/site/artic/20080708/pags/20080708230910.html&amp;usg=__0lz2AZNmJ4VO8vrch2H4EwtAbPI=&amp;h=150&amp;w=200&amp;sz=12&amp;hl=es&amp;start=34&amp;tbnid=yqCHwvFDo80e7M:&amp;tbnh=78&amp;tbnw=104&amp;prev=/images%3Fq%3DDIRECTOR%2BDEL%2BSERVICIO%2BELECTORAL%26gbv%3D2%26ndsp%3D20%26hl%3Des%26sa%3DN%26start%3D20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l/imgres?imgurl=http://files.nireblog.com/blogs4/gertrudeanosenaccion/files/voto.jpg&amp;imgrefurl=http://gertrudeanosenaccion.nireblog.com/&amp;usg=__6H1wrtIOYm4k25YO_YHxPWqHguw=&amp;h=491&amp;w=463&amp;sz=33&amp;hl=es&amp;start=4&amp;tbnid=h59Qlkfeh_IWJM:&amp;tbnh=130&amp;tbnw=123&amp;prev=/images%3Fq%3Delecciones%26gbv%3D2%26ndsp%3D20%26hl%3Des%26sa%3DN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images.google.cl/imgres?imgurl=http://3.bp.blogspot.com/_gOoAoGSFHqk/RlRt0FcQKPI/AAAAAAAAALE/PNYxjz2TNBI/s320/Pregunta.gif&amp;imgrefurl=http://mariale-divagando.blogspot.com/2009_03_01_archive.html&amp;usg=__kPVij78QciEkcRzknLOfKJ4VF7g=&amp;h=248&amp;w=248&amp;sz=2&amp;hl=es&amp;start=2&amp;tbnid=Ve4tHNVzXVzx3M:&amp;tbnh=111&amp;tbnw=111&amp;prev=/images%3Fq%3Dpregunta%26gbv%3D2%26hl%3Des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l/imgres?imgurl=http://www.buscalibros.cl/img_prod_gra/9561017792.jpg&amp;imgrefurl=http://www.buscalibros.cl/libro.php%3Flibro%3D486114&amp;usg=__8RZ8v11uXec6inpTaYmDCLIqjZ4=&amp;h=205&amp;w=144&amp;sz=12&amp;hl=es&amp;start=23&amp;um=1&amp;tbnid=7tuAuiFq3-yR5M:&amp;tbnh=105&amp;tbnw=74&amp;prev=/images%3Fq%3DConstituc%25C3%25B3n%2BPol%25C3%25ADtica%2Bde%2Bla%2BRep%25C3%25BAblica%26ndsp%3D20%26hl%3Des%26cr%3DcountryCL%26sa%3DN%26start%3D20%26um%3D1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hyperlink" Target="http://images.google.cl/imgres?imgurl=http://www.lanacion.cl/prontus_noticias_v2/site/artic/20080708/imag/FOTO_0120080708230910.jpg&amp;imgrefurl=http://www.lanacion.cl/prontus_noticias_v2/site/artic/20080708/pags/20080708230910.html&amp;usg=__0lz2AZNmJ4VO8vrch2H4EwtAbPI=&amp;h=150&amp;w=200&amp;sz=12&amp;hl=es&amp;start=34&amp;tbnid=yqCHwvFDo80e7M:&amp;tbnh=78&amp;tbnw=104&amp;prev=/images%3Fq%3DDIRECTOR%2BDEL%2BSERVICIO%2BELECTORAL%26gbv%3D2%26ndsp%3D20%26hl%3Des%26sa%3DN%26start%3D20" TargetMode="External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5254560" cy="21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Garamond"/>
              </a:rPr>
              <a:t>SISTEMA ELECTORAL</a:t>
            </a:r>
            <a:br>
              <a:rPr sz="4000"/>
            </a:br>
            <a:br>
              <a:rPr sz="4000"/>
            </a:br>
            <a:r>
              <a:rPr b="0" lang="es-CL" sz="2500" spc="-1" strike="noStrike">
                <a:solidFill>
                  <a:srgbClr val="000000"/>
                </a:solidFill>
                <a:latin typeface="Garamond"/>
              </a:rPr>
              <a:t>Elías Guzmán Silva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252360" y="0"/>
            <a:ext cx="9396360" cy="1125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43640" y="981000"/>
            <a:ext cx="270036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rcRect l="7117" t="11788" r="7117" b="19821"/>
          <a:stretch/>
        </p:blipFill>
        <p:spPr>
          <a:xfrm>
            <a:off x="324000" y="1052640"/>
            <a:ext cx="8569080" cy="5616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rcRect l="23416" t="16978" r="23604" b="71658"/>
          <a:stretch/>
        </p:blipFill>
        <p:spPr>
          <a:xfrm>
            <a:off x="-181080" y="-171360"/>
            <a:ext cx="93250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171360"/>
            <a:ext cx="9325080" cy="1143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826920" y="1484280"/>
            <a:ext cx="2880000" cy="1224000"/>
          </a:xfrm>
          <a:prstGeom prst="rect">
            <a:avLst/>
          </a:prstGeom>
          <a:solidFill>
            <a:srgbClr val="1bf5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Juntas Electo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Art. 4° ley 18.5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Capital provin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03640" y="907920"/>
            <a:ext cx="3816360" cy="286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Principales funcion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Proponen a dos de los miembros de la Juntas Inscripto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Art. 4° ley 18.5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Selección de ciudadanos entre los cuales se sortean a los vocales de mes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Art. 41 ley 18.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3141720"/>
            <a:ext cx="4033800" cy="1008000"/>
          </a:xfrm>
          <a:prstGeom prst="rect">
            <a:avLst/>
          </a:prstGeom>
          <a:solidFill>
            <a:srgbClr val="1bf5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Juntas Inscripto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Art. 12 ley 18.5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Com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rcRect l="57317" t="46220" r="15480" b="36107"/>
          <a:stretch/>
        </p:blipFill>
        <p:spPr>
          <a:xfrm>
            <a:off x="1476360" y="0"/>
            <a:ext cx="1655640" cy="10652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268360" y="1197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95640" y="2781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178920" y="4581720"/>
            <a:ext cx="1152720" cy="863280"/>
          </a:xfrm>
          <a:custGeom>
            <a:avLst/>
            <a:gdLst>
              <a:gd name="textAreaLeft" fmla="*/ 384120 w 1152720"/>
              <a:gd name="textAreaRight" fmla="*/ 987480 w 1152720"/>
              <a:gd name="textAreaTop" fmla="*/ 497160 h 863280"/>
              <a:gd name="textAreaBottom" fmla="*/ 739440 h 863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51280" y="1989000"/>
            <a:ext cx="1008000" cy="358920"/>
          </a:xfrm>
          <a:prstGeom prst="rightArrow">
            <a:avLst>
              <a:gd name="adj1" fmla="val 50000"/>
              <a:gd name="adj2" fmla="val 7021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332000" y="4292640"/>
            <a:ext cx="6624720" cy="2421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Inscripción en el Registro Electoral (2 libros) a los ciudadanos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extranjeros con derecho a sufragio, otorgando comprobante d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Inscripción. Art. 25 y sgtes. de la ley 18.55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Horario de atención días</a:t>
            </a: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 martes a viernes y domingo</a:t>
            </a: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  de 9:00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13:00 hrs. y de 15:00 a 19:00 hrs. y el </a:t>
            </a: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sábado</a:t>
            </a: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  de 10:00 a 14:00 h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Art. 22 ley 18.556, modificado por la ley N° 20.010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171360"/>
            <a:ext cx="9325080" cy="1143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940360" y="4149720"/>
            <a:ext cx="2664000" cy="431640"/>
          </a:xfrm>
          <a:prstGeom prst="rect">
            <a:avLst/>
          </a:prstGeom>
          <a:solidFill>
            <a:srgbClr val="1bf5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Colegios Escrutad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476360" y="1557360"/>
            <a:ext cx="2592360" cy="576360"/>
          </a:xfrm>
          <a:prstGeom prst="rect">
            <a:avLst/>
          </a:prstGeom>
          <a:solidFill>
            <a:srgbClr val="1bf5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Mesas Recepto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{E8883A5A-5713-4778-8603-30647016CDA4}" descr=""/>
          <p:cNvPicPr/>
          <p:nvPr/>
        </p:nvPicPr>
        <p:blipFill>
          <a:blip r:embed="rId2"/>
          <a:srcRect l="0" t="0" r="1574" b="11866"/>
          <a:stretch/>
        </p:blipFill>
        <p:spPr>
          <a:xfrm>
            <a:off x="324000" y="2708280"/>
            <a:ext cx="4968720" cy="3438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427640" y="17733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940360" y="1197000"/>
            <a:ext cx="2592360" cy="23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osi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5 voc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ncion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ciben los vo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crutin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orar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de la 7:00 h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más de 9 ho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08720" y="4869000"/>
            <a:ext cx="3384360" cy="14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osi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6 miemb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n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crutinio público de las mes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164360" y="4653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571680"/>
            <a:ext cx="9325080" cy="1143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-468360" y="620640"/>
            <a:ext cx="9612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CRONOGRAMA  ELECTORAL, </a:t>
            </a:r>
            <a:r>
              <a:rPr b="0" lang="es-ES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IERCOLES 15 DE ABRIL.</a:t>
            </a:r>
            <a:r>
              <a:rPr b="0" lang="es-ES" sz="2000" spc="-1" strike="noStrike">
                <a:solidFill>
                  <a:srgbClr val="000000"/>
                </a:solidFill>
                <a:latin typeface="Garamond"/>
              </a:rPr>
              <a:t> Se publica en Diario Oficial la Resolución que determina las cantidades mínimas de patrocinantes para candidaturas independientes a Presidente de la República, Senadores y Diputados. Arts. 8° inciso 1º, 10 y 1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rcRect l="13673" t="15736" r="9181" b="22247"/>
          <a:stretch/>
        </p:blipFill>
        <p:spPr>
          <a:xfrm>
            <a:off x="468360" y="2320920"/>
            <a:ext cx="8424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50920" y="1049400"/>
            <a:ext cx="8642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JU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MIERCOLES 1° </a:t>
            </a: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Publicación en el Diario Oficial de la Resolución del Director del Servicio Electoral que determina los límites de gastos electorales que podrán realizar los candidatos a Presidente de la República, Senadores y Diputados. Art. 4 Ley Nº 19.884 y Art. 16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DOMINGO 12 </a:t>
            </a: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Vence plazo para que partidos políticos remitan al Servicio Electoral las copias de sus registros generales de afiliados para los efectos de las declaraciones de candidaturas. Art. 9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Vencimiento de plazo para renunciar a partidos políticos de quienes deseen postular como candidatos independientes. Art. 4 inciso fi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19153" t="42466" r="27823" b="9557"/>
          <a:stretch/>
        </p:blipFill>
        <p:spPr>
          <a:xfrm>
            <a:off x="2411280" y="3905280"/>
            <a:ext cx="3673440" cy="2952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rcRect l="23416" t="16978" r="23604" b="71658"/>
          <a:stretch/>
        </p:blipFill>
        <p:spPr>
          <a:xfrm>
            <a:off x="-181080" y="-243000"/>
            <a:ext cx="93250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171360"/>
            <a:ext cx="9325080" cy="1143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987640" y="1628640"/>
            <a:ext cx="5256360" cy="64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SEPTIEMB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DOMINGO 13 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Ultimo día de inscripciones electorales. Art. 22 inciso 3º Ley Nº 18.556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LUNES 14 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A las 24 horas vence plazo para declaración de candidaturas a Presidente de la República, Senadores y Diputados, formalización de pactos electorales, designación de encargados de trabajos electorales, Administradores Generales Electorales y de Administradores Electoral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Artículos 3°, 3° bis, 4°, 6° y 7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rcRect l="6437" t="22662" r="38375" b="29419"/>
          <a:stretch/>
        </p:blipFill>
        <p:spPr>
          <a:xfrm>
            <a:off x="395280" y="1700280"/>
            <a:ext cx="338472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171360"/>
            <a:ext cx="9325080" cy="1143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211640" y="1071720"/>
            <a:ext cx="4681440" cy="64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2.2.- Del Patrocinio de candidatur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Para postular como candidato independiente, deber. contar con el patrocin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de un determinado número de ciudadanos, el que deber. someterse a l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iguientes norma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Número mínimo de patrocinant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Declaración que deben hacer los patrocinant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Ante quién debe suscribir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Contenido del patrocini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Límite de patrocinantes afiliados a partidos polític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Límite de patrocinios que un ciudadano puede otorga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84360" y="1173240"/>
            <a:ext cx="2857320" cy="25448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portada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4360" y="3645000"/>
            <a:ext cx="287964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243000"/>
            <a:ext cx="9325080" cy="1143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826920" y="736560"/>
            <a:ext cx="831708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VIERNES 25 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Vence plazo para publicar en el Diario Oficial resoluciones del Director del Servicio Electoral que acepta o rechaza candidaturas. Art. 17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Dentro de los cinco días siguientes a la publicación, los partidos políticos y candidatos independientes podrán reclamar de ella ante el Tribunal Calificador de Elecciones. Art. 18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Dentro de los tres días siguientes de vencido el plazo de cinco días a que se refiere el artículo 18 o del fallo del Tribunal Calificador de Elecciones, si lo hubiere, el Director del Servicio Electoral procederá a inscribir las candidaturas en un Registro Especial. Art. 19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A las 9:00 horas del tercer día de expirado el plazo para inscribir candidaturas, el Director del Servicio 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Electoral, en audiencia pública, realizará un sorteo para determinar el orden de precedencia de los candidatos en las respectivas cédulas electorales.Art. 23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2060640"/>
            <a:ext cx="16570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243000"/>
            <a:ext cx="9325080" cy="1143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348000" y="1341360"/>
            <a:ext cx="525636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OCTUB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MARTES 27 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A contar de esta fecha los miembros de las Juntas Electorales proceden a efectuar la selección de ciudadanos, de entre los cuales se sortearán los vocales de todas las Mesas Receptoras de Sufragios. Art. 41, inciso 1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NOVIEMB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MIERCOLES 11 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Comienza período de propaganda electoral por medio de prensa, radioemisoras, volantes, elementos móviles y avisos luminosos o proyectados, y la franja de propaganda gratuita en canales de televisión de libre recepción. Arts. 30, 31, 31 bis y 32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2881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780000" y="1413000"/>
            <a:ext cx="5040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NOVIEM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MIERCOLES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A las 14:00 horas se reúnen Juntas Electorales par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a) Sorteo de vocales para Mesas Receptoras de Sufragios. Art. 41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inciso 4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b) Designación de Locales de Votación. Art. 52, inciso 1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c) Designación de Delegados que estarán a cargo de las Oficin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Electorales que funcionarán en los Locales de Votación. Arts. 52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inciso 1º y 54;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d) Designación de los recintos en que funcionarán los Coleg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Escrutadores. Art. 8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243000"/>
            <a:ext cx="9325080" cy="1143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417672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¿Por qué estudiamos el sistema elector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171360"/>
            <a:ext cx="932508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87280" y="3068640"/>
            <a:ext cx="2592720" cy="2664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076720" y="2349360"/>
            <a:ext cx="2159280" cy="244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356000" y="5300640"/>
            <a:ext cx="3384720" cy="86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Garamond"/>
              </a:rPr>
              <a:t>Art. 18 CP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Garamond"/>
              </a:rPr>
              <a:t>Art. 4° CP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171360"/>
            <a:ext cx="9325080" cy="1143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411280" y="907920"/>
            <a:ext cx="6732720" cy="71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JUEVES 19 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El Secretario de cada Junta Electoral publica en un diario o periódico las nóminas de vocales designados para cada Mesa Receptora de Sufragios, los Locales de Votación, Delegados y recintos en que funcionarán los Colegios Escrutadores. Asimismo, comunica por carta certificada a cada uno de los vocales su nombramiento, indicando las fechas, horas y lugar de constitución y funcionamiento de la Mesa y los nombres de los demás vocales. Arts. 43, 52, 54 y 8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SABADO 21 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Municipalidades instalan tableros o murales con los nombres de los candidatos y espacios para propaganda electoral. Art. 3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A las 9:00 horas se reúnen Juntas Electorales para conocer excusas y exclusiones. Art. 45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24000" y="2060640"/>
            <a:ext cx="28796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316080"/>
            <a:ext cx="9325080" cy="1143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124000" y="692280"/>
            <a:ext cx="7020000" cy="74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Garamond"/>
              </a:rPr>
              <a:t>DICIEMB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Garamond"/>
              </a:rPr>
              <a:t>SABADO 5 </a:t>
            </a:r>
            <a:r>
              <a:rPr b="0" lang="es-ES" sz="2100" spc="-1" strike="noStrike">
                <a:solidFill>
                  <a:srgbClr val="000000"/>
                </a:solidFill>
                <a:latin typeface="Garamond"/>
              </a:rPr>
              <a:t>A las 14:00 horas, los vocales de Mesas Receptoras designados, se reúnen para constituirse en el sitio que se les haya fijado para su funcionamiento. Art. 49, inciso 1º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Garamond"/>
              </a:rPr>
              <a:t>MARTES 8 </a:t>
            </a:r>
            <a:r>
              <a:rPr b="0" lang="es-ES" sz="2100" spc="-1" strike="noStrike">
                <a:solidFill>
                  <a:srgbClr val="000000"/>
                </a:solidFill>
                <a:latin typeface="Garamond"/>
              </a:rPr>
              <a:t>Comienza funcionamiento de Oficinas Electorales en cada local de votación, durante a lo menos cuatro horas diarias, en los horarios que determinen las Juntas Electorales. Art. 54, inciso 1º. A las 24:00 horas, término del período de propaganda electoral por prensa, radio, volantes, elementos móviles, avisos luminosos o proyectados, y la franja gratuita de propaganda en canales de televisión de libre recepción. Arts. 30, 31 y 32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Garamond"/>
              </a:rPr>
              <a:t>MIERCOLES 9 </a:t>
            </a:r>
            <a:r>
              <a:rPr b="0" lang="es-ES" sz="2100" spc="-1" strike="noStrike">
                <a:solidFill>
                  <a:srgbClr val="000000"/>
                </a:solidFill>
                <a:latin typeface="Garamond"/>
              </a:rPr>
              <a:t>Desde las cero horas se prohíbe toda manifestación pública de carácter electoral y permanecerán cerradas las secretarías de propaganda y toda oficina u organización destinada a atender electores. Art. 115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Garamond"/>
              </a:rPr>
              <a:t>Fuerzas Armadas y Carabineros asumen el resguardo del orden público hasta el término de las funciones de los Colegios Escrutadores. Art. 110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50920" y="1989000"/>
            <a:ext cx="18730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171360"/>
            <a:ext cx="9325080" cy="1143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132000" y="1413000"/>
            <a:ext cx="568800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VIERNES 11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ELECCIONES PRESIDENCIAL Y PARLAMENTARI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Arts.169, 173 y 17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Oficinas Electorales funcionan desde las seis de la mañana. Art. 54, inciso 1º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Los vocales se reúnen en los locales respectivos a las 7 de la mañana y comienza el funcionamiento de las Mesas Receptoras de Sufragios. Arts. 57, 58 y 59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SABADO 12 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A las 14:00 horas se reúnen en los locales designados por las Juntas Electorales, los Colegios Escrutadores. Art. 82, inciso 1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95280" y="1557360"/>
            <a:ext cx="36003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243000"/>
            <a:ext cx="9325080" cy="1143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556000" y="1598760"/>
            <a:ext cx="59036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LUNES 14 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A las 10:00 horas se reúne el Tribunal Calificador de Elecciones para conocer el escrutinio general y la calificación de la elección, resolver las reclamaciones y efectuar las rectificaciones a que hubiere lugar. El Tribunal comienza a sesionar diariamente hasta cumplir su cometido. Art. 100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Vencimiento de plazo para que partidos políticos y candidatos independientes retiren elementos de propaganda electoral que hayan situado en vías públicas. Art. 32, inciso 3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rcRect l="69180" t="14936" r="2229" b="67338"/>
          <a:stretch/>
        </p:blipFill>
        <p:spPr>
          <a:xfrm>
            <a:off x="539640" y="1484280"/>
            <a:ext cx="28083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243000"/>
            <a:ext cx="9325080" cy="114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268360" y="836640"/>
            <a:ext cx="6694560" cy="81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MARTES 15 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Municipalidades inician retiro de elementos de propaganda electoral situados en vías públicas. Art. 32, incisos 2º y 3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JUEVES 17 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Vencimiento del plazo para que el Servicio Electoral dé a conocer resultados provisionales de los escrutinios practicados por los Colegios Escrutadores. Art. 95, inciso 1º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Vence plazo para presentar solicitudes de rectificaciones de escrutinios y reclamaciones electorales, correspondientes a la elección de Presidente de la República, ante el Tribunal Calificador de Elecciones. Art. 99 b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LUNES 21 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Vence plazo para present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solicitudes de rectificaciones 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escrutinios y reclamaciones electorales, de las elecciones de Senadores y Diputados, ante el Tribunal Electoral Regional correspondiente. Arts. 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96 y 97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1268280"/>
            <a:ext cx="30592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171360"/>
            <a:ext cx="9325080" cy="1143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84360" y="1484280"/>
            <a:ext cx="82087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SABADO 26 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Proceso de calificación de la elección presidencial debe quedar concluido a más tardar en esta fecha. Art. 27 inciso 1° de la Constitución Política de la Repúblic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AÑO 20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ENE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MARTES 26 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Vence plazo para que los Administradores Generales Electorales y Administradores Electorales presenten la cuenta general de ingresos y gastos electorales al Director del Servicio Electoral. Arts. 41 y 52, Ley Nº 19.884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MARZ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MARTES 9 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Vence plazo para que el Director del Servicio Electoral se pronuncie sobre la cuenta de ingresos y gast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i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171360"/>
            <a:ext cx="93250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Fu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P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rt. 4° y 5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rt. 13 al 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rt. 19 N°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rt. 26 y 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rt. 47 a 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rt. 118 y 1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aramond"/>
              </a:rPr>
              <a:t>Leg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aramond"/>
              </a:rPr>
              <a:t>LOC N° 18.556, sobre Inscripciones y Sistema Electoral Públ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aramond"/>
              </a:rPr>
              <a:t>LOC N° 18.700, sobre Votaciones Populares y Escrutin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aramond"/>
              </a:rPr>
              <a:t>LOC N° 18.695, sobre Municipali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aramond"/>
              </a:rPr>
              <a:t>LOC N° 18.603, sobre Partidos Polític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171360"/>
            <a:ext cx="9325080" cy="1589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59280" y="2421000"/>
            <a:ext cx="20178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243000"/>
            <a:ext cx="9325080" cy="1143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rcRect l="151" t="16978" r="76610" b="74626"/>
          <a:stretch/>
        </p:blipFill>
        <p:spPr>
          <a:xfrm>
            <a:off x="684360" y="907920"/>
            <a:ext cx="2879640" cy="1128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79280" y="3284640"/>
            <a:ext cx="4032360" cy="431640"/>
          </a:xfrm>
          <a:prstGeom prst="rect">
            <a:avLst/>
          </a:prstGeom>
          <a:solidFill>
            <a:srgbClr val="1bf5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Juntas Inscriptor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276640"/>
            <a:ext cx="3529080" cy="576000"/>
          </a:xfrm>
          <a:prstGeom prst="rect">
            <a:avLst/>
          </a:prstGeom>
          <a:solidFill>
            <a:srgbClr val="1bf5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Juntas Elector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564000" y="4221000"/>
            <a:ext cx="4392720" cy="2451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11280" y="5445000"/>
            <a:ext cx="259236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Mesas Recepto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26920" y="4724280"/>
            <a:ext cx="2159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Vocal de M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580000" y="3213000"/>
            <a:ext cx="2664000" cy="432000"/>
          </a:xfrm>
          <a:prstGeom prst="rect">
            <a:avLst/>
          </a:prstGeom>
          <a:solidFill>
            <a:srgbClr val="1bf5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Colegios Escrutad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4"/>
          <a:srcRect l="69180" t="14936" r="2229" b="67338"/>
          <a:stretch/>
        </p:blipFill>
        <p:spPr>
          <a:xfrm>
            <a:off x="5724360" y="1052640"/>
            <a:ext cx="2448000" cy="1512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124000" y="1916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24000" y="2924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6804000" y="27082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372360" y="3789000"/>
            <a:ext cx="14292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5280" y="4005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649440" y="0"/>
            <a:ext cx="9793440" cy="1268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rcRect l="151" t="16978" r="76610" b="74626"/>
          <a:stretch/>
        </p:blipFill>
        <p:spPr>
          <a:xfrm>
            <a:off x="1692360" y="1628640"/>
            <a:ext cx="2009520" cy="1440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971640" y="3789360"/>
            <a:ext cx="3457440" cy="429120"/>
          </a:xfrm>
          <a:prstGeom prst="rect">
            <a:avLst/>
          </a:prstGeom>
          <a:solidFill>
            <a:srgbClr val="1bf5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Garamond"/>
              </a:rPr>
              <a:t>Juntas elector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280" y="4797360"/>
            <a:ext cx="5184720" cy="1368360"/>
          </a:xfrm>
          <a:prstGeom prst="rect">
            <a:avLst/>
          </a:prstGeom>
          <a:solidFill>
            <a:srgbClr val="1bf5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258920" y="530064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Juntas Inscriptor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59640" y="1341360"/>
            <a:ext cx="1512720" cy="15130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427640" y="2349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rcRect l="9408" t="25231" r="63891" b="43656"/>
          <a:stretch/>
        </p:blipFill>
        <p:spPr>
          <a:xfrm>
            <a:off x="6372360" y="3068640"/>
            <a:ext cx="2160360" cy="2592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651640" y="5950080"/>
            <a:ext cx="331308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t. 87 y sgtes. Ley N° 18.5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79280" y="1989000"/>
            <a:ext cx="8785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Principales Funciones. Art. 90 ley 18.55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- Dar instrucciones generales sobre la aplicación de las normas electorales para su ejecución por los organismos establecidos en ella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- Supervigilar y fiscalizar a los organismos electorales que la ley establece, y velar por el cumplimiento de las normas electoral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- Formar y mantener el Padrón Electoral, ordenado computacionalmente, el que contendrá la nómina alfabética de las personas con derecho a sufragi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- Formar y mantener un registro alfabético de las personas a quienes se haya suspendido el derecho a sufragio y de aquellos que hayan perdido su calidad de ciudadano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- Ordenar y resolver directamente sobre el diseño e impresión de libros, formularios y demás documentos que se utilicen en la inscripción electoral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- Llevar el Registro de Partidos Políticos, el duplicado de los Registros Generales de afiliados a partidos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171360"/>
            <a:ext cx="9325080" cy="1143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rcRect l="59336" t="45054" r="16831" b="36107"/>
          <a:stretch/>
        </p:blipFill>
        <p:spPr>
          <a:xfrm>
            <a:off x="3132000" y="476280"/>
            <a:ext cx="2752920" cy="15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171360"/>
            <a:ext cx="9325080" cy="1143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rcRect l="0" t="0" r="21485" b="6713"/>
          <a:stretch/>
        </p:blipFill>
        <p:spPr>
          <a:xfrm>
            <a:off x="468360" y="1341360"/>
            <a:ext cx="8064360" cy="50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171360"/>
            <a:ext cx="9325080" cy="1143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>
            <a:lum bright="6000"/>
          </a:blip>
          <a:srcRect l="8874" t="18133" r="7117" b="3893"/>
          <a:stretch/>
        </p:blipFill>
        <p:spPr>
          <a:xfrm>
            <a:off x="468360" y="1197000"/>
            <a:ext cx="835164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171360"/>
            <a:ext cx="9325080" cy="1143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rcRect l="8723" t="15893" r="6730" b="3480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3T11:45:28Z</dcterms:created>
  <dc:creator>CGR</dc:creator>
  <dc:description/>
  <dc:language>en-US</dc:language>
  <cp:lastModifiedBy>CGR</cp:lastModifiedBy>
  <cp:lastPrinted>2009-09-22T12:41:30Z</cp:lastPrinted>
  <dcterms:modified xsi:type="dcterms:W3CDTF">2009-09-22T15:32:23Z</dcterms:modified>
  <cp:revision>30</cp:revision>
  <dc:subject/>
  <dc:title>SISTEMA ELECTORAL</dc:title>
</cp:coreProperties>
</file>