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56D3-BA91-4CE1-9BD9-8C3A9783D07D}"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lado, el Presidente y sus partidarios fueron interesados en el creciente poder para la nueva elite profesional urbana, mientras que en el otro lado, el Congreso fue interesado en retener el poder para el segmento más tradicional en la sociedad. En este sentido, los sucesos del Congreso representaron para algunos observadores en el tiempo que la misma elite podría retener poder.</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8188-E8FE-4E5F-9C44-49D4D813F02F}"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2E72-F37D-44FB-9833-ED0D2E6F15A3}"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4 reformas constitucion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9 Guerra del pacíf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2 pacificación de la Araucaní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3 fin guerra del pací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6 Balmaceda presid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B576-7C12-4E94-B5F6-DFBCC72946BF}"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ritical juncture: problemas Estado-Iglesia (195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establecieron un clivaje generativo en el quiebre del modelo autoritario español debido por el nivel de intervención estatal en la clerecía, dividiendo a las elites entre elementos liberales y conservadores. Este factor previo ha permitido la creación de un sistema real de partidos en 18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2626-F7D9-47AC-8458-32BCFF68F7F7}"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7507D-F1D6-459B-B460-F4B4866FA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32690-BDE1-40B0-8C07-F44A2A7EC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48758-168D-48BA-A3D4-410D2379F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62F01-2AC2-4D7A-9F46-D1B093C0E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8186E-B33C-4F84-9E77-04CF26C42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34142-B79C-4BFF-9272-0DC39884A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A8B4B-0F46-4204-995A-DCD2453E1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9A229-74FE-44BA-AD35-414D84790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9995F-8BB0-4537-933E-653C02353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B241A-BEF3-434E-A236-C58C8F211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2823F-0E39-4912-985B-4E25D734D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4EC57-4929-4452-A0C9-E32FA279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1FCD9-BDA8-4622-B7F4-CD879CD1A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EFF7F-F757-47FD-B1FE-AD1EC4936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A3D2E-7CB3-4C92-8622-923F10942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E97FE-A8C6-4AD2-BA10-C1A80818A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834B8-A8AD-4094-A5DD-4F3AC0E59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489D0-F03E-48A0-9078-687BB15F49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90DABF-26E2-49DA-A26E-ECCC48048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B5891-E1F5-4B2E-853A-B8A42D45DC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577BA-DEAB-43E7-9E34-C17B6D036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68996-E4C0-457C-9BB8-6E50B570C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17B6D-6E84-4EAF-95E0-252BA9C89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3B2C7A-D717-4E3D-B8E4-37756864C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5E09F-5DC1-4FE4-84AF-3CC42804E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B4264-0863-4D18-850A-2D501C00D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DAAD2-826E-4684-A8CA-BA0E4F66C3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08DBAE-3DF8-4181-B106-3AF29698A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6B8014-8117-4F8A-9463-617FE31341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6D7EF1-F2AD-45D7-9944-8E5BF86504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E6B78D-2523-40CC-A6F0-CA3E8DC844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45B7A-1BD1-4BDD-8DDE-958D442166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632608-3C9F-4A8B-9CB9-AEF13A17F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57366-6EB6-4565-9B3F-E9DFA8ED6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3DF05-D476-4F57-9B2F-58CBE5252B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3364E-EDC2-45DB-8579-4B47B851B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4A495B-878E-4862-80A9-B548ABE0B8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541A1-CB5C-450F-9D86-CF321ABD2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A588C-FE30-479B-8638-1AC28356B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EB4B3-60DC-47F3-B2E1-F46B34971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B764C-1316-45C4-BD7A-A0F6FAD01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93ADD9-1270-4DF1-99A1-CB1048885A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B22060-C003-4208-9164-524B1E0941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D479C5-C189-4A53-9077-3D8076AC61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110CA-E1B9-4170-B0F5-AE8E897BA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2F5250-EC1D-4136-BBF3-AD6450603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7596A-9CA9-4215-9278-9AE4DFB28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BB26E3-AE59-447D-9E2C-43D3AC933B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D0538-6F97-4E21-93FC-B245E7926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9518F7-34DD-4F11-95E7-7C4BD40DB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72E31-96D2-48CA-B9E4-B6B88B987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D8EDD-501F-4C55-AE11-F8DCCC7E0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A2839-30C5-4E3E-BABC-572B6CAB8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0E706-5276-49AB-B32D-5115314E8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1CD30A-0749-4EA9-998B-86E38DD6E4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F4760-9482-4D2C-B08E-AFA8D240E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343932-E820-4B98-A7B7-4B066938E6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0F19E0-E0C1-43C5-8993-383574BD39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5B4D2-DF89-4290-9787-44FC7F3C4E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459284-E664-4B3C-831F-F26523ED4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2C6AD9-383C-4AD2-B839-0F8EB8837A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15DA70-B95B-480A-A90C-940C33B966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ED8F0-830C-4502-9A27-2F645F17FF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DC3EC6-0BBD-44BE-999A-134B77AC60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D2905-2018-428C-B73B-B9FA59744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2CF5D-E4D8-4A55-99DA-C88BF6234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9C452-0627-4FED-A1E6-E0440FF43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53EFD-EC30-4017-83D2-7A9D13D7E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0E26EC-F19D-4AF0-9ABC-752592CDE8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E0B8F5-BDBD-4696-BCAD-611B2874AD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3B14DD-C102-45BB-A7B9-9779B8D4FD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AF58C-08EB-4C9E-ACE6-C387086184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05BB99-1F53-4489-B770-D538F4312E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B4519-7413-4A4D-B471-A81E318289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C3B8E1-8837-43F0-B244-2A18B53190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F766A-101F-4643-B585-44BE41B9FF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1C6A2-E7A3-4589-AF13-13CB651A5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94E66-563E-48EC-9141-7B48BEEE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CDD4E-985A-4610-9041-D7ABB663A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F4CDA-0C37-4B1C-8799-CDCAFBB17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07F26-4B91-4F39-83B4-C73AB2BB1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49D259-2700-4FB9-8C86-F616DB19A1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31C2F6-9EB7-4D4D-9AF8-C8D56A732C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4F73-F31B-4BE2-A3C6-C10F71D74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7019-6264-4278-A521-BB8CBC923C4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9173-BB14-4154-B1F9-276B571BDF5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2034-E5EC-44E4-B33C-DEA95BA4AB8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EB36-FE3A-462E-87A5-40E79676340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9D7D-8320-4455-9604-04C871FA0813}"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9427-33EF-4C3F-95A6-D29CB26EF69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CA5D-E5AC-4F3A-BA51-C5513C162B3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71092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acto de elite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89000" y="152280"/>
            <a:ext cx="8504280" cy="1262160"/>
          </a:xfrm>
          <a:prstGeom prst="rect">
            <a:avLst/>
          </a:prstGeom>
          <a:ln w="0">
            <a:noFill/>
          </a:ln>
        </p:spPr>
      </p:pic>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 </a:t>
            </a:r>
            <a:r>
              <a:rPr b="0" lang="es-CL" sz="3000" spc="-1" strike="noStrike">
                <a:solidFill>
                  <a:srgbClr val="ffffff"/>
                </a:solidFill>
                <a:latin typeface="Corbel"/>
              </a:rPr>
              <a:t>Al final, 1891, representó la defensa comparativa de la elite de los partidos parlamentarios, y contrariamente para la creencia de muchos historiadores chilenos, este periodo no representó una coyuntura crítica que cambió a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 autor, </a:t>
            </a:r>
            <a:r>
              <a:rPr b="1" lang="es-CL" sz="3000" spc="-1" strike="noStrike">
                <a:solidFill>
                  <a:srgbClr val="ffc000"/>
                </a:solidFill>
                <a:latin typeface="Corbel"/>
              </a:rPr>
              <a:t>el periodo parlamentario entre la guerra civil y los años 1920</a:t>
            </a:r>
            <a:r>
              <a:rPr b="0" lang="es-CL" sz="3000" spc="-1" strike="noStrike">
                <a:solidFill>
                  <a:srgbClr val="ffffff"/>
                </a:solidFill>
                <a:latin typeface="Corbel"/>
              </a:rPr>
              <a:t>, mantuvieron la prerrogativa tradicional de la elite, incluso “a pesar de los esfuerzos de inconexión desde abajo para cambiar las abismales diferencias sociales inherentes desde el periodo colonial”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imero, la presidencia tiene bajo poder con un congreso que decidió no solo líneas partidistas sino que también a través de negociaciones intra-elite.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segundo lugar, esto muestra como la emergente clase media nacida-afuera de los años 1850 es ahora es plenamente considerada con la facción conflictiva.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la misma línea de argumento, una nueva narrativa desde las elites acerca de un régimen parlamentario democrático es también reconocido por Castedo.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457200" y="1357200"/>
            <a:ext cx="8229600" cy="2857680"/>
          </a:xfrm>
          <a:prstGeom prst="rect">
            <a:avLst/>
          </a:prstGeom>
          <a:noFill/>
          <a:ln w="0">
            <a:noFill/>
          </a:ln>
        </p:spPr>
        <p:txBody>
          <a:bodyPr lIns="54720" rIns="90000" tIns="91440" bIns="46800" anchor="t">
            <a:normAutofit fontScale="91000"/>
          </a:bodyPr>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Fuera del contexto, esto podría ser considerado por un observador que la crisis de 1891 fue desencadenada por incidentes menores que escalaron fuera de sus proporciones. En este sentido, la pelea del presupuesto entre el Presidente y el Congreso representó de alguna manera dos modelos diferentes de </a:t>
            </a:r>
            <a:r>
              <a:rPr b="1" lang="es-CL" sz="2700" spc="-1" strike="noStrike">
                <a:solidFill>
                  <a:srgbClr val="ffc000"/>
                </a:solidFill>
                <a:latin typeface="Corbel"/>
              </a:rPr>
              <a:t>preeminencia política. </a:t>
            </a:r>
            <a:endParaRPr b="0" lang="en-US" sz="2700" spc="-1" strike="noStrike">
              <a:solidFill>
                <a:srgbClr val="ffffff"/>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grpSp>
        <p:nvGrpSpPr>
          <p:cNvPr id="340" name="TextBox 3"/>
          <p:cNvGrpSpPr/>
          <p:nvPr/>
        </p:nvGrpSpPr>
        <p:grpSpPr>
          <a:xfrm>
            <a:off x="463680" y="4370400"/>
            <a:ext cx="3522600" cy="1524240"/>
            <a:chOff x="463680" y="4370400"/>
            <a:chExt cx="3522600" cy="1524240"/>
          </a:xfrm>
        </p:grpSpPr>
        <p:pic>
          <p:nvPicPr>
            <p:cNvPr id="341" name="TextBox 3" descr=""/>
            <p:cNvPicPr/>
            <p:nvPr/>
          </p:nvPicPr>
          <p:blipFill>
            <a:blip r:embed="rId2"/>
            <a:stretch/>
          </p:blipFill>
          <p:spPr>
            <a:xfrm>
              <a:off x="463680" y="4370400"/>
              <a:ext cx="3522600" cy="1335240"/>
            </a:xfrm>
            <a:prstGeom prst="rect">
              <a:avLst/>
            </a:prstGeom>
            <a:ln w="0">
              <a:noFill/>
            </a:ln>
          </p:spPr>
        </p:pic>
        <p:sp>
          <p:nvSpPr>
            <p:cNvPr id="342" name=""/>
            <p:cNvSpPr/>
            <p:nvPr/>
          </p:nvSpPr>
          <p:spPr>
            <a:xfrm>
              <a:off x="571680" y="4429080"/>
              <a:ext cx="328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Presidente y sus partidarios se interesaron en el creciente poder de la neuva elite profesional urbana</a:t>
              </a:r>
              <a:endParaRPr b="0" lang="en-US" sz="1800" spc="-1" strike="noStrike">
                <a:solidFill>
                  <a:srgbClr val="ffffff"/>
                </a:solidFill>
                <a:latin typeface="Corbel"/>
              </a:endParaRPr>
            </a:p>
          </p:txBody>
        </p:sp>
      </p:grpSp>
      <p:grpSp>
        <p:nvGrpSpPr>
          <p:cNvPr id="343" name="TextBox 4"/>
          <p:cNvGrpSpPr/>
          <p:nvPr/>
        </p:nvGrpSpPr>
        <p:grpSpPr>
          <a:xfrm>
            <a:off x="5108400" y="4370400"/>
            <a:ext cx="3445200" cy="1335240"/>
            <a:chOff x="5108400" y="4370400"/>
            <a:chExt cx="3445200" cy="1335240"/>
          </a:xfrm>
        </p:grpSpPr>
        <p:pic>
          <p:nvPicPr>
            <p:cNvPr id="344" name="TextBox 4" descr=""/>
            <p:cNvPicPr/>
            <p:nvPr/>
          </p:nvPicPr>
          <p:blipFill>
            <a:blip r:embed="rId3"/>
            <a:stretch/>
          </p:blipFill>
          <p:spPr>
            <a:xfrm>
              <a:off x="5108400" y="4370400"/>
              <a:ext cx="3445200" cy="1335240"/>
            </a:xfrm>
            <a:prstGeom prst="rect">
              <a:avLst/>
            </a:prstGeom>
            <a:ln w="0">
              <a:noFill/>
            </a:ln>
          </p:spPr>
        </p:pic>
        <p:sp>
          <p:nvSpPr>
            <p:cNvPr id="345" name=""/>
            <p:cNvSpPr/>
            <p:nvPr/>
          </p:nvSpPr>
          <p:spPr>
            <a:xfrm>
              <a:off x="5214960" y="442908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Congreso se interesó en retener el poder para el segmento más tradicional en la sociedad</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
        <p:nvSpPr>
          <p:cNvPr id="314" name="TextBox 4"/>
          <p:cNvSpPr/>
          <p:nvPr/>
        </p:nvSpPr>
        <p:spPr>
          <a:xfrm>
            <a:off x="0" y="1643040"/>
            <a:ext cx="2714760" cy="338580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Un puñado de pactos implícitos que pudieron fomentar una </a:t>
            </a:r>
            <a:r>
              <a:rPr b="1" lang="es-CL" sz="1800" spc="-1" strike="noStrike">
                <a:solidFill>
                  <a:srgbClr val="000000"/>
                </a:solidFill>
                <a:latin typeface="Corbel"/>
              </a:rPr>
              <a:t>reconciliación política</a:t>
            </a:r>
            <a:r>
              <a:rPr b="0" lang="es-CL" sz="1800" spc="-1" strike="noStrike">
                <a:solidFill>
                  <a:srgbClr val="000000"/>
                </a:solidFill>
                <a:latin typeface="Corbel"/>
              </a:rPr>
              <a:t>. Esto fue parte de la cultura política de los países, aun cuando estos acuerdos podrían ser resistidos por algunas minorías y también ser aplicadas de forma discrecional</a:t>
            </a:r>
            <a:endParaRPr b="0" lang="en-US" sz="1800" spc="-1" strike="noStrike">
              <a:solidFill>
                <a:srgbClr val="ffffff"/>
              </a:solidFill>
              <a:latin typeface="Corbe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4"/>
                                        </p:tgtEl>
                                        <p:attrNameLst>
                                          <p:attrName>style.visibility</p:attrName>
                                        </p:attrNameLst>
                                      </p:cBhvr>
                                      <p:to>
                                        <p:strVal val="visible"/>
                                      </p:to>
                                    </p:set>
                                    <p:animEffect filter="fade" transition="in">
                                      <p:cBhvr additive="repl">
                                        <p:cTn id="7" dur="2000"/>
                                        <p:tgtEl>
                                          <p:spTgt spid="3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2" dur="20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El pacto fue consolidado a través del desarrollo de </a:t>
            </a:r>
            <a:r>
              <a:rPr b="0" lang="es-CL" sz="2700" spc="-1" strike="noStrike">
                <a:solidFill>
                  <a:srgbClr val="ffc000"/>
                </a:solidFill>
                <a:latin typeface="Corbel"/>
              </a:rPr>
              <a:t>símbolos nacionales de unidad.</a:t>
            </a:r>
            <a:r>
              <a:rPr b="0" lang="es-CL" sz="2700" spc="-1" strike="noStrike">
                <a:solidFill>
                  <a:srgbClr val="ffffff"/>
                </a:solidFill>
                <a:latin typeface="Corbel"/>
              </a:rPr>
              <a:t> En este contexto, Loveman y lira sostienen que la forma Chilena de reconciliación política comenzó desde esta coyuntura crítica particular en la </a:t>
            </a:r>
            <a:r>
              <a:rPr b="0" lang="es-CL" sz="2700" spc="-1" strike="noStrike">
                <a:solidFill>
                  <a:srgbClr val="ffc000"/>
                </a:solidFill>
                <a:latin typeface="Corbel"/>
              </a:rPr>
              <a:t>promulgación de la constitución </a:t>
            </a:r>
            <a:r>
              <a:rPr b="0" lang="es-CL" sz="2700" spc="-1" strike="noStrike">
                <a:solidFill>
                  <a:srgbClr val="ffffff"/>
                </a:solidFill>
                <a:latin typeface="Corbel"/>
              </a:rPr>
              <a:t>y la </a:t>
            </a:r>
            <a:r>
              <a:rPr b="0" lang="es-CL" sz="2700" spc="-1" strike="noStrike">
                <a:solidFill>
                  <a:srgbClr val="ffc000"/>
                </a:solidFill>
                <a:latin typeface="Corbel"/>
              </a:rPr>
              <a:t>guerra contra Perú y Bolivia</a:t>
            </a:r>
            <a:r>
              <a:rPr b="0" lang="es-CL" sz="2700" spc="-1" strike="noStrike">
                <a:solidFill>
                  <a:srgbClr val="ffffff"/>
                </a:solidFill>
                <a:latin typeface="Corbel"/>
              </a:rPr>
              <a:t>, añadiendo que la </a:t>
            </a:r>
            <a:r>
              <a:rPr b="0" lang="es-CL" sz="2700" spc="-1" strike="noStrike">
                <a:solidFill>
                  <a:srgbClr val="ffc000"/>
                </a:solidFill>
                <a:latin typeface="Corbel"/>
              </a:rPr>
              <a:t>resolución de los conflictos intra-elite </a:t>
            </a:r>
            <a:r>
              <a:rPr b="0" lang="es-CL" sz="2700" spc="-1" strike="noStrike">
                <a:solidFill>
                  <a:srgbClr val="ffffff"/>
                </a:solidFill>
                <a:latin typeface="Corbel"/>
              </a:rPr>
              <a:t>han sido construidos sobre las bases de los mitos y símbolos nacionales, las reformas políticas y constitucionales y ajustes programáticos que a través de un proceso acumulativo asegura estabilidad y gobernabilidad luego de cada crisis. </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No fueron concedidas para beneficiar algunos propios sitios y mantener el poder político, ni adoptar un acuerdo formal ni escrito. </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obablemente, la única excepción es la ley de amnistía promulgada por la Junta Militar y Pinochet en 1978, la cual protegía básicamente a los violadores de los derechos humanos y no integró a las facciones rivales dentro del proceso político.</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el 1830, en contraste, conservadores y liberales fueron posible de reintegrar en una elite social y un proyecto político común.</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0" name="Diagram 4" descr=""/>
          <p:cNvPicPr/>
          <p:nvPr/>
        </p:nvPicPr>
        <p:blipFill>
          <a:blip r:embed="rId1"/>
          <a:stretch/>
        </p:blipFill>
        <p:spPr>
          <a:xfrm>
            <a:off x="-109440" y="1133640"/>
            <a:ext cx="9296280" cy="5730840"/>
          </a:xfrm>
          <a:prstGeom prst="rect">
            <a:avLst/>
          </a:prstGeom>
          <a:ln w="0">
            <a:noFill/>
          </a:ln>
        </p:spPr>
      </p:pic>
      <p:sp>
        <p:nvSpPr>
          <p:cNvPr id="321" name="TextBox 5"/>
          <p:cNvSpPr/>
          <p:nvPr/>
        </p:nvSpPr>
        <p:spPr>
          <a:xfrm>
            <a:off x="7358040" y="2714760"/>
            <a:ext cx="1785960" cy="251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Mascayano</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ublevación indígena</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isputas religiosas</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e rompe la fusión Liberal-conservador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en 1857, los tres partidos con una larga involucración en la historia de Chile (conservadores, liberales y radicales) habrán nacido fuera del eje de la división clerical-anticlerical.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cuestión del Sacristán” se habla de una nueva clase política donde se marca 1871; como fin de la Era conservador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152280"/>
            <a:ext cx="847404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Manuel Montt derrotó al candidato presidencial de concepción, General Manuel de la Cruz. La derrota determinó una guerra civil que duro por tres mese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26" name="Diagram 3" descr=""/>
          <p:cNvPicPr/>
          <p:nvPr/>
        </p:nvPicPr>
        <p:blipFill>
          <a:blip r:embed="rId2"/>
          <a:stretch/>
        </p:blipFill>
        <p:spPr>
          <a:xfrm>
            <a:off x="-73080" y="2786040"/>
            <a:ext cx="9272520" cy="4078440"/>
          </a:xfrm>
          <a:prstGeom prst="rect">
            <a:avLst/>
          </a:prstGeom>
          <a:ln w="0">
            <a:noFill/>
          </a:ln>
        </p:spPr>
      </p:pic>
      <p:grpSp>
        <p:nvGrpSpPr>
          <p:cNvPr id="327" name="TextBox 4"/>
          <p:cNvGrpSpPr/>
          <p:nvPr/>
        </p:nvGrpSpPr>
        <p:grpSpPr>
          <a:xfrm>
            <a:off x="895320" y="5595840"/>
            <a:ext cx="7583400" cy="1527480"/>
            <a:chOff x="895320" y="5595840"/>
            <a:chExt cx="7583400" cy="1527480"/>
          </a:xfrm>
        </p:grpSpPr>
        <p:pic>
          <p:nvPicPr>
            <p:cNvPr id="328" name="TextBox 4" descr=""/>
            <p:cNvPicPr/>
            <p:nvPr/>
          </p:nvPicPr>
          <p:blipFill>
            <a:blip r:embed="rId3"/>
            <a:stretch/>
          </p:blipFill>
          <p:spPr>
            <a:xfrm>
              <a:off x="895320" y="5595840"/>
              <a:ext cx="7583400" cy="1341360"/>
            </a:xfrm>
            <a:prstGeom prst="rect">
              <a:avLst/>
            </a:prstGeom>
            <a:ln w="0">
              <a:noFill/>
            </a:ln>
          </p:spPr>
        </p:pic>
        <p:sp>
          <p:nvSpPr>
            <p:cNvPr id="329" name=""/>
            <p:cNvSpPr/>
            <p:nvPr/>
          </p:nvSpPr>
          <p:spPr>
            <a:xfrm>
              <a:off x="1000080" y="5657760"/>
              <a:ext cx="7429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blema Estado-Iglesia, donde se establece un clivaje generativo en el quiebre del modelo autoritario dividiendo a las elites entre elementos liberales y conservadores. Este factor previo ha permitido la creación de un sistema real de partidos en 1891</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3" descr=""/>
          <p:cNvPicPr/>
          <p:nvPr/>
        </p:nvPicPr>
        <p:blipFill>
          <a:blip r:embed="rId1"/>
          <a:stretch/>
        </p:blipFill>
        <p:spPr>
          <a:xfrm>
            <a:off x="396720" y="3157560"/>
            <a:ext cx="8375760" cy="1878120"/>
          </a:xfrm>
          <a:prstGeom prst="rect">
            <a:avLst/>
          </a:prstGeom>
          <a:ln w="0">
            <a:noFill/>
          </a:ln>
        </p:spPr>
      </p:pic>
      <p:sp>
        <p:nvSpPr>
          <p:cNvPr id="331"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using as evidence the constitutional reforms to establish universal male suffrage, municipal reforms to improve local participation levels, and in general cleaner elections when compared to the traditional fraudulent processes of the time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5:55:38Z</dcterms:created>
  <dc:creator>Tava</dc:creator>
  <dc:description/>
  <dc:language>en-US</dc:language>
  <cp:lastModifiedBy>Tava</cp:lastModifiedBy>
  <dcterms:modified xsi:type="dcterms:W3CDTF">2009-05-27T02:57:37Z</dcterms:modified>
  <cp:revision>12</cp:revision>
  <dc:subject/>
  <dc:title>Elecciones de 1851; se desatan las tensiones.</dc:title>
</cp:coreProperties>
</file>