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110267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6407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9640" y="4093920"/>
            <a:ext cx="86407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964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6728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61040" y="162864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382800" y="162864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39640" y="409392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61040" y="409392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382800" y="409392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37AF9-4C03-4B6B-940B-501C5899F8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39640" y="1628640"/>
            <a:ext cx="86407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445DE-E93A-44C3-BF4F-DD58575651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6407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39478-D3C6-45D8-9CA3-ADA771B752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A0CC5-50BA-49A7-BE38-D3A9BAA9FD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96D6F-DC02-4EE3-BC11-C27B4DB6EC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16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21860-C74F-4729-AC35-D0D11F60D6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64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DFD04-DA85-4855-8B51-5F3CE060B7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39640" y="1628640"/>
            <a:ext cx="86407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6728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53EE0-5506-4402-BF37-92E4BAA538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9640" y="4093920"/>
            <a:ext cx="86407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8B0B8-3B50-4EA5-9E94-1D2D636A9B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6407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9640" y="4093920"/>
            <a:ext cx="86407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FA1DC-62C0-4AC9-9AC7-0B1EF74577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3964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6728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2DCB9-A735-4485-895F-D74AE0E8A8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61040" y="162864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82800" y="162864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39640" y="409392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61040" y="409392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82800" y="409392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F7B26-CEED-424E-B9AA-9410D406F0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6407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16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964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6728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640" y="4093920"/>
            <a:ext cx="86407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00" y="1413000"/>
            <a:ext cx="864072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765000"/>
            <a:ext cx="28584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2920" y="900000"/>
            <a:ext cx="8731080" cy="27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09680" y="900000"/>
            <a:ext cx="137880" cy="14148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47560" y="765000"/>
            <a:ext cx="139680" cy="1382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47560" y="900000"/>
            <a:ext cx="139680" cy="141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74680" y="1039680"/>
            <a:ext cx="136440" cy="1382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09680" y="1036800"/>
            <a:ext cx="137880" cy="1378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74680" y="1174680"/>
            <a:ext cx="136440" cy="136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539640" y="1628640"/>
            <a:ext cx="86407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49"/>
              </a:spcBef>
              <a:buClr>
                <a:srgbClr val="3333cc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49"/>
              </a:spcBef>
              <a:buClr>
                <a:srgbClr val="ffcf01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49"/>
              </a:spcBef>
              <a:buClr>
                <a:srgbClr val="00e4a8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"/>
          <p:cNvSpPr/>
          <p:nvPr/>
        </p:nvSpPr>
        <p:spPr>
          <a:xfrm>
            <a:off x="5111640" y="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3333cc"/>
                </a:solidFill>
                <a:latin typeface="Tahoma"/>
              </a:rPr>
              <a:t>Evaluación de proye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590920" y="260280"/>
            <a:ext cx="6553080" cy="716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5962680"/>
            <a:ext cx="952560" cy="895320"/>
          </a:xfrm>
          <a:prstGeom prst="rect">
            <a:avLst/>
          </a:prstGeom>
          <a:ln w="0">
            <a:noFill/>
          </a:ln>
        </p:spPr>
      </p:pic>
      <p:sp>
        <p:nvSpPr>
          <p:cNvPr id="13" name=""/>
          <p:cNvSpPr/>
          <p:nvPr/>
        </p:nvSpPr>
        <p:spPr>
          <a:xfrm>
            <a:off x="76320" y="65340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Num" idx="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BB72-CD85-4D3D-9C88-5C4C77F327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26528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ahoma"/>
              </a:rPr>
              <a:t>EVALUACION DE PROY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6381720"/>
            <a:ext cx="6553440" cy="71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453360"/>
            <a:ext cx="57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3333cc"/>
                </a:solidFill>
                <a:latin typeface="Tahoma"/>
              </a:rPr>
              <a:t>Evaluación de Proye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6381720"/>
            <a:ext cx="6553440" cy="71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35280" y="549360"/>
            <a:ext cx="7308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uela de Gobierno y Gestión Pú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53737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9933"/>
                </a:solidFill>
                <a:latin typeface="Tahoma"/>
              </a:rPr>
              <a:t>Profesores: </a:t>
            </a:r>
            <a:r>
              <a:rPr b="1" i="1" lang="es-ES" sz="18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1" i="1" lang="es-ES" sz="1800" spc="-1" strike="noStrike">
                <a:solidFill>
                  <a:srgbClr val="339933"/>
                </a:solidFill>
                <a:latin typeface="Tahoma"/>
              </a:rPr>
              <a:t>Rodrigo Salas Portugu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1" i="1" lang="es-CL" sz="18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1" i="1" lang="es-CL" sz="1800" spc="-1" strike="noStrike">
                <a:solidFill>
                  <a:srgbClr val="339933"/>
                </a:solidFill>
                <a:latin typeface="Tahoma"/>
              </a:rPr>
              <a:t>Ivan Santander Cep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2360" cy="1590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87280" y="3876840"/>
            <a:ext cx="705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i="1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Tahoma"/>
              </a:rPr>
              <a:t>Click to edit the outline text format</a:t>
            </a:r>
            <a:endParaRPr b="1" i="1" lang="en-US" sz="1600" spc="-1" strike="noStrike">
              <a:solidFill>
                <a:srgbClr val="cc0000"/>
              </a:solidFill>
              <a:latin typeface="Tahoma"/>
            </a:endParaRPr>
          </a:p>
          <a:p>
            <a:pPr lvl="1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algn="ctr">
              <a:spcBef>
                <a:spcPts val="550"/>
              </a:spcBef>
              <a:buClr>
                <a:srgbClr val="ffcf01"/>
              </a:buClr>
              <a:buSzPct val="55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algn="ctr">
              <a:spcBef>
                <a:spcPts val="550"/>
              </a:spcBef>
              <a:buClr>
                <a:srgbClr val="00e4a8"/>
              </a:buClr>
              <a:buSzPct val="5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5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6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71640" y="3284640"/>
            <a:ext cx="7086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0066"/>
                </a:solidFill>
                <a:latin typeface="Tahoma"/>
              </a:rPr>
              <a:t>METODOLOGIA PARA EL DIAGNOSTICO DE LA SITUACION 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094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Estimación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7360" y="160020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40458c"/>
                </a:solidFill>
                <a:uFillTx/>
                <a:latin typeface="Tahoma"/>
              </a:rPr>
              <a:t>Algunos mét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2514600"/>
            <a:ext cx="6400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Información actualizada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ensos - Redat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tudios 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Proyecciones inter – cen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onteo especí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Mue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5638680"/>
            <a:ext cx="64008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Siempre es recomendable cruzar la información para verificar su confi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260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Estimación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46520" y="1600200"/>
            <a:ext cx="528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40458c"/>
                </a:solidFill>
                <a:uFillTx/>
                <a:latin typeface="Tahoma"/>
              </a:rPr>
              <a:t>Proyecciones inter - cen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24000" y="2421000"/>
            <a:ext cx="5041800" cy="1224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24000" y="3860640"/>
            <a:ext cx="5113440" cy="863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89240" y="5013360"/>
            <a:ext cx="540360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Donde: 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TC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Tasa de crecimiento an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              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1" lang="es-MX" sz="1400" spc="-1" strike="noStrike" baseline="-25000">
                <a:solidFill>
                  <a:srgbClr val="40458c"/>
                </a:solidFill>
                <a:latin typeface="Tahoma"/>
              </a:rPr>
              <a:t>t  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Población año 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1" lang="es-MX" sz="1400" spc="-1" strike="noStrike" baseline="-25000">
                <a:solidFill>
                  <a:srgbClr val="40458c"/>
                </a:solidFill>
                <a:latin typeface="Tahoma"/>
              </a:rPr>
              <a:t>0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Población año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n 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= 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número de años entre población final e in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t  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número de años a proyect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03640" y="3825720"/>
                <a:ext cx="28810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124000" y="2565360"/>
                <a:ext cx="49212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022480" y="1600200"/>
            <a:ext cx="528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40458c"/>
                </a:solidFill>
                <a:uFillTx/>
                <a:latin typeface="Tahoma"/>
              </a:rPr>
              <a:t>Proyecciones inter - cen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7320" y="2286000"/>
            <a:ext cx="7823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Ejemplo: Cálculo de la tasa de crecimiento pobl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Población 1992: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3.500 hab</a:t>
            </a: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Población 2002: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4.900 ha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Número de años: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886200" y="2666880"/>
            <a:ext cx="4952520" cy="1273320"/>
            <a:chOff x="3886200" y="2666880"/>
            <a:chExt cx="4952520" cy="1273320"/>
          </a:xfrm>
        </p:grpSpPr>
        <p:sp>
          <p:nvSpPr>
            <p:cNvPr id="145" name=""/>
            <p:cNvSpPr/>
            <p:nvPr/>
          </p:nvSpPr>
          <p:spPr>
            <a:xfrm>
              <a:off x="3886200" y="2666880"/>
              <a:ext cx="4952520" cy="127332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ffff99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TC =100 *  (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2000" spc="-1" strike="noStrike" baseline="36000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- 1) = 3.42%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45160" y="2805120"/>
              <a:ext cx="237960" cy="871200"/>
            </a:xfrm>
            <a:custGeom>
              <a:avLst/>
              <a:gdLst/>
              <a:ahLst/>
              <a:rect l="l" t="t" r="r" b="b"/>
              <a:pathLst>
                <a:path w="248" h="1336">
                  <a:moveTo>
                    <a:pt x="0" y="736"/>
                  </a:moveTo>
                  <a:cubicBezTo>
                    <a:pt x="8" y="620"/>
                    <a:pt x="16" y="504"/>
                    <a:pt x="48" y="592"/>
                  </a:cubicBezTo>
                  <a:cubicBezTo>
                    <a:pt x="80" y="680"/>
                    <a:pt x="160" y="1336"/>
                    <a:pt x="192" y="1264"/>
                  </a:cubicBezTo>
                  <a:cubicBezTo>
                    <a:pt x="224" y="1192"/>
                    <a:pt x="232" y="320"/>
                    <a:pt x="240" y="160"/>
                  </a:cubicBezTo>
                  <a:cubicBezTo>
                    <a:pt x="248" y="0"/>
                    <a:pt x="240" y="280"/>
                    <a:pt x="240" y="304"/>
                  </a:cubicBezTo>
                </a:path>
              </a:pathLst>
            </a:custGeom>
            <a:gradFill rotWithShape="0">
              <a:gsLst>
                <a:gs pos="0">
                  <a:srgbClr val="ffcc99"/>
                </a:gs>
                <a:gs pos="50000">
                  <a:srgbClr val="ffff99"/>
                </a:gs>
                <a:gs pos="100000">
                  <a:srgbClr val="ffcc99"/>
                </a:gs>
              </a:gsLst>
              <a:lin ang="54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83480" y="2867760"/>
              <a:ext cx="1199520" cy="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42960" y="3003120"/>
              <a:ext cx="1457640" cy="8625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ffff99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4.9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3.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22880" y="333684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812880" y="4114800"/>
            <a:ext cx="782316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Ejemplo: Proyección de la pob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Población 2002: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4.900 hab</a:t>
            </a: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Tasa crecimiento: 3.42%</a:t>
            </a: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An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Año </a:t>
            </a: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8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 :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Año 1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8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2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5334120"/>
            <a:ext cx="5562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99"/>
              </a:gs>
              <a:gs pos="100000">
                <a:srgbClr val="ffcc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.900 * (1 + 3,42 / 100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6.4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4.900 * (1 + 3,42 / 100)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8.9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60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Estimación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Estimación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48440" y="1600200"/>
            <a:ext cx="66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40458c"/>
                </a:solidFill>
                <a:uFillTx/>
                <a:latin typeface="Tahoma"/>
              </a:rPr>
              <a:t>Estudio específico (censo o muest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2514600"/>
            <a:ext cx="74674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Definición geográfica de la pobl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Recopilación de cartograf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Actualización de cartograf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Sectoriz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Enumeración (conteo de vivienda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Diseño y selección de la muest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Encuesta muest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Revisión y procesamiento de los da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71600" y="5791320"/>
            <a:ext cx="6095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Este método ha demostrado ser confiable, expedito, práctico y de bajo co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115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Estimación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3560" y="1650960"/>
            <a:ext cx="82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Estudio específico: ejemplo de proces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2514600"/>
            <a:ext cx="62485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Enumeración de vivie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1199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4.850 viviendas parti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601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4 hogares cole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Selección de la mue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1199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Muestra del 10%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485 vivie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601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Todos los hogares cole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Resultado Encue</a:t>
            </a:r>
            <a:r>
              <a:rPr b="1" lang="es-MX" sz="24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ta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1199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3.056 personas en las 485 vivie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601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286 personas en los hogares cole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201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44680" y="44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Estimación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3560" y="1650960"/>
            <a:ext cx="82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Estudio específico: ejemplo de proces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0"/>
            <a:ext cx="6934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ontinuació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Procesamiento de los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925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0458c"/>
                </a:solidFill>
                <a:latin typeface="Tahoma"/>
              </a:rPr>
              <a:t>Determinación del Nº de personas por viviend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3.056 / 485 = 6.3 pers./vi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925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0458c"/>
                </a:solidFill>
                <a:latin typeface="Tahoma"/>
              </a:rPr>
              <a:t>Cálculo del total de personas en vivien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4.850 x 6.3 = 30.555 perso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925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0458c"/>
                </a:solidFill>
                <a:latin typeface="Tahoma"/>
              </a:rPr>
              <a:t>Cálculo de la población tot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30.555 + 286 = 30.823 habitantes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6212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Estimación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2120" y="1600200"/>
            <a:ext cx="79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Caso: Cálculo Población Afectada y Obje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2228760"/>
            <a:ext cx="769644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En la comuna de “Las Llanuras”, que tiene un total de 45.000 viviendas. Posee un promedio de 5 habitantes por vivien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Si un proyecto, en una localidad de esta comuna, pretende entregar conexión al sistema de agua potable al 60% de las viviendas no conectadas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Si en dicho sector existen 200 viviendas conectadas, las que representan el 25% del total, entonc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40458c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Número de Vivien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sin conexión = 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A beneficiar  = 3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40458c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Pob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Afectada:  600 viv. * 5 pers. = 3.000 ha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Objetivo :  360 viv.* 5 pers. = 1.800 ha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0120" y="5943600"/>
            <a:ext cx="720720" cy="35892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3352" h="21600">
                <a:moveTo>
                  <a:pt x="0" y="0"/>
                </a:moveTo>
                <a:lnTo>
                  <a:pt x="43352" y="0"/>
                </a:lnTo>
                <a:lnTo>
                  <a:pt x="43352" y="21600"/>
                </a:lnTo>
                <a:lnTo>
                  <a:pt x="0" y="21600"/>
                </a:lnTo>
                <a:close/>
              </a:path>
              <a:path fill="lightenLess" w="43352" h="21600">
                <a:moveTo>
                  <a:pt x="0" y="0"/>
                </a:moveTo>
                <a:lnTo>
                  <a:pt x="43352" y="0"/>
                </a:lnTo>
                <a:lnTo>
                  <a:pt x="41952" y="1400"/>
                </a:lnTo>
                <a:lnTo>
                  <a:pt x="1400" y="1400"/>
                </a:lnTo>
                <a:close/>
              </a:path>
              <a:path fill="darken" w="43352" h="21600">
                <a:moveTo>
                  <a:pt x="43352" y="0"/>
                </a:moveTo>
                <a:lnTo>
                  <a:pt x="43352" y="21600"/>
                </a:lnTo>
                <a:lnTo>
                  <a:pt x="41952" y="20200"/>
                </a:lnTo>
                <a:lnTo>
                  <a:pt x="41952" y="1400"/>
                </a:lnTo>
                <a:close/>
              </a:path>
              <a:path fill="darkenLess" w="43352" h="21600">
                <a:moveTo>
                  <a:pt x="43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52" y="20200"/>
                </a:lnTo>
                <a:close/>
              </a:path>
              <a:path fill="lighten" w="43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52" h="21600">
                <a:moveTo>
                  <a:pt x="14669" y="10800"/>
                </a:moveTo>
                <a:lnTo>
                  <a:pt x="28682" y="3794"/>
                </a:lnTo>
                <a:lnTo>
                  <a:pt x="28682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Análisis de la Dema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8680" y="1600200"/>
            <a:ext cx="58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Algunos métodos de esti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838080" y="2286000"/>
            <a:ext cx="7238880" cy="4038120"/>
            <a:chOff x="838080" y="2286000"/>
            <a:chExt cx="7238880" cy="4038120"/>
          </a:xfrm>
        </p:grpSpPr>
        <p:grpSp>
          <p:nvGrpSpPr>
            <p:cNvPr id="170" name=""/>
            <p:cNvGrpSpPr/>
            <p:nvPr/>
          </p:nvGrpSpPr>
          <p:grpSpPr>
            <a:xfrm>
              <a:off x="845640" y="2291400"/>
              <a:ext cx="7221960" cy="4025880"/>
              <a:chOff x="845640" y="2291400"/>
              <a:chExt cx="7221960" cy="402588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845640" y="2291400"/>
                <a:ext cx="4028400" cy="1251000"/>
                <a:chOff x="845640" y="2291400"/>
                <a:chExt cx="4028400" cy="125100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919080" y="2291400"/>
                  <a:ext cx="3880800" cy="12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0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A partir de la población afectad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845640" y="2291400"/>
                  <a:ext cx="4028400" cy="12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4874400" y="2291400"/>
                <a:ext cx="3193200" cy="1251000"/>
                <a:chOff x="4874400" y="2291400"/>
                <a:chExt cx="3193200" cy="12510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948560" y="2291400"/>
                  <a:ext cx="3045240" cy="12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GB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D  =   P  x  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i="1" lang="es-E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D = Demanda esperad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i="1" lang="es-E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P = Población carent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i="1" lang="es-E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C = </a:t>
                  </a:r>
                  <a:r>
                    <a:rPr b="0" i="1" lang="es-ES" sz="14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Consumo normal per cápi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874400" y="2291400"/>
                  <a:ext cx="3193200" cy="12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845640" y="3542760"/>
                <a:ext cx="4028400" cy="1033200"/>
                <a:chOff x="845640" y="3542760"/>
                <a:chExt cx="4028400" cy="10332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919080" y="3542760"/>
                  <a:ext cx="38808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0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A partir de registros históricos de consu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45640" y="3542760"/>
                  <a:ext cx="40284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4874400" y="3542760"/>
                <a:ext cx="3193200" cy="1033200"/>
                <a:chOff x="4874400" y="3542760"/>
                <a:chExt cx="3193200" cy="10332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948560" y="3542760"/>
                  <a:ext cx="304524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190440" indent="-19044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40458c"/>
                    </a:buClr>
                    <a:buFont typeface="Tahoma"/>
                    <a:buChar char="•"/>
                    <a:tabLst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Definir una tendenci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90440" indent="-19044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40458c"/>
                    </a:buClr>
                    <a:buFont typeface="Tahoma"/>
                    <a:buChar char="•"/>
                    <a:tabLst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Ajustar sobre esa tendenci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90440" indent="-19044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40458c"/>
                    </a:buClr>
                    <a:buFont typeface="Tahoma"/>
                    <a:buChar char="•"/>
                    <a:tabLst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Analizar resultados esperad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90440" indent="-190440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74400" y="3542760"/>
                  <a:ext cx="31932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845640" y="4576320"/>
                <a:ext cx="4028400" cy="870120"/>
                <a:chOff x="845640" y="4576320"/>
                <a:chExt cx="4028400" cy="870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919080" y="4576320"/>
                  <a:ext cx="388080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0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Se puede hacer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45640" y="4576320"/>
                  <a:ext cx="402840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874400" y="4576320"/>
                <a:ext cx="3193200" cy="870120"/>
                <a:chOff x="4874400" y="4576320"/>
                <a:chExt cx="3193200" cy="8701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948560" y="4576320"/>
                  <a:ext cx="304524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190440" indent="-19044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40458c"/>
                    </a:buClr>
                    <a:buFont typeface="Tahoma"/>
                    <a:buChar char="•"/>
                    <a:tabLst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Gráficament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90440" indent="-19044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40458c"/>
                    </a:buClr>
                    <a:buFont typeface="Tahoma"/>
                    <a:buChar char="•"/>
                    <a:tabLst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Analíticament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90440" indent="-190440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874400" y="4576320"/>
                  <a:ext cx="319320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845640" y="5447160"/>
                <a:ext cx="4028400" cy="870120"/>
                <a:chOff x="845640" y="5447160"/>
                <a:chExt cx="4028400" cy="8701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919080" y="5447160"/>
                  <a:ext cx="388080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0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Otros métod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845640" y="5447160"/>
                  <a:ext cx="402840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4874400" y="5447160"/>
                <a:ext cx="3193200" cy="870120"/>
                <a:chOff x="4874400" y="5447160"/>
                <a:chExt cx="3193200" cy="8701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4948560" y="5447160"/>
                  <a:ext cx="304524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190440" indent="-19044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40458c"/>
                    </a:buClr>
                    <a:buFont typeface="Tahoma"/>
                    <a:buChar char="•"/>
                    <a:tabLst>
                      <a:tab algn="l" pos="57168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Registro de solicitud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90440" indent="-19044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40458c"/>
                    </a:buClr>
                    <a:buFont typeface="Tahoma"/>
                    <a:buChar char="•"/>
                    <a:tabLst>
                      <a:tab algn="l" pos="57168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Encuestas a usuari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90440" indent="-190440">
                    <a:lnSpc>
                      <a:spcPct val="100000"/>
                    </a:lnSpc>
                    <a:buClr>
                      <a:srgbClr val="40458c"/>
                    </a:buClr>
                    <a:buFont typeface="Tahoma"/>
                    <a:buChar char="•"/>
                    <a:tabLst>
                      <a:tab algn="l" pos="57168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874400" y="5447160"/>
                  <a:ext cx="319320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5" name=""/>
            <p:cNvSpPr/>
            <p:nvPr/>
          </p:nvSpPr>
          <p:spPr>
            <a:xfrm>
              <a:off x="838080" y="2286000"/>
              <a:ext cx="7238880" cy="40381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Análisis de la Dema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02560" y="1676520"/>
            <a:ext cx="486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Proyección de la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2590920"/>
            <a:ext cx="7543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Proyectar la Demanda es estimar la evolución de la misma a mediano plazo, por ejemplo,  a 10 añ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demanda se proyecta de acuerdo al crecimiento poblacional y/o variables específ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Uno de los objetivos de conocer dicha estimación, es que ésta ayuda a definir el tamaño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91520" y="5867280"/>
            <a:ext cx="720720" cy="35892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3352" h="21600">
                <a:moveTo>
                  <a:pt x="0" y="0"/>
                </a:moveTo>
                <a:lnTo>
                  <a:pt x="43352" y="0"/>
                </a:lnTo>
                <a:lnTo>
                  <a:pt x="43352" y="21600"/>
                </a:lnTo>
                <a:lnTo>
                  <a:pt x="0" y="21600"/>
                </a:lnTo>
                <a:close/>
              </a:path>
              <a:path fill="lightenLess" w="43352" h="21600">
                <a:moveTo>
                  <a:pt x="0" y="0"/>
                </a:moveTo>
                <a:lnTo>
                  <a:pt x="43352" y="0"/>
                </a:lnTo>
                <a:lnTo>
                  <a:pt x="41952" y="1400"/>
                </a:lnTo>
                <a:lnTo>
                  <a:pt x="1400" y="1400"/>
                </a:lnTo>
                <a:close/>
              </a:path>
              <a:path fill="darken" w="43352" h="21600">
                <a:moveTo>
                  <a:pt x="43352" y="0"/>
                </a:moveTo>
                <a:lnTo>
                  <a:pt x="43352" y="21600"/>
                </a:lnTo>
                <a:lnTo>
                  <a:pt x="41952" y="20200"/>
                </a:lnTo>
                <a:lnTo>
                  <a:pt x="41952" y="1400"/>
                </a:lnTo>
                <a:close/>
              </a:path>
              <a:path fill="darkenLess" w="43352" h="21600">
                <a:moveTo>
                  <a:pt x="43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52" y="20200"/>
                </a:lnTo>
                <a:close/>
              </a:path>
              <a:path fill="lighten" w="43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52" h="21600">
                <a:moveTo>
                  <a:pt x="14669" y="10800"/>
                </a:moveTo>
                <a:lnTo>
                  <a:pt x="28682" y="3794"/>
                </a:lnTo>
                <a:lnTo>
                  <a:pt x="28682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0666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Estudio de la Ofer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752480"/>
            <a:ext cx="76960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 el volumen de servicio provisto en el área de influenci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oferta se proyecta considerando la evolución esperada de los servicios actualmente provistos con un mantenimiento adecu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Para su estimación consider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0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apacidad de la infraestructura existente</a:t>
            </a: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quipos y personal calificado dispon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umplimiento de normas de calidad de serv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volución esperada de la situación actual</a:t>
            </a: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96080" y="6019920"/>
            <a:ext cx="720720" cy="3585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43395" h="21600">
                <a:moveTo>
                  <a:pt x="0" y="0"/>
                </a:moveTo>
                <a:lnTo>
                  <a:pt x="43395" y="0"/>
                </a:lnTo>
                <a:lnTo>
                  <a:pt x="43395" y="21600"/>
                </a:lnTo>
                <a:lnTo>
                  <a:pt x="0" y="21600"/>
                </a:lnTo>
                <a:close/>
              </a:path>
              <a:path fill="lightenLess" w="43395" h="21600">
                <a:moveTo>
                  <a:pt x="0" y="0"/>
                </a:moveTo>
                <a:lnTo>
                  <a:pt x="43395" y="0"/>
                </a:lnTo>
                <a:lnTo>
                  <a:pt x="41995" y="1400"/>
                </a:lnTo>
                <a:lnTo>
                  <a:pt x="1400" y="1400"/>
                </a:lnTo>
                <a:close/>
              </a:path>
              <a:path fill="darken" w="43395" h="21600">
                <a:moveTo>
                  <a:pt x="43395" y="0"/>
                </a:moveTo>
                <a:lnTo>
                  <a:pt x="43395" y="21600"/>
                </a:lnTo>
                <a:lnTo>
                  <a:pt x="41995" y="20200"/>
                </a:lnTo>
                <a:lnTo>
                  <a:pt x="41995" y="1400"/>
                </a:lnTo>
                <a:close/>
              </a:path>
              <a:path fill="darkenLess" w="43395" h="21600">
                <a:moveTo>
                  <a:pt x="43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95" y="20200"/>
                </a:lnTo>
                <a:close/>
              </a:path>
              <a:path fill="lighten" w="43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95" h="21600">
                <a:moveTo>
                  <a:pt x="14691" y="10800"/>
                </a:moveTo>
                <a:lnTo>
                  <a:pt x="28704" y="3794"/>
                </a:lnTo>
                <a:lnTo>
                  <a:pt x="2870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32000" y="836640"/>
            <a:ext cx="70102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PREPARACIÓN DE PROYECTOS</a:t>
            </a:r>
            <a:r>
              <a:rPr b="1" lang="es-ES_tradnl" sz="18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El Ciclo de Vida de los Proy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Metodología para análisis y solución de probl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Diagnóstico de la situación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Tahoma"/>
              </a:rPr>
              <a:t>Análisis de problemas so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Tahoma"/>
              </a:rPr>
              <a:t>Identificación del problema 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Tahoma"/>
              </a:rPr>
              <a:t>Elaboración de la líne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Identificación de la Población objetiv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Tahoma"/>
              </a:rPr>
              <a:t>Á</a:t>
            </a: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rea de estudio y de influ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Análisis de la 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Análisis de la 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Cálculo del défic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Tahoma"/>
              </a:rPr>
              <a:t>Características de contex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Tahoma"/>
              </a:rPr>
              <a:t>Analizar grupos relev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Tahoma"/>
              </a:rPr>
              <a:t>Análisis de causas y ef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Tahoma"/>
              </a:rPr>
              <a:t>Identificación de medios y f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Tahoma"/>
              </a:rPr>
              <a:t>Áreas de intervención, viabilidad e impor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37"/>
              </a:spcBef>
              <a:spcAft>
                <a:spcPts val="37"/>
              </a:spcAft>
              <a:buSzPct val="102426"/>
              <a:buBlip>
                <a:blip r:embed="rId1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5000"/>
              </a:lnSpc>
              <a:spcBef>
                <a:spcPts val="150"/>
              </a:spcBef>
              <a:spcAft>
                <a:spcPts val="150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89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ahoma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260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álculo y Proyección del Défic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1905120"/>
            <a:ext cx="77472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la diferencia entre demanda y oferta proyect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7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déficit puede s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800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uantitativo (cobertu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ualitativo (calidad)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7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n función del momento del tiempo en que se consideren la demanda y la oferta se tendrá 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éficit Actual 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éficit Proyec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Tahoma"/>
              </a:rPr>
              <a:t>FUNCIONES DEL DIAGNÓSTICO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ahoma"/>
              </a:rPr>
              <a:t>La Descripció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Caracteriza el problema y cuantifica su magnitud y distribución en l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Población objetivo. La línea base resume dicha información, mostrado el valor del o los indicadores del problema al momento del diagnóstico y sus tendencias futur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ahoma"/>
              </a:rPr>
              <a:t>La Explicació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Plantea la estructura causal cualitativa y cuantitativa de las variables que determinan el problema central. Se lleva a cabo para establecer qué y cuantos es necesario entregar para solucionar total o parcialmente el problema centr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Tahoma"/>
              </a:rPr>
              <a:t>CONTINUACIÓ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42508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Existe un problem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Cuál e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Que magnitud tien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Se cuenta con información adecuad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Quiénes están afectados? (población afectada y objetiv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Cuál es el entorno demográfico, geográfico, económico y social del problem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Cuáles son los actores relevantes del problem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Cuáles son sus principales causas y consecuencia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Qué oferta existe para solucionarl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Cuáles son las principales dificultades para enfrentarl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4267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Pasos a segui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6045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90000"/>
              </a:lnSpc>
              <a:spcBef>
                <a:spcPts val="165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ición del área de estudi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90000"/>
              </a:lnSpc>
              <a:spcBef>
                <a:spcPts val="165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terminación del área de influenc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90000"/>
              </a:lnSpc>
              <a:spcBef>
                <a:spcPts val="165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blación objetiv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90000"/>
              </a:lnSpc>
              <a:spcBef>
                <a:spcPts val="165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álisis de la demand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90000"/>
              </a:lnSpc>
              <a:spcBef>
                <a:spcPts val="165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álisis de la ofer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90000"/>
              </a:lnSpc>
              <a:spcBef>
                <a:spcPts val="165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álculo del défic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6267600" y="21528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05400" y="2876400"/>
            <a:ext cx="648000" cy="360360"/>
          </a:xfrm>
          <a:custGeom>
            <a:avLst/>
            <a:gdLst>
              <a:gd name="textAreaLeft" fmla="*/ 23040 w 648000"/>
              <a:gd name="textAreaRight" fmla="*/ 624960 w 648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24" h="21600">
                <a:moveTo>
                  <a:pt x="0" y="0"/>
                </a:moveTo>
                <a:lnTo>
                  <a:pt x="38824" y="0"/>
                </a:lnTo>
                <a:lnTo>
                  <a:pt x="38824" y="21600"/>
                </a:lnTo>
                <a:lnTo>
                  <a:pt x="0" y="21600"/>
                </a:lnTo>
                <a:close/>
              </a:path>
              <a:path fill="lightenLess" w="38824" h="21600">
                <a:moveTo>
                  <a:pt x="0" y="0"/>
                </a:moveTo>
                <a:lnTo>
                  <a:pt x="38824" y="0"/>
                </a:lnTo>
                <a:lnTo>
                  <a:pt x="37424" y="1400"/>
                </a:lnTo>
                <a:lnTo>
                  <a:pt x="1400" y="1400"/>
                </a:lnTo>
                <a:close/>
              </a:path>
              <a:path fill="darken" w="38824" h="21600">
                <a:moveTo>
                  <a:pt x="38824" y="0"/>
                </a:moveTo>
                <a:lnTo>
                  <a:pt x="38824" y="21600"/>
                </a:lnTo>
                <a:lnTo>
                  <a:pt x="37424" y="20200"/>
                </a:lnTo>
                <a:lnTo>
                  <a:pt x="37424" y="1400"/>
                </a:lnTo>
                <a:close/>
              </a:path>
              <a:path fill="darkenLess" w="38824" h="21600">
                <a:moveTo>
                  <a:pt x="38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24" y="20200"/>
                </a:lnTo>
                <a:close/>
              </a:path>
              <a:path fill="lighten" w="38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24" h="21600">
                <a:moveTo>
                  <a:pt x="12405" y="3794"/>
                </a:moveTo>
                <a:lnTo>
                  <a:pt x="26418" y="10800"/>
                </a:lnTo>
                <a:lnTo>
                  <a:pt x="12405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43560" y="38862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62640" y="44766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81720" y="50864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58104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5960" y="142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Definición del Área de Estudi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Tahoma"/>
              </a:rPr>
              <a:t>Zona geográfica que sirve para contextualizar el problema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1426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Tahoma"/>
              </a:rPr>
              <a:t>Su definición depende de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Red de servicios existen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ímites relevan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828800" indent="-209520" algn="just">
              <a:buClr>
                <a:srgbClr val="40458c"/>
              </a:buClr>
              <a:buSzPct val="50000"/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Geográfic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828800" indent="-209520" algn="just">
              <a:buClr>
                <a:srgbClr val="40458c"/>
              </a:buClr>
              <a:buSzPct val="50000"/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dministrativ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1426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Tahoma"/>
              </a:rPr>
              <a:t>Reco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s-ES" sz="1900" spc="-1" strike="noStrike">
                <a:solidFill>
                  <a:srgbClr val="000000"/>
                </a:solidFill>
                <a:latin typeface="Tahoma"/>
              </a:rPr>
              <a:t>ilar información sobre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spcBef>
                <a:spcPts val="799"/>
              </a:spcBef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Tipo de zona (urbana, rural, mix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ondiciones socio – económicas de la pobl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ocalización de la población por estrato socio-económic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nfraestructura de la zon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spectos cultura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nstitucionalidad y administración sectori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6172200"/>
            <a:ext cx="720720" cy="434880"/>
          </a:xfrm>
          <a:custGeom>
            <a:avLst/>
            <a:gdLst>
              <a:gd name="textAreaLeft" fmla="*/ 28080 w 720720"/>
              <a:gd name="textAreaRight" fmla="*/ 692640 w 720720"/>
              <a:gd name="textAreaTop" fmla="*/ 28080 h 434880"/>
              <a:gd name="textAreaBottom" fmla="*/ 406800 h 434880"/>
            </a:gdLst>
            <a:ahLst/>
            <a:rect l="textAreaLeft" t="textAreaTop" r="textAreaRight" b="textAreaBottom"/>
            <a:pathLst>
              <a:path w="35786" h="21600">
                <a:moveTo>
                  <a:pt x="0" y="0"/>
                </a:moveTo>
                <a:lnTo>
                  <a:pt x="35786" y="0"/>
                </a:lnTo>
                <a:lnTo>
                  <a:pt x="35786" y="21600"/>
                </a:lnTo>
                <a:lnTo>
                  <a:pt x="0" y="21600"/>
                </a:lnTo>
                <a:close/>
              </a:path>
              <a:path fill="lightenLess" w="35786" h="21600">
                <a:moveTo>
                  <a:pt x="0" y="0"/>
                </a:moveTo>
                <a:lnTo>
                  <a:pt x="35786" y="0"/>
                </a:lnTo>
                <a:lnTo>
                  <a:pt x="34386" y="1400"/>
                </a:lnTo>
                <a:lnTo>
                  <a:pt x="1400" y="1400"/>
                </a:lnTo>
                <a:close/>
              </a:path>
              <a:path fill="darken" w="35786" h="21600">
                <a:moveTo>
                  <a:pt x="35786" y="0"/>
                </a:moveTo>
                <a:lnTo>
                  <a:pt x="35786" y="21600"/>
                </a:lnTo>
                <a:lnTo>
                  <a:pt x="34386" y="20200"/>
                </a:lnTo>
                <a:lnTo>
                  <a:pt x="34386" y="1400"/>
                </a:lnTo>
                <a:close/>
              </a:path>
              <a:path fill="darkenLess" w="35786" h="21600">
                <a:moveTo>
                  <a:pt x="3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86" y="20200"/>
                </a:lnTo>
                <a:close/>
              </a:path>
              <a:path fill="lighten" w="3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86" h="21600">
                <a:moveTo>
                  <a:pt x="10886" y="10800"/>
                </a:moveTo>
                <a:lnTo>
                  <a:pt x="24899" y="3794"/>
                </a:lnTo>
                <a:lnTo>
                  <a:pt x="24899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89000"/>
            <a:ext cx="79246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99"/>
                </a:solidFill>
                <a:latin typeface="Tahoma"/>
              </a:rPr>
              <a:t>Determinación del Área de Influenci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Marca los límites dentro de los cuales un proyecto podría constituir una solución real al problema detectado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576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uede ser igual al área de estudio o un subconjunto de ella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576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ara su delimitación se debe considerar: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028880" indent="-3621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bicación de la población afect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880" indent="-3621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bles localizaciones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880" indent="-3621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ciones de accesibil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880" indent="-3621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ivel socio-económico de la población afect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880" indent="-3621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pectos administrativos e institucion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7772400" y="6172200"/>
            <a:ext cx="720720" cy="434880"/>
          </a:xfrm>
          <a:custGeom>
            <a:avLst/>
            <a:gdLst>
              <a:gd name="textAreaLeft" fmla="*/ 28080 w 720720"/>
              <a:gd name="textAreaRight" fmla="*/ 692640 w 720720"/>
              <a:gd name="textAreaTop" fmla="*/ 28080 h 434880"/>
              <a:gd name="textAreaBottom" fmla="*/ 406800 h 434880"/>
            </a:gdLst>
            <a:ahLst/>
            <a:rect l="textAreaLeft" t="textAreaTop" r="textAreaRight" b="textAreaBottom"/>
            <a:pathLst>
              <a:path w="35786" h="21600">
                <a:moveTo>
                  <a:pt x="0" y="0"/>
                </a:moveTo>
                <a:lnTo>
                  <a:pt x="35786" y="0"/>
                </a:lnTo>
                <a:lnTo>
                  <a:pt x="35786" y="21600"/>
                </a:lnTo>
                <a:lnTo>
                  <a:pt x="0" y="21600"/>
                </a:lnTo>
                <a:close/>
              </a:path>
              <a:path fill="lightenLess" w="35786" h="21600">
                <a:moveTo>
                  <a:pt x="0" y="0"/>
                </a:moveTo>
                <a:lnTo>
                  <a:pt x="35786" y="0"/>
                </a:lnTo>
                <a:lnTo>
                  <a:pt x="34386" y="1400"/>
                </a:lnTo>
                <a:lnTo>
                  <a:pt x="1400" y="1400"/>
                </a:lnTo>
                <a:close/>
              </a:path>
              <a:path fill="darken" w="35786" h="21600">
                <a:moveTo>
                  <a:pt x="35786" y="0"/>
                </a:moveTo>
                <a:lnTo>
                  <a:pt x="35786" y="21600"/>
                </a:lnTo>
                <a:lnTo>
                  <a:pt x="34386" y="20200"/>
                </a:lnTo>
                <a:lnTo>
                  <a:pt x="34386" y="1400"/>
                </a:lnTo>
                <a:close/>
              </a:path>
              <a:path fill="darkenLess" w="35786" h="21600">
                <a:moveTo>
                  <a:pt x="3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86" y="20200"/>
                </a:lnTo>
                <a:close/>
              </a:path>
              <a:path fill="lighten" w="3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86" h="21600">
                <a:moveTo>
                  <a:pt x="10886" y="10800"/>
                </a:moveTo>
                <a:lnTo>
                  <a:pt x="24899" y="3794"/>
                </a:lnTo>
                <a:lnTo>
                  <a:pt x="24899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Población</a:t>
            </a:r>
            <a:r>
              <a:rPr b="0" lang="es-MX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Objeti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4037040" y="1903320"/>
            <a:ext cx="2516040" cy="989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Población Potenc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Posterg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1905120"/>
            <a:ext cx="228600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0000"/>
                </a:solidFill>
                <a:uFillTx/>
                <a:latin typeface="Tahoma"/>
              </a:rPr>
              <a:t>Població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0000"/>
                </a:solidFill>
                <a:uFillTx/>
                <a:latin typeface="Tahoma"/>
              </a:rPr>
              <a:t>Objetiv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2895480"/>
            <a:ext cx="304920" cy="609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43800" y="2895480"/>
            <a:ext cx="304920" cy="609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502920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3505320"/>
            <a:ext cx="3200400" cy="15238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Població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sin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3505320"/>
            <a:ext cx="4495680" cy="15238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blación pot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Con Problema, Carenci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 Afect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5410080"/>
            <a:ext cx="7924680" cy="914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Población de Referenc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48520" y="502920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46160"/>
            <a:ext cx="7924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Ejemplos de relaciones de pob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90720" y="1860480"/>
          <a:ext cx="7924680" cy="4662720"/>
        </p:xfrm>
        <a:graphic>
          <a:graphicData uri="http://schemas.openxmlformats.org/drawingml/2006/table">
            <a:tbl>
              <a:tblPr/>
              <a:tblGrid>
                <a:gridCol w="1474560"/>
                <a:gridCol w="1695600"/>
                <a:gridCol w="1584360"/>
                <a:gridCol w="1585800"/>
                <a:gridCol w="1584360"/>
              </a:tblGrid>
              <a:tr h="55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ble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de </a:t>
                      </a:r>
                      <a:r>
                        <a:rPr b="1" i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r>
                        <a:rPr b="1" i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ferenc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 proble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</a:t>
                      </a:r>
                      <a:r>
                        <a:rPr b="1" i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tenc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objetiv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</a:tr>
              <a:tr h="95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casez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 agua pot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total de la comu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conectada al servi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carente del servi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ona norte: 70% de la población car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</a:tr>
              <a:tr h="800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la Calidad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servicio den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total de la comu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total de la comu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total de la comu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</a:tr>
              <a:tr h="1154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uficiencia del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programa mater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total de 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jeres entre 14 y 45 años de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 comu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jeres entre 14 y 45 años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atendid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jeres entre 14 y 45 años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no atendid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jeres entre 14 y 45 años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no atendid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</a:tr>
              <a:tr h="119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a tasa de deser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col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 edad 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colar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de la comu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ños entre 6 y 13 años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que asisten al coleg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ños entre 6 y 13 años, que NO asisten al colegio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450 niñ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100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iñ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1T15:53:36Z</dcterms:created>
  <dc:creator>Ministerio de Planificación y Cooperación</dc:creator>
  <dc:description/>
  <cp:keywords/>
  <dc:language>en-US</dc:language>
  <cp:lastModifiedBy>Ivan Santander</cp:lastModifiedBy>
  <cp:lastPrinted>1999-09-01T21:34:52Z</cp:lastPrinted>
  <dcterms:modified xsi:type="dcterms:W3CDTF">2008-04-16T21:06:47Z</dcterms:modified>
  <cp:revision>157</cp:revision>
  <dc:subject/>
  <dc:title>ARBOL DE CAUSAS Y EFECTOS</dc:title>
</cp:coreProperties>
</file>