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11026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610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8280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96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610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8280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5273-3B31-43D2-9D52-4F3D85DCFD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95CF-FAD7-447C-95F8-E6481CDF12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EBE5-8329-45BA-8AE9-135C6F7477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2A4B-741E-4F98-BD2E-CE1DCB6512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60F1-5CA5-4B99-BD13-C81AB5EA01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366D-C4F6-47D7-A951-026CDB58E0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2724-5AEC-407E-8ACC-35942AC871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59DF1-8267-4F7C-9067-0D60350284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2D0D-3DE9-49EF-A9FB-62B159427B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613B-6656-4D03-8A9C-D359906E05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7265-6895-430B-B6C2-6E5E9A876C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6104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82800" y="162864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396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6104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82800" y="4093920"/>
            <a:ext cx="27820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6F6C-1C69-48AE-A6DE-87E81BA929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67280" y="409392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67280" y="1628640"/>
            <a:ext cx="42163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640" y="4093920"/>
            <a:ext cx="86407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00" y="1413000"/>
            <a:ext cx="864072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765000"/>
            <a:ext cx="28584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2920" y="900000"/>
            <a:ext cx="873108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9680" y="900000"/>
            <a:ext cx="137880" cy="1414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47560" y="765000"/>
            <a:ext cx="139680" cy="1382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47560" y="900000"/>
            <a:ext cx="139680" cy="141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74680" y="1039680"/>
            <a:ext cx="136440" cy="1382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09680" y="1036800"/>
            <a:ext cx="137880" cy="137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74680" y="1174680"/>
            <a:ext cx="136440" cy="136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539640" y="1628640"/>
            <a:ext cx="8640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00e4a8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5111640" y="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3333cc"/>
                </a:solidFill>
                <a:latin typeface="Tahoma"/>
              </a:rPr>
              <a:t>Evaluación de 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590920" y="260280"/>
            <a:ext cx="6553080" cy="71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5962680"/>
            <a:ext cx="952560" cy="89532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76320" y="6534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FB2F-2CEF-4A47-B302-1061260677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6528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EVALUACION DE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6381720"/>
            <a:ext cx="6553440" cy="7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453360"/>
            <a:ext cx="57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3333cc"/>
                </a:solidFill>
                <a:latin typeface="Tahoma"/>
              </a:rPr>
              <a:t>Evaluación de 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6381720"/>
            <a:ext cx="6553440" cy="7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549360"/>
            <a:ext cx="73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uela de Gobierno y Gestión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53737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9933"/>
                </a:solidFill>
                <a:latin typeface="Tahoma"/>
              </a:rPr>
              <a:t>Profesores: </a:t>
            </a:r>
            <a:r>
              <a:rPr b="1" i="1" lang="es-ES" sz="1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i="1" lang="es-ES" sz="1800" spc="-1" strike="noStrike">
                <a:solidFill>
                  <a:srgbClr val="339933"/>
                </a:solidFill>
                <a:latin typeface="Tahoma"/>
              </a:rPr>
              <a:t>Rodrigo Salas Portugu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i="1" lang="es-CL" sz="1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i="1" lang="es-CL" sz="1800" spc="-1" strike="noStrike">
                <a:solidFill>
                  <a:srgbClr val="339933"/>
                </a:solidFill>
                <a:latin typeface="Tahoma"/>
              </a:rPr>
              <a:t>Ivan Santander Cep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590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87280" y="387684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i="1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ahoma"/>
              </a:rPr>
              <a:t>Click to edit the outline text format</a:t>
            </a:r>
            <a:endParaRPr b="1" i="1" lang="en-US" sz="1600" spc="-1" strike="noStrike">
              <a:solidFill>
                <a:srgbClr val="cc0000"/>
              </a:solidFill>
              <a:latin typeface="Tahoma"/>
            </a:endParaRPr>
          </a:p>
          <a:p>
            <a:pPr lvl="1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algn="ctr"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algn="ctr">
              <a:spcBef>
                <a:spcPts val="550"/>
              </a:spcBef>
              <a:buClr>
                <a:srgbClr val="00e4a8"/>
              </a:buClr>
              <a:buSzPct val="5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5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6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284640"/>
            <a:ext cx="7086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66"/>
                </a:solidFill>
                <a:latin typeface="Tahoma"/>
              </a:rPr>
              <a:t>METODOLOGIA PARA EL DIAGNOSTICO DE LA SITUACIO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7360" y="160020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Algunos mét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51460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formación actualizada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ensos - Redat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udios 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oyecciones inter – cen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nteo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638680"/>
            <a:ext cx="64008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Siempre es recomendable cruzar la información para verificar su 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260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46520" y="1600200"/>
            <a:ext cx="52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Proyecciones inter - cen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4000" y="2421000"/>
            <a:ext cx="5041800" cy="1224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24000" y="3860640"/>
            <a:ext cx="511344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89240" y="5013360"/>
            <a:ext cx="54036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Donde: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TC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Tasa de crecimiento 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            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es-MX" sz="1400" spc="-1" strike="noStrike" baseline="-25000">
                <a:solidFill>
                  <a:srgbClr val="40458c"/>
                </a:solidFill>
                <a:latin typeface="Tahoma"/>
              </a:rPr>
              <a:t>t  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Población año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es-MX" sz="1400" spc="-1" strike="noStrike" baseline="-25000">
                <a:solidFill>
                  <a:srgbClr val="40458c"/>
                </a:solidFill>
                <a:latin typeface="Tahoma"/>
              </a:rPr>
              <a:t>0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Población año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n 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número de años entre población final e in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t  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1" lang="es-MX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40458c"/>
                </a:solidFill>
                <a:latin typeface="Tahoma"/>
              </a:rPr>
              <a:t>número de años a proyec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03640" y="3825720"/>
                <a:ext cx="28810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24000" y="2565360"/>
                <a:ext cx="49212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022480" y="1600200"/>
            <a:ext cx="52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Proyecciones inter - cen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7320" y="2286000"/>
            <a:ext cx="7823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jemplo: Cálculo de la tasa de crecimiento pobl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oblación 1992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3.500 hab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oblación 2002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4.900 h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Número de años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86200" y="2666880"/>
            <a:ext cx="4952520" cy="1273320"/>
            <a:chOff x="3886200" y="2666880"/>
            <a:chExt cx="4952520" cy="1273320"/>
          </a:xfrm>
        </p:grpSpPr>
        <p:sp>
          <p:nvSpPr>
            <p:cNvPr id="145" name=""/>
            <p:cNvSpPr/>
            <p:nvPr/>
          </p:nvSpPr>
          <p:spPr>
            <a:xfrm>
              <a:off x="3886200" y="2666880"/>
              <a:ext cx="4952520" cy="12733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TC =100 *  (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000" spc="-1" strike="noStrike" baseline="36000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- 1) = 3.42%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45160" y="2805120"/>
              <a:ext cx="237960" cy="871200"/>
            </a:xfrm>
            <a:custGeom>
              <a:avLst/>
              <a:gdLst/>
              <a:ahLst/>
              <a:rect l="l" t="t" r="r" b="b"/>
              <a:pathLst>
                <a:path w="248" h="1336">
                  <a:moveTo>
                    <a:pt x="0" y="736"/>
                  </a:moveTo>
                  <a:cubicBezTo>
                    <a:pt x="8" y="620"/>
                    <a:pt x="16" y="504"/>
                    <a:pt x="48" y="592"/>
                  </a:cubicBezTo>
                  <a:cubicBezTo>
                    <a:pt x="80" y="680"/>
                    <a:pt x="160" y="1336"/>
                    <a:pt x="192" y="1264"/>
                  </a:cubicBezTo>
                  <a:cubicBezTo>
                    <a:pt x="224" y="1192"/>
                    <a:pt x="232" y="320"/>
                    <a:pt x="240" y="160"/>
                  </a:cubicBezTo>
                  <a:cubicBezTo>
                    <a:pt x="248" y="0"/>
                    <a:pt x="240" y="280"/>
                    <a:pt x="240" y="304"/>
                  </a:cubicBezTo>
                </a:path>
              </a:pathLst>
            </a:custGeom>
            <a:gradFill rotWithShape="0">
              <a:gsLst>
                <a:gs pos="0">
                  <a:srgbClr val="ffcc99"/>
                </a:gs>
                <a:gs pos="5000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83480" y="2867760"/>
              <a:ext cx="1199520" cy="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42960" y="3003120"/>
              <a:ext cx="1457640" cy="8625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99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4.9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3.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22880" y="33368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812880" y="4114800"/>
            <a:ext cx="78231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jemplo: Proyección de la pob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oblación 2002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4.900 hab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Tasa crecimiento: 3.42%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n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ño </a:t>
            </a: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 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ño 1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5334120"/>
            <a:ext cx="5562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99"/>
              </a:gs>
              <a:gs pos="100000">
                <a:srgbClr val="ffcc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.900 * (1 + 3,42 / 10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6.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4.900 * (1 + 3,42 / 100)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8.9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60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48440" y="160020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40458c"/>
                </a:solidFill>
                <a:uFillTx/>
                <a:latin typeface="Tahoma"/>
              </a:rPr>
              <a:t>Estudio específico (censo o muest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2514600"/>
            <a:ext cx="74674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Definición geográfica de la pobl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Recopilación de cartograf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Actualización de cartograf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numeración (conteo de viviend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Diseño y selección de la mue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ncuesta muest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Revisión y procesamiento de los da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579132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Este método ha demostrado ser confiable, expedito, práctico y de bajo 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3560" y="1650960"/>
            <a:ext cx="82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Estudio específico: ejemplo de proce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514600"/>
            <a:ext cx="6248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Enumeración de viv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11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.850 viviendas parti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 hogares col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Selección de la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11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Muestra del 10%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85 viv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Todos los hogares col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Resultado Encue</a:t>
            </a:r>
            <a:r>
              <a:rPr b="1" lang="es-MX" sz="24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ta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11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3.056 personas en las 485 viv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286 personas en los hogares col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2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44680" y="44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560" y="1650960"/>
            <a:ext cx="82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Estudio específico: ejemplo de proce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ntinuació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rocesamiento de l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925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58c"/>
                </a:solidFill>
                <a:latin typeface="Tahoma"/>
              </a:rPr>
              <a:t>Determinación del Nº de personas por viviend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3.056 / 485 = 6.3 pers./vi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925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58c"/>
                </a:solidFill>
                <a:latin typeface="Tahoma"/>
              </a:rPr>
              <a:t>Cálculo del total de personas en vivien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4.850 x 6.3 = 30.555 perso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925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58c"/>
                </a:solidFill>
                <a:latin typeface="Tahoma"/>
              </a:rPr>
              <a:t>Cálculo de la población 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30.555 + 286 = 30.823 habitante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Estimación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2120" y="1600200"/>
            <a:ext cx="79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Caso: Cálculo Población Afectada y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2228760"/>
            <a:ext cx="76964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En la comuna de “Las Llanuras”, que tiene un total de 45.000 viviendas. Posee un promedio de 5 habitantes por vivie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Si un proyecto, en una localidad de esta comuna, pretende entregar conexión al sistema de agua potable al 60% de las viviendas no conectadas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Si en dicho sector existen 200 viviendas conectadas, las que representan el 25% del total, enton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Número de Vivien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sin conexión = 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A beneficiar  = 3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Pob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Afectada:  600 viv. * 5 pers. = 3.000 h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Objetivo :  360 viv.* 5 pers. = 1.800 h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5943600"/>
            <a:ext cx="720720" cy="35892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352" h="21600">
                <a:moveTo>
                  <a:pt x="0" y="0"/>
                </a:moveTo>
                <a:lnTo>
                  <a:pt x="43352" y="0"/>
                </a:lnTo>
                <a:lnTo>
                  <a:pt x="43352" y="21600"/>
                </a:lnTo>
                <a:lnTo>
                  <a:pt x="0" y="21600"/>
                </a:lnTo>
                <a:close/>
              </a:path>
              <a:path fill="lightenLess" w="43352" h="21600">
                <a:moveTo>
                  <a:pt x="0" y="0"/>
                </a:moveTo>
                <a:lnTo>
                  <a:pt x="43352" y="0"/>
                </a:lnTo>
                <a:lnTo>
                  <a:pt x="41952" y="1400"/>
                </a:lnTo>
                <a:lnTo>
                  <a:pt x="1400" y="1400"/>
                </a:lnTo>
                <a:close/>
              </a:path>
              <a:path fill="darken" w="43352" h="21600">
                <a:moveTo>
                  <a:pt x="43352" y="0"/>
                </a:moveTo>
                <a:lnTo>
                  <a:pt x="43352" y="21600"/>
                </a:lnTo>
                <a:lnTo>
                  <a:pt x="41952" y="20200"/>
                </a:lnTo>
                <a:lnTo>
                  <a:pt x="41952" y="1400"/>
                </a:lnTo>
                <a:close/>
              </a:path>
              <a:path fill="darkenLess" w="43352" h="21600">
                <a:moveTo>
                  <a:pt x="4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52" y="20200"/>
                </a:lnTo>
                <a:close/>
              </a:path>
              <a:path fill="lighten" w="4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52" h="21600">
                <a:moveTo>
                  <a:pt x="14669" y="10800"/>
                </a:moveTo>
                <a:lnTo>
                  <a:pt x="28682" y="3794"/>
                </a:lnTo>
                <a:lnTo>
                  <a:pt x="28682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Análisis de la Dem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8680" y="160020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Algunos métodos de esti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838080" y="2286000"/>
            <a:ext cx="7238880" cy="4038120"/>
            <a:chOff x="838080" y="2286000"/>
            <a:chExt cx="7238880" cy="4038120"/>
          </a:xfrm>
        </p:grpSpPr>
        <p:grpSp>
          <p:nvGrpSpPr>
            <p:cNvPr id="170" name=""/>
            <p:cNvGrpSpPr/>
            <p:nvPr/>
          </p:nvGrpSpPr>
          <p:grpSpPr>
            <a:xfrm>
              <a:off x="845640" y="2291400"/>
              <a:ext cx="7221960" cy="4025880"/>
              <a:chOff x="845640" y="2291400"/>
              <a:chExt cx="7221960" cy="402588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845640" y="2291400"/>
                <a:ext cx="4028400" cy="1251000"/>
                <a:chOff x="845640" y="2291400"/>
                <a:chExt cx="4028400" cy="12510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919080" y="2291400"/>
                  <a:ext cx="3880800" cy="12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 partir de la población afecta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45640" y="2291400"/>
                  <a:ext cx="4028400" cy="12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874400" y="2291400"/>
                <a:ext cx="3193200" cy="1251000"/>
                <a:chOff x="4874400" y="2291400"/>
                <a:chExt cx="3193200" cy="1251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948560" y="2291400"/>
                  <a:ext cx="3045240" cy="12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D  =   P  x  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es-E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D = Demanda esperad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es-E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P = Población caren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es-E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C = </a:t>
                  </a:r>
                  <a:r>
                    <a:rPr b="0" i="1" lang="es-ES" sz="14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Consumo normal per cápi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874400" y="2291400"/>
                  <a:ext cx="3193200" cy="12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845640" y="3542760"/>
                <a:ext cx="4028400" cy="1033200"/>
                <a:chOff x="845640" y="3542760"/>
                <a:chExt cx="4028400" cy="10332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919080" y="3542760"/>
                  <a:ext cx="38808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 partir de registros históricos de consu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45640" y="3542760"/>
                  <a:ext cx="40284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4874400" y="3542760"/>
                <a:ext cx="3193200" cy="1033200"/>
                <a:chOff x="4874400" y="3542760"/>
                <a:chExt cx="3193200" cy="10332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948560" y="3542760"/>
                  <a:ext cx="304524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Definir una tendenc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justar sobre esa tendenc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nalizar resultados esper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74400" y="3542760"/>
                  <a:ext cx="31932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845640" y="4576320"/>
                <a:ext cx="4028400" cy="870120"/>
                <a:chOff x="845640" y="4576320"/>
                <a:chExt cx="4028400" cy="870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919080" y="4576320"/>
                  <a:ext cx="388080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Se puede hacer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45640" y="4576320"/>
                  <a:ext cx="40284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874400" y="4576320"/>
                <a:ext cx="3193200" cy="870120"/>
                <a:chOff x="4874400" y="4576320"/>
                <a:chExt cx="3193200" cy="870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948560" y="4576320"/>
                  <a:ext cx="30452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Gráficamen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Analíticamen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874400" y="4576320"/>
                  <a:ext cx="31932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845640" y="5447160"/>
                <a:ext cx="4028400" cy="870120"/>
                <a:chOff x="845640" y="5447160"/>
                <a:chExt cx="4028400" cy="8701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919080" y="5447160"/>
                  <a:ext cx="388080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0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Otros métod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45640" y="5447160"/>
                  <a:ext cx="40284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4874400" y="5447160"/>
                <a:ext cx="3193200" cy="870120"/>
                <a:chOff x="4874400" y="5447160"/>
                <a:chExt cx="3193200" cy="8701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4948560" y="5447160"/>
                  <a:ext cx="30452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57168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Registro de solicitud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40458c"/>
                    </a:buClr>
                    <a:buFont typeface="Tahoma"/>
                    <a:buChar char="•"/>
                    <a:tabLst>
                      <a:tab algn="l" pos="57168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ahoma"/>
                      <a:ea typeface="Tahoma"/>
                    </a:rPr>
                    <a:t>Encuestas a usuari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190440" indent="-190440">
                    <a:lnSpc>
                      <a:spcPct val="100000"/>
                    </a:lnSpc>
                    <a:buClr>
                      <a:srgbClr val="40458c"/>
                    </a:buClr>
                    <a:buFont typeface="Tahoma"/>
                    <a:buChar char="•"/>
                    <a:tabLst>
                      <a:tab algn="l" pos="57168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874400" y="5447160"/>
                  <a:ext cx="31932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5" name=""/>
            <p:cNvSpPr/>
            <p:nvPr/>
          </p:nvSpPr>
          <p:spPr>
            <a:xfrm>
              <a:off x="838080" y="2286000"/>
              <a:ext cx="7238880" cy="40381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Análisis de la Dema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02560" y="1676520"/>
            <a:ext cx="48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Proyección de la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590920"/>
            <a:ext cx="7543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royectar la Demanda es estimar la evolución de la misma a mediano plazo, por ejemplo,  a 10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demanda se proyecta de acuerdo al crecimiento poblacional y/o variables específ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Uno de los objetivos de conocer dicha estimación, es que ésta ayuda a definir el tamaño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867280"/>
            <a:ext cx="720720" cy="35892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352" h="21600">
                <a:moveTo>
                  <a:pt x="0" y="0"/>
                </a:moveTo>
                <a:lnTo>
                  <a:pt x="43352" y="0"/>
                </a:lnTo>
                <a:lnTo>
                  <a:pt x="43352" y="21600"/>
                </a:lnTo>
                <a:lnTo>
                  <a:pt x="0" y="21600"/>
                </a:lnTo>
                <a:close/>
              </a:path>
              <a:path fill="lightenLess" w="43352" h="21600">
                <a:moveTo>
                  <a:pt x="0" y="0"/>
                </a:moveTo>
                <a:lnTo>
                  <a:pt x="43352" y="0"/>
                </a:lnTo>
                <a:lnTo>
                  <a:pt x="41952" y="1400"/>
                </a:lnTo>
                <a:lnTo>
                  <a:pt x="1400" y="1400"/>
                </a:lnTo>
                <a:close/>
              </a:path>
              <a:path fill="darken" w="43352" h="21600">
                <a:moveTo>
                  <a:pt x="43352" y="0"/>
                </a:moveTo>
                <a:lnTo>
                  <a:pt x="43352" y="21600"/>
                </a:lnTo>
                <a:lnTo>
                  <a:pt x="41952" y="20200"/>
                </a:lnTo>
                <a:lnTo>
                  <a:pt x="41952" y="1400"/>
                </a:lnTo>
                <a:close/>
              </a:path>
              <a:path fill="darkenLess" w="43352" h="21600">
                <a:moveTo>
                  <a:pt x="4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52" y="20200"/>
                </a:lnTo>
                <a:close/>
              </a:path>
              <a:path fill="lighten" w="4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52" h="21600">
                <a:moveTo>
                  <a:pt x="14669" y="10800"/>
                </a:moveTo>
                <a:lnTo>
                  <a:pt x="28682" y="3794"/>
                </a:lnTo>
                <a:lnTo>
                  <a:pt x="28682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666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Estudio de la Ofer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752480"/>
            <a:ext cx="7696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el volumen de servicio provisto en el área de influ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oferta se proyecta considerando la evolución esperada de los servicios actualmente provistos con un mantenimiento adecu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ara su estimación consider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apacidad de la infraestructura existente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quipos y personal calificado dispon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umplimiento de normas de calidad de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volución esperada de la situación actual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6080" y="6019920"/>
            <a:ext cx="720720" cy="3585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3395" h="21600">
                <a:moveTo>
                  <a:pt x="0" y="0"/>
                </a:moveTo>
                <a:lnTo>
                  <a:pt x="43395" y="0"/>
                </a:lnTo>
                <a:lnTo>
                  <a:pt x="43395" y="21600"/>
                </a:lnTo>
                <a:lnTo>
                  <a:pt x="0" y="21600"/>
                </a:lnTo>
                <a:close/>
              </a:path>
              <a:path fill="lightenLess" w="43395" h="21600">
                <a:moveTo>
                  <a:pt x="0" y="0"/>
                </a:moveTo>
                <a:lnTo>
                  <a:pt x="43395" y="0"/>
                </a:lnTo>
                <a:lnTo>
                  <a:pt x="41995" y="1400"/>
                </a:lnTo>
                <a:lnTo>
                  <a:pt x="1400" y="1400"/>
                </a:lnTo>
                <a:close/>
              </a:path>
              <a:path fill="darken" w="43395" h="21600">
                <a:moveTo>
                  <a:pt x="43395" y="0"/>
                </a:moveTo>
                <a:lnTo>
                  <a:pt x="43395" y="21600"/>
                </a:lnTo>
                <a:lnTo>
                  <a:pt x="41995" y="20200"/>
                </a:lnTo>
                <a:lnTo>
                  <a:pt x="41995" y="1400"/>
                </a:lnTo>
                <a:close/>
              </a:path>
              <a:path fill="darkenLess" w="43395" h="21600">
                <a:moveTo>
                  <a:pt x="43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95" y="20200"/>
                </a:lnTo>
                <a:close/>
              </a:path>
              <a:path fill="lighten" w="43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95" h="21600">
                <a:moveTo>
                  <a:pt x="14691" y="10800"/>
                </a:moveTo>
                <a:lnTo>
                  <a:pt x="28704" y="3794"/>
                </a:lnTo>
                <a:lnTo>
                  <a:pt x="2870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836640"/>
            <a:ext cx="70102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PREPARACIÓN DE PROYECTOS</a:t>
            </a: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El Ciclo de Vida de los 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Metodología para análisis y solución de probl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Diagnóstico de la situación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Análisis de problema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Identificación del problema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Elaboración de la líne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Identificación de la Población objetiv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Á</a:t>
            </a: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rea de estudio y de influ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Análisis de la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Análisis de la 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Cálculo del défic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Características de con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Analizar grupos relev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Análisis de causas y ef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Identificación de medios y f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buSzPct val="102812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Tahoma"/>
              </a:rPr>
              <a:t>Áreas de intervención, viabilidad e impor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5000"/>
              </a:lnSpc>
              <a:spcBef>
                <a:spcPts val="37"/>
              </a:spcBef>
              <a:spcAft>
                <a:spcPts val="37"/>
              </a:spcAft>
              <a:buSzPct val="102426"/>
              <a:buBlip>
                <a:blip r:embed="rId1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89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260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álculo y Proyección del Défic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905120"/>
            <a:ext cx="77472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la diferencia entre demanda y oferta proyect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éficit puede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800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ntitativo (cober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litativo (calidad)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7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función del momento del tiempo en que se consideren la demanda y la oferta se tendrá 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1800"/>
              </a:spcBef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éficit Actual 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éficit Proyec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FUNCIONES DEL DIAGNÓSTIC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ahoma"/>
              </a:rPr>
              <a:t>La Descrip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aracteriza el problema y cuantifica su magnitud y distribución en l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Población objetivo. La línea base resume dicha información, mostrado el valor del o los indicadores del problema al momento del diagnóstico y sus tendencias futu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ahoma"/>
              </a:rPr>
              <a:t>La Explic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Plantea la estructura causal cualitativa y cuantitativa de las variables que determinan el problema central. Se lleva a cabo para establecer qué y cuantos es necesario entregar para solucionar total o parcialmente el problema centr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ahoma"/>
              </a:rPr>
              <a:t>CONTINUACIÓ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42508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Existe un problem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 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Que magnitud tien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Se cuenta con información adecuad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Quiénes están afectados? (población afectada y objetiv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 es el entorno demográfico, geográfico, económico y social del problem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es son los actores relevantes del problem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es son sus principales causas y consecuencia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Qué oferta existe para solucionarl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¿ Cuáles son las principales dificultades para enfrentarl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4267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Pasos a segui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6045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ición del área de estudi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terminación del área de influenc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blación objetiv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álisis de la deman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álisis de la ofer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6280" indent="-476280">
              <a:lnSpc>
                <a:spcPct val="90000"/>
              </a:lnSpc>
              <a:spcBef>
                <a:spcPts val="165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álculo del défic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6267600" y="21528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05400" y="2876400"/>
            <a:ext cx="648000" cy="360360"/>
          </a:xfrm>
          <a:custGeom>
            <a:avLst/>
            <a:gdLst>
              <a:gd name="textAreaLeft" fmla="*/ 23040 w 648000"/>
              <a:gd name="textAreaRight" fmla="*/ 624960 w 64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24" h="21600">
                <a:moveTo>
                  <a:pt x="0" y="0"/>
                </a:moveTo>
                <a:lnTo>
                  <a:pt x="38824" y="0"/>
                </a:lnTo>
                <a:lnTo>
                  <a:pt x="38824" y="21600"/>
                </a:lnTo>
                <a:lnTo>
                  <a:pt x="0" y="21600"/>
                </a:lnTo>
                <a:close/>
              </a:path>
              <a:path fill="lightenLess" w="38824" h="21600">
                <a:moveTo>
                  <a:pt x="0" y="0"/>
                </a:moveTo>
                <a:lnTo>
                  <a:pt x="38824" y="0"/>
                </a:lnTo>
                <a:lnTo>
                  <a:pt x="37424" y="1400"/>
                </a:lnTo>
                <a:lnTo>
                  <a:pt x="1400" y="1400"/>
                </a:lnTo>
                <a:close/>
              </a:path>
              <a:path fill="darken" w="38824" h="21600">
                <a:moveTo>
                  <a:pt x="38824" y="0"/>
                </a:moveTo>
                <a:lnTo>
                  <a:pt x="38824" y="21600"/>
                </a:lnTo>
                <a:lnTo>
                  <a:pt x="37424" y="20200"/>
                </a:lnTo>
                <a:lnTo>
                  <a:pt x="37424" y="1400"/>
                </a:lnTo>
                <a:close/>
              </a:path>
              <a:path fill="darkenLess" w="38824" h="21600">
                <a:moveTo>
                  <a:pt x="38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24" y="20200"/>
                </a:lnTo>
                <a:close/>
              </a:path>
              <a:path fill="lighten" w="38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24" h="21600">
                <a:moveTo>
                  <a:pt x="12405" y="3794"/>
                </a:moveTo>
                <a:lnTo>
                  <a:pt x="26418" y="10800"/>
                </a:lnTo>
                <a:lnTo>
                  <a:pt x="1240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3560" y="38862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62640" y="44766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81720" y="50864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58104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5960" y="142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Definición del Área de Estudi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Zona geográfica que sirve para contextualizar el problema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142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Su definición depende de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d de servicios existen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ímites relevan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828800" indent="-209520" algn="just">
              <a:buClr>
                <a:srgbClr val="40458c"/>
              </a:buClr>
              <a:buSzPct val="5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eográfic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828800" indent="-209520" algn="just">
              <a:buClr>
                <a:srgbClr val="40458c"/>
              </a:buClr>
              <a:buSzPct val="5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dministra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142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Reco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" sz="1900" spc="-1" strike="noStrike">
                <a:solidFill>
                  <a:srgbClr val="000000"/>
                </a:solidFill>
                <a:latin typeface="Tahoma"/>
              </a:rPr>
              <a:t>ilar información sobre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spcBef>
                <a:spcPts val="799"/>
              </a:spcBef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Tipo de zona (urbana, rural, mix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ndiciones socio – económicas de la pobl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ocalización de la población por estrato socio-económic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fraestructura de la zo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spectos cultur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123920" indent="-266760" algn="just">
              <a:buClr>
                <a:srgbClr val="40458c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stitucionalidad y administración sectori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6172200"/>
            <a:ext cx="720720" cy="434880"/>
          </a:xfrm>
          <a:custGeom>
            <a:avLst/>
            <a:gdLst>
              <a:gd name="textAreaLeft" fmla="*/ 28080 w 720720"/>
              <a:gd name="textAreaRight" fmla="*/ 692640 w 720720"/>
              <a:gd name="textAreaTop" fmla="*/ 28080 h 434880"/>
              <a:gd name="textAreaBottom" fmla="*/ 406800 h 434880"/>
            </a:gdLst>
            <a:ahLst/>
            <a:rect l="textAreaLeft" t="textAreaTop" r="textAreaRight" b="textAreaBottom"/>
            <a:pathLst>
              <a:path w="35786" h="21600">
                <a:moveTo>
                  <a:pt x="0" y="0"/>
                </a:moveTo>
                <a:lnTo>
                  <a:pt x="35786" y="0"/>
                </a:lnTo>
                <a:lnTo>
                  <a:pt x="35786" y="21600"/>
                </a:lnTo>
                <a:lnTo>
                  <a:pt x="0" y="21600"/>
                </a:lnTo>
                <a:close/>
              </a:path>
              <a:path fill="lightenLess" w="35786" h="21600">
                <a:moveTo>
                  <a:pt x="0" y="0"/>
                </a:moveTo>
                <a:lnTo>
                  <a:pt x="35786" y="0"/>
                </a:lnTo>
                <a:lnTo>
                  <a:pt x="34386" y="1400"/>
                </a:lnTo>
                <a:lnTo>
                  <a:pt x="1400" y="1400"/>
                </a:lnTo>
                <a:close/>
              </a:path>
              <a:path fill="darken" w="35786" h="21600">
                <a:moveTo>
                  <a:pt x="35786" y="0"/>
                </a:moveTo>
                <a:lnTo>
                  <a:pt x="35786" y="21600"/>
                </a:lnTo>
                <a:lnTo>
                  <a:pt x="34386" y="20200"/>
                </a:lnTo>
                <a:lnTo>
                  <a:pt x="34386" y="1400"/>
                </a:lnTo>
                <a:close/>
              </a:path>
              <a:path fill="darkenLess" w="35786" h="21600">
                <a:moveTo>
                  <a:pt x="3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86" y="20200"/>
                </a:lnTo>
                <a:close/>
              </a:path>
              <a:path fill="lighten" w="3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86" h="21600">
                <a:moveTo>
                  <a:pt x="10886" y="10800"/>
                </a:moveTo>
                <a:lnTo>
                  <a:pt x="24899" y="3794"/>
                </a:lnTo>
                <a:lnTo>
                  <a:pt x="2489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99"/>
                </a:solidFill>
                <a:latin typeface="Tahoma"/>
              </a:rPr>
              <a:t>Determinación del Área de Influenc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arca los límites dentro de los cuales un proyecto podría constituir una solución real al problema detectad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uede ser igual al área de estudio o un subconjunto de ella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ara su delimitación se debe considerar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bicación de la población afect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bles localizaciones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ciones de acces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vel socio-económico de la población afect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880" indent="-3621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pectos administrativos e institucio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6172200"/>
            <a:ext cx="720720" cy="434880"/>
          </a:xfrm>
          <a:custGeom>
            <a:avLst/>
            <a:gdLst>
              <a:gd name="textAreaLeft" fmla="*/ 28080 w 720720"/>
              <a:gd name="textAreaRight" fmla="*/ 692640 w 720720"/>
              <a:gd name="textAreaTop" fmla="*/ 28080 h 434880"/>
              <a:gd name="textAreaBottom" fmla="*/ 406800 h 434880"/>
            </a:gdLst>
            <a:ahLst/>
            <a:rect l="textAreaLeft" t="textAreaTop" r="textAreaRight" b="textAreaBottom"/>
            <a:pathLst>
              <a:path w="35786" h="21600">
                <a:moveTo>
                  <a:pt x="0" y="0"/>
                </a:moveTo>
                <a:lnTo>
                  <a:pt x="35786" y="0"/>
                </a:lnTo>
                <a:lnTo>
                  <a:pt x="35786" y="21600"/>
                </a:lnTo>
                <a:lnTo>
                  <a:pt x="0" y="21600"/>
                </a:lnTo>
                <a:close/>
              </a:path>
              <a:path fill="lightenLess" w="35786" h="21600">
                <a:moveTo>
                  <a:pt x="0" y="0"/>
                </a:moveTo>
                <a:lnTo>
                  <a:pt x="35786" y="0"/>
                </a:lnTo>
                <a:lnTo>
                  <a:pt x="34386" y="1400"/>
                </a:lnTo>
                <a:lnTo>
                  <a:pt x="1400" y="1400"/>
                </a:lnTo>
                <a:close/>
              </a:path>
              <a:path fill="darken" w="35786" h="21600">
                <a:moveTo>
                  <a:pt x="35786" y="0"/>
                </a:moveTo>
                <a:lnTo>
                  <a:pt x="35786" y="21600"/>
                </a:lnTo>
                <a:lnTo>
                  <a:pt x="34386" y="20200"/>
                </a:lnTo>
                <a:lnTo>
                  <a:pt x="34386" y="1400"/>
                </a:lnTo>
                <a:close/>
              </a:path>
              <a:path fill="darkenLess" w="35786" h="21600">
                <a:moveTo>
                  <a:pt x="3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86" y="20200"/>
                </a:lnTo>
                <a:close/>
              </a:path>
              <a:path fill="lighten" w="3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86" h="21600">
                <a:moveTo>
                  <a:pt x="10886" y="10800"/>
                </a:moveTo>
                <a:lnTo>
                  <a:pt x="24899" y="3794"/>
                </a:lnTo>
                <a:lnTo>
                  <a:pt x="2489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oblación</a:t>
            </a:r>
            <a:r>
              <a:rPr b="0" lang="es-MX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037040" y="1903320"/>
            <a:ext cx="2516040" cy="98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Población Poten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Posterg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1905120"/>
            <a:ext cx="228600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Tahoma"/>
              </a:rPr>
              <a:t>Població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Tahoma"/>
              </a:rPr>
              <a:t>Objetiv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28954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28954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50292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505320"/>
            <a:ext cx="3200400" cy="15238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Poblac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sin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3505320"/>
            <a:ext cx="4495680" cy="15238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blación pot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Con Problema, Carenc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 Afect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5410080"/>
            <a:ext cx="792468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Población de Referenc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50292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46160"/>
            <a:ext cx="7924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Ejemplos de relaciones de pob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60480"/>
          <a:ext cx="7924680" cy="4662720"/>
        </p:xfrm>
        <a:graphic>
          <a:graphicData uri="http://schemas.openxmlformats.org/drawingml/2006/table">
            <a:tbl>
              <a:tblPr/>
              <a:tblGrid>
                <a:gridCol w="1474560"/>
                <a:gridCol w="1695600"/>
                <a:gridCol w="1584360"/>
                <a:gridCol w="1585800"/>
                <a:gridCol w="1584360"/>
              </a:tblGrid>
              <a:tr h="55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le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de </a:t>
                      </a:r>
                      <a:r>
                        <a:rPr b="1" i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feren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 proble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</a:t>
                      </a:r>
                      <a:r>
                        <a:rPr b="1" i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tenc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objeti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95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asez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 agua pot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conectada al 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carente del 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ona norte: 70% de la población car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80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la Calidad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ervicio de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115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ficiencia del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rograma mate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total de 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 de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tendi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no atendi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jeres entre 14 y 45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no atendi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119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a tasa de deser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ol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blación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 edad 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olar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e la comu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ños entre 6 y 13 años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ue asisten al coleg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ños entre 6 y 13 años, que NO asisten al colegio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50 ni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00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i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99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15:53:36Z</dcterms:created>
  <dc:creator>Ministerio de Planificación y Cooperación</dc:creator>
  <dc:description/>
  <cp:keywords/>
  <dc:language>en-US</dc:language>
  <cp:lastModifiedBy>Ivan Santander</cp:lastModifiedBy>
  <cp:lastPrinted>1999-09-01T21:34:52Z</cp:lastPrinted>
  <dcterms:modified xsi:type="dcterms:W3CDTF">2008-04-16T21:06:47Z</dcterms:modified>
  <cp:revision>157</cp:revision>
  <dc:subject/>
  <dc:title>ARBOL DE CAUSAS Y EFECTOS</dc:title>
</cp:coreProperties>
</file>