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11026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D98C-8CA1-430E-8D31-4580E4940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E7A5-4874-4DB1-BD3D-3AEE83F47C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0047-F6D4-4279-8E48-092E762D97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86A6-CB06-4424-95B5-153B1242A6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9C71-0323-489F-8AE0-2D6E5DFAA4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9795-064D-46F5-B779-389231CD6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1172-7F72-460B-9023-66E6FE9C8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1277-655E-4FC0-81DA-BC5506974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B195-D115-4EAD-B17F-EBEAC56641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2581-7C16-4BF8-9205-AF9F46AC6E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8EEB-E41C-4B90-B068-8C9CA6378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E1CD-2688-4FC8-923B-9B206EC19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1413000"/>
            <a:ext cx="86407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900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900000"/>
            <a:ext cx="137880" cy="14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765000"/>
            <a:ext cx="13968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00000"/>
            <a:ext cx="139680" cy="14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1039680"/>
            <a:ext cx="13644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1036800"/>
            <a:ext cx="137880" cy="13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1174680"/>
            <a:ext cx="136440" cy="136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5111640" y="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90920" y="260280"/>
            <a:ext cx="6553080" cy="7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952560" cy="895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320" y="653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5C5-4A22-45EF-898C-EFD8BB6F2E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52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EVALUACIO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73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uela de Gobierno y Gest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37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Profesores: 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Rodrigo Salas Portu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Ivan Santander Cep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38768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i="1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28464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Tahoma"/>
              </a:rPr>
              <a:t>METODOLOGIA PARA EL DIAGNOSTICO DE LA SITUACIO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7360" y="1600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Algunos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ormación actualizad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s - Red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udios 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yecciones inter – cen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6386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iempre es recomendable cruzar la información para verificar su 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4652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2421000"/>
            <a:ext cx="5041800" cy="122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9240" y="5013360"/>
            <a:ext cx="5403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Donde: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C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Tasa de crecimiento 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0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n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entre población final e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a proy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3825720"/>
                <a:ext cx="2881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2565360"/>
                <a:ext cx="4921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48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20" y="2286000"/>
            <a:ext cx="7823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Cálculo de la tasa de crecimiento pob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199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3.5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Número de años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2666880"/>
            <a:ext cx="4952520" cy="1273320"/>
            <a:chOff x="3886200" y="2666880"/>
            <a:chExt cx="4952520" cy="1273320"/>
          </a:xfrm>
        </p:grpSpPr>
        <p:sp>
          <p:nvSpPr>
            <p:cNvPr id="145" name=""/>
            <p:cNvSpPr/>
            <p:nvPr/>
          </p:nvSpPr>
          <p:spPr>
            <a:xfrm>
              <a:off x="3886200" y="2666880"/>
              <a:ext cx="4952520" cy="12733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C =100 *  (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000" spc="-1" strike="noStrike" baseline="36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 1) = 3.42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5160" y="2805120"/>
              <a:ext cx="237960" cy="871200"/>
            </a:xfrm>
            <a:custGeom>
              <a:avLst/>
              <a:gdLst/>
              <a:ahLst/>
              <a:rect l="l" t="t" r="r" b="b"/>
              <a:pathLst>
                <a:path w="248" h="1336">
                  <a:moveTo>
                    <a:pt x="0" y="736"/>
                  </a:moveTo>
                  <a:cubicBezTo>
                    <a:pt x="8" y="620"/>
                    <a:pt x="16" y="504"/>
                    <a:pt x="48" y="592"/>
                  </a:cubicBezTo>
                  <a:cubicBezTo>
                    <a:pt x="80" y="680"/>
                    <a:pt x="160" y="1336"/>
                    <a:pt x="192" y="1264"/>
                  </a:cubicBezTo>
                  <a:cubicBezTo>
                    <a:pt x="224" y="1192"/>
                    <a:pt x="232" y="320"/>
                    <a:pt x="240" y="160"/>
                  </a:cubicBezTo>
                  <a:cubicBezTo>
                    <a:pt x="248" y="0"/>
                    <a:pt x="240" y="280"/>
                    <a:pt x="240" y="304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480" y="2867760"/>
              <a:ext cx="1199520" cy="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42960" y="3003120"/>
              <a:ext cx="1457640" cy="862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22880" y="333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12880" y="4114800"/>
            <a:ext cx="7823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Proyección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Tasa crecimiento: 3.42%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1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334120"/>
            <a:ext cx="5562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900 * (1 + 3,42 / 1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6.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4.900 * (1 + 3,42 / 100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8440" y="160020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Estudio específico (censo o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51460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efinición geográfica de la 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copil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ctualiz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umeración (conteo de vivien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iseño y selección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cuesta mues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visión y procesamiento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791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Este método ha demostrado ser confiable, expedito, práctico y de 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1460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umeración de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.850 vivienda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elecció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 del 10%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odos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sultado Encue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a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3.056 personas en las 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86 personas en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468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inu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ocesamiento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Determinación del Nº de personas por vivien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.056 / 485 = 6.3 pers./v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l total de personas en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 la población 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0.555 + 286 = 30.823 habitan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160020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Caso: Cálculo Población Afectada y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28760"/>
            <a:ext cx="7696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 comuna de “Las Llanuras”, que tiene un total de 45.000 viviendas. Posee un promedio de 5 habitantes por viv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un proyecto, en una localidad de esta comuna, pretende entregar conexión al sistema de agua potable al 60% de las viviendas no conectad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 en dicho sector existen 200 viviendas conectadas, las que representan el 25% del total, ento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Número de Vivie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n conexión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 beneficiar  =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fectada:  600 viv. * 5 pers. = 3.0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Objetivo :  360 viv.* 5 pers. = 1.8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594360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8680" y="1600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lgunos métodos de esti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2286000"/>
            <a:ext cx="7238880" cy="4038120"/>
            <a:chOff x="838080" y="2286000"/>
            <a:chExt cx="7238880" cy="4038120"/>
          </a:xfrm>
        </p:grpSpPr>
        <p:grpSp>
          <p:nvGrpSpPr>
            <p:cNvPr id="170" name=""/>
            <p:cNvGrpSpPr/>
            <p:nvPr/>
          </p:nvGrpSpPr>
          <p:grpSpPr>
            <a:xfrm>
              <a:off x="845640" y="2291400"/>
              <a:ext cx="7221960" cy="4025880"/>
              <a:chOff x="845640" y="2291400"/>
              <a:chExt cx="7221960" cy="40258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45640" y="2291400"/>
                <a:ext cx="4028400" cy="1251000"/>
                <a:chOff x="845640" y="2291400"/>
                <a:chExt cx="4028400" cy="1251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19080" y="2291400"/>
                  <a:ext cx="388080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la población afe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45640" y="2291400"/>
                  <a:ext cx="40284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874400" y="2291400"/>
                <a:ext cx="3193200" cy="1251000"/>
                <a:chOff x="4874400" y="2291400"/>
                <a:chExt cx="3193200" cy="1251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8560" y="2291400"/>
                  <a:ext cx="30452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 =   P  x  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= Demanda esper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P = Población car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 = </a:t>
                  </a:r>
                  <a:r>
                    <a:rPr b="0" i="1" lang="es-ES" sz="14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onsumo normal per cápi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4400" y="2291400"/>
                  <a:ext cx="31932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45640" y="3542760"/>
                <a:ext cx="4028400" cy="1033200"/>
                <a:chOff x="845640" y="3542760"/>
                <a:chExt cx="4028400" cy="1033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19080" y="3542760"/>
                  <a:ext cx="38808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registros históricos de consu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45640" y="3542760"/>
                  <a:ext cx="40284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874400" y="3542760"/>
                <a:ext cx="3193200" cy="1033200"/>
                <a:chOff x="4874400" y="3542760"/>
                <a:chExt cx="3193200" cy="1033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48560" y="3542760"/>
                  <a:ext cx="304524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efinir un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justar sobre es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izar resultados esper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4400" y="3542760"/>
                  <a:ext cx="31932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845640" y="4576320"/>
                <a:ext cx="4028400" cy="870120"/>
                <a:chOff x="845640" y="4576320"/>
                <a:chExt cx="4028400" cy="87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19080" y="457632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Se puede hac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5640" y="457632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74400" y="4576320"/>
                <a:ext cx="3193200" cy="870120"/>
                <a:chOff x="4874400" y="4576320"/>
                <a:chExt cx="3193200" cy="870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560" y="457632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Gráf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ít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74400" y="457632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45640" y="5447160"/>
                <a:ext cx="4028400" cy="870120"/>
                <a:chOff x="845640" y="5447160"/>
                <a:chExt cx="4028400" cy="87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19080" y="544716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Otros méto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5640" y="544716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874400" y="5447160"/>
                <a:ext cx="3193200" cy="870120"/>
                <a:chOff x="4874400" y="5447160"/>
                <a:chExt cx="3193200" cy="870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48560" y="544716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Registro de solicitu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Encuestas a usuar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4400" y="544716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838080" y="2286000"/>
              <a:ext cx="723888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2560" y="16765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yección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590920"/>
            <a:ext cx="754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royectar la Demanda es estimar la evolución de la misma a mediano plazo, por ejemplo,  a 1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demanda se proyecta de acuerdo al crecimiento poblacional y/o variabl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no de los objetivos de conocer dicha estimación, es que ésta ayuda a definir el tamañ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8672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tudio de la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696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el volumen de servicio provisto en el área de influ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ferta se proyecta considerando la evolución esperada de los servicios actualmente provistos con un manteni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ara su estimación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apacidad de la infraestructura existente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quipos y personal calificado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umplimiento de normas de calidad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olución esperada de la situación actual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6019920"/>
            <a:ext cx="720720" cy="3585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395" h="21600">
                <a:moveTo>
                  <a:pt x="0" y="0"/>
                </a:moveTo>
                <a:lnTo>
                  <a:pt x="43395" y="0"/>
                </a:lnTo>
                <a:lnTo>
                  <a:pt x="43395" y="21600"/>
                </a:lnTo>
                <a:lnTo>
                  <a:pt x="0" y="21600"/>
                </a:lnTo>
                <a:close/>
              </a:path>
              <a:path fill="lightenLess" w="43395" h="21600">
                <a:moveTo>
                  <a:pt x="0" y="0"/>
                </a:moveTo>
                <a:lnTo>
                  <a:pt x="43395" y="0"/>
                </a:lnTo>
                <a:lnTo>
                  <a:pt x="41995" y="1400"/>
                </a:lnTo>
                <a:lnTo>
                  <a:pt x="1400" y="1400"/>
                </a:lnTo>
                <a:close/>
              </a:path>
              <a:path fill="darken" w="43395" h="21600">
                <a:moveTo>
                  <a:pt x="43395" y="0"/>
                </a:moveTo>
                <a:lnTo>
                  <a:pt x="43395" y="21600"/>
                </a:lnTo>
                <a:lnTo>
                  <a:pt x="41995" y="20200"/>
                </a:lnTo>
                <a:lnTo>
                  <a:pt x="41995" y="1400"/>
                </a:lnTo>
                <a:close/>
              </a:path>
              <a:path fill="darkenLess" w="43395" h="21600">
                <a:moveTo>
                  <a:pt x="4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5" y="20200"/>
                </a:lnTo>
                <a:close/>
              </a:path>
              <a:path fill="lighten" w="4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95" h="21600">
                <a:moveTo>
                  <a:pt x="14691" y="10800"/>
                </a:moveTo>
                <a:lnTo>
                  <a:pt x="28704" y="3794"/>
                </a:lnTo>
                <a:lnTo>
                  <a:pt x="2870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836640"/>
            <a:ext cx="7010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DE PROYECTOS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Ciclo de Vida de los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Diagnóstico de la situación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Análisis de problem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Identificación del problem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Elaboración de la líne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Identificación de la Población objetiv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rea de estudio y de influ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Cálculo del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Características de 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alizar grupos rele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álisis de causas y 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Identificación de medios y 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Áreas de intervención, viabilidad e impor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37"/>
              </a:spcBef>
              <a:spcAft>
                <a:spcPts val="37"/>
              </a:spcAft>
              <a:buSzPct val="10242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89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álculo y Proyección del Déf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747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diferencia entre demanda y oferta proyec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éficit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titativo (cober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itativo (calidad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función del momento del tiempo en que se consideren la demanda y la oferta se tendrá 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Actual 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Proy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UNCIONES DEL DIAGNÓSTIC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Descrip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racteriza el problema y cuantifica su magnitud y distribución en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oblación objetivo. La línea base resume dicha información, mostrado el valor del o los indicadores del problema al momento del diagnóstico y sus tendencias futu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Expl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lantea la estructura causal cualitativa y cuantitativa de las variables que determinan el problema central. Se lleva a cabo para establecer qué y cuantos es necesario entregar para solucionar total o parcialmente el problema cent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NTINU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Existe un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e magnitud tie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Se cuenta con información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iénes están afectados? (población afectada y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 el entorno demográfico, geográfico, económico y social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os actores relevantes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sus principales causas y consecuenci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é oferta existe para solucion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as principales dificultades para enfrent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asos a segui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045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ción del área de estud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ación del área de influ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blación obje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dema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ofer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álculo del défic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267600" y="21528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5400" y="28764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3794"/>
                </a:moveTo>
                <a:lnTo>
                  <a:pt x="26418" y="10800"/>
                </a:lnTo>
                <a:lnTo>
                  <a:pt x="1240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38862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2640" y="44766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1720" y="50864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8104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59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Definición del Área de Estud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Zona geográfica que sirve para contextualizar el problem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Su definición depende 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d de servicios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ímites relev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ográf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dminist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Reco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lar información sob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spcBef>
                <a:spcPts val="799"/>
              </a:spcBef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po de zona (urbana, rural, mix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iciones socio – económicas de la pob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calización de la población por estrato socio-económ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fraestructura de la zo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pectos cultu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stitucionalidad y administración sector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terminación del Área de Influenc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a los límites dentro de los cuales un proyecto podría constituir una solución real al problema detectad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ede ser igual al área de estudio o un subconjunto de ell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 su delimitación se debe consider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bicación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bles localizacione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ciones de acce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vel socio-económico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ectos administrativos e institu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oblación</a:t>
            </a: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37040" y="1903320"/>
            <a:ext cx="2516040" cy="98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sterg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905120"/>
            <a:ext cx="228600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Població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505320"/>
            <a:ext cx="320040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in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449568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Con Problema, Ca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 Afec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92468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Población de Re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4616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jemplos de relaciones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60480"/>
          <a:ext cx="7924680" cy="4662720"/>
        </p:xfrm>
        <a:graphic>
          <a:graphicData uri="http://schemas.openxmlformats.org/drawingml/2006/table">
            <a:tbl>
              <a:tblPr/>
              <a:tblGrid>
                <a:gridCol w="1474560"/>
                <a:gridCol w="1695600"/>
                <a:gridCol w="1584360"/>
                <a:gridCol w="1585800"/>
                <a:gridCol w="1584360"/>
              </a:tblGrid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de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obje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asez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agua pot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onectada a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arente de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ona norte: 70% de la población car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a Cal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ervicio d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ficiencia de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grama mat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tasa de deser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dad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 asisten al cole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, que NO asisten al colegi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50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0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Ministerio de Planificación y Cooperación</dc:creator>
  <dc:description/>
  <cp:keywords/>
  <dc:language>en-US</dc:language>
  <cp:lastModifiedBy>Ivan Santander</cp:lastModifiedBy>
  <cp:lastPrinted>1999-09-01T21:34:52Z</cp:lastPrinted>
  <dcterms:modified xsi:type="dcterms:W3CDTF">2008-04-16T21:06:47Z</dcterms:modified>
  <cp:revision>157</cp:revision>
  <dc:subject/>
  <dc:title>ARBOL DE CAUSAS Y EFECTOS</dc:title>
</cp:coreProperties>
</file>