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B5D-3CE2-4507-8FBD-7A0B0EBD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E54-D202-47CB-B658-3F6776D8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25B-4999-4543-B3E5-0D92C796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768-1F9C-439C-89DA-5505E3E8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DD99-BF7B-4155-9089-83178F70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709C-8AF3-403A-9C49-96E193C2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5DCE-DD25-4D05-81CB-BAC28826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CE72-5700-4A7A-A1BB-3929C008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D470-4BFE-45A9-B6FA-C1D21F0E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05AA-28E4-4C48-8241-7CEC05C1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74D6-A8EA-48FF-ACC9-80D656D0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59D-F5A9-4D28-8669-774FAAE2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540D-C854-4968-B5DF-10D54C69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13CE-8778-4288-B92E-F8B6BE3F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9D6D-076E-45A7-ACA2-2456E393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C8BB-5DA5-46E3-A984-020AC04A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44EB-7A14-40F9-94E9-31D1ADEB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CE7B1-F33B-407A-9A09-704F4EF3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42D32-488A-46BF-9E79-D964A3DE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E8AEC-CFDA-47D6-8F4B-89CB99E3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0D24D-C0D3-4641-BF97-41EA7A2B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FE807-FCAC-442E-BC46-B92D779C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CE3-E9D5-4735-AB4D-E6E96564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D058B-9422-41F3-B919-6E6BEA7A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52CCB-2AD9-46C7-BA44-316518E3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AE0F4-F1C7-4CD5-ACFF-648B15E4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DCE01-A3AC-4273-8FB9-9C4E194B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C4BF2-F0BB-4129-B844-9095274C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D5CFB-A79E-4C3F-9F70-1FEFB73A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F6DB3-897B-447F-A5A5-4A4F617F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8A33B-608E-45C7-9BC1-047191F2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7E67D-D04A-46C4-86A4-7C2C35DA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632E9-17B0-498F-9E28-EB5ECC83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4DA-834F-4350-8D65-8D3A1627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AA8B3-B1A6-41D3-AA35-CF6F494E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EAAE3-C544-4C32-9C69-60C046BF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A1411-1F2C-48C8-8A2D-1413EC43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925B5-D564-4F69-AC4B-BF06518D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9F0D6-F92C-443B-AD19-7266BD41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A5CBE-F235-4EA7-A5FB-85A5B21F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E9332-D7DA-4524-AE6E-F401D1D4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E393E-55DD-4233-9760-D10B4882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9FF1D-2BDC-4036-A385-F3CFE039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D404B-DB9E-41A8-9DB8-7DB3098A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4D8-5509-452D-A803-0DDB0DA3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48568-D2AF-4014-8034-21F180B9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5E8CC-FF8C-4039-A019-B583524A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4CA46-0F9A-49E3-B30A-95576455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4B308-7A98-4CAB-8AE9-5CCDEB68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CDDE3-CB5F-4EF9-8BB0-8C6E965B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A4E09-55A3-4494-888B-CA34CC92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04D63-30B6-4F18-93AB-27020034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4D6D7-9730-4FF6-B002-44FD12D8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29CB0-A79C-4ACE-988E-FDEA65E6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6BF73-E413-4998-9647-73BCAAB3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C0F4-46CC-44B1-B8AA-CAAA814D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CF4E5-6563-4C68-B51B-78DEA70E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3E4F6-47A8-454B-9F92-65F60C29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0CF20-A94D-4504-B716-F2251555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20FD0-FCD9-4A04-B35B-327C019C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9B98A-2B84-4967-B530-A5865AD0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AD667-1D50-491E-9F94-E8EB4783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3AB53-ACA7-4908-8B8D-5E6DB915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17811-3E3F-4DF5-B610-36414C75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133FE-D815-4565-AC9C-F48447DB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0396C-91FC-4AF8-A7A3-347D3064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6C43-28A0-4FA0-9260-3AAFEAB9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FC25D-38F7-482A-8A58-D769E74A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6B4F1-A3DA-4DA0-AE48-3F152A7F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1B0BE-6855-48F5-AAC9-5995FC1F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E13E5-0564-4CAE-8251-33166576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0A027-F6A8-4551-8063-D468AB5F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251D6-9176-4551-AA61-F7F78733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3D36B-42DE-4EA5-81EC-4DA3492E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03380-718D-4535-BF11-3C63F53A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F560A-D62F-4862-B113-C8FC883E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1CD32-AF25-4EB2-A47F-73BD00B2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5CE-0AEE-489E-A207-8F9C47F2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31321-BA16-4684-AA9B-BC9CCB61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486A6-0BEF-4840-9245-4D92CBDA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E50FC-B953-446E-9B1A-4516A101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49637-42ED-404F-AD25-F32B9639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4FEDA-D57C-4B6A-9DA2-68086804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3D2D8-122E-417C-8B91-4A85544F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3B999-F63B-4970-810C-81612B28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01579-72CB-433D-A2FE-EAF6CD92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34004-1DAF-4507-92A0-76DA1282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E8821-28E6-45C1-8B69-8FB72A40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B40-7F59-4248-9D7D-20851405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D0C62-ACB7-4718-8519-18A783D0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F84E0-846F-41FC-A75A-56F2FFAE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31FF4-0BBF-4322-B4DC-9FC93435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E8C19-7B2D-4BCD-B376-A55A8A35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C9069-85F0-4E6E-A976-7502BF7B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AB1BB-4FCB-4444-B106-D1F343A5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94DE5-678B-4EC7-935C-FD18FA55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48A68-6FA1-4635-808F-1B134FF8BE63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0C2ED-B6C6-49B9-9756-39441F5F80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858B7-53E4-403C-A184-6C286C9525C0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CD0EF-6994-4F16-B145-82167054EBEF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96483-A262-49A5-9219-D00D5F9D12D2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B403F-F0E7-4598-99A1-96669CE330B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54CF0-505D-42E9-B3F0-63FEC1C89BA0}" type="datetime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32A28-8C6C-459D-9A51-4FD0BEC23DD9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33F5C-1080-4EA6-B9C8-129A8BCB73C1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0ED6C-C4D2-47CF-A597-71F6203BAE2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15AD2-3639-42A8-AEDA-672D835866FC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47DFE-4087-415D-BA32-E9E5087D76E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02FE9-24F5-4699-A11D-6A9E36A12EBE}" type="datetime"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4EABB-FE95-4208-8A7E-89615E579406}" type="slidenum"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0C973-75B4-4AF8-8F67-E9B62A6686B2}" type="datetime"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378EF-AB6A-4C99-820F-71B5370BE706}" type="slidenum"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1 Título" descr=""/>
          <p:cNvPicPr/>
          <p:nvPr/>
        </p:nvPicPr>
        <p:blipFill>
          <a:blip r:embed="rId1"/>
          <a:stretch/>
        </p:blipFill>
        <p:spPr>
          <a:xfrm>
            <a:off x="536400" y="176040"/>
            <a:ext cx="8588520" cy="2073600"/>
          </a:xfrm>
          <a:prstGeom prst="rect">
            <a:avLst/>
          </a:prstGeom>
          <a:ln w="0">
            <a:noFill/>
          </a:ln>
        </p:spPr>
      </p:pic>
      <p:pic>
        <p:nvPicPr>
          <p:cNvPr id="346" name="2 Subtítulo" descr=""/>
          <p:cNvPicPr/>
          <p:nvPr/>
        </p:nvPicPr>
        <p:blipFill>
          <a:blip r:embed="rId2"/>
          <a:stretch/>
        </p:blipFill>
        <p:spPr>
          <a:xfrm>
            <a:off x="2620800" y="4102200"/>
            <a:ext cx="51580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ángulo 3"/>
          <p:cNvSpPr/>
          <p:nvPr/>
        </p:nvSpPr>
        <p:spPr>
          <a:xfrm>
            <a:off x="1905120" y="13716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ángulo 4"/>
          <p:cNvSpPr/>
          <p:nvPr/>
        </p:nvSpPr>
        <p:spPr>
          <a:xfrm>
            <a:off x="4648320" y="13716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ángulo 5"/>
          <p:cNvSpPr/>
          <p:nvPr/>
        </p:nvSpPr>
        <p:spPr>
          <a:xfrm>
            <a:off x="1905120" y="34290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ángulo 6"/>
          <p:cNvSpPr/>
          <p:nvPr/>
        </p:nvSpPr>
        <p:spPr>
          <a:xfrm>
            <a:off x="4648320" y="34290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CuadroTexto 7"/>
          <p:cNvSpPr/>
          <p:nvPr/>
        </p:nvSpPr>
        <p:spPr>
          <a:xfrm>
            <a:off x="609480" y="2133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CuadroTexto 8"/>
          <p:cNvSpPr/>
          <p:nvPr/>
        </p:nvSpPr>
        <p:spPr>
          <a:xfrm>
            <a:off x="533520" y="41259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CuadroTexto 9"/>
          <p:cNvSpPr/>
          <p:nvPr/>
        </p:nvSpPr>
        <p:spPr>
          <a:xfrm>
            <a:off x="7391520" y="2133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CuadroTexto 10"/>
          <p:cNvSpPr/>
          <p:nvPr/>
        </p:nvSpPr>
        <p:spPr>
          <a:xfrm>
            <a:off x="7391520" y="4125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CuadroTexto 11"/>
          <p:cNvSpPr/>
          <p:nvPr/>
        </p:nvSpPr>
        <p:spPr>
          <a:xfrm>
            <a:off x="22860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CuadroTexto 12"/>
          <p:cNvSpPr/>
          <p:nvPr/>
        </p:nvSpPr>
        <p:spPr>
          <a:xfrm>
            <a:off x="5029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CuadroTexto 13"/>
          <p:cNvSpPr/>
          <p:nvPr/>
        </p:nvSpPr>
        <p:spPr>
          <a:xfrm>
            <a:off x="2057400" y="3973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CuadroTexto 14"/>
          <p:cNvSpPr/>
          <p:nvPr/>
        </p:nvSpPr>
        <p:spPr>
          <a:xfrm>
            <a:off x="5029200" y="397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CuadroTexto 15"/>
          <p:cNvSpPr/>
          <p:nvPr/>
        </p:nvSpPr>
        <p:spPr>
          <a:xfrm>
            <a:off x="2286000" y="236232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solid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CuadroTexto 16"/>
          <p:cNvSpPr/>
          <p:nvPr/>
        </p:nvSpPr>
        <p:spPr>
          <a:xfrm>
            <a:off x="5029200" y="23734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limin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CuadroTexto 17"/>
          <p:cNvSpPr/>
          <p:nvPr/>
        </p:nvSpPr>
        <p:spPr>
          <a:xfrm>
            <a:off x="2286000" y="44308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provech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CuadroTexto 18"/>
          <p:cNvSpPr/>
          <p:nvPr/>
        </p:nvSpPr>
        <p:spPr>
          <a:xfrm>
            <a:off x="5029200" y="44308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i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CuadroTexto 19"/>
          <p:cNvSpPr/>
          <p:nvPr/>
        </p:nvSpPr>
        <p:spPr>
          <a:xfrm>
            <a:off x="2819520" y="685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CuadroTexto 20"/>
          <p:cNvSpPr/>
          <p:nvPr/>
        </p:nvSpPr>
        <p:spPr>
          <a:xfrm>
            <a:off x="5486400" y="533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lecha abajo 21"/>
          <p:cNvSpPr/>
          <p:nvPr/>
        </p:nvSpPr>
        <p:spPr>
          <a:xfrm>
            <a:off x="2819520" y="2971800"/>
            <a:ext cx="838080" cy="8492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c0504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lecha abajo 22"/>
          <p:cNvSpPr/>
          <p:nvPr/>
        </p:nvSpPr>
        <p:spPr>
          <a:xfrm>
            <a:off x="5486400" y="2971800"/>
            <a:ext cx="838080" cy="8492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c0504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CuadroTexto 23"/>
          <p:cNvSpPr/>
          <p:nvPr/>
        </p:nvSpPr>
        <p:spPr>
          <a:xfrm>
            <a:off x="2743200" y="3276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CuadroTexto 24"/>
          <p:cNvSpPr/>
          <p:nvPr/>
        </p:nvSpPr>
        <p:spPr>
          <a:xfrm>
            <a:off x="5410080" y="3276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7" name="Conector recto de flecha 28"/>
          <p:cNvCxnSpPr/>
          <p:nvPr/>
        </p:nvCxnSpPr>
        <p:spPr>
          <a:xfrm>
            <a:off x="3962520" y="2742840"/>
            <a:ext cx="1296000" cy="12438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98" name="CuadroTexto 29"/>
          <p:cNvSpPr/>
          <p:nvPr/>
        </p:nvSpPr>
        <p:spPr>
          <a:xfrm rot="2510400">
            <a:off x="4226040" y="3131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even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ángulo 3"/>
          <p:cNvSpPr/>
          <p:nvPr/>
        </p:nvSpPr>
        <p:spPr>
          <a:xfrm>
            <a:off x="533520" y="838080"/>
            <a:ext cx="274320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ángulo 4"/>
          <p:cNvSpPr/>
          <p:nvPr/>
        </p:nvSpPr>
        <p:spPr>
          <a:xfrm>
            <a:off x="3352680" y="838080"/>
            <a:ext cx="259092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ángulo 5"/>
          <p:cNvSpPr/>
          <p:nvPr/>
        </p:nvSpPr>
        <p:spPr>
          <a:xfrm>
            <a:off x="6019920" y="838080"/>
            <a:ext cx="259056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ángulo 6"/>
          <p:cNvSpPr/>
          <p:nvPr/>
        </p:nvSpPr>
        <p:spPr>
          <a:xfrm>
            <a:off x="533520" y="3124080"/>
            <a:ext cx="2743200" cy="19814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ángulo 7"/>
          <p:cNvSpPr/>
          <p:nvPr/>
        </p:nvSpPr>
        <p:spPr>
          <a:xfrm>
            <a:off x="533520" y="5181480"/>
            <a:ext cx="2743200" cy="15242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ángulo 8"/>
          <p:cNvSpPr/>
          <p:nvPr/>
        </p:nvSpPr>
        <p:spPr>
          <a:xfrm>
            <a:off x="3352680" y="3124080"/>
            <a:ext cx="259092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ángulo 9"/>
          <p:cNvSpPr/>
          <p:nvPr/>
        </p:nvSpPr>
        <p:spPr>
          <a:xfrm>
            <a:off x="6019920" y="3124080"/>
            <a:ext cx="259056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ángulo 10"/>
          <p:cNvSpPr/>
          <p:nvPr/>
        </p:nvSpPr>
        <p:spPr>
          <a:xfrm>
            <a:off x="3352680" y="5181480"/>
            <a:ext cx="259092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ángulo 11"/>
          <p:cNvSpPr/>
          <p:nvPr/>
        </p:nvSpPr>
        <p:spPr>
          <a:xfrm>
            <a:off x="6019920" y="5181480"/>
            <a:ext cx="259056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CuadroTexto 12"/>
          <p:cNvSpPr/>
          <p:nvPr/>
        </p:nvSpPr>
        <p:spPr>
          <a:xfrm>
            <a:off x="3733920" y="838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CuadroTexto 13"/>
          <p:cNvSpPr/>
          <p:nvPr/>
        </p:nvSpPr>
        <p:spPr>
          <a:xfrm>
            <a:off x="6400800" y="838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CuadroTexto 14"/>
          <p:cNvSpPr/>
          <p:nvPr/>
        </p:nvSpPr>
        <p:spPr>
          <a:xfrm>
            <a:off x="6094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CuadroTexto 15"/>
          <p:cNvSpPr/>
          <p:nvPr/>
        </p:nvSpPr>
        <p:spPr>
          <a:xfrm>
            <a:off x="60948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CuadroTexto 16"/>
          <p:cNvSpPr/>
          <p:nvPr/>
        </p:nvSpPr>
        <p:spPr>
          <a:xfrm>
            <a:off x="609480" y="9144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CuadroTexto 17"/>
          <p:cNvSpPr/>
          <p:nvPr/>
        </p:nvSpPr>
        <p:spPr>
          <a:xfrm>
            <a:off x="609480" y="14479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 los cuales depende el éxito de nuestra misió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CuadroTexto 18"/>
          <p:cNvSpPr/>
          <p:nvPr/>
        </p:nvSpPr>
        <p:spPr>
          <a:xfrm>
            <a:off x="609480" y="202104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 ESTRATÉGICO CLA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CuadroTexto 19"/>
          <p:cNvSpPr/>
          <p:nvPr/>
        </p:nvSpPr>
        <p:spPr>
          <a:xfrm>
            <a:off x="609480" y="25146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el que no se puede ignorar a la hora de actuar con éxi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CuadroTexto 20"/>
          <p:cNvSpPr/>
          <p:nvPr/>
        </p:nvSpPr>
        <p:spPr>
          <a:xfrm>
            <a:off x="3505320" y="32004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CuadroTexto 21"/>
          <p:cNvSpPr/>
          <p:nvPr/>
        </p:nvSpPr>
        <p:spPr>
          <a:xfrm>
            <a:off x="6172200" y="3200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CuadroTexto 22"/>
          <p:cNvSpPr/>
          <p:nvPr/>
        </p:nvSpPr>
        <p:spPr>
          <a:xfrm>
            <a:off x="3505320" y="5105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CuadroTexto 23"/>
          <p:cNvSpPr/>
          <p:nvPr/>
        </p:nvSpPr>
        <p:spPr>
          <a:xfrm>
            <a:off x="6172200" y="5105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CuadroTexto 24"/>
          <p:cNvSpPr/>
          <p:nvPr/>
        </p:nvSpPr>
        <p:spPr>
          <a:xfrm>
            <a:off x="3505320" y="3705120"/>
            <a:ext cx="2438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aprovechar las oportunidades utilizando nuestras fortaleza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L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CuadroTexto 25"/>
          <p:cNvSpPr/>
          <p:nvPr/>
        </p:nvSpPr>
        <p:spPr>
          <a:xfrm>
            <a:off x="6095880" y="3505320"/>
            <a:ext cx="2438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aprovechar las oportunidades disminuyendo nuestras debilidades?  DESAFÍ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CuadroTexto 26"/>
          <p:cNvSpPr/>
          <p:nvPr/>
        </p:nvSpPr>
        <p:spPr>
          <a:xfrm>
            <a:off x="3505320" y="5475240"/>
            <a:ext cx="24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utilizar nuestras fortalezas neutralizando las amenazas?  RIESG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CuadroTexto 27"/>
          <p:cNvSpPr/>
          <p:nvPr/>
        </p:nvSpPr>
        <p:spPr>
          <a:xfrm>
            <a:off x="6095880" y="5410080"/>
            <a:ext cx="2438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neutralizar las amenazas disminuyendo nuestras debilidades? LIMIT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CuadroTexto 28"/>
          <p:cNvSpPr/>
          <p:nvPr/>
        </p:nvSpPr>
        <p:spPr>
          <a:xfrm>
            <a:off x="1752480" y="3049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RIZ ESTRATÉGICA (FO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ángulo 3"/>
          <p:cNvSpPr/>
          <p:nvPr/>
        </p:nvSpPr>
        <p:spPr>
          <a:xfrm>
            <a:off x="533520" y="838080"/>
            <a:ext cx="274320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ángulo 4"/>
          <p:cNvSpPr/>
          <p:nvPr/>
        </p:nvSpPr>
        <p:spPr>
          <a:xfrm>
            <a:off x="3352680" y="838080"/>
            <a:ext cx="259092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ángulo 5"/>
          <p:cNvSpPr/>
          <p:nvPr/>
        </p:nvSpPr>
        <p:spPr>
          <a:xfrm>
            <a:off x="6019920" y="838080"/>
            <a:ext cx="259056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ángulo 6"/>
          <p:cNvSpPr/>
          <p:nvPr/>
        </p:nvSpPr>
        <p:spPr>
          <a:xfrm>
            <a:off x="533520" y="3124080"/>
            <a:ext cx="2743200" cy="19814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ángulo 7"/>
          <p:cNvSpPr/>
          <p:nvPr/>
        </p:nvSpPr>
        <p:spPr>
          <a:xfrm>
            <a:off x="533520" y="5181480"/>
            <a:ext cx="2743200" cy="15242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ángulo 8"/>
          <p:cNvSpPr/>
          <p:nvPr/>
        </p:nvSpPr>
        <p:spPr>
          <a:xfrm>
            <a:off x="3352680" y="3124080"/>
            <a:ext cx="259092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ángulo 9"/>
          <p:cNvSpPr/>
          <p:nvPr/>
        </p:nvSpPr>
        <p:spPr>
          <a:xfrm>
            <a:off x="6019920" y="3124080"/>
            <a:ext cx="259056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ángulo 10"/>
          <p:cNvSpPr/>
          <p:nvPr/>
        </p:nvSpPr>
        <p:spPr>
          <a:xfrm>
            <a:off x="3352680" y="5181480"/>
            <a:ext cx="259092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ángulo 11"/>
          <p:cNvSpPr/>
          <p:nvPr/>
        </p:nvSpPr>
        <p:spPr>
          <a:xfrm>
            <a:off x="6019920" y="5181480"/>
            <a:ext cx="259056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CuadroTexto 12"/>
          <p:cNvSpPr/>
          <p:nvPr/>
        </p:nvSpPr>
        <p:spPr>
          <a:xfrm>
            <a:off x="3733920" y="838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CuadroTexto 13"/>
          <p:cNvSpPr/>
          <p:nvPr/>
        </p:nvSpPr>
        <p:spPr>
          <a:xfrm>
            <a:off x="6400800" y="838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CuadroTexto 14"/>
          <p:cNvSpPr/>
          <p:nvPr/>
        </p:nvSpPr>
        <p:spPr>
          <a:xfrm>
            <a:off x="6094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CuadroTexto 15"/>
          <p:cNvSpPr/>
          <p:nvPr/>
        </p:nvSpPr>
        <p:spPr>
          <a:xfrm>
            <a:off x="60948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CuadroTexto 16"/>
          <p:cNvSpPr/>
          <p:nvPr/>
        </p:nvSpPr>
        <p:spPr>
          <a:xfrm>
            <a:off x="609480" y="9144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CuadroTexto 17"/>
          <p:cNvSpPr/>
          <p:nvPr/>
        </p:nvSpPr>
        <p:spPr>
          <a:xfrm>
            <a:off x="609480" y="14479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 los cuales depende el éxito de nuestra misió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CuadroTexto 18"/>
          <p:cNvSpPr/>
          <p:nvPr/>
        </p:nvSpPr>
        <p:spPr>
          <a:xfrm>
            <a:off x="609480" y="202104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 ESTRATÉGICO CLA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CuadroTexto 19"/>
          <p:cNvSpPr/>
          <p:nvPr/>
        </p:nvSpPr>
        <p:spPr>
          <a:xfrm>
            <a:off x="609480" y="25146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el que no se puede ignorar a la hora de actuar con éxi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CuadroTexto 20"/>
          <p:cNvSpPr/>
          <p:nvPr/>
        </p:nvSpPr>
        <p:spPr>
          <a:xfrm>
            <a:off x="3505320" y="32004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CuadroTexto 21"/>
          <p:cNvSpPr/>
          <p:nvPr/>
        </p:nvSpPr>
        <p:spPr>
          <a:xfrm>
            <a:off x="6172200" y="3200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CuadroTexto 22"/>
          <p:cNvSpPr/>
          <p:nvPr/>
        </p:nvSpPr>
        <p:spPr>
          <a:xfrm>
            <a:off x="3505320" y="519264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CuadroTexto 23"/>
          <p:cNvSpPr/>
          <p:nvPr/>
        </p:nvSpPr>
        <p:spPr>
          <a:xfrm>
            <a:off x="617220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CuadroTexto 28"/>
          <p:cNvSpPr/>
          <p:nvPr/>
        </p:nvSpPr>
        <p:spPr>
          <a:xfrm>
            <a:off x="1752480" y="3049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RIZ ESTRATÉGICA (FO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7557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Bibliografí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Anexo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Notas Finale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Century Gothic"/>
              </a:rPr>
              <a:t>El trabajo será entregado el viernes 29 de mayo a las 13.30 hrs en formato carta  e impreso; letra times new roman o arial 12; interlineado 1,5</a:t>
            </a:r>
            <a:r>
              <a:rPr b="1" lang="es-AR" sz="3000" spc="-1" strike="noStrike">
                <a:solidFill>
                  <a:srgbClr val="75005f"/>
                </a:solidFill>
                <a:latin typeface="Century Gothic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75005f"/>
                </a:solidFill>
                <a:latin typeface="Century Gothic"/>
              </a:rPr>
              <a:t>Todo trabajo entregado fuera de plazo será evaluado con nota mínima (1.0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Sobre la base de su primera entrega usted deberá considerar la contingencia que afecta a su organización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Reorientación de su planificación estratégica resumida en un análisis ex ante y ex post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El análisis ex  ante es aquel que usted entrego en su primer avanc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El análisis ex post es aquel que usted entregará en su segunda entrega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La segunda entrega deberá contener por tanto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Un contraste en la planificación antes de la contingencia (ex ante)  y su  respectiva planificación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El análisis ex post y su respectiva planificación, considerando la contingencia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Es fundamental que se visibilice los cambios que ustedes han considerado pertinentes antes de la contingencia y después de la contingencia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Deberá realizarse también la matriz FODA según la nueva planificación definida por su organizació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7557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ortada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esentació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Introducció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1.-Primera Parte:  Análisis de la Situación Estratégica Ex A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a Análisis del ambiente: (Determinar 5 ó 6 variables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b  Análisis Interno ((Determinar 5 ó 6 variables)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a 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b 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c Objetivos Estratégicos (Establecer 2 ó 3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d Productos Relevantes o Estratégicos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e  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2.-Segunda Parte:  Análisis de la Situación Estratégica Ex Pos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a Análisis del ambiente: (Determinar 5 ó 6 variables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b  Análisis Interno ((Determinar 5 ó 6 variables)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a 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b 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c Objetivos Estratégicos (Establecer 2 ó 3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d Productos Relevantes o Estratégicos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e  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1 Título" descr=""/>
          <p:cNvPicPr/>
          <p:nvPr/>
        </p:nvPicPr>
        <p:blipFill>
          <a:blip r:embed="rId1"/>
          <a:stretch/>
        </p:blipFill>
        <p:spPr>
          <a:xfrm>
            <a:off x="450720" y="-92160"/>
            <a:ext cx="8242560" cy="17622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Ex a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del ambie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Intern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Objetivos Estratégicos 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oductos Relevantes o Estratégicos: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 </a:t>
            </a: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Ex pos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del ambie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Intern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Objetivos Estratégicos 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oductos Relevantes o Estratégicos: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ángulo 3"/>
          <p:cNvSpPr/>
          <p:nvPr/>
        </p:nvSpPr>
        <p:spPr>
          <a:xfrm>
            <a:off x="1066680" y="2514600"/>
            <a:ext cx="2133720" cy="12952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CuadroTexto 4"/>
          <p:cNvSpPr/>
          <p:nvPr/>
        </p:nvSpPr>
        <p:spPr>
          <a:xfrm>
            <a:off x="1295280" y="2819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ISIÓN Y 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Flecha derecha 5"/>
          <p:cNvSpPr/>
          <p:nvPr/>
        </p:nvSpPr>
        <p:spPr>
          <a:xfrm>
            <a:off x="3200400" y="3048120"/>
            <a:ext cx="4267080" cy="228600"/>
          </a:xfrm>
          <a:prstGeom prst="rightArrow">
            <a:avLst>
              <a:gd name="adj1" fmla="val 50000"/>
              <a:gd name="adj2" fmla="val 5003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ángulo 6"/>
          <p:cNvSpPr/>
          <p:nvPr/>
        </p:nvSpPr>
        <p:spPr>
          <a:xfrm>
            <a:off x="4114800" y="1143000"/>
            <a:ext cx="2286000" cy="6858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ángulo 7"/>
          <p:cNvSpPr/>
          <p:nvPr/>
        </p:nvSpPr>
        <p:spPr>
          <a:xfrm>
            <a:off x="4114800" y="4572000"/>
            <a:ext cx="2286000" cy="6858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CuadroTexto 8"/>
          <p:cNvSpPr/>
          <p:nvPr/>
        </p:nvSpPr>
        <p:spPr>
          <a:xfrm>
            <a:off x="4114800" y="1143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(Auditoría) 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CuadroTexto 9"/>
          <p:cNvSpPr/>
          <p:nvPr/>
        </p:nvSpPr>
        <p:spPr>
          <a:xfrm>
            <a:off x="4114800" y="4611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(Auditoría) 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Conector recto de flecha 11"/>
          <p:cNvCxnSpPr/>
          <p:nvPr/>
        </p:nvCxnSpPr>
        <p:spPr>
          <a:xfrm flipH="1">
            <a:off x="5179680" y="1829880"/>
            <a:ext cx="2160" cy="1220040"/>
          </a:xfrm>
          <a:prstGeom prst="straightConnector1">
            <a:avLst/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361" name="Conector recto de flecha 13"/>
          <p:cNvCxnSpPr/>
          <p:nvPr/>
        </p:nvCxnSpPr>
        <p:spPr>
          <a:xfrm flipV="1">
            <a:off x="5180040" y="3276360"/>
            <a:ext cx="2160" cy="1296000"/>
          </a:xfrm>
          <a:prstGeom prst="straightConnector1">
            <a:avLst/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362" name="CuadroTexto 15"/>
          <p:cNvSpPr/>
          <p:nvPr/>
        </p:nvSpPr>
        <p:spPr>
          <a:xfrm>
            <a:off x="5257800" y="2133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Oportunidades y 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CuadroTexto 16"/>
          <p:cNvSpPr/>
          <p:nvPr/>
        </p:nvSpPr>
        <p:spPr>
          <a:xfrm>
            <a:off x="5257800" y="3468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ortalezas y 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ángulo 6"/>
          <p:cNvSpPr/>
          <p:nvPr/>
        </p:nvSpPr>
        <p:spPr>
          <a:xfrm>
            <a:off x="914400" y="3276720"/>
            <a:ext cx="2971800" cy="1447560"/>
          </a:xfrm>
          <a:prstGeom prst="rect">
            <a:avLst/>
          </a:prstGeom>
          <a:gradFill rotWithShape="0">
            <a:gsLst>
              <a:gs pos="0">
                <a:srgbClr val="9bc1ff">
                  <a:alpha val="43137"/>
                </a:srgbClr>
              </a:gs>
              <a:gs pos="100000">
                <a:srgbClr val="3f80cd">
                  <a:alpha val="43137"/>
                </a:srgbClr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CuadroTexto 3"/>
          <p:cNvSpPr/>
          <p:nvPr/>
        </p:nvSpPr>
        <p:spPr>
          <a:xfrm>
            <a:off x="4724280" y="2025720"/>
            <a:ext cx="3200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económ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sociales, culturales, demográficas y ambien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políticas, gubernamentales y leg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tecn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competi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brir llave 4"/>
          <p:cNvSpPr/>
          <p:nvPr/>
        </p:nvSpPr>
        <p:spPr>
          <a:xfrm>
            <a:off x="4038480" y="1965240"/>
            <a:ext cx="381240" cy="3978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3978360"/>
              <a:gd name="textAreaBottom" fmla="*/ 3968640 h 397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"/>
                  <a:pt x="10800" y="172"/>
                </a:cubicBezTo>
                <a:lnTo>
                  <a:pt x="10800" y="10789"/>
                </a:lnTo>
                <a:cubicBezTo>
                  <a:pt x="10800" y="10875"/>
                  <a:pt x="5400" y="10961"/>
                  <a:pt x="0" y="10961"/>
                </a:cubicBezTo>
                <a:cubicBezTo>
                  <a:pt x="5400" y="10961"/>
                  <a:pt x="10800" y="11047"/>
                  <a:pt x="10800" y="11133"/>
                </a:cubicBezTo>
                <a:lnTo>
                  <a:pt x="10800" y="21428"/>
                </a:lnTo>
                <a:cubicBezTo>
                  <a:pt x="10800" y="2151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CuadroTexto 5"/>
          <p:cNvSpPr/>
          <p:nvPr/>
        </p:nvSpPr>
        <p:spPr>
          <a:xfrm>
            <a:off x="1295280" y="3429000"/>
            <a:ext cx="2286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nálisis (Auditoría) 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(Amenazas / Oportunidad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CuadroTexto 5"/>
          <p:cNvSpPr/>
          <p:nvPr/>
        </p:nvSpPr>
        <p:spPr>
          <a:xfrm>
            <a:off x="914400" y="6858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CRITERIOS DE CLASIFICACIÓN DE LAS AMENAZAS Y 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CuadroTexto 7"/>
          <p:cNvSpPr/>
          <p:nvPr/>
        </p:nvSpPr>
        <p:spPr>
          <a:xfrm>
            <a:off x="533520" y="5029200"/>
            <a:ext cx="33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ntorno: factores (hechos y circunstancias) externos a la organización que tienen o podrían tener una influencia importante en su desempeñ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CuadroTexto 3"/>
          <p:cNvSpPr/>
          <p:nvPr/>
        </p:nvSpPr>
        <p:spPr>
          <a:xfrm>
            <a:off x="1371600" y="838080"/>
            <a:ext cx="5562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OPORTUNIDAD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s que se nos presentan como disponibles pero no propias o poseí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aprovecharlas tenemos que hacer algo (no estar pasivos) con nuestros actual cuadro de fortalezas y debil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pone que son percib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MENA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go que puede impedirnos la consecución de lo que queremos lograr y/o que pueda debilitarnos en virtud de su acción o presencia en el ento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CuadroTexto 3"/>
          <p:cNvSpPr/>
          <p:nvPr/>
        </p:nvSpPr>
        <p:spPr>
          <a:xfrm>
            <a:off x="762120" y="609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ORT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CuadroTexto 4"/>
          <p:cNvSpPr/>
          <p:nvPr/>
        </p:nvSpPr>
        <p:spPr>
          <a:xfrm>
            <a:off x="762120" y="1143000"/>
            <a:ext cx="7772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incularse) a iniciativas de empresas con responsabilidade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ient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articipación) de grupos de interé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bilidad en la opinión pública frente  a la catástrofe medioambie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ciudadano: la sociedad exige mayor institucionalidad y resguard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iental por descontento con industrias contamin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mento en los niveles de organización so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mediát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lación vulnerable afectada de manera crec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.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xto mundial: crisis ambiental y calentamiento glob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de sectores políticos y parlament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democrático permite movilización social para realizar camb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cciones legales a inversiones con el fin de proteger medio am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dad en agenda presid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movimientos sociales en torno al amb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una instituciona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otro organismo gubernamental en la mate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.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nología existente permite sistemas productivos no contamin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nología existente relacionada con la realización de la mis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CuadroTexto 3"/>
          <p:cNvSpPr/>
          <p:nvPr/>
        </p:nvSpPr>
        <p:spPr>
          <a:xfrm>
            <a:off x="914400" y="457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NA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CuadroTexto 4"/>
          <p:cNvSpPr/>
          <p:nvPr/>
        </p:nvSpPr>
        <p:spPr>
          <a:xfrm>
            <a:off x="914400" y="1000080"/>
            <a:ext cx="7696080" cy="51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.: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ación de estructura de costos de las empresas por restricciones ambienta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empresas contaminantes que expulsan desechos tóx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is económica prioriza creación de empleos más que la protección del ambien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.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eventual de Transportist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de automovilist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eventual de industrias de 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ición geográfica de Santiag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población de 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conciencia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nfianza ciudadana respecto de medidas de gobiern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.: Posible conflicto de int. entre CONAMA y nuevo or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legislación rigurosa que regule actores y agentes contamina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 con org. de gobierno en materia de energías alternativ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cia de parlamentarios y políticos con intereses crea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consenso político dentro y fuera de coalición de gob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adecuada política de transpor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.: Alto costo de tecnolog. amigables con medio amb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cia de tecnologías productivas en la industria pero contamina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tecnología de vanguardia en materia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ficiente investigación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0:05:35Z</dcterms:created>
  <dc:creator>Antonio Quintin</dc:creator>
  <dc:description/>
  <dc:language>en-US</dc:language>
  <cp:lastModifiedBy>Colossus User</cp:lastModifiedBy>
  <dcterms:modified xsi:type="dcterms:W3CDTF">2009-05-27T04:44:14Z</dcterms:modified>
  <cp:revision>34</cp:revision>
  <dc:subject/>
  <dc:title>Diapositiva 1</dc:title>
</cp:coreProperties>
</file>