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539-47D6-4777-A025-7DB3C753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024-F726-487D-82DB-45F8C379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B67-200F-489F-B614-E2488D06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BE9-6BE1-43FD-9CEA-49BF4EEC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BBB5-1371-4F31-9349-A4A751F4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9C37-AAC6-4973-B4F4-CF16B195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10F2-A215-4A7F-9A6E-F09C7CE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3560-1B55-4C8F-8669-7BBC39A4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A875-2A26-4EB8-B316-9AC6C868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4DDF-43BB-4521-A92A-66E9C631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FB07-72F0-40C1-BFB1-0433CD9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F61-5BDF-4CAE-9CC0-788DB6C8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96CB-3A95-4D54-BCEE-BB823F17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3F37-7B2F-44DF-AB45-5C6A5A7D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5077-486A-46F1-B795-3A11E2E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C54F-2AD3-46D2-BD06-05BE3447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0522-9C14-4663-9FCF-961DEFF9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D130-27F4-4FF3-B138-6B6A3403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9DAA-C424-4DD5-ACA0-46D77ED2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AE5A-14CD-44F6-81CB-BFB426FA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CB86-024B-4E2A-9694-0416C315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7CBD-FF84-46A0-8AC3-8FB68E5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7A4-AE11-49F3-8482-60A89D92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68BD-B8BD-4D43-AC30-40369777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4053-251C-4417-AEAD-B104B391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3B6A-DF3C-4FFA-B758-E627EF14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A03E-D4B0-4017-ADDB-162F220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9FDE-47F3-4208-A5B4-6378A51D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3F67-DE48-435B-A303-26E6FC16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C5D7-5DA3-4E57-9455-63B8C1CA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0B233-8F4C-4F3A-A03E-5C75996F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4EDD-5402-41E3-84CE-B431E9ED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81003-C5F8-4283-8823-6D3F007A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35A-A508-4825-8297-C9B1280F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9149-2896-4A21-B258-772BE3D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13E0-8539-4652-9EAB-3D31D63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826BD-C4EA-47F4-A5A9-E2EF156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FB11-8E92-4CD3-90B8-42A50FC2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9956-4991-44CA-94A7-1429EDFA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35F9-AB62-459E-976C-E4E9F21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C59F-CFA9-40FA-B761-AD1CEE8D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503F-1BA0-45FC-B10E-4FBE8882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ACDF-322B-4BDB-94AF-6AF2B278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9E093-1852-44F7-BEC4-38CC2F38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CF8-15AA-46F2-AC9E-CCD1B754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499AA-94C7-4625-A2C5-7ABD9063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E944-AC96-4237-8A62-1E2C500F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DD56-2B98-429E-BF29-4A53B5F5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126F-4336-4479-9BEC-4EDB6F06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13754-B0FD-4BC4-8DD4-DB1B51B2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A093-F4FE-4062-AEC7-58A64B94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7B93-F9C6-4F38-9626-09893E26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4747-AC19-4407-ABC6-2B53611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4DFE8-6E06-465A-8141-C3A38EB1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6BAE-F8F4-45F9-AEE3-813F96F1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C06-B2A6-4FDB-8993-400890AE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AEAB-821F-45DA-AE12-15A3B347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DA503-AE5B-447D-AA3C-896240D1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209A-215C-4CF4-B8BB-7A308B46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E6BF1-C6B0-45EE-95FD-5672C96F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D3E9-B0C4-405D-BE91-C7B6E855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2F9C7-28AB-4BA8-9A65-54442990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2D921-0DAA-400D-BDA7-3ED7833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35C73-B25D-4B09-88E0-D609824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8F89-438B-4C76-BB3E-D84F615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318BA-D8A9-4D08-8628-22BFAB89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28E-F526-4AD9-8948-6ECC4CBF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5733-228A-4C64-9495-68A3492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F973-9932-46DB-A8F9-72791588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39AC0-D731-4415-9C34-4C2299AE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39F16-47B6-4F4C-B917-800FB93D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371D6-7B1D-4703-AAC5-DDFA232F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DB90E-7DF9-4806-BC69-E35E93FD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C66B1-DA9F-4705-B5ED-D62C37E4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8886B-DD87-4A95-9BD2-4C72D6D3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A8802-AF7D-4343-882C-112902A0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3984-3ADC-4A68-B8E5-4D6299DE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3A5-722C-4C16-BC01-96BE39D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EA19-FF14-4703-86C6-CF48FF43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C42FF-4B8B-4391-8B64-A0F5E8E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613A8-32E8-45C8-9C74-CCB69AC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524AD-4928-42B5-B81F-2F89BB0A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F94CE-E789-4718-B705-76355AF7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B98F-762D-41CB-BF75-23881F48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4B7B6-E1AA-45E9-9F3C-3EECC6A8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A4C28-FEE0-4DEC-9476-1D95131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C7416-6643-4261-9F48-7DBE0634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9A732-E00C-4782-945F-930F5936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251-5B60-4FF9-8DBD-3993A969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27B8-9E71-4644-9D3E-63054D26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F1802-2B97-480B-B8E9-C34113E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1CA6-3653-404F-880A-8E55C07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DD76F-EFEB-42DA-925A-3BE35B9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16417-8B5C-4782-9EF1-B96FAF28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62F3F-A971-4423-A885-773A2521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B6E4-3E30-4BF2-80D0-BE5D18EA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7439C-FC92-4025-BAA5-232220302085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A01C4-48B8-4F1F-908C-9EE1086F34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61752-B114-4887-8DF7-F32D368D378C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5216E-2655-4177-8A6F-B252301A59B8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D22C6-086E-4000-B214-9A2B2DA07F95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94067-7937-45E4-9BDA-66039815B8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177B2-5A09-4817-97F6-6124AE15CAA2}" type="datetime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5EF68-E2CA-47B9-8BCF-98360DDCE651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BEFB8-CEE7-4C02-AD92-93ECAB5B5C98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F1C9C-398E-4862-90DE-4BCA57781E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A7B5D-8750-452B-B5C0-FA8A2AD22F5E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BCE89-86E2-46B2-8D45-7866458E6D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2C702-EFB8-44EA-93CB-F53867A22B10}" type="datetime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F03CB-E7F5-407A-996E-9465A6A27775}" type="slidenum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A88DC-3653-46FE-8E8A-AEE3151F47F9}" type="datetime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51AB2-2F58-440A-B030-B1D1C0636302}" type="slidenum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588520" cy="2073600"/>
          </a:xfrm>
          <a:prstGeom prst="rect">
            <a:avLst/>
          </a:prstGeom>
          <a:ln w="0">
            <a:noFill/>
          </a:ln>
        </p:spPr>
      </p:pic>
      <p:pic>
        <p:nvPicPr>
          <p:cNvPr id="346" name="2 Subtítulo" descr=""/>
          <p:cNvPicPr/>
          <p:nvPr/>
        </p:nvPicPr>
        <p:blipFill>
          <a:blip r:embed="rId2"/>
          <a:stretch/>
        </p:blipFill>
        <p:spPr>
          <a:xfrm>
            <a:off x="2620800" y="4102200"/>
            <a:ext cx="5158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ángulo 3"/>
          <p:cNvSpPr/>
          <p:nvPr/>
        </p:nvSpPr>
        <p:spPr>
          <a:xfrm>
            <a:off x="19051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ángulo 4"/>
          <p:cNvSpPr/>
          <p:nvPr/>
        </p:nvSpPr>
        <p:spPr>
          <a:xfrm>
            <a:off x="46483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ángulo 5"/>
          <p:cNvSpPr/>
          <p:nvPr/>
        </p:nvSpPr>
        <p:spPr>
          <a:xfrm>
            <a:off x="19051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ángulo 6"/>
          <p:cNvSpPr/>
          <p:nvPr/>
        </p:nvSpPr>
        <p:spPr>
          <a:xfrm>
            <a:off x="46483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CuadroTexto 7"/>
          <p:cNvSpPr/>
          <p:nvPr/>
        </p:nvSpPr>
        <p:spPr>
          <a:xfrm>
            <a:off x="609480" y="21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533520" y="4125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uadroTexto 9"/>
          <p:cNvSpPr/>
          <p:nvPr/>
        </p:nvSpPr>
        <p:spPr>
          <a:xfrm>
            <a:off x="73915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uadroTexto 10"/>
          <p:cNvSpPr/>
          <p:nvPr/>
        </p:nvSpPr>
        <p:spPr>
          <a:xfrm>
            <a:off x="7391520" y="4125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uadroTexto 11"/>
          <p:cNvSpPr/>
          <p:nvPr/>
        </p:nvSpPr>
        <p:spPr>
          <a:xfrm>
            <a:off x="22860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CuadroTexto 12"/>
          <p:cNvSpPr/>
          <p:nvPr/>
        </p:nvSpPr>
        <p:spPr>
          <a:xfrm>
            <a:off x="5029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uadroTexto 13"/>
          <p:cNvSpPr/>
          <p:nvPr/>
        </p:nvSpPr>
        <p:spPr>
          <a:xfrm>
            <a:off x="2057400" y="3973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uadroTexto 14"/>
          <p:cNvSpPr/>
          <p:nvPr/>
        </p:nvSpPr>
        <p:spPr>
          <a:xfrm>
            <a:off x="5029200" y="39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CuadroTexto 15"/>
          <p:cNvSpPr/>
          <p:nvPr/>
        </p:nvSpPr>
        <p:spPr>
          <a:xfrm>
            <a:off x="2286000" y="23623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soli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uadroTexto 16"/>
          <p:cNvSpPr/>
          <p:nvPr/>
        </p:nvSpPr>
        <p:spPr>
          <a:xfrm>
            <a:off x="5029200" y="23734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imi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CuadroTexto 17"/>
          <p:cNvSpPr/>
          <p:nvPr/>
        </p:nvSpPr>
        <p:spPr>
          <a:xfrm>
            <a:off x="22860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CuadroTexto 18"/>
          <p:cNvSpPr/>
          <p:nvPr/>
        </p:nvSpPr>
        <p:spPr>
          <a:xfrm>
            <a:off x="50292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uadroTexto 19"/>
          <p:cNvSpPr/>
          <p:nvPr/>
        </p:nvSpPr>
        <p:spPr>
          <a:xfrm>
            <a:off x="2819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uadroTexto 20"/>
          <p:cNvSpPr/>
          <p:nvPr/>
        </p:nvSpPr>
        <p:spPr>
          <a:xfrm>
            <a:off x="54864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echa abajo 21"/>
          <p:cNvSpPr/>
          <p:nvPr/>
        </p:nvSpPr>
        <p:spPr>
          <a:xfrm>
            <a:off x="281952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echa abajo 22"/>
          <p:cNvSpPr/>
          <p:nvPr/>
        </p:nvSpPr>
        <p:spPr>
          <a:xfrm>
            <a:off x="548640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CuadroTexto 23"/>
          <p:cNvSpPr/>
          <p:nvPr/>
        </p:nvSpPr>
        <p:spPr>
          <a:xfrm>
            <a:off x="274320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CuadroTexto 24"/>
          <p:cNvSpPr/>
          <p:nvPr/>
        </p:nvSpPr>
        <p:spPr>
          <a:xfrm>
            <a:off x="54100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Conector recto de flecha 28"/>
          <p:cNvCxnSpPr/>
          <p:nvPr/>
        </p:nvCxnSpPr>
        <p:spPr>
          <a:xfrm>
            <a:off x="3962520" y="2742840"/>
            <a:ext cx="1296000" cy="124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8" name="CuadroTexto 29"/>
          <p:cNvSpPr/>
          <p:nvPr/>
        </p:nvSpPr>
        <p:spPr>
          <a:xfrm rot="2510400">
            <a:off x="4226040" y="3131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ve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CuadroTexto 22"/>
          <p:cNvSpPr/>
          <p:nvPr/>
        </p:nvSpPr>
        <p:spPr>
          <a:xfrm>
            <a:off x="3505320" y="5105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CuadroTexto 23"/>
          <p:cNvSpPr/>
          <p:nvPr/>
        </p:nvSpPr>
        <p:spPr>
          <a:xfrm>
            <a:off x="6172200" y="5105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CuadroTexto 24"/>
          <p:cNvSpPr/>
          <p:nvPr/>
        </p:nvSpPr>
        <p:spPr>
          <a:xfrm>
            <a:off x="3505320" y="3705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utilizando nuestras fortalez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CuadroTexto 25"/>
          <p:cNvSpPr/>
          <p:nvPr/>
        </p:nvSpPr>
        <p:spPr>
          <a:xfrm>
            <a:off x="6095880" y="350532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disminuyendo nuestras debilidades?  DESAFÍ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CuadroTexto 26"/>
          <p:cNvSpPr/>
          <p:nvPr/>
        </p:nvSpPr>
        <p:spPr>
          <a:xfrm>
            <a:off x="3505320" y="54752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utilizar nuestras fortalezas neutralizando las amenazas? 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uadroTexto 27"/>
          <p:cNvSpPr/>
          <p:nvPr/>
        </p:nvSpPr>
        <p:spPr>
          <a:xfrm>
            <a:off x="6095880" y="54100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neutralizar las amenazas disminuyendo nuestras debilidades? LIMI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CuadroTexto 22"/>
          <p:cNvSpPr/>
          <p:nvPr/>
        </p:nvSpPr>
        <p:spPr>
          <a:xfrm>
            <a:off x="3505320" y="51926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CuadroTexto 23"/>
          <p:cNvSpPr/>
          <p:nvPr/>
        </p:nvSpPr>
        <p:spPr>
          <a:xfrm>
            <a:off x="617220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nex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Notas Final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Century Gothic"/>
              </a:rPr>
              <a:t>El trabajo será entregado el viernes 29 de mayo a las 13.30 hrs en formato carta  e impreso; letra times new roman o arial 12; interlineado 1,5</a:t>
            </a: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Todo trabajo entregado fuera de plazo será evaluado con nota mínima (1.0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Sobre la base de su primera entrega usted deberá considerar la contingencia que afecta a su organizació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Reorientación de su planificación estratégica resumida en un análisis ex ante y ex pos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 ante es aquel que usted entrego en su primer avanc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post es aquel que usted entregará en su segunda entrega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La segunda entrega deberá contener por tanto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Un contraste en la planificación antes de la contingencia (ex ante)  y su  respectiva planificació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l análisis ex post y su respectiva planificación, considerando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s fundamental que se visibilice los cambios que ustedes han considerado pertinentes antes de la contingencia y después de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Deberá realizarse también la matriz FODA según la nueva planificación definida por su organizació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ortad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esenta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1.-Primera Parte:  Análisis de la Situación Estratégica 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2.-Segunda Parte:  Análisis de la Situación Estratégica 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ángulo 3"/>
          <p:cNvSpPr/>
          <p:nvPr/>
        </p:nvSpPr>
        <p:spPr>
          <a:xfrm>
            <a:off x="1066680" y="2514600"/>
            <a:ext cx="2133720" cy="12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CuadroTexto 4"/>
          <p:cNvSpPr/>
          <p:nvPr/>
        </p:nvSpPr>
        <p:spPr>
          <a:xfrm>
            <a:off x="129528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echa derecha 5"/>
          <p:cNvSpPr/>
          <p:nvPr/>
        </p:nvSpPr>
        <p:spPr>
          <a:xfrm>
            <a:off x="3200400" y="3048120"/>
            <a:ext cx="4267080" cy="228600"/>
          </a:xfrm>
          <a:prstGeom prst="right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ángulo 6"/>
          <p:cNvSpPr/>
          <p:nvPr/>
        </p:nvSpPr>
        <p:spPr>
          <a:xfrm>
            <a:off x="4114800" y="1143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ángulo 7"/>
          <p:cNvSpPr/>
          <p:nvPr/>
        </p:nvSpPr>
        <p:spPr>
          <a:xfrm>
            <a:off x="4114800" y="4572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>
            <a:off x="411480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uadroTexto 9"/>
          <p:cNvSpPr/>
          <p:nvPr/>
        </p:nvSpPr>
        <p:spPr>
          <a:xfrm>
            <a:off x="4114800" y="461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Conector recto de flecha 11"/>
          <p:cNvCxnSpPr/>
          <p:nvPr/>
        </p:nvCxnSpPr>
        <p:spPr>
          <a:xfrm flipH="1">
            <a:off x="5179680" y="1829880"/>
            <a:ext cx="2160" cy="122004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361" name="Conector recto de flecha 13"/>
          <p:cNvCxnSpPr/>
          <p:nvPr/>
        </p:nvCxnSpPr>
        <p:spPr>
          <a:xfrm flipV="1">
            <a:off x="5180040" y="3276360"/>
            <a:ext cx="2160" cy="129600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62" name="CuadroTexto 15"/>
          <p:cNvSpPr/>
          <p:nvPr/>
        </p:nvSpPr>
        <p:spPr>
          <a:xfrm>
            <a:off x="52578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portunidades y 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uadroTexto 16"/>
          <p:cNvSpPr/>
          <p:nvPr/>
        </p:nvSpPr>
        <p:spPr>
          <a:xfrm>
            <a:off x="5257800" y="3468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ángulo 6"/>
          <p:cNvSpPr/>
          <p:nvPr/>
        </p:nvSpPr>
        <p:spPr>
          <a:xfrm>
            <a:off x="914400" y="3276720"/>
            <a:ext cx="2971800" cy="1447560"/>
          </a:xfrm>
          <a:prstGeom prst="rect">
            <a:avLst/>
          </a:prstGeom>
          <a:gradFill rotWithShape="0">
            <a:gsLst>
              <a:gs pos="0">
                <a:srgbClr val="9bc1ff">
                  <a:alpha val="43137"/>
                </a:srgbClr>
              </a:gs>
              <a:gs pos="100000">
                <a:srgbClr val="3f80cd">
                  <a:alpha val="43137"/>
                </a:srgbClr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724280" y="202572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sociales, culturales, demográficas y ambi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políticas, gubernamentales y 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compet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brir llave 4"/>
          <p:cNvSpPr/>
          <p:nvPr/>
        </p:nvSpPr>
        <p:spPr>
          <a:xfrm>
            <a:off x="4038480" y="1965240"/>
            <a:ext cx="381240" cy="3978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978360"/>
              <a:gd name="textAreaBottom" fmla="*/ 3968640 h 39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789"/>
                </a:lnTo>
                <a:cubicBezTo>
                  <a:pt x="10800" y="10875"/>
                  <a:pt x="5400" y="10961"/>
                  <a:pt x="0" y="10961"/>
                </a:cubicBezTo>
                <a:cubicBezTo>
                  <a:pt x="5400" y="10961"/>
                  <a:pt x="10800" y="11047"/>
                  <a:pt x="10800" y="11133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uadroTexto 5"/>
          <p:cNvSpPr/>
          <p:nvPr/>
        </p:nvSpPr>
        <p:spPr>
          <a:xfrm>
            <a:off x="1295280" y="342900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Amenazas / Oportun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uadroTexto 5"/>
          <p:cNvSpPr/>
          <p:nvPr/>
        </p:nvSpPr>
        <p:spPr>
          <a:xfrm>
            <a:off x="91440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RITERIOS DE CLASIFICACIÓN DE LAS AMENAZAS Y 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CuadroTexto 7"/>
          <p:cNvSpPr/>
          <p:nvPr/>
        </p:nvSpPr>
        <p:spPr>
          <a:xfrm>
            <a:off x="533520" y="50292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: factores (hechos y circunstancias) externos a la organización que tienen o podrían tener una influencia importante en su desemp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uadroTexto 3"/>
          <p:cNvSpPr/>
          <p:nvPr/>
        </p:nvSpPr>
        <p:spPr>
          <a:xfrm>
            <a:off x="1371600" y="838080"/>
            <a:ext cx="556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OPORTUNIDA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que se nos presentan como disponibles pero no propias o poseí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aprovecharlas tenemos que hacer algo (no estar pasivos) con nuestros actual cuadro de fortalezas y de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e que son percib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 que puede impedirnos la consecución de lo que queremos lograr y/o que pueda debilitarnos en virtud de su acción o presencia en el ento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uadroTexto 3"/>
          <p:cNvSpPr/>
          <p:nvPr/>
        </p:nvSpPr>
        <p:spPr>
          <a:xfrm>
            <a:off x="76212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CuadroTexto 4"/>
          <p:cNvSpPr/>
          <p:nvPr/>
        </p:nvSpPr>
        <p:spPr>
          <a:xfrm>
            <a:off x="762120" y="114300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ncularse) a iniciativas de empresas con responsabilidad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ipación) de grupos de inter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ilidad en la opinión pública frente  a la catástrofe medio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ciudadano: la sociedad exige mayor institucionalidad y resguard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 por descontento con industrias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en los niveles de organización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medi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lación vulnerable afectada de manera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o mundial: crisis ambiental y calentamiento glo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de sectores políticos y parla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mocrático permite movilización social para realizar cam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legales a inversiones con el fin de proteger medio a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dad en agenda presid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movimientos sociales en torno al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una institucion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otro organismo gubernamental en la ma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permite sistemas productivos no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relacionada con la realización de la m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uadroTexto 3"/>
          <p:cNvSpPr/>
          <p:nvPr/>
        </p:nvSpPr>
        <p:spPr>
          <a:xfrm>
            <a:off x="91440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uadroTexto 4"/>
          <p:cNvSpPr/>
          <p:nvPr/>
        </p:nvSpPr>
        <p:spPr>
          <a:xfrm>
            <a:off x="914400" y="1000080"/>
            <a:ext cx="769608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ación de estructura de costos de las empresas por restricciones ambi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empresas contaminantes que expulsan desechos tóx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is económica prioriza creación de empleos más que la protección del amb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Transport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de automovil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industrias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geográfica de Santia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población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cienc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fianza ciudadana respecto de medidas de gobi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Posible conflicto de int. entre CONAMA y nuevo or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legislación rigurosa que regule actores y agentes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 con org. de gobierno en materia de energías altern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parlamentarios y políticos con intereses cre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senso político dentro y fuera de coalición de go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adecuada política de transpor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 Alto costo de tecnolog. amigables con medio am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tecnologías productivas en la industria pero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tecnología de vanguardia en mater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iciente investigación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5:35Z</dcterms:created>
  <dc:creator>Antonio Quintin</dc:creator>
  <dc:description/>
  <dc:language>en-US</dc:language>
  <cp:lastModifiedBy>Colossus User</cp:lastModifiedBy>
  <dcterms:modified xsi:type="dcterms:W3CDTF">2009-05-27T04:44:14Z</dcterms:modified>
  <cp:revision>34</cp:revision>
  <dc:subject/>
  <dc:title>Diapositiva 1</dc:title>
</cp:coreProperties>
</file>