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745-4EC8-4B08-A0E2-35B33526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9C7-794F-4AF4-8EB6-821862F5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BD3-45F2-415F-8647-1EA5C4B8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BEE-7C31-4AC9-A34E-2692936E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162E-38F8-4CD0-8892-182A0FD1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CC8E-2162-4806-88E0-F088B0B3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E5E0-CEB1-415C-9531-A2FAD883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286D-8DA0-454B-B85F-EA47079D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8D9A-796F-4F01-8A0F-52F3438C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321C-C450-4560-9B1F-924A8CBE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22DA-9112-4B35-8E15-F75544C3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5AA-1DB0-43F9-9A5F-C038737C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87B7-D219-4A69-B880-C835F95A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C159-F2C6-407B-B639-E47B7652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C0A5-B1B0-453D-A243-E2534719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CAF7-9DF1-4105-A92B-789292CA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3D05-7FA3-482A-B3DE-408230A3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EDF10-0AA8-415F-8338-1C313AB9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53FDA-890E-47A4-86C3-F9A9431F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99A4E-D3BF-41BF-B320-C725835E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ED01B-2EC5-459B-95D0-CC5251BC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FDA0-2938-45A3-89E8-E57FE501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BF16-51B1-4922-BC2E-47014F1D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BC0F6-8ABF-4ADA-81D5-1B21EE3B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C9BA5-A850-4659-80C4-F0AC1C1C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9892-8DF6-4CDF-B717-E3E4548D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D2AD2-CDCE-46FF-9841-4BE77622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AEEC-C374-4771-886F-F1147ACC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C695E-5A03-4820-92ED-1287A922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292BA-97D9-4B0B-9A7B-DABC0D4A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D2B64-9394-4CB9-92D0-1ACC98D9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E6DAE-D605-4321-8D28-0FB5F771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7DB83-5ADC-4B13-9A13-4F37FE47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57C-1B4A-4FF8-A584-13A753C3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6EECD-B918-4506-905C-608B8A82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7EFB2-0F11-4DBE-A8E7-A9BF4E38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FA02D-9122-40F8-B213-9D8C31CD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80DAF-AD95-4F86-9E97-DDB225A5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8CB6F-B959-4B7C-9600-9B3B3899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51C14-30CD-4064-B564-48FF27F4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B5622-D97C-46C0-AD0F-1ADBF487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FD677-8756-4253-A798-A445DCB9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82612-97E0-4D15-B145-DE1A3506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9E31D-841B-44D3-8D54-A6ADB038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473-A386-4874-8B7B-EBDAF784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A564F-6777-43A7-817B-969D6A41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CD234-C575-4A4F-8B7D-03955B1E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A9487-0DE6-496E-8202-B6A7B825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3E0EB-FDEA-4C29-A9F3-BFD18E6F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4226F-F1C1-4F7F-BA6D-15C49E23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DC0FB-BE3A-405C-85B9-FADAC265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8D2B7-587F-468F-ABF9-6A8C15A5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425A0-AD2E-4073-9935-1613A9EA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BB04A-359E-4F53-9EC2-D46FF2FD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A65F2-00E1-4A95-A4C5-298DAC9F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923-9EF7-4D7D-8FFC-5D7B2350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6C77B-5588-4090-B937-90154AFE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E9E73-4BE8-445F-BB43-06CBD036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31606-2EC8-4555-BC2E-EFC08F93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B1D08-9964-4AED-89BC-5002BC01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04D8E-AB43-485E-93ED-E40A482F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0F6A1-6880-458D-954D-F548EB22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D332F-B188-4DF4-90D8-8F477D46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91C93-19F5-4A8F-9234-A9ABD432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D15D3-AE25-4ACC-818F-6B304F01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46068-69C4-4BED-93E0-FED65109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3B0-745A-4C95-9EC8-75D28763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DAFFC-6746-45FC-BC1A-47B3ABB5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F1BE0-91D2-473D-985B-B919B944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AF265-6222-45EB-AF3B-8D67AA99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D4046-BAE4-4F7A-BED6-A471C923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F1192-C4E2-4E97-83CF-8B55B88C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DBBCC-248F-453C-A03A-9C1E8FAB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3BCFC-4600-4551-B6E2-4F801AE2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835E6-E014-48E3-8FB1-F428EBB0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98188-35BA-48D6-B9DB-6D4FAC45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4F92F-D11D-4C1C-A1C8-C13AA80F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9A9-C6AD-47BD-9E1F-FA110BAD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D2230-2A8B-4789-87AD-23FAD60E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E718E-47D9-4FD8-8042-EFAD38B1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348E8-2B06-43B8-A66C-61C6C4C2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FF18B-8C70-4E5B-A673-FC1C5724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40383-0FE3-4DC2-B43E-3CDA3F08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AAFD5-5541-4BFE-BA1F-8F4B550E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5E440-07E3-4C5F-BAA2-BF86126C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452AC-FAE3-47CD-B775-9EB64244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A7FB7-75DB-4061-B9C8-3DC25DEA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6FF50-8535-4692-B65E-C874EB36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7B7-ED5A-4BF8-9AF7-1EAB81A0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AFF49-062E-47E0-B592-D335D27C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AD143-37FF-4D08-99C9-755A78F3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EAA9E-F410-475E-8570-41D27B7A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C30F0-6BFE-472A-88DE-5EB5BC3E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387E6-49F7-4D49-B357-F4906717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49736-16C4-4653-9AD9-10458DCE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17F61-210E-4860-A0DE-F8059680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F84D1-372E-4028-8541-4A0320CAF466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5051F-E1D5-4E7C-B022-4C1F68BCF02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3494F-09F5-48C8-ADA8-A558F2BA2B10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54917-D90E-4455-9296-77418787A7D5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7B000-09DB-4383-9C73-B94F127EAFD6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090BD-DD85-4B79-B1E6-DAE12A92EDB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3C05D-1A60-4D16-ABF4-5C95FA946E72}" type="datetime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FD9F2-3C46-4B89-A683-F18438C84113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AC742-788E-482F-BBE3-08B790663DB3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2FF9D-3DF4-411A-8AAA-BE5F0916A08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20B6F-E41B-48B5-952F-09C67F413B0C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BA781-08FE-4523-8D9E-8C9D7B67AEA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CD830-D1A1-4B33-8705-9A89043A6459}" type="datetime"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D0389-7257-47AC-9078-52064C74CA21}" type="slidenum"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21D46-5BE1-468C-BF7E-2E3B717A873D}" type="datetime"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069BE-774F-4C22-823F-53F78BA8BB9D}" type="slidenum"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 Título" descr=""/>
          <p:cNvPicPr/>
          <p:nvPr/>
        </p:nvPicPr>
        <p:blipFill>
          <a:blip r:embed="rId1"/>
          <a:stretch/>
        </p:blipFill>
        <p:spPr>
          <a:xfrm>
            <a:off x="536400" y="176040"/>
            <a:ext cx="8588520" cy="2073600"/>
          </a:xfrm>
          <a:prstGeom prst="rect">
            <a:avLst/>
          </a:prstGeom>
          <a:ln w="0">
            <a:noFill/>
          </a:ln>
        </p:spPr>
      </p:pic>
      <p:pic>
        <p:nvPicPr>
          <p:cNvPr id="346" name="2 Subtítulo" descr=""/>
          <p:cNvPicPr/>
          <p:nvPr/>
        </p:nvPicPr>
        <p:blipFill>
          <a:blip r:embed="rId2"/>
          <a:stretch/>
        </p:blipFill>
        <p:spPr>
          <a:xfrm>
            <a:off x="2620800" y="4102200"/>
            <a:ext cx="51580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ángulo 3"/>
          <p:cNvSpPr/>
          <p:nvPr/>
        </p:nvSpPr>
        <p:spPr>
          <a:xfrm>
            <a:off x="1905120" y="13716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ángulo 4"/>
          <p:cNvSpPr/>
          <p:nvPr/>
        </p:nvSpPr>
        <p:spPr>
          <a:xfrm>
            <a:off x="4648320" y="13716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ángulo 5"/>
          <p:cNvSpPr/>
          <p:nvPr/>
        </p:nvSpPr>
        <p:spPr>
          <a:xfrm>
            <a:off x="1905120" y="34290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ángulo 6"/>
          <p:cNvSpPr/>
          <p:nvPr/>
        </p:nvSpPr>
        <p:spPr>
          <a:xfrm>
            <a:off x="4648320" y="34290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CuadroTexto 7"/>
          <p:cNvSpPr/>
          <p:nvPr/>
        </p:nvSpPr>
        <p:spPr>
          <a:xfrm>
            <a:off x="609480" y="2133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CuadroTexto 8"/>
          <p:cNvSpPr/>
          <p:nvPr/>
        </p:nvSpPr>
        <p:spPr>
          <a:xfrm>
            <a:off x="533520" y="4125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CuadroTexto 9"/>
          <p:cNvSpPr/>
          <p:nvPr/>
        </p:nvSpPr>
        <p:spPr>
          <a:xfrm>
            <a:off x="7391520" y="2133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CuadroTexto 10"/>
          <p:cNvSpPr/>
          <p:nvPr/>
        </p:nvSpPr>
        <p:spPr>
          <a:xfrm>
            <a:off x="7391520" y="4125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CuadroTexto 11"/>
          <p:cNvSpPr/>
          <p:nvPr/>
        </p:nvSpPr>
        <p:spPr>
          <a:xfrm>
            <a:off x="22860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CuadroTexto 12"/>
          <p:cNvSpPr/>
          <p:nvPr/>
        </p:nvSpPr>
        <p:spPr>
          <a:xfrm>
            <a:off x="5029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CuadroTexto 13"/>
          <p:cNvSpPr/>
          <p:nvPr/>
        </p:nvSpPr>
        <p:spPr>
          <a:xfrm>
            <a:off x="2057400" y="3973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CuadroTexto 14"/>
          <p:cNvSpPr/>
          <p:nvPr/>
        </p:nvSpPr>
        <p:spPr>
          <a:xfrm>
            <a:off x="5029200" y="39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CuadroTexto 15"/>
          <p:cNvSpPr/>
          <p:nvPr/>
        </p:nvSpPr>
        <p:spPr>
          <a:xfrm>
            <a:off x="2286000" y="236232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solid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CuadroTexto 16"/>
          <p:cNvSpPr/>
          <p:nvPr/>
        </p:nvSpPr>
        <p:spPr>
          <a:xfrm>
            <a:off x="5029200" y="23734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limin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CuadroTexto 17"/>
          <p:cNvSpPr/>
          <p:nvPr/>
        </p:nvSpPr>
        <p:spPr>
          <a:xfrm>
            <a:off x="2286000" y="44308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provech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CuadroTexto 18"/>
          <p:cNvSpPr/>
          <p:nvPr/>
        </p:nvSpPr>
        <p:spPr>
          <a:xfrm>
            <a:off x="5029200" y="44308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i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CuadroTexto 19"/>
          <p:cNvSpPr/>
          <p:nvPr/>
        </p:nvSpPr>
        <p:spPr>
          <a:xfrm>
            <a:off x="2819520" y="685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CuadroTexto 20"/>
          <p:cNvSpPr/>
          <p:nvPr/>
        </p:nvSpPr>
        <p:spPr>
          <a:xfrm>
            <a:off x="5486400" y="533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lecha abajo 21"/>
          <p:cNvSpPr/>
          <p:nvPr/>
        </p:nvSpPr>
        <p:spPr>
          <a:xfrm>
            <a:off x="2819520" y="2971800"/>
            <a:ext cx="838080" cy="8492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lecha abajo 22"/>
          <p:cNvSpPr/>
          <p:nvPr/>
        </p:nvSpPr>
        <p:spPr>
          <a:xfrm>
            <a:off x="5486400" y="2971800"/>
            <a:ext cx="838080" cy="8492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CuadroTexto 23"/>
          <p:cNvSpPr/>
          <p:nvPr/>
        </p:nvSpPr>
        <p:spPr>
          <a:xfrm>
            <a:off x="274320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CuadroTexto 24"/>
          <p:cNvSpPr/>
          <p:nvPr/>
        </p:nvSpPr>
        <p:spPr>
          <a:xfrm>
            <a:off x="541008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7" name="Conector recto de flecha 28"/>
          <p:cNvCxnSpPr/>
          <p:nvPr/>
        </p:nvCxnSpPr>
        <p:spPr>
          <a:xfrm>
            <a:off x="3962520" y="2742840"/>
            <a:ext cx="1296000" cy="12438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98" name="CuadroTexto 29"/>
          <p:cNvSpPr/>
          <p:nvPr/>
        </p:nvSpPr>
        <p:spPr>
          <a:xfrm rot="2510400">
            <a:off x="4226040" y="3131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ven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ángulo 3"/>
          <p:cNvSpPr/>
          <p:nvPr/>
        </p:nvSpPr>
        <p:spPr>
          <a:xfrm>
            <a:off x="533520" y="838080"/>
            <a:ext cx="274320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ángulo 4"/>
          <p:cNvSpPr/>
          <p:nvPr/>
        </p:nvSpPr>
        <p:spPr>
          <a:xfrm>
            <a:off x="3352680" y="838080"/>
            <a:ext cx="259092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ángulo 5"/>
          <p:cNvSpPr/>
          <p:nvPr/>
        </p:nvSpPr>
        <p:spPr>
          <a:xfrm>
            <a:off x="6019920" y="838080"/>
            <a:ext cx="259056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ángulo 6"/>
          <p:cNvSpPr/>
          <p:nvPr/>
        </p:nvSpPr>
        <p:spPr>
          <a:xfrm>
            <a:off x="533520" y="3124080"/>
            <a:ext cx="2743200" cy="1981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ángulo 7"/>
          <p:cNvSpPr/>
          <p:nvPr/>
        </p:nvSpPr>
        <p:spPr>
          <a:xfrm>
            <a:off x="533520" y="5181480"/>
            <a:ext cx="2743200" cy="1524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ángulo 8"/>
          <p:cNvSpPr/>
          <p:nvPr/>
        </p:nvSpPr>
        <p:spPr>
          <a:xfrm>
            <a:off x="3352680" y="3124080"/>
            <a:ext cx="259092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ángulo 9"/>
          <p:cNvSpPr/>
          <p:nvPr/>
        </p:nvSpPr>
        <p:spPr>
          <a:xfrm>
            <a:off x="6019920" y="3124080"/>
            <a:ext cx="259056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ángulo 10"/>
          <p:cNvSpPr/>
          <p:nvPr/>
        </p:nvSpPr>
        <p:spPr>
          <a:xfrm>
            <a:off x="3352680" y="5181480"/>
            <a:ext cx="259092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ángulo 11"/>
          <p:cNvSpPr/>
          <p:nvPr/>
        </p:nvSpPr>
        <p:spPr>
          <a:xfrm>
            <a:off x="6019920" y="5181480"/>
            <a:ext cx="259056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CuadroTexto 12"/>
          <p:cNvSpPr/>
          <p:nvPr/>
        </p:nvSpPr>
        <p:spPr>
          <a:xfrm>
            <a:off x="3733920" y="838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CuadroTexto 13"/>
          <p:cNvSpPr/>
          <p:nvPr/>
        </p:nvSpPr>
        <p:spPr>
          <a:xfrm>
            <a:off x="6400800" y="838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CuadroTexto 14"/>
          <p:cNvSpPr/>
          <p:nvPr/>
        </p:nvSpPr>
        <p:spPr>
          <a:xfrm>
            <a:off x="6094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CuadroTexto 15"/>
          <p:cNvSpPr/>
          <p:nvPr/>
        </p:nvSpPr>
        <p:spPr>
          <a:xfrm>
            <a:off x="60948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CuadroTexto 16"/>
          <p:cNvSpPr/>
          <p:nvPr/>
        </p:nvSpPr>
        <p:spPr>
          <a:xfrm>
            <a:off x="609480" y="9144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CuadroTexto 17"/>
          <p:cNvSpPr/>
          <p:nvPr/>
        </p:nvSpPr>
        <p:spPr>
          <a:xfrm>
            <a:off x="609480" y="1447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los cuales depende el éxito de nuestra misió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CuadroTexto 18"/>
          <p:cNvSpPr/>
          <p:nvPr/>
        </p:nvSpPr>
        <p:spPr>
          <a:xfrm>
            <a:off x="609480" y="20210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 ESTRATÉGICO CL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CuadroTexto 19"/>
          <p:cNvSpPr/>
          <p:nvPr/>
        </p:nvSpPr>
        <p:spPr>
          <a:xfrm>
            <a:off x="609480" y="25146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el que no se puede ignorar a la hora de actuar con éxi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CuadroTexto 20"/>
          <p:cNvSpPr/>
          <p:nvPr/>
        </p:nvSpPr>
        <p:spPr>
          <a:xfrm>
            <a:off x="35053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CuadroTexto 21"/>
          <p:cNvSpPr/>
          <p:nvPr/>
        </p:nvSpPr>
        <p:spPr>
          <a:xfrm>
            <a:off x="617220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CuadroTexto 22"/>
          <p:cNvSpPr/>
          <p:nvPr/>
        </p:nvSpPr>
        <p:spPr>
          <a:xfrm>
            <a:off x="3505320" y="5105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CuadroTexto 23"/>
          <p:cNvSpPr/>
          <p:nvPr/>
        </p:nvSpPr>
        <p:spPr>
          <a:xfrm>
            <a:off x="6172200" y="5105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CuadroTexto 24"/>
          <p:cNvSpPr/>
          <p:nvPr/>
        </p:nvSpPr>
        <p:spPr>
          <a:xfrm>
            <a:off x="3505320" y="3705120"/>
            <a:ext cx="2438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aprovechar las oportunidades utilizando nuestras fortaleza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L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CuadroTexto 25"/>
          <p:cNvSpPr/>
          <p:nvPr/>
        </p:nvSpPr>
        <p:spPr>
          <a:xfrm>
            <a:off x="6095880" y="3505320"/>
            <a:ext cx="243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aprovechar las oportunidades disminuyendo nuestras debilidades?  DESAFÍ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CuadroTexto 26"/>
          <p:cNvSpPr/>
          <p:nvPr/>
        </p:nvSpPr>
        <p:spPr>
          <a:xfrm>
            <a:off x="3505320" y="5475240"/>
            <a:ext cx="24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utilizar nuestras fortalezas neutralizando las amenazas?  RIESG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CuadroTexto 27"/>
          <p:cNvSpPr/>
          <p:nvPr/>
        </p:nvSpPr>
        <p:spPr>
          <a:xfrm>
            <a:off x="6095880" y="5410080"/>
            <a:ext cx="243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neutralizar las amenazas disminuyendo nuestras debilidades? LIMIT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CuadroTexto 28"/>
          <p:cNvSpPr/>
          <p:nvPr/>
        </p:nvSpPr>
        <p:spPr>
          <a:xfrm>
            <a:off x="1752480" y="3049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Z ESTRATÉGICA (FO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ángulo 3"/>
          <p:cNvSpPr/>
          <p:nvPr/>
        </p:nvSpPr>
        <p:spPr>
          <a:xfrm>
            <a:off x="533520" y="838080"/>
            <a:ext cx="274320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ángulo 4"/>
          <p:cNvSpPr/>
          <p:nvPr/>
        </p:nvSpPr>
        <p:spPr>
          <a:xfrm>
            <a:off x="3352680" y="838080"/>
            <a:ext cx="259092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ángulo 5"/>
          <p:cNvSpPr/>
          <p:nvPr/>
        </p:nvSpPr>
        <p:spPr>
          <a:xfrm>
            <a:off x="6019920" y="838080"/>
            <a:ext cx="259056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ángulo 6"/>
          <p:cNvSpPr/>
          <p:nvPr/>
        </p:nvSpPr>
        <p:spPr>
          <a:xfrm>
            <a:off x="533520" y="3124080"/>
            <a:ext cx="2743200" cy="1981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ángulo 7"/>
          <p:cNvSpPr/>
          <p:nvPr/>
        </p:nvSpPr>
        <p:spPr>
          <a:xfrm>
            <a:off x="533520" y="5181480"/>
            <a:ext cx="2743200" cy="1524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ángulo 8"/>
          <p:cNvSpPr/>
          <p:nvPr/>
        </p:nvSpPr>
        <p:spPr>
          <a:xfrm>
            <a:off x="3352680" y="3124080"/>
            <a:ext cx="259092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ángulo 9"/>
          <p:cNvSpPr/>
          <p:nvPr/>
        </p:nvSpPr>
        <p:spPr>
          <a:xfrm>
            <a:off x="6019920" y="3124080"/>
            <a:ext cx="259056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ángulo 10"/>
          <p:cNvSpPr/>
          <p:nvPr/>
        </p:nvSpPr>
        <p:spPr>
          <a:xfrm>
            <a:off x="3352680" y="5181480"/>
            <a:ext cx="259092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ángulo 11"/>
          <p:cNvSpPr/>
          <p:nvPr/>
        </p:nvSpPr>
        <p:spPr>
          <a:xfrm>
            <a:off x="6019920" y="5181480"/>
            <a:ext cx="259056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CuadroTexto 12"/>
          <p:cNvSpPr/>
          <p:nvPr/>
        </p:nvSpPr>
        <p:spPr>
          <a:xfrm>
            <a:off x="3733920" y="838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CuadroTexto 13"/>
          <p:cNvSpPr/>
          <p:nvPr/>
        </p:nvSpPr>
        <p:spPr>
          <a:xfrm>
            <a:off x="6400800" y="838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CuadroTexto 14"/>
          <p:cNvSpPr/>
          <p:nvPr/>
        </p:nvSpPr>
        <p:spPr>
          <a:xfrm>
            <a:off x="6094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CuadroTexto 15"/>
          <p:cNvSpPr/>
          <p:nvPr/>
        </p:nvSpPr>
        <p:spPr>
          <a:xfrm>
            <a:off x="60948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CuadroTexto 16"/>
          <p:cNvSpPr/>
          <p:nvPr/>
        </p:nvSpPr>
        <p:spPr>
          <a:xfrm>
            <a:off x="609480" y="9144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CuadroTexto 17"/>
          <p:cNvSpPr/>
          <p:nvPr/>
        </p:nvSpPr>
        <p:spPr>
          <a:xfrm>
            <a:off x="609480" y="1447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los cuales depende el éxito de nuestra misió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CuadroTexto 18"/>
          <p:cNvSpPr/>
          <p:nvPr/>
        </p:nvSpPr>
        <p:spPr>
          <a:xfrm>
            <a:off x="609480" y="20210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 ESTRATÉGICO CL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CuadroTexto 19"/>
          <p:cNvSpPr/>
          <p:nvPr/>
        </p:nvSpPr>
        <p:spPr>
          <a:xfrm>
            <a:off x="609480" y="25146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el que no se puede ignorar a la hora de actuar con éxi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CuadroTexto 20"/>
          <p:cNvSpPr/>
          <p:nvPr/>
        </p:nvSpPr>
        <p:spPr>
          <a:xfrm>
            <a:off x="35053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CuadroTexto 21"/>
          <p:cNvSpPr/>
          <p:nvPr/>
        </p:nvSpPr>
        <p:spPr>
          <a:xfrm>
            <a:off x="617220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CuadroTexto 22"/>
          <p:cNvSpPr/>
          <p:nvPr/>
        </p:nvSpPr>
        <p:spPr>
          <a:xfrm>
            <a:off x="3505320" y="519264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CuadroTexto 23"/>
          <p:cNvSpPr/>
          <p:nvPr/>
        </p:nvSpPr>
        <p:spPr>
          <a:xfrm>
            <a:off x="617220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CuadroTexto 28"/>
          <p:cNvSpPr/>
          <p:nvPr/>
        </p:nvSpPr>
        <p:spPr>
          <a:xfrm>
            <a:off x="1752480" y="3049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Z ESTRATÉGICA (FO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7557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Bibliografí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Anexo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Notas Finale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Century Gothic"/>
              </a:rPr>
              <a:t>El trabajo será entregado el viernes 29 de mayo a las 13.30 hrs en formato carta  e impreso; letra times new roman o arial 12; interlineado 1,5</a:t>
            </a:r>
            <a:r>
              <a:rPr b="1" lang="es-AR" sz="3000" spc="-1" strike="noStrike">
                <a:solidFill>
                  <a:srgbClr val="75005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75005f"/>
                </a:solidFill>
                <a:latin typeface="Century Gothic"/>
              </a:rPr>
              <a:t>Todo trabajo entregado fuera de plazo será evaluado con nota mínima (1.0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Sobre la base de su primera entrega usted deberá considerar la contingencia que afecta a su organización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Reorientación de su planificación estratégica resumida en un análisis ex ante y ex post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El análisis ex  ante es aquel que usted entrego en su primer avanc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El análisis ex post es aquel que usted entregará en su segunda entrega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La segunda entrega deberá contener por tanto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Un contraste en la planificación antes de la contingencia (ex ante)  y su  respectiva planificación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El análisis ex post y su respectiva planificación, considerando la contingencia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Es fundamental que se visibilice los cambios que ustedes han considerado pertinentes antes de la contingencia y después de la contingencia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Deberá realizarse también la matriz FODA según la nueva planificación definida por su organizació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755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ortada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esentació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Introducció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1.-Primera Parte:  Análisis de la Situación Estratégica Ex A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a Análisis del ambiente: (Determinar 5 ó 6 variables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b  Análisis Interno ((Determinar 5 ó 6 variables)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a 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b 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c Objetivos Estratégicos (Establecer 2 ó 3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d Productos Relevantes o Estratégicos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e  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2.-Segunda Parte:  Análisis de la Situación Estratégica Ex Pos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a Análisis del ambiente: (Determinar 5 ó 6 variables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b  Análisis Interno ((Determinar 5 ó 6 variables)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a 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b 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c Objetivos Estratégicos (Establecer 2 ó 3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d Productos Relevantes o Estratégicos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e  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1 Título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242560" cy="1762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Ex a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del ambie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Intern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Objetivos Estratégicos 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oductos Relevantes o Estratégicos: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 </a:t>
            </a: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Ex pos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del ambie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Intern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Objetivos Estratégicos 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oductos Relevantes o Estratégicos: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ángulo 3"/>
          <p:cNvSpPr/>
          <p:nvPr/>
        </p:nvSpPr>
        <p:spPr>
          <a:xfrm>
            <a:off x="1066680" y="2514600"/>
            <a:ext cx="2133720" cy="12952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CuadroTexto 4"/>
          <p:cNvSpPr/>
          <p:nvPr/>
        </p:nvSpPr>
        <p:spPr>
          <a:xfrm>
            <a:off x="1295280" y="2819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SIÓN Y 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lecha derecha 5"/>
          <p:cNvSpPr/>
          <p:nvPr/>
        </p:nvSpPr>
        <p:spPr>
          <a:xfrm>
            <a:off x="3200400" y="3048120"/>
            <a:ext cx="4267080" cy="228600"/>
          </a:xfrm>
          <a:prstGeom prst="rightArrow">
            <a:avLst>
              <a:gd name="adj1" fmla="val 50000"/>
              <a:gd name="adj2" fmla="val 5003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ángulo 6"/>
          <p:cNvSpPr/>
          <p:nvPr/>
        </p:nvSpPr>
        <p:spPr>
          <a:xfrm>
            <a:off x="4114800" y="1143000"/>
            <a:ext cx="2286000" cy="685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ángulo 7"/>
          <p:cNvSpPr/>
          <p:nvPr/>
        </p:nvSpPr>
        <p:spPr>
          <a:xfrm>
            <a:off x="4114800" y="4572000"/>
            <a:ext cx="2286000" cy="685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CuadroTexto 8"/>
          <p:cNvSpPr/>
          <p:nvPr/>
        </p:nvSpPr>
        <p:spPr>
          <a:xfrm>
            <a:off x="4114800" y="1143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(Auditoría) 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CuadroTexto 9"/>
          <p:cNvSpPr/>
          <p:nvPr/>
        </p:nvSpPr>
        <p:spPr>
          <a:xfrm>
            <a:off x="4114800" y="4611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(Auditoría) 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Conector recto de flecha 11"/>
          <p:cNvCxnSpPr/>
          <p:nvPr/>
        </p:nvCxnSpPr>
        <p:spPr>
          <a:xfrm flipH="1">
            <a:off x="5179680" y="1829880"/>
            <a:ext cx="2160" cy="1220040"/>
          </a:xfrm>
          <a:prstGeom prst="straightConnector1">
            <a:avLst/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361" name="Conector recto de flecha 13"/>
          <p:cNvCxnSpPr/>
          <p:nvPr/>
        </p:nvCxnSpPr>
        <p:spPr>
          <a:xfrm flipV="1">
            <a:off x="5180040" y="3276360"/>
            <a:ext cx="2160" cy="1296000"/>
          </a:xfrm>
          <a:prstGeom prst="straightConnector1">
            <a:avLst/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362" name="CuadroTexto 15"/>
          <p:cNvSpPr/>
          <p:nvPr/>
        </p:nvSpPr>
        <p:spPr>
          <a:xfrm>
            <a:off x="5257800" y="2133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Oportunidades y 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CuadroTexto 16"/>
          <p:cNvSpPr/>
          <p:nvPr/>
        </p:nvSpPr>
        <p:spPr>
          <a:xfrm>
            <a:off x="5257800" y="3468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ortalezas y 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ángulo 6"/>
          <p:cNvSpPr/>
          <p:nvPr/>
        </p:nvSpPr>
        <p:spPr>
          <a:xfrm>
            <a:off x="914400" y="3276720"/>
            <a:ext cx="2971800" cy="1447560"/>
          </a:xfrm>
          <a:prstGeom prst="rect">
            <a:avLst/>
          </a:prstGeom>
          <a:gradFill rotWithShape="0">
            <a:gsLst>
              <a:gs pos="0">
                <a:srgbClr val="9bc1ff">
                  <a:alpha val="43137"/>
                </a:srgbClr>
              </a:gs>
              <a:gs pos="100000">
                <a:srgbClr val="3f80cd">
                  <a:alpha val="43137"/>
                </a:srgbClr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CuadroTexto 3"/>
          <p:cNvSpPr/>
          <p:nvPr/>
        </p:nvSpPr>
        <p:spPr>
          <a:xfrm>
            <a:off x="4724280" y="2025720"/>
            <a:ext cx="3200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económ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sociales, culturales, demográficas y ambien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políticas, gubernamentales y leg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tecn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competi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brir llave 4"/>
          <p:cNvSpPr/>
          <p:nvPr/>
        </p:nvSpPr>
        <p:spPr>
          <a:xfrm>
            <a:off x="4038480" y="1965240"/>
            <a:ext cx="381240" cy="3978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3978360"/>
              <a:gd name="textAreaBottom" fmla="*/ 3968640 h 397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2"/>
                </a:cubicBezTo>
                <a:lnTo>
                  <a:pt x="10800" y="10789"/>
                </a:lnTo>
                <a:cubicBezTo>
                  <a:pt x="10800" y="10875"/>
                  <a:pt x="5400" y="10961"/>
                  <a:pt x="0" y="10961"/>
                </a:cubicBezTo>
                <a:cubicBezTo>
                  <a:pt x="5400" y="10961"/>
                  <a:pt x="10800" y="11047"/>
                  <a:pt x="10800" y="11133"/>
                </a:cubicBezTo>
                <a:lnTo>
                  <a:pt x="10800" y="21428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CuadroTexto 5"/>
          <p:cNvSpPr/>
          <p:nvPr/>
        </p:nvSpPr>
        <p:spPr>
          <a:xfrm>
            <a:off x="1295280" y="3429000"/>
            <a:ext cx="2286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nálisis (Auditoría) 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(Amenazas / Oportunidad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CuadroTexto 5"/>
          <p:cNvSpPr/>
          <p:nvPr/>
        </p:nvSpPr>
        <p:spPr>
          <a:xfrm>
            <a:off x="914400" y="6858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CRITERIOS DE CLASIFICACIÓN DE LAS AMENAZAS Y 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CuadroTexto 7"/>
          <p:cNvSpPr/>
          <p:nvPr/>
        </p:nvSpPr>
        <p:spPr>
          <a:xfrm>
            <a:off x="533520" y="502920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ntorno: factores (hechos y circunstancias) externos a la organización que tienen o podrían tener una influencia importante en su desempeñ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CuadroTexto 3"/>
          <p:cNvSpPr/>
          <p:nvPr/>
        </p:nvSpPr>
        <p:spPr>
          <a:xfrm>
            <a:off x="1371600" y="838080"/>
            <a:ext cx="5562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OPORTUNIDAD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s que se nos presentan como disponibles pero no propias o poseí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aprovecharlas tenemos que hacer algo (no estar pasivos) con nuestros actual cuadro de fortalezas y debil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pone que son percib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MENA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go que puede impedirnos la consecución de lo que queremos lograr y/o que pueda debilitarnos en virtud de su acción o presencia en el ento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CuadroTexto 3"/>
          <p:cNvSpPr/>
          <p:nvPr/>
        </p:nvSpPr>
        <p:spPr>
          <a:xfrm>
            <a:off x="762120" y="609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RT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CuadroTexto 4"/>
          <p:cNvSpPr/>
          <p:nvPr/>
        </p:nvSpPr>
        <p:spPr>
          <a:xfrm>
            <a:off x="762120" y="1143000"/>
            <a:ext cx="7772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ncularse) a iniciativas de empresas con responsabilidade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articipación) de grupos de interé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bilidad en la opinión pública frente  a la catástrofe medioambie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ciudadano: la sociedad exige mayor institucionalidad y resguard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al por descontento con industrias contamin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mento en los niveles de organización so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mediát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lación vulnerable afectada de manera cre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.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xto mundial: crisis ambiental y calentamiento glob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de sectores políticos y parlamen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democrático permite movilización social para realizar camb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cciones legales a inversiones con el fin de proteger medio am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dad en agenda presid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movimientos sociales en torno al amb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una institucion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otro organismo gubernamental en la mate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.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ología existente permite sistemas productivos no contamin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ología existente relacionada con la realización de la mis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CuadroTexto 3"/>
          <p:cNvSpPr/>
          <p:nvPr/>
        </p:nvSpPr>
        <p:spPr>
          <a:xfrm>
            <a:off x="914400" y="457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NA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CuadroTexto 4"/>
          <p:cNvSpPr/>
          <p:nvPr/>
        </p:nvSpPr>
        <p:spPr>
          <a:xfrm>
            <a:off x="914400" y="1000080"/>
            <a:ext cx="7696080" cy="51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.: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ación de estructura de costos de las empresas por restricciones ambient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empresas contaminantes que expulsan desechos tóx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is económica prioriza creación de empleos más que la protección del ambi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.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eventual de Transportist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de automovilist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eventual de industrias de 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ción geográfica de Santiag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población de 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conciencia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nfianza ciudadana respecto de medidas de gobiern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.: Posible conflicto de int. entre CONAMA y nuevo or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legislación rigurosa que regule actores y agentes contamina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 con org. de gobierno en materia de energías alternativ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cia de parlamentarios y políticos con intereses crea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consenso político dentro y fuera de coalición de go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adecuada política de transpor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.: Alto costo de tecnolog. amigables con medio am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cia de tecnologías productivas en la industria pero contamina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tecnología de vanguardia en materia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ficiente investigación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0:05:35Z</dcterms:created>
  <dc:creator>Antonio Quintin</dc:creator>
  <dc:description/>
  <dc:language>en-US</dc:language>
  <cp:lastModifiedBy>Colossus User</cp:lastModifiedBy>
  <dcterms:modified xsi:type="dcterms:W3CDTF">2009-05-27T04:44:14Z</dcterms:modified>
  <cp:revision>34</cp:revision>
  <dc:subject/>
  <dc:title>Diapositiva 1</dc:title>
</cp:coreProperties>
</file>