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E8A-8BC7-45C4-9BCB-8BC4B40D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57C-66E1-446B-BF29-9A630934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3EC-FD6D-4159-A7DF-3D58F944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D46-7307-4573-BF54-22F98FC2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9586-6106-4D81-AEFA-D413F826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E24A-2AFC-49F5-8D8E-0F6145F1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47C9-6836-4657-9F7A-518C504D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5186-2F89-4E8C-8BE3-D3427B23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3AE0-2994-49FC-A446-590FB787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6763-3F0A-4498-B1CB-D72FC87B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69F8-5727-4027-9725-67FD1D8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9B5-1251-4EEF-B8E2-DE55A0EF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6197-12B4-47EE-8B66-ECDF8E5C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08E3-F527-4A33-9ACC-72A4DBE0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8563-5319-4FC8-B3FD-9719E106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E1D9-539F-429B-A8FB-40726EE7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0C8C-FBB1-4E24-A124-93D0A473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0DF9-84EA-4603-AA2B-EBEC99AC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D012-F5F4-4A2E-95AD-981B796E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9481-19A7-4C0B-BCAD-66EDC73B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A990-D8A2-42F9-9F52-D4B638EA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4312-227E-43C9-B900-6F66910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CB3-8C8A-4EA2-8A76-339D5726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8E73-ABF3-4016-902D-D6FE54AD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6906-52A9-419F-8905-10425F7B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28A6-BE44-4776-8D74-78599F9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44C76-C9A3-4314-91C2-A33EEB2D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C549-C857-4F4E-AE6B-597805B3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8734-CDB3-4567-9C71-6BF46634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8537-7A1D-4566-9776-40762CB9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B98D5-E408-40DB-8F0C-3FE5829F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454F-8666-4B14-81E2-1B70E62B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EBA8-B972-4EA3-8E4F-976415B8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A0C-FE3A-425C-BC23-9E49867A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F6BD-8D7F-4DDA-A87B-942C34F1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15247-374D-4D7E-BB0A-05921F71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13791-AC39-4020-842C-158C0B5E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24029-1EF7-4B84-8FD4-0ADCDEBA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C2D78-11FC-4F7D-97B6-8D04362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3950B-997C-46DF-846A-16A426CD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8DAA-7200-4582-89A2-C066051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473A-9E76-49E2-9068-81F85055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D74F-FBB3-46C1-BE6E-69FFB7F3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24B7-AAA5-4236-8C5A-8F3F3FFC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8D4-F74A-4695-B5A2-C95A490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CDD6F-6300-4E25-9E4F-5786EBD5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B340B-7E96-4C4D-A553-133ABABF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DE337-88E1-4CFA-BC6E-CB1C5C4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D02A5-578F-4ADA-B4F8-6965FA44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C29A8-7C67-44CE-880E-BA874D5E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427A7-10E7-4560-8D5E-BAADFB5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1FF8C-CE08-4A28-BE22-A341BEAF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8D70-6A9C-4D64-8C1D-E91533E8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5F097-80E3-4E77-936A-A7FFA2CA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00AB-BA3C-47B0-B358-6243B5B4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F71-A1EF-48CD-BC2A-461B67FD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F4A0-0A7E-4E6A-BF95-CC27E4FC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4B3A3-99F6-4ABC-A87A-60CA890B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8051-0A6F-4868-92FE-89EEAE54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04821-59CE-4B18-8136-67FF3FA5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57A5-D4FF-47FF-BD43-C1EDB0B0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3712-9E8F-4ED6-8A87-96D13B5C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DA3FB-7AE8-4934-866E-8AB21A5F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C75E7-88B1-4143-94C6-BF58D6E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2317-9207-4468-9FFA-58DA8077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7B64D-BCA1-4B2D-A48D-BE567EB4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BD3-D8CC-4C5F-9E97-DDC0ACBE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0D67D-D8CF-4E59-91F9-C6D8D298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42F73-B3A0-4F57-8671-F75138E6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90A72-46B6-4370-919F-3945C967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F17EC-4F8B-462F-9CAE-199620BF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A8B86-1840-45A7-AFE4-2ED1965A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FC09-27AE-440C-8B33-A93703C6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FE566-501F-4EDF-8950-CCECA98A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5215-B816-44AF-9DA0-56214468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F7DDC-6949-4B61-94C7-81B6B5E8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616BE-A227-424C-B837-974ABE0E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3CE-7373-42E5-89C7-EE877A71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ADCC5-396C-46B6-80D3-E26D244E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D31D0-0C2E-4DBF-AB20-0FD73650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810A8-4883-47B1-B480-3BFE4D19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80277-CD85-4E6F-8095-D7F1EF26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47C30-D96A-4836-9E5D-833B29E8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898DE-3B78-4687-B823-1B7DA9E5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59EC8-D12E-45E7-ABBE-30B3EAD5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B7591-0E8B-4CA9-83FE-5C8E5CDC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CC3B1-7482-4EC2-BB1D-21090D25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B306F-226F-45E3-A416-840852F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C55-5757-40C6-9EAC-041AA445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5DD4-98BB-4103-81A3-737E0A7D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556A4-9355-4A71-8EDB-74E2BED3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AFA95-CBC5-4171-A56A-B6230A38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86EB-B5E1-4132-B2FF-94503B3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F0469-578A-4EB7-BFC6-30D3F6E0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F5F36-328F-4F35-8AF4-5B9385F7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17180-2EB5-42ED-B068-B406484A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5B34D-EF29-4ABF-BD2D-A2C1B29B6991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F538E-55AD-4B3B-973B-89301C0C74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DAE63-23F6-44E6-8C6E-D1ED78960161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326C9-748B-4E27-89C0-6A67603F7F84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0B4EC-DF95-42F4-A11B-D76BFBEA255B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B9DD4-6DA2-4433-A9DB-4E12A0A374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A9C69-9A56-4740-AB24-A4F983A0823D}" type="datetime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97CFC-04F6-445A-A779-C22FD5B85905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DB7ED-055D-4E15-97C0-D32D9B412A67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584F3-7A1B-4347-BBB4-E88932547B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198B3-8F27-4658-8824-25EBD3C6EC3C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C9B4E-EFED-4541-A478-D1196F58EC0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61C76-9210-4301-86CC-F131F3209856}" type="datetime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DF72B-13F9-40E7-A376-429598B7C485}" type="slidenum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86BB6-D4CE-4A65-ADB8-74B62C7E70FE}" type="datetime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37397-DC3A-45B0-BC56-993FA249BC12}" type="slidenum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588520" cy="2073600"/>
          </a:xfrm>
          <a:prstGeom prst="rect">
            <a:avLst/>
          </a:prstGeom>
          <a:ln w="0">
            <a:noFill/>
          </a:ln>
        </p:spPr>
      </p:pic>
      <p:pic>
        <p:nvPicPr>
          <p:cNvPr id="346" name="2 Subtítulo" descr=""/>
          <p:cNvPicPr/>
          <p:nvPr/>
        </p:nvPicPr>
        <p:blipFill>
          <a:blip r:embed="rId2"/>
          <a:stretch/>
        </p:blipFill>
        <p:spPr>
          <a:xfrm>
            <a:off x="2620800" y="4102200"/>
            <a:ext cx="5158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ángulo 3"/>
          <p:cNvSpPr/>
          <p:nvPr/>
        </p:nvSpPr>
        <p:spPr>
          <a:xfrm>
            <a:off x="19051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ángulo 4"/>
          <p:cNvSpPr/>
          <p:nvPr/>
        </p:nvSpPr>
        <p:spPr>
          <a:xfrm>
            <a:off x="46483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ángulo 5"/>
          <p:cNvSpPr/>
          <p:nvPr/>
        </p:nvSpPr>
        <p:spPr>
          <a:xfrm>
            <a:off x="19051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ángulo 6"/>
          <p:cNvSpPr/>
          <p:nvPr/>
        </p:nvSpPr>
        <p:spPr>
          <a:xfrm>
            <a:off x="46483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CuadroTexto 7"/>
          <p:cNvSpPr/>
          <p:nvPr/>
        </p:nvSpPr>
        <p:spPr>
          <a:xfrm>
            <a:off x="609480" y="21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533520" y="4125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CuadroTexto 9"/>
          <p:cNvSpPr/>
          <p:nvPr/>
        </p:nvSpPr>
        <p:spPr>
          <a:xfrm>
            <a:off x="73915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uadroTexto 10"/>
          <p:cNvSpPr/>
          <p:nvPr/>
        </p:nvSpPr>
        <p:spPr>
          <a:xfrm>
            <a:off x="7391520" y="4125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CuadroTexto 11"/>
          <p:cNvSpPr/>
          <p:nvPr/>
        </p:nvSpPr>
        <p:spPr>
          <a:xfrm>
            <a:off x="22860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CuadroTexto 12"/>
          <p:cNvSpPr/>
          <p:nvPr/>
        </p:nvSpPr>
        <p:spPr>
          <a:xfrm>
            <a:off x="5029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uadroTexto 13"/>
          <p:cNvSpPr/>
          <p:nvPr/>
        </p:nvSpPr>
        <p:spPr>
          <a:xfrm>
            <a:off x="2057400" y="3973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uadroTexto 14"/>
          <p:cNvSpPr/>
          <p:nvPr/>
        </p:nvSpPr>
        <p:spPr>
          <a:xfrm>
            <a:off x="5029200" y="39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CuadroTexto 15"/>
          <p:cNvSpPr/>
          <p:nvPr/>
        </p:nvSpPr>
        <p:spPr>
          <a:xfrm>
            <a:off x="2286000" y="23623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soli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uadroTexto 16"/>
          <p:cNvSpPr/>
          <p:nvPr/>
        </p:nvSpPr>
        <p:spPr>
          <a:xfrm>
            <a:off x="5029200" y="23734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imi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CuadroTexto 17"/>
          <p:cNvSpPr/>
          <p:nvPr/>
        </p:nvSpPr>
        <p:spPr>
          <a:xfrm>
            <a:off x="22860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prove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CuadroTexto 18"/>
          <p:cNvSpPr/>
          <p:nvPr/>
        </p:nvSpPr>
        <p:spPr>
          <a:xfrm>
            <a:off x="50292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uadroTexto 19"/>
          <p:cNvSpPr/>
          <p:nvPr/>
        </p:nvSpPr>
        <p:spPr>
          <a:xfrm>
            <a:off x="2819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uadroTexto 20"/>
          <p:cNvSpPr/>
          <p:nvPr/>
        </p:nvSpPr>
        <p:spPr>
          <a:xfrm>
            <a:off x="54864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echa abajo 21"/>
          <p:cNvSpPr/>
          <p:nvPr/>
        </p:nvSpPr>
        <p:spPr>
          <a:xfrm>
            <a:off x="281952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lecha abajo 22"/>
          <p:cNvSpPr/>
          <p:nvPr/>
        </p:nvSpPr>
        <p:spPr>
          <a:xfrm>
            <a:off x="548640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CuadroTexto 23"/>
          <p:cNvSpPr/>
          <p:nvPr/>
        </p:nvSpPr>
        <p:spPr>
          <a:xfrm>
            <a:off x="274320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CuadroTexto 24"/>
          <p:cNvSpPr/>
          <p:nvPr/>
        </p:nvSpPr>
        <p:spPr>
          <a:xfrm>
            <a:off x="54100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Conector recto de flecha 28"/>
          <p:cNvCxnSpPr/>
          <p:nvPr/>
        </p:nvCxnSpPr>
        <p:spPr>
          <a:xfrm>
            <a:off x="3962520" y="2742840"/>
            <a:ext cx="1296000" cy="124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8" name="CuadroTexto 29"/>
          <p:cNvSpPr/>
          <p:nvPr/>
        </p:nvSpPr>
        <p:spPr>
          <a:xfrm rot="2510400">
            <a:off x="4226040" y="3131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ve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CuadroTexto 22"/>
          <p:cNvSpPr/>
          <p:nvPr/>
        </p:nvSpPr>
        <p:spPr>
          <a:xfrm>
            <a:off x="3505320" y="5105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CuadroTexto 23"/>
          <p:cNvSpPr/>
          <p:nvPr/>
        </p:nvSpPr>
        <p:spPr>
          <a:xfrm>
            <a:off x="6172200" y="5105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CuadroTexto 24"/>
          <p:cNvSpPr/>
          <p:nvPr/>
        </p:nvSpPr>
        <p:spPr>
          <a:xfrm>
            <a:off x="3505320" y="370512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utilizando nuestras fortalez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CuadroTexto 25"/>
          <p:cNvSpPr/>
          <p:nvPr/>
        </p:nvSpPr>
        <p:spPr>
          <a:xfrm>
            <a:off x="6095880" y="350532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disminuyendo nuestras debilidades?  DESAFÍ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CuadroTexto 26"/>
          <p:cNvSpPr/>
          <p:nvPr/>
        </p:nvSpPr>
        <p:spPr>
          <a:xfrm>
            <a:off x="3505320" y="547524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utilizar nuestras fortalezas neutralizando las amenazas? 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uadroTexto 27"/>
          <p:cNvSpPr/>
          <p:nvPr/>
        </p:nvSpPr>
        <p:spPr>
          <a:xfrm>
            <a:off x="6095880" y="541008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neutralizar las amenazas disminuyendo nuestras debilidades? LIMI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CuadroTexto 22"/>
          <p:cNvSpPr/>
          <p:nvPr/>
        </p:nvSpPr>
        <p:spPr>
          <a:xfrm>
            <a:off x="3505320" y="51926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CuadroTexto 23"/>
          <p:cNvSpPr/>
          <p:nvPr/>
        </p:nvSpPr>
        <p:spPr>
          <a:xfrm>
            <a:off x="617220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nex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Notas Final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Century Gothic"/>
              </a:rPr>
              <a:t>El trabajo será entregado el viernes 29 de mayo a las 13.30 hrs en formato carta  e impreso; letra times new roman o arial 12; interlineado 1,5</a:t>
            </a: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Todo trabajo entregado fuera de plazo será evaluado con nota mínima (1.0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Sobre la base de su primera entrega usted deberá considerar la contingencia que afecta a su organización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Reorientación de su planificación estratégica resumida en un análisis ex ante y ex pos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 ante es aquel que usted entrego en su primer avanc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post es aquel que usted entregará en su segunda entrega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La segunda entrega deberá contener por tanto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Un contraste en la planificación antes de la contingencia (ex ante)  y su  respectiva planificació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l análisis ex post y su respectiva planificación, considerando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s fundamental que se visibilice los cambios que ustedes han considerado pertinentes antes de la contingencia y después de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Deberá realizarse también la matriz FODA según la nueva planificación definida por su organizació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ortad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esenta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1.-Primera Parte:  Análisis de la Situación Estratégica 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2.-Segunda Parte:  Análisis de la Situación Estratégica 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ángulo 3"/>
          <p:cNvSpPr/>
          <p:nvPr/>
        </p:nvSpPr>
        <p:spPr>
          <a:xfrm>
            <a:off x="1066680" y="2514600"/>
            <a:ext cx="2133720" cy="12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CuadroTexto 4"/>
          <p:cNvSpPr/>
          <p:nvPr/>
        </p:nvSpPr>
        <p:spPr>
          <a:xfrm>
            <a:off x="129528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lecha derecha 5"/>
          <p:cNvSpPr/>
          <p:nvPr/>
        </p:nvSpPr>
        <p:spPr>
          <a:xfrm>
            <a:off x="3200400" y="3048120"/>
            <a:ext cx="4267080" cy="228600"/>
          </a:xfrm>
          <a:prstGeom prst="right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ángulo 6"/>
          <p:cNvSpPr/>
          <p:nvPr/>
        </p:nvSpPr>
        <p:spPr>
          <a:xfrm>
            <a:off x="4114800" y="1143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ángulo 7"/>
          <p:cNvSpPr/>
          <p:nvPr/>
        </p:nvSpPr>
        <p:spPr>
          <a:xfrm>
            <a:off x="4114800" y="4572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>
            <a:off x="411480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CuadroTexto 9"/>
          <p:cNvSpPr/>
          <p:nvPr/>
        </p:nvSpPr>
        <p:spPr>
          <a:xfrm>
            <a:off x="4114800" y="461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Conector recto de flecha 11"/>
          <p:cNvCxnSpPr/>
          <p:nvPr/>
        </p:nvCxnSpPr>
        <p:spPr>
          <a:xfrm flipH="1">
            <a:off x="5179680" y="1829880"/>
            <a:ext cx="2160" cy="122004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361" name="Conector recto de flecha 13"/>
          <p:cNvCxnSpPr/>
          <p:nvPr/>
        </p:nvCxnSpPr>
        <p:spPr>
          <a:xfrm flipV="1">
            <a:off x="5180040" y="3276360"/>
            <a:ext cx="2160" cy="129600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62" name="CuadroTexto 15"/>
          <p:cNvSpPr/>
          <p:nvPr/>
        </p:nvSpPr>
        <p:spPr>
          <a:xfrm>
            <a:off x="52578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portunidades y 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CuadroTexto 16"/>
          <p:cNvSpPr/>
          <p:nvPr/>
        </p:nvSpPr>
        <p:spPr>
          <a:xfrm>
            <a:off x="5257800" y="3468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ángulo 6"/>
          <p:cNvSpPr/>
          <p:nvPr/>
        </p:nvSpPr>
        <p:spPr>
          <a:xfrm>
            <a:off x="914400" y="3276720"/>
            <a:ext cx="2971800" cy="1447560"/>
          </a:xfrm>
          <a:prstGeom prst="rect">
            <a:avLst/>
          </a:prstGeom>
          <a:gradFill rotWithShape="0">
            <a:gsLst>
              <a:gs pos="0">
                <a:srgbClr val="9bc1ff">
                  <a:alpha val="43137"/>
                </a:srgbClr>
              </a:gs>
              <a:gs pos="100000">
                <a:srgbClr val="3f80cd">
                  <a:alpha val="43137"/>
                </a:srgbClr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724280" y="202572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sociales, culturales, demográficas y ambi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políticas, gubernamentales y 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tecn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compet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brir llave 4"/>
          <p:cNvSpPr/>
          <p:nvPr/>
        </p:nvSpPr>
        <p:spPr>
          <a:xfrm>
            <a:off x="4038480" y="1965240"/>
            <a:ext cx="381240" cy="3978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978360"/>
              <a:gd name="textAreaBottom" fmla="*/ 3968640 h 397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789"/>
                </a:lnTo>
                <a:cubicBezTo>
                  <a:pt x="10800" y="10875"/>
                  <a:pt x="5400" y="10961"/>
                  <a:pt x="0" y="10961"/>
                </a:cubicBezTo>
                <a:cubicBezTo>
                  <a:pt x="5400" y="10961"/>
                  <a:pt x="10800" y="11047"/>
                  <a:pt x="10800" y="11133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uadroTexto 5"/>
          <p:cNvSpPr/>
          <p:nvPr/>
        </p:nvSpPr>
        <p:spPr>
          <a:xfrm>
            <a:off x="1295280" y="342900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Amenazas / Oportunidad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uadroTexto 5"/>
          <p:cNvSpPr/>
          <p:nvPr/>
        </p:nvSpPr>
        <p:spPr>
          <a:xfrm>
            <a:off x="91440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RITERIOS DE CLASIFICACIÓN DE LAS AMENAZAS Y 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CuadroTexto 7"/>
          <p:cNvSpPr/>
          <p:nvPr/>
        </p:nvSpPr>
        <p:spPr>
          <a:xfrm>
            <a:off x="533520" y="50292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: factores (hechos y circunstancias) externos a la organización que tienen o podrían tener una influencia importante en su desemp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uadroTexto 3"/>
          <p:cNvSpPr/>
          <p:nvPr/>
        </p:nvSpPr>
        <p:spPr>
          <a:xfrm>
            <a:off x="1371600" y="838080"/>
            <a:ext cx="556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OPORTUNIDA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que se nos presentan como disponibles pero no propias o poseí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aprovecharlas tenemos que hacer algo (no estar pasivos) con nuestros actual cuadro de fortalezas y de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e que son percib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 que puede impedirnos la consecución de lo que queremos lograr y/o que pueda debilitarnos en virtud de su acción o presencia en el ento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uadroTexto 3"/>
          <p:cNvSpPr/>
          <p:nvPr/>
        </p:nvSpPr>
        <p:spPr>
          <a:xfrm>
            <a:off x="76212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CuadroTexto 4"/>
          <p:cNvSpPr/>
          <p:nvPr/>
        </p:nvSpPr>
        <p:spPr>
          <a:xfrm>
            <a:off x="762120" y="114300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ncularse) a iniciativas de empresas con responsabilidad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ipación) de grupos de interé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ilidad en la opinión pública frente  a la catástrofe medioambi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ciudadano: la sociedad exige mayor institucionalidad y resguard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 por descontento con industrias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en los niveles de organización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mediá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lación vulnerable afectada de manera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o mundial: crisis ambiental y calentamiento glo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de sectores políticos y parla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emocrático permite movilización social para realizar cam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ciones legales a inversiones con el fin de proteger medio a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dad en agenda presid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movimientos sociales en torno al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una institucion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otro organismo gubernamental en la ma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permite sistemas productivos no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relacionada con la realización de la mis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uadroTexto 3"/>
          <p:cNvSpPr/>
          <p:nvPr/>
        </p:nvSpPr>
        <p:spPr>
          <a:xfrm>
            <a:off x="91440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uadroTexto 4"/>
          <p:cNvSpPr/>
          <p:nvPr/>
        </p:nvSpPr>
        <p:spPr>
          <a:xfrm>
            <a:off x="914400" y="1000080"/>
            <a:ext cx="7696080" cy="51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ación de estructura de costos de las empresas por restricciones ambi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empresas contaminantes que expulsan desechos tóx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is económica prioriza creación de empleos más que la protección del amb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Transport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de automovil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industrias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ón geográfica de Santia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población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cienc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fianza ciudadana respecto de medidas de gobier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Posible conflicto de int. entre CONAMA y nuevo or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legislación rigurosa que regule actores y agentes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 con org. de gobierno en materia de energías altern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parlamentarios y políticos con intereses cre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senso político dentro y fuera de coalición de go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adecuada política de transpor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 Alto costo de tecnolog. amigables con medio am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tecnologías productivas en la industria pero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tecnología de vanguardia en mater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iciente investigación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0:05:35Z</dcterms:created>
  <dc:creator>Antonio Quintin</dc:creator>
  <dc:description/>
  <dc:language>en-US</dc:language>
  <cp:lastModifiedBy>Colossus User</cp:lastModifiedBy>
  <dcterms:modified xsi:type="dcterms:W3CDTF">2009-05-27T04:44:14Z</dcterms:modified>
  <cp:revision>34</cp:revision>
  <dc:subject/>
  <dc:title>Diapositiva 1</dc:title>
</cp:coreProperties>
</file>