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A2D-4F8D-4263-B9E2-4EC25B14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A84-C284-409D-9184-9CA6018B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EE0-9AFB-4191-8FB9-89809C01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A05-B0AB-4772-B5B4-5653C14E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795F-E71A-4EDE-98ED-729B9F41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E061-1DAE-412F-A2ED-EA561FC8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4E9F-5A01-43F2-BD9D-ACC82649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6851-1B67-46C7-A95C-BF28CED2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E6F2-88EE-4A9A-ADCA-F6DB9C5E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6BE8-DD9A-4F56-BD5C-F2A621C0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E28B-54A2-4876-957F-230D840C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6F3-2E0E-4A50-BAC7-1B1BF0B9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1467-BDD5-462E-BC09-CC593D3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9F2C-BF12-4FFB-9870-B4C91CE3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2517-C865-4F5E-9E0D-F80DBCF1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AE33-DC68-4D1E-973B-1C19CD69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A27F-54B7-4C6E-A261-4D8173C9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962F7-454D-44BB-B66D-20F96FAE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870A4-7F04-4502-A897-6441DFA1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FD44-5A06-4A8F-94FE-3298357E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799F-526F-419A-B332-C508B66F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8617-5E9C-4201-BBF8-CC6C1761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DF9-9D73-47D3-9D1A-4F832B29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D8BB-ABC3-4FCA-A9CC-A7FAE26F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ED5CB-FAD9-473D-8C07-2B95EC31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0FF14-C2A5-4D82-B4A1-35B3638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28846-52E7-4421-B696-846E808A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8531-B708-4BC7-954E-8F8DB336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3BFF-0079-4F71-8223-59F2B7D3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615A-EC6A-4194-A5D5-7931EF19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D1DC5-C3B0-4D90-B7C1-A3CC1891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B71D-8F40-49E5-893E-5308196C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EA5EF-0068-49ED-B8A5-BE700CF3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7C0-1B26-4C1B-83FE-ACC8C446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19D1-3273-4F96-BE68-A4512D28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6B3F2-B788-49EE-87DA-83F90EE6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E8A71-2833-4CAF-833D-1FE2330B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9A004-1A71-4804-A5DA-6174C6F5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8AF55-AE79-4F65-AF2D-7A54C516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F6EE3-358F-4BED-BBAF-D82D6475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F75D5-49CF-421C-B00C-97B7674D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8453E-D838-447C-A9A6-2CE41D17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BCA40-7F47-46D1-964E-2B14376D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5E28A-2D25-432D-A066-996CC2C6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731-8437-45F1-A87E-8B799BCD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3DEC9-F933-4CD7-A8E9-18B0E6CD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A2D2C-37E8-40E8-BA6B-97105880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61A7A-5055-4D3B-9784-696B989A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162D1-E99F-4998-8926-475D6264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F7530-B157-48D9-AFAF-56FD1F2A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D83AB-6EF1-4633-9F02-E7E55B8B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7946E-1A07-417F-9FE9-4FC8C842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93C0C-1410-4D26-962B-AE67AD07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1643B-A641-4F9C-AA23-6B01E47B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CBFA6-E99D-4721-8D5E-D0EAAABF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A8A-0F25-4138-B09D-0A1199F6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2238B-2A36-472B-812F-E7C4FDB4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5173F-5DC4-4AEF-9456-0FAF245C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A3F0D-18BE-4A1B-84B6-0168C13E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120E4-E15C-4F12-AA54-4E2F3802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804A5-C501-47C4-8089-823AD67D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24BEB-4418-40FF-BE44-3F65E143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8F1C0-F7DB-444A-BF6C-B2FD90CB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6DEEC-A06A-40B8-8AC2-DF59A890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0079C-81F4-411D-9D9E-529AC2D5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475B-E651-407C-ACA4-66D6DF13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479-14F1-4681-B4C6-53A5433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C9D53-3260-4653-8319-B311784A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6338F-5165-481F-A6BF-4AA53213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AF97F-4E88-4F70-8D15-F9940D3A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0977A-AD35-4921-8BB4-E226DC2B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ECC8D-26EC-4DD6-AB97-141DC396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8FBDA-EED8-46FA-88A7-E448D56B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36926-207C-460B-BB41-510E28F3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E825F-C9D4-41CD-A280-64AAB482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08A71-836C-4613-A791-4C44F75D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790EB-92B0-431E-A1E4-9E7E354D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586-9D21-4DCC-BCBA-4B108CA9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4F8F3-5615-4809-973D-34EF923E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A2265-357F-4138-8E67-11C5E31D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9B3F7-D63D-4CB5-BDD4-6AF9B9A4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D9EA-D8A9-4076-8477-89CD0099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A3D99-56C3-474D-A978-EC26BEDB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783A-D2FB-4EE1-98EE-8A24E00B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ACF80-86D6-465D-B122-210A7F40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BC234-FF80-4722-BA3C-D8442944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17748-2E0E-4194-8AC2-40616E4D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B60E3-585B-4CA4-B3FA-CCD310E4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FB2-55BC-4BF2-AEAD-0048DC9C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5E1E4-3218-4A07-990A-4764A54F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C9B71-0400-4793-8C8F-CF13B9E4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74C37-7A19-4BD7-8D72-0D9F4AB4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0F42B-51EF-4C49-807C-5E3EB42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0D2B6-3199-4217-9ECF-D49B1F87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CAB66-7C53-4548-894A-464C711C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75A62-037A-4885-8913-EF9133EA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C1D17-C240-403E-B715-12B4D74562DF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E15FC-8682-494A-9D86-0B850A8CC0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78EB3-D4DC-47CD-A900-99F4A24C5478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827D6-5839-43D0-A642-B45216191FFD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E2613-B4FB-463C-B48F-66E2B3DB46A7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D598D-E7E1-479B-8E7F-F035F73D30E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8982F-390C-42AB-A96D-9C4951AA2912}" type="datetime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16970-2BFE-4D1B-B454-3591B8F9829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E5FA7-5167-4DEB-B8D4-D808938ACD91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37BAA-BA89-40D7-A23A-E3085C50D4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450E2-F7CE-4FFA-B3A0-18C1C9192F2C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8431A-B285-4F41-97AC-16E4936116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1DF2E-36D3-4D56-930F-9D291DFA0DF4}" type="datetime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EB1D4-46DE-485A-859D-07B2405DC635}" type="slidenum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B007F-940B-4A55-A19E-B62764DEE7FB}" type="datetime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40BA3-B1BC-4CE3-836C-D2AFFEA2E7AC}" type="slidenum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588520" cy="2073600"/>
          </a:xfrm>
          <a:prstGeom prst="rect">
            <a:avLst/>
          </a:prstGeom>
          <a:ln w="0">
            <a:noFill/>
          </a:ln>
        </p:spPr>
      </p:pic>
      <p:pic>
        <p:nvPicPr>
          <p:cNvPr id="346" name="2 Subtítulo" descr=""/>
          <p:cNvPicPr/>
          <p:nvPr/>
        </p:nvPicPr>
        <p:blipFill>
          <a:blip r:embed="rId2"/>
          <a:stretch/>
        </p:blipFill>
        <p:spPr>
          <a:xfrm>
            <a:off x="2620800" y="4102200"/>
            <a:ext cx="5158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ángulo 3"/>
          <p:cNvSpPr/>
          <p:nvPr/>
        </p:nvSpPr>
        <p:spPr>
          <a:xfrm>
            <a:off x="19051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ángulo 4"/>
          <p:cNvSpPr/>
          <p:nvPr/>
        </p:nvSpPr>
        <p:spPr>
          <a:xfrm>
            <a:off x="46483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ángulo 5"/>
          <p:cNvSpPr/>
          <p:nvPr/>
        </p:nvSpPr>
        <p:spPr>
          <a:xfrm>
            <a:off x="19051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ángulo 6"/>
          <p:cNvSpPr/>
          <p:nvPr/>
        </p:nvSpPr>
        <p:spPr>
          <a:xfrm>
            <a:off x="46483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CuadroTexto 7"/>
          <p:cNvSpPr/>
          <p:nvPr/>
        </p:nvSpPr>
        <p:spPr>
          <a:xfrm>
            <a:off x="609480" y="21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CuadroTexto 8"/>
          <p:cNvSpPr/>
          <p:nvPr/>
        </p:nvSpPr>
        <p:spPr>
          <a:xfrm>
            <a:off x="533520" y="4125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CuadroTexto 9"/>
          <p:cNvSpPr/>
          <p:nvPr/>
        </p:nvSpPr>
        <p:spPr>
          <a:xfrm>
            <a:off x="739152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uadroTexto 10"/>
          <p:cNvSpPr/>
          <p:nvPr/>
        </p:nvSpPr>
        <p:spPr>
          <a:xfrm>
            <a:off x="7391520" y="4125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CuadroTexto 11"/>
          <p:cNvSpPr/>
          <p:nvPr/>
        </p:nvSpPr>
        <p:spPr>
          <a:xfrm>
            <a:off x="22860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CuadroTexto 12"/>
          <p:cNvSpPr/>
          <p:nvPr/>
        </p:nvSpPr>
        <p:spPr>
          <a:xfrm>
            <a:off x="5029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CuadroTexto 13"/>
          <p:cNvSpPr/>
          <p:nvPr/>
        </p:nvSpPr>
        <p:spPr>
          <a:xfrm>
            <a:off x="2057400" y="3973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CuadroTexto 14"/>
          <p:cNvSpPr/>
          <p:nvPr/>
        </p:nvSpPr>
        <p:spPr>
          <a:xfrm>
            <a:off x="5029200" y="39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CuadroTexto 15"/>
          <p:cNvSpPr/>
          <p:nvPr/>
        </p:nvSpPr>
        <p:spPr>
          <a:xfrm>
            <a:off x="2286000" y="236232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solid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CuadroTexto 16"/>
          <p:cNvSpPr/>
          <p:nvPr/>
        </p:nvSpPr>
        <p:spPr>
          <a:xfrm>
            <a:off x="5029200" y="23734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limi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CuadroTexto 17"/>
          <p:cNvSpPr/>
          <p:nvPr/>
        </p:nvSpPr>
        <p:spPr>
          <a:xfrm>
            <a:off x="22860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provec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CuadroTexto 18"/>
          <p:cNvSpPr/>
          <p:nvPr/>
        </p:nvSpPr>
        <p:spPr>
          <a:xfrm>
            <a:off x="50292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i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CuadroTexto 19"/>
          <p:cNvSpPr/>
          <p:nvPr/>
        </p:nvSpPr>
        <p:spPr>
          <a:xfrm>
            <a:off x="281952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CuadroTexto 20"/>
          <p:cNvSpPr/>
          <p:nvPr/>
        </p:nvSpPr>
        <p:spPr>
          <a:xfrm>
            <a:off x="5486400" y="533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lecha abajo 21"/>
          <p:cNvSpPr/>
          <p:nvPr/>
        </p:nvSpPr>
        <p:spPr>
          <a:xfrm>
            <a:off x="281952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lecha abajo 22"/>
          <p:cNvSpPr/>
          <p:nvPr/>
        </p:nvSpPr>
        <p:spPr>
          <a:xfrm>
            <a:off x="548640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CuadroTexto 23"/>
          <p:cNvSpPr/>
          <p:nvPr/>
        </p:nvSpPr>
        <p:spPr>
          <a:xfrm>
            <a:off x="274320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CuadroTexto 24"/>
          <p:cNvSpPr/>
          <p:nvPr/>
        </p:nvSpPr>
        <p:spPr>
          <a:xfrm>
            <a:off x="541008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Conector recto de flecha 28"/>
          <p:cNvCxnSpPr/>
          <p:nvPr/>
        </p:nvCxnSpPr>
        <p:spPr>
          <a:xfrm>
            <a:off x="3962520" y="2742840"/>
            <a:ext cx="1296000" cy="12438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98" name="CuadroTexto 29"/>
          <p:cNvSpPr/>
          <p:nvPr/>
        </p:nvSpPr>
        <p:spPr>
          <a:xfrm rot="2510400">
            <a:off x="4226040" y="3131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ven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CuadroTexto 22"/>
          <p:cNvSpPr/>
          <p:nvPr/>
        </p:nvSpPr>
        <p:spPr>
          <a:xfrm>
            <a:off x="3505320" y="5105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CuadroTexto 23"/>
          <p:cNvSpPr/>
          <p:nvPr/>
        </p:nvSpPr>
        <p:spPr>
          <a:xfrm>
            <a:off x="6172200" y="5105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CuadroTexto 24"/>
          <p:cNvSpPr/>
          <p:nvPr/>
        </p:nvSpPr>
        <p:spPr>
          <a:xfrm>
            <a:off x="3505320" y="3705120"/>
            <a:ext cx="243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utilizando nuestras fortaleza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CuadroTexto 25"/>
          <p:cNvSpPr/>
          <p:nvPr/>
        </p:nvSpPr>
        <p:spPr>
          <a:xfrm>
            <a:off x="6095880" y="350532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disminuyendo nuestras debilidades?  DESAFÍ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CuadroTexto 26"/>
          <p:cNvSpPr/>
          <p:nvPr/>
        </p:nvSpPr>
        <p:spPr>
          <a:xfrm>
            <a:off x="3505320" y="547524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utilizar nuestras fortalezas neutralizando las amenazas?  RIES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uadroTexto 27"/>
          <p:cNvSpPr/>
          <p:nvPr/>
        </p:nvSpPr>
        <p:spPr>
          <a:xfrm>
            <a:off x="6095880" y="541008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neutralizar las amenazas disminuyendo nuestras debilidades? LIMIT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CuadroTexto 22"/>
          <p:cNvSpPr/>
          <p:nvPr/>
        </p:nvSpPr>
        <p:spPr>
          <a:xfrm>
            <a:off x="3505320" y="51926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CuadroTexto 23"/>
          <p:cNvSpPr/>
          <p:nvPr/>
        </p:nvSpPr>
        <p:spPr>
          <a:xfrm>
            <a:off x="617220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Anexo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Notas Final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Century Gothic"/>
              </a:rPr>
              <a:t>El trabajo será entregado el viernes 29 de mayo a las 13.30 hrs en formato carta  e impreso; letra times new roman o arial 12; interlineado 1,5</a:t>
            </a: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Todo trabajo entregado fuera de plazo será evaluado con nota mínima (1.0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Sobre la base de su primera entrega usted deberá considerar la contingencia que afecta a su organización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Reorientación de su planificación estratégica resumida en un análisis ex ante y ex pos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 ante es aquel que usted entrego en su primer avanc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post es aquel que usted entregará en su segunda entrega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La segunda entrega deberá contener por tanto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Un contraste en la planificación antes de la contingencia (ex ante)  y su  respectiva planificación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l análisis ex post y su respectiva planificación, considerando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s fundamental que se visibilice los cambios que ustedes han considerado pertinentes antes de la contingencia y después de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Deberá realizarse también la matriz FODA según la nueva planificación definida por su organizació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ortad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esenta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1.-Primera Parte:  Análisis de la Situación Estratégica 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2.-Segunda Parte:  Análisis de la Situación Estratégica 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1 Título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762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ángulo 3"/>
          <p:cNvSpPr/>
          <p:nvPr/>
        </p:nvSpPr>
        <p:spPr>
          <a:xfrm>
            <a:off x="1066680" y="2514600"/>
            <a:ext cx="2133720" cy="12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CuadroTexto 4"/>
          <p:cNvSpPr/>
          <p:nvPr/>
        </p:nvSpPr>
        <p:spPr>
          <a:xfrm>
            <a:off x="1295280" y="2819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lecha derecha 5"/>
          <p:cNvSpPr/>
          <p:nvPr/>
        </p:nvSpPr>
        <p:spPr>
          <a:xfrm>
            <a:off x="3200400" y="3048120"/>
            <a:ext cx="4267080" cy="228600"/>
          </a:xfrm>
          <a:prstGeom prst="rightArrow">
            <a:avLst>
              <a:gd name="adj1" fmla="val 50000"/>
              <a:gd name="adj2" fmla="val 5003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ángulo 6"/>
          <p:cNvSpPr/>
          <p:nvPr/>
        </p:nvSpPr>
        <p:spPr>
          <a:xfrm>
            <a:off x="4114800" y="1143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ángulo 7"/>
          <p:cNvSpPr/>
          <p:nvPr/>
        </p:nvSpPr>
        <p:spPr>
          <a:xfrm>
            <a:off x="4114800" y="4572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CuadroTexto 8"/>
          <p:cNvSpPr/>
          <p:nvPr/>
        </p:nvSpPr>
        <p:spPr>
          <a:xfrm>
            <a:off x="4114800" y="1143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CuadroTexto 9"/>
          <p:cNvSpPr/>
          <p:nvPr/>
        </p:nvSpPr>
        <p:spPr>
          <a:xfrm>
            <a:off x="4114800" y="4611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Conector recto de flecha 11"/>
          <p:cNvCxnSpPr/>
          <p:nvPr/>
        </p:nvCxnSpPr>
        <p:spPr>
          <a:xfrm flipH="1">
            <a:off x="5179680" y="1829880"/>
            <a:ext cx="2160" cy="122004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361" name="Conector recto de flecha 13"/>
          <p:cNvCxnSpPr/>
          <p:nvPr/>
        </p:nvCxnSpPr>
        <p:spPr>
          <a:xfrm flipV="1">
            <a:off x="5180040" y="3276360"/>
            <a:ext cx="2160" cy="129600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62" name="CuadroTexto 15"/>
          <p:cNvSpPr/>
          <p:nvPr/>
        </p:nvSpPr>
        <p:spPr>
          <a:xfrm>
            <a:off x="5257800" y="2133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portunidades y 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CuadroTexto 16"/>
          <p:cNvSpPr/>
          <p:nvPr/>
        </p:nvSpPr>
        <p:spPr>
          <a:xfrm>
            <a:off x="5257800" y="3468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ángulo 6"/>
          <p:cNvSpPr/>
          <p:nvPr/>
        </p:nvSpPr>
        <p:spPr>
          <a:xfrm>
            <a:off x="914400" y="3276720"/>
            <a:ext cx="2971800" cy="1447560"/>
          </a:xfrm>
          <a:prstGeom prst="rect">
            <a:avLst/>
          </a:prstGeom>
          <a:gradFill rotWithShape="0">
            <a:gsLst>
              <a:gs pos="0">
                <a:srgbClr val="9bc1ff">
                  <a:alpha val="43137"/>
                </a:srgbClr>
              </a:gs>
              <a:gs pos="100000">
                <a:srgbClr val="3f80cd">
                  <a:alpha val="43137"/>
                </a:srgbClr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CuadroTexto 3"/>
          <p:cNvSpPr/>
          <p:nvPr/>
        </p:nvSpPr>
        <p:spPr>
          <a:xfrm>
            <a:off x="4724280" y="2025720"/>
            <a:ext cx="3200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econó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sociales, culturales, demográficas y ambien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políticas, gubernamentales y leg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tecn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competi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brir llave 4"/>
          <p:cNvSpPr/>
          <p:nvPr/>
        </p:nvSpPr>
        <p:spPr>
          <a:xfrm>
            <a:off x="4038480" y="1965240"/>
            <a:ext cx="381240" cy="3978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3978360"/>
              <a:gd name="textAreaBottom" fmla="*/ 3968640 h 397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789"/>
                </a:lnTo>
                <a:cubicBezTo>
                  <a:pt x="10800" y="10875"/>
                  <a:pt x="5400" y="10961"/>
                  <a:pt x="0" y="10961"/>
                </a:cubicBezTo>
                <a:cubicBezTo>
                  <a:pt x="5400" y="10961"/>
                  <a:pt x="10800" y="11047"/>
                  <a:pt x="10800" y="11133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CuadroTexto 5"/>
          <p:cNvSpPr/>
          <p:nvPr/>
        </p:nvSpPr>
        <p:spPr>
          <a:xfrm>
            <a:off x="1295280" y="3429000"/>
            <a:ext cx="2286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Amenazas / Oportunidad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CuadroTexto 5"/>
          <p:cNvSpPr/>
          <p:nvPr/>
        </p:nvSpPr>
        <p:spPr>
          <a:xfrm>
            <a:off x="914400" y="685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CRITERIOS DE CLASIFICACIÓN DE LAS AMENAZAS Y 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CuadroTexto 7"/>
          <p:cNvSpPr/>
          <p:nvPr/>
        </p:nvSpPr>
        <p:spPr>
          <a:xfrm>
            <a:off x="533520" y="50292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torno: factores (hechos y circunstancias) externos a la organización que tienen o podrían tener una influencia importante en su desemp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uadroTexto 3"/>
          <p:cNvSpPr/>
          <p:nvPr/>
        </p:nvSpPr>
        <p:spPr>
          <a:xfrm>
            <a:off x="1371600" y="838080"/>
            <a:ext cx="556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OPORTUNIDA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que se nos presentan como disponibles pero no propias o poseí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aprovecharlas tenemos que hacer algo (no estar pasivos) con nuestros actual cuadro de fortalezas y debil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one que son percib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go que puede impedirnos la consecución de lo que queremos lograr y/o que pueda debilitarnos en virtud de su acción o presencia en el ento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CuadroTexto 3"/>
          <p:cNvSpPr/>
          <p:nvPr/>
        </p:nvSpPr>
        <p:spPr>
          <a:xfrm>
            <a:off x="76212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CuadroTexto 4"/>
          <p:cNvSpPr/>
          <p:nvPr/>
        </p:nvSpPr>
        <p:spPr>
          <a:xfrm>
            <a:off x="762120" y="114300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ncularse) a iniciativas de empresas con responsabilidad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rticipación) de grupos de interé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bilidad en la opinión pública frente  a la catástrofe medioambie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ciudadano: la sociedad exige mayor institucionalidad y resguard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 por descontento con industrias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o en los niveles de organización so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mediá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lación vulnerable afectada de manera c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o mundial: crisis ambiental y calentamiento glob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de sectores políticos y parla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emocrático permite movilización social para realizar camb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ciones legales a inversiones con el fin de proteger medio am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dad en agenda presid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movimientos sociales en torno al amb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una institucion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otro organismo gubernamental en la mate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permite sistemas productivos no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relacionada con la realización de la mis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CuadroTexto 3"/>
          <p:cNvSpPr/>
          <p:nvPr/>
        </p:nvSpPr>
        <p:spPr>
          <a:xfrm>
            <a:off x="914400" y="457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CuadroTexto 4"/>
          <p:cNvSpPr/>
          <p:nvPr/>
        </p:nvSpPr>
        <p:spPr>
          <a:xfrm>
            <a:off x="914400" y="1000080"/>
            <a:ext cx="7696080" cy="51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ación de estructura de costos de las empresas por restricciones ambient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empresas contaminantes que expulsan desechos tóx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is económica prioriza creación de empleos más que la protección del amb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Transport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de automovil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industrias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ción geográfica de Santiag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población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cienc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nfianza ciudadana respecto de medidas de gobiern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Posible conflicto de int. entre CONAMA y nuevo or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legislación rigurosa que regule actores y agentes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 con org. de gobierno en materia de energías alternativ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parlamentarios y políticos con intereses cre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senso político dentro y fuera de coalición de go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adecuada política de transpor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 Alto costo de tecnolog. amigables con medio am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tecnologías productivas en la industria pero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tecnología de vanguardia en mater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ficiente investigación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0:05:35Z</dcterms:created>
  <dc:creator>Antonio Quintin</dc:creator>
  <dc:description/>
  <dc:language>en-US</dc:language>
  <cp:lastModifiedBy>Colossus User</cp:lastModifiedBy>
  <dcterms:modified xsi:type="dcterms:W3CDTF">2009-05-27T04:44:14Z</dcterms:modified>
  <cp:revision>34</cp:revision>
  <dc:subject/>
  <dc:title>Diapositiva 1</dc:title>
</cp:coreProperties>
</file>