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2CC-704D-48A9-9060-C1D920B6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D62-07AE-46DA-B3F2-CC8A6F58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D53-E94D-45E1-9D4A-0869EFBF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7F3-D783-4AB3-80E8-FEF68595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2DA0-A31E-4455-BA32-B7CB2C97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3113-5564-4323-8D04-45FE303F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F60A-F31B-4389-8DBC-DC624BAA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86B2-359E-414A-8987-E6FB085E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7215-1ACB-41B4-94F4-172D5949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309E-E48E-4C99-81A6-B5716A48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13FC-D3FE-4AE8-BB21-8CA1F5B0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348-BDA1-45C2-9B79-9C0A56FA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27C7-B5B1-4F18-867D-147B4D66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8E66-E44F-43A3-ABFF-966A6B1A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9817-EC6D-4E15-83A2-52A01D5C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0AB3-1A01-4783-8E84-C814CFD1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9044-CBA7-4A21-8FEC-A86B62C6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378E-5C4B-4303-9944-4F3B3A14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C39B-8C04-4802-B7DE-20382309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0723-FC8A-4616-AE62-FDD48A4C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4146-F6B7-47FC-A79A-9B9BA815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18773-752F-4918-BBD4-95E0B7B9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D2D-015C-4C2D-81F3-1A3E120F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8135E-F5AD-4B13-8FDD-9CFA4B99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9D01-696F-48FB-ACDD-395C047F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E9A7-986E-4733-8652-5063939E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3BB4-7368-40E1-8567-9CDC7957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B594-9A27-4C34-B8A6-2F3C8169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5E0B8-6D2E-4D68-91F3-05EDB2DE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5ED3-00CB-4471-8FA2-E9F3BD0F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8595-B8CD-42E4-A141-A25DC540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90016-078B-4B78-A046-D90BBB23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F8AE-3422-4554-B2BF-8B6EDCEC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735-8C96-4F5F-89FB-FC9D75BB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FC017-09BD-441D-B10D-BE47EB4A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E729E-9456-4A19-AD55-5583813A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A0E40-5769-4C7D-9D32-39953A5A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B6178-85C6-4715-A100-B65B2915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569C7-B11A-4670-A5EF-0ACE9998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A0FF3-FEA9-425F-8437-2943E316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84D1C-081B-4B84-B929-73A9A56F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945C0-0B63-4E6D-BFBE-2EAA1DBD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8546C-5649-4326-B54F-7F8970BF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7FCCD-12B6-41C3-85CE-9CB170F1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48A-B209-4116-8DC9-2638129B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2B7CD-9924-419F-8B49-6C252E40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D66A7-3827-4AF1-899A-758DB717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471C-F307-4BF3-ADFC-16396364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5021C-9486-4378-A9CA-CFA4F268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90D99-5225-4741-9647-A4933867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C64C4-F35D-4645-9BEC-13BD2086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721C9-CE4A-498C-9FC8-FA28232D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AF9C1-A992-4D64-85E8-FF1FAD71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994C5-A13C-465D-8C6A-7B217063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DE4D3-D51E-4273-9BE0-47516ADE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D65-5FB4-4818-A716-C855E507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D335C-CEF6-412B-BA19-A544DB7D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DD879-4AB1-46EC-A15E-17A51568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A630F-4712-4641-83C4-BF100EA2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87FFF-A801-4733-86B5-468359B6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54793-5835-4AE4-BA64-BF266C37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DFC26-5992-4B76-B034-201F507F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7FFD3-A4F8-4CCB-9B51-7319C965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A1714-569F-447C-A347-4E16279C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7012B-898E-4BAC-BE50-F63D1680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C3D82-DE65-45F1-810D-8A0AA49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4F9-76FD-4B61-95A0-91A27055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EFE2D-DA23-4C3E-AFAB-2E4265E7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75F2E-A19D-408E-9912-B00749E1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64CB8-DC39-4F56-9654-8E5BF734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2C917-BBB3-4391-8717-FFEA2807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4E5DA-0BB9-44E6-BB9E-7319EA1B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C54D9-42A7-467D-9DEE-8195606B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7B787-80E4-48F3-AC26-39E04DD0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993BC-F14C-472A-BB5C-28B91812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35550-B36C-4FB3-8467-CDD58391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A5C16-EB6D-4BAE-BFA5-7B21AA6E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AD5-5346-4F00-8CCC-3B9FCD9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37F7B-62E7-4765-94FC-F845EBA7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DF591-3B51-49F9-88F1-AF3C6475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825EE-440D-4B50-93A1-AFABD263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32E25-0FEC-47F5-B1B0-906A5072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196C7-A70B-46E5-B497-BBF9C661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ADAD0-D755-46ED-A3D9-27D52C40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4639C-D743-45A0-BA1B-43237311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86C79-104F-4776-92BB-919332B2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2B853-CCB7-4EAB-AB3E-6BDAEBCB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C8835-74C0-4933-BC30-A1176D1E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D87-9517-4000-9EAC-36DD5EA3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2C0C0-9A7C-438F-8B1B-824E3848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26412-06AF-48FD-82DD-770ACC1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28318-DEB8-4856-89B8-F5C10E66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09B3B-0879-41AF-A123-4BE6C861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74CBF-E0EE-481C-A553-8F45F84F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625C6-629C-4B02-B151-91A2CAD5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70463-6B21-4A0D-9CEC-3B1F9B1E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01257-7F7A-47EC-A5BD-77BE18E02EAB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50131-CEF2-4AFA-9A39-68DCC09DB9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5FBA6-882E-492C-A9DD-B8587BF8470F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41937-5F32-4699-B6EC-FC61835DDAC4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8CDA9-8E90-49F1-A48B-4918DA9A8B5F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1C0C6-9B5B-429D-BE62-F85DA7F77D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50188-CB59-450A-A3E9-9570ACC04BA0}" type="datetime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6A565-828E-49A0-AE01-46848EBAAB1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E5B9D-F02A-4ABB-9C0D-372EBF8BAEF4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28117-4C2C-48E1-94FF-FAF2A1154A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A43A7-CB72-4F0B-B679-89B4DF317D99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E3035-6538-41A4-96A9-926D18AC0F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4BA95-5F20-4245-9A62-708FC915D8B6}" type="datetime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2779B-9780-495A-AD8F-9BDEC552A84C}" type="slidenum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AB74D-90DF-49BE-AB87-70C9B08B5954}" type="datetime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FCD91-53D6-4625-8AF7-6A8A4CF9779E}" type="slidenum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588520" cy="2073600"/>
          </a:xfrm>
          <a:prstGeom prst="rect">
            <a:avLst/>
          </a:prstGeom>
          <a:ln w="0">
            <a:noFill/>
          </a:ln>
        </p:spPr>
      </p:pic>
      <p:pic>
        <p:nvPicPr>
          <p:cNvPr id="346" name="2 Subtítulo" descr=""/>
          <p:cNvPicPr/>
          <p:nvPr/>
        </p:nvPicPr>
        <p:blipFill>
          <a:blip r:embed="rId2"/>
          <a:stretch/>
        </p:blipFill>
        <p:spPr>
          <a:xfrm>
            <a:off x="2620800" y="4102200"/>
            <a:ext cx="5158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ángulo 3"/>
          <p:cNvSpPr/>
          <p:nvPr/>
        </p:nvSpPr>
        <p:spPr>
          <a:xfrm>
            <a:off x="19051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ángulo 4"/>
          <p:cNvSpPr/>
          <p:nvPr/>
        </p:nvSpPr>
        <p:spPr>
          <a:xfrm>
            <a:off x="46483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ángulo 5"/>
          <p:cNvSpPr/>
          <p:nvPr/>
        </p:nvSpPr>
        <p:spPr>
          <a:xfrm>
            <a:off x="19051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ángulo 6"/>
          <p:cNvSpPr/>
          <p:nvPr/>
        </p:nvSpPr>
        <p:spPr>
          <a:xfrm>
            <a:off x="46483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CuadroTexto 7"/>
          <p:cNvSpPr/>
          <p:nvPr/>
        </p:nvSpPr>
        <p:spPr>
          <a:xfrm>
            <a:off x="609480" y="21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CuadroTexto 8"/>
          <p:cNvSpPr/>
          <p:nvPr/>
        </p:nvSpPr>
        <p:spPr>
          <a:xfrm>
            <a:off x="533520" y="4125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CuadroTexto 9"/>
          <p:cNvSpPr/>
          <p:nvPr/>
        </p:nvSpPr>
        <p:spPr>
          <a:xfrm>
            <a:off x="73915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uadroTexto 10"/>
          <p:cNvSpPr/>
          <p:nvPr/>
        </p:nvSpPr>
        <p:spPr>
          <a:xfrm>
            <a:off x="7391520" y="4125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CuadroTexto 11"/>
          <p:cNvSpPr/>
          <p:nvPr/>
        </p:nvSpPr>
        <p:spPr>
          <a:xfrm>
            <a:off x="22860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CuadroTexto 12"/>
          <p:cNvSpPr/>
          <p:nvPr/>
        </p:nvSpPr>
        <p:spPr>
          <a:xfrm>
            <a:off x="5029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CuadroTexto 13"/>
          <p:cNvSpPr/>
          <p:nvPr/>
        </p:nvSpPr>
        <p:spPr>
          <a:xfrm>
            <a:off x="2057400" y="3973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CuadroTexto 14"/>
          <p:cNvSpPr/>
          <p:nvPr/>
        </p:nvSpPr>
        <p:spPr>
          <a:xfrm>
            <a:off x="5029200" y="39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CuadroTexto 15"/>
          <p:cNvSpPr/>
          <p:nvPr/>
        </p:nvSpPr>
        <p:spPr>
          <a:xfrm>
            <a:off x="2286000" y="236232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solid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uadroTexto 16"/>
          <p:cNvSpPr/>
          <p:nvPr/>
        </p:nvSpPr>
        <p:spPr>
          <a:xfrm>
            <a:off x="5029200" y="23734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limi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CuadroTexto 17"/>
          <p:cNvSpPr/>
          <p:nvPr/>
        </p:nvSpPr>
        <p:spPr>
          <a:xfrm>
            <a:off x="22860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prove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CuadroTexto 18"/>
          <p:cNvSpPr/>
          <p:nvPr/>
        </p:nvSpPr>
        <p:spPr>
          <a:xfrm>
            <a:off x="50292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i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CuadroTexto 19"/>
          <p:cNvSpPr/>
          <p:nvPr/>
        </p:nvSpPr>
        <p:spPr>
          <a:xfrm>
            <a:off x="281952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CuadroTexto 20"/>
          <p:cNvSpPr/>
          <p:nvPr/>
        </p:nvSpPr>
        <p:spPr>
          <a:xfrm>
            <a:off x="5486400" y="533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lecha abajo 21"/>
          <p:cNvSpPr/>
          <p:nvPr/>
        </p:nvSpPr>
        <p:spPr>
          <a:xfrm>
            <a:off x="281952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lecha abajo 22"/>
          <p:cNvSpPr/>
          <p:nvPr/>
        </p:nvSpPr>
        <p:spPr>
          <a:xfrm>
            <a:off x="548640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CuadroTexto 23"/>
          <p:cNvSpPr/>
          <p:nvPr/>
        </p:nvSpPr>
        <p:spPr>
          <a:xfrm>
            <a:off x="274320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CuadroTexto 24"/>
          <p:cNvSpPr/>
          <p:nvPr/>
        </p:nvSpPr>
        <p:spPr>
          <a:xfrm>
            <a:off x="541008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Conector recto de flecha 28"/>
          <p:cNvCxnSpPr/>
          <p:nvPr/>
        </p:nvCxnSpPr>
        <p:spPr>
          <a:xfrm>
            <a:off x="3962520" y="2742840"/>
            <a:ext cx="1296000" cy="1243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98" name="CuadroTexto 29"/>
          <p:cNvSpPr/>
          <p:nvPr/>
        </p:nvSpPr>
        <p:spPr>
          <a:xfrm rot="2510400">
            <a:off x="4226040" y="3131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ven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CuadroTexto 22"/>
          <p:cNvSpPr/>
          <p:nvPr/>
        </p:nvSpPr>
        <p:spPr>
          <a:xfrm>
            <a:off x="3505320" y="5105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CuadroTexto 23"/>
          <p:cNvSpPr/>
          <p:nvPr/>
        </p:nvSpPr>
        <p:spPr>
          <a:xfrm>
            <a:off x="6172200" y="5105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CuadroTexto 24"/>
          <p:cNvSpPr/>
          <p:nvPr/>
        </p:nvSpPr>
        <p:spPr>
          <a:xfrm>
            <a:off x="3505320" y="3705120"/>
            <a:ext cx="243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utilizando nuestras fortaleza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CuadroTexto 25"/>
          <p:cNvSpPr/>
          <p:nvPr/>
        </p:nvSpPr>
        <p:spPr>
          <a:xfrm>
            <a:off x="6095880" y="350532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disminuyendo nuestras debilidades?  DESAFÍ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CuadroTexto 26"/>
          <p:cNvSpPr/>
          <p:nvPr/>
        </p:nvSpPr>
        <p:spPr>
          <a:xfrm>
            <a:off x="3505320" y="547524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utilizar nuestras fortalezas neutralizando las amenazas?  RIES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uadroTexto 27"/>
          <p:cNvSpPr/>
          <p:nvPr/>
        </p:nvSpPr>
        <p:spPr>
          <a:xfrm>
            <a:off x="6095880" y="541008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neutralizar las amenazas disminuyendo nuestras debilidades? LIMIT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CuadroTexto 22"/>
          <p:cNvSpPr/>
          <p:nvPr/>
        </p:nvSpPr>
        <p:spPr>
          <a:xfrm>
            <a:off x="3505320" y="51926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CuadroTexto 23"/>
          <p:cNvSpPr/>
          <p:nvPr/>
        </p:nvSpPr>
        <p:spPr>
          <a:xfrm>
            <a:off x="617220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Anex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Notas Final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Century Gothic"/>
              </a:rPr>
              <a:t>El trabajo será entregado el viernes 29 de mayo a las 13.30 hrs en formato carta  e impreso; letra times new roman o arial 12; interlineado 1,5</a:t>
            </a: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Todo trabajo entregado fuera de plazo será evaluado con nota mínima (1.0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Sobre la base de su primera entrega usted deberá considerar la contingencia que afecta a su organización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Reorientación de su planificación estratégica resumida en un análisis ex ante y ex pos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 ante es aquel que usted entrego en su primer avanc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post es aquel que usted entregará en su segunda entrega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La segunda entrega deberá contener por tanto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Un contraste en la planificación antes de la contingencia (ex ante)  y su  respectiva planificació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l análisis ex post y su respectiva planificación, considerando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s fundamental que se visibilice los cambios que ustedes han considerado pertinentes antes de la contingencia y después de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Deberá realizarse también la matriz FODA según la nueva planificación definida por su organizació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ortad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esenta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1.-Primera Parte:  Análisis de la Situación Estratégica 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2.-Segunda Parte:  Análisis de la Situación Estratégica 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1 Título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762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ángulo 3"/>
          <p:cNvSpPr/>
          <p:nvPr/>
        </p:nvSpPr>
        <p:spPr>
          <a:xfrm>
            <a:off x="1066680" y="2514600"/>
            <a:ext cx="2133720" cy="12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CuadroTexto 4"/>
          <p:cNvSpPr/>
          <p:nvPr/>
        </p:nvSpPr>
        <p:spPr>
          <a:xfrm>
            <a:off x="1295280" y="2819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lecha derecha 5"/>
          <p:cNvSpPr/>
          <p:nvPr/>
        </p:nvSpPr>
        <p:spPr>
          <a:xfrm>
            <a:off x="3200400" y="3048120"/>
            <a:ext cx="4267080" cy="228600"/>
          </a:xfrm>
          <a:prstGeom prst="rightArrow">
            <a:avLst>
              <a:gd name="adj1" fmla="val 50000"/>
              <a:gd name="adj2" fmla="val 5003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ángulo 6"/>
          <p:cNvSpPr/>
          <p:nvPr/>
        </p:nvSpPr>
        <p:spPr>
          <a:xfrm>
            <a:off x="4114800" y="1143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ángulo 7"/>
          <p:cNvSpPr/>
          <p:nvPr/>
        </p:nvSpPr>
        <p:spPr>
          <a:xfrm>
            <a:off x="4114800" y="4572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CuadroTexto 8"/>
          <p:cNvSpPr/>
          <p:nvPr/>
        </p:nvSpPr>
        <p:spPr>
          <a:xfrm>
            <a:off x="4114800" y="1143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CuadroTexto 9"/>
          <p:cNvSpPr/>
          <p:nvPr/>
        </p:nvSpPr>
        <p:spPr>
          <a:xfrm>
            <a:off x="4114800" y="4611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Conector recto de flecha 11"/>
          <p:cNvCxnSpPr/>
          <p:nvPr/>
        </p:nvCxnSpPr>
        <p:spPr>
          <a:xfrm flipH="1">
            <a:off x="5179680" y="1829880"/>
            <a:ext cx="2160" cy="122004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361" name="Conector recto de flecha 13"/>
          <p:cNvCxnSpPr/>
          <p:nvPr/>
        </p:nvCxnSpPr>
        <p:spPr>
          <a:xfrm flipV="1">
            <a:off x="5180040" y="3276360"/>
            <a:ext cx="2160" cy="129600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62" name="CuadroTexto 15"/>
          <p:cNvSpPr/>
          <p:nvPr/>
        </p:nvSpPr>
        <p:spPr>
          <a:xfrm>
            <a:off x="525780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portunidades y 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CuadroTexto 16"/>
          <p:cNvSpPr/>
          <p:nvPr/>
        </p:nvSpPr>
        <p:spPr>
          <a:xfrm>
            <a:off x="5257800" y="3468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ángulo 6"/>
          <p:cNvSpPr/>
          <p:nvPr/>
        </p:nvSpPr>
        <p:spPr>
          <a:xfrm>
            <a:off x="914400" y="3276720"/>
            <a:ext cx="2971800" cy="1447560"/>
          </a:xfrm>
          <a:prstGeom prst="rect">
            <a:avLst/>
          </a:prstGeom>
          <a:gradFill rotWithShape="0">
            <a:gsLst>
              <a:gs pos="0">
                <a:srgbClr val="9bc1ff">
                  <a:alpha val="43137"/>
                </a:srgbClr>
              </a:gs>
              <a:gs pos="100000">
                <a:srgbClr val="3f80cd">
                  <a:alpha val="43137"/>
                </a:srgbClr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CuadroTexto 3"/>
          <p:cNvSpPr/>
          <p:nvPr/>
        </p:nvSpPr>
        <p:spPr>
          <a:xfrm>
            <a:off x="4724280" y="2025720"/>
            <a:ext cx="3200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sociales, culturales, demográficas y ambien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políticas, gubernamentales y leg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tecn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competi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brir llave 4"/>
          <p:cNvSpPr/>
          <p:nvPr/>
        </p:nvSpPr>
        <p:spPr>
          <a:xfrm>
            <a:off x="4038480" y="1965240"/>
            <a:ext cx="381240" cy="3978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978360"/>
              <a:gd name="textAreaBottom" fmla="*/ 3968640 h 397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789"/>
                </a:lnTo>
                <a:cubicBezTo>
                  <a:pt x="10800" y="10875"/>
                  <a:pt x="5400" y="10961"/>
                  <a:pt x="0" y="10961"/>
                </a:cubicBezTo>
                <a:cubicBezTo>
                  <a:pt x="5400" y="10961"/>
                  <a:pt x="10800" y="11047"/>
                  <a:pt x="10800" y="11133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CuadroTexto 5"/>
          <p:cNvSpPr/>
          <p:nvPr/>
        </p:nvSpPr>
        <p:spPr>
          <a:xfrm>
            <a:off x="1295280" y="3429000"/>
            <a:ext cx="2286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Amenazas / Oportunidad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CuadroTexto 5"/>
          <p:cNvSpPr/>
          <p:nvPr/>
        </p:nvSpPr>
        <p:spPr>
          <a:xfrm>
            <a:off x="91440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CRITERIOS DE CLASIFICACIÓN DE LAS AMENAZAS Y 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CuadroTexto 7"/>
          <p:cNvSpPr/>
          <p:nvPr/>
        </p:nvSpPr>
        <p:spPr>
          <a:xfrm>
            <a:off x="533520" y="50292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orno: factores (hechos y circunstancias) externos a la organización que tienen o podrían tener una influencia importante en su desemp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uadroTexto 3"/>
          <p:cNvSpPr/>
          <p:nvPr/>
        </p:nvSpPr>
        <p:spPr>
          <a:xfrm>
            <a:off x="1371600" y="838080"/>
            <a:ext cx="556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OPORTUNIDA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que se nos presentan como disponibles pero no propias o poseí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aprovecharlas tenemos que hacer algo (no estar pasivos) con nuestros actual cuadro de fortalezas y de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one que son percib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 que puede impedirnos la consecución de lo que queremos lograr y/o que pueda debilitarnos en virtud de su acción o presencia en el ento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CuadroTexto 3"/>
          <p:cNvSpPr/>
          <p:nvPr/>
        </p:nvSpPr>
        <p:spPr>
          <a:xfrm>
            <a:off x="76212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CuadroTexto 4"/>
          <p:cNvSpPr/>
          <p:nvPr/>
        </p:nvSpPr>
        <p:spPr>
          <a:xfrm>
            <a:off x="762120" y="114300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ncularse) a iniciativas de empresas con responsabilidad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rticipación) de grupos de interé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ilidad en la opinión pública frente  a la catástrofe medioambie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ciudadano: la sociedad exige mayor institucionalidad y resguard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 por descontento con industrias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o en los niveles de organización so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mediá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lación vulnerable afectada de manera c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o mundial: crisis ambiental y calentamiento glob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de sectores políticos y parla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emocrático permite movilización social para realizar cam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ciones legales a inversiones con el fin de proteger medio a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dad en agenda presid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movimientos sociales en torno al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una institucion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otro organismo gubernamental en la mate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permite sistemas productivos no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relacionada con la realización de la mis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uadroTexto 3"/>
          <p:cNvSpPr/>
          <p:nvPr/>
        </p:nvSpPr>
        <p:spPr>
          <a:xfrm>
            <a:off x="914400" y="457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CuadroTexto 4"/>
          <p:cNvSpPr/>
          <p:nvPr/>
        </p:nvSpPr>
        <p:spPr>
          <a:xfrm>
            <a:off x="914400" y="1000080"/>
            <a:ext cx="7696080" cy="51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ación de estructura de costos de las empresas por restricciones ambient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empresas contaminantes que expulsan desechos tóx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is económica prioriza creación de empleos más que la protección del amb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Transport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de automovil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industrias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ción geográfica de Santiag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población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cienc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nfianza ciudadana respecto de medidas de gobier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Posible conflicto de int. entre CONAMA y nuevo or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legislación rigurosa que regule actores y agentes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 con org. de gobierno en materia de energías alternativ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parlamentarios y políticos con intereses cre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senso político dentro y fuera de coalición de go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adecuada política de transpor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 Alto costo de tecnolog. amigables con medio am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tecnologías productivas en la industria pero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tecnología de vanguardia en mater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ficiente investigación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0:05:35Z</dcterms:created>
  <dc:creator>Antonio Quintin</dc:creator>
  <dc:description/>
  <dc:language>en-US</dc:language>
  <cp:lastModifiedBy>Colossus User</cp:lastModifiedBy>
  <dcterms:modified xsi:type="dcterms:W3CDTF">2009-05-27T04:44:14Z</dcterms:modified>
  <cp:revision>34</cp:revision>
  <dc:subject/>
  <dc:title>Diapositiva 1</dc:title>
</cp:coreProperties>
</file>