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C96-911F-4D44-8DDC-5BD80077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BC4-CA9F-43BE-B4AE-FC49F40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348-21DE-4B6E-A916-A346C2E9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772-5111-42BC-A73C-44E78A6E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834D-AF84-4E34-BE07-A099CED2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E7DD-B70C-4250-A29D-7FF0A42E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F2C4-5CB3-4DD3-9B0C-11B9C4EF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8333-2FA7-4496-BEC0-FAD449F2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C323-6BE1-4F86-A3B8-1C9B6F5A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FF46-D8F7-4F1E-8C15-36C3D168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0D29-8080-4E61-824D-F6997D6A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57F-77F1-445B-936B-5B1749DD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2240-9723-468C-B9C5-7FFB8E3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6D6E-CF6F-4FC3-B3F4-9E58733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3C75-7548-44DA-BA43-29ADE979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1263-7EB6-44F4-9F71-56D45D035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95FD-BF85-4AF5-8E70-E0009F07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B7A8C-0E0B-4C74-A5A2-30315155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171D-335F-4AB2-A320-0F74598F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C73E0-0A08-43EA-8178-E6148DBB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59F5-338F-4D2B-8279-1D3AAC36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90E6-3438-4ABF-BE01-826492AC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AFF-E196-460B-890C-EC7C2CC3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F16E7-A36B-4A30-B2A6-AF916D29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EF166-3032-4C46-A52A-2AF0000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7FC08-C4DE-41A3-89F1-E527B805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3DA6-86B3-42AC-9A86-6B4270FD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19A77-0B5D-41CA-976F-B7A4BFAB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DA349-3A6A-45C7-9B37-457470DD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3065-782D-46F7-84D7-7A10264D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5025-4501-4229-A221-8BD931B0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4DA4-FD18-4319-9F34-7771C113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C5D3F-13FC-4C6B-BD54-2D388974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2F0-9486-4F54-B71B-76C36501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F760-D42E-4B64-8087-25DE3B8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0C1D3-88B1-41BC-8D3C-E49C0A1A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2A74-A637-45E4-BB5C-1E25664C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D3158-0515-4120-884A-9A2E5392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84303-4E86-4321-BCBF-2A43ED19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D3BF6-BC77-487D-8C79-540BDCA6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2632B-9BC1-4D06-BC92-79118791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4D5E-3653-483A-8AC0-AEBAC3EBC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4CC0-9C28-4234-BB03-4C9521E4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AB563-32EC-4910-BD00-800A7061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A96-8626-4838-92E5-A2C1DB9D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054FF-9EB5-4CEC-93E7-37ABEF27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4B97D-1032-4553-879D-14725FBE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0AD90-2B70-4F35-8A2C-C474D091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8BF90-72A4-40C8-9FD5-6DA7DFC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363D-B6E3-45BB-B160-E4EF9274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470A-B9CD-48A7-8530-0C2177E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BE42D-F94C-4D56-BD43-F6C73343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F45BE-ECDE-4218-9381-D047FB83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D0C1-8BE2-4405-8D1F-84ACF6A1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6BB76-46E1-4D3F-9825-35A65FE9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7C3-6829-4E44-A355-422B2C5B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25F24-2F38-4512-A2B5-48B74B0D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DD63-B397-4AFF-B2FD-44518694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E175C-7586-4879-B2E6-7E487F9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71C9F-5E5D-4072-BB9F-1393EB5C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0E2A-81EA-4443-AF39-D0496AE1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5EF9-811C-4C26-AEBA-7E96ED68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9CA5-7346-4FC1-8AEF-9066D7DF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F376B-A62B-42EE-A328-66CA2972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2502-4EFA-4F8C-A968-6B550E7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5A91-B1B9-4D47-8BC1-1D26760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831-C0F9-4DBE-ACF2-F013913A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92C06-3F35-4A37-87CE-45A907F6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0C5C-7A04-477D-8EDE-B934EB4D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A94A0-FB2F-4757-85B0-28659FB2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5731F-D7A3-49F5-A442-E5420140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B01AE-038A-481F-A252-8477CF46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89181-8A4E-4053-A21A-71496CE8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279B-11A8-4CD6-97D8-5C55F21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790A8-6924-4095-8D8E-A69D1305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2BFF2-0B9E-4DB4-BCEB-416388C5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0CA3E-BA25-403F-BD44-25901988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4BF0-FCE0-469A-84BC-7E1CCF16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0A03D-1EF0-43AF-A9C7-6E912F38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30D42-0553-4528-B687-DD6DC73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22354-4A63-42B9-9E18-7A5FCEF2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82661-B96E-4C39-A666-F832EAF5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AD063-DEFF-4768-9FE5-CBD48FC6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5B5A5-C1CC-4D43-8732-5A82867B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AA966-1F7C-40D4-9649-1E54FDE2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C380E-0751-4CD2-8916-D9ACBDC0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5D1E9-0DCF-4678-90FC-B5B794D6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CE5D10-B14F-4BD2-AA5F-7F6B00B3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F5A-6A80-4B61-A7BF-E2F614E8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646D-40D6-4866-98A3-C5A249A8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9FFF-3547-4E05-A46D-B3FDC435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134AF-9095-4DA6-BD29-F8B1C964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EAC56-5949-4D5B-AA36-19F523BA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C7D57-DA79-48DB-BAEC-AB2BDB28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26E8E-ECA7-40B4-9937-9520AA5B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62FC3-A883-43A2-AB10-D8C36165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C0EA5-DEE3-40EE-B2E8-7BEBFE1BAA22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F0B1D-4039-49A1-A069-56703C1D48A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20A59-74FD-4D74-A760-BF397B4AA42B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C4EB1-AEA8-4971-B7E6-C9B3CCB6EFFB}" type="slidenum"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5E465A-DEE7-42D4-87A3-3D6997943F13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01DE2-669A-4C7D-BB10-2EB18E4A39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14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5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4E0DC4-F050-456B-B5CE-455FE9871F7B}" type="datetime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AF53A-C8DF-4183-850E-08113DC9E86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C4CAF-9313-4334-A9D6-F884EA4E5549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A8A70-AB3E-4ED7-BB37-122F4D1947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FB75B-4718-400A-B5D3-90617B07B360}" type="datetime"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0B15D-268C-4098-B24A-E5E056F134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F46C94-E34B-4953-8D7B-229B8F66E41B}" type="datetime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D3AB8-4D9E-490B-910B-DD3A599AE6B9}" type="slidenum">
              <a:rPr b="0" lang="es-ES_tradnl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13EB7-FE5D-4902-8642-B7766326D7A7}" type="datetime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9A4BA-4704-4A7A-BFA8-3F796624C2D0}" type="slidenum">
              <a:rPr b="0" lang="es-ES_tradnl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588520" cy="2073600"/>
          </a:xfrm>
          <a:prstGeom prst="rect">
            <a:avLst/>
          </a:prstGeom>
          <a:ln w="0">
            <a:noFill/>
          </a:ln>
        </p:spPr>
      </p:pic>
      <p:pic>
        <p:nvPicPr>
          <p:cNvPr id="346" name="2 Subtítulo" descr=""/>
          <p:cNvPicPr/>
          <p:nvPr/>
        </p:nvPicPr>
        <p:blipFill>
          <a:blip r:embed="rId2"/>
          <a:stretch/>
        </p:blipFill>
        <p:spPr>
          <a:xfrm>
            <a:off x="2620800" y="4102200"/>
            <a:ext cx="515808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ángulo 3"/>
          <p:cNvSpPr/>
          <p:nvPr/>
        </p:nvSpPr>
        <p:spPr>
          <a:xfrm>
            <a:off x="19051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ángulo 4"/>
          <p:cNvSpPr/>
          <p:nvPr/>
        </p:nvSpPr>
        <p:spPr>
          <a:xfrm>
            <a:off x="4648320" y="13716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ángulo 5"/>
          <p:cNvSpPr/>
          <p:nvPr/>
        </p:nvSpPr>
        <p:spPr>
          <a:xfrm>
            <a:off x="19051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ángulo 6"/>
          <p:cNvSpPr/>
          <p:nvPr/>
        </p:nvSpPr>
        <p:spPr>
          <a:xfrm>
            <a:off x="4648320" y="3429000"/>
            <a:ext cx="2666880" cy="19810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CuadroTexto 7"/>
          <p:cNvSpPr/>
          <p:nvPr/>
        </p:nvSpPr>
        <p:spPr>
          <a:xfrm>
            <a:off x="609480" y="2133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CuadroTexto 8"/>
          <p:cNvSpPr/>
          <p:nvPr/>
        </p:nvSpPr>
        <p:spPr>
          <a:xfrm>
            <a:off x="533520" y="4125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CuadroTexto 9"/>
          <p:cNvSpPr/>
          <p:nvPr/>
        </p:nvSpPr>
        <p:spPr>
          <a:xfrm>
            <a:off x="7391520" y="2133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uadroTexto 10"/>
          <p:cNvSpPr/>
          <p:nvPr/>
        </p:nvSpPr>
        <p:spPr>
          <a:xfrm>
            <a:off x="7391520" y="41259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CuadroTexto 11"/>
          <p:cNvSpPr/>
          <p:nvPr/>
        </p:nvSpPr>
        <p:spPr>
          <a:xfrm>
            <a:off x="22860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CuadroTexto 12"/>
          <p:cNvSpPr/>
          <p:nvPr/>
        </p:nvSpPr>
        <p:spPr>
          <a:xfrm>
            <a:off x="5029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CuadroTexto 13"/>
          <p:cNvSpPr/>
          <p:nvPr/>
        </p:nvSpPr>
        <p:spPr>
          <a:xfrm>
            <a:off x="2057400" y="3973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CuadroTexto 14"/>
          <p:cNvSpPr/>
          <p:nvPr/>
        </p:nvSpPr>
        <p:spPr>
          <a:xfrm>
            <a:off x="5029200" y="397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CuadroTexto 15"/>
          <p:cNvSpPr/>
          <p:nvPr/>
        </p:nvSpPr>
        <p:spPr>
          <a:xfrm>
            <a:off x="2286000" y="236232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nsolid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CuadroTexto 16"/>
          <p:cNvSpPr/>
          <p:nvPr/>
        </p:nvSpPr>
        <p:spPr>
          <a:xfrm>
            <a:off x="5029200" y="23734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limi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CuadroTexto 17"/>
          <p:cNvSpPr/>
          <p:nvPr/>
        </p:nvSpPr>
        <p:spPr>
          <a:xfrm>
            <a:off x="22860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provec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CuadroTexto 18"/>
          <p:cNvSpPr/>
          <p:nvPr/>
        </p:nvSpPr>
        <p:spPr>
          <a:xfrm>
            <a:off x="5029200" y="4430880"/>
            <a:ext cx="1828800" cy="368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it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CuadroTexto 19"/>
          <p:cNvSpPr/>
          <p:nvPr/>
        </p:nvSpPr>
        <p:spPr>
          <a:xfrm>
            <a:off x="2819520" y="6858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CuadroTexto 20"/>
          <p:cNvSpPr/>
          <p:nvPr/>
        </p:nvSpPr>
        <p:spPr>
          <a:xfrm>
            <a:off x="54864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lecha abajo 21"/>
          <p:cNvSpPr/>
          <p:nvPr/>
        </p:nvSpPr>
        <p:spPr>
          <a:xfrm>
            <a:off x="281952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lecha abajo 22"/>
          <p:cNvSpPr/>
          <p:nvPr/>
        </p:nvSpPr>
        <p:spPr>
          <a:xfrm>
            <a:off x="5486400" y="2971800"/>
            <a:ext cx="838080" cy="84924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c0504d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CuadroTexto 23"/>
          <p:cNvSpPr/>
          <p:nvPr/>
        </p:nvSpPr>
        <p:spPr>
          <a:xfrm>
            <a:off x="274320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CuadroTexto 24"/>
          <p:cNvSpPr/>
          <p:nvPr/>
        </p:nvSpPr>
        <p:spPr>
          <a:xfrm>
            <a:off x="5410080" y="3276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7" name="Conector recto de flecha 28"/>
          <p:cNvCxnSpPr/>
          <p:nvPr/>
        </p:nvCxnSpPr>
        <p:spPr>
          <a:xfrm>
            <a:off x="3962520" y="2742840"/>
            <a:ext cx="1296000" cy="12438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98" name="CuadroTexto 29"/>
          <p:cNvSpPr/>
          <p:nvPr/>
        </p:nvSpPr>
        <p:spPr>
          <a:xfrm rot="2510400">
            <a:off x="4226040" y="3131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Preven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CuadroTexto 22"/>
          <p:cNvSpPr/>
          <p:nvPr/>
        </p:nvSpPr>
        <p:spPr>
          <a:xfrm>
            <a:off x="3505320" y="5105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CuadroTexto 23"/>
          <p:cNvSpPr/>
          <p:nvPr/>
        </p:nvSpPr>
        <p:spPr>
          <a:xfrm>
            <a:off x="6172200" y="5105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CuadroTexto 24"/>
          <p:cNvSpPr/>
          <p:nvPr/>
        </p:nvSpPr>
        <p:spPr>
          <a:xfrm>
            <a:off x="3505320" y="3705120"/>
            <a:ext cx="2438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utilizando nuestras fortalez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LIDA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CuadroTexto 25"/>
          <p:cNvSpPr/>
          <p:nvPr/>
        </p:nvSpPr>
        <p:spPr>
          <a:xfrm>
            <a:off x="6095880" y="350532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aprovechar las oportunidades disminuyendo nuestras debilidades?  DESAFÍ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CuadroTexto 26"/>
          <p:cNvSpPr/>
          <p:nvPr/>
        </p:nvSpPr>
        <p:spPr>
          <a:xfrm>
            <a:off x="3505320" y="54752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utilizar nuestras fortalezas neutralizando las amenazas? 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uadroTexto 27"/>
          <p:cNvSpPr/>
          <p:nvPr/>
        </p:nvSpPr>
        <p:spPr>
          <a:xfrm>
            <a:off x="6095880" y="5410080"/>
            <a:ext cx="2438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Qué hacer para neutralizar las amenazas disminuyendo nuestras debilidades? LIMIT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ángulo 3"/>
          <p:cNvSpPr/>
          <p:nvPr/>
        </p:nvSpPr>
        <p:spPr>
          <a:xfrm>
            <a:off x="533520" y="838080"/>
            <a:ext cx="274320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ángulo 4"/>
          <p:cNvSpPr/>
          <p:nvPr/>
        </p:nvSpPr>
        <p:spPr>
          <a:xfrm>
            <a:off x="3352680" y="838080"/>
            <a:ext cx="259092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ángulo 5"/>
          <p:cNvSpPr/>
          <p:nvPr/>
        </p:nvSpPr>
        <p:spPr>
          <a:xfrm>
            <a:off x="6019920" y="838080"/>
            <a:ext cx="2590560" cy="22100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ángulo 6"/>
          <p:cNvSpPr/>
          <p:nvPr/>
        </p:nvSpPr>
        <p:spPr>
          <a:xfrm>
            <a:off x="533520" y="3124080"/>
            <a:ext cx="2743200" cy="19814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ángulo 7"/>
          <p:cNvSpPr/>
          <p:nvPr/>
        </p:nvSpPr>
        <p:spPr>
          <a:xfrm>
            <a:off x="533520" y="5181480"/>
            <a:ext cx="2743200" cy="152424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ángulo 8"/>
          <p:cNvSpPr/>
          <p:nvPr/>
        </p:nvSpPr>
        <p:spPr>
          <a:xfrm>
            <a:off x="3352680" y="3124080"/>
            <a:ext cx="259092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ángulo 9"/>
          <p:cNvSpPr/>
          <p:nvPr/>
        </p:nvSpPr>
        <p:spPr>
          <a:xfrm>
            <a:off x="6019920" y="3124080"/>
            <a:ext cx="259056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ángulo 10"/>
          <p:cNvSpPr/>
          <p:nvPr/>
        </p:nvSpPr>
        <p:spPr>
          <a:xfrm>
            <a:off x="3352680" y="5181480"/>
            <a:ext cx="259092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ángulo 11"/>
          <p:cNvSpPr/>
          <p:nvPr/>
        </p:nvSpPr>
        <p:spPr>
          <a:xfrm>
            <a:off x="6019920" y="5181480"/>
            <a:ext cx="259056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uadroTexto 12"/>
          <p:cNvSpPr/>
          <p:nvPr/>
        </p:nvSpPr>
        <p:spPr>
          <a:xfrm>
            <a:off x="3733920" y="8380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ALE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CuadroTexto 13"/>
          <p:cNvSpPr/>
          <p:nvPr/>
        </p:nvSpPr>
        <p:spPr>
          <a:xfrm>
            <a:off x="6400800" y="838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CuadroTexto 14"/>
          <p:cNvSpPr/>
          <p:nvPr/>
        </p:nvSpPr>
        <p:spPr>
          <a:xfrm>
            <a:off x="6094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CuadroTexto 15"/>
          <p:cNvSpPr/>
          <p:nvPr/>
        </p:nvSpPr>
        <p:spPr>
          <a:xfrm>
            <a:off x="60948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CuadroTexto 16"/>
          <p:cNvSpPr/>
          <p:nvPr/>
        </p:nvSpPr>
        <p:spPr>
          <a:xfrm>
            <a:off x="609480" y="9144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CRÍTICOS DE ÉXI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CuadroTexto 17"/>
          <p:cNvSpPr/>
          <p:nvPr/>
        </p:nvSpPr>
        <p:spPr>
          <a:xfrm>
            <a:off x="609480" y="14479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 los cuales depende el éxito de nuestra misió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CuadroTexto 18"/>
          <p:cNvSpPr/>
          <p:nvPr/>
        </p:nvSpPr>
        <p:spPr>
          <a:xfrm>
            <a:off x="609480" y="20210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OR ESTRATÉGICO CL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CuadroTexto 19"/>
          <p:cNvSpPr/>
          <p:nvPr/>
        </p:nvSpPr>
        <p:spPr>
          <a:xfrm>
            <a:off x="609480" y="25146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quel que no se puede ignorar a la hora de actuar con éxi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CuadroTexto 20"/>
          <p:cNvSpPr/>
          <p:nvPr/>
        </p:nvSpPr>
        <p:spPr>
          <a:xfrm>
            <a:off x="3505320" y="32004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CuadroTexto 21"/>
          <p:cNvSpPr/>
          <p:nvPr/>
        </p:nvSpPr>
        <p:spPr>
          <a:xfrm>
            <a:off x="6172200" y="32004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CuadroTexto 22"/>
          <p:cNvSpPr/>
          <p:nvPr/>
        </p:nvSpPr>
        <p:spPr>
          <a:xfrm>
            <a:off x="3505320" y="519264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F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CuadroTexto 23"/>
          <p:cNvSpPr/>
          <p:nvPr/>
        </p:nvSpPr>
        <p:spPr>
          <a:xfrm>
            <a:off x="6172200" y="519264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D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CuadroTexto 28"/>
          <p:cNvSpPr/>
          <p:nvPr/>
        </p:nvSpPr>
        <p:spPr>
          <a:xfrm>
            <a:off x="1752480" y="30492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Z ESTRATÉGICA (FOD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Anexo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Century Gothic"/>
              </a:rPr>
              <a:t>Notas Final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ffffff"/>
                </a:solidFill>
                <a:latin typeface="Century Gothic"/>
              </a:rPr>
              <a:t>El trabajo será entregado el viernes 29 de mayo a las 13.30 hrs en formato carta  e impreso; letra times new roman o arial 12; interlineado 1,5</a:t>
            </a: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75005f"/>
                </a:solidFill>
                <a:latin typeface="Century Gothic"/>
              </a:rPr>
              <a:t>Todo trabajo entregado fuera de plazo será evaluado con nota mínima (1.0)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1 Título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Sobre la base de su primera entrega usted deberá considerar la contingencia que afecta a su organización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Reorientación de su planificación estratégica resumida en un análisis ex ante y ex post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 ante es aquel que usted entrego en su primer avance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El análisis ex post es aquel que usted entregará en su segunda entrega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ffffff"/>
                </a:solidFill>
                <a:latin typeface="Century Gothic"/>
              </a:rPr>
              <a:t>La segunda entrega deberá contener por tanto: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Un contraste en la planificación antes de la contingencia (ex ante)  y su  respectiva planificación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l análisis ex post y su respectiva planificación, considerando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Es fundamental que se visibilice los cambios que ustedes han considerado pertinentes antes de la contingencia y después de la contingencia.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Century Gothic"/>
              </a:rPr>
              <a:t>Deberá realizarse también la matriz FODA según la nueva planificación definida por su organización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1 Título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755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ortada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esenta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1.-Primera Parte:  Análisis de la Situación Estratégica 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2.-Segunda Parte:  Análisis de la Situación Estratégica 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a Análisis del ambiente: (Determinar 5 ó 6 variables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1.b  Análisis Interno ((Determinar 5 ó 6 variables)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a 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b 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c Objetivos Estratégicos (Establecer 2 ó 3)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d Productos Relevantes o Estratégicos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r>
              <a:rPr b="0" lang="es-AR" sz="1400" spc="-1" strike="noStrike">
                <a:solidFill>
                  <a:srgbClr val="ffffff"/>
                </a:solidFill>
                <a:latin typeface="Century Gothic"/>
              </a:rPr>
              <a:t>2.e  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7622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a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 </a:t>
            </a:r>
            <a:r>
              <a:rPr b="1" lang="es-AR" sz="1400" spc="-1" strike="noStrike" u="sng">
                <a:solidFill>
                  <a:srgbClr val="ffffff"/>
                </a:solidFill>
                <a:uFillTx/>
                <a:latin typeface="Century Gothic"/>
              </a:rPr>
              <a:t>Ex post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del ambient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Análisis Intern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Misión: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Visión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Objetivos Estratégicos 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Productos Relevantes o Estratégicos: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Clientes/ Beneficiarios/Usuario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ángulo 3"/>
          <p:cNvSpPr/>
          <p:nvPr/>
        </p:nvSpPr>
        <p:spPr>
          <a:xfrm>
            <a:off x="1066680" y="2514600"/>
            <a:ext cx="2133720" cy="129528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CuadroTexto 4"/>
          <p:cNvSpPr/>
          <p:nvPr/>
        </p:nvSpPr>
        <p:spPr>
          <a:xfrm>
            <a:off x="1295280" y="2819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ISIÓN Y 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Flecha derecha 5"/>
          <p:cNvSpPr/>
          <p:nvPr/>
        </p:nvSpPr>
        <p:spPr>
          <a:xfrm>
            <a:off x="3200400" y="3048120"/>
            <a:ext cx="4267080" cy="228600"/>
          </a:xfrm>
          <a:prstGeom prst="rightArrow">
            <a:avLst>
              <a:gd name="adj1" fmla="val 50000"/>
              <a:gd name="adj2" fmla="val 50036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ángulo 6"/>
          <p:cNvSpPr/>
          <p:nvPr/>
        </p:nvSpPr>
        <p:spPr>
          <a:xfrm>
            <a:off x="4114800" y="1143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ángulo 7"/>
          <p:cNvSpPr/>
          <p:nvPr/>
        </p:nvSpPr>
        <p:spPr>
          <a:xfrm>
            <a:off x="4114800" y="4572000"/>
            <a:ext cx="2286000" cy="6858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CuadroTexto 8"/>
          <p:cNvSpPr/>
          <p:nvPr/>
        </p:nvSpPr>
        <p:spPr>
          <a:xfrm>
            <a:off x="4114800" y="1143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CuadroTexto 9"/>
          <p:cNvSpPr/>
          <p:nvPr/>
        </p:nvSpPr>
        <p:spPr>
          <a:xfrm>
            <a:off x="4114800" y="4611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álisis (Auditoría) 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" name="Conector recto de flecha 11"/>
          <p:cNvCxnSpPr/>
          <p:nvPr/>
        </p:nvCxnSpPr>
        <p:spPr>
          <a:xfrm flipH="1">
            <a:off x="5179680" y="1829880"/>
            <a:ext cx="2160" cy="122004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361" name="Conector recto de flecha 13"/>
          <p:cNvCxnSpPr/>
          <p:nvPr/>
        </p:nvCxnSpPr>
        <p:spPr>
          <a:xfrm flipV="1">
            <a:off x="5180040" y="3276360"/>
            <a:ext cx="2160" cy="1296000"/>
          </a:xfrm>
          <a:prstGeom prst="straightConnector1">
            <a:avLst/>
          </a:prstGeom>
          <a:ln w="25560">
            <a:solidFill>
              <a:srgbClr val="ff388c"/>
            </a:solidFill>
            <a:miter/>
            <a:tailEnd len="med" type="arrow" w="med"/>
          </a:ln>
        </p:spPr>
      </p:cxnSp>
      <p:sp>
        <p:nvSpPr>
          <p:cNvPr id="362" name="CuadroTexto 15"/>
          <p:cNvSpPr/>
          <p:nvPr/>
        </p:nvSpPr>
        <p:spPr>
          <a:xfrm>
            <a:off x="5257800" y="2133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portunidades y Amena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CuadroTexto 16"/>
          <p:cNvSpPr/>
          <p:nvPr/>
        </p:nvSpPr>
        <p:spPr>
          <a:xfrm>
            <a:off x="5257800" y="3468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ortalezas y De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ángulo 6"/>
          <p:cNvSpPr/>
          <p:nvPr/>
        </p:nvSpPr>
        <p:spPr>
          <a:xfrm>
            <a:off x="914400" y="3276720"/>
            <a:ext cx="2971800" cy="1447560"/>
          </a:xfrm>
          <a:prstGeom prst="rect">
            <a:avLst/>
          </a:prstGeom>
          <a:gradFill rotWithShape="0">
            <a:gsLst>
              <a:gs pos="0">
                <a:srgbClr val="9bc1ff">
                  <a:alpha val="43137"/>
                </a:srgbClr>
              </a:gs>
              <a:gs pos="100000">
                <a:srgbClr val="3f80cd">
                  <a:alpha val="43137"/>
                </a:srgbClr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CuadroTexto 3"/>
          <p:cNvSpPr/>
          <p:nvPr/>
        </p:nvSpPr>
        <p:spPr>
          <a:xfrm>
            <a:off x="4724280" y="2025720"/>
            <a:ext cx="32004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económ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sociales, culturales, demográficas y ambi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políticas, gubernamentales y leg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tecnológ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uerzas competi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brir llave 4"/>
          <p:cNvSpPr/>
          <p:nvPr/>
        </p:nvSpPr>
        <p:spPr>
          <a:xfrm>
            <a:off x="4038480" y="1965240"/>
            <a:ext cx="381240" cy="3978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9720 h 3978360"/>
              <a:gd name="textAreaBottom" fmla="*/ 3968640 h 397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789"/>
                </a:lnTo>
                <a:cubicBezTo>
                  <a:pt x="10800" y="10875"/>
                  <a:pt x="5400" y="10961"/>
                  <a:pt x="0" y="10961"/>
                </a:cubicBezTo>
                <a:cubicBezTo>
                  <a:pt x="5400" y="10961"/>
                  <a:pt x="10800" y="11047"/>
                  <a:pt x="10800" y="11133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CuadroTexto 5"/>
          <p:cNvSpPr/>
          <p:nvPr/>
        </p:nvSpPr>
        <p:spPr>
          <a:xfrm>
            <a:off x="1295280" y="342900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álisis (Auditoría) Ex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(Amenazas / Oportunidad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CuadroTexto 5"/>
          <p:cNvSpPr/>
          <p:nvPr/>
        </p:nvSpPr>
        <p:spPr>
          <a:xfrm>
            <a:off x="914400" y="6858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CRITERIOS DE CLASIFICACIÓN DE LAS AMENAZAS Y OPORTUN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CuadroTexto 7"/>
          <p:cNvSpPr/>
          <p:nvPr/>
        </p:nvSpPr>
        <p:spPr>
          <a:xfrm>
            <a:off x="533520" y="502920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torno: factores (hechos y circunstancias) externos a la organización que tienen o podrían tener una influencia importante en su desempeñ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CuadroTexto 3"/>
          <p:cNvSpPr/>
          <p:nvPr/>
        </p:nvSpPr>
        <p:spPr>
          <a:xfrm>
            <a:off x="1371600" y="838080"/>
            <a:ext cx="5562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OPORTUNIDA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s que se nos presentan como disponibles pero no propias o poseí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ara aprovecharlas tenemos que hacer algo (no estar pasivos) con nuestros actual cuadro de fortalezas y debil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upone que son percib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go que puede impedirnos la consecución de lo que queremos lograr y/o que pueda debilitarnos en virtud de su acción o presencia en el ento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CuadroTexto 3"/>
          <p:cNvSpPr/>
          <p:nvPr/>
        </p:nvSpPr>
        <p:spPr>
          <a:xfrm>
            <a:off x="76212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CuadroTexto 4"/>
          <p:cNvSpPr/>
          <p:nvPr/>
        </p:nvSpPr>
        <p:spPr>
          <a:xfrm>
            <a:off x="762120" y="1143000"/>
            <a:ext cx="7772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ncularse) a iniciativas de empresas con responsabilidades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articipación) de grupos de interé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bilidad en la opinión pública frente  a la catástrofe medioambie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ciudadano: la sociedad exige mayor institucionalidad y resguardo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biental por descontento con industrias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o en los niveles de organización so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mediát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lación vulnerable afectada de manera c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o mundial: crisis ambiental y calentamiento glo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yo de sectores políticos y parlamentar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ema democrático permite movilización social para realizar cambi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tricciones legales a inversiones con el fin de proteger medio am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dad en agenda presid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movimientos sociales en torno al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una institucional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otro organismo gubernamental en la mater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permite sistemas productivos no contamin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nología existente relacionada con la realización de la mis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CuadroTexto 3"/>
          <p:cNvSpPr/>
          <p:nvPr/>
        </p:nvSpPr>
        <p:spPr>
          <a:xfrm>
            <a:off x="914400" y="457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ENAZ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CuadroTexto 4"/>
          <p:cNvSpPr/>
          <p:nvPr/>
        </p:nvSpPr>
        <p:spPr>
          <a:xfrm>
            <a:off x="914400" y="1000080"/>
            <a:ext cx="7696080" cy="51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.: 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ación de estructura de costos de las empresas por restricciones ambient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ia de empresas contaminantes que expulsan desechos tóxic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isis económica prioriza creación de empleos más que la protección del ambi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.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Transport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de automovilist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ión eventual de industrias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dición geográfica de Santiag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repoblación de 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cienc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onfianza ciudadana respecto de medidas de gobiern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.: Posible conflicto de int. entre CONAMA y nuevo org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legislación rigurosa que regule actores y agentes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licto con org. de gobierno en materia de energías alternativ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parlamentarios y políticos con intereses cre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lta de consenso político dentro y fuera de coalición de go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adecuada política de transpor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.: Alto costo de tecnolog. amigables con medio amb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cia de tecnologías productivas en la industria pero contamina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encia de tecnología de vanguardia en materia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iciente investigación ambient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5:35Z</dcterms:created>
  <dc:creator>Antonio Quintin</dc:creator>
  <dc:description/>
  <dc:language>en-US</dc:language>
  <cp:lastModifiedBy>Colossus User</cp:lastModifiedBy>
  <dcterms:modified xsi:type="dcterms:W3CDTF">2009-05-27T04:44:14Z</dcterms:modified>
  <cp:revision>34</cp:revision>
  <dc:subject/>
  <dc:title>Diapositiva 1</dc:title>
</cp:coreProperties>
</file>