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5ACA-05DD-48FE-9279-AA94693E6771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hyperlink" Target="http://es.wikipedia.org/wiki/Jerarqu&#237;a" TargetMode="External"/><Relationship Id="rId2" Type="http://schemas.openxmlformats.org/officeDocument/2006/relationships/hyperlink" Target="http://es.wikipedia.org/wiki/Burocracia" TargetMode="External"/><Relationship Id="rId3" Type="http://schemas.openxmlformats.org/officeDocument/2006/relationships/hyperlink" Target="http://es.wikipedia.org/wiki/Ad-hoc" TargetMode="External"/><Relationship Id="rId4" Type="http://schemas.openxmlformats.org/officeDocument/2006/relationships/hyperlink" Target="http://es.wikipedia.org/wiki/Ad-hoc" TargetMode="External"/><Relationship Id="rId5" Type="http://schemas.openxmlformats.org/officeDocument/2006/relationships/hyperlink" Target="http://es.wikipedia.org/wiki/Poder" TargetMode="External"/><Relationship Id="rId6" Type="http://schemas.openxmlformats.org/officeDocument/2006/relationships/slide" Target="../slides/slide14.xml"/><Relationship Id="rId7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dhocraci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es la ausencia de 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erarquí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, y es por tanto lo opuesto a 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urocraci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. Es una palabra híbrida entre 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d-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oc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y el sufijo 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raci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. El término se usa en la teoría de gestión de organizaciones. Todos los miembros de una organización tienen autoridad para tomar decisiones y llevar a cabo acciones que afectan al futuro de la organiz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lvin Toffler apuntó en su libro 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El shock del futuro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que las adhocracias se volverán más comunes y probablemente reemplacen la burocracia en el futuro próximo. También escribió que lo más frecuente será que lleguen como estructuras temporales, formadas para resolver un problema dado y disueltas tras ello. Un ejemplo son los grupos de trabajo interdepartament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A296-ACCB-4798-B0D4-372BEF05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4777-6D89-4B49-B76B-03975181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E8E2-99C7-4464-838D-E53D1F86E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4B74-00C2-4C8F-AC7B-D6F37995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0387-3651-4D2D-84DF-C3381FBB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1A41-CF2D-4FF7-8F2F-C9CDB0F0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02C4-779B-4F25-B770-C8B147DC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4F22-361D-43C1-82E8-93E34719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6FC2-74B3-4F89-9D3D-1891D7B2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6465-C71C-4053-9CC4-3701F02D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8820-051C-45F2-A58B-8851EA92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14B7-2C58-4973-A173-5BEA86B2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8B6F-E075-4BAD-A4C1-E2E765E6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447E-9552-499C-BAE9-8AD4A315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3B35-1B65-4FAE-BEE5-95B90930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506E-AB20-46B4-9ABC-B0C7DA81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F535-7A32-46C1-87A8-5F919921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43E1-C9A4-4A7B-A71F-32BBD9EA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59C1-25E9-4FC9-B376-208F949B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1952-DD7B-4566-8786-1CCEB270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2BF6-B92E-4A8A-AE02-12A571DD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307C-B4E9-43EB-AD76-CCB8C7B8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725B-C332-4E5F-A235-9674AFD4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7456-9A72-47AE-8061-E97A8EE6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22D1-0008-434E-81F4-7FEBBABEEA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363F-1ABA-4887-8433-04CA5517F4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ase 3 Teoría de la Organización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mirada estructu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cio Cast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structura Simpl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343400" y="2743200"/>
            <a:ext cx="4572000" cy="1851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04920" y="2057400"/>
            <a:ext cx="3504960" cy="45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o dos niveles, el nivel estratégico y el operaci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o parten la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yorí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 las organizac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fácil de manejar y flexible en su toma de decis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quina Burocrátic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257800" y="2819520"/>
            <a:ext cx="3228840" cy="2200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80880" y="2286000"/>
            <a:ext cx="403884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McDonald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as decisiones son tomadas por un grupo pequeñ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a estructura técnica es grande, el apoyo es necesario en cada lo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a línea media es regular (fiscalizado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Base extendida (quien hace la hamburguesa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urocracia Profesion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6019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universidad de Ch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tor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co personal técn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ción neces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ínea de operación profesional (profesor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181480" y="2362320"/>
            <a:ext cx="381024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ormula de division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sterio u Hospit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as unid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cos dire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cos técn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oyo cen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sión de unid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724280" y="2819520"/>
            <a:ext cx="34196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Adhocraci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a agencia de public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siona (donde trabaj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 flex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os jerarqu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gunos le llaman dig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00996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r que Re-estructura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necesari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empre funcion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o nos hacemos cargo del cambi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quien afect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tos despidos tendremos que realiza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to es el costo Socia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to el costo Polític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to el costo Económic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studio de caso-segunda part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upos de 3 perso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gir la mejor propue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legar a consen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ar propuesta fi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e de una ho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enen 15 Minu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rupos y equipo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Un jef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172200" y="2438280"/>
            <a:ext cx="226692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utoridad Du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144792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27432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33920" y="43434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81680" y="4343400"/>
            <a:ext cx="129564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81680" y="2743200"/>
            <a:ext cx="129564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267080" y="1828800"/>
            <a:ext cx="99072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1828800"/>
            <a:ext cx="9144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67480" y="33526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91120" y="33526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genda del dí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esentacio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so de estudio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Henry Mintzbe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so de estudio 1 segunda par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Grup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so de estudio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signación de próximas present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Simple Jerarqui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38680" y="1981080"/>
            <a:ext cx="1295640" cy="6098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3657600"/>
            <a:ext cx="129564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54864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54864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54864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25909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038120" y="4267080"/>
            <a:ext cx="221004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248520" y="4267080"/>
            <a:ext cx="205740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42670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ircul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05520" y="144792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33920" y="510552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81680" y="5105520"/>
            <a:ext cx="129564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91520" y="29718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29718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581280" y="1752480"/>
            <a:ext cx="152424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3581280"/>
            <a:ext cx="106704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29200" y="54864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467480" y="3581280"/>
            <a:ext cx="53352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6400440" y="1752120"/>
            <a:ext cx="16765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d de canal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144792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33920" y="510552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81680" y="5105520"/>
            <a:ext cx="129564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91520" y="29718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29718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581280" y="1752480"/>
            <a:ext cx="152424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3581280"/>
            <a:ext cx="106704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29200" y="54864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467480" y="3581280"/>
            <a:ext cx="53352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400440" y="1752120"/>
            <a:ext cx="16765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3276720"/>
            <a:ext cx="320040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38480" y="327672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572000" y="2057040"/>
            <a:ext cx="1066680" cy="304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800600" y="3352320"/>
            <a:ext cx="2590920" cy="175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67280" y="2057400"/>
            <a:ext cx="1524240" cy="304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studio de caso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er el ca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cer resumen de media pag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ar exposición de 5 minu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mendaciones en media pagi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irada Estructur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Vivimos en organizaciones que estan compuestas por estructur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entendemos las estructuras podemos gestionar la organiz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sabemos como organizar una re-estructuración podemos mejorar la organiz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s organizaciones son como una maquina con diferentes partes, que necesita funcionar bi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óximas presentacion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intzbe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inisterio del Trabajo (funcion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N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M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sociación de funcion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cala de Sueldos del est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esentacion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nco Minu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a hoja de resumen en formato electrón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esion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rida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ción con la cl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so de estudio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 contratan como consultor para la nueva Reforma del Estado – Moderniz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e realizar una propuesta de re-estructuración de las áreas de desarrollo del paí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tico de ho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necesario pensar a fut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tear como se logra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so de estudio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n una hoja: escribir el diagnostico con organigrama del est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egunda hoja: proponer re-estructuración de ministerios y nuevo organigra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ercera hoja: justificación de la propuesta y estrategia de traba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 con NOTA, tienen 25 minutos. Pueden salir de la sala y buscar material en la biblioteca o inter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so de estudio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antos ministerios existen ho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ales son las áreas de desarrollo ho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emos fusionar o crear nuevos ministeri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ales son los desafíos de aquí a 5, 10 o 20 añ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lograremos estos cambi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510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Henry Mintzberg (Vivo aun y profesor en Canad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1979</a:t>
            </a:r>
            <a:r>
              <a:rPr b="0" i="1" lang="es-CL" sz="2800" spc="-1" strike="noStrike" u="sng">
                <a:solidFill>
                  <a:srgbClr val="ffffff"/>
                </a:solidFill>
                <a:uFillTx/>
                <a:latin typeface="Arial"/>
              </a:rPr>
              <a:t>The Structuring of Organizations: A Synthesis of the Research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Tipos de estructuras y partes básicas de una organización.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95880" y="2209680"/>
            <a:ext cx="2465640" cy="33624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Henry Mintzber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Henry Mintzber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27920" y="1905120"/>
            <a:ext cx="3016080" cy="3038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80880" y="1523880"/>
            <a:ext cx="57913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e acuerdo a la forma de estructuras de Mintzberg existen seis partes o componentes básicos en las organiza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1) Cúspide estratégica o administración superior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s la persona que tuvo la idea que dio origen a la organiza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2) Centro operativo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que esta compuesto por las personas que realizan los trabajos medulares o básicos de la organiza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3) Línea Media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dministradores intermedios entre el ejecutivo superior y los operari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e acuerdo a la forma de estructuras de Mintzberg existen seis partes o componentes básicos en las organiza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4) Estructura técnica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son los analistas que diseñan sistemas referidos al planteamiento formal y al control del trabaj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5) Personal de apoyo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roporcionan servicios indirectos al resto de la organiza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6) Ideologia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 que creen las organizaciones, normas, valores y cultur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562720" y="1981080"/>
            <a:ext cx="3016080" cy="30387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Henry Mintzber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01:52:38Z</dcterms:created>
  <dc:creator> </dc:creator>
  <dc:description/>
  <dc:language>en-US</dc:language>
  <cp:lastModifiedBy> </cp:lastModifiedBy>
  <dcterms:modified xsi:type="dcterms:W3CDTF">2008-08-18T06:09:26Z</dcterms:modified>
  <cp:revision>3</cp:revision>
  <dc:subject/>
  <dc:title>Clase 3 Teoría de la Organización</dc:title>
</cp:coreProperties>
</file>