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19C-4CCA-44F8-BB79-B7A097F331F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Jerarqu&#237;a" TargetMode="External"/><Relationship Id="rId2" Type="http://schemas.openxmlformats.org/officeDocument/2006/relationships/hyperlink" Target="http://es.wikipedia.org/wiki/Burocracia" TargetMode="External"/><Relationship Id="rId3" Type="http://schemas.openxmlformats.org/officeDocument/2006/relationships/hyperlink" Target="http://es.wikipedia.org/wiki/Ad-hoc" TargetMode="External"/><Relationship Id="rId4" Type="http://schemas.openxmlformats.org/officeDocument/2006/relationships/hyperlink" Target="http://es.wikipedia.org/wiki/Ad-hoc" TargetMode="External"/><Relationship Id="rId5" Type="http://schemas.openxmlformats.org/officeDocument/2006/relationships/hyperlink" Target="http://es.wikipedia.org/wiki/Poder" TargetMode="External"/><Relationship Id="rId6" Type="http://schemas.openxmlformats.org/officeDocument/2006/relationships/slide" Target="../slides/slide14.xml"/><Relationship Id="rId7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h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es la ausencia d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arquí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, y es por tanto lo opuesto 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r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s una palabra híbrida entr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-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c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y el sufijo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l término se usa en la teoría de gestión de organizaciones. Todos los miembros de una organización tienen autoridad para tomar decisiones y llevar a cabo acciones que afectan al futuro de la 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vin Toffler apuntó en su libro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l shock del futu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que las adhocracias se volverán más comunes y probablemente reemplacen la burocracia en el futuro próximo. También escribió que lo más frecuente será que lleguen como estructuras temporales, formadas para resolver un problema dado y disueltas tras ello. Un ejemplo son los grupos de trabajo interdepart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0F2-4F61-4825-8F03-01AD6273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E0E-BCF3-41A4-A9F6-786ACCA9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862-5039-486F-B5D2-4D66ADD5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9FF-E5B0-449E-AAAB-BACECE4D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689-3511-4293-BEC9-D1E92304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CD4D-C66B-449F-A8CA-2DC8F3DC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E369-89BE-4098-AD38-47DD4F2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585D-EB88-4B92-BB4C-5DD9F0C7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C57B-94AF-4196-A51C-39DA2C9B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4A2-E233-4739-8856-B08BAE50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2AD7-B9D3-478E-AD0D-000088A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49B-AA3F-4E35-A67A-6D4CE17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1AC4-9372-4EA1-ADB4-1F05C72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8A46-BA9A-4A87-9EDE-D35D5BD2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E6CC-EAE0-44C9-8014-AD67A74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AF97-860C-46F2-9DED-A83E4787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5407-E3DD-4137-82D5-B3367F50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7E9-AF93-4482-8741-C836FED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CC1-2064-43DA-8118-8F17901F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51A-F188-4E9D-9EE5-2DC67D3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022-860E-49EE-AD8E-76B40C9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219-2F47-4D8A-9EEB-5C7A222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420-34A8-4EE4-B74B-9B2AE7B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1CB-4313-4A8D-9020-B8D34CB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AF3-A3D9-493B-9888-315C00562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683-B324-49DE-B5B6-C40157201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ase 3 Teoría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irada 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 Si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572000" cy="185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2057400"/>
            <a:ext cx="350496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 dos niveles, el nivel estratégico y el oper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parten l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orí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s organ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fácil de manejar y flexible en su toma de dec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quina Burocrá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28840" cy="22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0"/>
            <a:ext cx="40388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cDona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s decisiones son tomadas por un grupo pequ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estructura técnica es grande, el apoyo es necesario en cada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línea media es regular (fiscalizad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ase extendida (quien hace la hamburgues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rocracia Profesi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universidad de C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 personal téc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ción neces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de operación profesional (profeso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810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rmula de divis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io u Hosp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dir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téc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yo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ón de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419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Adhocra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agencia de publi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a (donde trabaj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s jerarqu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e llama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009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r que Re-estructur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neces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funci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nos hacemos cargo del camb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ien afec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s despidos tendremos que realiz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s el costo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Polít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Económ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-segunda p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os de 3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la mejor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egar a consen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propuesta f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 de una ho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nen 15 Minu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upos y equip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 je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266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ridad Du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7432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4343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7432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67080" y="182880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828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end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enry 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 segunda 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ru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ignación de próximas presen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ple Jerarqu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981080"/>
            <a:ext cx="129564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6576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909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038120" y="4267080"/>
            <a:ext cx="22100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26708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42670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rcul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d de can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32004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2057040"/>
            <a:ext cx="10666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800600" y="3352320"/>
            <a:ext cx="259092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057400"/>
            <a:ext cx="152424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c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resumen de media p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exposición de 5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endaciones en media pag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rada 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ivimos en organizaciones que estan compuestas por estructu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ntendemos las estructuras podemos gestion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sabemos como organizar una re-estructuración podemos mejor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organizaciones son como una maquina con diferentes partes, que necesita funcionar bi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óximas 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isterio del Trabajo (fun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ociación de funcio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cala de Sueldos del est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hoja de resumen en formato electró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con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contratan como consultor para la nueva Reforma del Estado – Moder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realizar una propuesta de re-estructuración de las áreas de desarrollo del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tico de h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necesario pensar a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ar como se logr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una hoja: escribir el diagnostico con organigrama del e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gunda hoja: proponer re-estructuración de ministerios y nuevo organi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a hoja: justificación de la propuesta y estrategia de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 NOTA, tienen 25 minutos. Pueden salir de la sala y buscar material en la biblioteca o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os ministerios existen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as áreas de desarroll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mos fusionar o crear nuevos minister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os desafíos de aquí a 5, 10 o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lograremos estos camb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enry Mintzberg (Vivo aun y profesor en Can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979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The Structuring of Organizations: A Synthesis of the Research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Tipos de estructuras y partes básicas de una organización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65640" cy="3362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27920" y="1905120"/>
            <a:ext cx="3016080" cy="30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388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) Cúspide estratégica o administración superior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 la persona que tuvo la idea que dio origen a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) Centro operativ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esta compuesto por las personas que realizan los trabajos medulares o básico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) Línea Med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dministradores intermedios entre el ejecutivo superior y los operar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4) Estructura técn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on los analistas que diseñan sistemas referidos al planteamiento formal y al control del traba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) Personal de apoy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n servicios indirectos al resto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) Ideolog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que creen las organizaciones, normas, valores y cultu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016080" cy="3038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1:52:38Z</dcterms:created>
  <dc:creator> </dc:creator>
  <dc:description/>
  <dc:language>en-US</dc:language>
  <cp:lastModifiedBy> </cp:lastModifiedBy>
  <dcterms:modified xsi:type="dcterms:W3CDTF">2008-08-18T06:09:26Z</dcterms:modified>
  <cp:revision>3</cp:revision>
  <dc:subject/>
  <dc:title>Clase 3 Teoría de la Organización</dc:title>
</cp:coreProperties>
</file>