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74D4-5777-46B3-ACB0-F313BEA2735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Jerarqu&#237;a" TargetMode="External"/><Relationship Id="rId2" Type="http://schemas.openxmlformats.org/officeDocument/2006/relationships/hyperlink" Target="http://es.wikipedia.org/wiki/Burocracia" TargetMode="External"/><Relationship Id="rId3" Type="http://schemas.openxmlformats.org/officeDocument/2006/relationships/hyperlink" Target="http://es.wikipedia.org/wiki/Ad-hoc" TargetMode="External"/><Relationship Id="rId4" Type="http://schemas.openxmlformats.org/officeDocument/2006/relationships/hyperlink" Target="http://es.wikipedia.org/wiki/Ad-hoc" TargetMode="External"/><Relationship Id="rId5" Type="http://schemas.openxmlformats.org/officeDocument/2006/relationships/hyperlink" Target="http://es.wikipedia.org/wiki/Poder" TargetMode="External"/><Relationship Id="rId6" Type="http://schemas.openxmlformats.org/officeDocument/2006/relationships/slide" Target="../slides/slide14.xml"/><Relationship Id="rId7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h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es la ausencia d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arquí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, y es por tanto lo opuesto 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r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s una palabra híbrida entr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-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c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y el sufijo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l término se usa en la teoría de gestión de organizaciones. Todos los miembros de una organización tienen autoridad para tomar decisiones y llevar a cabo acciones que afectan al futuro de la 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vin Toffler apuntó en su libro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l shock del futu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que las adhocracias se volverán más comunes y probablemente reemplacen la burocracia en el futuro próximo. También escribió que lo más frecuente será que lleguen como estructuras temporales, formadas para resolver un problema dado y disueltas tras ello. Un ejemplo son los grupos de trabajo interdepart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A71-18F0-46BC-823A-6259C843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5ED-F39A-418C-ABDD-E7A1BC1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842-AEF5-496D-A93F-40E34434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B92-BDF6-44DC-AE6A-4ECFE1C7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8D9C-1B42-49C7-9521-12C359C0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27E-7AF0-4898-85C6-C98E7523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B8DA-FBBC-4E7A-B7CA-37677E30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7FA6-CF2F-487E-8718-D240731C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7A23-12EA-4FDA-A970-B36994A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ED47-E53C-4328-B573-9858A429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959A-21BD-4B1C-8DAB-8A986B4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A83-B8CB-4FD1-AF13-C057429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49D3-2FE6-4D23-AE6A-3A5263D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4A9D-F6E8-4ECC-A9A3-6D7DB99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5C82-12AF-4D85-AFB5-CADBE677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6149-0566-40B7-B5B8-BD3500F9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C634-3D15-4EA3-A0F9-EB6D83DB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333-5FE4-4B5C-B284-9BA642EE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BC2-1B44-47B4-8554-FC9F500E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27E-83A8-40FF-B39C-AA412C8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DB4-DCA8-40DB-9048-0766AEF9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F80-95AE-4D96-B3FE-EC2C3BE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21B-5538-4BE2-9466-26F6020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D56-5A5E-4C42-934D-D44123E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DCB-7AA0-459B-887D-8FEAD4CFE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8C74-D0D9-4E32-B497-B429978B0A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ase 3 Teoría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irada 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 Si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572000" cy="185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2057400"/>
            <a:ext cx="350496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 dos niveles, el nivel estratégico y el oper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parten l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orí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s organ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fácil de manejar y flexible en su toma de dec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quina Burocrá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28840" cy="22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0"/>
            <a:ext cx="40388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cDona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s decisiones son tomadas por un grupo pequ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estructura técnica es grande, el apoyo es necesario en cada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línea media es regular (fiscalizad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ase extendida (quien hace la hamburgues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rocracia Profesi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universidad de C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 personal téc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ción neces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de operación profesional (profeso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810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rmula de divis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io u Hosp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dir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téc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yo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ón de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419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Adhocra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agencia de publi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a (donde trabaj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s jerarqu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e llama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009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r que Re-estructur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neces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funci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nos hacemos cargo del camb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ien afec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s despidos tendremos que realiz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s el costo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Polít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Económ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-segunda p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os de 3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la mejor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egar a consen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propuesta f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 de una ho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nen 15 Minu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upos y equip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 je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266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ridad Du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7432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4343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7432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67080" y="182880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828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end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enry 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 segunda 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ru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ignación de próximas presen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ple Jerarqu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981080"/>
            <a:ext cx="129564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6576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909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038120" y="4267080"/>
            <a:ext cx="22100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26708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42670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rcul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d de can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32004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2057040"/>
            <a:ext cx="10666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800600" y="3352320"/>
            <a:ext cx="259092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057400"/>
            <a:ext cx="152424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c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resumen de media p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exposición de 5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endaciones en media pag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rada 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ivimos en organizaciones que estan compuestas por estructu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ntendemos las estructuras podemos gestion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sabemos como organizar una re-estructuración podemos mejor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organizaciones son como una maquina con diferentes partes, que necesita funcionar bi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óximas 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isterio del Trabajo (fun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ociación de funcio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cala de Sueldos del est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hoja de resumen en formato electró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con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contratan como consultor para la nueva Reforma del Estado – Moder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realizar una propuesta de re-estructuración de las áreas de desarrollo del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tico de h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necesario pensar a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ar como se logr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una hoja: escribir el diagnostico con organigrama del e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gunda hoja: proponer re-estructuración de ministerios y nuevo organi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a hoja: justificación de la propuesta y estrategia de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 NOTA, tienen 25 minutos. Pueden salir de la sala y buscar material en la biblioteca o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os ministerios existen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as áreas de desarroll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mos fusionar o crear nuevos minister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os desafíos de aquí a 5, 10 o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lograremos estos camb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enry Mintzberg (Vivo aun y profesor en Can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979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The Structuring of Organizations: A Synthesis of the Research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Tipos de estructuras y partes básicas de una organización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65640" cy="3362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27920" y="1905120"/>
            <a:ext cx="3016080" cy="30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388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) Cúspide estratégica o administración superior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 la persona que tuvo la idea que dio origen a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) Centro operativ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esta compuesto por las personas que realizan los trabajos medulares o básico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) Línea Med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dministradores intermedios entre el ejecutivo superior y los operar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4) Estructura técn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on los analistas que diseñan sistemas referidos al planteamiento formal y al control del traba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) Personal de apoy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n servicios indirectos al resto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) Ideolog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que creen las organizaciones, normas, valores y cultu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016080" cy="3038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1:52:38Z</dcterms:created>
  <dc:creator> </dc:creator>
  <dc:description/>
  <dc:language>en-US</dc:language>
  <cp:lastModifiedBy> </cp:lastModifiedBy>
  <dcterms:modified xsi:type="dcterms:W3CDTF">2008-08-18T06:09:26Z</dcterms:modified>
  <cp:revision>3</cp:revision>
  <dc:subject/>
  <dc:title>Clase 3 Teoría de la Organización</dc:title>
</cp:coreProperties>
</file>