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7D06-0EB7-40D8-86A4-A2420B4D57A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Jerarqu&#237;a" TargetMode="External"/><Relationship Id="rId2" Type="http://schemas.openxmlformats.org/officeDocument/2006/relationships/hyperlink" Target="http://es.wikipedia.org/wiki/Burocracia" TargetMode="External"/><Relationship Id="rId3" Type="http://schemas.openxmlformats.org/officeDocument/2006/relationships/hyperlink" Target="http://es.wikipedia.org/wiki/Ad-hoc" TargetMode="External"/><Relationship Id="rId4" Type="http://schemas.openxmlformats.org/officeDocument/2006/relationships/hyperlink" Target="http://es.wikipedia.org/wiki/Ad-hoc" TargetMode="External"/><Relationship Id="rId5" Type="http://schemas.openxmlformats.org/officeDocument/2006/relationships/hyperlink" Target="http://es.wikipedia.org/wiki/Poder" TargetMode="External"/><Relationship Id="rId6" Type="http://schemas.openxmlformats.org/officeDocument/2006/relationships/slide" Target="../slides/slide14.xml"/><Relationship Id="rId7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dhocraci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es la ausencia de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erarquí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, y es por tanto lo opuesto 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urocraci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. Es una palabra híbrida entre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d-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oc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y el sufijo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raci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. El término se usa en la teoría de gestión de organizaciones. Todos los miembros de una organización tienen autoridad para tomar decisiones y llevar a cabo acciones que afectan al futuro de la organiz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lvin Toffler apuntó en su libro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El shock del futu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que las adhocracias se volverán más comunes y probablemente reemplacen la burocracia en el futuro próximo. También escribió que lo más frecuente será que lleguen como estructuras temporales, formadas para resolver un problema dado y disueltas tras ello. Un ejemplo son los grupos de trabajo interdepartamen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14D-4C88-44F8-AF4E-86CA604C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A0A-5223-4E99-A899-CF387987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A4F-4248-4EBA-90FD-4DF97C69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254-2F93-4046-A269-C9486AA3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9387-51F3-4DFE-BAB4-9118AD87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1C79-1F1C-4278-BAA2-D37E7604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3215-09CA-416D-B549-50230D7E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A8D5-62CF-4163-891F-2C7661B3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93A7-201F-4D91-830C-38CE0A06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C3D6-62A3-4A17-B3DA-3690DB77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2715-97A3-4BCF-A56E-B7BE73AA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A6E-F018-4041-B8C5-EEC9F452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52B2-169B-4B24-B6BB-873D0FBC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D4C1-F1E6-493C-80C0-A9A6E184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715A-D99E-4916-ADFC-50A3CCF1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C24B-1ABB-409E-B382-24135E37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6F6F-CCAF-45F0-A247-36FA9123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B8A-79A3-4157-8841-D17C73BC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630-8752-4F4E-A50F-44879C92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822-52B3-482E-B7D5-55DE79B4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33A-DF1F-4F64-8D81-F9F18504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450-FBAF-498D-B36C-E026C03B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225-C0A2-44D4-98C4-B42CCD0B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538-806C-479B-85F7-60A80758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2FF1-9954-4F7D-A588-06EE570A9B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F3C0-5DC4-4B97-AE12-64AA65F6C4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ase 3 Teoría de la Organizació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mirada estruc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cio Cas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ructura Simp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572000" cy="1851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2057400"/>
            <a:ext cx="3504960" cy="45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o dos niveles, el nivel estratégico y el oper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parten l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orí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las organiz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fácil de manejar y flexible en su toma de decis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quina Burocrá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228840" cy="22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880" y="2286000"/>
            <a:ext cx="403884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cDonal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s decisiones son tomadas por un grupo pequeñ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 estructura técnica es grande, el apoyo es necesario en cada 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 línea media es regular (fiscalizad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Base extendida (quien hace la hamburgues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rocracia Profesi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6019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universidad de Ch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tor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 personal técn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ción neces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ínea de operación profesional (profesor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8102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rmula de divis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sterio u Hospit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s dire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os técn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yo cen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sión de 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3419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Adhocrac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agencia de public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siona (donde trabaj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 flex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os jerarqu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nos le llaman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00996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r que Re-estructur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necesari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mpre funcio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o nos hacemos cargo del cambi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quien afect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s despidos tendremos que realiz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es el costo Soci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el costo Polít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el costo Económi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udio de caso-segunda par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os de 3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gir la mejor propu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legar a consen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r propuesta f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e de una ho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nen 15 Minu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rupos y equip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 jef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22669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utoridad Du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14479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7432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4343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434340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274320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267080" y="1828800"/>
            <a:ext cx="9907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182880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33526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33526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genda del dí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sentaci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so de estudio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enry Mintz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so de estudio 1 segunda pa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rup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so de estudio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signación de próximas presen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Simple Jerarqu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981080"/>
            <a:ext cx="129564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65760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5486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5486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4864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25909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038120" y="4267080"/>
            <a:ext cx="22100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267080"/>
            <a:ext cx="2057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42670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ircul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14479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51055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510552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581280" y="1752480"/>
            <a:ext cx="15242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3581280"/>
            <a:ext cx="106704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5486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467480" y="3581280"/>
            <a:ext cx="53352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400440" y="175212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d de cana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14479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510552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5105520"/>
            <a:ext cx="129564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971800"/>
            <a:ext cx="1295280" cy="6094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81280" y="1752480"/>
            <a:ext cx="15242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581280"/>
            <a:ext cx="106704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5486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467480" y="3581280"/>
            <a:ext cx="53352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400440" y="1752120"/>
            <a:ext cx="16765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3276720"/>
            <a:ext cx="32004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0" y="2057040"/>
            <a:ext cx="106668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800600" y="3352320"/>
            <a:ext cx="259092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2057400"/>
            <a:ext cx="152424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udio de caso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er el ca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cer resumen de media pag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ar exposición de 5 min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endaciones en media pag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rada Estructu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ivimos en organizaciones que estan compuestas por estructur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entendemos las estructuras podemos gestionar l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sabemos como organizar una re-estructuración podemos mejorar l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s organizaciones son como una maquina con diferentes partes, que necesita funcionar bi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óximas presentac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ntzbe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inisterio del Trabajo (funcion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sociación de funcio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cala de Sueldos del est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sentaci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co Min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hoja de resumen en formato electrón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i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rid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ción con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o de estudio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contratan como consultor para la nueva Reforma del Estado – Moderniz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realizar una propuesta de re-estructuración de las áreas de desarrollo del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nostico de h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necesario pensar a fut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ear como se logr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o de estudio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una hoja: escribir el diagnostico con organigrama del est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gunda hoja: proponer re-estructuración de ministerios y nuevo organigr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rcera hoja: justificación de la propuesta y estrategia de traba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 con NOTA, tienen 25 minutos. Pueden salir de la sala y buscar material en la biblioteca o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so de estudio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tos ministerios existen h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les son las áreas de desarrollo h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emos fusionar o crear nuevos ministeri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les son los desafíos de aquí a 5, 10 o 20 añ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lograremos estos cambi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enry Mintzberg (Vivo aun y profesor en Cana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1979</a:t>
            </a:r>
            <a:r>
              <a:rPr b="0" i="1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The Structuring of Organizations: A Synthesis of the Research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Tipos de estructuras y partes básicas de una organización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465640" cy="33624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Henry Mintzber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Henry Mintzber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27920" y="1905120"/>
            <a:ext cx="3016080" cy="3038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1523880"/>
            <a:ext cx="57913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 acuerdo a la forma de estructuras de Mintzberg existen seis partes o componentes básicos en las organiz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1) Cúspide estratégica o administración superior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s la persona que tuvo la idea que dio origen a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) Centro operativ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esta compuesto por las personas que realizan los trabajos medulares o básicos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3) Línea Medi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dministradores intermedios entre el ejecutivo superior y los operari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 acuerdo a la forma de estructuras de Mintzberg existen seis partes o componentes básicos en las organiz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4) Estructura técn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on los analistas que diseñan sistemas referidos al planteamiento formal y al control del trabaj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5) Personal de apoy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roporcionan servicios indirectos al resto de la organiz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6) Ideologi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que creen las organizaciones, normas, valores y cultu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3016080" cy="30387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Henry Mintzber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1:52:38Z</dcterms:created>
  <dc:creator> </dc:creator>
  <dc:description/>
  <dc:language>en-US</dc:language>
  <cp:lastModifiedBy> </cp:lastModifiedBy>
  <dcterms:modified xsi:type="dcterms:W3CDTF">2008-08-18T06:09:26Z</dcterms:modified>
  <cp:revision>3</cp:revision>
  <dc:subject/>
  <dc:title>Clase 3 Teoría de la Organización</dc:title>
</cp:coreProperties>
</file>