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3312-295B-4A06-A286-29F886CF3CE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Jerarqu&#237;a" TargetMode="External"/><Relationship Id="rId2" Type="http://schemas.openxmlformats.org/officeDocument/2006/relationships/hyperlink" Target="http://es.wikipedia.org/wiki/Burocracia" TargetMode="External"/><Relationship Id="rId3" Type="http://schemas.openxmlformats.org/officeDocument/2006/relationships/hyperlink" Target="http://es.wikipedia.org/wiki/Ad-hoc" TargetMode="External"/><Relationship Id="rId4" Type="http://schemas.openxmlformats.org/officeDocument/2006/relationships/hyperlink" Target="http://es.wikipedia.org/wiki/Ad-hoc" TargetMode="External"/><Relationship Id="rId5" Type="http://schemas.openxmlformats.org/officeDocument/2006/relationships/hyperlink" Target="http://es.wikipedia.org/wiki/Poder" TargetMode="External"/><Relationship Id="rId6" Type="http://schemas.openxmlformats.org/officeDocument/2006/relationships/slide" Target="../slides/slide14.xml"/><Relationship Id="rId7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h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es la ausencia d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arquí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, y es por tanto lo opuesto 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ur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s una palabra híbrida entr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d-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oc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y el sufijo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l término se usa en la teoría de gestión de organizaciones. Todos los miembros de una organización tienen autoridad para tomar decisiones y llevar a cabo acciones que afectan al futuro de la organiz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vin Toffler apuntó en su libro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l shock del futu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que las adhocracias se volverán más comunes y probablemente reemplacen la burocracia en el futuro próximo. También escribió que lo más frecuente será que lleguen como estructuras temporales, formadas para resolver un problema dado y disueltas tras ello. Un ejemplo son los grupos de trabajo interdeparta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655-7BCB-4297-8C02-FF955EE0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FBB-9836-4DAB-9619-296A4499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96A-C3DB-4BDB-A9E6-F67E008C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532-1A3F-4764-A21E-65089B24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94CF-CAF7-4258-ADFF-4548B3F1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575A-6460-48AC-8CD7-2C752E11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BE90-59AF-44C3-8712-C938ABB6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35B8-CC05-4010-A88D-5065D1C8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609E-367C-4406-80BD-2EC1450C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ABD0-410D-49A2-A1AC-B01A2772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A2E2-FF54-4ECC-A688-75D04036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15C-4719-4E1C-975C-2A14A67F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25B1-0142-49C1-8915-B7516CB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9BD3-8C3D-4FCF-A70D-FD1B0574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C1EA-F476-465A-B2F1-30F996B0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CA5A-0C37-48D5-8355-AB0F3A2E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6F9E-3B69-4A45-AA44-D85212E0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495-51A3-463E-BF33-7852EF47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A19-A456-4B95-9CD6-DE067848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39D-73ED-4644-9906-BB7033E8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E9A-D4C8-4436-AE6B-78BEC126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6FB-487C-486E-9D85-F61A37D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547-6F12-4A7E-9B43-FCB4DF31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444-3E28-4ABC-B8D9-BFB72017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B062-E236-4DD8-876B-870C66D0DF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FDF8-D87D-4148-B97C-417CAD3D1E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ase 3 Teoría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mirada 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 Sim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572000" cy="185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2057400"/>
            <a:ext cx="350496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 dos niveles, el nivel estratégico y el oper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parten l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orí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las organ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fácil de manejar y flexible en su toma de deci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quina Burocrá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228840" cy="22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2286000"/>
            <a:ext cx="40388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cDonal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s decisiones son tomadas por un grupo pequ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estructura técnica es grande, el apoyo es necesario en cada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línea media es regular (fiscalizad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Base extendida (quien hace la hamburgues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rocracia Profesi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universidad de Ch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 personal téc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ción neces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de operación profesional (profeso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810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rmula de divis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io u Hospi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dire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técn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yo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ón de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419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Adhocra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agencia de publi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iona (donde trabaj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 flex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os jerarqu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os le llaman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0099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r que Re-estructur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necesar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mpre funcio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nos hacemos cargo del camb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quien afec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s despidos tendremos que realiz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s el costo So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Polít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Económ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-segunda par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os de 3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la mejor prop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legar a consen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propuesta f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 de una ho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nen 15 Minu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upos y equip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 je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266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oridad Du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7432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4343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3434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27432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267080" y="1828800"/>
            <a:ext cx="9907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828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gend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enry 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 segunda p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rup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ignación de próximas presen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ple Jerarqu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981080"/>
            <a:ext cx="129564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6576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5909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038120" y="4267080"/>
            <a:ext cx="22100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267080"/>
            <a:ext cx="2057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42670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ircul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d de cana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3276720"/>
            <a:ext cx="32004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2057040"/>
            <a:ext cx="106668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800600" y="3352320"/>
            <a:ext cx="259092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2057400"/>
            <a:ext cx="152424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r el ca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er resumen de media pag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exposición de 5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endaciones en media pag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rada 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ivimos en organizaciones que estan compuestas por estructu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ntendemos las estructuras podemos gestion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sabemos como organizar una re-estructuración podemos mejor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s organizaciones son como una maquina con diferentes partes, que necesita funcionar bi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óximas 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isterio del Trabajo (fun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ociación de funcio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cala de Sueldos del est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o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hoja de resumen en formato electró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ción con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contratan como consultor para la nueva Reforma del Estado – Modern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realizar una propuesta de re-estructuración de las áreas de desarrollo del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tico de h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necesario pensar a fut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ear como se logr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una hoja: escribir el diagnostico con organigrama del es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gunda hoja: proponer re-estructuración de ministerios y nuevo organi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a hoja: justificación de la propuesta y estrategia de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 NOTA, tienen 25 minutos. Pueden salir de la sala y buscar material en la biblioteca o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os ministerios existen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as áreas de desarroll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emos fusionar o crear nuevos minister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os desafíos de aquí a 5, 10 o 20 añ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lograremos estos camb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enry Mintzberg (Vivo aun y profesor en Can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1979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The Structuring of Organizations: A Synthesis of the Research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Tipos de estructuras y partes básicas de una organización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465640" cy="3362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27920" y="1905120"/>
            <a:ext cx="3016080" cy="3038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3880"/>
            <a:ext cx="5791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) Cúspide estratégica o administración superior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 la persona que tuvo la idea que dio origen a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) Centro operativ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esta compuesto por las personas que realizan los trabajos medulares o básico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3) Línea Med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dministradores intermedios entre el ejecutivo superior y los operari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4) Estructura técn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on los analistas que diseñan sistemas referidos al planteamiento formal y al control del traba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) Personal de apoy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roporcionan servicios indirectos al resto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) Ideolog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que creen las organizaciones, normas, valores y cultu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016080" cy="30387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1:52:38Z</dcterms:created>
  <dc:creator> </dc:creator>
  <dc:description/>
  <dc:language>en-US</dc:language>
  <cp:lastModifiedBy> </cp:lastModifiedBy>
  <dcterms:modified xsi:type="dcterms:W3CDTF">2008-08-18T06:09:26Z</dcterms:modified>
  <cp:revision>3</cp:revision>
  <dc:subject/>
  <dc:title>Clase 3 Teoría de la Organización</dc:title>
</cp:coreProperties>
</file>