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1.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move the slide</a:t>
            </a:r>
            <a:endParaRPr b="0" lang="en-US" sz="4800" spc="-1" strike="noStrike">
              <a:solidFill>
                <a:srgbClr val="b2b2b2"/>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CF78D-82A6-4E7E-A431-4E05C6220D14}"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hyperlink" Target="http://es.wikipedia.org/wiki/20_de_marzo" TargetMode="External"/><Relationship Id="rId2" Type="http://schemas.openxmlformats.org/officeDocument/2006/relationships/hyperlink" Target="http://es.wikipedia.org/wiki/1856" TargetMode="External"/><Relationship Id="rId3" Type="http://schemas.openxmlformats.org/officeDocument/2006/relationships/hyperlink" Target="http://es.wikipedia.org/wiki/21_de_marzo" TargetMode="External"/><Relationship Id="rId4" Type="http://schemas.openxmlformats.org/officeDocument/2006/relationships/hyperlink" Target="http://es.wikipedia.org/wiki/1915" TargetMode="External"/><Relationship Id="rId5" Type="http://schemas.openxmlformats.org/officeDocument/2006/relationships/hyperlink" Target="http://es.wikipedia.org/wiki/Ingenier&#237;a" TargetMode="External"/><Relationship Id="rId6" Type="http://schemas.openxmlformats.org/officeDocument/2006/relationships/hyperlink" Target="http://es.wikipedia.org/wiki/Econom&#237;a" TargetMode="External"/><Relationship Id="rId7" Type="http://schemas.openxmlformats.org/officeDocument/2006/relationships/hyperlink" Target="http://es.wikipedia.org/wiki/Estados_Unidos" TargetMode="External"/><Relationship Id="rId8" Type="http://schemas.openxmlformats.org/officeDocument/2006/relationships/slide" Target="../slides/slide11.xml"/><Relationship Id="rId9"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Frederick Winslow Taylor</a:t>
            </a:r>
            <a:r>
              <a:rPr b="0" lang="es-CL" sz="1200" spc="-1" strike="noStrike">
                <a:solidFill>
                  <a:srgbClr val="000000"/>
                </a:solidFill>
                <a:latin typeface="Arial"/>
              </a:rPr>
              <a:t> (*</a:t>
            </a:r>
            <a:r>
              <a:rPr b="0" lang="es-CL" sz="1200" spc="-1" strike="noStrike" u="sng">
                <a:solidFill>
                  <a:srgbClr val="009999"/>
                </a:solidFill>
                <a:uFillTx/>
                <a:latin typeface="Arial"/>
                <a:hlinkClick r:id="rId1"/>
              </a:rPr>
              <a:t>20 de marzo</a:t>
            </a:r>
            <a:r>
              <a:rPr b="0" lang="es-CL" sz="1200" spc="-1" strike="noStrike">
                <a:solidFill>
                  <a:srgbClr val="000000"/>
                </a:solidFill>
                <a:latin typeface="Arial"/>
              </a:rPr>
              <a:t> de </a:t>
            </a:r>
            <a:r>
              <a:rPr b="0" lang="es-CL" sz="1200" spc="-1" strike="noStrike" u="sng">
                <a:solidFill>
                  <a:srgbClr val="009999"/>
                </a:solidFill>
                <a:uFillTx/>
                <a:latin typeface="Arial"/>
                <a:hlinkClick r:id="rId2"/>
              </a:rPr>
              <a:t>1856</a:t>
            </a:r>
            <a:r>
              <a:rPr b="0" lang="es-CL" sz="1200" spc="-1" strike="noStrike">
                <a:solidFill>
                  <a:srgbClr val="000000"/>
                </a:solidFill>
                <a:latin typeface="Arial"/>
              </a:rPr>
              <a:t> - f </a:t>
            </a:r>
            <a:r>
              <a:rPr b="0" lang="es-CL" sz="1200" spc="-1" strike="noStrike" u="sng">
                <a:solidFill>
                  <a:srgbClr val="009999"/>
                </a:solidFill>
                <a:uFillTx/>
                <a:latin typeface="Arial"/>
                <a:hlinkClick r:id="rId3"/>
              </a:rPr>
              <a:t>21 de marzo</a:t>
            </a:r>
            <a:r>
              <a:rPr b="0" lang="es-CL" sz="1200" spc="-1" strike="noStrike">
                <a:solidFill>
                  <a:srgbClr val="000000"/>
                </a:solidFill>
                <a:latin typeface="Arial"/>
              </a:rPr>
              <a:t> de </a:t>
            </a:r>
            <a:r>
              <a:rPr b="0" lang="es-CL" sz="1200" spc="-1" strike="noStrike" u="sng">
                <a:solidFill>
                  <a:srgbClr val="009999"/>
                </a:solidFill>
                <a:uFillTx/>
                <a:latin typeface="Arial"/>
                <a:hlinkClick r:id="rId4"/>
              </a:rPr>
              <a:t>1915</a:t>
            </a:r>
            <a:r>
              <a:rPr b="0" lang="es-CL" sz="1200" spc="-1" strike="noStrike">
                <a:solidFill>
                  <a:srgbClr val="000000"/>
                </a:solidFill>
                <a:latin typeface="Arial"/>
              </a:rPr>
              <a:t>) </a:t>
            </a:r>
            <a:r>
              <a:rPr b="0" lang="es-CL" sz="1200" spc="-1" strike="noStrike" u="sng">
                <a:solidFill>
                  <a:srgbClr val="009999"/>
                </a:solidFill>
                <a:uFillTx/>
                <a:latin typeface="Arial"/>
                <a:hlinkClick r:id="rId5"/>
              </a:rPr>
              <a:t>Ingeniero Mecánico</a:t>
            </a:r>
            <a:r>
              <a:rPr b="0" lang="es-CL" sz="1200" spc="-1" strike="noStrike">
                <a:solidFill>
                  <a:srgbClr val="000000"/>
                </a:solidFill>
                <a:latin typeface="Arial"/>
              </a:rPr>
              <a:t> y </a:t>
            </a:r>
            <a:r>
              <a:rPr b="0" lang="es-CL" sz="1200" spc="-1" strike="noStrike" u="sng">
                <a:solidFill>
                  <a:srgbClr val="009999"/>
                </a:solidFill>
                <a:uFillTx/>
                <a:latin typeface="Arial"/>
                <a:hlinkClick r:id="rId6"/>
              </a:rPr>
              <a:t>economista</a:t>
            </a:r>
            <a:r>
              <a:rPr b="0" lang="es-CL" sz="1200" spc="-1" strike="noStrike">
                <a:solidFill>
                  <a:srgbClr val="000000"/>
                </a:solidFill>
                <a:latin typeface="Arial"/>
              </a:rPr>
              <a:t> </a:t>
            </a:r>
            <a:r>
              <a:rPr b="0" lang="es-CL" sz="1200" spc="-1" strike="noStrike" u="sng">
                <a:solidFill>
                  <a:srgbClr val="009999"/>
                </a:solidFill>
                <a:uFillTx/>
                <a:latin typeface="Arial"/>
                <a:hlinkClick r:id="rId7"/>
              </a:rPr>
              <a:t>estadounidense</a:t>
            </a:r>
            <a:r>
              <a:rPr b="0" lang="es-CL" sz="1200" spc="-1" strike="noStrike">
                <a:solidFill>
                  <a:srgbClr val="000000"/>
                </a:solidFill>
                <a:latin typeface="Arial"/>
              </a:rPr>
              <a:t>, promotor de la organización científica del trabajo. En 1878 efectúo sus primeras observaciones sobre la industria del trabajo en la industria del acero. A ellas le siguieron, una serie de estudios analíticos sobre tiempos de ejecución y remuneración del trabajo. Sus principales puntos, fueron determinar científicamente trabajo estándar, crear una revolución mental y un trabajador funcional a través de diversos conceptos que se intuyen a partir de un trabajo suyo publicado en 1903 llamado </a:t>
            </a:r>
            <a:r>
              <a:rPr b="0" i="1" lang="es-CL" sz="1200" spc="-1" strike="noStrike">
                <a:solidFill>
                  <a:srgbClr val="000000"/>
                </a:solidFill>
                <a:latin typeface="Arial"/>
              </a:rPr>
              <a:t>Shop Management</a:t>
            </a:r>
            <a:r>
              <a:rPr b="0" lang="es-CL"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Weber al hablar sobre la sociedad, se centra en el proceso de burocratización necesario para ganar eficacia y eficiencia e institucionalidad. Define la burocracia como un instrumento de dominio social que resulta de la creciente complejidad de la sociedad, pero que acaba por esclavizar al hombre porque lo imposibilita a actuar con criterio propio, con libertad. A esto es a lo que él denomina la racionalización basada en la autoridad legal que domina al individuo. La burocracia sigue una racionalidad técnica de tipo instrumental (conecta medios con fines), pero no ofrece las propuestas de sentido y la elección de fines que sí caracteriza a los políticos carismático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B96561-4FA0-4923-90ED-E972974F3D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E5E57-63DC-47D2-AB44-779B463DE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9850D8-4552-429C-9F41-0CC09BDA42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0F756F-7657-4B1A-B418-1554E37518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055D4B-6150-41AA-A9A3-33A68EBD69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A155A2-4E9F-47A3-B7C1-CECDA4C3B4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B6B017-458A-4062-A0EC-8EBA060B2B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1DF057-E30F-499D-9402-F21F61873D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FDE5C5-72FC-4190-B026-4174051823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8E1238-F57C-46D9-8813-EF749456AA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517D12-B720-415B-87BA-EB4CFDF611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32B9A-D0FB-43C6-814B-AAD1DD7AB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784797-9CA7-4CED-B3AE-E5867F9C3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C47B54-2548-457C-B3E9-5239A7CCE3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9019FC-F38D-4EFE-B529-4857E39C77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74B5D0-F007-41A1-AC87-9DE7AC629E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386E73-A0A7-46BC-A110-3E85B68115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B5043-359E-4E05-AF6D-1CCD283DF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A96DA-C107-4093-A600-5BA041839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663DB-ABDA-4BDF-9C4F-76E8D9175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6ED8C-A05C-432F-9B28-44FBE0281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32C1F-4024-4C16-955E-B39B87C14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3954E-E90F-47C2-874B-E4A245A03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B6337-9BDD-4F86-94C7-B996FBB592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C1225-E537-4F94-A642-11D9A5919C4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49B6B-4C63-4D22-9890-44AFE367E3A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Teoría de la Organización</a:t>
            </a:r>
            <a:endParaRPr b="0" lang="en-US" sz="4800" spc="-1" strike="noStrike">
              <a:solidFill>
                <a:srgbClr val="b2b2b2"/>
              </a:solidFill>
              <a:latin typeface="Arial"/>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se 2 (Mirada Estructur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24" name="PlaceHolder 2"/>
          <p:cNvSpPr>
            <a:spLocks noGrp="1"/>
          </p:cNvSpPr>
          <p:nvPr>
            <p:ph/>
          </p:nvPr>
        </p:nvSpPr>
        <p:spPr>
          <a:xfrm>
            <a:off x="456840" y="1600200"/>
            <a:ext cx="8381880" cy="51055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jo esta mirada se puede afirmar que:</a:t>
            </a:r>
            <a:endParaRPr b="0" lang="en-US" sz="2800" spc="-1" strike="noStrike">
              <a:solidFill>
                <a:srgbClr val="ffffff"/>
              </a:solidFill>
              <a:latin typeface="Arial"/>
            </a:endParaRPr>
          </a:p>
          <a:p>
            <a:pPr marL="533520" indent="-533520">
              <a:spcBef>
                <a:spcPts val="700"/>
              </a:spcBef>
              <a:buClr>
                <a:srgbClr val="ffffcc"/>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 organizaciones trabajan mejor al darle una mirada racional sobre las preferencias personales o las presiones del entorno.</a:t>
            </a:r>
            <a:endParaRPr b="0" lang="en-US" sz="2800" spc="-1" strike="noStrike">
              <a:solidFill>
                <a:srgbClr val="ffffff"/>
              </a:solidFill>
              <a:latin typeface="Arial"/>
            </a:endParaRPr>
          </a:p>
          <a:p>
            <a:pPr marL="533520" indent="-533520">
              <a:spcBef>
                <a:spcPts val="700"/>
              </a:spcBef>
              <a:buClr>
                <a:srgbClr val="ffffcc"/>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estructura debe ser diseñada para adecuarse a las circunstancias de la organización (mirando metas, tecnología, fuerza de trabajo y el entorno)</a:t>
            </a:r>
            <a:endParaRPr b="0" lang="en-US" sz="2800" spc="-1" strike="noStrike">
              <a:solidFill>
                <a:srgbClr val="ffffff"/>
              </a:solidFill>
              <a:latin typeface="Arial"/>
            </a:endParaRPr>
          </a:p>
          <a:p>
            <a:pPr marL="533520" indent="-533520">
              <a:spcBef>
                <a:spcPts val="700"/>
              </a:spcBef>
              <a:buClr>
                <a:srgbClr val="ffffcc"/>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s problemas y deficiencias pueden solucionarse con un análisis de la estructura y reestructurando como se trabaj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26" name="PlaceHolder 2"/>
          <p:cNvSpPr>
            <a:spLocks noGrp="1"/>
          </p:cNvSpPr>
          <p:nvPr>
            <p:ph/>
          </p:nvPr>
        </p:nvSpPr>
        <p:spPr>
          <a:xfrm>
            <a:off x="457200" y="1599840"/>
            <a:ext cx="5943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l primero en hacer un estudio sobre la eficiencia en una organización fue Frederick W. Taylor.</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n 1911 partió con lo que se ha llamado la “Administración científica”.</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l padre de los estudios de tiempo y movimiento.</a:t>
            </a:r>
            <a:endParaRPr b="0" lang="en-US" sz="3200" spc="-1" strike="noStrike">
              <a:solidFill>
                <a:srgbClr val="ffffff"/>
              </a:solidFill>
              <a:latin typeface="Arial"/>
            </a:endParaRPr>
          </a:p>
        </p:txBody>
      </p:sp>
      <p:pic>
        <p:nvPicPr>
          <p:cNvPr id="127" name="" descr=""/>
          <p:cNvPicPr/>
          <p:nvPr/>
        </p:nvPicPr>
        <p:blipFill>
          <a:blip r:embed="rId1"/>
          <a:stretch/>
        </p:blipFill>
        <p:spPr>
          <a:xfrm>
            <a:off x="6477120" y="1447920"/>
            <a:ext cx="2381040" cy="4790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29" name="PlaceHolder 2"/>
          <p:cNvSpPr>
            <a:spLocks noGrp="1"/>
          </p:cNvSpPr>
          <p:nvPr>
            <p:ph/>
          </p:nvPr>
        </p:nvSpPr>
        <p:spPr>
          <a:xfrm>
            <a:off x="304920" y="1447920"/>
            <a:ext cx="8686800" cy="54100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mismo Taylor explicaba las etapas para poner en funcionamiento su nueva organización científica del trabajo:</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Hallar de diez a quince obreros (si es posible en distintas empresas y de distintas regiones) que sean particularmente hábiles en el trabajo a analizar.</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Definir la serie exacta de movimientos elementales que cada uno de estos obreros lleva a cabo para ejecutar el trabajo analizado, así como los útiles y materiales que emplean. </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Determinar con un cronómetro el tiempo necesario para realizar cada uno de estos movimientos elementales y elegir el modo más simple de ejecución.</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4) Eliminar todos los movimientos mal concebidos, los lentos o inútiles.</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5) Tras haber suprimido así todos los movimientos inútiles, reunir en una secuencia los movimientos más rápidos y los que mejor permiten emplear los mejores materiales y útiles. </a:t>
            </a:r>
            <a:endParaRPr b="0" lang="en-US" sz="2000" spc="-1" strike="noStrike">
              <a:solidFill>
                <a:srgbClr val="ffffff"/>
              </a:solidFill>
              <a:latin typeface="Arial"/>
            </a:endParaRPr>
          </a:p>
        </p:txBody>
      </p:sp>
      <p:sp>
        <p:nvSpPr>
          <p:cNvPr id="130" name=""/>
          <p:cNvSpPr/>
          <p:nvPr/>
        </p:nvSpPr>
        <p:spPr>
          <a:xfrm>
            <a:off x="6858000" y="64771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Fuente: Wikipedi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6840" y="1599840"/>
            <a:ext cx="52578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Henri Fayol (1919), Ingeniero francés que dividió las operaciones en las empresas en:</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Técnicos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Comerciales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Financieros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Administrativos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Seguridad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Contable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Estableció los 14 principios de la administración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pic>
        <p:nvPicPr>
          <p:cNvPr id="133" name="" descr=""/>
          <p:cNvPicPr/>
          <p:nvPr/>
        </p:nvPicPr>
        <p:blipFill>
          <a:blip r:embed="rId1"/>
          <a:stretch/>
        </p:blipFill>
        <p:spPr>
          <a:xfrm>
            <a:off x="6172200" y="1600200"/>
            <a:ext cx="2705040" cy="3619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35" name="PlaceHolder 2"/>
          <p:cNvSpPr>
            <a:spLocks noGrp="1"/>
          </p:cNvSpPr>
          <p:nvPr>
            <p:ph/>
          </p:nvPr>
        </p:nvSpPr>
        <p:spPr>
          <a:xfrm>
            <a:off x="456840" y="1599840"/>
            <a:ext cx="8458200" cy="525780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4 principios de la administración :</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ordinación de intereses particulares, a los intereses generales de la empresa: por encima de los intereses de los empleados están los intereses de la empresa. </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dad de mando: en cualquier trabajo un empleado sólo deberá recibir órdenes de un superior. </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dad de Dirección: un solo jefe y un solo plan para todo grupo de actividades que tengan un solo objetivo. Esta es la condición esencial para lograr la unidad de acción, coordinación de esfuerzos y enfoque. La unidad de mando no puede darse sin la unidad de dirección, pero no se deriva de esta. </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ntralización: es la concentración de la autoridad en los altos rangos de la jerarquía. </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rarquía: la cadena de jefes va desde la máxima autoridad a los niveles más inferiores y la raíz de todas las comunicaciones van a parar a la máxima autoridad. </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visión del trabajo: quiere decir que se debe especializar las tareas a desarrollar y al personal en su trabajo. </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 principios de la administración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ridad y responsabilidad: es la capacidad de dar órdenes y esperar obediencia de los demás, esto genera más responsabilidades. </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ciplina: esto depende de factores como las ganas de trabajar, la obediencia, la dedicación un correcto comportamiento. </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uneración personal: se debe tener una satisfacción justa y garantizada para los empleados </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en: todo debe estar debidamente puesto en su lugar y en su sitio, este orden es tanto material como humano </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dad: amabilidad y justicia para lograr la lealtad del personal </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abilidad y duración del personal en un cargo: hay que darle una estabilidad al personal </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iciativa: tiene que ver con la capacidad de visualizar un plan a seguir y poder asegurar el éxito de este </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píritu de equipo: hacer que todos trabajen dentro de la empresa con gusto y como si fueran un equipo, hace la fortaleza de una organizació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39" name="PlaceHolder 2"/>
          <p:cNvSpPr>
            <a:spLocks noGrp="1"/>
          </p:cNvSpPr>
          <p:nvPr>
            <p:ph/>
          </p:nvPr>
        </p:nvSpPr>
        <p:spPr>
          <a:xfrm>
            <a:off x="456840" y="1599840"/>
            <a:ext cx="563868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Después vino una segunda mirada estructural, de un economista alemán llamado Max Weber.</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Las organizaciones “formales” eran un fenómeno mas bien poco estudiado</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Fue redescubierto después de la segunda guerra mundial</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Su aporte es lo que el llamo la “Burocracia monocratica”</a:t>
            </a:r>
            <a:endParaRPr b="0" lang="en-US" sz="2800" spc="-1" strike="noStrike">
              <a:solidFill>
                <a:srgbClr val="ffffff"/>
              </a:solidFill>
              <a:latin typeface="Arial"/>
            </a:endParaRPr>
          </a:p>
        </p:txBody>
      </p:sp>
      <p:pic>
        <p:nvPicPr>
          <p:cNvPr id="140" name="" descr=""/>
          <p:cNvPicPr/>
          <p:nvPr/>
        </p:nvPicPr>
        <p:blipFill>
          <a:blip r:embed="rId1"/>
          <a:stretch/>
        </p:blipFill>
        <p:spPr>
          <a:xfrm>
            <a:off x="6324480" y="1905120"/>
            <a:ext cx="2514600" cy="3352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4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Max Weber es un incomprendido, porque fue el que hizo famoso el termino burocracia.</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Burocracia es la forma ideal de maximizar las normas y la racionalidad.</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ara muchos un gran aporte a la sociología y la forma como entender a la sociedad.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Su obra mas conocida es la </a:t>
            </a:r>
            <a:r>
              <a:rPr b="0" i="1" lang="es-CL" sz="3200" spc="-1" strike="noStrike">
                <a:solidFill>
                  <a:srgbClr val="ffffff"/>
                </a:solidFill>
                <a:latin typeface="Arial"/>
              </a:rPr>
              <a:t>La ética protestante y el espíritu del capitalismo</a:t>
            </a:r>
            <a:r>
              <a:rPr b="0" lang="es-CL" sz="3200" spc="-1" strike="noStrike">
                <a:solidFill>
                  <a:srgbClr val="ffffff"/>
                </a:solidFill>
                <a:latin typeface="Arial"/>
              </a:rPr>
              <a:t>.</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 como se puede mejorar estructuralmente una organización:</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rma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cione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la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as clara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es definido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pecialización del trabajo?</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visión del trabaj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46" name="PlaceHolder 2"/>
          <p:cNvSpPr>
            <a:spLocks noGrp="1"/>
          </p:cNvSpPr>
          <p:nvPr>
            <p:ph/>
          </p:nvPr>
        </p:nvSpPr>
        <p:spPr>
          <a:xfrm>
            <a:off x="456840" y="1599840"/>
            <a:ext cx="52578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Henry Mintzberg (Vivo aun y profesor en Canada)</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1979</a:t>
            </a:r>
            <a:r>
              <a:rPr b="0" i="1" lang="es-CL" sz="3200" spc="-1" strike="noStrike">
                <a:solidFill>
                  <a:srgbClr val="ffffff"/>
                </a:solidFill>
                <a:latin typeface="Arial"/>
              </a:rPr>
              <a:t>The Structuring of Organizations: A Synthesis of the Research.</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ff"/>
                </a:solidFill>
                <a:latin typeface="Arial"/>
              </a:rPr>
              <a:t>Tipos de estructuras y partes básicas de una organización.</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7" name="" descr=""/>
          <p:cNvPicPr/>
          <p:nvPr/>
        </p:nvPicPr>
        <p:blipFill>
          <a:blip r:embed="rId1"/>
          <a:stretch/>
        </p:blipFill>
        <p:spPr>
          <a:xfrm>
            <a:off x="5943600" y="1905120"/>
            <a:ext cx="2657520" cy="3995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b2b2b2"/>
                </a:solidFill>
                <a:latin typeface="Arial"/>
              </a:rPr>
              <a:t>Agenda del dia</a:t>
            </a:r>
            <a:endParaRPr b="0" lang="en-US" sz="4400" spc="-1" strike="noStrike">
              <a:solidFill>
                <a:srgbClr val="b2b2b2"/>
              </a:solidFill>
              <a:latin typeface="Arial"/>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ntaciones alumno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ego del Mundo</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rada estructural</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ego del Mundo 2 part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lexion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rada estructural en el estad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6840" y="1523520"/>
            <a:ext cx="853452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De acuerdo a la forma de estructuras de Mintzberg existen seis partes o componentes básicos en las organizacion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1) Cúspide estratégica o administración superior:</a:t>
            </a:r>
            <a:r>
              <a:rPr b="0" lang="es-CL" sz="2000" spc="-1" strike="noStrike">
                <a:solidFill>
                  <a:srgbClr val="ffffff"/>
                </a:solidFill>
                <a:latin typeface="Arial"/>
              </a:rPr>
              <a:t> es la persona que tuvo la idea que dio origen a la organización.</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2) Centro operativo:</a:t>
            </a:r>
            <a:r>
              <a:rPr b="0" lang="es-CL" sz="2000" spc="-1" strike="noStrike">
                <a:solidFill>
                  <a:srgbClr val="ffffff"/>
                </a:solidFill>
                <a:latin typeface="Arial"/>
              </a:rPr>
              <a:t> que esta compuesto por las personas que realizan los trabajos medulares o básicos de la organización.</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3) Línea Media:</a:t>
            </a:r>
            <a:r>
              <a:rPr b="0" lang="es-CL" sz="2000" spc="-1" strike="noStrike">
                <a:solidFill>
                  <a:srgbClr val="ffffff"/>
                </a:solidFill>
                <a:latin typeface="Arial"/>
              </a:rPr>
              <a:t> administradores intermedios entre el ejecutivo superior y los operarios.</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4) Estructura técnica:</a:t>
            </a:r>
            <a:r>
              <a:rPr b="0" lang="es-CL" sz="2000" spc="-1" strike="noStrike">
                <a:solidFill>
                  <a:srgbClr val="ffffff"/>
                </a:solidFill>
                <a:latin typeface="Arial"/>
              </a:rPr>
              <a:t> son los analistas que diseñan sistemas referidos al planteamiento formal y al control del trabajo.</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5) Personal de apoyo:</a:t>
            </a:r>
            <a:r>
              <a:rPr b="0" lang="es-CL" sz="2000" spc="-1" strike="noStrike">
                <a:solidFill>
                  <a:srgbClr val="ffffff"/>
                </a:solidFill>
                <a:latin typeface="Arial"/>
              </a:rPr>
              <a:t> proporcionan servicios indirectos al resto de la organización.</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6) Ideologia:</a:t>
            </a:r>
            <a:r>
              <a:rPr b="0" lang="es-CL" sz="2000" spc="-1" strike="noStrike">
                <a:solidFill>
                  <a:srgbClr val="ffffff"/>
                </a:solidFill>
                <a:latin typeface="Arial"/>
              </a:rPr>
              <a:t> en que creen las organizaciones, normas, valores y cultura</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No todas las organizaciones requieren de los 6 component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El propósito fundamental de la estructura es coordinar el trabajo que se ha dividido.</a:t>
            </a:r>
            <a:endParaRPr b="0" lang="en-US" sz="2000" spc="-1" strike="noStrike">
              <a:solidFill>
                <a:srgbClr val="ffffff"/>
              </a:solidFill>
              <a:latin typeface="Arial"/>
            </a:endParaRPr>
          </a:p>
        </p:txBody>
      </p:sp>
      <p:sp>
        <p:nvSpPr>
          <p:cNvPr id="149"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Tensiones estructurales según Mintzberg:</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omo organizar a la organización?</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Grupos funcionales en torno a conocimientos o habilidades (departamentos por ejemplo).</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Unidades creadas en torno al tiempo de ejecución</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Grupos organizados por productos específicos (proyectos por ejemplo)</a:t>
            </a:r>
            <a:endParaRPr b="0" lang="en-US" sz="3200" spc="-1" strike="noStrike">
              <a:solidFill>
                <a:srgbClr val="ffffff"/>
              </a:solidFill>
              <a:latin typeface="Arial"/>
            </a:endParaRPr>
          </a:p>
        </p:txBody>
      </p:sp>
      <p:sp>
        <p:nvSpPr>
          <p:cNvPr id="151"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Tensiones estructurales según Mintzberg:</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Grupos organizados según sus usuarios o clientes. (Ministerios, hospitale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Grupos que funcionan alrededor de lugares o espacios geográficos (juntas de vecinos, municipalidades e intendencia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Grupos organizados por procesos, mirada muy de moda en los 90 para mejorar la entrega de productos o servicios.</a:t>
            </a:r>
            <a:endParaRPr b="0" lang="en-US" sz="3200" spc="-1" strike="noStrike">
              <a:solidFill>
                <a:srgbClr val="ffffff"/>
              </a:solidFill>
              <a:latin typeface="Arial"/>
            </a:endParaRPr>
          </a:p>
        </p:txBody>
      </p:sp>
      <p:sp>
        <p:nvSpPr>
          <p:cNvPr id="153"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hora que vimos a estos autor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Que pensaría Taylor de cómo jugaron el juego del mundo?</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Que diría Fayol?</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ual habría sido la reflexión de Max Webe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Y Mintzberg que les recomendarí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Juego del Mundo</a:t>
            </a:r>
            <a:endParaRPr b="0" lang="en-US" sz="4400" spc="-1" strike="noStrike">
              <a:solidFill>
                <a:srgbClr val="b2b2b2"/>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truccion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 meta es ser el mejor del mundo, su objetivo es tener la mayor cantidad de PU.</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ted organiza su grupo</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ted crea las reglas que no están escrita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ene 5 minutos para organizars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cribir en una hoja como se organizara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Juego de Mundo</a:t>
            </a:r>
            <a:endParaRPr b="0" lang="en-US" sz="4400" spc="-1" strike="noStrike">
              <a:solidFill>
                <a:srgbClr val="b2b2b2"/>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to al juego</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jen las piezas a un lado y cálmense un poco.</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 paso con el juego?, que les paso a ustedes con el juego?</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 hicieron diferente? Que hicieron igual?</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hora a ponerle teorí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152280" y="1599840"/>
            <a:ext cx="556272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r unidades de trabajo, roles dentro de la organización ayuda a la organización, pero eso no asegura que no existan problemas de coordinación y control.</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 unidades tienden a tirar para su lado, un ejemplo para explicar esto es lo que paso con las torres gemelas.</a:t>
            </a:r>
            <a:endParaRPr b="0" lang="en-US" sz="2800" spc="-1" strike="noStrike">
              <a:solidFill>
                <a:srgbClr val="ffffff"/>
              </a:solidFill>
              <a:latin typeface="Arial"/>
            </a:endParaRPr>
          </a:p>
        </p:txBody>
      </p:sp>
      <p:sp>
        <p:nvSpPr>
          <p:cNvPr id="161"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Mirada Estructural-la Coordinación</a:t>
            </a:r>
            <a:endParaRPr b="0" lang="en-US" sz="4000" spc="-1" strike="noStrike">
              <a:solidFill>
                <a:srgbClr val="b2b2b2"/>
              </a:solidFill>
              <a:latin typeface="Arial"/>
            </a:endParaRPr>
          </a:p>
        </p:txBody>
      </p:sp>
      <p:pic>
        <p:nvPicPr>
          <p:cNvPr id="162" name="" descr=""/>
          <p:cNvPicPr/>
          <p:nvPr/>
        </p:nvPicPr>
        <p:blipFill>
          <a:blip r:embed="rId1"/>
          <a:stretch/>
        </p:blipFill>
        <p:spPr>
          <a:xfrm>
            <a:off x="5799240" y="1600200"/>
            <a:ext cx="3344760" cy="4024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ordinación Vertical</a:t>
            </a:r>
            <a:endParaRPr b="0" lang="en-US" sz="32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Autoridad: Quien es el jefe?, quien manda a quien?, quien toma las decisiones?, quien pone sanciones o felicita?, quien evalúa lo que se esta haciendo?.</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las, políticas y estándares :cuales son nuestras reglas? Quien pone los estándares de calidad?</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nificación y sistemas de control: Se planifico el trabajo? Se implemento un sistema que nos permitiera verificar lo que hacíamos?</a:t>
            </a:r>
            <a:endParaRPr b="0" lang="en-US" sz="2800" spc="-1" strike="noStrike">
              <a:solidFill>
                <a:srgbClr val="ffffff"/>
              </a:solidFill>
              <a:latin typeface="Arial"/>
            </a:endParaRPr>
          </a:p>
        </p:txBody>
      </p:sp>
      <p:sp>
        <p:nvSpPr>
          <p:cNvPr id="164"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Mirada Estructural-la Coordinación</a:t>
            </a:r>
            <a:endParaRPr b="0" lang="en-US" sz="40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ordinación Lateral</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unione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reas especifica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les de coordinadore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ructura matricial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talezas y debilidades de las coordinaciones lateral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Mirada Estructural-la Coordinación</a:t>
            </a:r>
            <a:endParaRPr b="0" lang="en-US" sz="40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ros puntos importantes en la estructura (próxima semana)</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maño y edad</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cesos importante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xto</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rategia y meta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cnologías de la información</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turaleza de la fuerza de trabajo</a:t>
            </a:r>
            <a:endParaRPr b="0" lang="en-US" sz="3200" spc="-1" strike="noStrike">
              <a:solidFill>
                <a:srgbClr val="ffffff"/>
              </a:solidFill>
              <a:latin typeface="Arial"/>
            </a:endParaRPr>
          </a:p>
        </p:txBody>
      </p:sp>
      <p:sp>
        <p:nvSpPr>
          <p:cNvPr id="168"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resentación Alumnos</a:t>
            </a:r>
            <a:endParaRPr b="0" lang="en-US" sz="4400" spc="-1" strike="noStrike">
              <a:solidFill>
                <a:srgbClr val="b2b2b2"/>
              </a:solidFill>
              <a:latin typeface="Arial"/>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ntación de 5 minuto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orme de una hoja</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 menos una vez en el semestr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pero profesionalismo y miradas critic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 puede usar material de apoy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er grupo voluntari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Y en el estado existe esta mirada?</a:t>
            </a:r>
            <a:endParaRPr b="0" lang="en-US" sz="4000" spc="-1" strike="noStrike">
              <a:solidFill>
                <a:srgbClr val="b2b2b2"/>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 es la constitució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 son las ley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o se organiza el estado?</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 una burocracia?</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isten funciones especifica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o se estructura el estad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pic>
        <p:nvPicPr>
          <p:cNvPr id="172" name="" descr=""/>
          <p:cNvPicPr/>
          <p:nvPr/>
        </p:nvPicPr>
        <p:blipFill>
          <a:blip r:embed="rId1"/>
          <a:stretch/>
        </p:blipFill>
        <p:spPr>
          <a:xfrm>
            <a:off x="914400" y="1295280"/>
            <a:ext cx="7362720" cy="5302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 - Estado</a:t>
            </a:r>
            <a:endParaRPr b="0" lang="en-US" sz="4400" spc="-1" strike="noStrike">
              <a:solidFill>
                <a:srgbClr val="b2b2b2"/>
              </a:solidFill>
              <a:latin typeface="Arial"/>
            </a:endParaRPr>
          </a:p>
        </p:txBody>
      </p:sp>
      <p:pic>
        <p:nvPicPr>
          <p:cNvPr id="174" name="" descr=""/>
          <p:cNvPicPr/>
          <p:nvPr/>
        </p:nvPicPr>
        <p:blipFill>
          <a:blip r:embed="rId1"/>
          <a:stretch/>
        </p:blipFill>
        <p:spPr>
          <a:xfrm>
            <a:off x="1295280" y="1523880"/>
            <a:ext cx="6570720" cy="5048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iones del Senado</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 principal función del Senado es la de concurrir, en unión con la Cámara de Diputados, a la formación de las leyes y a la aprobación de los tratados internacionale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 Senado tiene, además, las atribuciones indicadas en la Constitución, que le son exclusivas:</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Conocer de las acusaciones constitucionales que entable la Cámara de Diputados.</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Resolver sobre la admisibilidad de acciones judiciales que se pretenda iniciar contra algún Ministro de Estado por actos de éste en el desempeño de su cargo que se estime que causan perjuicios injustamente.</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Conocer de las contiendas de competencia que se susciten entre las autoridades políticas o administrativas y los tribunales superiores de justicia.</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Otorgar la rehabilitación de la ciudadanía.</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Prestar o negar su consentimiento a los actos del Presidente de la República, en los casos en que la Constitución o la ley lo requieran.</a:t>
            </a:r>
            <a:endParaRPr b="0" lang="en-US" sz="1800" spc="-1" strike="noStrike">
              <a:solidFill>
                <a:srgbClr val="ffffff"/>
              </a:solidFill>
              <a:latin typeface="Arial"/>
            </a:endParaRPr>
          </a:p>
        </p:txBody>
      </p:sp>
      <p:sp>
        <p:nvSpPr>
          <p:cNvPr id="176"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Nos vemos la próxima semana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Necesito 5 voluntarios para expone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Temas :</a:t>
            </a:r>
            <a:endParaRPr b="0" lang="en-US" sz="32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Burocracia</a:t>
            </a:r>
            <a:endParaRPr b="0" lang="en-US" sz="24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Taylor</a:t>
            </a:r>
            <a:endParaRPr b="0" lang="en-US" sz="24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Fayol</a:t>
            </a:r>
            <a:endParaRPr b="0" lang="en-US" sz="24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Max Weber</a:t>
            </a:r>
            <a:endParaRPr b="0" lang="en-US" sz="24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Manual de Funcion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Juego del Mundo</a:t>
            </a:r>
            <a:endParaRPr b="0" lang="en-US" sz="4400" spc="-1" strike="noStrike">
              <a:solidFill>
                <a:srgbClr val="b2b2b2"/>
              </a:solidFill>
              <a:latin typeface="Arial"/>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truccion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 meta es ser el mejor del mundo, su objetivo es tener la mayor cantidad de PU.</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ted organiza su grupo</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ted crea las reglas que no están escrita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ene 3 minutos para organizars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Remate de piezas</a:t>
            </a:r>
            <a:endParaRPr b="0" lang="en-US" sz="4400" spc="-1" strike="noStrike">
              <a:solidFill>
                <a:srgbClr val="b2b2b2"/>
              </a:solidFill>
              <a:latin typeface="Arial"/>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er grupo que escriba en un papel, al menos 12 ministerio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er grupo que pueda dibujar cual es la organización de un Municipio en la pizarra.</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er grupo que pueda bailar una coreografía de 1 minuto.</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er grupo que pueda dibujar la estructura de la Universidad de Chil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Remate de Piezas</a:t>
            </a:r>
            <a:endParaRPr b="0" lang="en-US" sz="4400" spc="-1" strike="noStrike">
              <a:solidFill>
                <a:srgbClr val="b2b2b2"/>
              </a:solidFill>
              <a:latin typeface="Arial"/>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jor grupo que pueda crear una regla para ordenar el juego.</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upo completo que pueda cantar una canción sin reírs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upo que traiga mas de 6 piezas unida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er grupo que pueda dibujar una función de staff o apoyo.</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er grupo que dibuje su organigram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Juego de Mundo</a:t>
            </a:r>
            <a:endParaRPr b="0" lang="en-US" sz="4400" spc="-1" strike="noStrike">
              <a:solidFill>
                <a:srgbClr val="b2b2b2"/>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lto al juego</a:t>
            </a:r>
            <a:endParaRPr b="0" lang="en-US" sz="3200" spc="-1" strike="noStrike">
              <a:solidFill>
                <a:srgbClr val="ffffff"/>
              </a:solidFill>
              <a:latin typeface="Arial"/>
            </a:endParaRPr>
          </a:p>
          <a:p>
            <a:pPr marL="339480" indent="-3394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ejen las piezas a un lado y cálmense un poco.</a:t>
            </a:r>
            <a:endParaRPr b="0" lang="en-US" sz="3200" spc="-1" strike="noStrike">
              <a:solidFill>
                <a:srgbClr val="ffffff"/>
              </a:solidFill>
              <a:latin typeface="Arial"/>
            </a:endParaRPr>
          </a:p>
          <a:p>
            <a:pPr marL="339480" indent="-3394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Que paso con el juego?, que les paso a ustedes con el juego?</a:t>
            </a:r>
            <a:endParaRPr b="0" lang="en-US" sz="3200" spc="-1" strike="noStrike">
              <a:solidFill>
                <a:srgbClr val="ffffff"/>
              </a:solidFill>
              <a:latin typeface="Arial"/>
            </a:endParaRPr>
          </a:p>
          <a:p>
            <a:pPr marL="339480" indent="-3394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Que tiene que ver el juego con las exposiciones del principio?</a:t>
            </a:r>
            <a:endParaRPr b="0" lang="en-US" sz="3200" spc="-1" strike="noStrike">
              <a:solidFill>
                <a:srgbClr val="ffffff"/>
              </a:solidFill>
              <a:latin typeface="Arial"/>
            </a:endParaRPr>
          </a:p>
          <a:p>
            <a:pPr marL="339480" indent="-3394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Que tiene que ver esto con este curso?</a:t>
            </a:r>
            <a:endParaRPr b="0" lang="en-US" sz="3200" spc="-1" strike="noStrike">
              <a:solidFill>
                <a:srgbClr val="ffffff"/>
              </a:solidFill>
              <a:latin typeface="Arial"/>
            </a:endParaRPr>
          </a:p>
          <a:p>
            <a:pPr marL="339480" indent="-3394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hora a ponerle teori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a buena metáfora para verlo es una maquina, con piezas que se deben ordenar para que funcionen bie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s reglas, los roles, las metas, las políticas, la tecnología y el entorno son important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quitectura de cómo nos organizam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irada estructural</a:t>
            </a:r>
            <a:endParaRPr b="0" lang="en-US" sz="4400" spc="-1" strike="noStrike">
              <a:solidFill>
                <a:srgbClr val="b2b2b2"/>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jo esta mirada se puede afirmar que:</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 organizaciones existen para cumplir metas y objetivos</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 organizaciones mejoran su eficiencia y funcionan mejor cuando existe una especialización y clara división del trabajo.</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 adecuadas formas de coordinación y control sobre las unidades y personas las cosa funcionan mejo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1T03:35:12Z</dcterms:created>
  <dc:creator> </dc:creator>
  <dc:description/>
  <dc:language>en-US</dc:language>
  <cp:lastModifiedBy> </cp:lastModifiedBy>
  <dcterms:modified xsi:type="dcterms:W3CDTF">2008-08-11T14:50:28Z</dcterms:modified>
  <cp:revision>5</cp:revision>
  <dc:subject/>
  <dc:title>Teoría de la Organización</dc:title>
</cp:coreProperties>
</file>