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23C2-7786-4812-A0AD-0BFA25FC024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s.wikipedia.org/wiki/20_de_marzo" TargetMode="External"/><Relationship Id="rId2" Type="http://schemas.openxmlformats.org/officeDocument/2006/relationships/hyperlink" Target="http://es.wikipedia.org/wiki/1856" TargetMode="External"/><Relationship Id="rId3" Type="http://schemas.openxmlformats.org/officeDocument/2006/relationships/hyperlink" Target="http://es.wikipedia.org/wiki/21_de_marzo" TargetMode="External"/><Relationship Id="rId4" Type="http://schemas.openxmlformats.org/officeDocument/2006/relationships/hyperlink" Target="http://es.wikipedia.org/wiki/1915" TargetMode="External"/><Relationship Id="rId5" Type="http://schemas.openxmlformats.org/officeDocument/2006/relationships/hyperlink" Target="http://es.wikipedia.org/wiki/Ingenier&#237;a" TargetMode="External"/><Relationship Id="rId6" Type="http://schemas.openxmlformats.org/officeDocument/2006/relationships/hyperlink" Target="http://es.wikipedia.org/wiki/Econom&#237;a" TargetMode="External"/><Relationship Id="rId7" Type="http://schemas.openxmlformats.org/officeDocument/2006/relationships/hyperlink" Target="http://es.wikipedia.org/wiki/Estados_Unidos"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ederick Winslow Taylor</a:t>
            </a:r>
            <a:r>
              <a:rPr b="0" lang="es-CL" sz="1200" spc="-1" strike="noStrike">
                <a:solidFill>
                  <a:srgbClr val="000000"/>
                </a:solidFill>
                <a:latin typeface="Arial"/>
              </a:rPr>
              <a:t> (*</a:t>
            </a:r>
            <a:r>
              <a:rPr b="0" lang="es-CL" sz="1200" spc="-1" strike="noStrike" u="sng">
                <a:solidFill>
                  <a:srgbClr val="009999"/>
                </a:solidFill>
                <a:uFillTx/>
                <a:latin typeface="Arial"/>
                <a:hlinkClick r:id="rId1"/>
              </a:rPr>
              <a:t>20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2"/>
              </a:rPr>
              <a:t>1856</a:t>
            </a:r>
            <a:r>
              <a:rPr b="0" lang="es-CL" sz="1200" spc="-1" strike="noStrike">
                <a:solidFill>
                  <a:srgbClr val="000000"/>
                </a:solidFill>
                <a:latin typeface="Arial"/>
              </a:rPr>
              <a:t> - f </a:t>
            </a:r>
            <a:r>
              <a:rPr b="0" lang="es-CL" sz="1200" spc="-1" strike="noStrike" u="sng">
                <a:solidFill>
                  <a:srgbClr val="009999"/>
                </a:solidFill>
                <a:uFillTx/>
                <a:latin typeface="Arial"/>
                <a:hlinkClick r:id="rId3"/>
              </a:rPr>
              <a:t>21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4"/>
              </a:rPr>
              <a:t>1915</a:t>
            </a:r>
            <a:r>
              <a:rPr b="0" lang="es-CL" sz="1200" spc="-1" strike="noStrike">
                <a:solidFill>
                  <a:srgbClr val="000000"/>
                </a:solidFill>
                <a:latin typeface="Arial"/>
              </a:rPr>
              <a:t>) </a:t>
            </a:r>
            <a:r>
              <a:rPr b="0" lang="es-CL" sz="1200" spc="-1" strike="noStrike" u="sng">
                <a:solidFill>
                  <a:srgbClr val="009999"/>
                </a:solidFill>
                <a:uFillTx/>
                <a:latin typeface="Arial"/>
                <a:hlinkClick r:id="rId5"/>
              </a:rPr>
              <a:t>Ingeniero Mecánico</a:t>
            </a:r>
            <a:r>
              <a:rPr b="0" lang="es-CL" sz="1200" spc="-1" strike="noStrike">
                <a:solidFill>
                  <a:srgbClr val="000000"/>
                </a:solidFill>
                <a:latin typeface="Arial"/>
              </a:rPr>
              <a:t> y </a:t>
            </a:r>
            <a:r>
              <a:rPr b="0" lang="es-CL" sz="1200" spc="-1" strike="noStrike" u="sng">
                <a:solidFill>
                  <a:srgbClr val="009999"/>
                </a:solidFill>
                <a:uFillTx/>
                <a:latin typeface="Arial"/>
                <a:hlinkClick r:id="rId6"/>
              </a:rPr>
              <a:t>economista</a:t>
            </a:r>
            <a:r>
              <a:rPr b="0" lang="es-CL" sz="1200" spc="-1" strike="noStrike">
                <a:solidFill>
                  <a:srgbClr val="000000"/>
                </a:solidFill>
                <a:latin typeface="Arial"/>
              </a:rPr>
              <a:t> </a:t>
            </a:r>
            <a:r>
              <a:rPr b="0" lang="es-CL" sz="1200" spc="-1" strike="noStrike" u="sng">
                <a:solidFill>
                  <a:srgbClr val="009999"/>
                </a:solidFill>
                <a:uFillTx/>
                <a:latin typeface="Arial"/>
                <a:hlinkClick r:id="rId7"/>
              </a:rPr>
              <a:t>estadounidense</a:t>
            </a:r>
            <a:r>
              <a:rPr b="0" lang="es-CL" sz="1200" spc="-1" strike="noStrike">
                <a:solidFill>
                  <a:srgbClr val="000000"/>
                </a:solidFill>
                <a:latin typeface="Arial"/>
              </a:rPr>
              <a:t>, promotor de la organización científica del trabajo. En 1878 efectúo sus primeras observaciones sobre la industria del trabajo en la industria del acero. A ellas le siguieron, una serie de estudios analíticos sobre tiempos de ejecución y remuneración del trabajo. Sus principales puntos, fueron determinar científicamente trabajo estándar, crear una revolución mental y un trabajador funcional a través de diversos conceptos que se intuyen a partir de un trabajo suyo publicado en 1903 llamado </a:t>
            </a:r>
            <a:r>
              <a:rPr b="0" i="1" lang="es-CL" sz="1200" spc="-1" strike="noStrike">
                <a:solidFill>
                  <a:srgbClr val="000000"/>
                </a:solidFill>
                <a:latin typeface="Arial"/>
              </a:rPr>
              <a:t>Shop Management</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Weber al hablar sobre la sociedad, se centra en el proceso de burocratización necesario para ganar eficacia y eficiencia e institucionalidad. Define la burocracia como un instrumento de dominio social que resulta de la creciente complejidad de la sociedad, pero que acaba por esclavizar al hombre porque lo imposibilita a actuar con criterio propio, con libertad. A esto es a lo que él denomina la racionalización basada en la autoridad legal que domina al individuo. La burocracia sigue una racionalidad técnica de tipo instrumental (conecta medios con fines), pero no ofrece las propuestas de sentido y la elección de fines que sí caracteriza a los políticos carismático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415A-4113-463B-ABC0-744D1E715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CDF6D-46FE-4B46-ADA3-28CCE7A1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B6E83-C6C1-4D9D-B927-42F532C70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42E59-6745-4A02-9CE8-ACE37CA23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F4E46-D1F3-4A9F-A0E0-EB3DD60CD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7C3B4-6FB7-48A0-9DDC-15FD76AF5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9FF29-53E3-4077-8278-4F5FE7907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2235D-1073-4784-80D2-2EBEA7979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0ACAD-6027-4608-B942-E56B86F62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E1ACC-E7A5-467B-AF1D-31C81BB83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62565-6028-4F4D-8D80-8D421AFD5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80B93-FA13-4B70-94A7-C3D69E47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FBD09-F94D-4A73-B994-6925E42BD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E1B1A-6CE1-4FD1-A29A-5AA35F8DB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7F94D-E97A-4A67-9AB8-773147CD6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3F470-8F85-4086-8B5C-548E05F34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A6B58-30ED-47E4-93BE-9D649C1BE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13D4C-C3C1-4A33-8EF1-F61714A17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1F65-EF7C-4396-95F7-7712D1E51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3B381-2BF8-45E6-B853-4513CD109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4BDD-C918-4CA7-9140-C8F95302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F833-2499-4DA2-964A-39C9A4CEF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574B-88EF-4A75-9C26-EBF796DFB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43FA-C88C-4DA1-AAE1-75BFC7DE5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E7AD-597E-48AF-9F3F-DE00213D69F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05B6-0F5B-4434-AB77-74B289CA5B8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eoría de la Organizació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e 2 (Mirada Estructu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trabajan mejor al darle una mirada racional sobre las preferencias personales o las presiones d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tructura debe ser diseñada para adecuarse a las circunstancias de la organización (mirando metas, tecnología, fuerza de trabajo y 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roblemas y deficiencias pueden solucionarse con un análisis de la estructura y reestructurando como se trabaj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rimero en hacer un estudio sobre la eficiencia en una organización fue Frederick W. Taylo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1911 partió con lo que se ha llamado la “Administración científic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adre de los estudios de tiempo y movimiento.</a:t>
            </a:r>
            <a:endParaRPr b="0" lang="en-US" sz="3200" spc="-1" strike="noStrike">
              <a:solidFill>
                <a:srgbClr val="ffffff"/>
              </a:solidFill>
              <a:latin typeface="Arial"/>
            </a:endParaRPr>
          </a:p>
        </p:txBody>
      </p:sp>
      <p:pic>
        <p:nvPicPr>
          <p:cNvPr id="127" name="" descr=""/>
          <p:cNvPicPr/>
          <p:nvPr/>
        </p:nvPicPr>
        <p:blipFill>
          <a:blip r:embed="rId1"/>
          <a:stretch/>
        </p:blipFill>
        <p:spPr>
          <a:xfrm>
            <a:off x="6477120" y="1447920"/>
            <a:ext cx="2381040" cy="47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9" name="PlaceHolder 2"/>
          <p:cNvSpPr>
            <a:spLocks noGrp="1"/>
          </p:cNvSpPr>
          <p:nvPr>
            <p:ph/>
          </p:nvPr>
        </p:nvSpPr>
        <p:spPr>
          <a:xfrm>
            <a:off x="304920" y="1447920"/>
            <a:ext cx="868680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ismo Taylor explicaba las etapas para poner en funcionamiento su nueva organización científica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allar de diez a quince obreros (si es posible en distintas empresas y de distintas regiones) que sean particularmente hábiles en el trabajo a analiz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efinir la serie exacta de movimientos elementales que cada uno de estos obreros lleva a cabo para ejecutar el trabajo analizado, así como los útiles y materiales que emplean.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terminar con un cronómetro el tiempo necesario para realizar cada uno de estos movimientos elementales y elegir el modo más simple de ejecu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Eliminar todos los movimientos mal concebidos, los lentos o inútile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Tras haber suprimido así todos los movimientos inútiles, reunir en una secuencia los movimientos más rápidos y los que mejor permiten emplear los mejores materiales y útiles. </a:t>
            </a:r>
            <a:endParaRPr b="0" lang="en-US" sz="2000" spc="-1" strike="noStrike">
              <a:solidFill>
                <a:srgbClr val="ffffff"/>
              </a:solidFill>
              <a:latin typeface="Arial"/>
            </a:endParaRPr>
          </a:p>
        </p:txBody>
      </p:sp>
      <p:sp>
        <p:nvSpPr>
          <p:cNvPr id="130" name=""/>
          <p:cNvSpPr/>
          <p:nvPr/>
        </p:nvSpPr>
        <p:spPr>
          <a:xfrm>
            <a:off x="6858000" y="6477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uente: Wikiped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enri Fayol (1919), Ingeniero francés que dividió las operaciones en las empresas e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écnic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mercia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nancier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dministrativ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gurida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ntabl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ableció los 14 principios de la administració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33" name="" descr=""/>
          <p:cNvPicPr/>
          <p:nvPr/>
        </p:nvPicPr>
        <p:blipFill>
          <a:blip r:embed="rId1"/>
          <a:stretch/>
        </p:blipFill>
        <p:spPr>
          <a:xfrm>
            <a:off x="6172200" y="1600200"/>
            <a:ext cx="27050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5"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principios de la administració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ordinación de intereses particulares, a los intereses generales de la empresa: por encima de los intereses de los empleados están los intereses de la empres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mando: en cualquier trabajo un empleado sólo deberá recibir órdenes de un superio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Dirección: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ización: es la concentración de la autoridad en los altos rangos de la jerarquí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rarquía: la cadena de jefes va desde la máxima autoridad a los niveles más inferiores y la raíz de todas las comunicaciones van a parar a la máxima autoridad.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sión del trabajo: quiere decir que se debe especializar las tareas a desarrollar y al personal en su trabajo.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rincipios de la administr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idad y responsabilidad: es la capacidad de dar órdenes y esperar obediencia de los demás, esto genera más responsabilidade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iplina: esto depende de factores como las ganas de trabajar, la obediencia, la dedicación un correcto comportamient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uneración personal: se debe tener una satisfacción justa y garantizada para los empleado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n: todo debe estar debidamente puesto en su lugar y en su sitio, este orden es tanto material como human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dad: amabilidad y justicia para lograr la lealtad de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ilidad y duración del personal en un cargo: hay que darle una estabilidad a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ciativa: tiene que ver con la capacidad de visualizar un plan a seguir y poder asegurar el éxito de es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píritu de equipo: hacer que todos trabajen dentro de la empresa con gusto y como si fueran un equipo, hace la fortaleza de una organiza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9" name="PlaceHolder 2"/>
          <p:cNvSpPr>
            <a:spLocks noGrp="1"/>
          </p:cNvSpPr>
          <p:nvPr>
            <p:ph/>
          </p:nvPr>
        </p:nvSpPr>
        <p:spPr>
          <a:xfrm>
            <a:off x="456840" y="1599840"/>
            <a:ext cx="563868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pués vino una segunda mirada estructural, de un economista alemán llamado Max Web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s organizaciones “formales” eran un fenómeno mas bien poco estudia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 redescubierto después de la segunda guerra mundi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 aporte es lo que el llamo la “Burocracia monocratica”</a:t>
            </a:r>
            <a:endParaRPr b="0" lang="en-US" sz="2800" spc="-1" strike="noStrike">
              <a:solidFill>
                <a:srgbClr val="ffffff"/>
              </a:solidFill>
              <a:latin typeface="Arial"/>
            </a:endParaRPr>
          </a:p>
        </p:txBody>
      </p:sp>
      <p:pic>
        <p:nvPicPr>
          <p:cNvPr id="140" name="" descr=""/>
          <p:cNvPicPr/>
          <p:nvPr/>
        </p:nvPicPr>
        <p:blipFill>
          <a:blip r:embed="rId1"/>
          <a:stretch/>
        </p:blipFill>
        <p:spPr>
          <a:xfrm>
            <a:off x="6324480" y="1905120"/>
            <a:ext cx="251460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ax Weber es un incomprendido, porque fue el que hizo famoso el termino burocraci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rocracia es la forma ideal de maximizar las normas y la racionali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a muchos un gran aporte a la sociología y la forma como entender a la socieda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u obra mas conocida es la </a:t>
            </a:r>
            <a:r>
              <a:rPr b="0" i="1" lang="es-CL" sz="3200" spc="-1" strike="noStrike">
                <a:solidFill>
                  <a:srgbClr val="ffffff"/>
                </a:solidFill>
                <a:latin typeface="Arial"/>
              </a:rPr>
              <a:t>La ética protestante y el espíritu del capitalismo</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 como se puede mejorar estructuralmente una organiza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clar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s definido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zación del trabaj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ón del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6" name="PlaceHolder 2"/>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Henry Mintzberg (Vivo aun y profesor en Canad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979</a:t>
            </a:r>
            <a:r>
              <a:rPr b="0" i="1" lang="es-CL" sz="3200" spc="-1" strike="noStrike">
                <a:solidFill>
                  <a:srgbClr val="ffffff"/>
                </a:solidFill>
                <a:latin typeface="Arial"/>
              </a:rPr>
              <a:t>The Structuring of Organizations: A Synthesis of the Research.</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Tipos de estructuras y partes básicas de una organiza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5943600" y="1905120"/>
            <a:ext cx="2657520" cy="39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2b2b2"/>
                </a:solidFill>
                <a:latin typeface="Arial"/>
              </a:rPr>
              <a:t>Agenda del dia</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ones alumn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 2 par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x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 en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523520"/>
            <a:ext cx="853452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 acuerdo a la forma de estructuras de Mintzberg existen seis partes o componentes básicos en las organizacio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1) Cúspide estratégica o administración superior:</a:t>
            </a:r>
            <a:r>
              <a:rPr b="0" lang="es-CL" sz="2000" spc="-1" strike="noStrike">
                <a:solidFill>
                  <a:srgbClr val="ffffff"/>
                </a:solidFill>
                <a:latin typeface="Arial"/>
              </a:rPr>
              <a:t> es la persona que tuvo la idea que dio origen a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2) Centro operativo:</a:t>
            </a:r>
            <a:r>
              <a:rPr b="0" lang="es-CL" sz="2000" spc="-1" strike="noStrike">
                <a:solidFill>
                  <a:srgbClr val="ffffff"/>
                </a:solidFill>
                <a:latin typeface="Arial"/>
              </a:rPr>
              <a:t> que esta compuesto por las personas que realizan los trabajos medulares o básicos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3) Línea Media:</a:t>
            </a:r>
            <a:r>
              <a:rPr b="0" lang="es-CL" sz="2000" spc="-1" strike="noStrike">
                <a:solidFill>
                  <a:srgbClr val="ffffff"/>
                </a:solidFill>
                <a:latin typeface="Arial"/>
              </a:rPr>
              <a:t> administradores intermedios entre el ejecutivo superior y los operario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4) Estructura técnica:</a:t>
            </a:r>
            <a:r>
              <a:rPr b="0" lang="es-CL" sz="2000" spc="-1" strike="noStrike">
                <a:solidFill>
                  <a:srgbClr val="ffffff"/>
                </a:solidFill>
                <a:latin typeface="Arial"/>
              </a:rPr>
              <a:t> son los analistas que diseñan sistemas referidos al planteamiento formal y al control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5) Personal de apoyo:</a:t>
            </a:r>
            <a:r>
              <a:rPr b="0" lang="es-CL" sz="2000" spc="-1" strike="noStrike">
                <a:solidFill>
                  <a:srgbClr val="ffffff"/>
                </a:solidFill>
                <a:latin typeface="Arial"/>
              </a:rPr>
              <a:t> proporcionan servicios indirectos al resto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6) Ideologia:</a:t>
            </a:r>
            <a:r>
              <a:rPr b="0" lang="es-CL" sz="2000" spc="-1" strike="noStrike">
                <a:solidFill>
                  <a:srgbClr val="ffffff"/>
                </a:solidFill>
                <a:latin typeface="Arial"/>
              </a:rPr>
              <a:t> en que creen las organizaciones, normas, valores y cultu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 todas las organizaciones requieren de los 6 compon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propósito fundamental de la estructura es coordinar el trabajo que se ha dividido.</a:t>
            </a:r>
            <a:endParaRPr b="0" lang="en-US" sz="2000" spc="-1" strike="noStrike">
              <a:solidFill>
                <a:srgbClr val="ffffff"/>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organizar a la organiz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funcionales en torno a conocimientos o habilidades (departamentos por ejempl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idades creadas en torno al tiempo de ejecu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ductos específicos (proyectos por ejemplo)</a:t>
            </a:r>
            <a:endParaRPr b="0" lang="en-US" sz="3200" spc="-1" strike="noStrike">
              <a:solidFill>
                <a:srgbClr val="ffffff"/>
              </a:solidFill>
              <a:latin typeface="Arial"/>
            </a:endParaRPr>
          </a:p>
        </p:txBody>
      </p:sp>
      <p:sp>
        <p:nvSpPr>
          <p:cNvPr id="15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según sus usuarios o clientes. (Ministerios, hospita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que funcionan alrededor de lugares o espacios geográficos (juntas de vecinos, municipalidades e intendenci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cesos, mirada muy de moda en los 90 para mejorar la entrega de productos o servicios.</a:t>
            </a:r>
            <a:endParaRPr b="0" lang="en-US" sz="3200" spc="-1" strike="noStrike">
              <a:solidFill>
                <a:srgbClr val="ffffff"/>
              </a:solidFill>
              <a:latin typeface="Arial"/>
            </a:endParaRPr>
          </a:p>
        </p:txBody>
      </p:sp>
      <p:sp>
        <p:nvSpPr>
          <p:cNvPr id="15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que vimos a estos autor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ensaría Taylor de cómo jugaron el 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diría Fayo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al habría sido la reflexión de Max We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Y Mintzberg que les recomendar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5 minutos para organiza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ribir en una hoja como se organiza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o a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hicieron diferente? Que hicieron igu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ora a ponerle teor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2280" y="1599840"/>
            <a:ext cx="55627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r unidades de trabajo, roles dentro de la organización ayuda a la organización, pero eso no asegura que no existan problemas de coordinación y contr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unidades tienden a tirar para su lado, un ejemplo para explicar esto es lo que paso con las torres gemelas.</a:t>
            </a:r>
            <a:endParaRPr b="0" lang="en-US" sz="2800" spc="-1" strike="noStrike">
              <a:solidFill>
                <a:srgbClr val="ffffff"/>
              </a:solidFill>
              <a:latin typeface="Arial"/>
            </a:endParaRPr>
          </a:p>
        </p:txBody>
      </p:sp>
      <p:sp>
        <p:nvSpPr>
          <p:cNvPr id="16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pic>
        <p:nvPicPr>
          <p:cNvPr id="162" name="" descr=""/>
          <p:cNvPicPr/>
          <p:nvPr/>
        </p:nvPicPr>
        <p:blipFill>
          <a:blip r:embed="rId1"/>
          <a:stretch/>
        </p:blipFill>
        <p:spPr>
          <a:xfrm>
            <a:off x="5799240" y="1600200"/>
            <a:ext cx="3344760" cy="40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Vertical</a:t>
            </a:r>
            <a:endParaRPr b="0" lang="en-US" sz="32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utoridad: Quien es el jefe?, quien manda a quien?, quien toma las decisiones?, quien pone sanciones o felicita?, quien evalúa lo que se esta hacien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 políticas y estándares :cuales son nuestras reglas? Quien pone los estándares de calida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ificación y sistemas de control: Se planifico el trabajo? Se implemento un sistema que nos permitiera verificar lo que hacíamos?</a:t>
            </a:r>
            <a:endParaRPr b="0" lang="en-US" sz="2800" spc="-1" strike="noStrike">
              <a:solidFill>
                <a:srgbClr val="ffffff"/>
              </a:solidFill>
              <a:latin typeface="Arial"/>
            </a:endParaRPr>
          </a:p>
        </p:txBody>
      </p:sp>
      <p:sp>
        <p:nvSpPr>
          <p:cNvPr id="164"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Late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nio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eas especific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de coordinador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matricial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alezas y debilidades de las coordinaciones latera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s puntos importantes en la estructura (próxima seman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año y e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os important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ategia y met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nologías de la inform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eza de la fuerza de trabajo</a:t>
            </a:r>
            <a:endParaRPr b="0" lang="en-US" sz="3200" spc="-1" strike="noStrike">
              <a:solidFill>
                <a:srgbClr val="ffffff"/>
              </a:solidFill>
              <a:latin typeface="Arial"/>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esentación Alumno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ón de 5 minut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 de una hoj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enos una vez en el semes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ero profesionalismo y miradas cri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material de apoy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volunt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Y en el estado existe esta mirada?</a:t>
            </a:r>
            <a:endParaRPr b="0" lang="en-US" sz="40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es la constitució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son las ley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organiza el esta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una burocrac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 funciones especific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estructura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72" name="" descr=""/>
          <p:cNvPicPr/>
          <p:nvPr/>
        </p:nvPicPr>
        <p:blipFill>
          <a:blip r:embed="rId1"/>
          <a:stretch/>
        </p:blipFill>
        <p:spPr>
          <a:xfrm>
            <a:off x="914400" y="1295280"/>
            <a:ext cx="7362720" cy="530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 - Estado</a:t>
            </a:r>
            <a:endParaRPr b="0" lang="en-US" sz="4400" spc="-1" strike="noStrike">
              <a:solidFill>
                <a:srgbClr val="b2b2b2"/>
              </a:solidFill>
              <a:latin typeface="Arial"/>
            </a:endParaRPr>
          </a:p>
        </p:txBody>
      </p:sp>
      <p:pic>
        <p:nvPicPr>
          <p:cNvPr id="174" name="" descr=""/>
          <p:cNvPicPr/>
          <p:nvPr/>
        </p:nvPicPr>
        <p:blipFill>
          <a:blip r:embed="rId1"/>
          <a:stretch/>
        </p:blipFill>
        <p:spPr>
          <a:xfrm>
            <a:off x="1295280" y="1523880"/>
            <a:ext cx="6570720" cy="50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iones del Senad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principal función del Senado es la de concurrir, en unión con la Cámara de Diputados, a la formación de las leyes y a la aprobación de los tratados internaci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nado tiene, además, las atribuciones indicadas en la Constitución, que le son exclusiva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acusaciones constitucionales que entable la Cámara de Diputado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olver sobre la admisibilidad de acciones judiciales que se pretenda iniciar contra algún Ministro de Estado por actos de éste en el desempeño de su cargo que se estime que causan perjuicios injustament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contiendas de competencia que se susciten entre las autoridades políticas o administrativas y los tribunales superiores de justici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torgar la rehabilitación de la ciudadaní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tar o negar su consentimiento a los actos del Presidente de la República, en los casos en que la Constitución o la ley lo requieran.</a:t>
            </a:r>
            <a:endParaRPr b="0" lang="en-US" sz="1800" spc="-1" strike="noStrike">
              <a:solidFill>
                <a:srgbClr val="ffffff"/>
              </a:solidFill>
              <a:latin typeface="Arial"/>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os vemos la próxima sem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ecesito 5 voluntarios para expon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mas :</a:t>
            </a:r>
            <a:endParaRPr b="0" lang="en-US" sz="32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urocracia</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ylo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ayol</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x Web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nual de Fu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3 minutos para organizar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escriba en un papel, al menos 12 ministerio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cual es la organización de un Municipio en la pizarr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bailar una coreografía de 1 minu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la estructura de la Universidad de Chi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or grupo que pueda crear una regla para ordenar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completo que pueda cantar una canción sin reí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que traiga mas de 6 piezas unid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una función de staff o apoy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dibuje su organigra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to a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l juego con las exposiciones del principi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sto con este curs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a ponerle teo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buena metáfora para verlo es una maquina, con piezas que se deben ordenar para que funcionen bi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reglas, los roles, las metas, las políticas, la tecnología y el entorno son important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quitectura de cómo nos organiza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existen para cumplir metas y objetivos</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ejoran su eficiencia y funcionan mejor cuando existe una especialización y clara división del trabajo.</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 adecuadas formas de coordinación y control sobre las unidades y personas las cosa funcionan me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3:35:12Z</dcterms:created>
  <dc:creator> </dc:creator>
  <dc:description/>
  <dc:language>en-US</dc:language>
  <cp:lastModifiedBy> </cp:lastModifiedBy>
  <dcterms:modified xsi:type="dcterms:W3CDTF">2008-08-11T14:50:28Z</dcterms:modified>
  <cp:revision>5</cp:revision>
  <dc:subject/>
  <dc:title>Teoría de la Organización</dc:title>
</cp:coreProperties>
</file>