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944-8950-4C41-A134-A543CC8F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EF1-A380-476A-B173-E8FB2432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F55-6C08-45C2-B97C-D893C22A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1A45-BC98-4AE9-8F5E-AE05101E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E3EF-6304-4C9E-860A-0CAB0296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9AD6-8E3D-43B3-A8C9-AB79D90B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4D09-6C48-45FA-AA9F-2DCF67A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D5EC-6FFC-4E88-B198-C59914FC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545D-87B7-4F25-9D20-48F22F1F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0C43-4A8A-436C-B19E-F71685A0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7871-0A1E-47F7-BE6C-897ED6D6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26C-A672-4F91-8AD1-415B1DD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324-F07F-49BD-88D6-D0A6B72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36AD-6161-477C-9B5B-FC155FC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064A-154F-4387-AED5-ABDA291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AF2-D01A-4647-8976-82A62302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ED7D-7BB8-4C8E-A721-E5AD9C83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7A5-8107-4557-A4D1-D69FD39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BB8-4012-401A-8AA1-96AC682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A46-F172-424A-9EFE-9FA93A7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90E-9DB1-4133-BCE5-B750255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E85-D362-4AE7-A11B-3C77C3E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424-8C80-4055-A7B2-C6F41DB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BDE-7950-4B16-8DEA-F15DD8D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536-C1AB-4014-A496-99D95551A3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BF6-DC4F-49DF-885D-BC2465740A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orías de la Organizació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cio Cas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vera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definiciones para org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complejo porque existen personas involucr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cuatro grandes miradas para ver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emos lideraz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bajo en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371600"/>
            <a:ext cx="807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maquina o productora de au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Reglas, roles, metas, tecnologias, politicas, amb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rquitectura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decuar estructuras a tareas, tecnologia y ento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structu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381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ecesidades, habilidades, rel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agen del liderazgo: empoder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linear las necesidades de la organizacion y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cursos Humano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52388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una jung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der, Conflicto, competencia, politicas organiza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or voc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Desarrollar una agenda de trabajo ypoder sobre las 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oli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724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 del Curs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295280"/>
            <a:ext cx="822960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bo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tafora sobre la organizac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Es carnaval, un teatro o un t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ceptos centrales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ultura, los significados, las metaforas, los ritos, ceremoni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s historias y sus her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agen del liderazg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spi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s para un cambio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Crear fe, belleza, signifi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Simbolic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10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trar conocimiento sobre las diversas teorías que explican a las organizaciones y como están pueden ayudar a mejorar la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r, planificar y gestionar tareas en una organización y analizar su diná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8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Escriba su nombre bien GRANDE en la hoja de manera que pueda verlo desde mi puest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715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r un análisis critico de las organizaciones y proponer cambios para una mejor gest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la importancia de las habilidades de los lideres en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 final del curso deberá ser capaz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nder y explicar la importancia de las organizaciones y como esto influye en el sect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nocer y explicar como se dan los procesos de cambio en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iciones del profesor y de los alum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material audio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turas (en español e ing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bajos grup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sación en Cl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o de Internet (MUCH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Plataforma On-li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320" y="1190520"/>
            <a:ext cx="906768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sión del Progr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untas para la Pelíc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en es el lí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dan las orde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maneja la incertidumb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toman las decis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se crea misticism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ntas organizaciones h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tarse en grupos d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nerse de acuerdo y escribir las respuestas del gru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gir a un representante para que explique los resul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que paso discutiendo en el gru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ar como se eligió el lí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b2b2b2"/>
                </a:solidFill>
                <a:latin typeface="Arial"/>
              </a:rPr>
              <a:t>Battlestar Galac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ama del Dí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sentación Profe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isión general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visión general del Progr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attlestar Gal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jercicio Gru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ectativas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pectativas del Curs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ticipación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ritica ac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ional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mpeca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r mas al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eer y ap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render mas allá de las Teorías de las organiz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istenc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mento de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os nos enfermamos, pero debemos ir al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% menos de su nota final por cada clase que falte sin justificativo aceptado por la escue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sistió a esta clase tiene 3% mas para su nota final,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unque la lista oficial sea la de la próxima sem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s vemos la próxima seman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 términos académ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icenciado en Gobierno y Gestión Publ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ster of Science en Information Management, Syracus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fesor de la Escuela por tercera v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términos profes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actica en Municipalidad de Maria Pi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e un año en la décima región en el Servicio Paí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 de la Subd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Fundación Cont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rector Regional Servicio País, en Tal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vaplatos hasta Gerente de Quiz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master y Desarrollo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rabajo de informática con NY M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rente de Fusi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tricio Cast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términos pers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do con Administradora pu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a de una hija de 8 me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or de tres her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go de mis ami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iño a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sionado de l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ocupado por el paí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dor Pu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85800" y="152280"/>
            <a:ext cx="104392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es un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que organizaciones ha participado? En cual esta participando ho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importantes las organizaciones? Porque? Mínimo tres lín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que cree que debe tener un curso sobre Teorías de la Organiz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bre al menos tres teorías que expliquen a las organizacion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ión Gene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tema central de este curso es el revisar los diferentes estudio y explicaciones que se han dado para entender a las organiza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ntendiendo que la organización es el lugar en donde se desarrolla la Ges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primer p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29:15Z</dcterms:created>
  <dc:creator> </dc:creator>
  <dc:description/>
  <dc:language>en-US</dc:language>
  <cp:lastModifiedBy> </cp:lastModifiedBy>
  <dcterms:modified xsi:type="dcterms:W3CDTF">2008-08-04T08:52:31Z</dcterms:modified>
  <cp:revision>4</cp:revision>
  <dc:subject/>
  <dc:title>Teorías de la Organización</dc:title>
</cp:coreProperties>
</file>