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E5E9-A2F6-4378-BAA3-BDEB5A204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E286-E39C-4A5B-A077-71C9BD18D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9BDA-1DB4-4BC1-87ED-25968FF5A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B6D1-1314-48FA-A187-30184F7F5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17113-B5D4-4986-9286-A2505DF3A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36B3F-4F81-4094-A8B9-181BA4C36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C37C8-62B3-4843-B6AA-A83E3BB3F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7E56B-0D60-4D09-8114-782C4EE60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5A97A-BF68-4EF0-A17F-F46407D3C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E35EB-0636-4FF3-B700-7E820F8A2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CF942-5C4D-4DC9-8193-36D794E1C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350A-70A6-4390-A734-E6F2E827E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AC1B4-EFA5-495D-9221-6701C25C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D1E38-D0EC-4ACD-98E0-8D30EA5C2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2F4AF-2726-4BE8-9B65-56254E809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5F9FB-C5A5-4266-B1DF-92F38A117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23F53-12B5-4377-A6D8-15EB63B6B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5EEE-2920-4687-A4DB-36ECCBE36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0397-ED02-4794-B97B-D4B7889E0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0782-E264-4943-82A6-4635A9BB6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2343-5379-4BC5-86F8-348B0BB25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247D-2251-4123-B4AC-33068F86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3EF0-2BAD-4D22-A493-0A47A7D4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35EE-8D1B-4DAB-9850-B53D822DF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6B866-27F8-49DB-94D6-AF2DA889B12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03422-8E04-4C7C-86F5-D088D77365B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Teorías de la Organización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ricio Cast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mavera 20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Visión General del Curs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chas definiciones para organiz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un tema complejo porque existen personas involucrad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emos cuatro grandes miradas para ver las organiz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emos lideraz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bajo en Organiz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Visión General del Curs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1371600"/>
            <a:ext cx="80769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structu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Metafora sobre la organizacion: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Es una maquina o productora de au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nceptos centrales: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Reglas, roles, metas, tecnologias, politicas, ambi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Imagen del liderazgo: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Arquitectura soc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Bases para un cambio: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Adecuar estructuras a tareas, tecnologia y entor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Estructura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Visión General del Curs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447920"/>
            <a:ext cx="83818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cursos human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Metafora sobre la organizacion: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Es una famil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nceptos centrales: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Necesidades, habilidades, rel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magen del liderazgo: empoderamien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Bases para un cambio: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Alinear las necesidades de la organizacion y de las person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cursos Humano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Visión General del Curs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1523880"/>
            <a:ext cx="815364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olit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Metafora sobre la organizacion: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Es una jung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nceptos centrales: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Poder, Conflicto, competencia, politicas organizacion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Imagen del liderazgo: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Por vocac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Bases para un cambio: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Desarrollar una agenda de trabajo ypoder sobre las b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b2b2b2"/>
                </a:solidFill>
                <a:latin typeface="Arial"/>
              </a:rPr>
              <a:t>Politic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752480" y="1752480"/>
            <a:ext cx="472464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Visión General del Curs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1295280"/>
            <a:ext cx="8229600" cy="61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imbol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Metafora sobre la organizacion: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Es carnaval, un teatro o un t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nceptos centrales: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Cultura, los significados, las metaforas, los ritos, ceremonia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as historias y sus hero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Imagen del liderazgo: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Inspirac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Bases para un cambio: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Crear fe, belleza, signific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b2b2b2"/>
                </a:solidFill>
                <a:latin typeface="Arial"/>
              </a:rPr>
              <a:t>Simbolic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209680" y="1600200"/>
            <a:ext cx="510552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visión del Program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tiv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 final del curso deberá ser capaz d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ostrar conocimiento sobre las diversas teorías que explican a las organizaciones y como están pueden ayudar a mejorar la gest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ganizar, planificar y gestionar tareas en una organización y analizar su dinámic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88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Escriba su nombre bien GRANDE en la hoja de manera que pueda verlo desde mi puesto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981080" y="685800"/>
            <a:ext cx="5715000" cy="55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visión del Program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tiv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 final del curso deberá ser capaz d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lizar un análisis critico de las organizaciones y proponer cambios para una mejor gest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onocer la importancia de las habilidades de los lideres en las organizacion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visión del Program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tiv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 final del curso deberá ser capaz d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render y explicar la importancia de las organizaciones y como esto influye en el sector publ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onocer y explicar como se dan los procesos de cambio en las organiz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Objetivo principa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odologí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osiciones del profesor y de los alumn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o de material audiovis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cturas (en español e ingl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ueb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re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bajos grup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versación en Cl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sos de estud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o de Internet (MUCH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visión del Program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b2b2b2"/>
                </a:solidFill>
                <a:latin typeface="Arial"/>
              </a:rPr>
              <a:t>Plataforma On-lin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6320" y="1190520"/>
            <a:ext cx="9067680" cy="56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cion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visión del Program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b2b2b2"/>
                </a:solidFill>
                <a:latin typeface="Arial"/>
              </a:rPr>
              <a:t>Battlestar Galactic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b2b2b2"/>
                </a:solidFill>
                <a:latin typeface="Arial"/>
              </a:rPr>
              <a:t>Battlestar Galactic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guntas para la Películ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ien es el líd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o se dan las orden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o se maneja la incertidumbr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o se toman las decision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o se crea misticism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antas organizaciones ha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ntarse en grupos de 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nerse de acuerdo y escribir las respuestas del grup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gir a un representante para que explique los resultad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icar que paso discutiendo en el grup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icar como se eligió el líd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b2b2b2"/>
                </a:solidFill>
                <a:latin typeface="Arial"/>
              </a:rPr>
              <a:t>Battlestar Galactic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rograma del Dí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resentación Profes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regunt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Visión general del Curs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Revisión general del Progra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Battlestar Galact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jercicio Grup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xpectativas del Curs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Expectativas del Curs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articipación acti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ritica acti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rofesionalism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Impecabili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Ir mas all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Leer y apren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Aprender mas allá de las Teorías de las organiz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sistenci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lamento de la escue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dos nos enfermamos, pero debemos ir al doc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% menos de su nota final por cada clase que falte sin justificativo aceptado por la escuel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 asistió a esta clase tiene 3% mas para su nota final,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unque la lista oficial sea la de la próxima sema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Nos vemos la próxima semana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atricio Castr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n términos académic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Administrador Publ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Licenciado en Gobierno y Gestión Public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Master of Science en Information Management, Syracuse Univers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rofesor de la Escuela por tercera vez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atricio Castr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n términos profesion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Practica en Municipalidad de Maria Pi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Trabaje un año en la décima región en el Servicio Paí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onsultor de la Subd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Gerente Fundación Conti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Director Regional Servicio País, en Tal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Lavaplatos hasta Gerente de Quizn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Webmaster y Desarrollo we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Trabajo de informática con NY Mas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Gerente de Fusio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atricio Castr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 términos person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sado con Administradora publ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pa de una hija de 8 me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or de tres herman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igo de mis amig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iño a la escue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asionado de la tecnologí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ocupado por el paí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ministrador Publ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-685800" y="152280"/>
            <a:ext cx="1043928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regunta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 es una organizació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 que organizaciones ha participado? En cual esta participando ho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n importantes las organizaciones? Porque? Mínimo tres líne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rque cree que debe tener un curso sobre Teorías de la Organizació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mbre al menos tres teorías que expliquen a las organizacion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Visión Genera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l tema central de este curso es el revisar los diferentes estudio y explicaciones que se han dado para entender a las organizacion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ntendiendo que la organización es el lugar en donde se desarrolla la Ges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l primer pa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07:29:15Z</dcterms:created>
  <dc:creator> </dc:creator>
  <dc:description/>
  <dc:language>en-US</dc:language>
  <cp:lastModifiedBy> </cp:lastModifiedBy>
  <dcterms:modified xsi:type="dcterms:W3CDTF">2008-08-04T08:52:31Z</dcterms:modified>
  <cp:revision>4</cp:revision>
  <dc:subject/>
  <dc:title>Teorías de la Organización</dc:title>
</cp:coreProperties>
</file>