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481D-0344-4EEA-AB7A-48B1CF41C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22C8-4F15-4C29-99BE-3370B0772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69D1-4CAB-428F-9A97-BCC8563F7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F14C-7109-4DE4-BB81-053F973EB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6301-40F3-4079-AA69-41A4B7AB6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F87A-F467-4EF7-B3F8-570AB8AA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E5D5-4FAD-4162-A669-1916F87B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D1BC-1BB9-47AE-A867-85E550D2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9CD57-7E2A-444E-87F0-8BB5282E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708F9-099F-4ACB-B383-2EF76EB0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B8E3-8B65-4323-971C-2D364610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2577-C6CA-46B2-BC42-D0C81798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F141-D41D-4DF9-8655-4587CA29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089E-818E-43EE-AAAD-7BCB34BB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5E42-8581-4C8C-BB39-68B47F1E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4D12-0166-4152-AFDB-080C74557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F7D7-4DF3-4665-9A06-8A3AC2CAE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18DE-09F4-4B4E-B5DD-D6529CEF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1D8D-E50C-417F-BDC5-F606070B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A3A4-07CB-4908-9B3C-57756278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3232-FCBE-44B9-A29F-7DE72BD0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2656-870B-4578-81D5-9155636A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E067-BEDA-41DB-8A44-C6C6708B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B6D2-D8E1-4D19-AEB8-1825129D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7737-9E6B-47B5-8CF8-4114916DCB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897C-3151-4A86-AA90-7DF651E8442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Teorías de la Organización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ricio Cast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vera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isión General del Curs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chas definiciones para organiz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 tema complejo porque existen personas involucrad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emos cuatro grandes miradas para ver las organiz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emos lideraz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bajo en Organiz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isión General del Curs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371600"/>
            <a:ext cx="80769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structu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etafora sobre la organizacion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Es una maquina o productora de au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nceptos centrales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Reglas, roles, metas, tecnologias, politicas, ambi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magen del liderazgo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Arquitectura so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ases para un cambio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Adecuar estructuras a tareas, tecnologia y entor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structur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isión General del Curs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447920"/>
            <a:ext cx="83818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cursos human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etafora sobre la organizacion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Es una fami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nceptos centrales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Necesidades, habilidades, rel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magen del liderazgo: empoderami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ases para un cambio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Alinear las necesidades de la organizacion y de las person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cursos Humano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isión General del Curs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1523880"/>
            <a:ext cx="815364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li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etafora sobre la organizacion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Es una jung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nceptos centrales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Poder, Conflicto, competencia, politicas organizacio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magen del liderazgo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Por vocac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ases para un cambio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Desarrollar una agenda de trabajo ypoder sobre las 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b2b2b2"/>
                </a:solidFill>
                <a:latin typeface="Arial"/>
              </a:rPr>
              <a:t>Politic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472464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isión General del Curs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295280"/>
            <a:ext cx="8229600" cy="61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imbol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etafora sobre la organizacion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Es carnaval, un teatro o un t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nceptos centrales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Cultura, los significados, las metaforas, los ritos, ceremonia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s historias y sus hero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magen del liderazgo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Inspir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ases para un cambio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Crear fe, belleza, signific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b2b2b2"/>
                </a:solidFill>
                <a:latin typeface="Arial"/>
              </a:rPr>
              <a:t>Simbolic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51055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visión del Program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tiv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 final del curso deberá ser capaz 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strar conocimiento sobre las diversas teorías que explican a las organizaciones y como están pueden ayudar a mejorar la gest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ar, planificar y gestionar tareas en una organización y analizar su dinám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88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Escriba su nombre bien GRANDE en la hoja de manera que pueda verlo desde mi puesto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981080" y="685800"/>
            <a:ext cx="5715000" cy="55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visión del Program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tiv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 final del curso deberá ser capaz 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zar un análisis critico de las organizaciones y proponer cambios para una mejor gest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nocer la importancia de las habilidades de los lideres en las organizaci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visión del Program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tiv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 final del curso deberá ser capaz 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render y explicar la importancia de las organizaciones y como esto influye en el sector publ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nocer y explicar como se dan los procesos de cambio en las organiz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bjetivo princip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odologí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osiciones del profesor y de los alumn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o de material audiovi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cturas (en español e ing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r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bajos grup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versación en Cl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os de estud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o de Internet (MUCH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visión del Program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b2b2b2"/>
                </a:solidFill>
                <a:latin typeface="Arial"/>
              </a:rPr>
              <a:t>Plataforma On-lin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6320" y="1190520"/>
            <a:ext cx="906768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cion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visión del Program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b2b2b2"/>
                </a:solidFill>
                <a:latin typeface="Arial"/>
              </a:rPr>
              <a:t>Battlestar Galactic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b2b2b2"/>
                </a:solidFill>
                <a:latin typeface="Arial"/>
              </a:rPr>
              <a:t>Battlestar Galactic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guntas para la Películ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en es el líd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o se dan las orden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o se maneja la incertidumb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o se toman las decision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o se crea misticism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antas organizaciones ha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ntarse en grupos de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nerse de acuerdo y escribir las respuestas del gru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gir a un representante para que explique los resultad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icar que paso discutiendo en el grup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icar como se eligió el lí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b2b2b2"/>
                </a:solidFill>
                <a:latin typeface="Arial"/>
              </a:rPr>
              <a:t>Battlestar Galactic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ograma del Dí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esentación Profes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egun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Visión general del Cur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evisión general del Progr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Battlestar Galac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jercicio Grup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xpectativas del Cur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xpectativas del Curs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articipación acti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ritica acti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fesionalis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Impecabil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Ir mas all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eer y apre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prender mas allá de las Teorías de las organiz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sistenci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lamento de la escue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os nos enfermamos, pero debemos ir al do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% menos de su nota final por cada clase que falte sin justificativo aceptado por la escuel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asistió a esta clase tiene 3% mas para su nota final,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unque la lista oficial sea la de la próxima sema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Nos vemos la próxima semana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atricio Castr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n términos académ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dministrador Publ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icenciado en Gobierno y Gestión Publ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aster of Science en Information Management, Syracuse Univer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fesor de la Escuela por tercera vez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atricio Castr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n términos profesion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actica en Municipalidad de Maria Pi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rabaje un año en la décima región en el Servicio Paí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nsultor de la Subd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Gerente Fundación Conti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irector Regional Servicio País, en Tal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vaplatos hasta Gerente de Quiz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Webmaster y Desarrollo w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rabajo de informática con NY Ma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Gerente de Fusio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atricio Castr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 términos perso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ado con Administradora publ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pa de una hija de 8 me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or de tres herman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igo de mis amig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iño a la escue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asionado de la tecnologí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ocupado por el paí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ministrador Publ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685800" y="152280"/>
            <a:ext cx="104392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egunta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 es una organizació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 que organizaciones ha participado? En cual esta participando ho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 importantes las organizaciones? Porque? Mínimo tres líne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que cree que debe tener un curso sobre Teorías de la Organizació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mbre al menos tres teorías que expliquen a las organizacion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isión Gener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l tema central de este curso es el revisar los diferentes estudio y explicaciones que se han dado para entender a las organizaci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ntendiendo que la organización es el lugar en donde se desarrolla la Ges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l primer pa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07:29:15Z</dcterms:created>
  <dc:creator> </dc:creator>
  <dc:description/>
  <dc:language>en-US</dc:language>
  <cp:lastModifiedBy> </cp:lastModifiedBy>
  <dcterms:modified xsi:type="dcterms:W3CDTF">2008-08-04T08:52:31Z</dcterms:modified>
  <cp:revision>4</cp:revision>
  <dc:subject/>
  <dc:title>Teorías de la Organización</dc:title>
</cp:coreProperties>
</file>