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B74-2F1D-4970-A344-67229956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7D3-AF62-4B14-A7A5-B3A8FE69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75D-6AFB-463B-8F73-79E09649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BEB-0665-4C73-A1A2-F9780EE9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6967-E6CA-473C-A68C-878298B3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5159-D9F2-46AB-A5EA-F5F7FA62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A236-93B1-40E2-8D6C-1354CEAB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52E4-117E-4F6B-84D2-51AAD22D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03F4-815D-4B79-952A-60489876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6BFD-D272-4D64-A162-0E4789A5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D962-21DF-4C4F-9C25-06611648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9B5-3E19-4E77-913E-8AEEA9E7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8999-0D81-4114-AE62-00814E6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0109-3AA1-488A-85FD-058AD3E0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CC0D-9A9D-4B5F-94DB-4542F648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3A06-8B8B-4D6D-9A62-17944742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9A48-EEFF-4990-A2AE-FCCA08A3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669-7908-4203-9A31-E39DEB78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0BA-697B-4063-BB4A-9120B6B9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75B-36A9-40E0-8335-8B47C07B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D96-0D5A-416D-935E-65208FF7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CA4-7692-47F1-92CC-9C96F1A2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F76-F5C6-4B84-918E-734E34BF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6CD-6F19-4D67-83C0-BEAC4EA4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BB85-2761-4464-8582-8D42AABA02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0A3E-DCB7-49D3-846E-23924D1725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eorías de la Organizació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io Ca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vera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definiciones para orga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complejo porque existen personas involucr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emos cuatro grandes miradas para ver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emos lideraz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bajo en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371600"/>
            <a:ext cx="807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maquina o productora de a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eglas, roles, metas, tecnologias, politicas, amb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rquitectur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decuar estructuras a tareas, tecnologia y ento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ructu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381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Necesidades, habilidades, 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agen del liderazgo: empoder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linear las necesidades de la organizacion y d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cursos Human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523880"/>
            <a:ext cx="81536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jung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oder, Conflicto, competencia, politicas organiza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or voc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esarrollar una agenda de trabajo ypoder sobre las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Poli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724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95280"/>
            <a:ext cx="82296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bo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carnaval, un teatro o un t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ultura, los significados, las metaforas, los ritos, ceremoni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s historias y sus her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nspi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rear fe, belleza, signifi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Simboli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105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strar conocimiento sobre las diversas teorías que explican a las organizaciones y como están pueden ayudar a mejorar la g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r, planificar y gestionar tareas en una organización y analizar su diná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8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Escriba su nombre bien GRANDE en la hoja de manera que pueda verlo desde mi puest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7150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r un análisis critico de las organizaciones y proponer cambios para una mejor g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 la importancia de las habilidades de los lideres en las organiz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nder y explicar la importancia de las organizaciones y como esto influye en el sect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 y explicar como se dan los procesos de cambio en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jetivo princip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iciones del profesor y de los alum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material audiovi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uras (en español e ing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bajos gru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sación en Cl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os de e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Internet (MUCH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Plataforma On-lin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320" y="1190520"/>
            <a:ext cx="9067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untas para la Pelíc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en es el lí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dan las orde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maneja la incertidumb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toman las decisi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crea misticism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tas organizaciones h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tarse en grupos de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erse de acuerdo y escribir las respuestas del gru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gir a un representante para que explique los result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ar que paso discutiendo en el gru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ar como se eligió el lí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ama del Dí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entación Profe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isión general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visión general del Prog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attlestar Galac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rcicio Grup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pectativas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pectativas del Cur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ticipación 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itica 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fesional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mpeca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r mas al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er y apr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prender mas allá de las Teorías de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istenc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mento de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nos enfermamos, pero debemos ir al do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% menos de su nota final por cada clase que falte sin justificativo aceptado por la escue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asistió a esta clase tiene 3% mas para su nota final,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unque la lista oficial sea la de la próxima sem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s vemos la próxima seman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términos académ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ministrad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icenciado en Gobierno y Gestión Publ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ster of Science en Information Management,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fesor de la Escuela por tercera v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términos profes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actica en Municipalidad de Maria P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rabaje un año en la décima región en el Servicio Paí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 de la Subd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rente Fundación Cont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rector Regional Servicio País, en Tal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vaplatos hasta Gerente de Quiz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Webmaster y Desarrollo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rabajo de informática con NY M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rente de Fusi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términ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ado con Administradora pu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a de una hija de 8 me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or de tres her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go de mis ami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iño a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sionado de la 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ocupado por el paí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d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85800" y="152280"/>
            <a:ext cx="10439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es una organiz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que organizaciones ha participado? En cual esta participando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importantes las organizaciones? Porque? Mínimo tres lín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que cree que debe tener un curso sobre Teorías de la Organiz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bre al menos tres teorías que expliquen a las organizaci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tema central de este curso es el revisar los diferentes estudio y explicaciones que se han dado para entender a las organiz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tendiendo que la organización es el lugar en donde se desarrolla la Ges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imer pa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7:29:15Z</dcterms:created>
  <dc:creator> </dc:creator>
  <dc:description/>
  <dc:language>en-US</dc:language>
  <cp:lastModifiedBy> </cp:lastModifiedBy>
  <dcterms:modified xsi:type="dcterms:W3CDTF">2008-08-04T08:52:31Z</dcterms:modified>
  <cp:revision>4</cp:revision>
  <dc:subject/>
  <dc:title>Teorías de la Organización</dc:title>
</cp:coreProperties>
</file>