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1D8-A15A-4D00-BE84-5BE07E9A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ECC-3951-4089-AF36-B90F33FF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F6A-A0F8-41C6-BD27-06589012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F5E-4C01-46A1-B086-D19549CB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8B80-E97A-4D3F-B019-FD95E8F8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646A-6CA4-45EC-9B71-0F11309D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43E4-9999-4B22-B132-3954044C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FA78-7E14-46EE-9283-B4D18A7A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44A5-E23F-4F56-BBA3-80596527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4679-D3B9-4635-9948-EA39B213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7852-56C7-4B5B-8FFA-7B4E1179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F71-8F0D-4578-A381-EE33E0A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A22D-177A-421C-9A7D-C632B90F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A8BD-44A8-4191-AB31-49B4743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B1F3-B2E7-4D19-A4B8-64CF6F08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B14E-A71E-49F7-A144-C304AFDC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D34B-5B5A-4890-A3F5-A0A5B890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C9E-5076-4A10-8268-5F8C464B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D4E-7FC0-4303-B216-90AB88AE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217-7577-4A83-9CB6-61D9018C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847-A0BB-4434-BA1D-4DFD3597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277-4450-4CD0-85EC-DA148A3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C8D-D14E-44FD-8F3C-C54513F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958-DF18-4C68-B1E7-D66B1CDD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C5C2-DFEC-44DC-BD70-FB764DB48F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C0B0-C25E-4992-9E4E-B24D70E504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orías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vera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definiciones para org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complejo porque existen personas involucr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cuatro grandes miradas para ver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lideraz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jo en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371600"/>
            <a:ext cx="807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maquina o productora de a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eglas, roles, metas, tecnologias, politicas,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rquitectur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decuar estructuras a tareas, tecnologia y ento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38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Necesidades, habilidades, 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agen del liderazgo: empoder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linear las necesidades de la organizacion y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cursos Hum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523880"/>
            <a:ext cx="81536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jung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der, Conflicto, competencia, politicas organiz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r voc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esarrollar una agenda de trabajo ypoder sobre las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oli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724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8229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bo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carnaval, un teatro o un t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ultura, los significados, las metaforas, los ritos, ceremoni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s historias y sus her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spi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rear fe, belleza, signifi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boli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10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strar conocimiento sobre las diversas teorías que explican a las organizaciones y como están pueden ayudar a mejorar la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r, planificar y gestionar tareas en una organización y analizar su diná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scriba su nombre bien GRANDE en la hoja de manera que pueda verlo desde mi puest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7150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r un análisis critico de las organizaciones y proponer cambios para una mejor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la importancia de las habilidades de los lideres en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nder y explicar la importancia de las organizaciones y como esto influye en el sect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y explicar como se dan los procesos de cambio en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jetivo princip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ciones del profesor y de los alum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material audiovi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as (en español e ing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s gru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ación en Cl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Internet (MUCH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lataforma On-li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1190520"/>
            <a:ext cx="9067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 para la Pelíc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en es el lí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dan las orde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maneja la incertidumb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toman las decis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crea misticis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as organizaciones h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tarse en grupos de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erse de acuerdo y escribir las respuestas del gru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a un representante para que explique los resul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que paso discutiendo en el gru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como se eligió el lí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am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ón Profe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isión general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general del Prog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attlestar Galac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rcicio Grup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ectativas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pectativas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ticipación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itica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ional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mpec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r mas al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er y ap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prender mas allá de las Teorías de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isten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mento de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nos enfermamos, pero debemos ir al do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% menos de su nota final por cada clase que falte sin justificativo aceptado por la escue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asistió a esta clase tiene 3% mas para su nota final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unque la lista oficial sea la de la próxima sem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s vemos la próxima seman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términos académ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icenciado en Gobierno y Gestión Publ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ster of Science en Information Management,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or de la Escuela por tercera v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términos profes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actica en Municipalidad de Maria P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e un año en la décima región en el Servicio Paí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 de la Subd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Fundación Cont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rector Regional Servicio País, en Tal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vaplatos hasta Gerente de Quiz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master y Desarrollo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o de informática con NY M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de Fusi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términ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ado con Administradora pu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 de una hija de 8 me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r de tres her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go de mis ami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ño a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sionado de l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ocupado por el paí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85800" y="152280"/>
            <a:ext cx="10439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es un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que organizaciones ha participado? En cual esta participand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importantes las organizaciones? Porque? Mínimo tres lín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que cree que debe tener un curso sobre Teorías de l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bre al menos tres teorías que expliquen a las organizac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tema central de este curso es el revisar los diferentes estudio y explicaciones que se han dado para entender a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endiendo que la organización es el lugar en donde se desarrolla la Ges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imer pa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7:29:15Z</dcterms:created>
  <dc:creator> </dc:creator>
  <dc:description/>
  <dc:language>en-US</dc:language>
  <cp:lastModifiedBy> </cp:lastModifiedBy>
  <dcterms:modified xsi:type="dcterms:W3CDTF">2008-08-04T08:52:31Z</dcterms:modified>
  <cp:revision>4</cp:revision>
  <dc:subject/>
  <dc:title>Teorías de la Organización</dc:title>
</cp:coreProperties>
</file>