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9CD8-A76C-4995-88FA-3E65EFADAD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cumulación de riqueza era un proxy de biene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Nula noción de eficiencia (todo se hace en el paí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lta intervención del Estado (Estados Naciones) por lo que hay un una política comercial proteccion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3CAB-DBD2-4E8C-A36E-3C31253D09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Bodin estudió el influjo que hubo desde las colonias a los países y encontró infla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Sustento de los mercantilist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conomía superavitaria X&gt;M mayor inflación, disminuición de la competitividad, luego se revierte el círcu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01B9-EB8A-4EF9-81D9-163F73DECFD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Y aquí preguntas que por lo general rondan en cualquier análisis del comercio internacion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¿Cuáles son las ganancias del comerci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¿Cuál es el patrón de comerci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¿Cuáles son los términos de intercambi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7F86-8D47-4120-8E54-5AF3D74BD98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l comercio mutuamente beneficioso se basa en el concepto de la ventaja absolu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 ineficiente que los países produzcan todo de to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pecialízación, eficiencia, mayor producción, exc </a:t>
            </a:r>
            <a:r>
              <a:rPr b="0" lang="es-MX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exportación, aumento del biene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Introducción del concepto de costo de oportuni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C5B8-5940-4BAB-8E88-718AACE360F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Hay comercio incluso cuando hay ventaja comparativa (condición más débil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os supuestos: 1fp, 2 bienes, 2 pai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6352-983F-4647-B863-9D7E86BFA1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ntes los costos de oportunidad eran una línea recta: cop constan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Cop crecientes: frontera de pp conca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Oferta neta: cantidad de un bien que un país está dispuesto a expor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os países tienden a especializarse pero no hay especialización compl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8CB7-5A15-449B-BA94-FD0930C92A8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D07-EE6E-46A7-9D6C-DD589F6E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ED6-5B97-4781-B73C-3B1B16C2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AAF-B983-4071-9EE5-2009EED1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B41F-0442-4112-A9A1-AABB71CA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34C-C593-4C2D-8D7F-80948680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F477-3C09-4D0B-AB0F-17128705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145B-94B7-4F2F-A69C-B4463C81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AE24-4939-4129-9ABB-6213D16D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A29-AAD0-4E34-82E9-B71E976D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7A1-8724-40E4-809B-3E47C994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641-0091-48AA-ADB0-0E5B0CF5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32F-027B-4D77-A6EF-0D89E2A7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2600-BDC3-4930-B8EF-2B49B8D18BA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ía del Comercio Inter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ploma Estrategia Internacional y Política Co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ituto de Estudio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ábado 25 de Julio d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5 CuadroTexto"/>
          <p:cNvSpPr/>
          <p:nvPr/>
        </p:nvSpPr>
        <p:spPr>
          <a:xfrm>
            <a:off x="5072040" y="50720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onzalo Becerra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Mercanti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Teoría “Clásica”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spuesta a los clásicos, evidencia empírica y algunas teorí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as críticas se relacionaron con la evidencia empí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eontieff (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delo de factores específicos (H-O en el corto plaz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mercio intraindus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Mercanti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Teoría “Clásica”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Respuesta a los clásicos, evidencia empírica y algunas teorí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s bases del comercio internacional han permitido entender los flujos de comer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 pesar de su aparente simplicidad la teoría clásica ha permitido explicar 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porqué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los países comercian, cuáles son las 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ganancias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del intercambio y los 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precios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a que se gen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s críticas que han seguido a estos modelos han permitido mejorar aún más las conclusiones derivadas de los modelos pion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ía del Comercio Inter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8592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ploma Estrategia Internacional y Política Co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ituto de Estudio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ábado 25 de Julio d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CuadroTexto"/>
          <p:cNvSpPr/>
          <p:nvPr/>
        </p:nvSpPr>
        <p:spPr>
          <a:xfrm>
            <a:off x="5072040" y="50720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onzalo Becerra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ercanti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eoría “Clásica”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spuesta a los clásicos, evidencia empírica y algunas teorí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l mercantilismo y su visión particular del comer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17146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 suele ubicar a este sistema económico entre los siglos XVI hasta la mitad del XV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dea central: acumulación de riqu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comercio era entendido sólo hacia una balanza comercial “superavita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as críticas: importante efecto del dinero en una econom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cantidad de dinero y su efecto en la economí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J. Bodin (1569) aumento de precios en Europa Occid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J. Locke (1700) y la teoría cuantita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. Hume (1800) evolución natural de una economía superav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rítica: ¿riqueza = acumulaci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riqueza de los países radica en otros factores, como la división del trabajo o recursos natu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dam Smith (177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mienzo de la teoría clásica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dam Smith y las ventajas absolu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mportancia del libre comercio para incrementar la riqueza de las n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ol del factor productivo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cepto de especi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lus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Modelo Ricard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4 décadas después de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¿Qué sucede si un país posee ventajas absolutas en la producción de todos los bi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lustración con un 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xtensión del modelo cl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 introduce la noción de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stos de oportunidad crec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érminos de inter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cepto de curvas de oferta n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elo de Heckscher-Oh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uele llamarse a este modelo a una serie de teoremas (que incluyen el de H-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ybczyn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eckscher-Oh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tolper-Samue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gualación de precio de fa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9:45:39Z</dcterms:created>
  <dc:creator>BCCH</dc:creator>
  <dc:description/>
  <dc:language>en-US</dc:language>
  <cp:lastModifiedBy>Gonzalo Becerra</cp:lastModifiedBy>
  <dcterms:modified xsi:type="dcterms:W3CDTF">2009-07-25T12:31:58Z</dcterms:modified>
  <cp:revision>12</cp:revision>
  <dc:subject/>
  <dc:title>Teoría del Comercio Internacional</dc:title>
</cp:coreProperties>
</file>