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089-8727-47F4-9AAE-E9CF13B3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E24-FCCD-4B90-8D25-8F39C0A9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2C7-FFF3-47CA-B5B4-EC08369A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2C40-8E98-4684-A97A-14B0BDA3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265-3629-4BE9-A924-4AF253E5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90E-E479-432C-A3C6-433F632F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7F6-FB7A-4A78-91FA-CFA859CC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5EA-723A-43D6-8A90-32897AC9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D88-CB6C-4EB0-9C3D-19D9D242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88B-18B3-424E-BF5D-7A0AADC3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43C3-980C-43A5-8333-F5748581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34B-CE3D-4090-9AEB-F5289B1D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5280-1E39-4B4D-AC5B-6B802FB20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ISMO VERSUS MULTILATERALISMO EN LA ERA GLOBAL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ndo Di Filip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Globalización del Orden Capitalista acepciones amplia y restringida del concep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perspectiva de largo plazo: progreso técnico, centros y perife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ultilateralismo a fin de la segunda guerra mu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ipecias del multilateralismo en la era glo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GRACIÓN HEMISFÉRICA Y SU ESTRATEGIA UNI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0: Iniciativa para las Amé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4: TLCAN y Lanzamiento del AL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8: Cumbre de Santiago, inicio negociaciones AL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CA: Altibajos y desencuen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1: Cambios globales y reg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3: Fin del Single under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5: Cumbre de Mar del Plata: el congelamiento de las negoci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ÓN EUROPEA: SU ESTRATEGIA CON AL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“filosofías” en materia de integración: USA y 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os “filosofías” y sus entornos periféricos inmedi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odalidades de los acuerdos de asociación de la UE con ALC, diferencias con las las modalidades adoptadas por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E y las PYME latinoameri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S BLOQUES LATINOAMERICANO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eses y estrategias frente a los TLC hemisféricos: México, MCCA, y CAR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eses y estrategias del MERCOSUR y el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líneas estratégicas diferentes frente a las ET, y el relacionamiento con USA en América del 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puente posible de unión: UNASUR. Problemas y turbulencias rec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LECTURA INSTITUCIONAL DEL REGIONALISMO EN AM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nvergencia subregional de los marcos institu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igraciones ciudadanías comunitarias e integración subreg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áusulas democráticas y su impacto en los acuer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rácter intergubernamental o supranacional de los procesos deciso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RISIS DEL SISTEMA GLOBAL (COYUNTUR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 las hipotecas “subprime” y la racionalidad microeconómica de los bancos de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de la crisis en el orden financiero y comercial mun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alidad microeconómica de las ET, versus racionalidad macropolítica de los gobiern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ratamiento regulador frente a las ET. El caso de la UE y su tribunal de justi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L SISTEMA GLOBAL (COYUNTURAS) Y SU IMPACTO EN A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América Central y el Caribe Ins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Sudamé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en de situaciones diferenci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RISIS DEL SISTEMA GLOBAL (ESTRUCTUR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ema del medioambiente: calentamiento global, “carbonización” insosteni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de la crisis coyuntural en USA sobre la crisis estructural  tanto económica  (déficit fiscal estadounidense y restricciones en la búsqueda de energías limpias) como social (bienes públ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entabilidad problemática del desarrollo chino con base en energías “suci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L SISTEMA GLOBAL (ESTRUCTURAS) Y SU IMPACTO EN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sición periférica de América Latina tanto frente a los centros como a los emergentes asiá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ransformación tecnoeconómica de largo plazo hacia fuentes de energías limp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previsible sobre las estructuras productivas de América Latina. Heterogeneidad estructural y fuentes de ener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6B2-B84D-473C-BED9-576DF0ADD2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ceso de globalización económica y la economía latinoameri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rasfondo tecnológico de la producción glob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rasfondo institucional de la globalización econ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impacto de la globalización económica sobre las instituciones económica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nsenso de Washing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, LENGUAJE SISTÉMICO 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sistema internacional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uctur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eglas técnicas e institucionales del juego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ugadores políticos centrales, periféricos y emergentes)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mbi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ancha o campo de juego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ategias y táctic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ugadas individuales y conjunt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 LENGUAJE SISTÉMICO 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transnacional, dimensiones ambientales, culturales, políticas y económicas “informal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económico transnacional “formal”. Estructuras (reglas técnicas e intergubernamentales), las corporaciones transnacionales (jugadores protagónicos), posiciones de poder, estrategias y tácticas (jugadas), los espacios transnacionales (campo o cancha de jueg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 LENGUAJE SISTÉMIC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económico global, suma del sistema internacional (jugadores políticos) y del sistema transnacional (jugadores económ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l protagónico de las empresas transnacionales ET en el sistema económico glo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ajas estratégicas de las ET, (de propiedad tecnológica, de localización, de internaliz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 ET Y LOS GRANDES PAÍSES EMERG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íses asiáticos y sus estrategias de desarrollo export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aso de china: aspectos sociopolíticos, y económ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tamórfosis potencial, de país emergente a centro económico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China en el comercio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ECONÓMICO DE LA GLOBALIZACIÓN EN AMÉRICA LATINA: SUDAM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T, y sus estrategias de captación de mercados en el ámbito de los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esencia de China y su demanda de productos primarios (cobre, petróleo, soj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términos de intercambio: un nuevo contexto histó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sición primario exportadora de Sudamérica. Situación especial de Bra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ECONÓMICO DE LA GLOBALIZACIÓN EN ALC:MÉXICO, CENTRO AMÉRICA Y EL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nas francas maquila, paraísos fiscales, y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aso de México, antes y después del estrechamiento de las relaciones China-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o de las zonas francas en el empleo de los centros occide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o de las zonas francas en el empleo de AL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tegración regional en América: Procesos Tipos y Tend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ciente participación activa d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liferación de TLC entre ciertos países latinoameri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ación (MERCOSUR) o reformulación (CAN, MCCA, CARICOM) de Acuerdos Sub-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vergencias fraccionamientos y nuevas iniciativas (UNASUR, AL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1:10Z</dcterms:created>
  <dc:creator>Armando</dc:creator>
  <dc:description/>
  <dc:language>en-US</dc:language>
  <cp:lastModifiedBy>adifilippo</cp:lastModifiedBy>
  <dcterms:modified xsi:type="dcterms:W3CDTF">2009-09-14T19:51:46Z</dcterms:modified>
  <cp:revision>13</cp:revision>
  <dc:subject/>
  <dc:title>Diapositiva 1</dc:title>
</cp:coreProperties>
</file>