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8A4-B353-41B7-8EF9-EC043F84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BCA-9253-470D-814B-38180DF3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B2D0-EF10-46DF-83CB-3C2B69E16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2F0-EE96-47FC-871F-38C70FD0D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8FEF-EF62-4A83-B4AC-7879BD88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C854-EFA2-4B3B-8AD3-D85496B7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025-9DC1-4799-953E-B738A8923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7C0A-3B0D-4AD0-A0CC-5089A494E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6590-D081-4B7F-818D-3A09869B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01E-3CE6-4B90-A052-4169318D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53F2-16E2-488E-96FB-7EBDEC79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DF5A-D217-41E0-8118-EDF5D015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CA40-D544-4DB4-82FE-0DF8403AFE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ISMO VERSUS MULTILATERALISMO EN LA ERA GLOBAL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mando Di Filip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Globalización del Orden Capitalista acepciones amplia y restringida del concep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Una perspectiva de largo plazo: progreso técnico, centros y perife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multilateralismo a fin de la segunda guerra mun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eripecias del multilateralismo en la era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GRACIÓN HEMISFÉRICA Y SU ESTRATEGIA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0: Iniciativa para las Amér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4: TLCAN y Lanzamiento del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998: Cumbre de Santiago, inicio negociaciones AL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LCA: Altibajos y desencu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1: Cambios globales y reg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3: Fin del Single undert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005: Cumbre de Mar del Plata: el congelamiento de las negoc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NIÓN EUROPEA: SU ESTRATEGIA CON AL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s “filosofías” en materia de integración: USA y U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os “filosofías” y sus entornos periféricos inmedi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odalidades de los acuerdos de asociación de la UE con ALC, diferencias con las las modalidades adoptadas por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UE y las PYME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LOS BLOQUES LATINOAMERICANO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frente a los TLC hemisféricos: México, MCCA, y CAR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tereses y estrategias del MERCOSUR y el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s líneas estratégicas diferentes frente a las ET, y el relacionamiento con USA en América del 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puente posible de unión: UNASUR. Problemas y turbulencias reci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LECTURA INSTITUCIONAL DEL REGIONALISMO EN A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convergencia subregional de los marcos institu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igraciones ciudadanías comunitarias e integración subreg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láusulas democráticas y su impacto en los acuer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rácter intergubernamental o supranacional de los procesos decisor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COYUN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 las hipotecas “subprime” y la racionalidad microeconómica de los bancos de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en el orden financiero y comercial mund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cionalidad microeconómica de las ET, versus racionalidad macropolítica de los gobierno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ratamiento regulador frente a las ET. El caso de la UE y su tribunal de justi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COYUNTURAS) Y SU IMPACTO EN A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América Central y el Caribe Ins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la crisis en Sudamé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en de situaciones diferenci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CRISIS DEL SISTEMA GLOBAL (ESTRUCTURA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tema del medioambiente: calentamiento global, “carbonización” insosteni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de la crisis coyuntural en USA sobre la crisis estructural  tanto económica  (déficit fiscal estadounidense y restricciones en la búsqueda de energías limpias) como social (bienes púb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tentabilidad problemática del desarrollo chino con base en energías “sucia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RISIS DEL SISTEMA GLOBAL (ESTRUCTURAS) Y SU IMPACTO EN AMÉRICA LA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posición periférica de América Latina tanto frente a los centros como a los emergentes asiát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transformación tecnoeconómica de largo plazo hacia fuentes de energías limp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previsible sobre las estructuras productivas de América Latina. Heterogeneidad estructural y fuentes de ener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D01-AAA7-47D5-A84B-AB8F60FF25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l proceso de globalización económica y la economía latinoameric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tecnológico de la producción globaliz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trasfondo institucional de la globalización econó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impacto de la globalización económica sobre las instituciones económicas naci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consenso de Wash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,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sistema internacional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uctur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eglas técnicas e institucionales del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tor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ores políticos centrales, periféricos y emergentes)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ámbito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cancha o campo de juego)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strategias y táctic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jugadas individuales y conjunt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transnacional, dimensiones ambientales, culturales, políticas y económicas “informa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transnacional “formal”. Estructuras (reglas técnicas e intergubernamentales), las corporaciones transnacionales (jugadores protagónicos), posiciones de poder, estrategias y tácticas (jugadas), los espacios transnacionales (campo o cancha de jueg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GLOBALIZACIÓN LENGUAJE SISTÉMICO DE JUEG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sistema económico global, suma del sistema internacional (jugadores políticos) y del sistema transnacional (jugadores económ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l protagónico de las empresas transnacionales ET en el sistema económico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tajas estratégicas de las ET, (de propiedad tecnológica, de localización, de internaliz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S ET Y LOS GRANDES PAÍSES EMERGE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países asiáticos y sus estrategias de desarrollo exportad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china: aspectos sociopolíticos, y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tamórfosis potencial, de país emergente a centro económic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impacto de China en el comercio mund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MÉRICA LATINA: SUDAMÉ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ET, y sus estrategias de captación de mercados en el ámbito de los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esencia de China y su demanda de productos primarios (cobre, petróleo, soja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términos de intercambio: un nuevo contexto histó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osición primario exportadora de Sudamérica. Situación especial de Bras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ACTO ECONÓMICO DE LA GLOBALIZACIÓN EN ALC:MÉXICO, CENTRO AMÉRICA Y EL CA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onas francas maquila, paraísos fiscales, y financi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aso de México, antes y después del estrechamiento de las relaciones China-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los centros occid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o de las zonas francas en el empleo de AL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Integración regional en América: Procesos Tipos y Tend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ciente participación activa d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liferación de TLC entre ciertos países latinoamer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eación (MERCOSUR) o reformulación (CAN, MCCA, CARICOM) de Acuerdos Sub-reg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vergencias fraccionamientos y nuevas iniciativas (UNASUR, ALB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19:01:10Z</dcterms:created>
  <dc:creator>Armando</dc:creator>
  <dc:description/>
  <dc:language>en-US</dc:language>
  <cp:lastModifiedBy>adifilippo</cp:lastModifiedBy>
  <dcterms:modified xsi:type="dcterms:W3CDTF">2009-09-14T19:51:46Z</dcterms:modified>
  <cp:revision>13</cp:revision>
  <dc:subject/>
  <dc:title>Diapositiva 1</dc:title>
</cp:coreProperties>
</file>