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914-5805-46DF-8D30-E18FB1AE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0AC-4BDA-4470-9FCA-52E77FD4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1C3-C64A-47A6-8295-DF0FC606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74B-F00D-4087-A3A3-F32CF73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AD9-A8CA-41F4-AE9F-238F0CC0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26C-B596-45E9-B63D-ECE1E81D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4AC-AAD9-4BED-874B-6B4AB07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620-5DB2-4A5F-AB13-C07852F8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6DC-80BC-491C-8186-530E2AB0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6E8-59D5-4157-9BA5-DF9F3E0E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0BD-E4CF-4C32-A631-ED7EB48F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A43-5AA6-4061-B820-C2597A52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9BC-955A-4529-9469-C5249474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44:58Z</dcterms:created>
  <dc:creator>Doris</dc:creator>
  <dc:description/>
  <dc:language>en-US</dc:language>
  <cp:lastModifiedBy>Doris</cp:lastModifiedBy>
  <dcterms:modified xsi:type="dcterms:W3CDTF">2007-08-17T14:45:23Z</dcterms:modified>
  <cp:revision>1</cp:revision>
  <dc:subject/>
  <dc:title>Diapositiva 1</dc:title>
</cp:coreProperties>
</file>