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3CA1-9BF9-4B49-953F-0FB458058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4A8B-B628-4CEE-A477-259733377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76480" y="70812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8440" y="4317840"/>
            <a:ext cx="5027400" cy="410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Do you want the two sentences joined togeth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8918-3436-4736-9808-17FF452A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194-34AD-40DF-A288-894E4817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B411-2003-4C4B-B9FC-266F4A9C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77A8-F996-4098-A4B3-045EA465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6531-B6CD-4A9A-9392-735B2D2D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922-16D7-42B2-81DA-E76AB500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BB92-4557-42E8-9B92-F615F229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4678-A858-40B6-A0F3-6E15F2C1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3FDA-156D-4F7E-81B9-3880E5C3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B6B5-44B6-4881-AFE8-77E43F8E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6A34-8E36-4651-B929-FBF5ABBE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DEB-765B-4A39-AA0B-D89FDFF9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39AB-27C9-4C03-851B-807F28552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holachc.com/wp-content/uploads/2008/09/bandera_de_chile.png&amp;imgrefurl=http://www.holachc.com/%3Fm%3D200809&amp;usg=__ZxZsEHsa-B5T-vopXH2sdpaDiI8=&amp;h=293&amp;w=439&amp;sz=3&amp;hl=es&amp;start=1&amp;tbnid=m-8QfYCMScdD2M:&amp;tbnh=85&amp;tbnw=127&amp;prev=/images%3Fq%3Dbandera%2Bde%2BChile%26gbv%3D2%26hl%3Des%26sa%3D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5105160"/>
            <a:ext cx="85471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stituto de Estudios Inter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0" y="1598400"/>
            <a:ext cx="9144000" cy="17398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Principios Básicos del Comercio de Servicios</a:t>
            </a:r>
            <a:br>
              <a:rPr sz="3600"/>
            </a:br>
            <a:br>
              <a:rPr sz="3600"/>
            </a:br>
            <a:r>
              <a:rPr b="1" lang="es-A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de agosto de 200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434340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260280"/>
            <a:ext cx="7925040" cy="1129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Evolución del Comercio de Servicios:  Algunas Cifras*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848720" cy="5621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333399"/>
              </a:buClr>
              <a:buFont typeface="Wingdings" charset="2"/>
              <a:buChar char="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 sector de los servicios fue el segmento de más rápid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cimiento del comercio mundial entre 1980 y 2007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333399"/>
              </a:buClr>
              <a:buFont typeface="Wingdings" charset="2"/>
              <a:buChar char="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de 1990, las exportaciones de servicios de los países en desarrollo han aumentado en 3 % (por año) más que las de los países desarrollado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333399"/>
              </a:buClr>
              <a:buFont typeface="Wingdings" charset="2"/>
              <a:buChar char="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 parte que representan los países en desarrollo en las exportaciones mundiales de servicios aumentó del 20 al 26 % (1990-2007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s servicios de viajes y de transporte representan más del 60 % de las exportaciones de servicios de los países en desarroll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GB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Fuente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:  Estimaciones de la Secretaría de la OMC;  datos de la balanza de pagos (B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FB9C-674E-4D75-AFF3-4AA0A3526983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áfico II:  Exportaciones mundiales de mercancías y servicios (1980-200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93840" y="1266840"/>
          <a:ext cx="8512200" cy="55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266840"/>
                    <a:ext cx="8512200" cy="55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" name=""/>
          <p:cNvGrpSpPr/>
          <p:nvPr/>
        </p:nvGrpSpPr>
        <p:grpSpPr>
          <a:xfrm>
            <a:off x="626760" y="1341360"/>
            <a:ext cx="8459280" cy="5290560"/>
            <a:chOff x="626760" y="1341360"/>
            <a:chExt cx="8459280" cy="5290560"/>
          </a:xfrm>
        </p:grpSpPr>
        <p:sp>
          <p:nvSpPr>
            <p:cNvPr id="75" name=""/>
            <p:cNvSpPr/>
            <p:nvPr/>
          </p:nvSpPr>
          <p:spPr>
            <a:xfrm>
              <a:off x="1757160" y="479412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7160" y="4481640"/>
              <a:ext cx="606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57160" y="4167360"/>
              <a:ext cx="606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57160" y="385272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57160" y="353844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57160" y="3225960"/>
              <a:ext cx="606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57160" y="291132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57160" y="259704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57160" y="228276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19080" y="4727520"/>
              <a:ext cx="125280" cy="3808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92320" y="4727520"/>
              <a:ext cx="104760" cy="3808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42880" y="4749840"/>
              <a:ext cx="125640" cy="3585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14320" y="4749840"/>
              <a:ext cx="104760" cy="3585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65240" y="4727520"/>
              <a:ext cx="125280" cy="3808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38480" y="4727520"/>
              <a:ext cx="125280" cy="3808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09920" y="4705200"/>
              <a:ext cx="104760" cy="4032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60480" y="4614840"/>
              <a:ext cx="125640" cy="4935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33720" y="4548240"/>
              <a:ext cx="104760" cy="5601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84640" y="4503600"/>
              <a:ext cx="125280" cy="6048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56080" y="4413240"/>
              <a:ext cx="125280" cy="6951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28960" y="4390920"/>
              <a:ext cx="103320" cy="7174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79880" y="4346640"/>
              <a:ext cx="125280" cy="7617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51320" y="4346640"/>
              <a:ext cx="125280" cy="7617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22760" y="4255920"/>
              <a:ext cx="104760" cy="8524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75120" y="4076640"/>
              <a:ext cx="125640" cy="10317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46560" y="4032360"/>
              <a:ext cx="104760" cy="107604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7480" y="3987720"/>
              <a:ext cx="125280" cy="11206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68920" y="4010040"/>
              <a:ext cx="127080" cy="10983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41800" y="3965400"/>
              <a:ext cx="105120" cy="11430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92720" y="3830760"/>
              <a:ext cx="125640" cy="127764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64160" y="3875040"/>
              <a:ext cx="104760" cy="12333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15080" y="3830760"/>
              <a:ext cx="127080" cy="127764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19080" y="4660920"/>
              <a:ext cx="125280" cy="666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92320" y="4638600"/>
              <a:ext cx="104760" cy="8892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42880" y="4683240"/>
              <a:ext cx="125640" cy="666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14320" y="4683240"/>
              <a:ext cx="104760" cy="666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65240" y="4660920"/>
              <a:ext cx="125280" cy="666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38480" y="4660920"/>
              <a:ext cx="125280" cy="666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09920" y="4614840"/>
              <a:ext cx="104760" cy="903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60480" y="4525920"/>
              <a:ext cx="125640" cy="8892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33720" y="4435560"/>
              <a:ext cx="104760" cy="1126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84640" y="4368960"/>
              <a:ext cx="125280" cy="13464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56080" y="4255920"/>
              <a:ext cx="125280" cy="15732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8960" y="4233960"/>
              <a:ext cx="103320" cy="1569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79880" y="4167360"/>
              <a:ext cx="125280" cy="1792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51320" y="4167360"/>
              <a:ext cx="125280" cy="1792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22760" y="4054320"/>
              <a:ext cx="104760" cy="2016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75120" y="3852720"/>
              <a:ext cx="125640" cy="22392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6560" y="3763800"/>
              <a:ext cx="104760" cy="2685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97480" y="3718080"/>
              <a:ext cx="125280" cy="26964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68920" y="3741840"/>
              <a:ext cx="127080" cy="2682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41800" y="3695760"/>
              <a:ext cx="105120" cy="26964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92720" y="3538440"/>
              <a:ext cx="125640" cy="29232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64160" y="3584520"/>
              <a:ext cx="104760" cy="29052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15080" y="3516480"/>
              <a:ext cx="127080" cy="3142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57160" y="2282760"/>
              <a:ext cx="1800" cy="282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2920" y="510840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72920" y="479412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2920" y="448164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72920" y="416736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2920" y="385272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72920" y="353844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2920" y="322596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2920" y="291132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72920" y="259704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2920" y="228276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57160" y="510840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75716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02860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27952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55240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80332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07476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34800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59856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387000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12092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39416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466560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91616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18796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46084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71176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98320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623556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50700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677844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02936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30224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55316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782460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82800" y="2395440"/>
              <a:ext cx="5816520" cy="2108160"/>
            </a:xfrm>
            <a:custGeom>
              <a:avLst/>
              <a:gdLst/>
              <a:ahLst/>
              <a:rect l="l" t="t" r="r" b="b"/>
              <a:pathLst>
                <a:path w="278" h="94">
                  <a:moveTo>
                    <a:pt x="0" y="93"/>
                  </a:moveTo>
                  <a:lnTo>
                    <a:pt x="13" y="92"/>
                  </a:lnTo>
                  <a:lnTo>
                    <a:pt x="26" y="93"/>
                  </a:lnTo>
                  <a:lnTo>
                    <a:pt x="38" y="94"/>
                  </a:lnTo>
                  <a:lnTo>
                    <a:pt x="51" y="93"/>
                  </a:lnTo>
                  <a:lnTo>
                    <a:pt x="63" y="92"/>
                  </a:lnTo>
                  <a:lnTo>
                    <a:pt x="76" y="87"/>
                  </a:lnTo>
                  <a:lnTo>
                    <a:pt x="89" y="80"/>
                  </a:lnTo>
                  <a:lnTo>
                    <a:pt x="101" y="75"/>
                  </a:lnTo>
                  <a:lnTo>
                    <a:pt x="114" y="70"/>
                  </a:lnTo>
                  <a:lnTo>
                    <a:pt x="126" y="61"/>
                  </a:lnTo>
                  <a:lnTo>
                    <a:pt x="139" y="58"/>
                  </a:lnTo>
                  <a:lnTo>
                    <a:pt x="152" y="50"/>
                  </a:lnTo>
                  <a:lnTo>
                    <a:pt x="164" y="49"/>
                  </a:lnTo>
                  <a:lnTo>
                    <a:pt x="177" y="41"/>
                  </a:lnTo>
                  <a:lnTo>
                    <a:pt x="189" y="30"/>
                  </a:lnTo>
                  <a:lnTo>
                    <a:pt x="202" y="23"/>
                  </a:lnTo>
                  <a:lnTo>
                    <a:pt x="215" y="19"/>
                  </a:lnTo>
                  <a:lnTo>
                    <a:pt x="227" y="18"/>
                  </a:lnTo>
                  <a:lnTo>
                    <a:pt x="240" y="14"/>
                  </a:lnTo>
                  <a:lnTo>
                    <a:pt x="252" y="8"/>
                  </a:lnTo>
                  <a:lnTo>
                    <a:pt x="265" y="7"/>
                  </a:lnTo>
                  <a:lnTo>
                    <a:pt x="278" y="0"/>
                  </a:lnTo>
                </a:path>
              </a:pathLst>
            </a:custGeom>
            <a:solidFill>
              <a:srgbClr val="ffff99"/>
            </a:solidFill>
            <a:ln w="41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82800" y="3270240"/>
              <a:ext cx="5816520" cy="1211400"/>
            </a:xfrm>
            <a:custGeom>
              <a:avLst/>
              <a:gdLst/>
              <a:ahLst/>
              <a:rect l="l" t="t" r="r" b="b"/>
              <a:pathLst>
                <a:path w="278" h="54">
                  <a:moveTo>
                    <a:pt x="0" y="54"/>
                  </a:moveTo>
                  <a:lnTo>
                    <a:pt x="13" y="53"/>
                  </a:lnTo>
                  <a:lnTo>
                    <a:pt x="26" y="54"/>
                  </a:lnTo>
                  <a:lnTo>
                    <a:pt x="38" y="53"/>
                  </a:lnTo>
                  <a:lnTo>
                    <a:pt x="51" y="52"/>
                  </a:lnTo>
                  <a:lnTo>
                    <a:pt x="63" y="50"/>
                  </a:lnTo>
                  <a:lnTo>
                    <a:pt x="76" y="45"/>
                  </a:lnTo>
                  <a:lnTo>
                    <a:pt x="89" y="39"/>
                  </a:lnTo>
                  <a:lnTo>
                    <a:pt x="101" y="34"/>
                  </a:lnTo>
                  <a:lnTo>
                    <a:pt x="114" y="32"/>
                  </a:lnTo>
                  <a:lnTo>
                    <a:pt x="126" y="27"/>
                  </a:lnTo>
                  <a:lnTo>
                    <a:pt x="139" y="24"/>
                  </a:lnTo>
                  <a:lnTo>
                    <a:pt x="152" y="20"/>
                  </a:lnTo>
                  <a:lnTo>
                    <a:pt x="164" y="19"/>
                  </a:lnTo>
                  <a:lnTo>
                    <a:pt x="177" y="15"/>
                  </a:lnTo>
                  <a:lnTo>
                    <a:pt x="189" y="8"/>
                  </a:lnTo>
                  <a:lnTo>
                    <a:pt x="202" y="6"/>
                  </a:lnTo>
                  <a:lnTo>
                    <a:pt x="215" y="6"/>
                  </a:lnTo>
                  <a:lnTo>
                    <a:pt x="227" y="7"/>
                  </a:lnTo>
                  <a:lnTo>
                    <a:pt x="240" y="4"/>
                  </a:lnTo>
                  <a:lnTo>
                    <a:pt x="252" y="2"/>
                  </a:lnTo>
                  <a:lnTo>
                    <a:pt x="265" y="3"/>
                  </a:lnTo>
                  <a:lnTo>
                    <a:pt x="278" y="0"/>
                  </a:lnTo>
                </a:path>
              </a:pathLst>
            </a:custGeom>
            <a:solidFill>
              <a:srgbClr val="ffff99"/>
            </a:solidFill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82800" y="3022560"/>
              <a:ext cx="5816520" cy="1503360"/>
            </a:xfrm>
            <a:custGeom>
              <a:avLst/>
              <a:gdLst/>
              <a:ahLst/>
              <a:rect l="l" t="t" r="r" b="b"/>
              <a:pathLst>
                <a:path w="278" h="67">
                  <a:moveTo>
                    <a:pt x="0" y="65"/>
                  </a:moveTo>
                  <a:lnTo>
                    <a:pt x="13" y="65"/>
                  </a:lnTo>
                  <a:lnTo>
                    <a:pt x="26" y="67"/>
                  </a:lnTo>
                  <a:lnTo>
                    <a:pt x="38" y="67"/>
                  </a:lnTo>
                  <a:lnTo>
                    <a:pt x="51" y="66"/>
                  </a:lnTo>
                  <a:lnTo>
                    <a:pt x="63" y="66"/>
                  </a:lnTo>
                  <a:lnTo>
                    <a:pt x="76" y="63"/>
                  </a:lnTo>
                  <a:lnTo>
                    <a:pt x="89" y="58"/>
                  </a:lnTo>
                  <a:lnTo>
                    <a:pt x="101" y="52"/>
                  </a:lnTo>
                  <a:lnTo>
                    <a:pt x="114" y="49"/>
                  </a:lnTo>
                  <a:lnTo>
                    <a:pt x="126" y="43"/>
                  </a:lnTo>
                  <a:lnTo>
                    <a:pt x="139" y="42"/>
                  </a:lnTo>
                  <a:lnTo>
                    <a:pt x="152" y="38"/>
                  </a:lnTo>
                  <a:lnTo>
                    <a:pt x="164" y="38"/>
                  </a:lnTo>
                  <a:lnTo>
                    <a:pt x="177" y="31"/>
                  </a:lnTo>
                  <a:lnTo>
                    <a:pt x="189" y="18"/>
                  </a:lnTo>
                  <a:lnTo>
                    <a:pt x="202" y="15"/>
                  </a:lnTo>
                  <a:lnTo>
                    <a:pt x="215" y="12"/>
                  </a:lnTo>
                  <a:lnTo>
                    <a:pt x="227" y="13"/>
                  </a:lnTo>
                  <a:lnTo>
                    <a:pt x="240" y="10"/>
                  </a:lnTo>
                  <a:lnTo>
                    <a:pt x="252" y="0"/>
                  </a:lnTo>
                  <a:lnTo>
                    <a:pt x="265" y="4"/>
                  </a:lnTo>
                  <a:lnTo>
                    <a:pt x="278" y="0"/>
                  </a:lnTo>
                </a:path>
              </a:pathLst>
            </a:custGeom>
            <a:solidFill>
              <a:srgbClr val="ffff99"/>
            </a:solidFill>
            <a:ln w="414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24600" y="2282760"/>
              <a:ext cx="1800" cy="282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24600" y="510840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24600" y="481824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824600" y="450360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24600" y="421164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24600" y="389736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24600" y="360684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24600" y="329256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24600" y="300024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24600" y="268776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824600" y="239544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01120" y="4929120"/>
              <a:ext cx="14868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53520" y="4614840"/>
              <a:ext cx="29628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07360" y="430200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07360" y="398772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07360" y="367344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07360" y="335916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07360" y="304632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07360" y="273204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07360" y="241776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07360" y="210348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4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8900000">
              <a:off x="121680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8900000">
              <a:off x="176112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8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8900000">
              <a:off x="228348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84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8900000">
              <a:off x="280728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86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8900000">
              <a:off x="332964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8900000">
              <a:off x="385344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8900000">
              <a:off x="439668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8900000">
              <a:off x="492048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8900000">
              <a:off x="544284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8900000">
              <a:off x="596664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8900000">
              <a:off x="649044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8900000">
              <a:off x="703332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6600" y="6342120"/>
              <a:ext cx="4662720" cy="289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Fuente:  División de Estadística de la OMC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6200000">
              <a:off x="142920" y="3567600"/>
              <a:ext cx="13676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(1980=100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33760" y="4929120"/>
              <a:ext cx="14868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33400" y="463860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33400" y="43243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33400" y="403236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45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33400" y="371808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60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33400" y="342756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75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33400" y="31129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90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33400" y="2820960"/>
              <a:ext cx="7398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05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33400" y="2508120"/>
              <a:ext cx="7398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20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33400" y="2216160"/>
              <a:ext cx="7398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35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200000">
              <a:off x="7852680" y="3503880"/>
              <a:ext cx="2253240" cy="213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Miles de millones de dól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6760" y="1341360"/>
              <a:ext cx="544680" cy="1350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52080" y="1341360"/>
              <a:ext cx="1667880" cy="152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xportaciones de mercancí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01840" y="1341360"/>
              <a:ext cx="542880" cy="1350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27880" y="1341360"/>
              <a:ext cx="2216520" cy="152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xportaciones de servicios comerci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37080" y="1413000"/>
              <a:ext cx="565200" cy="1440"/>
            </a:xfrm>
            <a:prstGeom prst="line">
              <a:avLst/>
            </a:prstGeom>
            <a:ln w="41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64200" y="1341360"/>
              <a:ext cx="177012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recimiento en el sector de los </a:t>
              </a:r>
              <a:br>
                <a:rPr sz="1000"/>
              </a:b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ervicios (198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6760" y="1633680"/>
              <a:ext cx="565200" cy="14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55320" y="1565280"/>
              <a:ext cx="1114920" cy="152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recimiento del PI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01840" y="1633680"/>
              <a:ext cx="565200" cy="1440"/>
            </a:xfrm>
            <a:prstGeom prst="line">
              <a:avLst/>
            </a:prstGeom>
            <a:ln w="414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29320" y="1565280"/>
              <a:ext cx="2291400" cy="152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recimiento del comercio de mercancí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19E0-440B-48D3-9073-B5F01B239693}" type="slidenum">
              <a:t>11</a:t>
            </a:fld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egunda Razó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534160" cy="4035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itar barreras discriminatorias o restric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bilidad en las reglas del juego y certidumbre juríd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umentar la 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teger a los proveedores de servicios (en algunos casos inversionistas y sus invers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&gt; Aumentar los flujos del comercio de servicios  y de inver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1F70-61A9-4CB1-8D78-CCB5604ADFCF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19760" cy="9939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es Barrer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572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úmero de personas extranj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pos de Entidad 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ticipación Capital Extranj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ueba de Neces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4960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arantías financi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xigencia de Nacionalidad o Resi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quisitos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xigencia de Transferencia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863-9F3E-4542-8969-4425D95669AC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5045040"/>
            <a:ext cx="8547120" cy="3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0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6094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¿Qué se Negocia cuando se Negocia Servicio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755640" y="2205000"/>
          <a:ext cx="72723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205000"/>
                    <a:ext cx="72723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049C-3F4D-42E2-B0F6-D56A4DAAC7FD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611280" y="2349360"/>
          <a:ext cx="748980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49360"/>
                    <a:ext cx="74898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8F85-B4B2-4AA9-91B6-DE3B226636A6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838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alidades de Liberaliz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947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stas positivas (OMC, UE, EFTA,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740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sta negativa (EE.UU., MX, CA, Corea, C.A, P4, Ecuador, Colombia, Japón, Perú, 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3886200"/>
            <a:ext cx="1752480" cy="2133720"/>
          </a:xfrm>
          <a:prstGeom prst="upArrow">
            <a:avLst>
              <a:gd name="adj1" fmla="val 50000"/>
              <a:gd name="adj2" fmla="val 30439"/>
            </a:avLst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19920" y="4495680"/>
            <a:ext cx="1371600" cy="2362320"/>
          </a:xfrm>
          <a:prstGeom prst="downArrow">
            <a:avLst>
              <a:gd name="adj1" fmla="val 50000"/>
              <a:gd name="adj2" fmla="val 43058"/>
            </a:avLst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BE6C-0C88-4ADA-A4A7-8467F7C6ED1F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77564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 Lista Posi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657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gunos sectores están inclu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ificación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promisos en base a modos de pres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listan compromisos en: Acceso a Mercados y Trato Nacio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3FFD-8C2C-409A-AB81-C5D1B27AF071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122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mpromisos bajo lista posi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80880" y="1905120"/>
          <a:ext cx="8534520" cy="411480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2133360"/>
                <a:gridCol w="2133720"/>
              </a:tblGrid>
              <a:tr h="14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tor o subse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G Times"/>
                          <a:ea typeface="Times New Roman"/>
                        </a:rPr>
                        <a:t>Limitaciones al acceso a los mercado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G Times"/>
                          <a:ea typeface="Times New Roman"/>
                        </a:rPr>
                        <a:t>Limitaciones al trato nacional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G Times"/>
                          <a:ea typeface="Times New Roman"/>
                        </a:rPr>
                        <a:t>Compromisos adicionale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271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os los sect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6347-BA7F-4581-AD34-2855BA348E66}" type="slidenum">
              <a:t>19</a:t>
            </a:fld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5045760"/>
            <a:ext cx="854712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0" y="2765160"/>
            <a:ext cx="9144000" cy="6411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es un Servici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775640" cy="1152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 Lista Neg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os los sectores están incluidos (con posibilidad de exceptuar secto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 que importa es la “medida” (Ley, reglamento, norma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cripción de la limi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listan restricciones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to Nacion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ación Mas Favoreci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sencia Loc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Restricciones Cuantitativ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95CA-7D92-44EE-9956-D788B72EBF33}" type="slidenum">
              <a:t>20</a:t>
            </a:fld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Compromisos bajo lista negativ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476360" y="1413000"/>
            <a:ext cx="6130800" cy="5257800"/>
            <a:chOff x="1476360" y="1413000"/>
            <a:chExt cx="6130800" cy="5257800"/>
          </a:xfrm>
        </p:grpSpPr>
        <p:grpSp>
          <p:nvGrpSpPr>
            <p:cNvPr id="249" name=""/>
            <p:cNvGrpSpPr/>
            <p:nvPr/>
          </p:nvGrpSpPr>
          <p:grpSpPr>
            <a:xfrm>
              <a:off x="1481040" y="1415520"/>
              <a:ext cx="6121440" cy="5251320"/>
              <a:chOff x="1481040" y="1415520"/>
              <a:chExt cx="6121440" cy="525132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1481040" y="1415520"/>
                <a:ext cx="1917720" cy="592200"/>
                <a:chOff x="1481040" y="1415520"/>
                <a:chExt cx="1917720" cy="5922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1525320" y="1415520"/>
                  <a:ext cx="1828800" cy="59220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tor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481040" y="1415520"/>
                  <a:ext cx="1917720" cy="59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3398760" y="1415520"/>
                <a:ext cx="4203720" cy="592200"/>
                <a:chOff x="3398760" y="1415520"/>
                <a:chExt cx="4203720" cy="59220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3443040" y="1415520"/>
                  <a:ext cx="4114800" cy="59220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ios especializad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uardias de seguridad privados armad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398760" y="1415520"/>
                  <a:ext cx="4203720" cy="59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1481040" y="2007720"/>
                <a:ext cx="1917720" cy="480960"/>
                <a:chOff x="1481040" y="2007720"/>
                <a:chExt cx="1917720" cy="4809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1525320" y="2007720"/>
                  <a:ext cx="1828800" cy="48096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bligaciones afectadas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: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481040" y="2007720"/>
                  <a:ext cx="1917720" cy="48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3398760" y="2007720"/>
                <a:ext cx="4203720" cy="480960"/>
                <a:chOff x="3398760" y="2007720"/>
                <a:chExt cx="4203720" cy="48096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3443040" y="2007720"/>
                  <a:ext cx="4114800" cy="48096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o Nacional (Artículo 12.4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398760" y="2007720"/>
                  <a:ext cx="4203720" cy="48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1481040" y="2488680"/>
                <a:ext cx="1917720" cy="813960"/>
                <a:chOff x="1481040" y="2488680"/>
                <a:chExt cx="1917720" cy="81396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525320" y="2488680"/>
                  <a:ext cx="1828800" cy="81396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dida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481040" y="2488680"/>
                  <a:ext cx="1917720" cy="81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3398760" y="2488680"/>
                <a:ext cx="4203720" cy="813960"/>
                <a:chOff x="3398760" y="2488680"/>
                <a:chExt cx="4203720" cy="8139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443040" y="2488680"/>
                  <a:ext cx="4114800" cy="81396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y 17.773, del Ministerio de Interior, Diario Oficial, noviembre 14, 199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398760" y="2488680"/>
                  <a:ext cx="4203720" cy="81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1481040" y="3302640"/>
                <a:ext cx="1917720" cy="3364200"/>
                <a:chOff x="1481040" y="3302640"/>
                <a:chExt cx="1917720" cy="336420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1525320" y="3302640"/>
                  <a:ext cx="1828800" cy="336420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cripción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481040" y="3302640"/>
                  <a:ext cx="1917720" cy="336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3398760" y="3302640"/>
                <a:ext cx="4203720" cy="3364200"/>
                <a:chOff x="3398760" y="3302640"/>
                <a:chExt cx="4203720" cy="336420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443040" y="3302640"/>
                  <a:ext cx="4114800" cy="336420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Comercio transfronterizo de servici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o las personas naturales chilenas pueden prestar servicios como guardias de seguridad privados armad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398760" y="3302640"/>
                  <a:ext cx="4203720" cy="336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4" name=""/>
            <p:cNvSpPr/>
            <p:nvPr/>
          </p:nvSpPr>
          <p:spPr>
            <a:xfrm>
              <a:off x="1476360" y="1413000"/>
              <a:ext cx="6130800" cy="5257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99D-6617-4103-B3B0-59159998E818}" type="slidenum">
              <a:t>21</a:t>
            </a:fld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71280" y="1125360"/>
            <a:ext cx="7272360" cy="579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Chile y las Negociaciones de Servici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71640" y="2248560"/>
            <a:ext cx="7315200" cy="33469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ilateral o Regional (TLCs con Australia, Canadá, Corea, China, Centro América, Colombia, EU, EFTA, EE.UU., México, MERCOSUR, P4 y Per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ultilateral (OM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4B1-8F8E-4A7D-B1C4-3C75633912A8}" type="slidenum">
              <a:t>22</a:t>
            </a:fld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106 Grupo"/>
          <p:cNvGrpSpPr/>
          <p:nvPr/>
        </p:nvGrpSpPr>
        <p:grpSpPr>
          <a:xfrm>
            <a:off x="395280" y="1773360"/>
            <a:ext cx="8429760" cy="4643280"/>
            <a:chOff x="395280" y="1773360"/>
            <a:chExt cx="8429760" cy="4643280"/>
          </a:xfrm>
        </p:grpSpPr>
        <p:grpSp>
          <p:nvGrpSpPr>
            <p:cNvPr id="278" name="84 Grupo"/>
            <p:cNvGrpSpPr/>
            <p:nvPr/>
          </p:nvGrpSpPr>
          <p:grpSpPr>
            <a:xfrm>
              <a:off x="395280" y="1773360"/>
              <a:ext cx="8429760" cy="4643280"/>
              <a:chOff x="395280" y="1773360"/>
              <a:chExt cx="8429760" cy="4643280"/>
            </a:xfrm>
          </p:grpSpPr>
          <p:sp>
            <p:nvSpPr>
              <p:cNvPr id="279" name="123 Elipse"/>
              <p:cNvSpPr/>
              <p:nvPr/>
            </p:nvSpPr>
            <p:spPr>
              <a:xfrm>
                <a:off x="395280" y="1773360"/>
                <a:ext cx="8337960" cy="4643280"/>
              </a:xfrm>
              <a:prstGeom prst="ellipse">
                <a:avLst/>
              </a:prstGeom>
              <a:solidFill>
                <a:srgbClr val="dce6f2"/>
              </a:solidFill>
              <a:ln w="12600">
                <a:solidFill>
                  <a:srgbClr val="385d8a">
                    <a:alpha val="2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Text Box 67"/>
              <p:cNvSpPr/>
              <p:nvPr/>
            </p:nvSpPr>
            <p:spPr>
              <a:xfrm>
                <a:off x="7623360" y="1790640"/>
                <a:ext cx="1201680" cy="946440"/>
              </a:xfrm>
              <a:prstGeom prst="rect">
                <a:avLst/>
              </a:prstGeom>
              <a:noFill/>
              <a:ln w="0">
                <a:solidFill>
                  <a:srgbClr val="4bacc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Vigent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00"/>
                    </a:solidFill>
                    <a:latin typeface="Trebuchet MS"/>
                    <a:ea typeface="Arial"/>
                  </a:rPr>
                  <a:t>Suscrit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3300"/>
                    </a:solidFill>
                    <a:latin typeface="Trebuchet MS"/>
                    <a:ea typeface="Arial"/>
                  </a:rPr>
                  <a:t>En Negoci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1" name="122 Grupo"/>
              <p:cNvGrpSpPr/>
              <p:nvPr/>
            </p:nvGrpSpPr>
            <p:grpSpPr>
              <a:xfrm>
                <a:off x="448920" y="2522160"/>
                <a:ext cx="7666200" cy="3378240"/>
                <a:chOff x="448920" y="2522160"/>
                <a:chExt cx="7666200" cy="3378240"/>
              </a:xfrm>
            </p:grpSpPr>
            <p:sp>
              <p:nvSpPr>
                <p:cNvPr id="282" name="Rectangle 3"/>
                <p:cNvSpPr/>
                <p:nvPr/>
              </p:nvSpPr>
              <p:spPr>
                <a:xfrm>
                  <a:off x="1605960" y="2896560"/>
                  <a:ext cx="5497200" cy="257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11"/>
                <p:cNvSpPr/>
                <p:nvPr/>
              </p:nvSpPr>
              <p:spPr>
                <a:xfrm>
                  <a:off x="751320" y="3095640"/>
                  <a:ext cx="2825640" cy="699480"/>
                </a:xfrm>
                <a:custGeom>
                  <a:avLst/>
                  <a:gdLst>
                    <a:gd name="textAreaLeft" fmla="*/ 0 w 2825640"/>
                    <a:gd name="textAreaRight" fmla="*/ 2826000 w 2825640"/>
                    <a:gd name="textAreaTop" fmla="*/ 0 h 699480"/>
                    <a:gd name="textAreaBottom" fmla="*/ 699840 h 699480"/>
                  </a:gdLst>
                  <a:ahLst/>
                  <a:rect l="textAreaLeft" t="textAreaTop" r="textAreaRight" b="textAreaBottom"/>
                  <a:pathLst>
                    <a:path w="1981" h="528">
                      <a:moveTo>
                        <a:pt x="1464" y="528"/>
                      </a:moveTo>
                      <a:lnTo>
                        <a:pt x="1473" y="512"/>
                      </a:lnTo>
                      <a:lnTo>
                        <a:pt x="1482" y="491"/>
                      </a:lnTo>
                      <a:lnTo>
                        <a:pt x="1490" y="471"/>
                      </a:lnTo>
                      <a:lnTo>
                        <a:pt x="1496" y="459"/>
                      </a:lnTo>
                      <a:lnTo>
                        <a:pt x="1497" y="447"/>
                      </a:lnTo>
                      <a:lnTo>
                        <a:pt x="1493" y="432"/>
                      </a:lnTo>
                      <a:lnTo>
                        <a:pt x="1482" y="420"/>
                      </a:lnTo>
                      <a:lnTo>
                        <a:pt x="1464" y="415"/>
                      </a:lnTo>
                      <a:lnTo>
                        <a:pt x="1449" y="412"/>
                      </a:lnTo>
                      <a:lnTo>
                        <a:pt x="1447" y="403"/>
                      </a:lnTo>
                      <a:lnTo>
                        <a:pt x="1455" y="391"/>
                      </a:lnTo>
                      <a:lnTo>
                        <a:pt x="1469" y="376"/>
                      </a:lnTo>
                      <a:lnTo>
                        <a:pt x="1478" y="368"/>
                      </a:lnTo>
                      <a:lnTo>
                        <a:pt x="1488" y="359"/>
                      </a:lnTo>
                      <a:lnTo>
                        <a:pt x="1500" y="352"/>
                      </a:lnTo>
                      <a:lnTo>
                        <a:pt x="1512" y="344"/>
                      </a:lnTo>
                      <a:lnTo>
                        <a:pt x="1523" y="338"/>
                      </a:lnTo>
                      <a:lnTo>
                        <a:pt x="1534" y="334"/>
                      </a:lnTo>
                      <a:lnTo>
                        <a:pt x="1541" y="334"/>
                      </a:lnTo>
                      <a:lnTo>
                        <a:pt x="1544" y="335"/>
                      </a:lnTo>
                      <a:lnTo>
                        <a:pt x="1549" y="346"/>
                      </a:lnTo>
                      <a:lnTo>
                        <a:pt x="1556" y="355"/>
                      </a:lnTo>
                      <a:lnTo>
                        <a:pt x="1564" y="359"/>
                      </a:lnTo>
                      <a:lnTo>
                        <a:pt x="1571" y="356"/>
                      </a:lnTo>
                      <a:lnTo>
                        <a:pt x="1582" y="347"/>
                      </a:lnTo>
                      <a:lnTo>
                        <a:pt x="1596" y="341"/>
                      </a:lnTo>
                      <a:lnTo>
                        <a:pt x="1609" y="341"/>
                      </a:lnTo>
                      <a:lnTo>
                        <a:pt x="1615" y="347"/>
                      </a:lnTo>
                      <a:lnTo>
                        <a:pt x="1617" y="358"/>
                      </a:lnTo>
                      <a:lnTo>
                        <a:pt x="1621" y="365"/>
                      </a:lnTo>
                      <a:lnTo>
                        <a:pt x="1629" y="367"/>
                      </a:lnTo>
                      <a:lnTo>
                        <a:pt x="1639" y="359"/>
                      </a:lnTo>
                      <a:lnTo>
                        <a:pt x="1645" y="352"/>
                      </a:lnTo>
                      <a:lnTo>
                        <a:pt x="1653" y="343"/>
                      </a:lnTo>
                      <a:lnTo>
                        <a:pt x="1661" y="334"/>
                      </a:lnTo>
                      <a:lnTo>
                        <a:pt x="1670" y="325"/>
                      </a:lnTo>
                      <a:lnTo>
                        <a:pt x="1677" y="317"/>
                      </a:lnTo>
                      <a:lnTo>
                        <a:pt x="1685" y="313"/>
                      </a:lnTo>
                      <a:lnTo>
                        <a:pt x="1692" y="311"/>
                      </a:lnTo>
                      <a:lnTo>
                        <a:pt x="1698" y="316"/>
                      </a:lnTo>
                      <a:lnTo>
                        <a:pt x="1706" y="328"/>
                      </a:lnTo>
                      <a:lnTo>
                        <a:pt x="1706" y="335"/>
                      </a:lnTo>
                      <a:lnTo>
                        <a:pt x="1700" y="341"/>
                      </a:lnTo>
                      <a:lnTo>
                        <a:pt x="1691" y="352"/>
                      </a:lnTo>
                      <a:lnTo>
                        <a:pt x="1685" y="358"/>
                      </a:lnTo>
                      <a:lnTo>
                        <a:pt x="1677" y="364"/>
                      </a:lnTo>
                      <a:lnTo>
                        <a:pt x="1670" y="368"/>
                      </a:lnTo>
                      <a:lnTo>
                        <a:pt x="1662" y="373"/>
                      </a:lnTo>
                      <a:lnTo>
                        <a:pt x="1654" y="379"/>
                      </a:lnTo>
                      <a:lnTo>
                        <a:pt x="1648" y="383"/>
                      </a:lnTo>
                      <a:lnTo>
                        <a:pt x="1645" y="389"/>
                      </a:lnTo>
                      <a:lnTo>
                        <a:pt x="1647" y="396"/>
                      </a:lnTo>
                      <a:lnTo>
                        <a:pt x="1651" y="414"/>
                      </a:lnTo>
                      <a:lnTo>
                        <a:pt x="1654" y="436"/>
                      </a:lnTo>
                      <a:lnTo>
                        <a:pt x="1657" y="456"/>
                      </a:lnTo>
                      <a:lnTo>
                        <a:pt x="1667" y="466"/>
                      </a:lnTo>
                      <a:lnTo>
                        <a:pt x="1673" y="466"/>
                      </a:lnTo>
                      <a:lnTo>
                        <a:pt x="1680" y="463"/>
                      </a:lnTo>
                      <a:lnTo>
                        <a:pt x="1688" y="457"/>
                      </a:lnTo>
                      <a:lnTo>
                        <a:pt x="1697" y="451"/>
                      </a:lnTo>
                      <a:lnTo>
                        <a:pt x="1704" y="442"/>
                      </a:lnTo>
                      <a:lnTo>
                        <a:pt x="1710" y="435"/>
                      </a:lnTo>
                      <a:lnTo>
                        <a:pt x="1718" y="429"/>
                      </a:lnTo>
                      <a:lnTo>
                        <a:pt x="1722" y="423"/>
                      </a:lnTo>
                      <a:lnTo>
                        <a:pt x="1730" y="412"/>
                      </a:lnTo>
                      <a:lnTo>
                        <a:pt x="1738" y="397"/>
                      </a:lnTo>
                      <a:lnTo>
                        <a:pt x="1741" y="383"/>
                      </a:lnTo>
                      <a:lnTo>
                        <a:pt x="1742" y="371"/>
                      </a:lnTo>
                      <a:lnTo>
                        <a:pt x="1745" y="362"/>
                      </a:lnTo>
                      <a:lnTo>
                        <a:pt x="1751" y="353"/>
                      </a:lnTo>
                      <a:lnTo>
                        <a:pt x="1765" y="346"/>
                      </a:lnTo>
                      <a:lnTo>
                        <a:pt x="1783" y="340"/>
                      </a:lnTo>
                      <a:lnTo>
                        <a:pt x="1795" y="337"/>
                      </a:lnTo>
                      <a:lnTo>
                        <a:pt x="1809" y="334"/>
                      </a:lnTo>
                      <a:lnTo>
                        <a:pt x="1824" y="329"/>
                      </a:lnTo>
                      <a:lnTo>
                        <a:pt x="1837" y="325"/>
                      </a:lnTo>
                      <a:lnTo>
                        <a:pt x="1852" y="320"/>
                      </a:lnTo>
                      <a:lnTo>
                        <a:pt x="1865" y="316"/>
                      </a:lnTo>
                      <a:lnTo>
                        <a:pt x="1874" y="309"/>
                      </a:lnTo>
                      <a:lnTo>
                        <a:pt x="1878" y="303"/>
                      </a:lnTo>
                      <a:lnTo>
                        <a:pt x="1886" y="291"/>
                      </a:lnTo>
                      <a:lnTo>
                        <a:pt x="1896" y="278"/>
                      </a:lnTo>
                      <a:lnTo>
                        <a:pt x="1905" y="269"/>
                      </a:lnTo>
                      <a:lnTo>
                        <a:pt x="1910" y="264"/>
                      </a:lnTo>
                      <a:lnTo>
                        <a:pt x="1958" y="300"/>
                      </a:lnTo>
                      <a:lnTo>
                        <a:pt x="1964" y="282"/>
                      </a:lnTo>
                      <a:lnTo>
                        <a:pt x="1973" y="260"/>
                      </a:lnTo>
                      <a:lnTo>
                        <a:pt x="1981" y="237"/>
                      </a:lnTo>
                      <a:lnTo>
                        <a:pt x="1978" y="225"/>
                      </a:lnTo>
                      <a:lnTo>
                        <a:pt x="1972" y="222"/>
                      </a:lnTo>
                      <a:lnTo>
                        <a:pt x="1966" y="222"/>
                      </a:lnTo>
                      <a:lnTo>
                        <a:pt x="1957" y="222"/>
                      </a:lnTo>
                      <a:lnTo>
                        <a:pt x="1949" y="223"/>
                      </a:lnTo>
                      <a:lnTo>
                        <a:pt x="1942" y="225"/>
                      </a:lnTo>
                      <a:lnTo>
                        <a:pt x="1936" y="226"/>
                      </a:lnTo>
                      <a:lnTo>
                        <a:pt x="1931" y="228"/>
                      </a:lnTo>
                      <a:lnTo>
                        <a:pt x="1930" y="228"/>
                      </a:lnTo>
                      <a:lnTo>
                        <a:pt x="1925" y="228"/>
                      </a:lnTo>
                      <a:lnTo>
                        <a:pt x="1914" y="225"/>
                      </a:lnTo>
                      <a:lnTo>
                        <a:pt x="1901" y="219"/>
                      </a:lnTo>
                      <a:lnTo>
                        <a:pt x="1890" y="208"/>
                      </a:lnTo>
                      <a:lnTo>
                        <a:pt x="1884" y="202"/>
                      </a:lnTo>
                      <a:lnTo>
                        <a:pt x="1875" y="196"/>
                      </a:lnTo>
                      <a:lnTo>
                        <a:pt x="1865" y="190"/>
                      </a:lnTo>
                      <a:lnTo>
                        <a:pt x="1852" y="184"/>
                      </a:lnTo>
                      <a:lnTo>
                        <a:pt x="1842" y="181"/>
                      </a:lnTo>
                      <a:lnTo>
                        <a:pt x="1831" y="180"/>
                      </a:lnTo>
                      <a:lnTo>
                        <a:pt x="1822" y="180"/>
                      </a:lnTo>
                      <a:lnTo>
                        <a:pt x="1818" y="184"/>
                      </a:lnTo>
                      <a:lnTo>
                        <a:pt x="1813" y="190"/>
                      </a:lnTo>
                      <a:lnTo>
                        <a:pt x="1804" y="193"/>
                      </a:lnTo>
                      <a:lnTo>
                        <a:pt x="1792" y="196"/>
                      </a:lnTo>
                      <a:lnTo>
                        <a:pt x="1778" y="196"/>
                      </a:lnTo>
                      <a:lnTo>
                        <a:pt x="1762" y="196"/>
                      </a:lnTo>
                      <a:lnTo>
                        <a:pt x="1745" y="193"/>
                      </a:lnTo>
                      <a:lnTo>
                        <a:pt x="1727" y="190"/>
                      </a:lnTo>
                      <a:lnTo>
                        <a:pt x="1710" y="184"/>
                      </a:lnTo>
                      <a:lnTo>
                        <a:pt x="1692" y="177"/>
                      </a:lnTo>
                      <a:lnTo>
                        <a:pt x="1673" y="168"/>
                      </a:lnTo>
                      <a:lnTo>
                        <a:pt x="1651" y="157"/>
                      </a:lnTo>
                      <a:lnTo>
                        <a:pt x="1632" y="148"/>
                      </a:lnTo>
                      <a:lnTo>
                        <a:pt x="1611" y="137"/>
                      </a:lnTo>
                      <a:lnTo>
                        <a:pt x="1594" y="130"/>
                      </a:lnTo>
                      <a:lnTo>
                        <a:pt x="1577" y="125"/>
                      </a:lnTo>
                      <a:lnTo>
                        <a:pt x="1567" y="125"/>
                      </a:lnTo>
                      <a:lnTo>
                        <a:pt x="1559" y="125"/>
                      </a:lnTo>
                      <a:lnTo>
                        <a:pt x="1555" y="121"/>
                      </a:lnTo>
                      <a:lnTo>
                        <a:pt x="1550" y="116"/>
                      </a:lnTo>
                      <a:lnTo>
                        <a:pt x="1546" y="110"/>
                      </a:lnTo>
                      <a:lnTo>
                        <a:pt x="1541" y="106"/>
                      </a:lnTo>
                      <a:lnTo>
                        <a:pt x="1535" y="103"/>
                      </a:lnTo>
                      <a:lnTo>
                        <a:pt x="1528" y="101"/>
                      </a:lnTo>
                      <a:lnTo>
                        <a:pt x="1515" y="106"/>
                      </a:lnTo>
                      <a:lnTo>
                        <a:pt x="1502" y="112"/>
                      </a:lnTo>
                      <a:lnTo>
                        <a:pt x="1487" y="119"/>
                      </a:lnTo>
                      <a:lnTo>
                        <a:pt x="1472" y="127"/>
                      </a:lnTo>
                      <a:lnTo>
                        <a:pt x="1455" y="133"/>
                      </a:lnTo>
                      <a:lnTo>
                        <a:pt x="1438" y="137"/>
                      </a:lnTo>
                      <a:lnTo>
                        <a:pt x="1420" y="139"/>
                      </a:lnTo>
                      <a:lnTo>
                        <a:pt x="1401" y="137"/>
                      </a:lnTo>
                      <a:lnTo>
                        <a:pt x="1381" y="133"/>
                      </a:lnTo>
                      <a:lnTo>
                        <a:pt x="1360" y="125"/>
                      </a:lnTo>
                      <a:lnTo>
                        <a:pt x="1339" y="118"/>
                      </a:lnTo>
                      <a:lnTo>
                        <a:pt x="1316" y="112"/>
                      </a:lnTo>
                      <a:lnTo>
                        <a:pt x="1296" y="106"/>
                      </a:lnTo>
                      <a:lnTo>
                        <a:pt x="1275" y="101"/>
                      </a:lnTo>
                      <a:lnTo>
                        <a:pt x="1257" y="98"/>
                      </a:lnTo>
                      <a:lnTo>
                        <a:pt x="1242" y="98"/>
                      </a:lnTo>
                      <a:lnTo>
                        <a:pt x="1228" y="101"/>
                      </a:lnTo>
                      <a:lnTo>
                        <a:pt x="1216" y="106"/>
                      </a:lnTo>
                      <a:lnTo>
                        <a:pt x="1201" y="109"/>
                      </a:lnTo>
                      <a:lnTo>
                        <a:pt x="1187" y="112"/>
                      </a:lnTo>
                      <a:lnTo>
                        <a:pt x="1172" y="113"/>
                      </a:lnTo>
                      <a:lnTo>
                        <a:pt x="1159" y="116"/>
                      </a:lnTo>
                      <a:lnTo>
                        <a:pt x="1148" y="116"/>
                      </a:lnTo>
                      <a:lnTo>
                        <a:pt x="1142" y="118"/>
                      </a:lnTo>
                      <a:lnTo>
                        <a:pt x="1139" y="118"/>
                      </a:lnTo>
                      <a:lnTo>
                        <a:pt x="1151" y="104"/>
                      </a:lnTo>
                      <a:lnTo>
                        <a:pt x="1154" y="89"/>
                      </a:lnTo>
                      <a:lnTo>
                        <a:pt x="1153" y="78"/>
                      </a:lnTo>
                      <a:lnTo>
                        <a:pt x="1151" y="74"/>
                      </a:lnTo>
                      <a:lnTo>
                        <a:pt x="1186" y="62"/>
                      </a:lnTo>
                      <a:lnTo>
                        <a:pt x="1171" y="51"/>
                      </a:lnTo>
                      <a:lnTo>
                        <a:pt x="1157" y="41"/>
                      </a:lnTo>
                      <a:lnTo>
                        <a:pt x="1144" y="29"/>
                      </a:lnTo>
                      <a:lnTo>
                        <a:pt x="1132" y="18"/>
                      </a:lnTo>
                      <a:lnTo>
                        <a:pt x="1119" y="9"/>
                      </a:lnTo>
                      <a:lnTo>
                        <a:pt x="1109" y="3"/>
                      </a:lnTo>
                      <a:lnTo>
                        <a:pt x="1098" y="0"/>
                      </a:lnTo>
                      <a:lnTo>
                        <a:pt x="1091" y="2"/>
                      </a:lnTo>
                      <a:lnTo>
                        <a:pt x="1083" y="6"/>
                      </a:lnTo>
                      <a:lnTo>
                        <a:pt x="1076" y="12"/>
                      </a:lnTo>
                      <a:lnTo>
                        <a:pt x="1068" y="18"/>
                      </a:lnTo>
                      <a:lnTo>
                        <a:pt x="1062" y="26"/>
                      </a:lnTo>
                      <a:lnTo>
                        <a:pt x="1054" y="32"/>
                      </a:lnTo>
                      <a:lnTo>
                        <a:pt x="1048" y="36"/>
                      </a:lnTo>
                      <a:lnTo>
                        <a:pt x="1041" y="42"/>
                      </a:lnTo>
                      <a:lnTo>
                        <a:pt x="1035" y="45"/>
                      </a:lnTo>
                      <a:lnTo>
                        <a:pt x="1026" y="44"/>
                      </a:lnTo>
                      <a:lnTo>
                        <a:pt x="1017" y="36"/>
                      </a:lnTo>
                      <a:lnTo>
                        <a:pt x="1006" y="30"/>
                      </a:lnTo>
                      <a:lnTo>
                        <a:pt x="991" y="33"/>
                      </a:lnTo>
                      <a:lnTo>
                        <a:pt x="982" y="39"/>
                      </a:lnTo>
                      <a:lnTo>
                        <a:pt x="971" y="47"/>
                      </a:lnTo>
                      <a:lnTo>
                        <a:pt x="961" y="53"/>
                      </a:lnTo>
                      <a:lnTo>
                        <a:pt x="950" y="60"/>
                      </a:lnTo>
                      <a:lnTo>
                        <a:pt x="938" y="66"/>
                      </a:lnTo>
                      <a:lnTo>
                        <a:pt x="928" y="71"/>
                      </a:lnTo>
                      <a:lnTo>
                        <a:pt x="915" y="75"/>
                      </a:lnTo>
                      <a:lnTo>
                        <a:pt x="903" y="77"/>
                      </a:lnTo>
                      <a:lnTo>
                        <a:pt x="893" y="80"/>
                      </a:lnTo>
                      <a:lnTo>
                        <a:pt x="884" y="88"/>
                      </a:lnTo>
                      <a:lnTo>
                        <a:pt x="876" y="97"/>
                      </a:lnTo>
                      <a:lnTo>
                        <a:pt x="869" y="106"/>
                      </a:lnTo>
                      <a:lnTo>
                        <a:pt x="863" y="118"/>
                      </a:lnTo>
                      <a:lnTo>
                        <a:pt x="855" y="128"/>
                      </a:lnTo>
                      <a:lnTo>
                        <a:pt x="849" y="137"/>
                      </a:lnTo>
                      <a:lnTo>
                        <a:pt x="840" y="145"/>
                      </a:lnTo>
                      <a:lnTo>
                        <a:pt x="835" y="146"/>
                      </a:lnTo>
                      <a:lnTo>
                        <a:pt x="828" y="148"/>
                      </a:lnTo>
                      <a:lnTo>
                        <a:pt x="820" y="146"/>
                      </a:lnTo>
                      <a:lnTo>
                        <a:pt x="813" y="145"/>
                      </a:lnTo>
                      <a:lnTo>
                        <a:pt x="804" y="143"/>
                      </a:lnTo>
                      <a:lnTo>
                        <a:pt x="795" y="140"/>
                      </a:lnTo>
                      <a:lnTo>
                        <a:pt x="785" y="139"/>
                      </a:lnTo>
                      <a:lnTo>
                        <a:pt x="776" y="137"/>
                      </a:lnTo>
                      <a:lnTo>
                        <a:pt x="766" y="136"/>
                      </a:lnTo>
                      <a:lnTo>
                        <a:pt x="754" y="137"/>
                      </a:lnTo>
                      <a:lnTo>
                        <a:pt x="740" y="139"/>
                      </a:lnTo>
                      <a:lnTo>
                        <a:pt x="726" y="142"/>
                      </a:lnTo>
                      <a:lnTo>
                        <a:pt x="714" y="148"/>
                      </a:lnTo>
                      <a:lnTo>
                        <a:pt x="704" y="154"/>
                      </a:lnTo>
                      <a:lnTo>
                        <a:pt x="696" y="160"/>
                      </a:lnTo>
                      <a:lnTo>
                        <a:pt x="693" y="169"/>
                      </a:lnTo>
                      <a:lnTo>
                        <a:pt x="690" y="177"/>
                      </a:lnTo>
                      <a:lnTo>
                        <a:pt x="683" y="184"/>
                      </a:lnTo>
                      <a:lnTo>
                        <a:pt x="672" y="190"/>
                      </a:lnTo>
                      <a:lnTo>
                        <a:pt x="662" y="193"/>
                      </a:lnTo>
                      <a:lnTo>
                        <a:pt x="649" y="198"/>
                      </a:lnTo>
                      <a:lnTo>
                        <a:pt x="637" y="199"/>
                      </a:lnTo>
                      <a:lnTo>
                        <a:pt x="627" y="201"/>
                      </a:lnTo>
                      <a:lnTo>
                        <a:pt x="618" y="201"/>
                      </a:lnTo>
                      <a:lnTo>
                        <a:pt x="607" y="201"/>
                      </a:lnTo>
                      <a:lnTo>
                        <a:pt x="595" y="199"/>
                      </a:lnTo>
                      <a:lnTo>
                        <a:pt x="580" y="198"/>
                      </a:lnTo>
                      <a:lnTo>
                        <a:pt x="565" y="196"/>
                      </a:lnTo>
                      <a:lnTo>
                        <a:pt x="550" y="196"/>
                      </a:lnTo>
                      <a:lnTo>
                        <a:pt x="538" y="198"/>
                      </a:lnTo>
                      <a:lnTo>
                        <a:pt x="527" y="201"/>
                      </a:lnTo>
                      <a:lnTo>
                        <a:pt x="521" y="205"/>
                      </a:lnTo>
                      <a:lnTo>
                        <a:pt x="512" y="219"/>
                      </a:lnTo>
                      <a:lnTo>
                        <a:pt x="501" y="232"/>
                      </a:lnTo>
                      <a:lnTo>
                        <a:pt x="491" y="245"/>
                      </a:lnTo>
                      <a:lnTo>
                        <a:pt x="486" y="249"/>
                      </a:lnTo>
                      <a:lnTo>
                        <a:pt x="442" y="245"/>
                      </a:lnTo>
                      <a:lnTo>
                        <a:pt x="439" y="246"/>
                      </a:lnTo>
                      <a:lnTo>
                        <a:pt x="433" y="248"/>
                      </a:lnTo>
                      <a:lnTo>
                        <a:pt x="426" y="251"/>
                      </a:lnTo>
                      <a:lnTo>
                        <a:pt x="417" y="252"/>
                      </a:lnTo>
                      <a:lnTo>
                        <a:pt x="409" y="254"/>
                      </a:lnTo>
                      <a:lnTo>
                        <a:pt x="403" y="255"/>
                      </a:lnTo>
                      <a:lnTo>
                        <a:pt x="402" y="254"/>
                      </a:lnTo>
                      <a:lnTo>
                        <a:pt x="406" y="249"/>
                      </a:lnTo>
                      <a:lnTo>
                        <a:pt x="414" y="234"/>
                      </a:lnTo>
                      <a:lnTo>
                        <a:pt x="412" y="216"/>
                      </a:lnTo>
                      <a:lnTo>
                        <a:pt x="402" y="201"/>
                      </a:lnTo>
                      <a:lnTo>
                        <a:pt x="389" y="196"/>
                      </a:lnTo>
                      <a:lnTo>
                        <a:pt x="382" y="198"/>
                      </a:lnTo>
                      <a:lnTo>
                        <a:pt x="371" y="199"/>
                      </a:lnTo>
                      <a:lnTo>
                        <a:pt x="361" y="201"/>
                      </a:lnTo>
                      <a:lnTo>
                        <a:pt x="349" y="201"/>
                      </a:lnTo>
                      <a:lnTo>
                        <a:pt x="337" y="199"/>
                      </a:lnTo>
                      <a:lnTo>
                        <a:pt x="327" y="198"/>
                      </a:lnTo>
                      <a:lnTo>
                        <a:pt x="321" y="193"/>
                      </a:lnTo>
                      <a:lnTo>
                        <a:pt x="318" y="189"/>
                      </a:lnTo>
                      <a:lnTo>
                        <a:pt x="315" y="172"/>
                      </a:lnTo>
                      <a:lnTo>
                        <a:pt x="308" y="149"/>
                      </a:lnTo>
                      <a:lnTo>
                        <a:pt x="296" y="130"/>
                      </a:lnTo>
                      <a:lnTo>
                        <a:pt x="282" y="118"/>
                      </a:lnTo>
                      <a:lnTo>
                        <a:pt x="273" y="116"/>
                      </a:lnTo>
                      <a:lnTo>
                        <a:pt x="263" y="119"/>
                      </a:lnTo>
                      <a:lnTo>
                        <a:pt x="250" y="125"/>
                      </a:lnTo>
                      <a:lnTo>
                        <a:pt x="237" y="133"/>
                      </a:lnTo>
                      <a:lnTo>
                        <a:pt x="223" y="142"/>
                      </a:lnTo>
                      <a:lnTo>
                        <a:pt x="208" y="152"/>
                      </a:lnTo>
                      <a:lnTo>
                        <a:pt x="194" y="163"/>
                      </a:lnTo>
                      <a:lnTo>
                        <a:pt x="182" y="172"/>
                      </a:lnTo>
                      <a:lnTo>
                        <a:pt x="169" y="183"/>
                      </a:lnTo>
                      <a:lnTo>
                        <a:pt x="155" y="195"/>
                      </a:lnTo>
                      <a:lnTo>
                        <a:pt x="140" y="208"/>
                      </a:lnTo>
                      <a:lnTo>
                        <a:pt x="125" y="222"/>
                      </a:lnTo>
                      <a:lnTo>
                        <a:pt x="110" y="236"/>
                      </a:lnTo>
                      <a:lnTo>
                        <a:pt x="96" y="246"/>
                      </a:lnTo>
                      <a:lnTo>
                        <a:pt x="84" y="257"/>
                      </a:lnTo>
                      <a:lnTo>
                        <a:pt x="75" y="264"/>
                      </a:lnTo>
                      <a:lnTo>
                        <a:pt x="63" y="278"/>
                      </a:lnTo>
                      <a:lnTo>
                        <a:pt x="55" y="291"/>
                      </a:lnTo>
                      <a:lnTo>
                        <a:pt x="54" y="308"/>
                      </a:lnTo>
                      <a:lnTo>
                        <a:pt x="60" y="325"/>
                      </a:lnTo>
                      <a:lnTo>
                        <a:pt x="69" y="344"/>
                      </a:lnTo>
                      <a:lnTo>
                        <a:pt x="78" y="365"/>
                      </a:lnTo>
                      <a:lnTo>
                        <a:pt x="87" y="382"/>
                      </a:lnTo>
                      <a:lnTo>
                        <a:pt x="99" y="388"/>
                      </a:lnTo>
                      <a:lnTo>
                        <a:pt x="107" y="388"/>
                      </a:lnTo>
                      <a:lnTo>
                        <a:pt x="116" y="386"/>
                      </a:lnTo>
                      <a:lnTo>
                        <a:pt x="125" y="385"/>
                      </a:lnTo>
                      <a:lnTo>
                        <a:pt x="134" y="382"/>
                      </a:lnTo>
                      <a:lnTo>
                        <a:pt x="143" y="377"/>
                      </a:lnTo>
                      <a:lnTo>
                        <a:pt x="152" y="374"/>
                      </a:lnTo>
                      <a:lnTo>
                        <a:pt x="158" y="370"/>
                      </a:lnTo>
                      <a:lnTo>
                        <a:pt x="163" y="364"/>
                      </a:lnTo>
                      <a:lnTo>
                        <a:pt x="170" y="352"/>
                      </a:lnTo>
                      <a:lnTo>
                        <a:pt x="181" y="340"/>
                      </a:lnTo>
                      <a:lnTo>
                        <a:pt x="187" y="328"/>
                      </a:lnTo>
                      <a:lnTo>
                        <a:pt x="187" y="313"/>
                      </a:lnTo>
                      <a:lnTo>
                        <a:pt x="181" y="296"/>
                      </a:lnTo>
                      <a:lnTo>
                        <a:pt x="178" y="281"/>
                      </a:lnTo>
                      <a:lnTo>
                        <a:pt x="179" y="269"/>
                      </a:lnTo>
                      <a:lnTo>
                        <a:pt x="187" y="257"/>
                      </a:lnTo>
                      <a:lnTo>
                        <a:pt x="194" y="251"/>
                      </a:lnTo>
                      <a:lnTo>
                        <a:pt x="202" y="245"/>
                      </a:lnTo>
                      <a:lnTo>
                        <a:pt x="211" y="239"/>
                      </a:lnTo>
                      <a:lnTo>
                        <a:pt x="219" y="232"/>
                      </a:lnTo>
                      <a:lnTo>
                        <a:pt x="226" y="228"/>
                      </a:lnTo>
                      <a:lnTo>
                        <a:pt x="232" y="223"/>
                      </a:lnTo>
                      <a:lnTo>
                        <a:pt x="237" y="222"/>
                      </a:lnTo>
                      <a:lnTo>
                        <a:pt x="238" y="220"/>
                      </a:lnTo>
                      <a:lnTo>
                        <a:pt x="240" y="220"/>
                      </a:lnTo>
                      <a:lnTo>
                        <a:pt x="244" y="222"/>
                      </a:lnTo>
                      <a:lnTo>
                        <a:pt x="249" y="228"/>
                      </a:lnTo>
                      <a:lnTo>
                        <a:pt x="250" y="237"/>
                      </a:lnTo>
                      <a:lnTo>
                        <a:pt x="249" y="245"/>
                      </a:lnTo>
                      <a:lnTo>
                        <a:pt x="243" y="248"/>
                      </a:lnTo>
                      <a:lnTo>
                        <a:pt x="234" y="252"/>
                      </a:lnTo>
                      <a:lnTo>
                        <a:pt x="223" y="260"/>
                      </a:lnTo>
                      <a:lnTo>
                        <a:pt x="214" y="275"/>
                      </a:lnTo>
                      <a:lnTo>
                        <a:pt x="214" y="293"/>
                      </a:lnTo>
                      <a:lnTo>
                        <a:pt x="222" y="308"/>
                      </a:lnTo>
                      <a:lnTo>
                        <a:pt x="238" y="313"/>
                      </a:lnTo>
                      <a:lnTo>
                        <a:pt x="250" y="309"/>
                      </a:lnTo>
                      <a:lnTo>
                        <a:pt x="263" y="305"/>
                      </a:lnTo>
                      <a:lnTo>
                        <a:pt x="275" y="300"/>
                      </a:lnTo>
                      <a:lnTo>
                        <a:pt x="287" y="296"/>
                      </a:lnTo>
                      <a:lnTo>
                        <a:pt x="299" y="290"/>
                      </a:lnTo>
                      <a:lnTo>
                        <a:pt x="309" y="287"/>
                      </a:lnTo>
                      <a:lnTo>
                        <a:pt x="317" y="284"/>
                      </a:lnTo>
                      <a:lnTo>
                        <a:pt x="323" y="284"/>
                      </a:lnTo>
                      <a:lnTo>
                        <a:pt x="332" y="291"/>
                      </a:lnTo>
                      <a:lnTo>
                        <a:pt x="341" y="305"/>
                      </a:lnTo>
                      <a:lnTo>
                        <a:pt x="349" y="319"/>
                      </a:lnTo>
                      <a:lnTo>
                        <a:pt x="355" y="328"/>
                      </a:lnTo>
                      <a:lnTo>
                        <a:pt x="346" y="329"/>
                      </a:lnTo>
                      <a:lnTo>
                        <a:pt x="337" y="331"/>
                      </a:lnTo>
                      <a:lnTo>
                        <a:pt x="329" y="335"/>
                      </a:lnTo>
                      <a:lnTo>
                        <a:pt x="321" y="340"/>
                      </a:lnTo>
                      <a:lnTo>
                        <a:pt x="315" y="344"/>
                      </a:lnTo>
                      <a:lnTo>
                        <a:pt x="311" y="347"/>
                      </a:lnTo>
                      <a:lnTo>
                        <a:pt x="308" y="350"/>
                      </a:lnTo>
                      <a:lnTo>
                        <a:pt x="306" y="352"/>
                      </a:lnTo>
                      <a:lnTo>
                        <a:pt x="303" y="352"/>
                      </a:lnTo>
                      <a:lnTo>
                        <a:pt x="296" y="350"/>
                      </a:lnTo>
                      <a:lnTo>
                        <a:pt x="284" y="349"/>
                      </a:lnTo>
                      <a:lnTo>
                        <a:pt x="272" y="347"/>
                      </a:lnTo>
                      <a:lnTo>
                        <a:pt x="258" y="347"/>
                      </a:lnTo>
                      <a:lnTo>
                        <a:pt x="246" y="349"/>
                      </a:lnTo>
                      <a:lnTo>
                        <a:pt x="238" y="352"/>
                      </a:lnTo>
                      <a:lnTo>
                        <a:pt x="235" y="356"/>
                      </a:lnTo>
                      <a:lnTo>
                        <a:pt x="232" y="373"/>
                      </a:lnTo>
                      <a:lnTo>
                        <a:pt x="226" y="393"/>
                      </a:lnTo>
                      <a:lnTo>
                        <a:pt x="213" y="409"/>
                      </a:lnTo>
                      <a:lnTo>
                        <a:pt x="194" y="412"/>
                      </a:lnTo>
                      <a:lnTo>
                        <a:pt x="182" y="409"/>
                      </a:lnTo>
                      <a:lnTo>
                        <a:pt x="166" y="408"/>
                      </a:lnTo>
                      <a:lnTo>
                        <a:pt x="148" y="409"/>
                      </a:lnTo>
                      <a:lnTo>
                        <a:pt x="128" y="411"/>
                      </a:lnTo>
                      <a:lnTo>
                        <a:pt x="110" y="414"/>
                      </a:lnTo>
                      <a:lnTo>
                        <a:pt x="92" y="420"/>
                      </a:lnTo>
                      <a:lnTo>
                        <a:pt x="78" y="429"/>
                      </a:lnTo>
                      <a:lnTo>
                        <a:pt x="68" y="439"/>
                      </a:lnTo>
                      <a:lnTo>
                        <a:pt x="60" y="450"/>
                      </a:lnTo>
                      <a:lnTo>
                        <a:pt x="52" y="459"/>
                      </a:lnTo>
                      <a:lnTo>
                        <a:pt x="46" y="466"/>
                      </a:lnTo>
                      <a:lnTo>
                        <a:pt x="39" y="474"/>
                      </a:lnTo>
                      <a:lnTo>
                        <a:pt x="33" y="480"/>
                      </a:lnTo>
                      <a:lnTo>
                        <a:pt x="27" y="486"/>
                      </a:lnTo>
                      <a:lnTo>
                        <a:pt x="21" y="492"/>
                      </a:lnTo>
                      <a:lnTo>
                        <a:pt x="16" y="500"/>
                      </a:lnTo>
                      <a:lnTo>
                        <a:pt x="12" y="507"/>
                      </a:lnTo>
                      <a:lnTo>
                        <a:pt x="7" y="513"/>
                      </a:lnTo>
                      <a:lnTo>
                        <a:pt x="3" y="521"/>
                      </a:lnTo>
                      <a:lnTo>
                        <a:pt x="0" y="528"/>
                      </a:lnTo>
                      <a:lnTo>
                        <a:pt x="1464" y="528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12"/>
                <p:cNvSpPr/>
                <p:nvPr/>
              </p:nvSpPr>
              <p:spPr>
                <a:xfrm>
                  <a:off x="608400" y="3795480"/>
                  <a:ext cx="2230920" cy="698400"/>
                </a:xfrm>
                <a:custGeom>
                  <a:avLst/>
                  <a:gdLst>
                    <a:gd name="textAreaLeft" fmla="*/ 0 w 2230920"/>
                    <a:gd name="textAreaRight" fmla="*/ 2231280 w 2230920"/>
                    <a:gd name="textAreaTop" fmla="*/ 0 h 698400"/>
                    <a:gd name="textAreaBottom" fmla="*/ 698760 h 698400"/>
                  </a:gdLst>
                  <a:ahLst/>
                  <a:rect l="textAreaLeft" t="textAreaTop" r="textAreaRight" b="textAreaBottom"/>
                  <a:pathLst>
                    <a:path w="1564" h="527">
                      <a:moveTo>
                        <a:pt x="100" y="0"/>
                      </a:moveTo>
                      <a:lnTo>
                        <a:pt x="95" y="9"/>
                      </a:lnTo>
                      <a:lnTo>
                        <a:pt x="90" y="17"/>
                      </a:lnTo>
                      <a:lnTo>
                        <a:pt x="87" y="23"/>
                      </a:lnTo>
                      <a:lnTo>
                        <a:pt x="84" y="26"/>
                      </a:lnTo>
                      <a:lnTo>
                        <a:pt x="77" y="31"/>
                      </a:lnTo>
                      <a:lnTo>
                        <a:pt x="68" y="31"/>
                      </a:lnTo>
                      <a:lnTo>
                        <a:pt x="57" y="31"/>
                      </a:lnTo>
                      <a:lnTo>
                        <a:pt x="47" y="28"/>
                      </a:lnTo>
                      <a:lnTo>
                        <a:pt x="36" y="25"/>
                      </a:lnTo>
                      <a:lnTo>
                        <a:pt x="27" y="22"/>
                      </a:lnTo>
                      <a:lnTo>
                        <a:pt x="21" y="20"/>
                      </a:lnTo>
                      <a:lnTo>
                        <a:pt x="19" y="19"/>
                      </a:lnTo>
                      <a:lnTo>
                        <a:pt x="16" y="22"/>
                      </a:lnTo>
                      <a:lnTo>
                        <a:pt x="10" y="31"/>
                      </a:lnTo>
                      <a:lnTo>
                        <a:pt x="3" y="43"/>
                      </a:lnTo>
                      <a:lnTo>
                        <a:pt x="0" y="55"/>
                      </a:lnTo>
                      <a:lnTo>
                        <a:pt x="3" y="70"/>
                      </a:lnTo>
                      <a:lnTo>
                        <a:pt x="9" y="89"/>
                      </a:lnTo>
                      <a:lnTo>
                        <a:pt x="16" y="108"/>
                      </a:lnTo>
                      <a:lnTo>
                        <a:pt x="24" y="118"/>
                      </a:lnTo>
                      <a:lnTo>
                        <a:pt x="28" y="121"/>
                      </a:lnTo>
                      <a:lnTo>
                        <a:pt x="33" y="124"/>
                      </a:lnTo>
                      <a:lnTo>
                        <a:pt x="41" y="126"/>
                      </a:lnTo>
                      <a:lnTo>
                        <a:pt x="48" y="127"/>
                      </a:lnTo>
                      <a:lnTo>
                        <a:pt x="57" y="126"/>
                      </a:lnTo>
                      <a:lnTo>
                        <a:pt x="65" y="124"/>
                      </a:lnTo>
                      <a:lnTo>
                        <a:pt x="72" y="120"/>
                      </a:lnTo>
                      <a:lnTo>
                        <a:pt x="80" y="114"/>
                      </a:lnTo>
                      <a:lnTo>
                        <a:pt x="86" y="105"/>
                      </a:lnTo>
                      <a:lnTo>
                        <a:pt x="95" y="94"/>
                      </a:lnTo>
                      <a:lnTo>
                        <a:pt x="104" y="80"/>
                      </a:lnTo>
                      <a:lnTo>
                        <a:pt x="115" y="67"/>
                      </a:lnTo>
                      <a:lnTo>
                        <a:pt x="125" y="55"/>
                      </a:lnTo>
                      <a:lnTo>
                        <a:pt x="136" y="44"/>
                      </a:lnTo>
                      <a:lnTo>
                        <a:pt x="146" y="35"/>
                      </a:lnTo>
                      <a:lnTo>
                        <a:pt x="155" y="31"/>
                      </a:lnTo>
                      <a:lnTo>
                        <a:pt x="165" y="28"/>
                      </a:lnTo>
                      <a:lnTo>
                        <a:pt x="174" y="28"/>
                      </a:lnTo>
                      <a:lnTo>
                        <a:pt x="183" y="26"/>
                      </a:lnTo>
                      <a:lnTo>
                        <a:pt x="192" y="28"/>
                      </a:lnTo>
                      <a:lnTo>
                        <a:pt x="201" y="29"/>
                      </a:lnTo>
                      <a:lnTo>
                        <a:pt x="210" y="32"/>
                      </a:lnTo>
                      <a:lnTo>
                        <a:pt x="217" y="37"/>
                      </a:lnTo>
                      <a:lnTo>
                        <a:pt x="223" y="43"/>
                      </a:lnTo>
                      <a:lnTo>
                        <a:pt x="230" y="50"/>
                      </a:lnTo>
                      <a:lnTo>
                        <a:pt x="237" y="59"/>
                      </a:lnTo>
                      <a:lnTo>
                        <a:pt x="245" y="70"/>
                      </a:lnTo>
                      <a:lnTo>
                        <a:pt x="252" y="80"/>
                      </a:lnTo>
                      <a:lnTo>
                        <a:pt x="260" y="89"/>
                      </a:lnTo>
                      <a:lnTo>
                        <a:pt x="266" y="99"/>
                      </a:lnTo>
                      <a:lnTo>
                        <a:pt x="269" y="105"/>
                      </a:lnTo>
                      <a:lnTo>
                        <a:pt x="270" y="106"/>
                      </a:lnTo>
                      <a:lnTo>
                        <a:pt x="279" y="79"/>
                      </a:lnTo>
                      <a:lnTo>
                        <a:pt x="311" y="70"/>
                      </a:lnTo>
                      <a:lnTo>
                        <a:pt x="323" y="118"/>
                      </a:lnTo>
                      <a:lnTo>
                        <a:pt x="325" y="115"/>
                      </a:lnTo>
                      <a:lnTo>
                        <a:pt x="331" y="108"/>
                      </a:lnTo>
                      <a:lnTo>
                        <a:pt x="340" y="96"/>
                      </a:lnTo>
                      <a:lnTo>
                        <a:pt x="350" y="82"/>
                      </a:lnTo>
                      <a:lnTo>
                        <a:pt x="364" y="64"/>
                      </a:lnTo>
                      <a:lnTo>
                        <a:pt x="376" y="43"/>
                      </a:lnTo>
                      <a:lnTo>
                        <a:pt x="385" y="26"/>
                      </a:lnTo>
                      <a:lnTo>
                        <a:pt x="390" y="19"/>
                      </a:lnTo>
                      <a:lnTo>
                        <a:pt x="393" y="20"/>
                      </a:lnTo>
                      <a:lnTo>
                        <a:pt x="400" y="22"/>
                      </a:lnTo>
                      <a:lnTo>
                        <a:pt x="409" y="26"/>
                      </a:lnTo>
                      <a:lnTo>
                        <a:pt x="418" y="31"/>
                      </a:lnTo>
                      <a:lnTo>
                        <a:pt x="424" y="34"/>
                      </a:lnTo>
                      <a:lnTo>
                        <a:pt x="431" y="35"/>
                      </a:lnTo>
                      <a:lnTo>
                        <a:pt x="440" y="38"/>
                      </a:lnTo>
                      <a:lnTo>
                        <a:pt x="447" y="40"/>
                      </a:lnTo>
                      <a:lnTo>
                        <a:pt x="455" y="41"/>
                      </a:lnTo>
                      <a:lnTo>
                        <a:pt x="461" y="41"/>
                      </a:lnTo>
                      <a:lnTo>
                        <a:pt x="465" y="43"/>
                      </a:lnTo>
                      <a:lnTo>
                        <a:pt x="467" y="43"/>
                      </a:lnTo>
                      <a:lnTo>
                        <a:pt x="473" y="44"/>
                      </a:lnTo>
                      <a:lnTo>
                        <a:pt x="485" y="47"/>
                      </a:lnTo>
                      <a:lnTo>
                        <a:pt x="500" y="52"/>
                      </a:lnTo>
                      <a:lnTo>
                        <a:pt x="511" y="58"/>
                      </a:lnTo>
                      <a:lnTo>
                        <a:pt x="518" y="67"/>
                      </a:lnTo>
                      <a:lnTo>
                        <a:pt x="529" y="79"/>
                      </a:lnTo>
                      <a:lnTo>
                        <a:pt x="538" y="89"/>
                      </a:lnTo>
                      <a:lnTo>
                        <a:pt x="542" y="94"/>
                      </a:lnTo>
                      <a:lnTo>
                        <a:pt x="530" y="96"/>
                      </a:lnTo>
                      <a:lnTo>
                        <a:pt x="520" y="97"/>
                      </a:lnTo>
                      <a:lnTo>
                        <a:pt x="509" y="99"/>
                      </a:lnTo>
                      <a:lnTo>
                        <a:pt x="500" y="99"/>
                      </a:lnTo>
                      <a:lnTo>
                        <a:pt x="491" y="99"/>
                      </a:lnTo>
                      <a:lnTo>
                        <a:pt x="482" y="99"/>
                      </a:lnTo>
                      <a:lnTo>
                        <a:pt x="474" y="97"/>
                      </a:lnTo>
                      <a:lnTo>
                        <a:pt x="467" y="94"/>
                      </a:lnTo>
                      <a:lnTo>
                        <a:pt x="458" y="91"/>
                      </a:lnTo>
                      <a:lnTo>
                        <a:pt x="449" y="91"/>
                      </a:lnTo>
                      <a:lnTo>
                        <a:pt x="440" y="91"/>
                      </a:lnTo>
                      <a:lnTo>
                        <a:pt x="431" y="91"/>
                      </a:lnTo>
                      <a:lnTo>
                        <a:pt x="420" y="92"/>
                      </a:lnTo>
                      <a:lnTo>
                        <a:pt x="411" y="96"/>
                      </a:lnTo>
                      <a:lnTo>
                        <a:pt x="402" y="99"/>
                      </a:lnTo>
                      <a:lnTo>
                        <a:pt x="394" y="102"/>
                      </a:lnTo>
                      <a:lnTo>
                        <a:pt x="382" y="114"/>
                      </a:lnTo>
                      <a:lnTo>
                        <a:pt x="373" y="127"/>
                      </a:lnTo>
                      <a:lnTo>
                        <a:pt x="369" y="141"/>
                      </a:lnTo>
                      <a:lnTo>
                        <a:pt x="367" y="145"/>
                      </a:lnTo>
                      <a:lnTo>
                        <a:pt x="372" y="147"/>
                      </a:lnTo>
                      <a:lnTo>
                        <a:pt x="382" y="150"/>
                      </a:lnTo>
                      <a:lnTo>
                        <a:pt x="397" y="154"/>
                      </a:lnTo>
                      <a:lnTo>
                        <a:pt x="411" y="157"/>
                      </a:lnTo>
                      <a:lnTo>
                        <a:pt x="420" y="162"/>
                      </a:lnTo>
                      <a:lnTo>
                        <a:pt x="426" y="166"/>
                      </a:lnTo>
                      <a:lnTo>
                        <a:pt x="429" y="176"/>
                      </a:lnTo>
                      <a:lnTo>
                        <a:pt x="431" y="186"/>
                      </a:lnTo>
                      <a:lnTo>
                        <a:pt x="427" y="198"/>
                      </a:lnTo>
                      <a:lnTo>
                        <a:pt x="423" y="212"/>
                      </a:lnTo>
                      <a:lnTo>
                        <a:pt x="417" y="221"/>
                      </a:lnTo>
                      <a:lnTo>
                        <a:pt x="414" y="225"/>
                      </a:lnTo>
                      <a:lnTo>
                        <a:pt x="423" y="233"/>
                      </a:lnTo>
                      <a:lnTo>
                        <a:pt x="435" y="243"/>
                      </a:lnTo>
                      <a:lnTo>
                        <a:pt x="446" y="257"/>
                      </a:lnTo>
                      <a:lnTo>
                        <a:pt x="450" y="266"/>
                      </a:lnTo>
                      <a:lnTo>
                        <a:pt x="462" y="272"/>
                      </a:lnTo>
                      <a:lnTo>
                        <a:pt x="471" y="284"/>
                      </a:lnTo>
                      <a:lnTo>
                        <a:pt x="479" y="298"/>
                      </a:lnTo>
                      <a:lnTo>
                        <a:pt x="482" y="310"/>
                      </a:lnTo>
                      <a:lnTo>
                        <a:pt x="485" y="317"/>
                      </a:lnTo>
                      <a:lnTo>
                        <a:pt x="489" y="330"/>
                      </a:lnTo>
                      <a:lnTo>
                        <a:pt x="497" y="343"/>
                      </a:lnTo>
                      <a:lnTo>
                        <a:pt x="505" y="360"/>
                      </a:lnTo>
                      <a:lnTo>
                        <a:pt x="514" y="376"/>
                      </a:lnTo>
                      <a:lnTo>
                        <a:pt x="521" y="390"/>
                      </a:lnTo>
                      <a:lnTo>
                        <a:pt x="529" y="400"/>
                      </a:lnTo>
                      <a:lnTo>
                        <a:pt x="533" y="405"/>
                      </a:lnTo>
                      <a:lnTo>
                        <a:pt x="544" y="410"/>
                      </a:lnTo>
                      <a:lnTo>
                        <a:pt x="556" y="419"/>
                      </a:lnTo>
                      <a:lnTo>
                        <a:pt x="568" y="428"/>
                      </a:lnTo>
                      <a:lnTo>
                        <a:pt x="576" y="432"/>
                      </a:lnTo>
                      <a:lnTo>
                        <a:pt x="580" y="432"/>
                      </a:lnTo>
                      <a:lnTo>
                        <a:pt x="585" y="432"/>
                      </a:lnTo>
                      <a:lnTo>
                        <a:pt x="592" y="429"/>
                      </a:lnTo>
                      <a:lnTo>
                        <a:pt x="598" y="426"/>
                      </a:lnTo>
                      <a:lnTo>
                        <a:pt x="606" y="423"/>
                      </a:lnTo>
                      <a:lnTo>
                        <a:pt x="612" y="419"/>
                      </a:lnTo>
                      <a:lnTo>
                        <a:pt x="618" y="413"/>
                      </a:lnTo>
                      <a:lnTo>
                        <a:pt x="621" y="407"/>
                      </a:lnTo>
                      <a:lnTo>
                        <a:pt x="624" y="400"/>
                      </a:lnTo>
                      <a:lnTo>
                        <a:pt x="629" y="391"/>
                      </a:lnTo>
                      <a:lnTo>
                        <a:pt x="636" y="382"/>
                      </a:lnTo>
                      <a:lnTo>
                        <a:pt x="642" y="372"/>
                      </a:lnTo>
                      <a:lnTo>
                        <a:pt x="650" y="363"/>
                      </a:lnTo>
                      <a:lnTo>
                        <a:pt x="657" y="354"/>
                      </a:lnTo>
                      <a:lnTo>
                        <a:pt x="665" y="348"/>
                      </a:lnTo>
                      <a:lnTo>
                        <a:pt x="671" y="343"/>
                      </a:lnTo>
                      <a:lnTo>
                        <a:pt x="683" y="337"/>
                      </a:lnTo>
                      <a:lnTo>
                        <a:pt x="695" y="330"/>
                      </a:lnTo>
                      <a:lnTo>
                        <a:pt x="703" y="323"/>
                      </a:lnTo>
                      <a:lnTo>
                        <a:pt x="706" y="320"/>
                      </a:lnTo>
                      <a:lnTo>
                        <a:pt x="689" y="316"/>
                      </a:lnTo>
                      <a:lnTo>
                        <a:pt x="672" y="311"/>
                      </a:lnTo>
                      <a:lnTo>
                        <a:pt x="656" y="307"/>
                      </a:lnTo>
                      <a:lnTo>
                        <a:pt x="639" y="302"/>
                      </a:lnTo>
                      <a:lnTo>
                        <a:pt x="624" y="296"/>
                      </a:lnTo>
                      <a:lnTo>
                        <a:pt x="610" y="290"/>
                      </a:lnTo>
                      <a:lnTo>
                        <a:pt x="600" y="284"/>
                      </a:lnTo>
                      <a:lnTo>
                        <a:pt x="592" y="277"/>
                      </a:lnTo>
                      <a:lnTo>
                        <a:pt x="585" y="262"/>
                      </a:lnTo>
                      <a:lnTo>
                        <a:pt x="583" y="248"/>
                      </a:lnTo>
                      <a:lnTo>
                        <a:pt x="589" y="236"/>
                      </a:lnTo>
                      <a:lnTo>
                        <a:pt x="600" y="227"/>
                      </a:lnTo>
                      <a:lnTo>
                        <a:pt x="612" y="225"/>
                      </a:lnTo>
                      <a:lnTo>
                        <a:pt x="622" y="230"/>
                      </a:lnTo>
                      <a:lnTo>
                        <a:pt x="632" y="239"/>
                      </a:lnTo>
                      <a:lnTo>
                        <a:pt x="638" y="248"/>
                      </a:lnTo>
                      <a:lnTo>
                        <a:pt x="641" y="253"/>
                      </a:lnTo>
                      <a:lnTo>
                        <a:pt x="644" y="257"/>
                      </a:lnTo>
                      <a:lnTo>
                        <a:pt x="650" y="263"/>
                      </a:lnTo>
                      <a:lnTo>
                        <a:pt x="656" y="269"/>
                      </a:lnTo>
                      <a:lnTo>
                        <a:pt x="662" y="275"/>
                      </a:lnTo>
                      <a:lnTo>
                        <a:pt x="669" y="280"/>
                      </a:lnTo>
                      <a:lnTo>
                        <a:pt x="677" y="281"/>
                      </a:lnTo>
                      <a:lnTo>
                        <a:pt x="686" y="281"/>
                      </a:lnTo>
                      <a:lnTo>
                        <a:pt x="697" y="281"/>
                      </a:lnTo>
                      <a:lnTo>
                        <a:pt x="710" y="281"/>
                      </a:lnTo>
                      <a:lnTo>
                        <a:pt x="725" y="284"/>
                      </a:lnTo>
                      <a:lnTo>
                        <a:pt x="742" y="289"/>
                      </a:lnTo>
                      <a:lnTo>
                        <a:pt x="757" y="295"/>
                      </a:lnTo>
                      <a:lnTo>
                        <a:pt x="772" y="301"/>
                      </a:lnTo>
                      <a:lnTo>
                        <a:pt x="786" y="307"/>
                      </a:lnTo>
                      <a:lnTo>
                        <a:pt x="795" y="314"/>
                      </a:lnTo>
                      <a:lnTo>
                        <a:pt x="802" y="322"/>
                      </a:lnTo>
                      <a:lnTo>
                        <a:pt x="811" y="328"/>
                      </a:lnTo>
                      <a:lnTo>
                        <a:pt x="820" y="334"/>
                      </a:lnTo>
                      <a:lnTo>
                        <a:pt x="830" y="339"/>
                      </a:lnTo>
                      <a:lnTo>
                        <a:pt x="839" y="343"/>
                      </a:lnTo>
                      <a:lnTo>
                        <a:pt x="845" y="349"/>
                      </a:lnTo>
                      <a:lnTo>
                        <a:pt x="849" y="355"/>
                      </a:lnTo>
                      <a:lnTo>
                        <a:pt x="852" y="363"/>
                      </a:lnTo>
                      <a:lnTo>
                        <a:pt x="855" y="381"/>
                      </a:lnTo>
                      <a:lnTo>
                        <a:pt x="858" y="397"/>
                      </a:lnTo>
                      <a:lnTo>
                        <a:pt x="863" y="416"/>
                      </a:lnTo>
                      <a:lnTo>
                        <a:pt x="870" y="429"/>
                      </a:lnTo>
                      <a:lnTo>
                        <a:pt x="879" y="443"/>
                      </a:lnTo>
                      <a:lnTo>
                        <a:pt x="888" y="459"/>
                      </a:lnTo>
                      <a:lnTo>
                        <a:pt x="899" y="476"/>
                      </a:lnTo>
                      <a:lnTo>
                        <a:pt x="910" y="488"/>
                      </a:lnTo>
                      <a:lnTo>
                        <a:pt x="920" y="494"/>
                      </a:lnTo>
                      <a:lnTo>
                        <a:pt x="928" y="496"/>
                      </a:lnTo>
                      <a:lnTo>
                        <a:pt x="932" y="488"/>
                      </a:lnTo>
                      <a:lnTo>
                        <a:pt x="934" y="467"/>
                      </a:lnTo>
                      <a:lnTo>
                        <a:pt x="935" y="440"/>
                      </a:lnTo>
                      <a:lnTo>
                        <a:pt x="941" y="413"/>
                      </a:lnTo>
                      <a:lnTo>
                        <a:pt x="952" y="391"/>
                      </a:lnTo>
                      <a:lnTo>
                        <a:pt x="970" y="373"/>
                      </a:lnTo>
                      <a:lnTo>
                        <a:pt x="981" y="366"/>
                      </a:lnTo>
                      <a:lnTo>
                        <a:pt x="990" y="360"/>
                      </a:lnTo>
                      <a:lnTo>
                        <a:pt x="999" y="354"/>
                      </a:lnTo>
                      <a:lnTo>
                        <a:pt x="1008" y="349"/>
                      </a:lnTo>
                      <a:lnTo>
                        <a:pt x="1015" y="345"/>
                      </a:lnTo>
                      <a:lnTo>
                        <a:pt x="1023" y="342"/>
                      </a:lnTo>
                      <a:lnTo>
                        <a:pt x="1029" y="339"/>
                      </a:lnTo>
                      <a:lnTo>
                        <a:pt x="1034" y="336"/>
                      </a:lnTo>
                      <a:lnTo>
                        <a:pt x="1046" y="326"/>
                      </a:lnTo>
                      <a:lnTo>
                        <a:pt x="1059" y="314"/>
                      </a:lnTo>
                      <a:lnTo>
                        <a:pt x="1070" y="310"/>
                      </a:lnTo>
                      <a:lnTo>
                        <a:pt x="1073" y="325"/>
                      </a:lnTo>
                      <a:lnTo>
                        <a:pt x="1071" y="349"/>
                      </a:lnTo>
                      <a:lnTo>
                        <a:pt x="1071" y="367"/>
                      </a:lnTo>
                      <a:lnTo>
                        <a:pt x="1076" y="384"/>
                      </a:lnTo>
                      <a:lnTo>
                        <a:pt x="1088" y="400"/>
                      </a:lnTo>
                      <a:lnTo>
                        <a:pt x="1100" y="419"/>
                      </a:lnTo>
                      <a:lnTo>
                        <a:pt x="1109" y="437"/>
                      </a:lnTo>
                      <a:lnTo>
                        <a:pt x="1115" y="455"/>
                      </a:lnTo>
                      <a:lnTo>
                        <a:pt x="1120" y="468"/>
                      </a:lnTo>
                      <a:lnTo>
                        <a:pt x="1123" y="483"/>
                      </a:lnTo>
                      <a:lnTo>
                        <a:pt x="1124" y="500"/>
                      </a:lnTo>
                      <a:lnTo>
                        <a:pt x="1127" y="514"/>
                      </a:lnTo>
                      <a:lnTo>
                        <a:pt x="1127" y="520"/>
                      </a:lnTo>
                      <a:lnTo>
                        <a:pt x="1154" y="500"/>
                      </a:lnTo>
                      <a:lnTo>
                        <a:pt x="1157" y="506"/>
                      </a:lnTo>
                      <a:lnTo>
                        <a:pt x="1165" y="517"/>
                      </a:lnTo>
                      <a:lnTo>
                        <a:pt x="1174" y="527"/>
                      </a:lnTo>
                      <a:lnTo>
                        <a:pt x="1183" y="527"/>
                      </a:lnTo>
                      <a:lnTo>
                        <a:pt x="1185" y="517"/>
                      </a:lnTo>
                      <a:lnTo>
                        <a:pt x="1179" y="500"/>
                      </a:lnTo>
                      <a:lnTo>
                        <a:pt x="1171" y="483"/>
                      </a:lnTo>
                      <a:lnTo>
                        <a:pt x="1171" y="468"/>
                      </a:lnTo>
                      <a:lnTo>
                        <a:pt x="1177" y="459"/>
                      </a:lnTo>
                      <a:lnTo>
                        <a:pt x="1185" y="456"/>
                      </a:lnTo>
                      <a:lnTo>
                        <a:pt x="1194" y="456"/>
                      </a:lnTo>
                      <a:lnTo>
                        <a:pt x="1203" y="456"/>
                      </a:lnTo>
                      <a:lnTo>
                        <a:pt x="1213" y="453"/>
                      </a:lnTo>
                      <a:lnTo>
                        <a:pt x="1225" y="447"/>
                      </a:lnTo>
                      <a:lnTo>
                        <a:pt x="1236" y="438"/>
                      </a:lnTo>
                      <a:lnTo>
                        <a:pt x="1247" y="429"/>
                      </a:lnTo>
                      <a:lnTo>
                        <a:pt x="1250" y="420"/>
                      </a:lnTo>
                      <a:lnTo>
                        <a:pt x="1245" y="411"/>
                      </a:lnTo>
                      <a:lnTo>
                        <a:pt x="1238" y="402"/>
                      </a:lnTo>
                      <a:lnTo>
                        <a:pt x="1235" y="393"/>
                      </a:lnTo>
                      <a:lnTo>
                        <a:pt x="1230" y="384"/>
                      </a:lnTo>
                      <a:lnTo>
                        <a:pt x="1222" y="376"/>
                      </a:lnTo>
                      <a:lnTo>
                        <a:pt x="1215" y="370"/>
                      </a:lnTo>
                      <a:lnTo>
                        <a:pt x="1215" y="361"/>
                      </a:lnTo>
                      <a:lnTo>
                        <a:pt x="1219" y="357"/>
                      </a:lnTo>
                      <a:lnTo>
                        <a:pt x="1227" y="351"/>
                      </a:lnTo>
                      <a:lnTo>
                        <a:pt x="1238" y="346"/>
                      </a:lnTo>
                      <a:lnTo>
                        <a:pt x="1248" y="340"/>
                      </a:lnTo>
                      <a:lnTo>
                        <a:pt x="1262" y="334"/>
                      </a:lnTo>
                      <a:lnTo>
                        <a:pt x="1274" y="330"/>
                      </a:lnTo>
                      <a:lnTo>
                        <a:pt x="1284" y="325"/>
                      </a:lnTo>
                      <a:lnTo>
                        <a:pt x="1295" y="320"/>
                      </a:lnTo>
                      <a:lnTo>
                        <a:pt x="1303" y="317"/>
                      </a:lnTo>
                      <a:lnTo>
                        <a:pt x="1312" y="311"/>
                      </a:lnTo>
                      <a:lnTo>
                        <a:pt x="1319" y="307"/>
                      </a:lnTo>
                      <a:lnTo>
                        <a:pt x="1328" y="299"/>
                      </a:lnTo>
                      <a:lnTo>
                        <a:pt x="1336" y="293"/>
                      </a:lnTo>
                      <a:lnTo>
                        <a:pt x="1345" y="286"/>
                      </a:lnTo>
                      <a:lnTo>
                        <a:pt x="1352" y="280"/>
                      </a:lnTo>
                      <a:lnTo>
                        <a:pt x="1360" y="274"/>
                      </a:lnTo>
                      <a:lnTo>
                        <a:pt x="1372" y="259"/>
                      </a:lnTo>
                      <a:lnTo>
                        <a:pt x="1378" y="240"/>
                      </a:lnTo>
                      <a:lnTo>
                        <a:pt x="1377" y="222"/>
                      </a:lnTo>
                      <a:lnTo>
                        <a:pt x="1372" y="206"/>
                      </a:lnTo>
                      <a:lnTo>
                        <a:pt x="1368" y="192"/>
                      </a:lnTo>
                      <a:lnTo>
                        <a:pt x="1368" y="177"/>
                      </a:lnTo>
                      <a:lnTo>
                        <a:pt x="1372" y="163"/>
                      </a:lnTo>
                      <a:lnTo>
                        <a:pt x="1381" y="150"/>
                      </a:lnTo>
                      <a:lnTo>
                        <a:pt x="1387" y="142"/>
                      </a:lnTo>
                      <a:lnTo>
                        <a:pt x="1393" y="133"/>
                      </a:lnTo>
                      <a:lnTo>
                        <a:pt x="1401" y="126"/>
                      </a:lnTo>
                      <a:lnTo>
                        <a:pt x="1407" y="118"/>
                      </a:lnTo>
                      <a:lnTo>
                        <a:pt x="1414" y="114"/>
                      </a:lnTo>
                      <a:lnTo>
                        <a:pt x="1419" y="112"/>
                      </a:lnTo>
                      <a:lnTo>
                        <a:pt x="1425" y="115"/>
                      </a:lnTo>
                      <a:lnTo>
                        <a:pt x="1428" y="123"/>
                      </a:lnTo>
                      <a:lnTo>
                        <a:pt x="1433" y="145"/>
                      </a:lnTo>
                      <a:lnTo>
                        <a:pt x="1436" y="168"/>
                      </a:lnTo>
                      <a:lnTo>
                        <a:pt x="1437" y="186"/>
                      </a:lnTo>
                      <a:lnTo>
                        <a:pt x="1437" y="194"/>
                      </a:lnTo>
                      <a:lnTo>
                        <a:pt x="1454" y="179"/>
                      </a:lnTo>
                      <a:lnTo>
                        <a:pt x="1464" y="157"/>
                      </a:lnTo>
                      <a:lnTo>
                        <a:pt x="1470" y="136"/>
                      </a:lnTo>
                      <a:lnTo>
                        <a:pt x="1476" y="123"/>
                      </a:lnTo>
                      <a:lnTo>
                        <a:pt x="1485" y="109"/>
                      </a:lnTo>
                      <a:lnTo>
                        <a:pt x="1496" y="89"/>
                      </a:lnTo>
                      <a:lnTo>
                        <a:pt x="1510" y="70"/>
                      </a:lnTo>
                      <a:lnTo>
                        <a:pt x="1520" y="58"/>
                      </a:lnTo>
                      <a:lnTo>
                        <a:pt x="1529" y="49"/>
                      </a:lnTo>
                      <a:lnTo>
                        <a:pt x="1540" y="34"/>
                      </a:lnTo>
                      <a:lnTo>
                        <a:pt x="1550" y="19"/>
                      </a:lnTo>
                      <a:lnTo>
                        <a:pt x="1560" y="6"/>
                      </a:lnTo>
                      <a:lnTo>
                        <a:pt x="1561" y="5"/>
                      </a:lnTo>
                      <a:lnTo>
                        <a:pt x="1563" y="3"/>
                      </a:lnTo>
                      <a:lnTo>
                        <a:pt x="1563" y="2"/>
                      </a:lnTo>
                      <a:lnTo>
                        <a:pt x="1564" y="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13"/>
                <p:cNvSpPr/>
                <p:nvPr/>
              </p:nvSpPr>
              <p:spPr>
                <a:xfrm>
                  <a:off x="448920" y="3990240"/>
                  <a:ext cx="999720" cy="1082520"/>
                </a:xfrm>
                <a:custGeom>
                  <a:avLst/>
                  <a:gdLst>
                    <a:gd name="textAreaLeft" fmla="*/ 0 w 999720"/>
                    <a:gd name="textAreaRight" fmla="*/ 1000080 w 999720"/>
                    <a:gd name="textAreaTop" fmla="*/ 0 h 1082520"/>
                    <a:gd name="textAreaBottom" fmla="*/ 1082880 h 1082520"/>
                  </a:gdLst>
                  <a:ahLst/>
                  <a:rect l="textAreaLeft" t="textAreaTop" r="textAreaRight" b="textAreaBottom"/>
                  <a:pathLst>
                    <a:path w="701" h="817">
                      <a:moveTo>
                        <a:pt x="511" y="83"/>
                      </a:moveTo>
                      <a:lnTo>
                        <a:pt x="502" y="83"/>
                      </a:lnTo>
                      <a:lnTo>
                        <a:pt x="491" y="83"/>
                      </a:lnTo>
                      <a:lnTo>
                        <a:pt x="481" y="80"/>
                      </a:lnTo>
                      <a:lnTo>
                        <a:pt x="471" y="77"/>
                      </a:lnTo>
                      <a:lnTo>
                        <a:pt x="462" y="74"/>
                      </a:lnTo>
                      <a:lnTo>
                        <a:pt x="455" y="69"/>
                      </a:lnTo>
                      <a:lnTo>
                        <a:pt x="449" y="66"/>
                      </a:lnTo>
                      <a:lnTo>
                        <a:pt x="443" y="63"/>
                      </a:lnTo>
                      <a:lnTo>
                        <a:pt x="438" y="62"/>
                      </a:lnTo>
                      <a:lnTo>
                        <a:pt x="432" y="62"/>
                      </a:lnTo>
                      <a:lnTo>
                        <a:pt x="426" y="65"/>
                      </a:lnTo>
                      <a:lnTo>
                        <a:pt x="420" y="68"/>
                      </a:lnTo>
                      <a:lnTo>
                        <a:pt x="413" y="72"/>
                      </a:lnTo>
                      <a:lnTo>
                        <a:pt x="406" y="77"/>
                      </a:lnTo>
                      <a:lnTo>
                        <a:pt x="399" y="80"/>
                      </a:lnTo>
                      <a:lnTo>
                        <a:pt x="391" y="83"/>
                      </a:lnTo>
                      <a:lnTo>
                        <a:pt x="384" y="83"/>
                      </a:lnTo>
                      <a:lnTo>
                        <a:pt x="373" y="81"/>
                      </a:lnTo>
                      <a:lnTo>
                        <a:pt x="363" y="80"/>
                      </a:lnTo>
                      <a:lnTo>
                        <a:pt x="352" y="75"/>
                      </a:lnTo>
                      <a:lnTo>
                        <a:pt x="342" y="69"/>
                      </a:lnTo>
                      <a:lnTo>
                        <a:pt x="331" y="63"/>
                      </a:lnTo>
                      <a:lnTo>
                        <a:pt x="322" y="56"/>
                      </a:lnTo>
                      <a:lnTo>
                        <a:pt x="316" y="47"/>
                      </a:lnTo>
                      <a:lnTo>
                        <a:pt x="308" y="38"/>
                      </a:lnTo>
                      <a:lnTo>
                        <a:pt x="298" y="27"/>
                      </a:lnTo>
                      <a:lnTo>
                        <a:pt x="284" y="18"/>
                      </a:lnTo>
                      <a:lnTo>
                        <a:pt x="272" y="10"/>
                      </a:lnTo>
                      <a:lnTo>
                        <a:pt x="258" y="4"/>
                      </a:lnTo>
                      <a:lnTo>
                        <a:pt x="246" y="0"/>
                      </a:lnTo>
                      <a:lnTo>
                        <a:pt x="236" y="0"/>
                      </a:lnTo>
                      <a:lnTo>
                        <a:pt x="228" y="3"/>
                      </a:lnTo>
                      <a:lnTo>
                        <a:pt x="221" y="7"/>
                      </a:lnTo>
                      <a:lnTo>
                        <a:pt x="212" y="12"/>
                      </a:lnTo>
                      <a:lnTo>
                        <a:pt x="199" y="13"/>
                      </a:lnTo>
                      <a:lnTo>
                        <a:pt x="187" y="15"/>
                      </a:lnTo>
                      <a:lnTo>
                        <a:pt x="175" y="16"/>
                      </a:lnTo>
                      <a:lnTo>
                        <a:pt x="163" y="18"/>
                      </a:lnTo>
                      <a:lnTo>
                        <a:pt x="153" y="22"/>
                      </a:lnTo>
                      <a:lnTo>
                        <a:pt x="144" y="27"/>
                      </a:lnTo>
                      <a:lnTo>
                        <a:pt x="136" y="33"/>
                      </a:lnTo>
                      <a:lnTo>
                        <a:pt x="127" y="42"/>
                      </a:lnTo>
                      <a:lnTo>
                        <a:pt x="116" y="53"/>
                      </a:lnTo>
                      <a:lnTo>
                        <a:pt x="107" y="63"/>
                      </a:lnTo>
                      <a:lnTo>
                        <a:pt x="98" y="74"/>
                      </a:lnTo>
                      <a:lnTo>
                        <a:pt x="89" y="84"/>
                      </a:lnTo>
                      <a:lnTo>
                        <a:pt x="82" y="95"/>
                      </a:lnTo>
                      <a:lnTo>
                        <a:pt x="77" y="102"/>
                      </a:lnTo>
                      <a:lnTo>
                        <a:pt x="71" y="110"/>
                      </a:lnTo>
                      <a:lnTo>
                        <a:pt x="62" y="116"/>
                      </a:lnTo>
                      <a:lnTo>
                        <a:pt x="53" y="124"/>
                      </a:lnTo>
                      <a:lnTo>
                        <a:pt x="42" y="131"/>
                      </a:lnTo>
                      <a:lnTo>
                        <a:pt x="33" y="139"/>
                      </a:lnTo>
                      <a:lnTo>
                        <a:pt x="24" y="146"/>
                      </a:lnTo>
                      <a:lnTo>
                        <a:pt x="18" y="154"/>
                      </a:lnTo>
                      <a:lnTo>
                        <a:pt x="17" y="163"/>
                      </a:lnTo>
                      <a:lnTo>
                        <a:pt x="14" y="181"/>
                      </a:lnTo>
                      <a:lnTo>
                        <a:pt x="9" y="199"/>
                      </a:lnTo>
                      <a:lnTo>
                        <a:pt x="3" y="211"/>
                      </a:lnTo>
                      <a:lnTo>
                        <a:pt x="0" y="217"/>
                      </a:lnTo>
                      <a:lnTo>
                        <a:pt x="1" y="226"/>
                      </a:lnTo>
                      <a:lnTo>
                        <a:pt x="4" y="249"/>
                      </a:lnTo>
                      <a:lnTo>
                        <a:pt x="9" y="273"/>
                      </a:lnTo>
                      <a:lnTo>
                        <a:pt x="17" y="290"/>
                      </a:lnTo>
                      <a:lnTo>
                        <a:pt x="23" y="303"/>
                      </a:lnTo>
                      <a:lnTo>
                        <a:pt x="27" y="323"/>
                      </a:lnTo>
                      <a:lnTo>
                        <a:pt x="36" y="341"/>
                      </a:lnTo>
                      <a:lnTo>
                        <a:pt x="53" y="353"/>
                      </a:lnTo>
                      <a:lnTo>
                        <a:pt x="66" y="356"/>
                      </a:lnTo>
                      <a:lnTo>
                        <a:pt x="85" y="359"/>
                      </a:lnTo>
                      <a:lnTo>
                        <a:pt x="104" y="362"/>
                      </a:lnTo>
                      <a:lnTo>
                        <a:pt x="125" y="364"/>
                      </a:lnTo>
                      <a:lnTo>
                        <a:pt x="147" y="365"/>
                      </a:lnTo>
                      <a:lnTo>
                        <a:pt x="166" y="367"/>
                      </a:lnTo>
                      <a:lnTo>
                        <a:pt x="183" y="367"/>
                      </a:lnTo>
                      <a:lnTo>
                        <a:pt x="196" y="365"/>
                      </a:lnTo>
                      <a:lnTo>
                        <a:pt x="207" y="364"/>
                      </a:lnTo>
                      <a:lnTo>
                        <a:pt x="216" y="364"/>
                      </a:lnTo>
                      <a:lnTo>
                        <a:pt x="225" y="364"/>
                      </a:lnTo>
                      <a:lnTo>
                        <a:pt x="234" y="365"/>
                      </a:lnTo>
                      <a:lnTo>
                        <a:pt x="242" y="367"/>
                      </a:lnTo>
                      <a:lnTo>
                        <a:pt x="249" y="370"/>
                      </a:lnTo>
                      <a:lnTo>
                        <a:pt x="257" y="373"/>
                      </a:lnTo>
                      <a:lnTo>
                        <a:pt x="263" y="377"/>
                      </a:lnTo>
                      <a:lnTo>
                        <a:pt x="275" y="386"/>
                      </a:lnTo>
                      <a:lnTo>
                        <a:pt x="283" y="398"/>
                      </a:lnTo>
                      <a:lnTo>
                        <a:pt x="286" y="410"/>
                      </a:lnTo>
                      <a:lnTo>
                        <a:pt x="284" y="424"/>
                      </a:lnTo>
                      <a:lnTo>
                        <a:pt x="280" y="438"/>
                      </a:lnTo>
                      <a:lnTo>
                        <a:pt x="280" y="447"/>
                      </a:lnTo>
                      <a:lnTo>
                        <a:pt x="287" y="454"/>
                      </a:lnTo>
                      <a:lnTo>
                        <a:pt x="304" y="460"/>
                      </a:lnTo>
                      <a:lnTo>
                        <a:pt x="317" y="468"/>
                      </a:lnTo>
                      <a:lnTo>
                        <a:pt x="320" y="480"/>
                      </a:lnTo>
                      <a:lnTo>
                        <a:pt x="319" y="494"/>
                      </a:lnTo>
                      <a:lnTo>
                        <a:pt x="317" y="509"/>
                      </a:lnTo>
                      <a:lnTo>
                        <a:pt x="317" y="525"/>
                      </a:lnTo>
                      <a:lnTo>
                        <a:pt x="316" y="542"/>
                      </a:lnTo>
                      <a:lnTo>
                        <a:pt x="313" y="561"/>
                      </a:lnTo>
                      <a:lnTo>
                        <a:pt x="311" y="584"/>
                      </a:lnTo>
                      <a:lnTo>
                        <a:pt x="308" y="595"/>
                      </a:lnTo>
                      <a:lnTo>
                        <a:pt x="304" y="604"/>
                      </a:lnTo>
                      <a:lnTo>
                        <a:pt x="302" y="613"/>
                      </a:lnTo>
                      <a:lnTo>
                        <a:pt x="307" y="628"/>
                      </a:lnTo>
                      <a:lnTo>
                        <a:pt x="311" y="637"/>
                      </a:lnTo>
                      <a:lnTo>
                        <a:pt x="317" y="652"/>
                      </a:lnTo>
                      <a:lnTo>
                        <a:pt x="323" y="667"/>
                      </a:lnTo>
                      <a:lnTo>
                        <a:pt x="329" y="678"/>
                      </a:lnTo>
                      <a:lnTo>
                        <a:pt x="335" y="688"/>
                      </a:lnTo>
                      <a:lnTo>
                        <a:pt x="345" y="705"/>
                      </a:lnTo>
                      <a:lnTo>
                        <a:pt x="354" y="723"/>
                      </a:lnTo>
                      <a:lnTo>
                        <a:pt x="360" y="737"/>
                      </a:lnTo>
                      <a:lnTo>
                        <a:pt x="364" y="753"/>
                      </a:lnTo>
                      <a:lnTo>
                        <a:pt x="370" y="777"/>
                      </a:lnTo>
                      <a:lnTo>
                        <a:pt x="379" y="798"/>
                      </a:lnTo>
                      <a:lnTo>
                        <a:pt x="388" y="811"/>
                      </a:lnTo>
                      <a:lnTo>
                        <a:pt x="394" y="814"/>
                      </a:lnTo>
                      <a:lnTo>
                        <a:pt x="405" y="815"/>
                      </a:lnTo>
                      <a:lnTo>
                        <a:pt x="416" y="817"/>
                      </a:lnTo>
                      <a:lnTo>
                        <a:pt x="429" y="817"/>
                      </a:lnTo>
                      <a:lnTo>
                        <a:pt x="441" y="815"/>
                      </a:lnTo>
                      <a:lnTo>
                        <a:pt x="453" y="812"/>
                      </a:lnTo>
                      <a:lnTo>
                        <a:pt x="462" y="806"/>
                      </a:lnTo>
                      <a:lnTo>
                        <a:pt x="470" y="798"/>
                      </a:lnTo>
                      <a:lnTo>
                        <a:pt x="476" y="789"/>
                      </a:lnTo>
                      <a:lnTo>
                        <a:pt x="485" y="782"/>
                      </a:lnTo>
                      <a:lnTo>
                        <a:pt x="494" y="774"/>
                      </a:lnTo>
                      <a:lnTo>
                        <a:pt x="503" y="767"/>
                      </a:lnTo>
                      <a:lnTo>
                        <a:pt x="512" y="761"/>
                      </a:lnTo>
                      <a:lnTo>
                        <a:pt x="520" y="755"/>
                      </a:lnTo>
                      <a:lnTo>
                        <a:pt x="526" y="749"/>
                      </a:lnTo>
                      <a:lnTo>
                        <a:pt x="530" y="743"/>
                      </a:lnTo>
                      <a:lnTo>
                        <a:pt x="533" y="731"/>
                      </a:lnTo>
                      <a:lnTo>
                        <a:pt x="530" y="715"/>
                      </a:lnTo>
                      <a:lnTo>
                        <a:pt x="527" y="702"/>
                      </a:lnTo>
                      <a:lnTo>
                        <a:pt x="526" y="691"/>
                      </a:lnTo>
                      <a:lnTo>
                        <a:pt x="530" y="687"/>
                      </a:lnTo>
                      <a:lnTo>
                        <a:pt x="541" y="687"/>
                      </a:lnTo>
                      <a:lnTo>
                        <a:pt x="553" y="688"/>
                      </a:lnTo>
                      <a:lnTo>
                        <a:pt x="562" y="687"/>
                      </a:lnTo>
                      <a:lnTo>
                        <a:pt x="564" y="681"/>
                      </a:lnTo>
                      <a:lnTo>
                        <a:pt x="562" y="670"/>
                      </a:lnTo>
                      <a:lnTo>
                        <a:pt x="561" y="657"/>
                      </a:lnTo>
                      <a:lnTo>
                        <a:pt x="562" y="643"/>
                      </a:lnTo>
                      <a:lnTo>
                        <a:pt x="570" y="634"/>
                      </a:lnTo>
                      <a:lnTo>
                        <a:pt x="582" y="625"/>
                      </a:lnTo>
                      <a:lnTo>
                        <a:pt x="594" y="617"/>
                      </a:lnTo>
                      <a:lnTo>
                        <a:pt x="601" y="608"/>
                      </a:lnTo>
                      <a:lnTo>
                        <a:pt x="606" y="590"/>
                      </a:lnTo>
                      <a:lnTo>
                        <a:pt x="608" y="567"/>
                      </a:lnTo>
                      <a:lnTo>
                        <a:pt x="606" y="543"/>
                      </a:lnTo>
                      <a:lnTo>
                        <a:pt x="606" y="524"/>
                      </a:lnTo>
                      <a:lnTo>
                        <a:pt x="601" y="512"/>
                      </a:lnTo>
                      <a:lnTo>
                        <a:pt x="592" y="504"/>
                      </a:lnTo>
                      <a:lnTo>
                        <a:pt x="585" y="497"/>
                      </a:lnTo>
                      <a:lnTo>
                        <a:pt x="582" y="484"/>
                      </a:lnTo>
                      <a:lnTo>
                        <a:pt x="588" y="471"/>
                      </a:lnTo>
                      <a:lnTo>
                        <a:pt x="600" y="457"/>
                      </a:lnTo>
                      <a:lnTo>
                        <a:pt x="614" y="442"/>
                      </a:lnTo>
                      <a:lnTo>
                        <a:pt x="626" y="424"/>
                      </a:lnTo>
                      <a:lnTo>
                        <a:pt x="633" y="412"/>
                      </a:lnTo>
                      <a:lnTo>
                        <a:pt x="644" y="395"/>
                      </a:lnTo>
                      <a:lnTo>
                        <a:pt x="657" y="377"/>
                      </a:lnTo>
                      <a:lnTo>
                        <a:pt x="669" y="359"/>
                      </a:lnTo>
                      <a:lnTo>
                        <a:pt x="682" y="341"/>
                      </a:lnTo>
                      <a:lnTo>
                        <a:pt x="692" y="327"/>
                      </a:lnTo>
                      <a:lnTo>
                        <a:pt x="698" y="317"/>
                      </a:lnTo>
                      <a:lnTo>
                        <a:pt x="701" y="314"/>
                      </a:lnTo>
                      <a:lnTo>
                        <a:pt x="694" y="311"/>
                      </a:lnTo>
                      <a:lnTo>
                        <a:pt x="683" y="311"/>
                      </a:lnTo>
                      <a:lnTo>
                        <a:pt x="672" y="314"/>
                      </a:lnTo>
                      <a:lnTo>
                        <a:pt x="662" y="314"/>
                      </a:lnTo>
                      <a:lnTo>
                        <a:pt x="656" y="311"/>
                      </a:lnTo>
                      <a:lnTo>
                        <a:pt x="648" y="305"/>
                      </a:lnTo>
                      <a:lnTo>
                        <a:pt x="638" y="297"/>
                      </a:lnTo>
                      <a:lnTo>
                        <a:pt x="627" y="290"/>
                      </a:lnTo>
                      <a:lnTo>
                        <a:pt x="617" y="281"/>
                      </a:lnTo>
                      <a:lnTo>
                        <a:pt x="606" y="270"/>
                      </a:lnTo>
                      <a:lnTo>
                        <a:pt x="597" y="261"/>
                      </a:lnTo>
                      <a:lnTo>
                        <a:pt x="589" y="253"/>
                      </a:lnTo>
                      <a:lnTo>
                        <a:pt x="577" y="237"/>
                      </a:lnTo>
                      <a:lnTo>
                        <a:pt x="568" y="217"/>
                      </a:lnTo>
                      <a:lnTo>
                        <a:pt x="559" y="198"/>
                      </a:lnTo>
                      <a:lnTo>
                        <a:pt x="555" y="178"/>
                      </a:lnTo>
                      <a:lnTo>
                        <a:pt x="552" y="157"/>
                      </a:lnTo>
                      <a:lnTo>
                        <a:pt x="550" y="133"/>
                      </a:lnTo>
                      <a:lnTo>
                        <a:pt x="550" y="115"/>
                      </a:lnTo>
                      <a:lnTo>
                        <a:pt x="550" y="107"/>
                      </a:lnTo>
                      <a:lnTo>
                        <a:pt x="544" y="98"/>
                      </a:lnTo>
                      <a:lnTo>
                        <a:pt x="533" y="90"/>
                      </a:lnTo>
                      <a:lnTo>
                        <a:pt x="521" y="84"/>
                      </a:lnTo>
                      <a:lnTo>
                        <a:pt x="511" y="83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14"/>
                <p:cNvSpPr/>
                <p:nvPr/>
              </p:nvSpPr>
              <p:spPr>
                <a:xfrm>
                  <a:off x="1654200" y="3126240"/>
                  <a:ext cx="202320" cy="117720"/>
                </a:xfrm>
                <a:custGeom>
                  <a:avLst/>
                  <a:gdLst>
                    <a:gd name="textAreaLeft" fmla="*/ 0 w 202320"/>
                    <a:gd name="textAreaRight" fmla="*/ 202680 w 20232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42" h="89">
                      <a:moveTo>
                        <a:pt x="24" y="46"/>
                      </a:moveTo>
                      <a:lnTo>
                        <a:pt x="35" y="43"/>
                      </a:lnTo>
                      <a:lnTo>
                        <a:pt x="44" y="39"/>
                      </a:lnTo>
                      <a:lnTo>
                        <a:pt x="53" y="33"/>
                      </a:lnTo>
                      <a:lnTo>
                        <a:pt x="60" y="27"/>
                      </a:lnTo>
                      <a:lnTo>
                        <a:pt x="66" y="21"/>
                      </a:lnTo>
                      <a:lnTo>
                        <a:pt x="74" y="15"/>
                      </a:lnTo>
                      <a:lnTo>
                        <a:pt x="80" y="12"/>
                      </a:lnTo>
                      <a:lnTo>
                        <a:pt x="87" y="10"/>
                      </a:lnTo>
                      <a:lnTo>
                        <a:pt x="95" y="9"/>
                      </a:lnTo>
                      <a:lnTo>
                        <a:pt x="103" y="7"/>
                      </a:lnTo>
                      <a:lnTo>
                        <a:pt x="110" y="4"/>
                      </a:lnTo>
                      <a:lnTo>
                        <a:pt x="118" y="1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6" y="3"/>
                      </a:lnTo>
                      <a:lnTo>
                        <a:pt x="139" y="10"/>
                      </a:lnTo>
                      <a:lnTo>
                        <a:pt x="142" y="27"/>
                      </a:lnTo>
                      <a:lnTo>
                        <a:pt x="137" y="39"/>
                      </a:lnTo>
                      <a:lnTo>
                        <a:pt x="124" y="48"/>
                      </a:lnTo>
                      <a:lnTo>
                        <a:pt x="104" y="51"/>
                      </a:lnTo>
                      <a:lnTo>
                        <a:pt x="93" y="51"/>
                      </a:lnTo>
                      <a:lnTo>
                        <a:pt x="83" y="51"/>
                      </a:lnTo>
                      <a:lnTo>
                        <a:pt x="74" y="52"/>
                      </a:lnTo>
                      <a:lnTo>
                        <a:pt x="68" y="54"/>
                      </a:lnTo>
                      <a:lnTo>
                        <a:pt x="62" y="55"/>
                      </a:lnTo>
                      <a:lnTo>
                        <a:pt x="57" y="59"/>
                      </a:lnTo>
                      <a:lnTo>
                        <a:pt x="54" y="62"/>
                      </a:lnTo>
                      <a:lnTo>
                        <a:pt x="51" y="66"/>
                      </a:lnTo>
                      <a:lnTo>
                        <a:pt x="45" y="77"/>
                      </a:lnTo>
                      <a:lnTo>
                        <a:pt x="35" y="84"/>
                      </a:lnTo>
                      <a:lnTo>
                        <a:pt x="21" y="89"/>
                      </a:lnTo>
                      <a:lnTo>
                        <a:pt x="7" y="86"/>
                      </a:lnTo>
                      <a:lnTo>
                        <a:pt x="0" y="75"/>
                      </a:lnTo>
                      <a:lnTo>
                        <a:pt x="0" y="63"/>
                      </a:lnTo>
                      <a:lnTo>
                        <a:pt x="7" y="52"/>
                      </a:lnTo>
                      <a:lnTo>
                        <a:pt x="24" y="4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15"/>
                <p:cNvSpPr/>
                <p:nvPr/>
              </p:nvSpPr>
              <p:spPr>
                <a:xfrm>
                  <a:off x="1561320" y="3261240"/>
                  <a:ext cx="64080" cy="7668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0 h 76680"/>
                    <a:gd name="textAreaBottom" fmla="*/ 77040 h 76680"/>
                  </a:gdLst>
                  <a:ahLst/>
                  <a:rect l="textAreaLeft" t="textAreaTop" r="textAreaRight" b="textAreaBottom"/>
                  <a:pathLst>
                    <a:path w="45" h="58">
                      <a:moveTo>
                        <a:pt x="38" y="0"/>
                      </a:moveTo>
                      <a:lnTo>
                        <a:pt x="36" y="2"/>
                      </a:lnTo>
                      <a:lnTo>
                        <a:pt x="30" y="3"/>
                      </a:lnTo>
                      <a:lnTo>
                        <a:pt x="22" y="6"/>
                      </a:lnTo>
                      <a:lnTo>
                        <a:pt x="15" y="11"/>
                      </a:lnTo>
                      <a:lnTo>
                        <a:pt x="7" y="15"/>
                      </a:lnTo>
                      <a:lnTo>
                        <a:pt x="1" y="20"/>
                      </a:lnTo>
                      <a:lnTo>
                        <a:pt x="0" y="24"/>
                      </a:lnTo>
                      <a:lnTo>
                        <a:pt x="1" y="27"/>
                      </a:lnTo>
                      <a:lnTo>
                        <a:pt x="13" y="38"/>
                      </a:lnTo>
                      <a:lnTo>
                        <a:pt x="29" y="50"/>
                      </a:lnTo>
                      <a:lnTo>
                        <a:pt x="41" y="58"/>
                      </a:lnTo>
                      <a:lnTo>
                        <a:pt x="45" y="52"/>
                      </a:lnTo>
                      <a:lnTo>
                        <a:pt x="44" y="35"/>
                      </a:lnTo>
                      <a:lnTo>
                        <a:pt x="42" y="18"/>
                      </a:lnTo>
                      <a:lnTo>
                        <a:pt x="39" y="5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17"/>
                <p:cNvSpPr/>
                <p:nvPr/>
              </p:nvSpPr>
              <p:spPr>
                <a:xfrm>
                  <a:off x="2509920" y="4708440"/>
                  <a:ext cx="604800" cy="439920"/>
                </a:xfrm>
                <a:custGeom>
                  <a:avLst/>
                  <a:gdLst>
                    <a:gd name="textAreaLeft" fmla="*/ 0 w 604800"/>
                    <a:gd name="textAreaRight" fmla="*/ 605160 w 604800"/>
                    <a:gd name="textAreaTop" fmla="*/ 0 h 439920"/>
                    <a:gd name="textAreaBottom" fmla="*/ 440280 h 439920"/>
                  </a:gdLst>
                  <a:ahLst/>
                  <a:rect l="textAreaLeft" t="textAreaTop" r="textAreaRight" b="textAreaBottom"/>
                  <a:pathLst>
                    <a:path w="424" h="332">
                      <a:moveTo>
                        <a:pt x="299" y="66"/>
                      </a:moveTo>
                      <a:lnTo>
                        <a:pt x="291" y="65"/>
                      </a:lnTo>
                      <a:lnTo>
                        <a:pt x="284" y="63"/>
                      </a:lnTo>
                      <a:lnTo>
                        <a:pt x="276" y="63"/>
                      </a:lnTo>
                      <a:lnTo>
                        <a:pt x="269" y="62"/>
                      </a:lnTo>
                      <a:lnTo>
                        <a:pt x="260" y="60"/>
                      </a:lnTo>
                      <a:lnTo>
                        <a:pt x="254" y="59"/>
                      </a:lnTo>
                      <a:lnTo>
                        <a:pt x="248" y="59"/>
                      </a:lnTo>
                      <a:lnTo>
                        <a:pt x="243" y="57"/>
                      </a:lnTo>
                      <a:lnTo>
                        <a:pt x="239" y="54"/>
                      </a:lnTo>
                      <a:lnTo>
                        <a:pt x="239" y="48"/>
                      </a:lnTo>
                      <a:lnTo>
                        <a:pt x="243" y="42"/>
                      </a:lnTo>
                      <a:lnTo>
                        <a:pt x="251" y="36"/>
                      </a:lnTo>
                      <a:lnTo>
                        <a:pt x="252" y="30"/>
                      </a:lnTo>
                      <a:lnTo>
                        <a:pt x="245" y="22"/>
                      </a:lnTo>
                      <a:lnTo>
                        <a:pt x="234" y="16"/>
                      </a:lnTo>
                      <a:lnTo>
                        <a:pt x="227" y="10"/>
                      </a:lnTo>
                      <a:lnTo>
                        <a:pt x="222" y="6"/>
                      </a:lnTo>
                      <a:lnTo>
                        <a:pt x="217" y="1"/>
                      </a:lnTo>
                      <a:lnTo>
                        <a:pt x="213" y="0"/>
                      </a:lnTo>
                      <a:lnTo>
                        <a:pt x="211" y="4"/>
                      </a:lnTo>
                      <a:lnTo>
                        <a:pt x="205" y="10"/>
                      </a:lnTo>
                      <a:lnTo>
                        <a:pt x="193" y="18"/>
                      </a:lnTo>
                      <a:lnTo>
                        <a:pt x="180" y="24"/>
                      </a:lnTo>
                      <a:lnTo>
                        <a:pt x="168" y="30"/>
                      </a:lnTo>
                      <a:lnTo>
                        <a:pt x="160" y="35"/>
                      </a:lnTo>
                      <a:lnTo>
                        <a:pt x="155" y="39"/>
                      </a:lnTo>
                      <a:lnTo>
                        <a:pt x="148" y="41"/>
                      </a:lnTo>
                      <a:lnTo>
                        <a:pt x="139" y="42"/>
                      </a:lnTo>
                      <a:lnTo>
                        <a:pt x="133" y="44"/>
                      </a:lnTo>
                      <a:lnTo>
                        <a:pt x="125" y="45"/>
                      </a:lnTo>
                      <a:lnTo>
                        <a:pt x="116" y="50"/>
                      </a:lnTo>
                      <a:lnTo>
                        <a:pt x="109" y="54"/>
                      </a:lnTo>
                      <a:lnTo>
                        <a:pt x="100" y="60"/>
                      </a:lnTo>
                      <a:lnTo>
                        <a:pt x="92" y="66"/>
                      </a:lnTo>
                      <a:lnTo>
                        <a:pt x="86" y="74"/>
                      </a:lnTo>
                      <a:lnTo>
                        <a:pt x="80" y="81"/>
                      </a:lnTo>
                      <a:lnTo>
                        <a:pt x="75" y="89"/>
                      </a:lnTo>
                      <a:lnTo>
                        <a:pt x="71" y="93"/>
                      </a:lnTo>
                      <a:lnTo>
                        <a:pt x="65" y="99"/>
                      </a:lnTo>
                      <a:lnTo>
                        <a:pt x="59" y="104"/>
                      </a:lnTo>
                      <a:lnTo>
                        <a:pt x="53" y="109"/>
                      </a:lnTo>
                      <a:lnTo>
                        <a:pt x="45" y="115"/>
                      </a:lnTo>
                      <a:lnTo>
                        <a:pt x="36" y="119"/>
                      </a:lnTo>
                      <a:lnTo>
                        <a:pt x="27" y="125"/>
                      </a:lnTo>
                      <a:lnTo>
                        <a:pt x="16" y="128"/>
                      </a:lnTo>
                      <a:lnTo>
                        <a:pt x="7" y="128"/>
                      </a:lnTo>
                      <a:lnTo>
                        <a:pt x="1" y="137"/>
                      </a:lnTo>
                      <a:lnTo>
                        <a:pt x="0" y="170"/>
                      </a:lnTo>
                      <a:lnTo>
                        <a:pt x="0" y="184"/>
                      </a:lnTo>
                      <a:lnTo>
                        <a:pt x="1" y="192"/>
                      </a:lnTo>
                      <a:lnTo>
                        <a:pt x="3" y="198"/>
                      </a:lnTo>
                      <a:lnTo>
                        <a:pt x="7" y="205"/>
                      </a:lnTo>
                      <a:lnTo>
                        <a:pt x="15" y="211"/>
                      </a:lnTo>
                      <a:lnTo>
                        <a:pt x="22" y="216"/>
                      </a:lnTo>
                      <a:lnTo>
                        <a:pt x="25" y="222"/>
                      </a:lnTo>
                      <a:lnTo>
                        <a:pt x="24" y="231"/>
                      </a:lnTo>
                      <a:lnTo>
                        <a:pt x="19" y="240"/>
                      </a:lnTo>
                      <a:lnTo>
                        <a:pt x="15" y="247"/>
                      </a:lnTo>
                      <a:lnTo>
                        <a:pt x="12" y="256"/>
                      </a:lnTo>
                      <a:lnTo>
                        <a:pt x="12" y="269"/>
                      </a:lnTo>
                      <a:lnTo>
                        <a:pt x="15" y="275"/>
                      </a:lnTo>
                      <a:lnTo>
                        <a:pt x="19" y="279"/>
                      </a:lnTo>
                      <a:lnTo>
                        <a:pt x="29" y="284"/>
                      </a:lnTo>
                      <a:lnTo>
                        <a:pt x="38" y="285"/>
                      </a:lnTo>
                      <a:lnTo>
                        <a:pt x="47" y="285"/>
                      </a:lnTo>
                      <a:lnTo>
                        <a:pt x="57" y="285"/>
                      </a:lnTo>
                      <a:lnTo>
                        <a:pt x="66" y="284"/>
                      </a:lnTo>
                      <a:lnTo>
                        <a:pt x="74" y="281"/>
                      </a:lnTo>
                      <a:lnTo>
                        <a:pt x="80" y="278"/>
                      </a:lnTo>
                      <a:lnTo>
                        <a:pt x="87" y="275"/>
                      </a:lnTo>
                      <a:lnTo>
                        <a:pt x="95" y="272"/>
                      </a:lnTo>
                      <a:lnTo>
                        <a:pt x="103" y="269"/>
                      </a:lnTo>
                      <a:lnTo>
                        <a:pt x="112" y="266"/>
                      </a:lnTo>
                      <a:lnTo>
                        <a:pt x="121" y="263"/>
                      </a:lnTo>
                      <a:lnTo>
                        <a:pt x="130" y="259"/>
                      </a:lnTo>
                      <a:lnTo>
                        <a:pt x="139" y="256"/>
                      </a:lnTo>
                      <a:lnTo>
                        <a:pt x="149" y="253"/>
                      </a:lnTo>
                      <a:lnTo>
                        <a:pt x="162" y="252"/>
                      </a:lnTo>
                      <a:lnTo>
                        <a:pt x="175" y="250"/>
                      </a:lnTo>
                      <a:lnTo>
                        <a:pt x="189" y="249"/>
                      </a:lnTo>
                      <a:lnTo>
                        <a:pt x="202" y="250"/>
                      </a:lnTo>
                      <a:lnTo>
                        <a:pt x="216" y="252"/>
                      </a:lnTo>
                      <a:lnTo>
                        <a:pt x="228" y="256"/>
                      </a:lnTo>
                      <a:lnTo>
                        <a:pt x="239" y="261"/>
                      </a:lnTo>
                      <a:lnTo>
                        <a:pt x="248" y="267"/>
                      </a:lnTo>
                      <a:lnTo>
                        <a:pt x="257" y="275"/>
                      </a:lnTo>
                      <a:lnTo>
                        <a:pt x="264" y="282"/>
                      </a:lnTo>
                      <a:lnTo>
                        <a:pt x="272" y="291"/>
                      </a:lnTo>
                      <a:lnTo>
                        <a:pt x="278" y="300"/>
                      </a:lnTo>
                      <a:lnTo>
                        <a:pt x="285" y="308"/>
                      </a:lnTo>
                      <a:lnTo>
                        <a:pt x="290" y="315"/>
                      </a:lnTo>
                      <a:lnTo>
                        <a:pt x="295" y="323"/>
                      </a:lnTo>
                      <a:lnTo>
                        <a:pt x="301" y="327"/>
                      </a:lnTo>
                      <a:lnTo>
                        <a:pt x="310" y="330"/>
                      </a:lnTo>
                      <a:lnTo>
                        <a:pt x="320" y="332"/>
                      </a:lnTo>
                      <a:lnTo>
                        <a:pt x="332" y="330"/>
                      </a:lnTo>
                      <a:lnTo>
                        <a:pt x="344" y="329"/>
                      </a:lnTo>
                      <a:lnTo>
                        <a:pt x="353" y="327"/>
                      </a:lnTo>
                      <a:lnTo>
                        <a:pt x="361" y="324"/>
                      </a:lnTo>
                      <a:lnTo>
                        <a:pt x="364" y="320"/>
                      </a:lnTo>
                      <a:lnTo>
                        <a:pt x="367" y="309"/>
                      </a:lnTo>
                      <a:lnTo>
                        <a:pt x="373" y="296"/>
                      </a:lnTo>
                      <a:lnTo>
                        <a:pt x="379" y="284"/>
                      </a:lnTo>
                      <a:lnTo>
                        <a:pt x="382" y="273"/>
                      </a:lnTo>
                      <a:lnTo>
                        <a:pt x="387" y="264"/>
                      </a:lnTo>
                      <a:lnTo>
                        <a:pt x="396" y="253"/>
                      </a:lnTo>
                      <a:lnTo>
                        <a:pt x="405" y="243"/>
                      </a:lnTo>
                      <a:lnTo>
                        <a:pt x="409" y="232"/>
                      </a:lnTo>
                      <a:lnTo>
                        <a:pt x="411" y="222"/>
                      </a:lnTo>
                      <a:lnTo>
                        <a:pt x="415" y="210"/>
                      </a:lnTo>
                      <a:lnTo>
                        <a:pt x="421" y="198"/>
                      </a:lnTo>
                      <a:lnTo>
                        <a:pt x="424" y="186"/>
                      </a:lnTo>
                      <a:lnTo>
                        <a:pt x="423" y="179"/>
                      </a:lnTo>
                      <a:lnTo>
                        <a:pt x="420" y="172"/>
                      </a:lnTo>
                      <a:lnTo>
                        <a:pt x="414" y="166"/>
                      </a:lnTo>
                      <a:lnTo>
                        <a:pt x="408" y="160"/>
                      </a:lnTo>
                      <a:lnTo>
                        <a:pt x="400" y="152"/>
                      </a:lnTo>
                      <a:lnTo>
                        <a:pt x="393" y="146"/>
                      </a:lnTo>
                      <a:lnTo>
                        <a:pt x="385" y="142"/>
                      </a:lnTo>
                      <a:lnTo>
                        <a:pt x="381" y="136"/>
                      </a:lnTo>
                      <a:lnTo>
                        <a:pt x="367" y="121"/>
                      </a:lnTo>
                      <a:lnTo>
                        <a:pt x="356" y="109"/>
                      </a:lnTo>
                      <a:lnTo>
                        <a:pt x="347" y="98"/>
                      </a:lnTo>
                      <a:lnTo>
                        <a:pt x="343" y="86"/>
                      </a:lnTo>
                      <a:lnTo>
                        <a:pt x="340" y="71"/>
                      </a:lnTo>
                      <a:lnTo>
                        <a:pt x="338" y="56"/>
                      </a:lnTo>
                      <a:lnTo>
                        <a:pt x="337" y="42"/>
                      </a:lnTo>
                      <a:lnTo>
                        <a:pt x="332" y="30"/>
                      </a:lnTo>
                      <a:lnTo>
                        <a:pt x="326" y="19"/>
                      </a:lnTo>
                      <a:lnTo>
                        <a:pt x="319" y="12"/>
                      </a:lnTo>
                      <a:lnTo>
                        <a:pt x="311" y="4"/>
                      </a:lnTo>
                      <a:lnTo>
                        <a:pt x="305" y="0"/>
                      </a:lnTo>
                      <a:lnTo>
                        <a:pt x="308" y="15"/>
                      </a:lnTo>
                      <a:lnTo>
                        <a:pt x="311" y="30"/>
                      </a:lnTo>
                      <a:lnTo>
                        <a:pt x="311" y="44"/>
                      </a:lnTo>
                      <a:lnTo>
                        <a:pt x="311" y="54"/>
                      </a:lnTo>
                      <a:lnTo>
                        <a:pt x="311" y="60"/>
                      </a:lnTo>
                      <a:lnTo>
                        <a:pt x="308" y="65"/>
                      </a:lnTo>
                      <a:lnTo>
                        <a:pt x="305" y="66"/>
                      </a:lnTo>
                      <a:lnTo>
                        <a:pt x="299" y="6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18"/>
                <p:cNvSpPr/>
                <p:nvPr/>
              </p:nvSpPr>
              <p:spPr>
                <a:xfrm>
                  <a:off x="2455560" y="4446000"/>
                  <a:ext cx="118080" cy="156240"/>
                </a:xfrm>
                <a:custGeom>
                  <a:avLst/>
                  <a:gdLst>
                    <a:gd name="textAreaLeft" fmla="*/ 0 w 118080"/>
                    <a:gd name="textAreaRight" fmla="*/ 118440 w 118080"/>
                    <a:gd name="textAreaTop" fmla="*/ 0 h 156240"/>
                    <a:gd name="textAreaBottom" fmla="*/ 156600 h 156240"/>
                  </a:gdLst>
                  <a:ahLst/>
                  <a:rect l="textAreaLeft" t="textAreaTop" r="textAreaRight" b="textAreaBottom"/>
                  <a:pathLst>
                    <a:path w="83" h="118">
                      <a:moveTo>
                        <a:pt x="24" y="42"/>
                      </a:moveTo>
                      <a:lnTo>
                        <a:pt x="35" y="38"/>
                      </a:lnTo>
                      <a:lnTo>
                        <a:pt x="42" y="30"/>
                      </a:lnTo>
                      <a:lnTo>
                        <a:pt x="48" y="23"/>
                      </a:lnTo>
                      <a:lnTo>
                        <a:pt x="56" y="14"/>
                      </a:lnTo>
                      <a:lnTo>
                        <a:pt x="63" y="6"/>
                      </a:lnTo>
                      <a:lnTo>
                        <a:pt x="73" y="0"/>
                      </a:lnTo>
                      <a:lnTo>
                        <a:pt x="80" y="3"/>
                      </a:lnTo>
                      <a:lnTo>
                        <a:pt x="83" y="15"/>
                      </a:lnTo>
                      <a:lnTo>
                        <a:pt x="83" y="30"/>
                      </a:lnTo>
                      <a:lnTo>
                        <a:pt x="82" y="42"/>
                      </a:lnTo>
                      <a:lnTo>
                        <a:pt x="79" y="53"/>
                      </a:lnTo>
                      <a:lnTo>
                        <a:pt x="80" y="63"/>
                      </a:lnTo>
                      <a:lnTo>
                        <a:pt x="80" y="74"/>
                      </a:lnTo>
                      <a:lnTo>
                        <a:pt x="77" y="85"/>
                      </a:lnTo>
                      <a:lnTo>
                        <a:pt x="71" y="94"/>
                      </a:lnTo>
                      <a:lnTo>
                        <a:pt x="62" y="98"/>
                      </a:lnTo>
                      <a:lnTo>
                        <a:pt x="53" y="101"/>
                      </a:lnTo>
                      <a:lnTo>
                        <a:pt x="44" y="106"/>
                      </a:lnTo>
                      <a:lnTo>
                        <a:pt x="36" y="110"/>
                      </a:lnTo>
                      <a:lnTo>
                        <a:pt x="32" y="115"/>
                      </a:lnTo>
                      <a:lnTo>
                        <a:pt x="27" y="118"/>
                      </a:lnTo>
                      <a:lnTo>
                        <a:pt x="20" y="116"/>
                      </a:lnTo>
                      <a:lnTo>
                        <a:pt x="12" y="112"/>
                      </a:lnTo>
                      <a:lnTo>
                        <a:pt x="6" y="104"/>
                      </a:lnTo>
                      <a:lnTo>
                        <a:pt x="0" y="91"/>
                      </a:lnTo>
                      <a:lnTo>
                        <a:pt x="0" y="73"/>
                      </a:lnTo>
                      <a:lnTo>
                        <a:pt x="8" y="54"/>
                      </a:lnTo>
                      <a:lnTo>
                        <a:pt x="24" y="42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19"/>
                <p:cNvSpPr/>
                <p:nvPr/>
              </p:nvSpPr>
              <p:spPr>
                <a:xfrm>
                  <a:off x="2219040" y="4525560"/>
                  <a:ext cx="178200" cy="158760"/>
                </a:xfrm>
                <a:custGeom>
                  <a:avLst/>
                  <a:gdLst>
                    <a:gd name="textAreaLeft" fmla="*/ 0 w 178200"/>
                    <a:gd name="textAreaRight" fmla="*/ 178560 w 17820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25" h="120">
                      <a:moveTo>
                        <a:pt x="0" y="3"/>
                      </a:moveTo>
                      <a:lnTo>
                        <a:pt x="1" y="11"/>
                      </a:lnTo>
                      <a:lnTo>
                        <a:pt x="13" y="17"/>
                      </a:lnTo>
                      <a:lnTo>
                        <a:pt x="27" y="25"/>
                      </a:lnTo>
                      <a:lnTo>
                        <a:pt x="36" y="35"/>
                      </a:lnTo>
                      <a:lnTo>
                        <a:pt x="42" y="44"/>
                      </a:lnTo>
                      <a:lnTo>
                        <a:pt x="47" y="52"/>
                      </a:lnTo>
                      <a:lnTo>
                        <a:pt x="51" y="59"/>
                      </a:lnTo>
                      <a:lnTo>
                        <a:pt x="56" y="68"/>
                      </a:lnTo>
                      <a:lnTo>
                        <a:pt x="62" y="79"/>
                      </a:lnTo>
                      <a:lnTo>
                        <a:pt x="71" y="91"/>
                      </a:lnTo>
                      <a:lnTo>
                        <a:pt x="80" y="103"/>
                      </a:lnTo>
                      <a:lnTo>
                        <a:pt x="90" y="117"/>
                      </a:lnTo>
                      <a:lnTo>
                        <a:pt x="98" y="120"/>
                      </a:lnTo>
                      <a:lnTo>
                        <a:pt x="107" y="120"/>
                      </a:lnTo>
                      <a:lnTo>
                        <a:pt x="116" y="118"/>
                      </a:lnTo>
                      <a:lnTo>
                        <a:pt x="124" y="114"/>
                      </a:lnTo>
                      <a:lnTo>
                        <a:pt x="125" y="106"/>
                      </a:lnTo>
                      <a:lnTo>
                        <a:pt x="122" y="97"/>
                      </a:lnTo>
                      <a:lnTo>
                        <a:pt x="116" y="86"/>
                      </a:lnTo>
                      <a:lnTo>
                        <a:pt x="107" y="79"/>
                      </a:lnTo>
                      <a:lnTo>
                        <a:pt x="100" y="73"/>
                      </a:lnTo>
                      <a:lnTo>
                        <a:pt x="92" y="67"/>
                      </a:lnTo>
                      <a:lnTo>
                        <a:pt x="83" y="61"/>
                      </a:lnTo>
                      <a:lnTo>
                        <a:pt x="75" y="55"/>
                      </a:lnTo>
                      <a:lnTo>
                        <a:pt x="69" y="49"/>
                      </a:lnTo>
                      <a:lnTo>
                        <a:pt x="63" y="43"/>
                      </a:lnTo>
                      <a:lnTo>
                        <a:pt x="59" y="37"/>
                      </a:lnTo>
                      <a:lnTo>
                        <a:pt x="54" y="31"/>
                      </a:lnTo>
                      <a:lnTo>
                        <a:pt x="50" y="23"/>
                      </a:lnTo>
                      <a:lnTo>
                        <a:pt x="44" y="17"/>
                      </a:lnTo>
                      <a:lnTo>
                        <a:pt x="38" y="13"/>
                      </a:lnTo>
                      <a:lnTo>
                        <a:pt x="30" y="11"/>
                      </a:lnTo>
                      <a:lnTo>
                        <a:pt x="22" y="8"/>
                      </a:lnTo>
                      <a:lnTo>
                        <a:pt x="13" y="3"/>
                      </a:lnTo>
                      <a:lnTo>
                        <a:pt x="6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20"/>
                <p:cNvSpPr/>
                <p:nvPr/>
              </p:nvSpPr>
              <p:spPr>
                <a:xfrm>
                  <a:off x="2793600" y="3877560"/>
                  <a:ext cx="192240" cy="176040"/>
                </a:xfrm>
                <a:custGeom>
                  <a:avLst/>
                  <a:gdLst>
                    <a:gd name="textAreaLeft" fmla="*/ 0 w 192240"/>
                    <a:gd name="textAreaRight" fmla="*/ 192600 w 192240"/>
                    <a:gd name="textAreaTop" fmla="*/ 0 h 176040"/>
                    <a:gd name="textAreaBottom" fmla="*/ 176400 h 176040"/>
                  </a:gdLst>
                  <a:ahLst/>
                  <a:rect l="textAreaLeft" t="textAreaTop" r="textAreaRight" b="textAreaBottom"/>
                  <a:pathLst>
                    <a:path w="135" h="133">
                      <a:moveTo>
                        <a:pt x="83" y="120"/>
                      </a:moveTo>
                      <a:lnTo>
                        <a:pt x="97" y="104"/>
                      </a:lnTo>
                      <a:lnTo>
                        <a:pt x="109" y="86"/>
                      </a:lnTo>
                      <a:lnTo>
                        <a:pt x="117" y="67"/>
                      </a:lnTo>
                      <a:lnTo>
                        <a:pt x="120" y="52"/>
                      </a:lnTo>
                      <a:lnTo>
                        <a:pt x="124" y="40"/>
                      </a:lnTo>
                      <a:lnTo>
                        <a:pt x="130" y="27"/>
                      </a:lnTo>
                      <a:lnTo>
                        <a:pt x="135" y="15"/>
                      </a:lnTo>
                      <a:lnTo>
                        <a:pt x="127" y="5"/>
                      </a:lnTo>
                      <a:lnTo>
                        <a:pt x="115" y="0"/>
                      </a:lnTo>
                      <a:lnTo>
                        <a:pt x="109" y="2"/>
                      </a:lnTo>
                      <a:lnTo>
                        <a:pt x="106" y="9"/>
                      </a:lnTo>
                      <a:lnTo>
                        <a:pt x="103" y="20"/>
                      </a:lnTo>
                      <a:lnTo>
                        <a:pt x="99" y="35"/>
                      </a:lnTo>
                      <a:lnTo>
                        <a:pt x="89" y="52"/>
                      </a:lnTo>
                      <a:lnTo>
                        <a:pt x="80" y="67"/>
                      </a:lnTo>
                      <a:lnTo>
                        <a:pt x="71" y="80"/>
                      </a:lnTo>
                      <a:lnTo>
                        <a:pt x="65" y="86"/>
                      </a:lnTo>
                      <a:lnTo>
                        <a:pt x="55" y="92"/>
                      </a:lnTo>
                      <a:lnTo>
                        <a:pt x="44" y="98"/>
                      </a:lnTo>
                      <a:lnTo>
                        <a:pt x="32" y="104"/>
                      </a:lnTo>
                      <a:lnTo>
                        <a:pt x="20" y="109"/>
                      </a:lnTo>
                      <a:lnTo>
                        <a:pt x="9" y="114"/>
                      </a:lnTo>
                      <a:lnTo>
                        <a:pt x="3" y="115"/>
                      </a:lnTo>
                      <a:lnTo>
                        <a:pt x="0" y="117"/>
                      </a:lnTo>
                      <a:lnTo>
                        <a:pt x="8" y="124"/>
                      </a:lnTo>
                      <a:lnTo>
                        <a:pt x="18" y="129"/>
                      </a:lnTo>
                      <a:lnTo>
                        <a:pt x="29" y="133"/>
                      </a:lnTo>
                      <a:lnTo>
                        <a:pt x="40" y="133"/>
                      </a:lnTo>
                      <a:lnTo>
                        <a:pt x="52" y="133"/>
                      </a:lnTo>
                      <a:lnTo>
                        <a:pt x="62" y="130"/>
                      </a:lnTo>
                      <a:lnTo>
                        <a:pt x="74" y="126"/>
                      </a:lnTo>
                      <a:lnTo>
                        <a:pt x="83" y="12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21"/>
                <p:cNvSpPr/>
                <p:nvPr/>
              </p:nvSpPr>
              <p:spPr>
                <a:xfrm>
                  <a:off x="2802240" y="4578480"/>
                  <a:ext cx="252360" cy="121680"/>
                </a:xfrm>
                <a:custGeom>
                  <a:avLst/>
                  <a:gdLst>
                    <a:gd name="textAreaLeft" fmla="*/ 0 w 252360"/>
                    <a:gd name="textAreaRight" fmla="*/ 252720 w 252360"/>
                    <a:gd name="textAreaTop" fmla="*/ 0 h 121680"/>
                    <a:gd name="textAreaBottom" fmla="*/ 122040 h 121680"/>
                  </a:gdLst>
                  <a:ahLst/>
                  <a:rect l="textAreaLeft" t="textAreaTop" r="textAreaRight" b="textAreaBottom"/>
                  <a:pathLst>
                    <a:path w="177" h="92">
                      <a:moveTo>
                        <a:pt x="31" y="4"/>
                      </a:moveTo>
                      <a:lnTo>
                        <a:pt x="38" y="3"/>
                      </a:lnTo>
                      <a:lnTo>
                        <a:pt x="44" y="1"/>
                      </a:lnTo>
                      <a:lnTo>
                        <a:pt x="52" y="1"/>
                      </a:lnTo>
                      <a:lnTo>
                        <a:pt x="58" y="0"/>
                      </a:lnTo>
                      <a:lnTo>
                        <a:pt x="64" y="0"/>
                      </a:lnTo>
                      <a:lnTo>
                        <a:pt x="71" y="1"/>
                      </a:lnTo>
                      <a:lnTo>
                        <a:pt x="77" y="4"/>
                      </a:lnTo>
                      <a:lnTo>
                        <a:pt x="85" y="9"/>
                      </a:lnTo>
                      <a:lnTo>
                        <a:pt x="93" y="15"/>
                      </a:lnTo>
                      <a:lnTo>
                        <a:pt x="100" y="21"/>
                      </a:lnTo>
                      <a:lnTo>
                        <a:pt x="106" y="28"/>
                      </a:lnTo>
                      <a:lnTo>
                        <a:pt x="114" y="34"/>
                      </a:lnTo>
                      <a:lnTo>
                        <a:pt x="120" y="42"/>
                      </a:lnTo>
                      <a:lnTo>
                        <a:pt x="127" y="48"/>
                      </a:lnTo>
                      <a:lnTo>
                        <a:pt x="133" y="53"/>
                      </a:lnTo>
                      <a:lnTo>
                        <a:pt x="141" y="57"/>
                      </a:lnTo>
                      <a:lnTo>
                        <a:pt x="155" y="66"/>
                      </a:lnTo>
                      <a:lnTo>
                        <a:pt x="167" y="77"/>
                      </a:lnTo>
                      <a:lnTo>
                        <a:pt x="174" y="87"/>
                      </a:lnTo>
                      <a:lnTo>
                        <a:pt x="177" y="92"/>
                      </a:lnTo>
                      <a:lnTo>
                        <a:pt x="126" y="80"/>
                      </a:lnTo>
                      <a:lnTo>
                        <a:pt x="94" y="84"/>
                      </a:lnTo>
                      <a:lnTo>
                        <a:pt x="91" y="84"/>
                      </a:lnTo>
                      <a:lnTo>
                        <a:pt x="85" y="84"/>
                      </a:lnTo>
                      <a:lnTo>
                        <a:pt x="76" y="83"/>
                      </a:lnTo>
                      <a:lnTo>
                        <a:pt x="65" y="80"/>
                      </a:lnTo>
                      <a:lnTo>
                        <a:pt x="53" y="75"/>
                      </a:lnTo>
                      <a:lnTo>
                        <a:pt x="41" y="69"/>
                      </a:lnTo>
                      <a:lnTo>
                        <a:pt x="32" y="60"/>
                      </a:lnTo>
                      <a:lnTo>
                        <a:pt x="26" y="48"/>
                      </a:lnTo>
                      <a:lnTo>
                        <a:pt x="22" y="40"/>
                      </a:lnTo>
                      <a:lnTo>
                        <a:pt x="14" y="33"/>
                      </a:lnTo>
                      <a:lnTo>
                        <a:pt x="8" y="28"/>
                      </a:lnTo>
                      <a:lnTo>
                        <a:pt x="2" y="22"/>
                      </a:lnTo>
                      <a:lnTo>
                        <a:pt x="0" y="16"/>
                      </a:lnTo>
                      <a:lnTo>
                        <a:pt x="3" y="12"/>
                      </a:lnTo>
                      <a:lnTo>
                        <a:pt x="14" y="7"/>
                      </a:lnTo>
                      <a:lnTo>
                        <a:pt x="31" y="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22"/>
                <p:cNvSpPr/>
                <p:nvPr/>
              </p:nvSpPr>
              <p:spPr>
                <a:xfrm>
                  <a:off x="3278880" y="5153760"/>
                  <a:ext cx="116640" cy="132480"/>
                </a:xfrm>
                <a:custGeom>
                  <a:avLst/>
                  <a:gdLst>
                    <a:gd name="textAreaLeft" fmla="*/ 0 w 116640"/>
                    <a:gd name="textAreaRight" fmla="*/ 117000 w 116640"/>
                    <a:gd name="textAreaTop" fmla="*/ 0 h 132480"/>
                    <a:gd name="textAreaBottom" fmla="*/ 132840 h 132480"/>
                  </a:gdLst>
                  <a:ahLst/>
                  <a:rect l="textAreaLeft" t="textAreaTop" r="textAreaRight" b="textAreaBottom"/>
                  <a:pathLst>
                    <a:path w="82" h="100">
                      <a:moveTo>
                        <a:pt x="23" y="53"/>
                      </a:moveTo>
                      <a:lnTo>
                        <a:pt x="29" y="50"/>
                      </a:lnTo>
                      <a:lnTo>
                        <a:pt x="37" y="46"/>
                      </a:lnTo>
                      <a:lnTo>
                        <a:pt x="46" y="38"/>
                      </a:lnTo>
                      <a:lnTo>
                        <a:pt x="53" y="29"/>
                      </a:lnTo>
                      <a:lnTo>
                        <a:pt x="62" y="22"/>
                      </a:lnTo>
                      <a:lnTo>
                        <a:pt x="70" y="13"/>
                      </a:lnTo>
                      <a:lnTo>
                        <a:pt x="76" y="7"/>
                      </a:lnTo>
                      <a:lnTo>
                        <a:pt x="79" y="2"/>
                      </a:lnTo>
                      <a:lnTo>
                        <a:pt x="82" y="0"/>
                      </a:lnTo>
                      <a:lnTo>
                        <a:pt x="82" y="4"/>
                      </a:lnTo>
                      <a:lnTo>
                        <a:pt x="82" y="13"/>
                      </a:lnTo>
                      <a:lnTo>
                        <a:pt x="80" y="26"/>
                      </a:lnTo>
                      <a:lnTo>
                        <a:pt x="77" y="40"/>
                      </a:lnTo>
                      <a:lnTo>
                        <a:pt x="70" y="50"/>
                      </a:lnTo>
                      <a:lnTo>
                        <a:pt x="61" y="58"/>
                      </a:lnTo>
                      <a:lnTo>
                        <a:pt x="52" y="62"/>
                      </a:lnTo>
                      <a:lnTo>
                        <a:pt x="47" y="67"/>
                      </a:lnTo>
                      <a:lnTo>
                        <a:pt x="44" y="76"/>
                      </a:lnTo>
                      <a:lnTo>
                        <a:pt x="44" y="87"/>
                      </a:lnTo>
                      <a:lnTo>
                        <a:pt x="44" y="94"/>
                      </a:lnTo>
                      <a:lnTo>
                        <a:pt x="38" y="99"/>
                      </a:lnTo>
                      <a:lnTo>
                        <a:pt x="26" y="100"/>
                      </a:lnTo>
                      <a:lnTo>
                        <a:pt x="11" y="97"/>
                      </a:lnTo>
                      <a:lnTo>
                        <a:pt x="2" y="90"/>
                      </a:lnTo>
                      <a:lnTo>
                        <a:pt x="0" y="79"/>
                      </a:lnTo>
                      <a:lnTo>
                        <a:pt x="3" y="67"/>
                      </a:lnTo>
                      <a:lnTo>
                        <a:pt x="11" y="58"/>
                      </a:lnTo>
                      <a:lnTo>
                        <a:pt x="23" y="53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23"/>
                <p:cNvSpPr/>
                <p:nvPr/>
              </p:nvSpPr>
              <p:spPr>
                <a:xfrm>
                  <a:off x="3402720" y="5058360"/>
                  <a:ext cx="91080" cy="1083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108360"/>
                    <a:gd name="textAreaBottom" fmla="*/ 108720 h 108360"/>
                  </a:gdLst>
                  <a:ahLst/>
                  <a:rect l="textAreaLeft" t="textAreaTop" r="textAreaRight" b="textAreaBottom"/>
                  <a:pathLst>
                    <a:path w="64" h="82">
                      <a:moveTo>
                        <a:pt x="3" y="0"/>
                      </a:moveTo>
                      <a:lnTo>
                        <a:pt x="12" y="6"/>
                      </a:lnTo>
                      <a:lnTo>
                        <a:pt x="21" y="18"/>
                      </a:lnTo>
                      <a:lnTo>
                        <a:pt x="28" y="30"/>
                      </a:lnTo>
                      <a:lnTo>
                        <a:pt x="34" y="36"/>
                      </a:lnTo>
                      <a:lnTo>
                        <a:pt x="42" y="36"/>
                      </a:lnTo>
                      <a:lnTo>
                        <a:pt x="51" y="36"/>
                      </a:lnTo>
                      <a:lnTo>
                        <a:pt x="60" y="38"/>
                      </a:lnTo>
                      <a:lnTo>
                        <a:pt x="64" y="42"/>
                      </a:lnTo>
                      <a:lnTo>
                        <a:pt x="64" y="50"/>
                      </a:lnTo>
                      <a:lnTo>
                        <a:pt x="61" y="57"/>
                      </a:lnTo>
                      <a:lnTo>
                        <a:pt x="55" y="66"/>
                      </a:lnTo>
                      <a:lnTo>
                        <a:pt x="49" y="74"/>
                      </a:lnTo>
                      <a:lnTo>
                        <a:pt x="43" y="79"/>
                      </a:lnTo>
                      <a:lnTo>
                        <a:pt x="37" y="82"/>
                      </a:lnTo>
                      <a:lnTo>
                        <a:pt x="30" y="80"/>
                      </a:lnTo>
                      <a:lnTo>
                        <a:pt x="24" y="74"/>
                      </a:lnTo>
                      <a:lnTo>
                        <a:pt x="19" y="65"/>
                      </a:lnTo>
                      <a:lnTo>
                        <a:pt x="16" y="56"/>
                      </a:lnTo>
                      <a:lnTo>
                        <a:pt x="15" y="47"/>
                      </a:lnTo>
                      <a:lnTo>
                        <a:pt x="15" y="41"/>
                      </a:lnTo>
                      <a:lnTo>
                        <a:pt x="13" y="33"/>
                      </a:lnTo>
                      <a:lnTo>
                        <a:pt x="9" y="24"/>
                      </a:lnTo>
                      <a:lnTo>
                        <a:pt x="3" y="18"/>
                      </a:lnTo>
                      <a:lnTo>
                        <a:pt x="0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25"/>
                <p:cNvSpPr/>
                <p:nvPr/>
              </p:nvSpPr>
              <p:spPr>
                <a:xfrm>
                  <a:off x="1362960" y="4725720"/>
                  <a:ext cx="115200" cy="22248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81" h="168">
                      <a:moveTo>
                        <a:pt x="54" y="3"/>
                      </a:moveTo>
                      <a:lnTo>
                        <a:pt x="69" y="0"/>
                      </a:lnTo>
                      <a:lnTo>
                        <a:pt x="77" y="3"/>
                      </a:lnTo>
                      <a:lnTo>
                        <a:pt x="81" y="12"/>
                      </a:lnTo>
                      <a:lnTo>
                        <a:pt x="81" y="25"/>
                      </a:lnTo>
                      <a:lnTo>
                        <a:pt x="80" y="38"/>
                      </a:lnTo>
                      <a:lnTo>
                        <a:pt x="77" y="53"/>
                      </a:lnTo>
                      <a:lnTo>
                        <a:pt x="74" y="67"/>
                      </a:lnTo>
                      <a:lnTo>
                        <a:pt x="72" y="79"/>
                      </a:lnTo>
                      <a:lnTo>
                        <a:pt x="72" y="102"/>
                      </a:lnTo>
                      <a:lnTo>
                        <a:pt x="71" y="124"/>
                      </a:lnTo>
                      <a:lnTo>
                        <a:pt x="68" y="144"/>
                      </a:lnTo>
                      <a:lnTo>
                        <a:pt x="65" y="156"/>
                      </a:lnTo>
                      <a:lnTo>
                        <a:pt x="62" y="159"/>
                      </a:lnTo>
                      <a:lnTo>
                        <a:pt x="57" y="162"/>
                      </a:lnTo>
                      <a:lnTo>
                        <a:pt x="50" y="165"/>
                      </a:lnTo>
                      <a:lnTo>
                        <a:pt x="42" y="168"/>
                      </a:lnTo>
                      <a:lnTo>
                        <a:pt x="33" y="168"/>
                      </a:lnTo>
                      <a:lnTo>
                        <a:pt x="25" y="166"/>
                      </a:lnTo>
                      <a:lnTo>
                        <a:pt x="19" y="160"/>
                      </a:lnTo>
                      <a:lnTo>
                        <a:pt x="13" y="153"/>
                      </a:lnTo>
                      <a:lnTo>
                        <a:pt x="6" y="132"/>
                      </a:lnTo>
                      <a:lnTo>
                        <a:pt x="1" y="114"/>
                      </a:lnTo>
                      <a:lnTo>
                        <a:pt x="0" y="99"/>
                      </a:lnTo>
                      <a:lnTo>
                        <a:pt x="1" y="88"/>
                      </a:lnTo>
                      <a:lnTo>
                        <a:pt x="6" y="77"/>
                      </a:lnTo>
                      <a:lnTo>
                        <a:pt x="13" y="65"/>
                      </a:lnTo>
                      <a:lnTo>
                        <a:pt x="24" y="56"/>
                      </a:lnTo>
                      <a:lnTo>
                        <a:pt x="33" y="53"/>
                      </a:lnTo>
                      <a:lnTo>
                        <a:pt x="39" y="46"/>
                      </a:lnTo>
                      <a:lnTo>
                        <a:pt x="44" y="29"/>
                      </a:lnTo>
                      <a:lnTo>
                        <a:pt x="48" y="12"/>
                      </a:lnTo>
                      <a:lnTo>
                        <a:pt x="54" y="3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Text Box 30"/>
                <p:cNvSpPr/>
                <p:nvPr/>
              </p:nvSpPr>
              <p:spPr>
                <a:xfrm>
                  <a:off x="609120" y="3271680"/>
                  <a:ext cx="520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E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31"/>
                <p:cNvSpPr/>
                <p:nvPr/>
              </p:nvSpPr>
              <p:spPr>
                <a:xfrm>
                  <a:off x="822240" y="3570840"/>
                  <a:ext cx="70920" cy="14976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32"/>
                <p:cNvSpPr/>
                <p:nvPr/>
              </p:nvSpPr>
              <p:spPr>
                <a:xfrm flipH="1">
                  <a:off x="2674440" y="3270960"/>
                  <a:ext cx="1068840" cy="61560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Text Box 33"/>
                <p:cNvSpPr/>
                <p:nvPr/>
              </p:nvSpPr>
              <p:spPr>
                <a:xfrm>
                  <a:off x="3641400" y="2822040"/>
                  <a:ext cx="8157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Trebuchet MS"/>
                    </a:rPr>
                    <a:t>South</a:t>
                  </a: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 </a:t>
                  </a:r>
                  <a:r>
                    <a:rPr b="0" lang="en-US" sz="1400" spc="-1" strike="noStrike">
                      <a:solidFill>
                        <a:srgbClr val="000066"/>
                      </a:solidFill>
                      <a:latin typeface="Trebuchet MS"/>
                    </a:rPr>
                    <a:t>Kore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34"/>
                <p:cNvSpPr/>
                <p:nvPr/>
              </p:nvSpPr>
              <p:spPr>
                <a:xfrm flipH="1" flipV="1">
                  <a:off x="3401280" y="5196960"/>
                  <a:ext cx="555840" cy="32112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37"/>
                <p:cNvSpPr/>
                <p:nvPr/>
              </p:nvSpPr>
              <p:spPr>
                <a:xfrm flipH="1">
                  <a:off x="1320840" y="3046320"/>
                  <a:ext cx="70920" cy="449280"/>
                </a:xfrm>
                <a:prstGeom prst="line">
                  <a:avLst/>
                </a:prstGeom>
                <a:ln w="15840">
                  <a:solidFill>
                    <a:srgbClr val="00008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Text Box 39"/>
                <p:cNvSpPr/>
                <p:nvPr/>
              </p:nvSpPr>
              <p:spPr>
                <a:xfrm>
                  <a:off x="3713760" y="5593320"/>
                  <a:ext cx="1271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Trebuchet MS"/>
                    </a:rPr>
                    <a:t>New Zealan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Text Box 40"/>
                <p:cNvSpPr/>
                <p:nvPr/>
              </p:nvSpPr>
              <p:spPr>
                <a:xfrm>
                  <a:off x="1768680" y="5144040"/>
                  <a:ext cx="1035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Trebuchet MS"/>
                    </a:rPr>
                    <a:t>Singapor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Text Box 41"/>
                <p:cNvSpPr/>
                <p:nvPr/>
              </p:nvSpPr>
              <p:spPr>
                <a:xfrm>
                  <a:off x="2625480" y="4241880"/>
                  <a:ext cx="84276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0000"/>
                      </a:solidFill>
                      <a:latin typeface="Trebuchet MS"/>
                    </a:rPr>
                    <a:t>Malaysia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42"/>
                <p:cNvSpPr/>
                <p:nvPr/>
              </p:nvSpPr>
              <p:spPr>
                <a:xfrm flipV="1">
                  <a:off x="1392480" y="4300920"/>
                  <a:ext cx="522000" cy="76716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43"/>
                <p:cNvSpPr/>
                <p:nvPr/>
              </p:nvSpPr>
              <p:spPr>
                <a:xfrm flipH="1">
                  <a:off x="2367000" y="2896560"/>
                  <a:ext cx="663480" cy="1043640"/>
                </a:xfrm>
                <a:prstGeom prst="line">
                  <a:avLst/>
                </a:prstGeom>
                <a:ln w="15840">
                  <a:solidFill>
                    <a:srgbClr val="00008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Text Box 44"/>
                <p:cNvSpPr/>
                <p:nvPr/>
              </p:nvSpPr>
              <p:spPr>
                <a:xfrm>
                  <a:off x="2945160" y="2671200"/>
                  <a:ext cx="659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Chi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Line 45"/>
                <p:cNvSpPr/>
                <p:nvPr/>
              </p:nvSpPr>
              <p:spPr>
                <a:xfrm flipV="1">
                  <a:off x="2299680" y="4602600"/>
                  <a:ext cx="67320" cy="54072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Line 46"/>
                <p:cNvSpPr/>
                <p:nvPr/>
              </p:nvSpPr>
              <p:spPr>
                <a:xfrm flipH="1" flipV="1">
                  <a:off x="2817000" y="4619520"/>
                  <a:ext cx="569880" cy="22464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Text Box 47"/>
                <p:cNvSpPr/>
                <p:nvPr/>
              </p:nvSpPr>
              <p:spPr>
                <a:xfrm>
                  <a:off x="3313440" y="3720960"/>
                  <a:ext cx="657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66"/>
                      </a:solidFill>
                      <a:latin typeface="Trebuchet MS"/>
                    </a:rPr>
                    <a:t>Japó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49"/>
                <p:cNvSpPr/>
                <p:nvPr/>
              </p:nvSpPr>
              <p:spPr>
                <a:xfrm flipH="1">
                  <a:off x="2432160" y="4361400"/>
                  <a:ext cx="257760" cy="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50"/>
                <p:cNvSpPr/>
                <p:nvPr/>
              </p:nvSpPr>
              <p:spPr>
                <a:xfrm flipV="1">
                  <a:off x="2033640" y="4394520"/>
                  <a:ext cx="213480" cy="37440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51"/>
                <p:cNvSpPr/>
                <p:nvPr/>
              </p:nvSpPr>
              <p:spPr>
                <a:xfrm>
                  <a:off x="1534680" y="4694760"/>
                  <a:ext cx="893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ff0000"/>
                      </a:solidFill>
                      <a:latin typeface="Trebuchet MS"/>
                    </a:rPr>
                    <a:t>Vietna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Text Box 52"/>
                <p:cNvSpPr/>
                <p:nvPr/>
              </p:nvSpPr>
              <p:spPr>
                <a:xfrm>
                  <a:off x="3387240" y="4694760"/>
                  <a:ext cx="7110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Brune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53"/>
                <p:cNvSpPr/>
                <p:nvPr/>
              </p:nvSpPr>
              <p:spPr>
                <a:xfrm flipH="1" flipV="1">
                  <a:off x="2817000" y="4919040"/>
                  <a:ext cx="455400" cy="52416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Rectangle 54"/>
                <p:cNvSpPr/>
                <p:nvPr/>
              </p:nvSpPr>
              <p:spPr>
                <a:xfrm>
                  <a:off x="2729880" y="5367960"/>
                  <a:ext cx="919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Austral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55"/>
                <p:cNvSpPr/>
                <p:nvPr/>
              </p:nvSpPr>
              <p:spPr>
                <a:xfrm flipH="1">
                  <a:off x="1249560" y="3046320"/>
                  <a:ext cx="569880" cy="748800"/>
                </a:xfrm>
                <a:prstGeom prst="line">
                  <a:avLst/>
                </a:prstGeom>
                <a:ln w="15840">
                  <a:solidFill>
                    <a:srgbClr val="00008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Rectangle 56"/>
                <p:cNvSpPr/>
                <p:nvPr/>
              </p:nvSpPr>
              <p:spPr>
                <a:xfrm>
                  <a:off x="1594800" y="2746080"/>
                  <a:ext cx="749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rebuchet MS"/>
                    </a:rPr>
                    <a:t>Turke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Text Box 64"/>
                <p:cNvSpPr/>
                <p:nvPr/>
              </p:nvSpPr>
              <p:spPr>
                <a:xfrm>
                  <a:off x="1013040" y="4993200"/>
                  <a:ext cx="607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Ind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74"/>
                <p:cNvSpPr/>
                <p:nvPr/>
              </p:nvSpPr>
              <p:spPr>
                <a:xfrm flipH="1">
                  <a:off x="2959560" y="3870360"/>
                  <a:ext cx="356040" cy="7488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AutoShape 78"/>
                <p:cNvSpPr/>
                <p:nvPr/>
              </p:nvSpPr>
              <p:spPr>
                <a:xfrm>
                  <a:off x="871200" y="3272760"/>
                  <a:ext cx="273600" cy="25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AutoShape 79"/>
                <p:cNvSpPr/>
                <p:nvPr/>
              </p:nvSpPr>
              <p:spPr>
                <a:xfrm>
                  <a:off x="871200" y="3272760"/>
                  <a:ext cx="273600" cy="25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AutoShape 80"/>
                <p:cNvSpPr/>
                <p:nvPr/>
              </p:nvSpPr>
              <p:spPr>
                <a:xfrm>
                  <a:off x="871200" y="3272760"/>
                  <a:ext cx="273600" cy="25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Text Box 30"/>
                <p:cNvSpPr/>
                <p:nvPr/>
              </p:nvSpPr>
              <p:spPr>
                <a:xfrm>
                  <a:off x="1036080" y="2822040"/>
                  <a:ext cx="64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EF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Freeform 4"/>
                <p:cNvSpPr/>
                <p:nvPr/>
              </p:nvSpPr>
              <p:spPr>
                <a:xfrm>
                  <a:off x="6404040" y="4312080"/>
                  <a:ext cx="673200" cy="1058760"/>
                </a:xfrm>
                <a:custGeom>
                  <a:avLst/>
                  <a:gdLst>
                    <a:gd name="textAreaLeft" fmla="*/ 0 w 673200"/>
                    <a:gd name="textAreaRight" fmla="*/ 673560 w 673200"/>
                    <a:gd name="textAreaTop" fmla="*/ 0 h 1058760"/>
                    <a:gd name="textAreaBottom" fmla="*/ 1059120 h 1058760"/>
                  </a:gdLst>
                  <a:ahLst/>
                  <a:rect l="textAreaLeft" t="textAreaTop" r="textAreaRight" b="textAreaBottom"/>
                  <a:pathLst>
                    <a:path w="472" h="799">
                      <a:moveTo>
                        <a:pt x="15" y="52"/>
                      </a:moveTo>
                      <a:lnTo>
                        <a:pt x="6" y="86"/>
                      </a:lnTo>
                      <a:lnTo>
                        <a:pt x="0" y="133"/>
                      </a:lnTo>
                      <a:lnTo>
                        <a:pt x="2" y="183"/>
                      </a:lnTo>
                      <a:lnTo>
                        <a:pt x="12" y="224"/>
                      </a:lnTo>
                      <a:lnTo>
                        <a:pt x="23" y="239"/>
                      </a:lnTo>
                      <a:lnTo>
                        <a:pt x="35" y="254"/>
                      </a:lnTo>
                      <a:lnTo>
                        <a:pt x="48" y="268"/>
                      </a:lnTo>
                      <a:lnTo>
                        <a:pt x="62" y="281"/>
                      </a:lnTo>
                      <a:lnTo>
                        <a:pt x="74" y="295"/>
                      </a:lnTo>
                      <a:lnTo>
                        <a:pt x="86" y="308"/>
                      </a:lnTo>
                      <a:lnTo>
                        <a:pt x="94" y="322"/>
                      </a:lnTo>
                      <a:lnTo>
                        <a:pt x="100" y="337"/>
                      </a:lnTo>
                      <a:lnTo>
                        <a:pt x="106" y="367"/>
                      </a:lnTo>
                      <a:lnTo>
                        <a:pt x="107" y="402"/>
                      </a:lnTo>
                      <a:lnTo>
                        <a:pt x="104" y="438"/>
                      </a:lnTo>
                      <a:lnTo>
                        <a:pt x="97" y="476"/>
                      </a:lnTo>
                      <a:lnTo>
                        <a:pt x="91" y="500"/>
                      </a:lnTo>
                      <a:lnTo>
                        <a:pt x="88" y="524"/>
                      </a:lnTo>
                      <a:lnTo>
                        <a:pt x="86" y="550"/>
                      </a:lnTo>
                      <a:lnTo>
                        <a:pt x="85" y="574"/>
                      </a:lnTo>
                      <a:lnTo>
                        <a:pt x="83" y="597"/>
                      </a:lnTo>
                      <a:lnTo>
                        <a:pt x="82" y="618"/>
                      </a:lnTo>
                      <a:lnTo>
                        <a:pt x="79" y="637"/>
                      </a:lnTo>
                      <a:lnTo>
                        <a:pt x="76" y="653"/>
                      </a:lnTo>
                      <a:lnTo>
                        <a:pt x="70" y="668"/>
                      </a:lnTo>
                      <a:lnTo>
                        <a:pt x="65" y="686"/>
                      </a:lnTo>
                      <a:lnTo>
                        <a:pt x="62" y="702"/>
                      </a:lnTo>
                      <a:lnTo>
                        <a:pt x="67" y="719"/>
                      </a:lnTo>
                      <a:lnTo>
                        <a:pt x="74" y="737"/>
                      </a:lnTo>
                      <a:lnTo>
                        <a:pt x="85" y="758"/>
                      </a:lnTo>
                      <a:lnTo>
                        <a:pt x="95" y="778"/>
                      </a:lnTo>
                      <a:lnTo>
                        <a:pt x="107" y="790"/>
                      </a:lnTo>
                      <a:lnTo>
                        <a:pt x="115" y="793"/>
                      </a:lnTo>
                      <a:lnTo>
                        <a:pt x="122" y="794"/>
                      </a:lnTo>
                      <a:lnTo>
                        <a:pt x="130" y="797"/>
                      </a:lnTo>
                      <a:lnTo>
                        <a:pt x="138" y="797"/>
                      </a:lnTo>
                      <a:lnTo>
                        <a:pt x="147" y="799"/>
                      </a:lnTo>
                      <a:lnTo>
                        <a:pt x="153" y="799"/>
                      </a:lnTo>
                      <a:lnTo>
                        <a:pt x="159" y="797"/>
                      </a:lnTo>
                      <a:lnTo>
                        <a:pt x="163" y="796"/>
                      </a:lnTo>
                      <a:lnTo>
                        <a:pt x="163" y="790"/>
                      </a:lnTo>
                      <a:lnTo>
                        <a:pt x="159" y="787"/>
                      </a:lnTo>
                      <a:lnTo>
                        <a:pt x="154" y="782"/>
                      </a:lnTo>
                      <a:lnTo>
                        <a:pt x="148" y="775"/>
                      </a:lnTo>
                      <a:lnTo>
                        <a:pt x="142" y="766"/>
                      </a:lnTo>
                      <a:lnTo>
                        <a:pt x="138" y="754"/>
                      </a:lnTo>
                      <a:lnTo>
                        <a:pt x="135" y="737"/>
                      </a:lnTo>
                      <a:lnTo>
                        <a:pt x="136" y="714"/>
                      </a:lnTo>
                      <a:lnTo>
                        <a:pt x="142" y="693"/>
                      </a:lnTo>
                      <a:lnTo>
                        <a:pt x="150" y="680"/>
                      </a:lnTo>
                      <a:lnTo>
                        <a:pt x="160" y="669"/>
                      </a:lnTo>
                      <a:lnTo>
                        <a:pt x="172" y="659"/>
                      </a:lnTo>
                      <a:lnTo>
                        <a:pt x="184" y="646"/>
                      </a:lnTo>
                      <a:lnTo>
                        <a:pt x="192" y="631"/>
                      </a:lnTo>
                      <a:lnTo>
                        <a:pt x="198" y="615"/>
                      </a:lnTo>
                      <a:lnTo>
                        <a:pt x="204" y="600"/>
                      </a:lnTo>
                      <a:lnTo>
                        <a:pt x="212" y="588"/>
                      </a:lnTo>
                      <a:lnTo>
                        <a:pt x="221" y="582"/>
                      </a:lnTo>
                      <a:lnTo>
                        <a:pt x="231" y="577"/>
                      </a:lnTo>
                      <a:lnTo>
                        <a:pt x="242" y="571"/>
                      </a:lnTo>
                      <a:lnTo>
                        <a:pt x="251" y="563"/>
                      </a:lnTo>
                      <a:lnTo>
                        <a:pt x="260" y="551"/>
                      </a:lnTo>
                      <a:lnTo>
                        <a:pt x="268" y="541"/>
                      </a:lnTo>
                      <a:lnTo>
                        <a:pt x="275" y="532"/>
                      </a:lnTo>
                      <a:lnTo>
                        <a:pt x="283" y="523"/>
                      </a:lnTo>
                      <a:lnTo>
                        <a:pt x="290" y="514"/>
                      </a:lnTo>
                      <a:lnTo>
                        <a:pt x="296" y="505"/>
                      </a:lnTo>
                      <a:lnTo>
                        <a:pt x="304" y="494"/>
                      </a:lnTo>
                      <a:lnTo>
                        <a:pt x="310" y="485"/>
                      </a:lnTo>
                      <a:lnTo>
                        <a:pt x="313" y="477"/>
                      </a:lnTo>
                      <a:lnTo>
                        <a:pt x="317" y="470"/>
                      </a:lnTo>
                      <a:lnTo>
                        <a:pt x="323" y="462"/>
                      </a:lnTo>
                      <a:lnTo>
                        <a:pt x="326" y="452"/>
                      </a:lnTo>
                      <a:lnTo>
                        <a:pt x="325" y="440"/>
                      </a:lnTo>
                      <a:lnTo>
                        <a:pt x="323" y="429"/>
                      </a:lnTo>
                      <a:lnTo>
                        <a:pt x="326" y="422"/>
                      </a:lnTo>
                      <a:lnTo>
                        <a:pt x="334" y="419"/>
                      </a:lnTo>
                      <a:lnTo>
                        <a:pt x="343" y="417"/>
                      </a:lnTo>
                      <a:lnTo>
                        <a:pt x="351" y="417"/>
                      </a:lnTo>
                      <a:lnTo>
                        <a:pt x="360" y="414"/>
                      </a:lnTo>
                      <a:lnTo>
                        <a:pt x="369" y="411"/>
                      </a:lnTo>
                      <a:lnTo>
                        <a:pt x="379" y="406"/>
                      </a:lnTo>
                      <a:lnTo>
                        <a:pt x="390" y="402"/>
                      </a:lnTo>
                      <a:lnTo>
                        <a:pt x="401" y="400"/>
                      </a:lnTo>
                      <a:lnTo>
                        <a:pt x="410" y="399"/>
                      </a:lnTo>
                      <a:lnTo>
                        <a:pt x="417" y="393"/>
                      </a:lnTo>
                      <a:lnTo>
                        <a:pt x="423" y="385"/>
                      </a:lnTo>
                      <a:lnTo>
                        <a:pt x="429" y="378"/>
                      </a:lnTo>
                      <a:lnTo>
                        <a:pt x="435" y="364"/>
                      </a:lnTo>
                      <a:lnTo>
                        <a:pt x="443" y="343"/>
                      </a:lnTo>
                      <a:lnTo>
                        <a:pt x="450" y="320"/>
                      </a:lnTo>
                      <a:lnTo>
                        <a:pt x="456" y="302"/>
                      </a:lnTo>
                      <a:lnTo>
                        <a:pt x="459" y="287"/>
                      </a:lnTo>
                      <a:lnTo>
                        <a:pt x="464" y="271"/>
                      </a:lnTo>
                      <a:lnTo>
                        <a:pt x="467" y="255"/>
                      </a:lnTo>
                      <a:lnTo>
                        <a:pt x="470" y="243"/>
                      </a:lnTo>
                      <a:lnTo>
                        <a:pt x="472" y="231"/>
                      </a:lnTo>
                      <a:lnTo>
                        <a:pt x="470" y="216"/>
                      </a:lnTo>
                      <a:lnTo>
                        <a:pt x="466" y="201"/>
                      </a:lnTo>
                      <a:lnTo>
                        <a:pt x="461" y="194"/>
                      </a:lnTo>
                      <a:lnTo>
                        <a:pt x="456" y="192"/>
                      </a:lnTo>
                      <a:lnTo>
                        <a:pt x="450" y="189"/>
                      </a:lnTo>
                      <a:lnTo>
                        <a:pt x="443" y="188"/>
                      </a:lnTo>
                      <a:lnTo>
                        <a:pt x="435" y="185"/>
                      </a:lnTo>
                      <a:lnTo>
                        <a:pt x="429" y="182"/>
                      </a:lnTo>
                      <a:lnTo>
                        <a:pt x="422" y="177"/>
                      </a:lnTo>
                      <a:lnTo>
                        <a:pt x="417" y="172"/>
                      </a:lnTo>
                      <a:lnTo>
                        <a:pt x="414" y="168"/>
                      </a:lnTo>
                      <a:lnTo>
                        <a:pt x="410" y="159"/>
                      </a:lnTo>
                      <a:lnTo>
                        <a:pt x="404" y="151"/>
                      </a:lnTo>
                      <a:lnTo>
                        <a:pt x="396" y="147"/>
                      </a:lnTo>
                      <a:lnTo>
                        <a:pt x="388" y="145"/>
                      </a:lnTo>
                      <a:lnTo>
                        <a:pt x="384" y="145"/>
                      </a:lnTo>
                      <a:lnTo>
                        <a:pt x="378" y="145"/>
                      </a:lnTo>
                      <a:lnTo>
                        <a:pt x="372" y="145"/>
                      </a:lnTo>
                      <a:lnTo>
                        <a:pt x="364" y="145"/>
                      </a:lnTo>
                      <a:lnTo>
                        <a:pt x="357" y="144"/>
                      </a:lnTo>
                      <a:lnTo>
                        <a:pt x="351" y="141"/>
                      </a:lnTo>
                      <a:lnTo>
                        <a:pt x="346" y="138"/>
                      </a:lnTo>
                      <a:lnTo>
                        <a:pt x="342" y="133"/>
                      </a:lnTo>
                      <a:lnTo>
                        <a:pt x="334" y="121"/>
                      </a:lnTo>
                      <a:lnTo>
                        <a:pt x="323" y="105"/>
                      </a:lnTo>
                      <a:lnTo>
                        <a:pt x="314" y="91"/>
                      </a:lnTo>
                      <a:lnTo>
                        <a:pt x="305" y="82"/>
                      </a:lnTo>
                      <a:lnTo>
                        <a:pt x="299" y="77"/>
                      </a:lnTo>
                      <a:lnTo>
                        <a:pt x="289" y="70"/>
                      </a:lnTo>
                      <a:lnTo>
                        <a:pt x="275" y="61"/>
                      </a:lnTo>
                      <a:lnTo>
                        <a:pt x="258" y="50"/>
                      </a:lnTo>
                      <a:lnTo>
                        <a:pt x="240" y="41"/>
                      </a:lnTo>
                      <a:lnTo>
                        <a:pt x="222" y="32"/>
                      </a:lnTo>
                      <a:lnTo>
                        <a:pt x="204" y="26"/>
                      </a:lnTo>
                      <a:lnTo>
                        <a:pt x="187" y="23"/>
                      </a:lnTo>
                      <a:lnTo>
                        <a:pt x="172" y="21"/>
                      </a:lnTo>
                      <a:lnTo>
                        <a:pt x="160" y="20"/>
                      </a:lnTo>
                      <a:lnTo>
                        <a:pt x="148" y="18"/>
                      </a:lnTo>
                      <a:lnTo>
                        <a:pt x="139" y="17"/>
                      </a:lnTo>
                      <a:lnTo>
                        <a:pt x="130" y="17"/>
                      </a:lnTo>
                      <a:lnTo>
                        <a:pt x="122" y="15"/>
                      </a:lnTo>
                      <a:lnTo>
                        <a:pt x="118" y="15"/>
                      </a:lnTo>
                      <a:lnTo>
                        <a:pt x="113" y="17"/>
                      </a:lnTo>
                      <a:lnTo>
                        <a:pt x="107" y="17"/>
                      </a:lnTo>
                      <a:lnTo>
                        <a:pt x="101" y="14"/>
                      </a:lnTo>
                      <a:lnTo>
                        <a:pt x="95" y="9"/>
                      </a:lnTo>
                      <a:lnTo>
                        <a:pt x="91" y="5"/>
                      </a:lnTo>
                      <a:lnTo>
                        <a:pt x="85" y="2"/>
                      </a:lnTo>
                      <a:lnTo>
                        <a:pt x="79" y="0"/>
                      </a:lnTo>
                      <a:lnTo>
                        <a:pt x="71" y="3"/>
                      </a:lnTo>
                      <a:lnTo>
                        <a:pt x="65" y="6"/>
                      </a:lnTo>
                      <a:lnTo>
                        <a:pt x="59" y="12"/>
                      </a:lnTo>
                      <a:lnTo>
                        <a:pt x="51" y="21"/>
                      </a:lnTo>
                      <a:lnTo>
                        <a:pt x="45" y="29"/>
                      </a:lnTo>
                      <a:lnTo>
                        <a:pt x="38" y="35"/>
                      </a:lnTo>
                      <a:lnTo>
                        <a:pt x="35" y="37"/>
                      </a:lnTo>
                      <a:lnTo>
                        <a:pt x="29" y="40"/>
                      </a:lnTo>
                      <a:lnTo>
                        <a:pt x="21" y="46"/>
                      </a:lnTo>
                      <a:lnTo>
                        <a:pt x="15" y="52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5"/>
                <p:cNvSpPr/>
                <p:nvPr/>
              </p:nvSpPr>
              <p:spPr>
                <a:xfrm>
                  <a:off x="5097240" y="3196080"/>
                  <a:ext cx="1702800" cy="1184760"/>
                </a:xfrm>
                <a:custGeom>
                  <a:avLst/>
                  <a:gdLst>
                    <a:gd name="textAreaLeft" fmla="*/ 0 w 1702800"/>
                    <a:gd name="textAreaRight" fmla="*/ 1703160 w 1702800"/>
                    <a:gd name="textAreaTop" fmla="*/ 0 h 1184760"/>
                    <a:gd name="textAreaBottom" fmla="*/ 1185120 h 1184760"/>
                  </a:gdLst>
                  <a:ahLst/>
                  <a:rect l="textAreaLeft" t="textAreaTop" r="textAreaRight" b="textAreaBottom"/>
                  <a:pathLst>
                    <a:path w="1194" h="894">
                      <a:moveTo>
                        <a:pt x="872" y="649"/>
                      </a:moveTo>
                      <a:lnTo>
                        <a:pt x="862" y="651"/>
                      </a:lnTo>
                      <a:lnTo>
                        <a:pt x="853" y="646"/>
                      </a:lnTo>
                      <a:lnTo>
                        <a:pt x="843" y="643"/>
                      </a:lnTo>
                      <a:lnTo>
                        <a:pt x="833" y="648"/>
                      </a:lnTo>
                      <a:lnTo>
                        <a:pt x="822" y="657"/>
                      </a:lnTo>
                      <a:lnTo>
                        <a:pt x="816" y="661"/>
                      </a:lnTo>
                      <a:lnTo>
                        <a:pt x="809" y="664"/>
                      </a:lnTo>
                      <a:lnTo>
                        <a:pt x="800" y="666"/>
                      </a:lnTo>
                      <a:lnTo>
                        <a:pt x="794" y="666"/>
                      </a:lnTo>
                      <a:lnTo>
                        <a:pt x="786" y="666"/>
                      </a:lnTo>
                      <a:lnTo>
                        <a:pt x="778" y="666"/>
                      </a:lnTo>
                      <a:lnTo>
                        <a:pt x="771" y="666"/>
                      </a:lnTo>
                      <a:lnTo>
                        <a:pt x="765" y="670"/>
                      </a:lnTo>
                      <a:lnTo>
                        <a:pt x="759" y="676"/>
                      </a:lnTo>
                      <a:lnTo>
                        <a:pt x="753" y="687"/>
                      </a:lnTo>
                      <a:lnTo>
                        <a:pt x="750" y="702"/>
                      </a:lnTo>
                      <a:lnTo>
                        <a:pt x="748" y="719"/>
                      </a:lnTo>
                      <a:lnTo>
                        <a:pt x="750" y="732"/>
                      </a:lnTo>
                      <a:lnTo>
                        <a:pt x="756" y="743"/>
                      </a:lnTo>
                      <a:lnTo>
                        <a:pt x="762" y="752"/>
                      </a:lnTo>
                      <a:lnTo>
                        <a:pt x="769" y="759"/>
                      </a:lnTo>
                      <a:lnTo>
                        <a:pt x="777" y="765"/>
                      </a:lnTo>
                      <a:lnTo>
                        <a:pt x="785" y="768"/>
                      </a:lnTo>
                      <a:lnTo>
                        <a:pt x="791" y="771"/>
                      </a:lnTo>
                      <a:lnTo>
                        <a:pt x="797" y="771"/>
                      </a:lnTo>
                      <a:lnTo>
                        <a:pt x="803" y="770"/>
                      </a:lnTo>
                      <a:lnTo>
                        <a:pt x="809" y="767"/>
                      </a:lnTo>
                      <a:lnTo>
                        <a:pt x="816" y="762"/>
                      </a:lnTo>
                      <a:lnTo>
                        <a:pt x="822" y="758"/>
                      </a:lnTo>
                      <a:lnTo>
                        <a:pt x="828" y="752"/>
                      </a:lnTo>
                      <a:lnTo>
                        <a:pt x="834" y="747"/>
                      </a:lnTo>
                      <a:lnTo>
                        <a:pt x="840" y="741"/>
                      </a:lnTo>
                      <a:lnTo>
                        <a:pt x="850" y="740"/>
                      </a:lnTo>
                      <a:lnTo>
                        <a:pt x="854" y="750"/>
                      </a:lnTo>
                      <a:lnTo>
                        <a:pt x="854" y="765"/>
                      </a:lnTo>
                      <a:lnTo>
                        <a:pt x="850" y="779"/>
                      </a:lnTo>
                      <a:lnTo>
                        <a:pt x="845" y="788"/>
                      </a:lnTo>
                      <a:lnTo>
                        <a:pt x="848" y="793"/>
                      </a:lnTo>
                      <a:lnTo>
                        <a:pt x="854" y="797"/>
                      </a:lnTo>
                      <a:lnTo>
                        <a:pt x="863" y="799"/>
                      </a:lnTo>
                      <a:lnTo>
                        <a:pt x="872" y="802"/>
                      </a:lnTo>
                      <a:lnTo>
                        <a:pt x="881" y="808"/>
                      </a:lnTo>
                      <a:lnTo>
                        <a:pt x="890" y="818"/>
                      </a:lnTo>
                      <a:lnTo>
                        <a:pt x="895" y="833"/>
                      </a:lnTo>
                      <a:lnTo>
                        <a:pt x="896" y="847"/>
                      </a:lnTo>
                      <a:lnTo>
                        <a:pt x="898" y="856"/>
                      </a:lnTo>
                      <a:lnTo>
                        <a:pt x="899" y="865"/>
                      </a:lnTo>
                      <a:lnTo>
                        <a:pt x="904" y="871"/>
                      </a:lnTo>
                      <a:lnTo>
                        <a:pt x="910" y="874"/>
                      </a:lnTo>
                      <a:lnTo>
                        <a:pt x="919" y="877"/>
                      </a:lnTo>
                      <a:lnTo>
                        <a:pt x="928" y="879"/>
                      </a:lnTo>
                      <a:lnTo>
                        <a:pt x="936" y="880"/>
                      </a:lnTo>
                      <a:lnTo>
                        <a:pt x="942" y="880"/>
                      </a:lnTo>
                      <a:lnTo>
                        <a:pt x="945" y="879"/>
                      </a:lnTo>
                      <a:lnTo>
                        <a:pt x="946" y="879"/>
                      </a:lnTo>
                      <a:lnTo>
                        <a:pt x="946" y="880"/>
                      </a:lnTo>
                      <a:lnTo>
                        <a:pt x="945" y="883"/>
                      </a:lnTo>
                      <a:lnTo>
                        <a:pt x="942" y="888"/>
                      </a:lnTo>
                      <a:lnTo>
                        <a:pt x="937" y="892"/>
                      </a:lnTo>
                      <a:lnTo>
                        <a:pt x="931" y="894"/>
                      </a:lnTo>
                      <a:lnTo>
                        <a:pt x="927" y="894"/>
                      </a:lnTo>
                      <a:lnTo>
                        <a:pt x="919" y="892"/>
                      </a:lnTo>
                      <a:lnTo>
                        <a:pt x="913" y="892"/>
                      </a:lnTo>
                      <a:lnTo>
                        <a:pt x="905" y="889"/>
                      </a:lnTo>
                      <a:lnTo>
                        <a:pt x="898" y="888"/>
                      </a:lnTo>
                      <a:lnTo>
                        <a:pt x="890" y="886"/>
                      </a:lnTo>
                      <a:lnTo>
                        <a:pt x="886" y="883"/>
                      </a:lnTo>
                      <a:lnTo>
                        <a:pt x="883" y="882"/>
                      </a:lnTo>
                      <a:lnTo>
                        <a:pt x="878" y="879"/>
                      </a:lnTo>
                      <a:lnTo>
                        <a:pt x="871" y="874"/>
                      </a:lnTo>
                      <a:lnTo>
                        <a:pt x="862" y="868"/>
                      </a:lnTo>
                      <a:lnTo>
                        <a:pt x="851" y="860"/>
                      </a:lnTo>
                      <a:lnTo>
                        <a:pt x="842" y="853"/>
                      </a:lnTo>
                      <a:lnTo>
                        <a:pt x="836" y="847"/>
                      </a:lnTo>
                      <a:lnTo>
                        <a:pt x="831" y="841"/>
                      </a:lnTo>
                      <a:lnTo>
                        <a:pt x="827" y="836"/>
                      </a:lnTo>
                      <a:lnTo>
                        <a:pt x="822" y="832"/>
                      </a:lnTo>
                      <a:lnTo>
                        <a:pt x="816" y="827"/>
                      </a:lnTo>
                      <a:lnTo>
                        <a:pt x="807" y="823"/>
                      </a:lnTo>
                      <a:lnTo>
                        <a:pt x="795" y="818"/>
                      </a:lnTo>
                      <a:lnTo>
                        <a:pt x="786" y="815"/>
                      </a:lnTo>
                      <a:lnTo>
                        <a:pt x="775" y="811"/>
                      </a:lnTo>
                      <a:lnTo>
                        <a:pt x="766" y="808"/>
                      </a:lnTo>
                      <a:lnTo>
                        <a:pt x="757" y="803"/>
                      </a:lnTo>
                      <a:lnTo>
                        <a:pt x="748" y="800"/>
                      </a:lnTo>
                      <a:lnTo>
                        <a:pt x="741" y="797"/>
                      </a:lnTo>
                      <a:lnTo>
                        <a:pt x="733" y="794"/>
                      </a:lnTo>
                      <a:lnTo>
                        <a:pt x="726" y="791"/>
                      </a:lnTo>
                      <a:lnTo>
                        <a:pt x="718" y="788"/>
                      </a:lnTo>
                      <a:lnTo>
                        <a:pt x="710" y="782"/>
                      </a:lnTo>
                      <a:lnTo>
                        <a:pt x="703" y="774"/>
                      </a:lnTo>
                      <a:lnTo>
                        <a:pt x="695" y="767"/>
                      </a:lnTo>
                      <a:lnTo>
                        <a:pt x="689" y="759"/>
                      </a:lnTo>
                      <a:lnTo>
                        <a:pt x="683" y="752"/>
                      </a:lnTo>
                      <a:lnTo>
                        <a:pt x="677" y="746"/>
                      </a:lnTo>
                      <a:lnTo>
                        <a:pt x="674" y="743"/>
                      </a:lnTo>
                      <a:lnTo>
                        <a:pt x="668" y="737"/>
                      </a:lnTo>
                      <a:lnTo>
                        <a:pt x="661" y="728"/>
                      </a:lnTo>
                      <a:lnTo>
                        <a:pt x="653" y="720"/>
                      </a:lnTo>
                      <a:lnTo>
                        <a:pt x="642" y="716"/>
                      </a:lnTo>
                      <a:lnTo>
                        <a:pt x="635" y="714"/>
                      </a:lnTo>
                      <a:lnTo>
                        <a:pt x="627" y="713"/>
                      </a:lnTo>
                      <a:lnTo>
                        <a:pt x="618" y="709"/>
                      </a:lnTo>
                      <a:lnTo>
                        <a:pt x="609" y="706"/>
                      </a:lnTo>
                      <a:lnTo>
                        <a:pt x="600" y="702"/>
                      </a:lnTo>
                      <a:lnTo>
                        <a:pt x="591" y="696"/>
                      </a:lnTo>
                      <a:lnTo>
                        <a:pt x="584" y="691"/>
                      </a:lnTo>
                      <a:lnTo>
                        <a:pt x="576" y="684"/>
                      </a:lnTo>
                      <a:lnTo>
                        <a:pt x="562" y="670"/>
                      </a:lnTo>
                      <a:lnTo>
                        <a:pt x="550" y="657"/>
                      </a:lnTo>
                      <a:lnTo>
                        <a:pt x="541" y="643"/>
                      </a:lnTo>
                      <a:lnTo>
                        <a:pt x="537" y="631"/>
                      </a:lnTo>
                      <a:lnTo>
                        <a:pt x="532" y="619"/>
                      </a:lnTo>
                      <a:lnTo>
                        <a:pt x="529" y="607"/>
                      </a:lnTo>
                      <a:lnTo>
                        <a:pt x="525" y="595"/>
                      </a:lnTo>
                      <a:lnTo>
                        <a:pt x="520" y="584"/>
                      </a:lnTo>
                      <a:lnTo>
                        <a:pt x="517" y="580"/>
                      </a:lnTo>
                      <a:lnTo>
                        <a:pt x="512" y="574"/>
                      </a:lnTo>
                      <a:lnTo>
                        <a:pt x="505" y="568"/>
                      </a:lnTo>
                      <a:lnTo>
                        <a:pt x="497" y="560"/>
                      </a:lnTo>
                      <a:lnTo>
                        <a:pt x="490" y="554"/>
                      </a:lnTo>
                      <a:lnTo>
                        <a:pt x="481" y="545"/>
                      </a:lnTo>
                      <a:lnTo>
                        <a:pt x="475" y="537"/>
                      </a:lnTo>
                      <a:lnTo>
                        <a:pt x="469" y="528"/>
                      </a:lnTo>
                      <a:lnTo>
                        <a:pt x="464" y="509"/>
                      </a:lnTo>
                      <a:lnTo>
                        <a:pt x="464" y="488"/>
                      </a:lnTo>
                      <a:lnTo>
                        <a:pt x="469" y="469"/>
                      </a:lnTo>
                      <a:lnTo>
                        <a:pt x="473" y="457"/>
                      </a:lnTo>
                      <a:lnTo>
                        <a:pt x="475" y="444"/>
                      </a:lnTo>
                      <a:lnTo>
                        <a:pt x="475" y="426"/>
                      </a:lnTo>
                      <a:lnTo>
                        <a:pt x="473" y="405"/>
                      </a:lnTo>
                      <a:lnTo>
                        <a:pt x="469" y="385"/>
                      </a:lnTo>
                      <a:lnTo>
                        <a:pt x="463" y="371"/>
                      </a:lnTo>
                      <a:lnTo>
                        <a:pt x="458" y="362"/>
                      </a:lnTo>
                      <a:lnTo>
                        <a:pt x="451" y="356"/>
                      </a:lnTo>
                      <a:lnTo>
                        <a:pt x="440" y="349"/>
                      </a:lnTo>
                      <a:lnTo>
                        <a:pt x="431" y="340"/>
                      </a:lnTo>
                      <a:lnTo>
                        <a:pt x="425" y="331"/>
                      </a:lnTo>
                      <a:lnTo>
                        <a:pt x="420" y="321"/>
                      </a:lnTo>
                      <a:lnTo>
                        <a:pt x="417" y="309"/>
                      </a:lnTo>
                      <a:lnTo>
                        <a:pt x="411" y="299"/>
                      </a:lnTo>
                      <a:lnTo>
                        <a:pt x="402" y="290"/>
                      </a:lnTo>
                      <a:lnTo>
                        <a:pt x="392" y="285"/>
                      </a:lnTo>
                      <a:lnTo>
                        <a:pt x="381" y="285"/>
                      </a:lnTo>
                      <a:lnTo>
                        <a:pt x="376" y="287"/>
                      </a:lnTo>
                      <a:lnTo>
                        <a:pt x="369" y="285"/>
                      </a:lnTo>
                      <a:lnTo>
                        <a:pt x="363" y="284"/>
                      </a:lnTo>
                      <a:lnTo>
                        <a:pt x="355" y="279"/>
                      </a:lnTo>
                      <a:lnTo>
                        <a:pt x="346" y="276"/>
                      </a:lnTo>
                      <a:lnTo>
                        <a:pt x="339" y="273"/>
                      </a:lnTo>
                      <a:lnTo>
                        <a:pt x="331" y="269"/>
                      </a:lnTo>
                      <a:lnTo>
                        <a:pt x="325" y="266"/>
                      </a:lnTo>
                      <a:lnTo>
                        <a:pt x="315" y="261"/>
                      </a:lnTo>
                      <a:lnTo>
                        <a:pt x="307" y="257"/>
                      </a:lnTo>
                      <a:lnTo>
                        <a:pt x="299" y="252"/>
                      </a:lnTo>
                      <a:lnTo>
                        <a:pt x="289" y="249"/>
                      </a:lnTo>
                      <a:lnTo>
                        <a:pt x="283" y="249"/>
                      </a:lnTo>
                      <a:lnTo>
                        <a:pt x="277" y="248"/>
                      </a:lnTo>
                      <a:lnTo>
                        <a:pt x="271" y="249"/>
                      </a:lnTo>
                      <a:lnTo>
                        <a:pt x="263" y="249"/>
                      </a:lnTo>
                      <a:lnTo>
                        <a:pt x="256" y="249"/>
                      </a:lnTo>
                      <a:lnTo>
                        <a:pt x="248" y="248"/>
                      </a:lnTo>
                      <a:lnTo>
                        <a:pt x="240" y="244"/>
                      </a:lnTo>
                      <a:lnTo>
                        <a:pt x="233" y="241"/>
                      </a:lnTo>
                      <a:lnTo>
                        <a:pt x="225" y="237"/>
                      </a:lnTo>
                      <a:lnTo>
                        <a:pt x="219" y="234"/>
                      </a:lnTo>
                      <a:lnTo>
                        <a:pt x="212" y="232"/>
                      </a:lnTo>
                      <a:lnTo>
                        <a:pt x="204" y="231"/>
                      </a:lnTo>
                      <a:lnTo>
                        <a:pt x="197" y="231"/>
                      </a:lnTo>
                      <a:lnTo>
                        <a:pt x="188" y="231"/>
                      </a:lnTo>
                      <a:lnTo>
                        <a:pt x="177" y="232"/>
                      </a:lnTo>
                      <a:lnTo>
                        <a:pt x="166" y="234"/>
                      </a:lnTo>
                      <a:lnTo>
                        <a:pt x="156" y="237"/>
                      </a:lnTo>
                      <a:lnTo>
                        <a:pt x="145" y="244"/>
                      </a:lnTo>
                      <a:lnTo>
                        <a:pt x="138" y="254"/>
                      </a:lnTo>
                      <a:lnTo>
                        <a:pt x="129" y="263"/>
                      </a:lnTo>
                      <a:lnTo>
                        <a:pt x="121" y="272"/>
                      </a:lnTo>
                      <a:lnTo>
                        <a:pt x="112" y="279"/>
                      </a:lnTo>
                      <a:lnTo>
                        <a:pt x="103" y="285"/>
                      </a:lnTo>
                      <a:lnTo>
                        <a:pt x="92" y="285"/>
                      </a:lnTo>
                      <a:lnTo>
                        <a:pt x="82" y="281"/>
                      </a:lnTo>
                      <a:lnTo>
                        <a:pt x="76" y="275"/>
                      </a:lnTo>
                      <a:lnTo>
                        <a:pt x="71" y="269"/>
                      </a:lnTo>
                      <a:lnTo>
                        <a:pt x="62" y="261"/>
                      </a:lnTo>
                      <a:lnTo>
                        <a:pt x="53" y="252"/>
                      </a:lnTo>
                      <a:lnTo>
                        <a:pt x="49" y="237"/>
                      </a:lnTo>
                      <a:lnTo>
                        <a:pt x="49" y="217"/>
                      </a:lnTo>
                      <a:lnTo>
                        <a:pt x="55" y="195"/>
                      </a:lnTo>
                      <a:lnTo>
                        <a:pt x="58" y="183"/>
                      </a:lnTo>
                      <a:lnTo>
                        <a:pt x="56" y="174"/>
                      </a:lnTo>
                      <a:lnTo>
                        <a:pt x="52" y="169"/>
                      </a:lnTo>
                      <a:lnTo>
                        <a:pt x="44" y="166"/>
                      </a:lnTo>
                      <a:lnTo>
                        <a:pt x="36" y="164"/>
                      </a:lnTo>
                      <a:lnTo>
                        <a:pt x="26" y="161"/>
                      </a:lnTo>
                      <a:lnTo>
                        <a:pt x="15" y="158"/>
                      </a:lnTo>
                      <a:lnTo>
                        <a:pt x="6" y="154"/>
                      </a:lnTo>
                      <a:lnTo>
                        <a:pt x="0" y="146"/>
                      </a:lnTo>
                      <a:lnTo>
                        <a:pt x="0" y="136"/>
                      </a:lnTo>
                      <a:lnTo>
                        <a:pt x="5" y="124"/>
                      </a:lnTo>
                      <a:lnTo>
                        <a:pt x="12" y="110"/>
                      </a:lnTo>
                      <a:lnTo>
                        <a:pt x="23" y="98"/>
                      </a:lnTo>
                      <a:lnTo>
                        <a:pt x="33" y="84"/>
                      </a:lnTo>
                      <a:lnTo>
                        <a:pt x="44" y="74"/>
                      </a:lnTo>
                      <a:lnTo>
                        <a:pt x="55" y="66"/>
                      </a:lnTo>
                      <a:lnTo>
                        <a:pt x="64" y="60"/>
                      </a:lnTo>
                      <a:lnTo>
                        <a:pt x="71" y="53"/>
                      </a:lnTo>
                      <a:lnTo>
                        <a:pt x="80" y="45"/>
                      </a:lnTo>
                      <a:lnTo>
                        <a:pt x="91" y="39"/>
                      </a:lnTo>
                      <a:lnTo>
                        <a:pt x="106" y="35"/>
                      </a:lnTo>
                      <a:lnTo>
                        <a:pt x="126" y="32"/>
                      </a:lnTo>
                      <a:lnTo>
                        <a:pt x="150" y="32"/>
                      </a:lnTo>
                      <a:lnTo>
                        <a:pt x="182" y="35"/>
                      </a:lnTo>
                      <a:lnTo>
                        <a:pt x="197" y="44"/>
                      </a:lnTo>
                      <a:lnTo>
                        <a:pt x="209" y="50"/>
                      </a:lnTo>
                      <a:lnTo>
                        <a:pt x="219" y="54"/>
                      </a:lnTo>
                      <a:lnTo>
                        <a:pt x="228" y="57"/>
                      </a:lnTo>
                      <a:lnTo>
                        <a:pt x="236" y="59"/>
                      </a:lnTo>
                      <a:lnTo>
                        <a:pt x="243" y="62"/>
                      </a:lnTo>
                      <a:lnTo>
                        <a:pt x="251" y="63"/>
                      </a:lnTo>
                      <a:lnTo>
                        <a:pt x="257" y="65"/>
                      </a:lnTo>
                      <a:lnTo>
                        <a:pt x="266" y="68"/>
                      </a:lnTo>
                      <a:lnTo>
                        <a:pt x="278" y="69"/>
                      </a:lnTo>
                      <a:lnTo>
                        <a:pt x="293" y="71"/>
                      </a:lnTo>
                      <a:lnTo>
                        <a:pt x="310" y="74"/>
                      </a:lnTo>
                      <a:lnTo>
                        <a:pt x="325" y="75"/>
                      </a:lnTo>
                      <a:lnTo>
                        <a:pt x="340" y="75"/>
                      </a:lnTo>
                      <a:lnTo>
                        <a:pt x="354" y="75"/>
                      </a:lnTo>
                      <a:lnTo>
                        <a:pt x="363" y="75"/>
                      </a:lnTo>
                      <a:lnTo>
                        <a:pt x="372" y="74"/>
                      </a:lnTo>
                      <a:lnTo>
                        <a:pt x="384" y="74"/>
                      </a:lnTo>
                      <a:lnTo>
                        <a:pt x="398" y="74"/>
                      </a:lnTo>
                      <a:lnTo>
                        <a:pt x="413" y="74"/>
                      </a:lnTo>
                      <a:lnTo>
                        <a:pt x="428" y="74"/>
                      </a:lnTo>
                      <a:lnTo>
                        <a:pt x="441" y="75"/>
                      </a:lnTo>
                      <a:lnTo>
                        <a:pt x="454" y="75"/>
                      </a:lnTo>
                      <a:lnTo>
                        <a:pt x="461" y="75"/>
                      </a:lnTo>
                      <a:lnTo>
                        <a:pt x="467" y="75"/>
                      </a:lnTo>
                      <a:lnTo>
                        <a:pt x="475" y="77"/>
                      </a:lnTo>
                      <a:lnTo>
                        <a:pt x="484" y="78"/>
                      </a:lnTo>
                      <a:lnTo>
                        <a:pt x="493" y="80"/>
                      </a:lnTo>
                      <a:lnTo>
                        <a:pt x="502" y="81"/>
                      </a:lnTo>
                      <a:lnTo>
                        <a:pt x="511" y="84"/>
                      </a:lnTo>
                      <a:lnTo>
                        <a:pt x="520" y="86"/>
                      </a:lnTo>
                      <a:lnTo>
                        <a:pt x="528" y="89"/>
                      </a:lnTo>
                      <a:lnTo>
                        <a:pt x="538" y="92"/>
                      </a:lnTo>
                      <a:lnTo>
                        <a:pt x="550" y="95"/>
                      </a:lnTo>
                      <a:lnTo>
                        <a:pt x="567" y="98"/>
                      </a:lnTo>
                      <a:lnTo>
                        <a:pt x="584" y="100"/>
                      </a:lnTo>
                      <a:lnTo>
                        <a:pt x="600" y="103"/>
                      </a:lnTo>
                      <a:lnTo>
                        <a:pt x="615" y="106"/>
                      </a:lnTo>
                      <a:lnTo>
                        <a:pt x="629" y="107"/>
                      </a:lnTo>
                      <a:lnTo>
                        <a:pt x="638" y="107"/>
                      </a:lnTo>
                      <a:lnTo>
                        <a:pt x="647" y="107"/>
                      </a:lnTo>
                      <a:lnTo>
                        <a:pt x="661" y="107"/>
                      </a:lnTo>
                      <a:lnTo>
                        <a:pt x="676" y="106"/>
                      </a:lnTo>
                      <a:lnTo>
                        <a:pt x="694" y="104"/>
                      </a:lnTo>
                      <a:lnTo>
                        <a:pt x="710" y="103"/>
                      </a:lnTo>
                      <a:lnTo>
                        <a:pt x="727" y="100"/>
                      </a:lnTo>
                      <a:lnTo>
                        <a:pt x="741" y="97"/>
                      </a:lnTo>
                      <a:lnTo>
                        <a:pt x="753" y="92"/>
                      </a:lnTo>
                      <a:lnTo>
                        <a:pt x="768" y="84"/>
                      </a:lnTo>
                      <a:lnTo>
                        <a:pt x="777" y="78"/>
                      </a:lnTo>
                      <a:lnTo>
                        <a:pt x="780" y="72"/>
                      </a:lnTo>
                      <a:lnTo>
                        <a:pt x="782" y="66"/>
                      </a:lnTo>
                      <a:lnTo>
                        <a:pt x="778" y="60"/>
                      </a:lnTo>
                      <a:lnTo>
                        <a:pt x="771" y="51"/>
                      </a:lnTo>
                      <a:lnTo>
                        <a:pt x="763" y="44"/>
                      </a:lnTo>
                      <a:lnTo>
                        <a:pt x="757" y="38"/>
                      </a:lnTo>
                      <a:lnTo>
                        <a:pt x="756" y="30"/>
                      </a:lnTo>
                      <a:lnTo>
                        <a:pt x="759" y="21"/>
                      </a:lnTo>
                      <a:lnTo>
                        <a:pt x="765" y="12"/>
                      </a:lnTo>
                      <a:lnTo>
                        <a:pt x="771" y="3"/>
                      </a:lnTo>
                      <a:lnTo>
                        <a:pt x="780" y="0"/>
                      </a:lnTo>
                      <a:lnTo>
                        <a:pt x="789" y="1"/>
                      </a:lnTo>
                      <a:lnTo>
                        <a:pt x="801" y="6"/>
                      </a:lnTo>
                      <a:lnTo>
                        <a:pt x="812" y="10"/>
                      </a:lnTo>
                      <a:lnTo>
                        <a:pt x="818" y="17"/>
                      </a:lnTo>
                      <a:lnTo>
                        <a:pt x="819" y="26"/>
                      </a:lnTo>
                      <a:lnTo>
                        <a:pt x="819" y="35"/>
                      </a:lnTo>
                      <a:lnTo>
                        <a:pt x="819" y="42"/>
                      </a:lnTo>
                      <a:lnTo>
                        <a:pt x="822" y="50"/>
                      </a:lnTo>
                      <a:lnTo>
                        <a:pt x="830" y="60"/>
                      </a:lnTo>
                      <a:lnTo>
                        <a:pt x="840" y="66"/>
                      </a:lnTo>
                      <a:lnTo>
                        <a:pt x="854" y="69"/>
                      </a:lnTo>
                      <a:lnTo>
                        <a:pt x="862" y="69"/>
                      </a:lnTo>
                      <a:lnTo>
                        <a:pt x="869" y="69"/>
                      </a:lnTo>
                      <a:lnTo>
                        <a:pt x="877" y="71"/>
                      </a:lnTo>
                      <a:lnTo>
                        <a:pt x="884" y="72"/>
                      </a:lnTo>
                      <a:lnTo>
                        <a:pt x="892" y="75"/>
                      </a:lnTo>
                      <a:lnTo>
                        <a:pt x="899" y="77"/>
                      </a:lnTo>
                      <a:lnTo>
                        <a:pt x="907" y="78"/>
                      </a:lnTo>
                      <a:lnTo>
                        <a:pt x="915" y="80"/>
                      </a:lnTo>
                      <a:lnTo>
                        <a:pt x="927" y="81"/>
                      </a:lnTo>
                      <a:lnTo>
                        <a:pt x="933" y="84"/>
                      </a:lnTo>
                      <a:lnTo>
                        <a:pt x="933" y="91"/>
                      </a:lnTo>
                      <a:lnTo>
                        <a:pt x="931" y="98"/>
                      </a:lnTo>
                      <a:lnTo>
                        <a:pt x="928" y="103"/>
                      </a:lnTo>
                      <a:lnTo>
                        <a:pt x="925" y="107"/>
                      </a:lnTo>
                      <a:lnTo>
                        <a:pt x="919" y="110"/>
                      </a:lnTo>
                      <a:lnTo>
                        <a:pt x="913" y="112"/>
                      </a:lnTo>
                      <a:lnTo>
                        <a:pt x="905" y="113"/>
                      </a:lnTo>
                      <a:lnTo>
                        <a:pt x="898" y="115"/>
                      </a:lnTo>
                      <a:lnTo>
                        <a:pt x="890" y="115"/>
                      </a:lnTo>
                      <a:lnTo>
                        <a:pt x="883" y="116"/>
                      </a:lnTo>
                      <a:lnTo>
                        <a:pt x="869" y="121"/>
                      </a:lnTo>
                      <a:lnTo>
                        <a:pt x="859" y="125"/>
                      </a:lnTo>
                      <a:lnTo>
                        <a:pt x="848" y="133"/>
                      </a:lnTo>
                      <a:lnTo>
                        <a:pt x="839" y="140"/>
                      </a:lnTo>
                      <a:lnTo>
                        <a:pt x="830" y="149"/>
                      </a:lnTo>
                      <a:lnTo>
                        <a:pt x="819" y="160"/>
                      </a:lnTo>
                      <a:lnTo>
                        <a:pt x="807" y="172"/>
                      </a:lnTo>
                      <a:lnTo>
                        <a:pt x="797" y="189"/>
                      </a:lnTo>
                      <a:lnTo>
                        <a:pt x="791" y="210"/>
                      </a:lnTo>
                      <a:lnTo>
                        <a:pt x="791" y="237"/>
                      </a:lnTo>
                      <a:lnTo>
                        <a:pt x="794" y="261"/>
                      </a:lnTo>
                      <a:lnTo>
                        <a:pt x="797" y="278"/>
                      </a:lnTo>
                      <a:lnTo>
                        <a:pt x="801" y="285"/>
                      </a:lnTo>
                      <a:lnTo>
                        <a:pt x="807" y="287"/>
                      </a:lnTo>
                      <a:lnTo>
                        <a:pt x="815" y="285"/>
                      </a:lnTo>
                      <a:lnTo>
                        <a:pt x="822" y="285"/>
                      </a:lnTo>
                      <a:lnTo>
                        <a:pt x="831" y="287"/>
                      </a:lnTo>
                      <a:lnTo>
                        <a:pt x="842" y="288"/>
                      </a:lnTo>
                      <a:lnTo>
                        <a:pt x="851" y="293"/>
                      </a:lnTo>
                      <a:lnTo>
                        <a:pt x="860" y="297"/>
                      </a:lnTo>
                      <a:lnTo>
                        <a:pt x="869" y="300"/>
                      </a:lnTo>
                      <a:lnTo>
                        <a:pt x="877" y="303"/>
                      </a:lnTo>
                      <a:lnTo>
                        <a:pt x="883" y="305"/>
                      </a:lnTo>
                      <a:lnTo>
                        <a:pt x="890" y="305"/>
                      </a:lnTo>
                      <a:lnTo>
                        <a:pt x="898" y="305"/>
                      </a:lnTo>
                      <a:lnTo>
                        <a:pt x="904" y="308"/>
                      </a:lnTo>
                      <a:lnTo>
                        <a:pt x="908" y="312"/>
                      </a:lnTo>
                      <a:lnTo>
                        <a:pt x="910" y="320"/>
                      </a:lnTo>
                      <a:lnTo>
                        <a:pt x="913" y="328"/>
                      </a:lnTo>
                      <a:lnTo>
                        <a:pt x="918" y="332"/>
                      </a:lnTo>
                      <a:lnTo>
                        <a:pt x="924" y="335"/>
                      </a:lnTo>
                      <a:lnTo>
                        <a:pt x="931" y="337"/>
                      </a:lnTo>
                      <a:lnTo>
                        <a:pt x="936" y="332"/>
                      </a:lnTo>
                      <a:lnTo>
                        <a:pt x="937" y="320"/>
                      </a:lnTo>
                      <a:lnTo>
                        <a:pt x="937" y="306"/>
                      </a:lnTo>
                      <a:lnTo>
                        <a:pt x="934" y="293"/>
                      </a:lnTo>
                      <a:lnTo>
                        <a:pt x="936" y="285"/>
                      </a:lnTo>
                      <a:lnTo>
                        <a:pt x="943" y="279"/>
                      </a:lnTo>
                      <a:lnTo>
                        <a:pt x="955" y="276"/>
                      </a:lnTo>
                      <a:lnTo>
                        <a:pt x="966" y="272"/>
                      </a:lnTo>
                      <a:lnTo>
                        <a:pt x="973" y="266"/>
                      </a:lnTo>
                      <a:lnTo>
                        <a:pt x="972" y="255"/>
                      </a:lnTo>
                      <a:lnTo>
                        <a:pt x="967" y="246"/>
                      </a:lnTo>
                      <a:lnTo>
                        <a:pt x="958" y="238"/>
                      </a:lnTo>
                      <a:lnTo>
                        <a:pt x="952" y="231"/>
                      </a:lnTo>
                      <a:lnTo>
                        <a:pt x="949" y="222"/>
                      </a:lnTo>
                      <a:lnTo>
                        <a:pt x="951" y="213"/>
                      </a:lnTo>
                      <a:lnTo>
                        <a:pt x="954" y="202"/>
                      </a:lnTo>
                      <a:lnTo>
                        <a:pt x="963" y="195"/>
                      </a:lnTo>
                      <a:lnTo>
                        <a:pt x="975" y="192"/>
                      </a:lnTo>
                      <a:lnTo>
                        <a:pt x="989" y="195"/>
                      </a:lnTo>
                      <a:lnTo>
                        <a:pt x="996" y="201"/>
                      </a:lnTo>
                      <a:lnTo>
                        <a:pt x="1002" y="207"/>
                      </a:lnTo>
                      <a:lnTo>
                        <a:pt x="1011" y="213"/>
                      </a:lnTo>
                      <a:lnTo>
                        <a:pt x="1020" y="216"/>
                      </a:lnTo>
                      <a:lnTo>
                        <a:pt x="1028" y="220"/>
                      </a:lnTo>
                      <a:lnTo>
                        <a:pt x="1034" y="225"/>
                      </a:lnTo>
                      <a:lnTo>
                        <a:pt x="1040" y="231"/>
                      </a:lnTo>
                      <a:lnTo>
                        <a:pt x="1046" y="238"/>
                      </a:lnTo>
                      <a:lnTo>
                        <a:pt x="1052" y="244"/>
                      </a:lnTo>
                      <a:lnTo>
                        <a:pt x="1060" y="246"/>
                      </a:lnTo>
                      <a:lnTo>
                        <a:pt x="1067" y="240"/>
                      </a:lnTo>
                      <a:lnTo>
                        <a:pt x="1076" y="231"/>
                      </a:lnTo>
                      <a:lnTo>
                        <a:pt x="1082" y="222"/>
                      </a:lnTo>
                      <a:lnTo>
                        <a:pt x="1088" y="217"/>
                      </a:lnTo>
                      <a:lnTo>
                        <a:pt x="1099" y="220"/>
                      </a:lnTo>
                      <a:lnTo>
                        <a:pt x="1108" y="228"/>
                      </a:lnTo>
                      <a:lnTo>
                        <a:pt x="1114" y="240"/>
                      </a:lnTo>
                      <a:lnTo>
                        <a:pt x="1119" y="249"/>
                      </a:lnTo>
                      <a:lnTo>
                        <a:pt x="1125" y="258"/>
                      </a:lnTo>
                      <a:lnTo>
                        <a:pt x="1131" y="266"/>
                      </a:lnTo>
                      <a:lnTo>
                        <a:pt x="1140" y="276"/>
                      </a:lnTo>
                      <a:lnTo>
                        <a:pt x="1149" y="287"/>
                      </a:lnTo>
                      <a:lnTo>
                        <a:pt x="1153" y="294"/>
                      </a:lnTo>
                      <a:lnTo>
                        <a:pt x="1156" y="302"/>
                      </a:lnTo>
                      <a:lnTo>
                        <a:pt x="1158" y="309"/>
                      </a:lnTo>
                      <a:lnTo>
                        <a:pt x="1161" y="315"/>
                      </a:lnTo>
                      <a:lnTo>
                        <a:pt x="1168" y="317"/>
                      </a:lnTo>
                      <a:lnTo>
                        <a:pt x="1177" y="315"/>
                      </a:lnTo>
                      <a:lnTo>
                        <a:pt x="1185" y="314"/>
                      </a:lnTo>
                      <a:lnTo>
                        <a:pt x="1191" y="315"/>
                      </a:lnTo>
                      <a:lnTo>
                        <a:pt x="1194" y="321"/>
                      </a:lnTo>
                      <a:lnTo>
                        <a:pt x="1193" y="334"/>
                      </a:lnTo>
                      <a:lnTo>
                        <a:pt x="1188" y="347"/>
                      </a:lnTo>
                      <a:lnTo>
                        <a:pt x="1181" y="358"/>
                      </a:lnTo>
                      <a:lnTo>
                        <a:pt x="1173" y="362"/>
                      </a:lnTo>
                      <a:lnTo>
                        <a:pt x="1164" y="364"/>
                      </a:lnTo>
                      <a:lnTo>
                        <a:pt x="1153" y="365"/>
                      </a:lnTo>
                      <a:lnTo>
                        <a:pt x="1144" y="367"/>
                      </a:lnTo>
                      <a:lnTo>
                        <a:pt x="1137" y="368"/>
                      </a:lnTo>
                      <a:lnTo>
                        <a:pt x="1129" y="370"/>
                      </a:lnTo>
                      <a:lnTo>
                        <a:pt x="1123" y="373"/>
                      </a:lnTo>
                      <a:lnTo>
                        <a:pt x="1120" y="380"/>
                      </a:lnTo>
                      <a:lnTo>
                        <a:pt x="1120" y="391"/>
                      </a:lnTo>
                      <a:lnTo>
                        <a:pt x="1122" y="403"/>
                      </a:lnTo>
                      <a:lnTo>
                        <a:pt x="1123" y="415"/>
                      </a:lnTo>
                      <a:lnTo>
                        <a:pt x="1120" y="426"/>
                      </a:lnTo>
                      <a:lnTo>
                        <a:pt x="1109" y="436"/>
                      </a:lnTo>
                      <a:lnTo>
                        <a:pt x="1096" y="444"/>
                      </a:lnTo>
                      <a:lnTo>
                        <a:pt x="1084" y="448"/>
                      </a:lnTo>
                      <a:lnTo>
                        <a:pt x="1075" y="453"/>
                      </a:lnTo>
                      <a:lnTo>
                        <a:pt x="1066" y="460"/>
                      </a:lnTo>
                      <a:lnTo>
                        <a:pt x="1057" y="469"/>
                      </a:lnTo>
                      <a:lnTo>
                        <a:pt x="1052" y="480"/>
                      </a:lnTo>
                      <a:lnTo>
                        <a:pt x="1048" y="489"/>
                      </a:lnTo>
                      <a:lnTo>
                        <a:pt x="1043" y="497"/>
                      </a:lnTo>
                      <a:lnTo>
                        <a:pt x="1035" y="501"/>
                      </a:lnTo>
                      <a:lnTo>
                        <a:pt x="1028" y="509"/>
                      </a:lnTo>
                      <a:lnTo>
                        <a:pt x="1020" y="515"/>
                      </a:lnTo>
                      <a:lnTo>
                        <a:pt x="1014" y="516"/>
                      </a:lnTo>
                      <a:lnTo>
                        <a:pt x="1007" y="518"/>
                      </a:lnTo>
                      <a:lnTo>
                        <a:pt x="998" y="522"/>
                      </a:lnTo>
                      <a:lnTo>
                        <a:pt x="992" y="528"/>
                      </a:lnTo>
                      <a:lnTo>
                        <a:pt x="992" y="534"/>
                      </a:lnTo>
                      <a:lnTo>
                        <a:pt x="992" y="540"/>
                      </a:lnTo>
                      <a:lnTo>
                        <a:pt x="990" y="548"/>
                      </a:lnTo>
                      <a:lnTo>
                        <a:pt x="987" y="557"/>
                      </a:lnTo>
                      <a:lnTo>
                        <a:pt x="986" y="566"/>
                      </a:lnTo>
                      <a:lnTo>
                        <a:pt x="983" y="577"/>
                      </a:lnTo>
                      <a:lnTo>
                        <a:pt x="978" y="586"/>
                      </a:lnTo>
                      <a:lnTo>
                        <a:pt x="975" y="593"/>
                      </a:lnTo>
                      <a:lnTo>
                        <a:pt x="975" y="599"/>
                      </a:lnTo>
                      <a:lnTo>
                        <a:pt x="973" y="604"/>
                      </a:lnTo>
                      <a:lnTo>
                        <a:pt x="966" y="605"/>
                      </a:lnTo>
                      <a:lnTo>
                        <a:pt x="957" y="607"/>
                      </a:lnTo>
                      <a:lnTo>
                        <a:pt x="951" y="608"/>
                      </a:lnTo>
                      <a:lnTo>
                        <a:pt x="946" y="613"/>
                      </a:lnTo>
                      <a:lnTo>
                        <a:pt x="942" y="623"/>
                      </a:lnTo>
                      <a:lnTo>
                        <a:pt x="943" y="643"/>
                      </a:lnTo>
                      <a:lnTo>
                        <a:pt x="948" y="667"/>
                      </a:lnTo>
                      <a:lnTo>
                        <a:pt x="949" y="690"/>
                      </a:lnTo>
                      <a:lnTo>
                        <a:pt x="942" y="699"/>
                      </a:lnTo>
                      <a:lnTo>
                        <a:pt x="933" y="697"/>
                      </a:lnTo>
                      <a:lnTo>
                        <a:pt x="925" y="694"/>
                      </a:lnTo>
                      <a:lnTo>
                        <a:pt x="921" y="688"/>
                      </a:lnTo>
                      <a:lnTo>
                        <a:pt x="916" y="681"/>
                      </a:lnTo>
                      <a:lnTo>
                        <a:pt x="911" y="672"/>
                      </a:lnTo>
                      <a:lnTo>
                        <a:pt x="908" y="661"/>
                      </a:lnTo>
                      <a:lnTo>
                        <a:pt x="905" y="652"/>
                      </a:lnTo>
                      <a:lnTo>
                        <a:pt x="904" y="649"/>
                      </a:lnTo>
                      <a:lnTo>
                        <a:pt x="901" y="649"/>
                      </a:lnTo>
                      <a:lnTo>
                        <a:pt x="892" y="648"/>
                      </a:lnTo>
                      <a:lnTo>
                        <a:pt x="881" y="648"/>
                      </a:lnTo>
                      <a:lnTo>
                        <a:pt x="872" y="649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Freeform 6"/>
                <p:cNvSpPr/>
                <p:nvPr/>
              </p:nvSpPr>
              <p:spPr>
                <a:xfrm>
                  <a:off x="6319800" y="3148560"/>
                  <a:ext cx="413640" cy="302040"/>
                </a:xfrm>
                <a:custGeom>
                  <a:avLst/>
                  <a:gdLst>
                    <a:gd name="textAreaLeft" fmla="*/ 0 w 413640"/>
                    <a:gd name="textAreaRight" fmla="*/ 414000 w 413640"/>
                    <a:gd name="textAreaTop" fmla="*/ 0 h 302040"/>
                    <a:gd name="textAreaBottom" fmla="*/ 302400 h 302040"/>
                  </a:gdLst>
                  <a:ahLst/>
                  <a:rect l="textAreaLeft" t="textAreaTop" r="textAreaRight" b="textAreaBottom"/>
                  <a:pathLst>
                    <a:path w="290" h="228">
                      <a:moveTo>
                        <a:pt x="14" y="6"/>
                      </a:moveTo>
                      <a:lnTo>
                        <a:pt x="20" y="3"/>
                      </a:lnTo>
                      <a:lnTo>
                        <a:pt x="27" y="0"/>
                      </a:lnTo>
                      <a:lnTo>
                        <a:pt x="35" y="0"/>
                      </a:lnTo>
                      <a:lnTo>
                        <a:pt x="42" y="0"/>
                      </a:lnTo>
                      <a:lnTo>
                        <a:pt x="50" y="1"/>
                      </a:lnTo>
                      <a:lnTo>
                        <a:pt x="58" y="3"/>
                      </a:lnTo>
                      <a:lnTo>
                        <a:pt x="65" y="4"/>
                      </a:lnTo>
                      <a:lnTo>
                        <a:pt x="74" y="7"/>
                      </a:lnTo>
                      <a:lnTo>
                        <a:pt x="83" y="10"/>
                      </a:lnTo>
                      <a:lnTo>
                        <a:pt x="92" y="13"/>
                      </a:lnTo>
                      <a:lnTo>
                        <a:pt x="103" y="16"/>
                      </a:lnTo>
                      <a:lnTo>
                        <a:pt x="113" y="19"/>
                      </a:lnTo>
                      <a:lnTo>
                        <a:pt x="123" y="24"/>
                      </a:lnTo>
                      <a:lnTo>
                        <a:pt x="132" y="27"/>
                      </a:lnTo>
                      <a:lnTo>
                        <a:pt x="141" y="30"/>
                      </a:lnTo>
                      <a:lnTo>
                        <a:pt x="147" y="31"/>
                      </a:lnTo>
                      <a:lnTo>
                        <a:pt x="154" y="33"/>
                      </a:lnTo>
                      <a:lnTo>
                        <a:pt x="165" y="36"/>
                      </a:lnTo>
                      <a:lnTo>
                        <a:pt x="175" y="39"/>
                      </a:lnTo>
                      <a:lnTo>
                        <a:pt x="187" y="43"/>
                      </a:lnTo>
                      <a:lnTo>
                        <a:pt x="200" y="50"/>
                      </a:lnTo>
                      <a:lnTo>
                        <a:pt x="212" y="54"/>
                      </a:lnTo>
                      <a:lnTo>
                        <a:pt x="221" y="62"/>
                      </a:lnTo>
                      <a:lnTo>
                        <a:pt x="228" y="68"/>
                      </a:lnTo>
                      <a:lnTo>
                        <a:pt x="239" y="84"/>
                      </a:lnTo>
                      <a:lnTo>
                        <a:pt x="248" y="107"/>
                      </a:lnTo>
                      <a:lnTo>
                        <a:pt x="256" y="127"/>
                      </a:lnTo>
                      <a:lnTo>
                        <a:pt x="263" y="137"/>
                      </a:lnTo>
                      <a:lnTo>
                        <a:pt x="271" y="143"/>
                      </a:lnTo>
                      <a:lnTo>
                        <a:pt x="277" y="154"/>
                      </a:lnTo>
                      <a:lnTo>
                        <a:pt x="280" y="166"/>
                      </a:lnTo>
                      <a:lnTo>
                        <a:pt x="281" y="178"/>
                      </a:lnTo>
                      <a:lnTo>
                        <a:pt x="281" y="188"/>
                      </a:lnTo>
                      <a:lnTo>
                        <a:pt x="284" y="197"/>
                      </a:lnTo>
                      <a:lnTo>
                        <a:pt x="287" y="205"/>
                      </a:lnTo>
                      <a:lnTo>
                        <a:pt x="290" y="213"/>
                      </a:lnTo>
                      <a:lnTo>
                        <a:pt x="289" y="217"/>
                      </a:lnTo>
                      <a:lnTo>
                        <a:pt x="283" y="222"/>
                      </a:lnTo>
                      <a:lnTo>
                        <a:pt x="275" y="225"/>
                      </a:lnTo>
                      <a:lnTo>
                        <a:pt x="265" y="226"/>
                      </a:lnTo>
                      <a:lnTo>
                        <a:pt x="254" y="228"/>
                      </a:lnTo>
                      <a:lnTo>
                        <a:pt x="243" y="226"/>
                      </a:lnTo>
                      <a:lnTo>
                        <a:pt x="233" y="222"/>
                      </a:lnTo>
                      <a:lnTo>
                        <a:pt x="225" y="216"/>
                      </a:lnTo>
                      <a:lnTo>
                        <a:pt x="218" y="208"/>
                      </a:lnTo>
                      <a:lnTo>
                        <a:pt x="210" y="200"/>
                      </a:lnTo>
                      <a:lnTo>
                        <a:pt x="201" y="194"/>
                      </a:lnTo>
                      <a:lnTo>
                        <a:pt x="192" y="188"/>
                      </a:lnTo>
                      <a:lnTo>
                        <a:pt x="183" y="184"/>
                      </a:lnTo>
                      <a:lnTo>
                        <a:pt x="174" y="179"/>
                      </a:lnTo>
                      <a:lnTo>
                        <a:pt x="165" y="178"/>
                      </a:lnTo>
                      <a:lnTo>
                        <a:pt x="157" y="176"/>
                      </a:lnTo>
                      <a:lnTo>
                        <a:pt x="142" y="173"/>
                      </a:lnTo>
                      <a:lnTo>
                        <a:pt x="129" y="164"/>
                      </a:lnTo>
                      <a:lnTo>
                        <a:pt x="121" y="155"/>
                      </a:lnTo>
                      <a:lnTo>
                        <a:pt x="121" y="145"/>
                      </a:lnTo>
                      <a:lnTo>
                        <a:pt x="124" y="142"/>
                      </a:lnTo>
                      <a:lnTo>
                        <a:pt x="130" y="139"/>
                      </a:lnTo>
                      <a:lnTo>
                        <a:pt x="136" y="137"/>
                      </a:lnTo>
                      <a:lnTo>
                        <a:pt x="144" y="137"/>
                      </a:lnTo>
                      <a:lnTo>
                        <a:pt x="150" y="136"/>
                      </a:lnTo>
                      <a:lnTo>
                        <a:pt x="157" y="136"/>
                      </a:lnTo>
                      <a:lnTo>
                        <a:pt x="163" y="136"/>
                      </a:lnTo>
                      <a:lnTo>
                        <a:pt x="169" y="134"/>
                      </a:lnTo>
                      <a:lnTo>
                        <a:pt x="172" y="127"/>
                      </a:lnTo>
                      <a:lnTo>
                        <a:pt x="166" y="114"/>
                      </a:lnTo>
                      <a:lnTo>
                        <a:pt x="156" y="102"/>
                      </a:lnTo>
                      <a:lnTo>
                        <a:pt x="145" y="93"/>
                      </a:lnTo>
                      <a:lnTo>
                        <a:pt x="139" y="90"/>
                      </a:lnTo>
                      <a:lnTo>
                        <a:pt x="129" y="89"/>
                      </a:lnTo>
                      <a:lnTo>
                        <a:pt x="116" y="84"/>
                      </a:lnTo>
                      <a:lnTo>
                        <a:pt x="103" y="81"/>
                      </a:lnTo>
                      <a:lnTo>
                        <a:pt x="88" y="78"/>
                      </a:lnTo>
                      <a:lnTo>
                        <a:pt x="74" y="75"/>
                      </a:lnTo>
                      <a:lnTo>
                        <a:pt x="62" y="72"/>
                      </a:lnTo>
                      <a:lnTo>
                        <a:pt x="51" y="69"/>
                      </a:lnTo>
                      <a:lnTo>
                        <a:pt x="42" y="65"/>
                      </a:lnTo>
                      <a:lnTo>
                        <a:pt x="32" y="60"/>
                      </a:lnTo>
                      <a:lnTo>
                        <a:pt x="20" y="53"/>
                      </a:lnTo>
                      <a:lnTo>
                        <a:pt x="11" y="43"/>
                      </a:lnTo>
                      <a:lnTo>
                        <a:pt x="3" y="34"/>
                      </a:lnTo>
                      <a:lnTo>
                        <a:pt x="0" y="25"/>
                      </a:lnTo>
                      <a:lnTo>
                        <a:pt x="3" y="15"/>
                      </a:lnTo>
                      <a:lnTo>
                        <a:pt x="14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Freeform 7"/>
                <p:cNvSpPr/>
                <p:nvPr/>
              </p:nvSpPr>
              <p:spPr>
                <a:xfrm>
                  <a:off x="6580800" y="2802600"/>
                  <a:ext cx="842760" cy="645120"/>
                </a:xfrm>
                <a:custGeom>
                  <a:avLst/>
                  <a:gdLst>
                    <a:gd name="textAreaLeft" fmla="*/ 0 w 842760"/>
                    <a:gd name="textAreaRight" fmla="*/ 843120 w 842760"/>
                    <a:gd name="textAreaTop" fmla="*/ 0 h 645120"/>
                    <a:gd name="textAreaBottom" fmla="*/ 645480 h 645120"/>
                  </a:gdLst>
                  <a:ahLst/>
                  <a:rect l="textAreaLeft" t="textAreaTop" r="textAreaRight" b="textAreaBottom"/>
                  <a:pathLst>
                    <a:path w="591" h="487">
                      <a:moveTo>
                        <a:pt x="136" y="67"/>
                      </a:moveTo>
                      <a:lnTo>
                        <a:pt x="128" y="69"/>
                      </a:lnTo>
                      <a:lnTo>
                        <a:pt x="122" y="70"/>
                      </a:lnTo>
                      <a:lnTo>
                        <a:pt x="116" y="69"/>
                      </a:lnTo>
                      <a:lnTo>
                        <a:pt x="110" y="69"/>
                      </a:lnTo>
                      <a:lnTo>
                        <a:pt x="104" y="69"/>
                      </a:lnTo>
                      <a:lnTo>
                        <a:pt x="98" y="70"/>
                      </a:lnTo>
                      <a:lnTo>
                        <a:pt x="91" y="75"/>
                      </a:lnTo>
                      <a:lnTo>
                        <a:pt x="83" y="81"/>
                      </a:lnTo>
                      <a:lnTo>
                        <a:pt x="71" y="98"/>
                      </a:lnTo>
                      <a:lnTo>
                        <a:pt x="63" y="111"/>
                      </a:lnTo>
                      <a:lnTo>
                        <a:pt x="56" y="123"/>
                      </a:lnTo>
                      <a:lnTo>
                        <a:pt x="45" y="132"/>
                      </a:lnTo>
                      <a:lnTo>
                        <a:pt x="38" y="137"/>
                      </a:lnTo>
                      <a:lnTo>
                        <a:pt x="30" y="140"/>
                      </a:lnTo>
                      <a:lnTo>
                        <a:pt x="21" y="144"/>
                      </a:lnTo>
                      <a:lnTo>
                        <a:pt x="14" y="149"/>
                      </a:lnTo>
                      <a:lnTo>
                        <a:pt x="6" y="154"/>
                      </a:lnTo>
                      <a:lnTo>
                        <a:pt x="1" y="158"/>
                      </a:lnTo>
                      <a:lnTo>
                        <a:pt x="0" y="163"/>
                      </a:lnTo>
                      <a:lnTo>
                        <a:pt x="1" y="167"/>
                      </a:lnTo>
                      <a:lnTo>
                        <a:pt x="9" y="173"/>
                      </a:lnTo>
                      <a:lnTo>
                        <a:pt x="15" y="176"/>
                      </a:lnTo>
                      <a:lnTo>
                        <a:pt x="20" y="181"/>
                      </a:lnTo>
                      <a:lnTo>
                        <a:pt x="24" y="187"/>
                      </a:lnTo>
                      <a:lnTo>
                        <a:pt x="27" y="196"/>
                      </a:lnTo>
                      <a:lnTo>
                        <a:pt x="35" y="205"/>
                      </a:lnTo>
                      <a:lnTo>
                        <a:pt x="44" y="209"/>
                      </a:lnTo>
                      <a:lnTo>
                        <a:pt x="56" y="203"/>
                      </a:lnTo>
                      <a:lnTo>
                        <a:pt x="68" y="194"/>
                      </a:lnTo>
                      <a:lnTo>
                        <a:pt x="77" y="190"/>
                      </a:lnTo>
                      <a:lnTo>
                        <a:pt x="88" y="188"/>
                      </a:lnTo>
                      <a:lnTo>
                        <a:pt x="98" y="187"/>
                      </a:lnTo>
                      <a:lnTo>
                        <a:pt x="106" y="184"/>
                      </a:lnTo>
                      <a:lnTo>
                        <a:pt x="112" y="182"/>
                      </a:lnTo>
                      <a:lnTo>
                        <a:pt x="116" y="182"/>
                      </a:lnTo>
                      <a:lnTo>
                        <a:pt x="121" y="188"/>
                      </a:lnTo>
                      <a:lnTo>
                        <a:pt x="128" y="199"/>
                      </a:lnTo>
                      <a:lnTo>
                        <a:pt x="137" y="209"/>
                      </a:lnTo>
                      <a:lnTo>
                        <a:pt x="145" y="215"/>
                      </a:lnTo>
                      <a:lnTo>
                        <a:pt x="148" y="218"/>
                      </a:lnTo>
                      <a:lnTo>
                        <a:pt x="148" y="221"/>
                      </a:lnTo>
                      <a:lnTo>
                        <a:pt x="148" y="227"/>
                      </a:lnTo>
                      <a:lnTo>
                        <a:pt x="148" y="237"/>
                      </a:lnTo>
                      <a:lnTo>
                        <a:pt x="150" y="244"/>
                      </a:lnTo>
                      <a:lnTo>
                        <a:pt x="153" y="253"/>
                      </a:lnTo>
                      <a:lnTo>
                        <a:pt x="160" y="262"/>
                      </a:lnTo>
                      <a:lnTo>
                        <a:pt x="171" y="271"/>
                      </a:lnTo>
                      <a:lnTo>
                        <a:pt x="180" y="280"/>
                      </a:lnTo>
                      <a:lnTo>
                        <a:pt x="186" y="289"/>
                      </a:lnTo>
                      <a:lnTo>
                        <a:pt x="189" y="297"/>
                      </a:lnTo>
                      <a:lnTo>
                        <a:pt x="190" y="307"/>
                      </a:lnTo>
                      <a:lnTo>
                        <a:pt x="192" y="320"/>
                      </a:lnTo>
                      <a:lnTo>
                        <a:pt x="193" y="335"/>
                      </a:lnTo>
                      <a:lnTo>
                        <a:pt x="195" y="351"/>
                      </a:lnTo>
                      <a:lnTo>
                        <a:pt x="195" y="366"/>
                      </a:lnTo>
                      <a:lnTo>
                        <a:pt x="193" y="375"/>
                      </a:lnTo>
                      <a:lnTo>
                        <a:pt x="189" y="384"/>
                      </a:lnTo>
                      <a:lnTo>
                        <a:pt x="184" y="394"/>
                      </a:lnTo>
                      <a:lnTo>
                        <a:pt x="181" y="403"/>
                      </a:lnTo>
                      <a:lnTo>
                        <a:pt x="180" y="412"/>
                      </a:lnTo>
                      <a:lnTo>
                        <a:pt x="181" y="419"/>
                      </a:lnTo>
                      <a:lnTo>
                        <a:pt x="186" y="424"/>
                      </a:lnTo>
                      <a:lnTo>
                        <a:pt x="190" y="427"/>
                      </a:lnTo>
                      <a:lnTo>
                        <a:pt x="193" y="433"/>
                      </a:lnTo>
                      <a:lnTo>
                        <a:pt x="195" y="442"/>
                      </a:lnTo>
                      <a:lnTo>
                        <a:pt x="196" y="451"/>
                      </a:lnTo>
                      <a:lnTo>
                        <a:pt x="201" y="460"/>
                      </a:lnTo>
                      <a:lnTo>
                        <a:pt x="207" y="468"/>
                      </a:lnTo>
                      <a:lnTo>
                        <a:pt x="213" y="471"/>
                      </a:lnTo>
                      <a:lnTo>
                        <a:pt x="221" y="475"/>
                      </a:lnTo>
                      <a:lnTo>
                        <a:pt x="230" y="480"/>
                      </a:lnTo>
                      <a:lnTo>
                        <a:pt x="240" y="484"/>
                      </a:lnTo>
                      <a:lnTo>
                        <a:pt x="251" y="487"/>
                      </a:lnTo>
                      <a:lnTo>
                        <a:pt x="260" y="487"/>
                      </a:lnTo>
                      <a:lnTo>
                        <a:pt x="267" y="487"/>
                      </a:lnTo>
                      <a:lnTo>
                        <a:pt x="274" y="483"/>
                      </a:lnTo>
                      <a:lnTo>
                        <a:pt x="278" y="477"/>
                      </a:lnTo>
                      <a:lnTo>
                        <a:pt x="284" y="469"/>
                      </a:lnTo>
                      <a:lnTo>
                        <a:pt x="293" y="461"/>
                      </a:lnTo>
                      <a:lnTo>
                        <a:pt x="302" y="454"/>
                      </a:lnTo>
                      <a:lnTo>
                        <a:pt x="311" y="445"/>
                      </a:lnTo>
                      <a:lnTo>
                        <a:pt x="320" y="436"/>
                      </a:lnTo>
                      <a:lnTo>
                        <a:pt x="329" y="428"/>
                      </a:lnTo>
                      <a:lnTo>
                        <a:pt x="337" y="421"/>
                      </a:lnTo>
                      <a:lnTo>
                        <a:pt x="343" y="413"/>
                      </a:lnTo>
                      <a:lnTo>
                        <a:pt x="349" y="406"/>
                      </a:lnTo>
                      <a:lnTo>
                        <a:pt x="355" y="397"/>
                      </a:lnTo>
                      <a:lnTo>
                        <a:pt x="361" y="388"/>
                      </a:lnTo>
                      <a:lnTo>
                        <a:pt x="367" y="378"/>
                      </a:lnTo>
                      <a:lnTo>
                        <a:pt x="373" y="371"/>
                      </a:lnTo>
                      <a:lnTo>
                        <a:pt x="381" y="365"/>
                      </a:lnTo>
                      <a:lnTo>
                        <a:pt x="388" y="362"/>
                      </a:lnTo>
                      <a:lnTo>
                        <a:pt x="396" y="360"/>
                      </a:lnTo>
                      <a:lnTo>
                        <a:pt x="405" y="359"/>
                      </a:lnTo>
                      <a:lnTo>
                        <a:pt x="413" y="357"/>
                      </a:lnTo>
                      <a:lnTo>
                        <a:pt x="420" y="356"/>
                      </a:lnTo>
                      <a:lnTo>
                        <a:pt x="426" y="354"/>
                      </a:lnTo>
                      <a:lnTo>
                        <a:pt x="434" y="351"/>
                      </a:lnTo>
                      <a:lnTo>
                        <a:pt x="440" y="348"/>
                      </a:lnTo>
                      <a:lnTo>
                        <a:pt x="444" y="345"/>
                      </a:lnTo>
                      <a:lnTo>
                        <a:pt x="453" y="339"/>
                      </a:lnTo>
                      <a:lnTo>
                        <a:pt x="461" y="335"/>
                      </a:lnTo>
                      <a:lnTo>
                        <a:pt x="467" y="330"/>
                      </a:lnTo>
                      <a:lnTo>
                        <a:pt x="476" y="326"/>
                      </a:lnTo>
                      <a:lnTo>
                        <a:pt x="484" y="320"/>
                      </a:lnTo>
                      <a:lnTo>
                        <a:pt x="490" y="312"/>
                      </a:lnTo>
                      <a:lnTo>
                        <a:pt x="494" y="306"/>
                      </a:lnTo>
                      <a:lnTo>
                        <a:pt x="494" y="300"/>
                      </a:lnTo>
                      <a:lnTo>
                        <a:pt x="491" y="295"/>
                      </a:lnTo>
                      <a:lnTo>
                        <a:pt x="485" y="291"/>
                      </a:lnTo>
                      <a:lnTo>
                        <a:pt x="479" y="286"/>
                      </a:lnTo>
                      <a:lnTo>
                        <a:pt x="475" y="285"/>
                      </a:lnTo>
                      <a:lnTo>
                        <a:pt x="468" y="283"/>
                      </a:lnTo>
                      <a:lnTo>
                        <a:pt x="459" y="280"/>
                      </a:lnTo>
                      <a:lnTo>
                        <a:pt x="453" y="277"/>
                      </a:lnTo>
                      <a:lnTo>
                        <a:pt x="453" y="270"/>
                      </a:lnTo>
                      <a:lnTo>
                        <a:pt x="458" y="261"/>
                      </a:lnTo>
                      <a:lnTo>
                        <a:pt x="462" y="252"/>
                      </a:lnTo>
                      <a:lnTo>
                        <a:pt x="467" y="247"/>
                      </a:lnTo>
                      <a:lnTo>
                        <a:pt x="475" y="249"/>
                      </a:lnTo>
                      <a:lnTo>
                        <a:pt x="484" y="252"/>
                      </a:lnTo>
                      <a:lnTo>
                        <a:pt x="496" y="253"/>
                      </a:lnTo>
                      <a:lnTo>
                        <a:pt x="505" y="255"/>
                      </a:lnTo>
                      <a:lnTo>
                        <a:pt x="509" y="255"/>
                      </a:lnTo>
                      <a:lnTo>
                        <a:pt x="511" y="253"/>
                      </a:lnTo>
                      <a:lnTo>
                        <a:pt x="514" y="249"/>
                      </a:lnTo>
                      <a:lnTo>
                        <a:pt x="515" y="241"/>
                      </a:lnTo>
                      <a:lnTo>
                        <a:pt x="518" y="229"/>
                      </a:lnTo>
                      <a:lnTo>
                        <a:pt x="521" y="217"/>
                      </a:lnTo>
                      <a:lnTo>
                        <a:pt x="523" y="206"/>
                      </a:lnTo>
                      <a:lnTo>
                        <a:pt x="521" y="197"/>
                      </a:lnTo>
                      <a:lnTo>
                        <a:pt x="520" y="187"/>
                      </a:lnTo>
                      <a:lnTo>
                        <a:pt x="517" y="175"/>
                      </a:lnTo>
                      <a:lnTo>
                        <a:pt x="517" y="160"/>
                      </a:lnTo>
                      <a:lnTo>
                        <a:pt x="520" y="143"/>
                      </a:lnTo>
                      <a:lnTo>
                        <a:pt x="526" y="129"/>
                      </a:lnTo>
                      <a:lnTo>
                        <a:pt x="530" y="119"/>
                      </a:lnTo>
                      <a:lnTo>
                        <a:pt x="536" y="111"/>
                      </a:lnTo>
                      <a:lnTo>
                        <a:pt x="544" y="104"/>
                      </a:lnTo>
                      <a:lnTo>
                        <a:pt x="549" y="99"/>
                      </a:lnTo>
                      <a:lnTo>
                        <a:pt x="555" y="95"/>
                      </a:lnTo>
                      <a:lnTo>
                        <a:pt x="561" y="90"/>
                      </a:lnTo>
                      <a:lnTo>
                        <a:pt x="568" y="86"/>
                      </a:lnTo>
                      <a:lnTo>
                        <a:pt x="574" y="81"/>
                      </a:lnTo>
                      <a:lnTo>
                        <a:pt x="580" y="77"/>
                      </a:lnTo>
                      <a:lnTo>
                        <a:pt x="586" y="70"/>
                      </a:lnTo>
                      <a:lnTo>
                        <a:pt x="589" y="66"/>
                      </a:lnTo>
                      <a:lnTo>
                        <a:pt x="591" y="57"/>
                      </a:lnTo>
                      <a:lnTo>
                        <a:pt x="586" y="52"/>
                      </a:lnTo>
                      <a:lnTo>
                        <a:pt x="579" y="52"/>
                      </a:lnTo>
                      <a:lnTo>
                        <a:pt x="570" y="54"/>
                      </a:lnTo>
                      <a:lnTo>
                        <a:pt x="561" y="54"/>
                      </a:lnTo>
                      <a:lnTo>
                        <a:pt x="550" y="52"/>
                      </a:lnTo>
                      <a:lnTo>
                        <a:pt x="540" y="51"/>
                      </a:lnTo>
                      <a:lnTo>
                        <a:pt x="532" y="49"/>
                      </a:lnTo>
                      <a:lnTo>
                        <a:pt x="524" y="49"/>
                      </a:lnTo>
                      <a:lnTo>
                        <a:pt x="518" y="49"/>
                      </a:lnTo>
                      <a:lnTo>
                        <a:pt x="514" y="54"/>
                      </a:lnTo>
                      <a:lnTo>
                        <a:pt x="509" y="60"/>
                      </a:lnTo>
                      <a:lnTo>
                        <a:pt x="506" y="63"/>
                      </a:lnTo>
                      <a:lnTo>
                        <a:pt x="502" y="64"/>
                      </a:lnTo>
                      <a:lnTo>
                        <a:pt x="496" y="66"/>
                      </a:lnTo>
                      <a:lnTo>
                        <a:pt x="490" y="67"/>
                      </a:lnTo>
                      <a:lnTo>
                        <a:pt x="482" y="67"/>
                      </a:lnTo>
                      <a:lnTo>
                        <a:pt x="476" y="67"/>
                      </a:lnTo>
                      <a:lnTo>
                        <a:pt x="468" y="67"/>
                      </a:lnTo>
                      <a:lnTo>
                        <a:pt x="462" y="67"/>
                      </a:lnTo>
                      <a:lnTo>
                        <a:pt x="450" y="66"/>
                      </a:lnTo>
                      <a:lnTo>
                        <a:pt x="438" y="64"/>
                      </a:lnTo>
                      <a:lnTo>
                        <a:pt x="428" y="63"/>
                      </a:lnTo>
                      <a:lnTo>
                        <a:pt x="419" y="63"/>
                      </a:lnTo>
                      <a:lnTo>
                        <a:pt x="414" y="63"/>
                      </a:lnTo>
                      <a:lnTo>
                        <a:pt x="417" y="61"/>
                      </a:lnTo>
                      <a:lnTo>
                        <a:pt x="425" y="58"/>
                      </a:lnTo>
                      <a:lnTo>
                        <a:pt x="434" y="51"/>
                      </a:lnTo>
                      <a:lnTo>
                        <a:pt x="443" y="43"/>
                      </a:lnTo>
                      <a:lnTo>
                        <a:pt x="452" y="39"/>
                      </a:lnTo>
                      <a:lnTo>
                        <a:pt x="461" y="37"/>
                      </a:lnTo>
                      <a:lnTo>
                        <a:pt x="470" y="36"/>
                      </a:lnTo>
                      <a:lnTo>
                        <a:pt x="481" y="36"/>
                      </a:lnTo>
                      <a:lnTo>
                        <a:pt x="494" y="37"/>
                      </a:lnTo>
                      <a:lnTo>
                        <a:pt x="505" y="40"/>
                      </a:lnTo>
                      <a:lnTo>
                        <a:pt x="509" y="40"/>
                      </a:lnTo>
                      <a:lnTo>
                        <a:pt x="502" y="28"/>
                      </a:lnTo>
                      <a:lnTo>
                        <a:pt x="491" y="16"/>
                      </a:lnTo>
                      <a:lnTo>
                        <a:pt x="481" y="9"/>
                      </a:lnTo>
                      <a:lnTo>
                        <a:pt x="472" y="4"/>
                      </a:lnTo>
                      <a:lnTo>
                        <a:pt x="467" y="3"/>
                      </a:lnTo>
                      <a:lnTo>
                        <a:pt x="459" y="3"/>
                      </a:lnTo>
                      <a:lnTo>
                        <a:pt x="452" y="1"/>
                      </a:lnTo>
                      <a:lnTo>
                        <a:pt x="443" y="0"/>
                      </a:lnTo>
                      <a:lnTo>
                        <a:pt x="434" y="0"/>
                      </a:lnTo>
                      <a:lnTo>
                        <a:pt x="423" y="0"/>
                      </a:lnTo>
                      <a:lnTo>
                        <a:pt x="413" y="0"/>
                      </a:lnTo>
                      <a:lnTo>
                        <a:pt x="402" y="1"/>
                      </a:lnTo>
                      <a:lnTo>
                        <a:pt x="391" y="3"/>
                      </a:lnTo>
                      <a:lnTo>
                        <a:pt x="381" y="4"/>
                      </a:lnTo>
                      <a:lnTo>
                        <a:pt x="369" y="4"/>
                      </a:lnTo>
                      <a:lnTo>
                        <a:pt x="358" y="4"/>
                      </a:lnTo>
                      <a:lnTo>
                        <a:pt x="348" y="6"/>
                      </a:lnTo>
                      <a:lnTo>
                        <a:pt x="339" y="6"/>
                      </a:lnTo>
                      <a:lnTo>
                        <a:pt x="331" y="6"/>
                      </a:lnTo>
                      <a:lnTo>
                        <a:pt x="325" y="7"/>
                      </a:lnTo>
                      <a:lnTo>
                        <a:pt x="314" y="12"/>
                      </a:lnTo>
                      <a:lnTo>
                        <a:pt x="305" y="16"/>
                      </a:lnTo>
                      <a:lnTo>
                        <a:pt x="296" y="21"/>
                      </a:lnTo>
                      <a:lnTo>
                        <a:pt x="287" y="22"/>
                      </a:lnTo>
                      <a:lnTo>
                        <a:pt x="280" y="22"/>
                      </a:lnTo>
                      <a:lnTo>
                        <a:pt x="275" y="24"/>
                      </a:lnTo>
                      <a:lnTo>
                        <a:pt x="270" y="27"/>
                      </a:lnTo>
                      <a:lnTo>
                        <a:pt x="263" y="30"/>
                      </a:lnTo>
                      <a:lnTo>
                        <a:pt x="258" y="34"/>
                      </a:lnTo>
                      <a:lnTo>
                        <a:pt x="260" y="39"/>
                      </a:lnTo>
                      <a:lnTo>
                        <a:pt x="264" y="46"/>
                      </a:lnTo>
                      <a:lnTo>
                        <a:pt x="267" y="54"/>
                      </a:lnTo>
                      <a:lnTo>
                        <a:pt x="266" y="58"/>
                      </a:lnTo>
                      <a:lnTo>
                        <a:pt x="260" y="58"/>
                      </a:lnTo>
                      <a:lnTo>
                        <a:pt x="251" y="58"/>
                      </a:lnTo>
                      <a:lnTo>
                        <a:pt x="240" y="60"/>
                      </a:lnTo>
                      <a:lnTo>
                        <a:pt x="230" y="63"/>
                      </a:lnTo>
                      <a:lnTo>
                        <a:pt x="222" y="63"/>
                      </a:lnTo>
                      <a:lnTo>
                        <a:pt x="215" y="63"/>
                      </a:lnTo>
                      <a:lnTo>
                        <a:pt x="209" y="61"/>
                      </a:lnTo>
                      <a:lnTo>
                        <a:pt x="201" y="61"/>
                      </a:lnTo>
                      <a:lnTo>
                        <a:pt x="190" y="63"/>
                      </a:lnTo>
                      <a:lnTo>
                        <a:pt x="181" y="64"/>
                      </a:lnTo>
                      <a:lnTo>
                        <a:pt x="177" y="66"/>
                      </a:lnTo>
                      <a:lnTo>
                        <a:pt x="172" y="66"/>
                      </a:lnTo>
                      <a:lnTo>
                        <a:pt x="162" y="64"/>
                      </a:lnTo>
                      <a:lnTo>
                        <a:pt x="148" y="64"/>
                      </a:lnTo>
                      <a:lnTo>
                        <a:pt x="136" y="6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8"/>
                <p:cNvSpPr/>
                <p:nvPr/>
              </p:nvSpPr>
              <p:spPr>
                <a:xfrm>
                  <a:off x="6285600" y="2843640"/>
                  <a:ext cx="454680" cy="218520"/>
                </a:xfrm>
                <a:custGeom>
                  <a:avLst/>
                  <a:gdLst>
                    <a:gd name="textAreaLeft" fmla="*/ 0 w 454680"/>
                    <a:gd name="textAreaRight" fmla="*/ 455040 w 45468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319" h="165">
                      <a:moveTo>
                        <a:pt x="319" y="17"/>
                      </a:moveTo>
                      <a:lnTo>
                        <a:pt x="317" y="15"/>
                      </a:lnTo>
                      <a:lnTo>
                        <a:pt x="308" y="15"/>
                      </a:lnTo>
                      <a:lnTo>
                        <a:pt x="293" y="15"/>
                      </a:lnTo>
                      <a:lnTo>
                        <a:pt x="276" y="15"/>
                      </a:lnTo>
                      <a:lnTo>
                        <a:pt x="258" y="14"/>
                      </a:lnTo>
                      <a:lnTo>
                        <a:pt x="242" y="14"/>
                      </a:lnTo>
                      <a:lnTo>
                        <a:pt x="227" y="12"/>
                      </a:lnTo>
                      <a:lnTo>
                        <a:pt x="218" y="11"/>
                      </a:lnTo>
                      <a:lnTo>
                        <a:pt x="208" y="8"/>
                      </a:lnTo>
                      <a:lnTo>
                        <a:pt x="195" y="6"/>
                      </a:lnTo>
                      <a:lnTo>
                        <a:pt x="178" y="3"/>
                      </a:lnTo>
                      <a:lnTo>
                        <a:pt x="160" y="2"/>
                      </a:lnTo>
                      <a:lnTo>
                        <a:pt x="142" y="0"/>
                      </a:lnTo>
                      <a:lnTo>
                        <a:pt x="127" y="2"/>
                      </a:lnTo>
                      <a:lnTo>
                        <a:pt x="113" y="3"/>
                      </a:lnTo>
                      <a:lnTo>
                        <a:pt x="104" y="6"/>
                      </a:lnTo>
                      <a:lnTo>
                        <a:pt x="97" y="11"/>
                      </a:lnTo>
                      <a:lnTo>
                        <a:pt x="88" y="14"/>
                      </a:lnTo>
                      <a:lnTo>
                        <a:pt x="78" y="15"/>
                      </a:lnTo>
                      <a:lnTo>
                        <a:pt x="69" y="17"/>
                      </a:lnTo>
                      <a:lnTo>
                        <a:pt x="60" y="20"/>
                      </a:lnTo>
                      <a:lnTo>
                        <a:pt x="51" y="21"/>
                      </a:lnTo>
                      <a:lnTo>
                        <a:pt x="44" y="23"/>
                      </a:lnTo>
                      <a:lnTo>
                        <a:pt x="38" y="24"/>
                      </a:lnTo>
                      <a:lnTo>
                        <a:pt x="27" y="27"/>
                      </a:lnTo>
                      <a:lnTo>
                        <a:pt x="15" y="27"/>
                      </a:lnTo>
                      <a:lnTo>
                        <a:pt x="6" y="27"/>
                      </a:lnTo>
                      <a:lnTo>
                        <a:pt x="0" y="32"/>
                      </a:lnTo>
                      <a:lnTo>
                        <a:pt x="1" y="39"/>
                      </a:lnTo>
                      <a:lnTo>
                        <a:pt x="7" y="46"/>
                      </a:lnTo>
                      <a:lnTo>
                        <a:pt x="17" y="50"/>
                      </a:lnTo>
                      <a:lnTo>
                        <a:pt x="24" y="55"/>
                      </a:lnTo>
                      <a:lnTo>
                        <a:pt x="32" y="58"/>
                      </a:lnTo>
                      <a:lnTo>
                        <a:pt x="41" y="59"/>
                      </a:lnTo>
                      <a:lnTo>
                        <a:pt x="51" y="62"/>
                      </a:lnTo>
                      <a:lnTo>
                        <a:pt x="60" y="67"/>
                      </a:lnTo>
                      <a:lnTo>
                        <a:pt x="69" y="74"/>
                      </a:lnTo>
                      <a:lnTo>
                        <a:pt x="77" y="83"/>
                      </a:lnTo>
                      <a:lnTo>
                        <a:pt x="78" y="92"/>
                      </a:lnTo>
                      <a:lnTo>
                        <a:pt x="69" y="100"/>
                      </a:lnTo>
                      <a:lnTo>
                        <a:pt x="56" y="107"/>
                      </a:lnTo>
                      <a:lnTo>
                        <a:pt x="48" y="118"/>
                      </a:lnTo>
                      <a:lnTo>
                        <a:pt x="44" y="127"/>
                      </a:lnTo>
                      <a:lnTo>
                        <a:pt x="42" y="132"/>
                      </a:lnTo>
                      <a:lnTo>
                        <a:pt x="39" y="157"/>
                      </a:lnTo>
                      <a:lnTo>
                        <a:pt x="80" y="157"/>
                      </a:lnTo>
                      <a:lnTo>
                        <a:pt x="83" y="159"/>
                      </a:lnTo>
                      <a:lnTo>
                        <a:pt x="89" y="162"/>
                      </a:lnTo>
                      <a:lnTo>
                        <a:pt x="97" y="165"/>
                      </a:lnTo>
                      <a:lnTo>
                        <a:pt x="104" y="163"/>
                      </a:lnTo>
                      <a:lnTo>
                        <a:pt x="109" y="160"/>
                      </a:lnTo>
                      <a:lnTo>
                        <a:pt x="115" y="157"/>
                      </a:lnTo>
                      <a:lnTo>
                        <a:pt x="122" y="153"/>
                      </a:lnTo>
                      <a:lnTo>
                        <a:pt x="130" y="147"/>
                      </a:lnTo>
                      <a:lnTo>
                        <a:pt x="139" y="142"/>
                      </a:lnTo>
                      <a:lnTo>
                        <a:pt x="145" y="138"/>
                      </a:lnTo>
                      <a:lnTo>
                        <a:pt x="150" y="133"/>
                      </a:lnTo>
                      <a:lnTo>
                        <a:pt x="151" y="130"/>
                      </a:lnTo>
                      <a:lnTo>
                        <a:pt x="151" y="124"/>
                      </a:lnTo>
                      <a:lnTo>
                        <a:pt x="150" y="116"/>
                      </a:lnTo>
                      <a:lnTo>
                        <a:pt x="151" y="107"/>
                      </a:lnTo>
                      <a:lnTo>
                        <a:pt x="153" y="98"/>
                      </a:lnTo>
                      <a:lnTo>
                        <a:pt x="157" y="88"/>
                      </a:lnTo>
                      <a:lnTo>
                        <a:pt x="163" y="77"/>
                      </a:lnTo>
                      <a:lnTo>
                        <a:pt x="169" y="71"/>
                      </a:lnTo>
                      <a:lnTo>
                        <a:pt x="177" y="70"/>
                      </a:lnTo>
                      <a:lnTo>
                        <a:pt x="186" y="74"/>
                      </a:lnTo>
                      <a:lnTo>
                        <a:pt x="193" y="82"/>
                      </a:lnTo>
                      <a:lnTo>
                        <a:pt x="199" y="89"/>
                      </a:lnTo>
                      <a:lnTo>
                        <a:pt x="202" y="98"/>
                      </a:lnTo>
                      <a:lnTo>
                        <a:pt x="204" y="104"/>
                      </a:lnTo>
                      <a:lnTo>
                        <a:pt x="207" y="107"/>
                      </a:lnTo>
                      <a:lnTo>
                        <a:pt x="213" y="109"/>
                      </a:lnTo>
                      <a:lnTo>
                        <a:pt x="224" y="104"/>
                      </a:lnTo>
                      <a:lnTo>
                        <a:pt x="233" y="98"/>
                      </a:lnTo>
                      <a:lnTo>
                        <a:pt x="240" y="89"/>
                      </a:lnTo>
                      <a:lnTo>
                        <a:pt x="249" y="77"/>
                      </a:lnTo>
                      <a:lnTo>
                        <a:pt x="260" y="65"/>
                      </a:lnTo>
                      <a:lnTo>
                        <a:pt x="270" y="52"/>
                      </a:lnTo>
                      <a:lnTo>
                        <a:pt x="284" y="38"/>
                      </a:lnTo>
                      <a:lnTo>
                        <a:pt x="301" y="26"/>
                      </a:lnTo>
                      <a:lnTo>
                        <a:pt x="319" y="1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Freeform 9"/>
                <p:cNvSpPr/>
                <p:nvPr/>
              </p:nvSpPr>
              <p:spPr>
                <a:xfrm>
                  <a:off x="5884920" y="3181680"/>
                  <a:ext cx="227880" cy="109800"/>
                </a:xfrm>
                <a:custGeom>
                  <a:avLst/>
                  <a:gdLst>
                    <a:gd name="textAreaLeft" fmla="*/ 0 w 227880"/>
                    <a:gd name="textAreaRight" fmla="*/ 228240 w 227880"/>
                    <a:gd name="textAreaTop" fmla="*/ 0 h 109800"/>
                    <a:gd name="textAreaBottom" fmla="*/ 110160 h 109800"/>
                  </a:gdLst>
                  <a:ahLst/>
                  <a:rect l="textAreaLeft" t="textAreaTop" r="textAreaRight" b="textAreaBottom"/>
                  <a:pathLst>
                    <a:path w="160" h="83">
                      <a:moveTo>
                        <a:pt x="16" y="6"/>
                      </a:moveTo>
                      <a:lnTo>
                        <a:pt x="24" y="3"/>
                      </a:lnTo>
                      <a:lnTo>
                        <a:pt x="33" y="0"/>
                      </a:lnTo>
                      <a:lnTo>
                        <a:pt x="44" y="0"/>
                      </a:lnTo>
                      <a:lnTo>
                        <a:pt x="53" y="0"/>
                      </a:lnTo>
                      <a:lnTo>
                        <a:pt x="63" y="2"/>
                      </a:lnTo>
                      <a:lnTo>
                        <a:pt x="71" y="3"/>
                      </a:lnTo>
                      <a:lnTo>
                        <a:pt x="78" y="6"/>
                      </a:lnTo>
                      <a:lnTo>
                        <a:pt x="84" y="9"/>
                      </a:lnTo>
                      <a:lnTo>
                        <a:pt x="89" y="12"/>
                      </a:lnTo>
                      <a:lnTo>
                        <a:pt x="93" y="17"/>
                      </a:lnTo>
                      <a:lnTo>
                        <a:pt x="98" y="20"/>
                      </a:lnTo>
                      <a:lnTo>
                        <a:pt x="104" y="23"/>
                      </a:lnTo>
                      <a:lnTo>
                        <a:pt x="110" y="26"/>
                      </a:lnTo>
                      <a:lnTo>
                        <a:pt x="118" y="29"/>
                      </a:lnTo>
                      <a:lnTo>
                        <a:pt x="124" y="31"/>
                      </a:lnTo>
                      <a:lnTo>
                        <a:pt x="131" y="31"/>
                      </a:lnTo>
                      <a:lnTo>
                        <a:pt x="143" y="35"/>
                      </a:lnTo>
                      <a:lnTo>
                        <a:pt x="152" y="46"/>
                      </a:lnTo>
                      <a:lnTo>
                        <a:pt x="158" y="58"/>
                      </a:lnTo>
                      <a:lnTo>
                        <a:pt x="160" y="62"/>
                      </a:lnTo>
                      <a:lnTo>
                        <a:pt x="158" y="62"/>
                      </a:lnTo>
                      <a:lnTo>
                        <a:pt x="155" y="64"/>
                      </a:lnTo>
                      <a:lnTo>
                        <a:pt x="149" y="65"/>
                      </a:lnTo>
                      <a:lnTo>
                        <a:pt x="143" y="68"/>
                      </a:lnTo>
                      <a:lnTo>
                        <a:pt x="136" y="70"/>
                      </a:lnTo>
                      <a:lnTo>
                        <a:pt x="127" y="70"/>
                      </a:lnTo>
                      <a:lnTo>
                        <a:pt x="119" y="71"/>
                      </a:lnTo>
                      <a:lnTo>
                        <a:pt x="112" y="70"/>
                      </a:lnTo>
                      <a:lnTo>
                        <a:pt x="104" y="68"/>
                      </a:lnTo>
                      <a:lnTo>
                        <a:pt x="95" y="70"/>
                      </a:lnTo>
                      <a:lnTo>
                        <a:pt x="86" y="71"/>
                      </a:lnTo>
                      <a:lnTo>
                        <a:pt x="77" y="74"/>
                      </a:lnTo>
                      <a:lnTo>
                        <a:pt x="68" y="77"/>
                      </a:lnTo>
                      <a:lnTo>
                        <a:pt x="62" y="79"/>
                      </a:lnTo>
                      <a:lnTo>
                        <a:pt x="57" y="82"/>
                      </a:lnTo>
                      <a:lnTo>
                        <a:pt x="56" y="82"/>
                      </a:lnTo>
                      <a:lnTo>
                        <a:pt x="48" y="83"/>
                      </a:lnTo>
                      <a:lnTo>
                        <a:pt x="35" y="83"/>
                      </a:lnTo>
                      <a:lnTo>
                        <a:pt x="19" y="83"/>
                      </a:lnTo>
                      <a:lnTo>
                        <a:pt x="12" y="77"/>
                      </a:lnTo>
                      <a:lnTo>
                        <a:pt x="15" y="67"/>
                      </a:lnTo>
                      <a:lnTo>
                        <a:pt x="22" y="55"/>
                      </a:lnTo>
                      <a:lnTo>
                        <a:pt x="29" y="46"/>
                      </a:lnTo>
                      <a:lnTo>
                        <a:pt x="32" y="43"/>
                      </a:lnTo>
                      <a:lnTo>
                        <a:pt x="0" y="21"/>
                      </a:lnTo>
                      <a:lnTo>
                        <a:pt x="1" y="18"/>
                      </a:lnTo>
                      <a:lnTo>
                        <a:pt x="6" y="14"/>
                      </a:lnTo>
                      <a:lnTo>
                        <a:pt x="16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Freeform 10"/>
                <p:cNvSpPr/>
                <p:nvPr/>
              </p:nvSpPr>
              <p:spPr>
                <a:xfrm>
                  <a:off x="7254000" y="3306240"/>
                  <a:ext cx="175320" cy="86040"/>
                </a:xfrm>
                <a:custGeom>
                  <a:avLst/>
                  <a:gdLst>
                    <a:gd name="textAreaLeft" fmla="*/ 0 w 175320"/>
                    <a:gd name="textAreaRight" fmla="*/ 175680 w 17532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123" h="65">
                      <a:moveTo>
                        <a:pt x="48" y="20"/>
                      </a:moveTo>
                      <a:lnTo>
                        <a:pt x="49" y="27"/>
                      </a:lnTo>
                      <a:lnTo>
                        <a:pt x="55" y="29"/>
                      </a:lnTo>
                      <a:lnTo>
                        <a:pt x="64" y="26"/>
                      </a:lnTo>
                      <a:lnTo>
                        <a:pt x="74" y="20"/>
                      </a:lnTo>
                      <a:lnTo>
                        <a:pt x="84" y="14"/>
                      </a:lnTo>
                      <a:lnTo>
                        <a:pt x="95" y="6"/>
                      </a:lnTo>
                      <a:lnTo>
                        <a:pt x="104" y="3"/>
                      </a:lnTo>
                      <a:lnTo>
                        <a:pt x="111" y="3"/>
                      </a:lnTo>
                      <a:lnTo>
                        <a:pt x="120" y="14"/>
                      </a:lnTo>
                      <a:lnTo>
                        <a:pt x="123" y="29"/>
                      </a:lnTo>
                      <a:lnTo>
                        <a:pt x="123" y="41"/>
                      </a:lnTo>
                      <a:lnTo>
                        <a:pt x="123" y="47"/>
                      </a:lnTo>
                      <a:lnTo>
                        <a:pt x="120" y="50"/>
                      </a:lnTo>
                      <a:lnTo>
                        <a:pt x="113" y="54"/>
                      </a:lnTo>
                      <a:lnTo>
                        <a:pt x="99" y="60"/>
                      </a:lnTo>
                      <a:lnTo>
                        <a:pt x="84" y="63"/>
                      </a:lnTo>
                      <a:lnTo>
                        <a:pt x="75" y="63"/>
                      </a:lnTo>
                      <a:lnTo>
                        <a:pt x="66" y="63"/>
                      </a:lnTo>
                      <a:lnTo>
                        <a:pt x="57" y="65"/>
                      </a:lnTo>
                      <a:lnTo>
                        <a:pt x="48" y="63"/>
                      </a:lnTo>
                      <a:lnTo>
                        <a:pt x="40" y="63"/>
                      </a:lnTo>
                      <a:lnTo>
                        <a:pt x="34" y="62"/>
                      </a:lnTo>
                      <a:lnTo>
                        <a:pt x="31" y="60"/>
                      </a:lnTo>
                      <a:lnTo>
                        <a:pt x="28" y="56"/>
                      </a:lnTo>
                      <a:lnTo>
                        <a:pt x="22" y="48"/>
                      </a:lnTo>
                      <a:lnTo>
                        <a:pt x="12" y="41"/>
                      </a:lnTo>
                      <a:lnTo>
                        <a:pt x="4" y="38"/>
                      </a:lnTo>
                      <a:lnTo>
                        <a:pt x="0" y="36"/>
                      </a:lnTo>
                      <a:lnTo>
                        <a:pt x="0" y="32"/>
                      </a:lnTo>
                      <a:lnTo>
                        <a:pt x="1" y="20"/>
                      </a:lnTo>
                      <a:lnTo>
                        <a:pt x="7" y="8"/>
                      </a:lnTo>
                      <a:lnTo>
                        <a:pt x="16" y="0"/>
                      </a:lnTo>
                      <a:lnTo>
                        <a:pt x="28" y="0"/>
                      </a:lnTo>
                      <a:lnTo>
                        <a:pt x="37" y="3"/>
                      </a:lnTo>
                      <a:lnTo>
                        <a:pt x="45" y="11"/>
                      </a:lnTo>
                      <a:lnTo>
                        <a:pt x="48" y="2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16"/>
                <p:cNvSpPr/>
                <p:nvPr/>
              </p:nvSpPr>
              <p:spPr>
                <a:xfrm>
                  <a:off x="7563600" y="3462480"/>
                  <a:ext cx="176760" cy="195840"/>
                </a:xfrm>
                <a:custGeom>
                  <a:avLst/>
                  <a:gdLst>
                    <a:gd name="textAreaLeft" fmla="*/ 0 w 176760"/>
                    <a:gd name="textAreaRight" fmla="*/ 177120 w 176760"/>
                    <a:gd name="textAreaTop" fmla="*/ 0 h 195840"/>
                    <a:gd name="textAreaBottom" fmla="*/ 196200 h 195840"/>
                  </a:gdLst>
                  <a:ahLst/>
                  <a:rect l="textAreaLeft" t="textAreaTop" r="textAreaRight" b="textAreaBottom"/>
                  <a:pathLst>
                    <a:path w="124" h="148">
                      <a:moveTo>
                        <a:pt x="2" y="77"/>
                      </a:moveTo>
                      <a:lnTo>
                        <a:pt x="0" y="69"/>
                      </a:lnTo>
                      <a:lnTo>
                        <a:pt x="3" y="63"/>
                      </a:lnTo>
                      <a:lnTo>
                        <a:pt x="6" y="60"/>
                      </a:lnTo>
                      <a:lnTo>
                        <a:pt x="12" y="57"/>
                      </a:lnTo>
                      <a:lnTo>
                        <a:pt x="20" y="54"/>
                      </a:lnTo>
                      <a:lnTo>
                        <a:pt x="27" y="50"/>
                      </a:lnTo>
                      <a:lnTo>
                        <a:pt x="35" y="45"/>
                      </a:lnTo>
                      <a:lnTo>
                        <a:pt x="41" y="37"/>
                      </a:lnTo>
                      <a:lnTo>
                        <a:pt x="47" y="28"/>
                      </a:lnTo>
                      <a:lnTo>
                        <a:pt x="53" y="19"/>
                      </a:lnTo>
                      <a:lnTo>
                        <a:pt x="59" y="12"/>
                      </a:lnTo>
                      <a:lnTo>
                        <a:pt x="67" y="6"/>
                      </a:lnTo>
                      <a:lnTo>
                        <a:pt x="74" y="1"/>
                      </a:lnTo>
                      <a:lnTo>
                        <a:pt x="82" y="0"/>
                      </a:lnTo>
                      <a:lnTo>
                        <a:pt x="91" y="1"/>
                      </a:lnTo>
                      <a:lnTo>
                        <a:pt x="101" y="6"/>
                      </a:lnTo>
                      <a:lnTo>
                        <a:pt x="115" y="21"/>
                      </a:lnTo>
                      <a:lnTo>
                        <a:pt x="121" y="36"/>
                      </a:lnTo>
                      <a:lnTo>
                        <a:pt x="121" y="53"/>
                      </a:lnTo>
                      <a:lnTo>
                        <a:pt x="123" y="69"/>
                      </a:lnTo>
                      <a:lnTo>
                        <a:pt x="124" y="81"/>
                      </a:lnTo>
                      <a:lnTo>
                        <a:pt x="121" y="93"/>
                      </a:lnTo>
                      <a:lnTo>
                        <a:pt x="117" y="104"/>
                      </a:lnTo>
                      <a:lnTo>
                        <a:pt x="112" y="114"/>
                      </a:lnTo>
                      <a:lnTo>
                        <a:pt x="109" y="122"/>
                      </a:lnTo>
                      <a:lnTo>
                        <a:pt x="104" y="130"/>
                      </a:lnTo>
                      <a:lnTo>
                        <a:pt x="98" y="136"/>
                      </a:lnTo>
                      <a:lnTo>
                        <a:pt x="91" y="142"/>
                      </a:lnTo>
                      <a:lnTo>
                        <a:pt x="82" y="146"/>
                      </a:lnTo>
                      <a:lnTo>
                        <a:pt x="76" y="148"/>
                      </a:lnTo>
                      <a:lnTo>
                        <a:pt x="70" y="145"/>
                      </a:lnTo>
                      <a:lnTo>
                        <a:pt x="65" y="137"/>
                      </a:lnTo>
                      <a:lnTo>
                        <a:pt x="59" y="120"/>
                      </a:lnTo>
                      <a:lnTo>
                        <a:pt x="56" y="108"/>
                      </a:lnTo>
                      <a:lnTo>
                        <a:pt x="58" y="99"/>
                      </a:lnTo>
                      <a:lnTo>
                        <a:pt x="70" y="93"/>
                      </a:lnTo>
                      <a:lnTo>
                        <a:pt x="83" y="84"/>
                      </a:lnTo>
                      <a:lnTo>
                        <a:pt x="92" y="71"/>
                      </a:lnTo>
                      <a:lnTo>
                        <a:pt x="92" y="57"/>
                      </a:lnTo>
                      <a:lnTo>
                        <a:pt x="85" y="50"/>
                      </a:lnTo>
                      <a:lnTo>
                        <a:pt x="79" y="48"/>
                      </a:lnTo>
                      <a:lnTo>
                        <a:pt x="71" y="47"/>
                      </a:lnTo>
                      <a:lnTo>
                        <a:pt x="64" y="47"/>
                      </a:lnTo>
                      <a:lnTo>
                        <a:pt x="56" y="48"/>
                      </a:lnTo>
                      <a:lnTo>
                        <a:pt x="50" y="51"/>
                      </a:lnTo>
                      <a:lnTo>
                        <a:pt x="44" y="54"/>
                      </a:lnTo>
                      <a:lnTo>
                        <a:pt x="39" y="59"/>
                      </a:lnTo>
                      <a:lnTo>
                        <a:pt x="36" y="66"/>
                      </a:lnTo>
                      <a:lnTo>
                        <a:pt x="30" y="80"/>
                      </a:lnTo>
                      <a:lnTo>
                        <a:pt x="21" y="89"/>
                      </a:lnTo>
                      <a:lnTo>
                        <a:pt x="9" y="90"/>
                      </a:lnTo>
                      <a:lnTo>
                        <a:pt x="2" y="7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Freeform 24"/>
                <p:cNvSpPr/>
                <p:nvPr/>
              </p:nvSpPr>
              <p:spPr>
                <a:xfrm>
                  <a:off x="6429600" y="4188960"/>
                  <a:ext cx="163800" cy="75240"/>
                </a:xfrm>
                <a:custGeom>
                  <a:avLst/>
                  <a:gdLst>
                    <a:gd name="textAreaLeft" fmla="*/ 0 w 163800"/>
                    <a:gd name="textAreaRight" fmla="*/ 164160 w 163800"/>
                    <a:gd name="textAreaTop" fmla="*/ 0 h 75240"/>
                    <a:gd name="textAreaBottom" fmla="*/ 75600 h 75240"/>
                  </a:gdLst>
                  <a:ahLst/>
                  <a:rect l="textAreaLeft" t="textAreaTop" r="textAreaRight" b="textAreaBottom"/>
                  <a:pathLst>
                    <a:path w="115" h="57">
                      <a:moveTo>
                        <a:pt x="0" y="6"/>
                      </a:moveTo>
                      <a:lnTo>
                        <a:pt x="5" y="0"/>
                      </a:lnTo>
                      <a:lnTo>
                        <a:pt x="12" y="0"/>
                      </a:lnTo>
                      <a:lnTo>
                        <a:pt x="24" y="3"/>
                      </a:lnTo>
                      <a:lnTo>
                        <a:pt x="36" y="9"/>
                      </a:lnTo>
                      <a:lnTo>
                        <a:pt x="50" y="15"/>
                      </a:lnTo>
                      <a:lnTo>
                        <a:pt x="64" y="22"/>
                      </a:lnTo>
                      <a:lnTo>
                        <a:pt x="76" y="30"/>
                      </a:lnTo>
                      <a:lnTo>
                        <a:pt x="85" y="34"/>
                      </a:lnTo>
                      <a:lnTo>
                        <a:pt x="100" y="41"/>
                      </a:lnTo>
                      <a:lnTo>
                        <a:pt x="112" y="48"/>
                      </a:lnTo>
                      <a:lnTo>
                        <a:pt x="115" y="54"/>
                      </a:lnTo>
                      <a:lnTo>
                        <a:pt x="107" y="57"/>
                      </a:lnTo>
                      <a:lnTo>
                        <a:pt x="100" y="57"/>
                      </a:lnTo>
                      <a:lnTo>
                        <a:pt x="91" y="56"/>
                      </a:lnTo>
                      <a:lnTo>
                        <a:pt x="83" y="54"/>
                      </a:lnTo>
                      <a:lnTo>
                        <a:pt x="74" y="53"/>
                      </a:lnTo>
                      <a:lnTo>
                        <a:pt x="67" y="53"/>
                      </a:lnTo>
                      <a:lnTo>
                        <a:pt x="61" y="51"/>
                      </a:lnTo>
                      <a:lnTo>
                        <a:pt x="58" y="50"/>
                      </a:lnTo>
                      <a:lnTo>
                        <a:pt x="56" y="50"/>
                      </a:lnTo>
                      <a:lnTo>
                        <a:pt x="53" y="48"/>
                      </a:lnTo>
                      <a:lnTo>
                        <a:pt x="47" y="45"/>
                      </a:lnTo>
                      <a:lnTo>
                        <a:pt x="38" y="41"/>
                      </a:lnTo>
                      <a:lnTo>
                        <a:pt x="27" y="34"/>
                      </a:lnTo>
                      <a:lnTo>
                        <a:pt x="17" y="27"/>
                      </a:lnTo>
                      <a:lnTo>
                        <a:pt x="8" y="19"/>
                      </a:lnTo>
                      <a:lnTo>
                        <a:pt x="2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Line 26"/>
                <p:cNvSpPr/>
                <p:nvPr/>
              </p:nvSpPr>
              <p:spPr>
                <a:xfrm>
                  <a:off x="5616000" y="3046320"/>
                  <a:ext cx="493560" cy="74880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Text Box 27"/>
                <p:cNvSpPr/>
                <p:nvPr/>
              </p:nvSpPr>
              <p:spPr>
                <a:xfrm>
                  <a:off x="5051160" y="2671200"/>
                  <a:ext cx="776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US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Line 28"/>
                <p:cNvSpPr/>
                <p:nvPr/>
              </p:nvSpPr>
              <p:spPr>
                <a:xfrm>
                  <a:off x="5239800" y="3121200"/>
                  <a:ext cx="869760" cy="89856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Text Box 29"/>
                <p:cNvSpPr/>
                <p:nvPr/>
              </p:nvSpPr>
              <p:spPr>
                <a:xfrm>
                  <a:off x="4578840" y="2896920"/>
                  <a:ext cx="8222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Trebuchet MS"/>
                    </a:rPr>
                    <a:t>Mexico</a:t>
                  </a:r>
                  <a:r>
                    <a:rPr b="0" lang="en-US" sz="1400" spc="-1" strike="noStrike">
                      <a:solidFill>
                        <a:srgbClr val="ff6600"/>
                      </a:solidFill>
                      <a:latin typeface="Trebuchet MS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Line 35"/>
                <p:cNvSpPr/>
                <p:nvPr/>
              </p:nvSpPr>
              <p:spPr>
                <a:xfrm flipH="1" flipV="1">
                  <a:off x="5453280" y="3795480"/>
                  <a:ext cx="712440" cy="37440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Text Box 36"/>
                <p:cNvSpPr/>
                <p:nvPr/>
              </p:nvSpPr>
              <p:spPr>
                <a:xfrm>
                  <a:off x="4385880" y="3570120"/>
                  <a:ext cx="11239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El Salvado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Costa R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Line 48"/>
                <p:cNvSpPr/>
                <p:nvPr/>
              </p:nvSpPr>
              <p:spPr>
                <a:xfrm>
                  <a:off x="6815160" y="4694400"/>
                  <a:ext cx="276840" cy="22464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Text Box 59"/>
                <p:cNvSpPr/>
                <p:nvPr/>
              </p:nvSpPr>
              <p:spPr>
                <a:xfrm>
                  <a:off x="5681520" y="4631040"/>
                  <a:ext cx="5713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3399"/>
                      </a:solidFill>
                      <a:latin typeface="Trebuchet MS"/>
                    </a:rPr>
                    <a:t>Per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Text Box 60"/>
                <p:cNvSpPr/>
                <p:nvPr/>
              </p:nvSpPr>
              <p:spPr>
                <a:xfrm>
                  <a:off x="6694560" y="4019760"/>
                  <a:ext cx="896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66"/>
                      </a:solidFill>
                      <a:latin typeface="Trebuchet MS"/>
                    </a:rPr>
                    <a:t>Panamá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Line 61"/>
                <p:cNvSpPr/>
                <p:nvPr/>
              </p:nvSpPr>
              <p:spPr>
                <a:xfrm flipH="1">
                  <a:off x="6237000" y="4694400"/>
                  <a:ext cx="284760" cy="4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Line 62"/>
                <p:cNvSpPr/>
                <p:nvPr/>
              </p:nvSpPr>
              <p:spPr>
                <a:xfrm flipH="1">
                  <a:off x="5474520" y="4244760"/>
                  <a:ext cx="775800" cy="7488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Text Box 65"/>
                <p:cNvSpPr/>
                <p:nvPr/>
              </p:nvSpPr>
              <p:spPr>
                <a:xfrm>
                  <a:off x="6656760" y="3795840"/>
                  <a:ext cx="613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Cub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Line 66"/>
                <p:cNvSpPr/>
                <p:nvPr/>
              </p:nvSpPr>
              <p:spPr>
                <a:xfrm flipH="1">
                  <a:off x="6522120" y="4020120"/>
                  <a:ext cx="213480" cy="1497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Text Box 68"/>
                <p:cNvSpPr/>
                <p:nvPr/>
              </p:nvSpPr>
              <p:spPr>
                <a:xfrm>
                  <a:off x="4323960" y="3987720"/>
                  <a:ext cx="10713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9900"/>
                      </a:solidFill>
                      <a:latin typeface="Trebuchet MS"/>
                    </a:rPr>
                    <a:t>Guatemal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Line 69"/>
                <p:cNvSpPr/>
                <p:nvPr/>
              </p:nvSpPr>
              <p:spPr>
                <a:xfrm flipH="1" flipV="1">
                  <a:off x="5382000" y="4169520"/>
                  <a:ext cx="855000" cy="73800"/>
                </a:xfrm>
                <a:prstGeom prst="line">
                  <a:avLst/>
                </a:prstGeom>
                <a:ln w="15840">
                  <a:solidFill>
                    <a:srgbClr val="008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Text Box 70"/>
                <p:cNvSpPr/>
                <p:nvPr/>
              </p:nvSpPr>
              <p:spPr>
                <a:xfrm>
                  <a:off x="5333760" y="4319640"/>
                  <a:ext cx="96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3399"/>
                      </a:solidFill>
                      <a:latin typeface="Trebuchet MS"/>
                    </a:rPr>
                    <a:t>Colomb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Line 71"/>
                <p:cNvSpPr/>
                <p:nvPr/>
              </p:nvSpPr>
              <p:spPr>
                <a:xfrm flipH="1" flipV="1">
                  <a:off x="6308280" y="4496040"/>
                  <a:ext cx="213480" cy="4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Line 72"/>
                <p:cNvSpPr/>
                <p:nvPr/>
              </p:nvSpPr>
              <p:spPr>
                <a:xfrm>
                  <a:off x="6023520" y="2821680"/>
                  <a:ext cx="156600" cy="74880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Rectangle 73"/>
                <p:cNvSpPr/>
                <p:nvPr/>
              </p:nvSpPr>
              <p:spPr>
                <a:xfrm>
                  <a:off x="5662440" y="2522160"/>
                  <a:ext cx="81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Trebuchet MS"/>
                    </a:rPr>
                    <a:t>Cana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Line 76"/>
                <p:cNvSpPr/>
                <p:nvPr/>
              </p:nvSpPr>
              <p:spPr>
                <a:xfrm flipH="1">
                  <a:off x="6379560" y="4169880"/>
                  <a:ext cx="356040" cy="14976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Text Box 77"/>
                <p:cNvSpPr/>
                <p:nvPr/>
              </p:nvSpPr>
              <p:spPr>
                <a:xfrm>
                  <a:off x="4395600" y="4202280"/>
                  <a:ext cx="9968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3399"/>
                      </a:solidFill>
                      <a:latin typeface="Trebuchet MS"/>
                    </a:rPr>
                    <a:t>Hondura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Line 35"/>
                <p:cNvSpPr/>
                <p:nvPr/>
              </p:nvSpPr>
              <p:spPr>
                <a:xfrm flipH="1" flipV="1">
                  <a:off x="5453280" y="4020120"/>
                  <a:ext cx="712440" cy="22464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Text Box 63"/>
                <p:cNvSpPr/>
                <p:nvPr/>
              </p:nvSpPr>
              <p:spPr>
                <a:xfrm>
                  <a:off x="7092720" y="4469040"/>
                  <a:ext cx="1022400" cy="13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rebuchet MS"/>
                    </a:rPr>
                    <a:t>Urugu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rebuchet MS"/>
                    </a:rPr>
                    <a:t>Paragu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rebuchet MS"/>
                    </a:rPr>
                    <a:t>Argentina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66"/>
                      </a:solidFill>
                      <a:latin typeface="Trebuchet MS"/>
                    </a:rPr>
                    <a:t>Brazi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rebuchet MS"/>
                    </a:rPr>
                    <a:t>Boliv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rebuchet MS"/>
                    </a:rPr>
                    <a:t>Venezuel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rebuchet MS"/>
                    </a:rPr>
                    <a:t>Ecu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7" name="86 Forma libre"/>
            <p:cNvSpPr/>
            <p:nvPr/>
          </p:nvSpPr>
          <p:spPr>
            <a:xfrm>
              <a:off x="6491520" y="4770360"/>
              <a:ext cx="128520" cy="601560"/>
            </a:xfrm>
            <a:custGeom>
              <a:avLst/>
              <a:gdLst/>
              <a:ahLst/>
              <a:rect l="l" t="t" r="r" b="b"/>
              <a:pathLst>
                <a:path w="129306" h="572654">
                  <a:moveTo>
                    <a:pt x="110835" y="554182"/>
                  </a:moveTo>
                  <a:cubicBezTo>
                    <a:pt x="0" y="517239"/>
                    <a:pt x="129306" y="572654"/>
                    <a:pt x="55417" y="498764"/>
                  </a:cubicBezTo>
                  <a:cubicBezTo>
                    <a:pt x="45090" y="488437"/>
                    <a:pt x="27708" y="489527"/>
                    <a:pt x="13853" y="484909"/>
                  </a:cubicBezTo>
                  <a:cubicBezTo>
                    <a:pt x="18471" y="447964"/>
                    <a:pt x="23358" y="411051"/>
                    <a:pt x="27708" y="374073"/>
                  </a:cubicBezTo>
                  <a:cubicBezTo>
                    <a:pt x="32594" y="332540"/>
                    <a:pt x="33361" y="290389"/>
                    <a:pt x="41562" y="249382"/>
                  </a:cubicBezTo>
                  <a:cubicBezTo>
                    <a:pt x="47290" y="220741"/>
                    <a:pt x="69271" y="195463"/>
                    <a:pt x="69271" y="166255"/>
                  </a:cubicBezTo>
                  <a:lnTo>
                    <a:pt x="6927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8" name="Picture 86" descr="http://tbn0.google.com/images?q=tbn:m-8QfYCMScdD2M:http://www.holachc.com/wp-content/uploads/2008/09/bandera_de_chile.pn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72640" y="4993920"/>
              <a:ext cx="248040" cy="17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1 Título"/>
          <p:cNvSpPr/>
          <p:nvPr/>
        </p:nvSpPr>
        <p:spPr>
          <a:xfrm>
            <a:off x="857160" y="928800"/>
            <a:ext cx="745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Chile tiene 20 Acuerdos Comerciales con 56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84 CuadroTexto"/>
          <p:cNvSpPr/>
          <p:nvPr/>
        </p:nvSpPr>
        <p:spPr>
          <a:xfrm>
            <a:off x="5435640" y="6453360"/>
            <a:ext cx="353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1111"/>
                </a:solidFill>
                <a:latin typeface="Arial"/>
                <a:ea typeface="Arial"/>
              </a:rPr>
              <a:t>(*): Nicaragua: </a:t>
            </a:r>
            <a:r>
              <a:rPr b="1" lang="en-US" sz="1000" spc="-1" strike="noStrike">
                <a:solidFill>
                  <a:srgbClr val="ff1111"/>
                </a:solidFill>
                <a:latin typeface="Arial"/>
                <a:ea typeface="Arial"/>
              </a:rPr>
              <a:t>listas de servicios y bienes pendi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2" descr="foto_PPT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sp>
        <p:nvSpPr>
          <p:cNvPr id="362" name="Title 128"/>
          <p:cNvSpPr/>
          <p:nvPr/>
        </p:nvSpPr>
        <p:spPr>
          <a:xfrm>
            <a:off x="395280" y="6093000"/>
            <a:ext cx="1185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A018-373A-4752-913B-22C0A507D844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2640" y="1082160"/>
            <a:ext cx="6553080" cy="660600"/>
          </a:xfrm>
          <a:prstGeom prst="rect">
            <a:avLst/>
          </a:prstGeom>
          <a:solidFill>
            <a:srgbClr val="6699ff"/>
          </a:solidFill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Disciplinas Bilatera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2597040"/>
            <a:ext cx="7315200" cy="258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to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ación Más Favorec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eso a Mer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sencia 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C90-B5B5-4228-BA91-B8FE5CC3DAA5}" type="slidenum">
              <a:t>2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765000"/>
            <a:ext cx="7340760" cy="78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Times New Roman"/>
              </a:rPr>
              <a:t>Otras Regl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272360" cy="4114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onocimiento Mut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lamentación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rigen: Denegación de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8433-C77D-4C24-B42D-883E7A38EE5D}" type="slidenum">
              <a:t>25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47560" y="1082160"/>
            <a:ext cx="6172200" cy="660600"/>
          </a:xfrm>
          <a:prstGeom prst="rect">
            <a:avLst/>
          </a:prstGeom>
          <a:solidFill>
            <a:srgbClr val="6699ff"/>
          </a:solidFill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Proceso de Liberalizació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26560" y="2707920"/>
            <a:ext cx="7239240" cy="3087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sta Neg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gel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romisos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incipio de Cremall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cepciones Anexo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CE2-4687-40BB-8572-DB0A324D958C}" type="slidenum">
              <a:t>26</a:t>
            </a:fld>
          </a:p>
        </p:txBody>
      </p:sp>
    </p:spTree>
  </p:cSld>
  <p:transition>
    <p:strips dir="r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380880" y="5045040"/>
            <a:ext cx="8547120" cy="3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8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0" y="2209320"/>
            <a:ext cx="9144000" cy="17082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Disciplinas a Nivel Multilateral</a:t>
            </a:r>
            <a:br>
              <a:rPr sz="34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cuerdo General sobre el Comercio de Servicios (AGCS - GAT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990720" y="68580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GCS:  Objetivo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90720" y="1981080"/>
            <a:ext cx="7954920" cy="4114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ansión del comercio de serv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beralización progresiva mediant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cesivas rondas de negociaciones como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dio de promover el crecimiento y e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arencia de normas 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lam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ción creciente de los países e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F951-8CED-4EA2-9E82-F88ACF19585A}" type="slidenum">
              <a:t>28</a:t>
            </a:fld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143000" y="1066680"/>
            <a:ext cx="7772400" cy="838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GCS:  Estruc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2286000"/>
            <a:ext cx="7772400" cy="3505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tículos marco (I - XX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exos, relativos a determinada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estiones sectoriales o de polí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as de compromisos específi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una Lista por cada Miembro de la OM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5EE3-A5ED-43ED-9F96-72BC3142BA0E}" type="slidenum">
              <a:t>29</a:t>
            </a:fld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838080"/>
            <a:ext cx="7772400" cy="7621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LASIFICACIÓN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Servicios prestados a las empre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Servicios de 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 Servicios de Construcción e Ingeni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 Servicio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 Servicios de Enseñ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 Servici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o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 Servici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. Servicios Sociales y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9. Servicios de Turismo y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. Servicios de Esparcimiento, culturales y depor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1.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2. Otros Servicios n.c.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1247-6702-43DE-ACDF-99E708DEDBC7}" type="slidenum">
              <a:t>3</a:t>
            </a:fld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95280" y="1628640"/>
            <a:ext cx="8569440" cy="5214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DIDAS QUE AFECTAN AL COMERCIO D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ICIOS EN TODOS LOS NIVELES DE GOBIERN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DOS LOS SERVICIOS (excepto los suministrados e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jercicio de facultades gubernamentales y los derechos de tráfico            aér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Monotype Sorts" charset="2"/>
              <a:buChar char=""/>
              <a:tabLst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APLICACIÓN A LOS SERVICIOS Y A LOS 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PROVEEDORES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ATRO MODOS DE SUMINI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44600" indent="4680">
              <a:lnSpc>
                <a:spcPct val="100000"/>
              </a:lnSpc>
              <a:tabLst>
                <a:tab algn="l" pos="0"/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 Suministro transfronteriz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o en el extranj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44600" indent="4680">
              <a:lnSpc>
                <a:spcPct val="100000"/>
              </a:lnSpc>
              <a:tabLst>
                <a:tab algn="l" pos="0"/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 Presencia comerci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cia de personas fí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44600" indent="4680">
              <a:lnSpc>
                <a:spcPct val="100000"/>
              </a:lnSpc>
              <a:tabLst>
                <a:tab algn="l" pos="0"/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5280" y="549360"/>
            <a:ext cx="784872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GCS:  Ambito, Cobertura, Defini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075-6710-4375-BBF3-1EB10FCC4633}" type="slidenum">
              <a:t>30</a:t>
            </a:fld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28720" y="333000"/>
            <a:ext cx="7340400" cy="1079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os 4 Modos de Suminist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76280" y="3086640"/>
            <a:ext cx="137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veedor de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91320" y="317556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nsumidor de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00200" y="4724280"/>
            <a:ext cx="2195640" cy="1440000"/>
          </a:xfrm>
          <a:prstGeom prst="wedgeRoundRectCallout">
            <a:avLst>
              <a:gd name="adj1" fmla="val -29398"/>
              <a:gd name="adj2" fmla="val -94296"/>
              <a:gd name="adj3" fmla="val 16667"/>
            </a:avLst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l proveedor de servicios presta el servicio desde el territorio de un Miemb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81480" y="4724280"/>
            <a:ext cx="2195640" cy="1440000"/>
          </a:xfrm>
          <a:prstGeom prst="wedgeRoundRectCallout">
            <a:avLst>
              <a:gd name="adj1" fmla="val 27953"/>
              <a:gd name="adj2" fmla="val -105787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l consumidor de servicios recibe el servicio en el territorio de cualquier otro Miemb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38080" y="1465920"/>
            <a:ext cx="731520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ministro transfronterizo:  mo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752760" cy="44197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352680" y="2895480"/>
            <a:ext cx="1981440" cy="1295640"/>
          </a:xfrm>
          <a:prstGeom prst="rect">
            <a:avLst/>
          </a:prstGeom>
          <a:solidFill>
            <a:srgbClr val="ffffff"/>
          </a:solidFill>
          <a:ln w="3168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tación del servicio hacia el territorio de otro Miemb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00200" y="2133720"/>
            <a:ext cx="6324480" cy="1036440"/>
          </a:xfrm>
          <a:custGeom>
            <a:avLst/>
            <a:gdLst>
              <a:gd name="textAreaLeft" fmla="*/ 1106640 w 6324480"/>
              <a:gd name="textAreaRight" fmla="*/ 4585320 w 6324480"/>
              <a:gd name="textAreaTop" fmla="*/ 138600 h 1036440"/>
              <a:gd name="textAreaBottom" fmla="*/ 897840 h 1036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C989-7103-471F-82D9-058848756B98}" type="slidenum">
              <a:t>31</a:t>
            </a:fld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340760" cy="882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os 4 Modos de Suminist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8000" y="317844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veedor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796000" y="3542040"/>
            <a:ext cx="194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sumidor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8080" y="1267200"/>
            <a:ext cx="739152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sumo en el extranjero:  mod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19320" y="3429000"/>
            <a:ext cx="733320" cy="1828800"/>
          </a:xfrm>
          <a:custGeom>
            <a:avLst/>
            <a:gdLst>
              <a:gd name="textAreaLeft" fmla="*/ 98280 w 733320"/>
              <a:gd name="textAreaRight" fmla="*/ 635040 w 7333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35280" y="441828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sumidor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280" y="1752480"/>
            <a:ext cx="3429000" cy="1295640"/>
          </a:xfrm>
          <a:prstGeom prst="wedgeRoundRectCallout">
            <a:avLst>
              <a:gd name="adj1" fmla="val -7222"/>
              <a:gd name="adj2" fmla="val 83212"/>
              <a:gd name="adj3" fmla="val 16667"/>
            </a:avLst>
          </a:prstGeom>
          <a:solidFill>
            <a:srgbClr val="ffffff"/>
          </a:solidFill>
          <a:ln w="3168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 prestado en el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ritorio de un Miembro al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umidor de servicio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otro Miemb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26920" y="5516640"/>
            <a:ext cx="3276720" cy="1268280"/>
          </a:xfrm>
          <a:prstGeom prst="wedgeRoundRectCallout">
            <a:avLst>
              <a:gd name="adj1" fmla="val 6782"/>
              <a:gd name="adj2" fmla="val -77407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nsumidor de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s recibe el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 en el territori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provee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752760" cy="44197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932360" y="1844640"/>
            <a:ext cx="2714760" cy="1523880"/>
          </a:xfrm>
          <a:prstGeom prst="wedgeRoundRectCallout">
            <a:avLst>
              <a:gd name="adj1" fmla="val -103157"/>
              <a:gd name="adj2" fmla="val 53125"/>
              <a:gd name="adj3" fmla="val 16667"/>
            </a:avLst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roveedor de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s presta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servicio e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territorio de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Miemb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580920" y="3962520"/>
            <a:ext cx="2210040" cy="91440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9F9C-62A7-427D-A2B1-75F09A79CED0}" type="slidenum">
              <a:t>32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98040" y="188640"/>
            <a:ext cx="7340760" cy="801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os 4 Modos de Suminist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00000" y="3326040"/>
            <a:ext cx="200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veedor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59280" y="4651560"/>
            <a:ext cx="201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sumidor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62120" y="1168920"/>
            <a:ext cx="723888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esencia comercial:  mod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924360" y="2286000"/>
            <a:ext cx="752400" cy="44197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5148360" y="3016080"/>
            <a:ext cx="1619280" cy="9892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6804000" y="3141720"/>
            <a:ext cx="733320" cy="2446200"/>
          </a:xfrm>
          <a:custGeom>
            <a:avLst/>
            <a:gdLst>
              <a:gd name="textAreaLeft" fmla="*/ 98280 w 733320"/>
              <a:gd name="textAreaRight" fmla="*/ 635040 w 733320"/>
              <a:gd name="textAreaTop" fmla="*/ 417240 h 2446200"/>
              <a:gd name="textAreaBottom" fmla="*/ 1675080 h 244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373" stAng="-5400000" swAng="5400000"/>
                <a:lnTo>
                  <a:pt x="21600" y="11104"/>
                </a:lnTo>
                <a:arcTo wR="21600" hR="7373" stAng="0" swAng="2755134"/>
                <a:lnTo>
                  <a:pt x="6779" y="21228"/>
                </a:lnTo>
                <a:lnTo>
                  <a:pt x="0" y="16611"/>
                </a:lnTo>
                <a:lnTo>
                  <a:pt x="6779" y="11249"/>
                </a:lnTo>
                <a:lnTo>
                  <a:pt x="6779" y="14373"/>
                </a:lnTo>
                <a:arcTo wR="21600" hR="7373" stAng="2755134" swAng="-2449055"/>
                <a:lnTo>
                  <a:pt x="20897" y="9238"/>
                </a:lnTo>
                <a:arcTo wR="21600" hR="7373" stAng="-306079" swAng="-5093921"/>
                <a:close/>
              </a:path>
              <a:path fill="darkenLess" w="21600" h="21600">
                <a:moveTo>
                  <a:pt x="0" y="0"/>
                </a:moveTo>
                <a:arcTo wR="21600" hR="7373" stAng="-5400000" swAng="5400000"/>
                <a:lnTo>
                  <a:pt x="21600" y="11104"/>
                </a:lnTo>
                <a:arcTo wR="21600" hR="7373" stAng="0" swAng="-306079"/>
                <a:lnTo>
                  <a:pt x="20897" y="9238"/>
                </a:lnTo>
                <a:arcTo wR="21600" hR="7373" stAng="-306079" swAng="-5093921"/>
                <a:close/>
              </a:path>
            </a:pathLst>
          </a:cu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30400" y="3789360"/>
            <a:ext cx="2146320" cy="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1676520"/>
            <a:ext cx="3527280" cy="1320840"/>
          </a:xfrm>
          <a:prstGeom prst="wedgeRoundRectCallout">
            <a:avLst>
              <a:gd name="adj1" fmla="val 11069"/>
              <a:gd name="adj2" fmla="val 72837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roveedor de servicio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lece una presenci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ercial en el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ritorio de otro Miemb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1600200"/>
            <a:ext cx="2914560" cy="1066680"/>
          </a:xfrm>
          <a:prstGeom prst="wedgeRoundRectCallout">
            <a:avLst>
              <a:gd name="adj1" fmla="val -26708"/>
              <a:gd name="adj2" fmla="val 80208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lquier tipo de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lecimient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ercial o profe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5734080"/>
            <a:ext cx="2592360" cy="1030320"/>
          </a:xfrm>
          <a:prstGeom prst="wedgeRoundRectCallout">
            <a:avLst>
              <a:gd name="adj1" fmla="val 18097"/>
              <a:gd name="adj2" fmla="val -105009"/>
              <a:gd name="adj3" fmla="val 16667"/>
            </a:avLst>
          </a:prstGeom>
          <a:solidFill>
            <a:srgbClr val="ffffff"/>
          </a:solidFill>
          <a:ln w="3168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 prestad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ante la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sencia come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6600-1530-497F-B896-4D24EC41FD07}" type="slidenum">
              <a:t>33</a:t>
            </a:fld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98040" y="333000"/>
            <a:ext cx="7340760" cy="733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os 4 Modos de Suminist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067280" y="4837320"/>
            <a:ext cx="19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sumidor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2120" y="1172160"/>
            <a:ext cx="723888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encia de personas físicas:  modo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132000" y="2209680"/>
            <a:ext cx="752760" cy="44197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4932360" y="3156120"/>
            <a:ext cx="817560" cy="10648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411280" y="3733920"/>
            <a:ext cx="2286000" cy="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24360" y="1600200"/>
            <a:ext cx="3240360" cy="1828800"/>
          </a:xfrm>
          <a:prstGeom prst="wedgeRoundRectCallout">
            <a:avLst>
              <a:gd name="adj1" fmla="val -16731"/>
              <a:gd name="adj2" fmla="val 73351"/>
              <a:gd name="adj3" fmla="val 16667"/>
            </a:avLst>
          </a:prstGeom>
          <a:solidFill>
            <a:srgbClr val="ffffff"/>
          </a:solidFill>
          <a:ln w="3168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 prestado mediante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presencia de persona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ísicas de un Miembr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territorio de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o Miemb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1332000" y="3156120"/>
            <a:ext cx="817560" cy="10648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4"/>
          <a:stretch/>
        </p:blipFill>
        <p:spPr>
          <a:xfrm>
            <a:off x="3995640" y="1981080"/>
            <a:ext cx="1619280" cy="989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6012000" y="3645000"/>
            <a:ext cx="733320" cy="2089080"/>
          </a:xfrm>
          <a:custGeom>
            <a:avLst/>
            <a:gdLst>
              <a:gd name="textAreaLeft" fmla="*/ 98280 w 733320"/>
              <a:gd name="textAreaRight" fmla="*/ 635040 w 733320"/>
              <a:gd name="textAreaTop" fmla="*/ 365400 h 2089080"/>
              <a:gd name="textAreaBottom" fmla="*/ 15145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611280" y="2060640"/>
          <a:ext cx="1619280" cy="98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060640"/>
                    <a:ext cx="161928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FD4F-6298-4F69-B63C-2DAC11BAE40E}" type="slidenum">
              <a:t>34</a:t>
            </a:fld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74880" y="404280"/>
            <a:ext cx="7340400" cy="863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l Anexo sobre Modo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391160" cy="4419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AGCS no se aplica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sonas físicas que traten de acceder al mercado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didas en materia de ciudadanía, residencia o empleo con carácter perman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gobiernos pueden libremente regular la entrada y la estancia temporal, siempre que esas medidas no anulen o menoscaben los compromi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08A-33D6-4743-8A34-913F8DF5618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7340760" cy="93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Importancia relativa del modo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467480" cy="4572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imac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Modo 1 -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3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Modo 2 -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Modo 3 -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60%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Modo 4 - ~ 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o la situación puede diferir entre los sectores, dependiendo de si el modo 4 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único modo de suministro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o de los modos posibles entre v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mplemento y facilita el comercio en relación con otros modos de suminis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D07E-BFE1-4DAB-97C6-DEDE1973FB7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¿Cuál es el modo de suministro de los siguientes servici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cia temporal de un contador para suministrar servicios de contabilidad en otro paí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blecimiento de una sucursal de una compañía de seguros extranjera en Ch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icios utilizados por personas que viajan al extranjero en viaje de nego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esoramiento médico por un equipo de expertos del país A a médicos que realizan una intervención quirúrgica de derivación coronaria en el país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 dentista del país B ofrece tratamiento en un consultorio del que es propietario en el país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16B7-8577-4A5A-9D46-8D5D2F5B8D9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80880" y="5045040"/>
            <a:ext cx="8547120" cy="3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6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0" y="2241720"/>
            <a:ext cx="9144000" cy="16448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¿Qué está Exluído del </a:t>
            </a:r>
            <a:br>
              <a:rPr sz="3400"/>
            </a:b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Acuerdo General sobre el Comercio de Servicios (AGCS - GATS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9640" y="619200"/>
            <a:ext cx="7556760" cy="946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tuación I: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. Servicios de transporte aér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391160" cy="441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dan excluidos del ámbito de aplicación las medidas que afecten a los “derechos de tráfico” y a los “servicios directamente relacionados con el ejercicio de los derechos de tráfic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obstante, el AGCS se aplica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reparación y mantenimiento de aeronav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venta y comercialización de los servicios d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porte aére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) los sistemas de reserva informatiz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6FC-5F49-40ED-BDA4-9691CD578F69}" type="slidenum">
              <a:t>39</a:t>
            </a:fld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5045040"/>
            <a:ext cx="8547120" cy="3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4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0" y="2765160"/>
            <a:ext cx="9144000" cy="6411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características tiene un Servici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631280" cy="1131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tuación II: 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. Servicios Gubern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440" y="2258640"/>
            <a:ext cx="7558200" cy="3668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dan excluidos del ámbito de aplicación los “servicios suministrados en ejercicio de facultades gubernamentales” que, a su vez, se definen como servicios no suministrados “en condiciones comerciales ni en competencia con uno o varios proveedores de servicios” (párrafo 3 del artículo 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33A1-F892-411D-8581-3BECF5E742E8}" type="slidenum">
              <a:t>40</a:t>
            </a:fld>
          </a:p>
        </p:txBody>
      </p:sp>
    </p:spTree>
  </p:cSld>
  <p:transition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99640" y="457200"/>
            <a:ext cx="7101000" cy="1316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¿Qué son los “servicios gubernamentales”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99640" y="2205000"/>
            <a:ext cx="7177320" cy="3857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jemplos habitua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licía, protección contra incendios, servicios de infraestructura (carreteras, etc.), operaciones de política monetaria, administración de aduanas,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 cualquier otro servicio público (salud, enseñanza, etc.) que cumpla los criterios pertin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F7C3-2093-4C97-B2AE-C31E8F6BBA54}" type="slidenum">
              <a:t>41</a:t>
            </a:fld>
          </a:p>
        </p:txBody>
      </p:sp>
    </p:spTree>
  </p:cSld>
  <p:transition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4360" y="533160"/>
            <a:ext cx="7850160" cy="1600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bligaciones de Aplicaión General (“incondicionales”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848720" cy="3700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ato de la Nación Más Favorecid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ligaciones de 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tras disposiciones de “buena gestión” (recursos jurídicos disponible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000000"/>
                </a:solidFill>
                <a:uFillTx/>
                <a:latin typeface="Times New Roman"/>
              </a:rPr>
              <a:t>Nota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:  ¡No hay obligación de abrir el mercado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CFD5-7E57-4AA3-9A5A-292A866EA67B}" type="slidenum">
              <a:t>42</a:t>
            </a:fld>
          </a:p>
        </p:txBody>
      </p:sp>
    </p:spTree>
  </p:cSld>
  <p:transition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696440" cy="12189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iedra Angular:  Trato de Nación Mas Favorecida (NMF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479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…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da Miembro otorgará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mediata e incondicionalment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los servicios y a los proveedores de servicios de cualquier otro Miembro un trato no menos favorable que el que conceda a los servicios similares y a los proveedores de servicios similares de cualquier otro país” (párrafo 1 del artículo I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 podían haber solicitado exenciones por períodos no superiores en principio a 10 años, en la fecha de entrada en vigor del AG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A52C-A29A-49F9-A41E-3D0846CDC892}" type="slidenum">
              <a:t>43</a:t>
            </a:fld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80880" y="1752480"/>
            <a:ext cx="8534520" cy="49089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nexo sobre Exenciones de las Obligaciones del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rtículo II (NMF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ntegración Económica (Artículo V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cuerdos de Reconocimiento (artículo VI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Otr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uerdos de integración de los mercados de trabajo (artículo V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bi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cepciones generales y excepciones relativas a la segurida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artículos XIV y XIV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bi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cepciones cautelares en los servicios financie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0880" y="304920"/>
            <a:ext cx="8229600" cy="1221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esviaciones Admisibles de NMF - Disposiciones pertinentes: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831-0420-4FBB-882E-7DB89FF7ADA6}" type="slidenum">
              <a:t>44</a:t>
            </a:fld>
          </a:p>
        </p:txBody>
      </p:sp>
    </p:spTree>
  </p:cSld>
  <p:transition>
    <p:cover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80880" y="1676520"/>
            <a:ext cx="8534520" cy="51706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Obligaciones generales ("incondicionales"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ublicación de "todas las medidas pertinentes de aplicación general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Establecimiento de servicios de inform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Establecimiento de puntos de contacto (párrafo 2 del artículo IV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Obligación "condicional" en sectores consigna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Requisito de suministro anual de información sobre las nuevas medidas que afecten significativamente al comerc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0880" y="304920"/>
            <a:ext cx="8458200" cy="1739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GCS y Transparencia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rtículo III y párrafo 2 del artícul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F252-22D6-41DB-BC5A-A1D517F3A9A1}" type="slidenum">
              <a:t>45</a:t>
            </a:fld>
          </a:p>
        </p:txBody>
      </p:sp>
    </p:spTree>
  </p:cSld>
  <p:transition>
    <p:cover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609480" y="380880"/>
            <a:ext cx="7696440" cy="1052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GCS y Reglamentación Doméstica:  Preámbulo</a:t>
            </a:r>
            <a:r>
              <a:rPr b="0" lang="es-E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1752480"/>
            <a:ext cx="7620120" cy="2988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Reconociendo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derecho de los Miembros a reglamentar el suministro de servicios en su territorio, y a establecer nuevas reglamentaciones al respecto, con el fin de realizar los objetivos de su política nacional, y la especial necesidad de los países en desarrollo de ejercer este derecho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EFDD-88D5-4964-A158-0767A298C556}" type="slidenum">
              <a:t>46</a:t>
            </a:fld>
          </a:p>
        </p:txBody>
      </p:sp>
    </p:spTree>
  </p:cSld>
  <p:transition>
    <p:cover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79280" y="380880"/>
            <a:ext cx="8583840" cy="560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GCS y Reglamentación: Artículo 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9640" y="1125360"/>
            <a:ext cx="8458200" cy="5184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sectores consignados en las Listas:  administrac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azonable, objetiva e imparci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las medidas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párrafo 1 del artículo V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visión de las decisiones administrativas que afecten al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ercio de servicios (párrafo 2 del artículo V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Statu qu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" en los sectores consignados en las Listas (párrafo 5 del artículo VI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se elaborará ningún reglamento nuevo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a más gravoso de lo necesar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pudiera haberse esperado; 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ule o menoscabe un compromi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as oblig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gociaciones sobre las disciplinas (párrafo 4 del artículo V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1BE9-C1F2-43FF-A0E1-161EE26EEB81}" type="slidenum">
              <a:t>47</a:t>
            </a:fld>
          </a:p>
        </p:txBody>
      </p:sp>
    </p:spTree>
  </p:cSld>
  <p:transition>
    <p:cover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3560" y="809280"/>
            <a:ext cx="7267680" cy="942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bligaciones sujetas a Compromisos Específ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245360" cy="424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3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El AGCS prescribe que cada Miembro presente una Lista de compromisos específicos en la que enumere los sectores para los que concede </a:t>
            </a:r>
            <a:r>
              <a:rPr b="1" lang="en-GB" sz="3100" spc="-1" strike="noStrike">
                <a:solidFill>
                  <a:srgbClr val="000000"/>
                </a:solidFill>
                <a:latin typeface="Times New Roman"/>
              </a:rPr>
              <a:t>Acceso a los Mercados 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GB" sz="3100" spc="-1" strike="noStrike">
                <a:solidFill>
                  <a:srgbClr val="000000"/>
                </a:solidFill>
                <a:latin typeface="Times New Roman"/>
              </a:rPr>
              <a:t>Trato Nacional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0236-616C-4EE2-9548-D31A26BCCD2C}" type="slidenum">
              <a:t>48</a:t>
            </a:fld>
          </a:p>
        </p:txBody>
      </p:sp>
    </p:spTree>
  </p:cSld>
  <p:transition>
    <p:cover dir="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684360" y="404640"/>
            <a:ext cx="7940520" cy="1152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cceso a los Mercados y Trato Nacional:   Elementos princip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38080" y="1828800"/>
            <a:ext cx="7772400" cy="3922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ESO A LOS MERCADOS (artículo XV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sencia de limitaciones numéricas y simi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TO NACIONAL (artículo XV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discriminación con respecto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od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a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das que afectan al suministro de un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ualquier limitación debe estar incluida en la lista dentro del modo pertin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AF19-F536-4996-ACDE-0DD9EC3F916A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racterística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1341360"/>
            <a:ext cx="8064360" cy="5327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COMERCIABLES Y NO ALMACEN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ultaneidad de la producción y el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&gt;Importancia del establecimiento y de la movilidad de pers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ORTANTE PARTICIPACIÓN DEL GOBIER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opolios natural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jetivos no económicos (sociales, culturales, de seguridad) =&gt; obligaciones de proveer servicios públ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ortancia infraestructural de los servicios (transportes, telecomunicacione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DUCTOS INTANGI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s criterios de calidad se aplican más bien a los proveedores de servicios que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SE APLICAN ARANC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s condiciones de acceso se determinan mediante reglamentaciones, contingent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7096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F5F3-51BD-4FC1-8631-8279DB397A34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04920" y="533520"/>
            <a:ext cx="8305560" cy="990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¿Cómo Proteger los Intereses de Política Nacional en el Marco del AGCS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4920" y="1828800"/>
            <a:ext cx="8305560" cy="3685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as obligaciones de Acceso a los Mercados y de Trato Nacional existen únicamen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n los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sectores incluidos en las Lista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;  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n la medida en que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no se hayan consignado limitacione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ueden ser renegociadas a cambio de una compensación o, en circunstancias especificadas, suspendidas por motivos de política fundamentales (por ejemplo, protección de la salud)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6B2C-4E1B-4B6F-B90D-8802A3FE867B}" type="slidenum">
              <a:t>50</a:t>
            </a:fld>
          </a:p>
        </p:txBody>
      </p:sp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971640" y="836640"/>
            <a:ext cx="7486560" cy="1224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¿Son los Compromisos Irrevocab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971640" y="2514600"/>
            <a:ext cx="7486560" cy="1800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.  Pueden ser renegociados a cambio de una compensación a los Miembros afectados después de transcurridos tres años a partir de su entrada en vigor (artículo XX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970D-F2CA-4679-8660-6970B3817878}" type="slidenum">
              <a:t>51</a:t>
            </a:fld>
          </a:p>
        </p:txBody>
      </p:sp>
    </p:spTree>
  </p:cSld>
  <p:transition>
    <p:checke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380880" y="5028840"/>
            <a:ext cx="854712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" spc="-1" strike="noStrike">
                <a:solidFill>
                  <a:srgbClr val="ff0000"/>
                </a:solidFill>
                <a:latin typeface="Arial"/>
                <a:ea typeface="Arial"/>
              </a:rPr>
              <a:t>AN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6094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MUCHAS GRACI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-1614600" y="4753080"/>
            <a:ext cx="1075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na Nov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Jefa Departamento Servicios, Inversiones y Transporte Aé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RE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novik@direcon.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5045040"/>
            <a:ext cx="8547120" cy="3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4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0" y="2490480"/>
            <a:ext cx="9144000" cy="1190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on las características mencionadas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¿Es posible comercializar servici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8169120" cy="5580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rminados servicios (transporte internacional y comunicaciones) han sido objeto de comercio desde hace sig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servicios se suministran conjuntamente co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cancías (finanzas, seguros, comercializa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evos servicios han comenzado a ser comerciables com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ecu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 progreso técnico (banca electrónica, telemedicina, enseñanza a dista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 la compresión del gasto pú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 la liberalización de los mercados y la reforma de l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la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C52E-4DCF-4170-B30C-F664AA587964}" type="slidenum">
              <a:t>7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880" y="5045040"/>
            <a:ext cx="8547120" cy="3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4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0" y="2765160"/>
            <a:ext cx="9144000" cy="6411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¿Por qué negociar Servici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Primera Razón: </a:t>
            </a:r>
            <a:br>
              <a:rPr sz="3400"/>
            </a:b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Importancia Económica de los Servici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7786800" cy="4027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Participación en la producción y el emple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Oscila entre menos del 30 y más del 70 por ciento en función de la estructura de los recursos y del nivel de desarrollo de la economí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Participación en el comercio mundial total                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Alrededor del 20 por ciento (en base a cifras de balanza de pagos)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9476-ED1E-4254-BB33-5A65272C476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1T01:55:38Z</dcterms:created>
  <dc:creator>Rodrigo Rojo</dc:creator>
  <dc:description/>
  <dc:language>en-US</dc:language>
  <cp:lastModifiedBy>Direcon</cp:lastModifiedBy>
  <dcterms:modified xsi:type="dcterms:W3CDTF">2009-08-10T21:39:32Z</dcterms:modified>
  <cp:revision>51</cp:revision>
  <dc:subject/>
  <dc:title>PowerPoint Presentation</dc:title>
</cp:coreProperties>
</file>