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EEAD-9CCD-463C-89B7-3ED13231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340A-413D-4018-885C-B41D9E8C4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6480" y="70812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8440" y="4317840"/>
            <a:ext cx="502740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o you want the two sentences joined togeth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471-A81E-40D5-BB63-179AA123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4FD-C1A2-44B8-817D-1C835625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163-9636-43A4-8D84-5C2EC437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0A1-C64C-4CCF-A56A-D7D16FE6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12F-089D-4D93-8C0B-7EFF8274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62D-0BB6-46E5-9EA6-A818562F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21A-7119-4213-B255-6EBAA8D3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C79-4761-4216-A740-6CAD040E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538-611B-460A-AC82-C46A5AD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196-9D08-4CA4-9B81-ECECBFD2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A02-D48D-4AC8-B77C-84EBF819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E5C-F8BE-4DBA-8C09-609E967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47F9-8E12-49F4-8EB0-2DA166349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holachc.com/wp-content/uploads/2008/09/bandera_de_chile.png&amp;imgrefurl=http://www.holachc.com/%3Fm%3D200809&amp;usg=__ZxZsEHsa-B5T-vopXH2sdpaDiI8=&amp;h=293&amp;w=439&amp;sz=3&amp;hl=es&amp;start=1&amp;tbnid=m-8QfYCMScdD2M:&amp;tbnh=85&amp;tbnw=127&amp;prev=/images%3Fq%3Dbandera%2Bde%2BChile%26gbv%3D2%26hl%3Des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5105160"/>
            <a:ext cx="8547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stituto de Estudio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1598400"/>
            <a:ext cx="9144000" cy="1739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ios Básicos del Comercio de Servicios</a:t>
            </a:r>
            <a:br>
              <a:rPr sz="3600"/>
            </a:b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e agosto de 2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3434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260280"/>
            <a:ext cx="7925040" cy="112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volución del Comercio de Servicios:  Algunas Cifras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848720" cy="5621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sector de los servicios fue el segmento de más rápid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cimiento del comercio mundial entre 1980 y 2007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de 1990, las exportaciones de servicios de los países en desarrollo han aumentado en 3 % (por año) más que las de los países desarrollad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parte que representan los países en desarrollo en las exportaciones mundiales de servicios aumentó del 20 al 26 % (1990-2007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 servicios de viajes y de transporte representan más del 60 % de las exportaciones de servicios de los países en desarroll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:  Estimaciones de la Secretaría de la OMC;  datos de la balanza de pagos (B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C05-DAD8-40EF-B652-25C46BD78F57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áfico II:  Exportaciones mundiales de mercancías y servicios (1980-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3840" y="1266840"/>
          <a:ext cx="8512200" cy="55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266840"/>
                    <a:ext cx="85122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626760" y="1341360"/>
            <a:ext cx="8459280" cy="5290560"/>
            <a:chOff x="626760" y="1341360"/>
            <a:chExt cx="8459280" cy="5290560"/>
          </a:xfrm>
        </p:grpSpPr>
        <p:sp>
          <p:nvSpPr>
            <p:cNvPr id="75" name=""/>
            <p:cNvSpPr/>
            <p:nvPr/>
          </p:nvSpPr>
          <p:spPr>
            <a:xfrm>
              <a:off x="1757160" y="47941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7160" y="448164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7160" y="416736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7160" y="38527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7160" y="353844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57160" y="322596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7160" y="29113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57160" y="259704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7160" y="228276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1908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2320" y="4727520"/>
              <a:ext cx="10476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2880" y="4749840"/>
              <a:ext cx="125640" cy="35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14320" y="4749840"/>
              <a:ext cx="104760" cy="35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524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3848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09920" y="4705200"/>
              <a:ext cx="104760" cy="4032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0480" y="4614840"/>
              <a:ext cx="125640" cy="493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3720" y="4548240"/>
              <a:ext cx="104760" cy="5601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84640" y="4503600"/>
              <a:ext cx="125280" cy="6048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6080" y="4413240"/>
              <a:ext cx="125280" cy="6951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8960" y="4390920"/>
              <a:ext cx="103320" cy="7174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79880" y="4346640"/>
              <a:ext cx="125280" cy="76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1320" y="4346640"/>
              <a:ext cx="125280" cy="76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2760" y="4255920"/>
              <a:ext cx="104760" cy="8524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75120" y="4076640"/>
              <a:ext cx="125640" cy="103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6560" y="4032360"/>
              <a:ext cx="104760" cy="10760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7480" y="3987720"/>
              <a:ext cx="125280" cy="11206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8920" y="4010040"/>
              <a:ext cx="127080" cy="1098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1800" y="3965400"/>
              <a:ext cx="105120" cy="1143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92720" y="3830760"/>
              <a:ext cx="125640" cy="1277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4160" y="3875040"/>
              <a:ext cx="104760" cy="1233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15080" y="3830760"/>
              <a:ext cx="127080" cy="1277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908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2320" y="4638600"/>
              <a:ext cx="104760" cy="88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2880" y="4683240"/>
              <a:ext cx="12564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14320" y="4683240"/>
              <a:ext cx="10476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6524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848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9920" y="4614840"/>
              <a:ext cx="104760" cy="90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60480" y="4525920"/>
              <a:ext cx="125640" cy="88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33720" y="4435560"/>
              <a:ext cx="104760" cy="1126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4640" y="4368960"/>
              <a:ext cx="125280" cy="134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6080" y="4255920"/>
              <a:ext cx="125280" cy="1573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8960" y="4233960"/>
              <a:ext cx="103320" cy="1569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79880" y="4167360"/>
              <a:ext cx="125280" cy="179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320" y="4167360"/>
              <a:ext cx="125280" cy="179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22760" y="4054320"/>
              <a:ext cx="104760" cy="201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75120" y="3852720"/>
              <a:ext cx="125640" cy="223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6560" y="3763800"/>
              <a:ext cx="104760" cy="26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97480" y="3718080"/>
              <a:ext cx="125280" cy="269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68920" y="3741840"/>
              <a:ext cx="127080" cy="2682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41800" y="3695760"/>
              <a:ext cx="105120" cy="269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2720" y="3538440"/>
              <a:ext cx="125640" cy="2923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64160" y="3584520"/>
              <a:ext cx="104760" cy="2905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15080" y="3516480"/>
              <a:ext cx="127080" cy="314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7160" y="228276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2920" y="51084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2920" y="47941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2920" y="44816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72920" y="41673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2920" y="38527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2920" y="35384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2920" y="32259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2920" y="29113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2920" y="25970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2920" y="228276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7160" y="510840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571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0286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7952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524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80332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0747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3480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985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8700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2092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3941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6656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9161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1879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46084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7117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9832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2355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070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77844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0293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30224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5531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8246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82800" y="2395440"/>
              <a:ext cx="5816520" cy="2108160"/>
            </a:xfrm>
            <a:custGeom>
              <a:avLst/>
              <a:gdLst/>
              <a:ahLst/>
              <a:rect l="l" t="t" r="r" b="b"/>
              <a:pathLst>
                <a:path w="278" h="94">
                  <a:moveTo>
                    <a:pt x="0" y="93"/>
                  </a:moveTo>
                  <a:lnTo>
                    <a:pt x="13" y="92"/>
                  </a:lnTo>
                  <a:lnTo>
                    <a:pt x="26" y="93"/>
                  </a:lnTo>
                  <a:lnTo>
                    <a:pt x="38" y="94"/>
                  </a:lnTo>
                  <a:lnTo>
                    <a:pt x="51" y="93"/>
                  </a:lnTo>
                  <a:lnTo>
                    <a:pt x="63" y="92"/>
                  </a:lnTo>
                  <a:lnTo>
                    <a:pt x="76" y="87"/>
                  </a:lnTo>
                  <a:lnTo>
                    <a:pt x="89" y="80"/>
                  </a:lnTo>
                  <a:lnTo>
                    <a:pt x="101" y="75"/>
                  </a:lnTo>
                  <a:lnTo>
                    <a:pt x="114" y="70"/>
                  </a:lnTo>
                  <a:lnTo>
                    <a:pt x="126" y="61"/>
                  </a:lnTo>
                  <a:lnTo>
                    <a:pt x="139" y="58"/>
                  </a:lnTo>
                  <a:lnTo>
                    <a:pt x="152" y="50"/>
                  </a:lnTo>
                  <a:lnTo>
                    <a:pt x="164" y="49"/>
                  </a:lnTo>
                  <a:lnTo>
                    <a:pt x="177" y="41"/>
                  </a:lnTo>
                  <a:lnTo>
                    <a:pt x="189" y="30"/>
                  </a:lnTo>
                  <a:lnTo>
                    <a:pt x="202" y="23"/>
                  </a:lnTo>
                  <a:lnTo>
                    <a:pt x="215" y="19"/>
                  </a:lnTo>
                  <a:lnTo>
                    <a:pt x="227" y="18"/>
                  </a:lnTo>
                  <a:lnTo>
                    <a:pt x="240" y="14"/>
                  </a:lnTo>
                  <a:lnTo>
                    <a:pt x="252" y="8"/>
                  </a:lnTo>
                  <a:lnTo>
                    <a:pt x="265" y="7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2800" y="3270240"/>
              <a:ext cx="5816520" cy="1211400"/>
            </a:xfrm>
            <a:custGeom>
              <a:avLst/>
              <a:gdLst/>
              <a:ahLst/>
              <a:rect l="l" t="t" r="r" b="b"/>
              <a:pathLst>
                <a:path w="278" h="54">
                  <a:moveTo>
                    <a:pt x="0" y="54"/>
                  </a:moveTo>
                  <a:lnTo>
                    <a:pt x="13" y="53"/>
                  </a:lnTo>
                  <a:lnTo>
                    <a:pt x="26" y="54"/>
                  </a:lnTo>
                  <a:lnTo>
                    <a:pt x="38" y="53"/>
                  </a:lnTo>
                  <a:lnTo>
                    <a:pt x="51" y="52"/>
                  </a:lnTo>
                  <a:lnTo>
                    <a:pt x="63" y="50"/>
                  </a:lnTo>
                  <a:lnTo>
                    <a:pt x="76" y="45"/>
                  </a:lnTo>
                  <a:lnTo>
                    <a:pt x="89" y="39"/>
                  </a:lnTo>
                  <a:lnTo>
                    <a:pt x="101" y="34"/>
                  </a:lnTo>
                  <a:lnTo>
                    <a:pt x="114" y="32"/>
                  </a:lnTo>
                  <a:lnTo>
                    <a:pt x="126" y="27"/>
                  </a:lnTo>
                  <a:lnTo>
                    <a:pt x="139" y="24"/>
                  </a:lnTo>
                  <a:lnTo>
                    <a:pt x="152" y="20"/>
                  </a:lnTo>
                  <a:lnTo>
                    <a:pt x="164" y="19"/>
                  </a:lnTo>
                  <a:lnTo>
                    <a:pt x="177" y="15"/>
                  </a:lnTo>
                  <a:lnTo>
                    <a:pt x="189" y="8"/>
                  </a:lnTo>
                  <a:lnTo>
                    <a:pt x="202" y="6"/>
                  </a:lnTo>
                  <a:lnTo>
                    <a:pt x="215" y="6"/>
                  </a:lnTo>
                  <a:lnTo>
                    <a:pt x="227" y="7"/>
                  </a:lnTo>
                  <a:lnTo>
                    <a:pt x="240" y="4"/>
                  </a:lnTo>
                  <a:lnTo>
                    <a:pt x="252" y="2"/>
                  </a:lnTo>
                  <a:lnTo>
                    <a:pt x="265" y="3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2800" y="3022560"/>
              <a:ext cx="5816520" cy="1503360"/>
            </a:xfrm>
            <a:custGeom>
              <a:avLst/>
              <a:gdLst/>
              <a:ahLst/>
              <a:rect l="l" t="t" r="r" b="b"/>
              <a:pathLst>
                <a:path w="278" h="67">
                  <a:moveTo>
                    <a:pt x="0" y="65"/>
                  </a:moveTo>
                  <a:lnTo>
                    <a:pt x="13" y="65"/>
                  </a:lnTo>
                  <a:lnTo>
                    <a:pt x="26" y="67"/>
                  </a:lnTo>
                  <a:lnTo>
                    <a:pt x="38" y="67"/>
                  </a:lnTo>
                  <a:lnTo>
                    <a:pt x="51" y="66"/>
                  </a:lnTo>
                  <a:lnTo>
                    <a:pt x="63" y="66"/>
                  </a:lnTo>
                  <a:lnTo>
                    <a:pt x="76" y="63"/>
                  </a:lnTo>
                  <a:lnTo>
                    <a:pt x="89" y="58"/>
                  </a:lnTo>
                  <a:lnTo>
                    <a:pt x="101" y="52"/>
                  </a:lnTo>
                  <a:lnTo>
                    <a:pt x="114" y="49"/>
                  </a:lnTo>
                  <a:lnTo>
                    <a:pt x="126" y="43"/>
                  </a:lnTo>
                  <a:lnTo>
                    <a:pt x="139" y="42"/>
                  </a:lnTo>
                  <a:lnTo>
                    <a:pt x="152" y="38"/>
                  </a:lnTo>
                  <a:lnTo>
                    <a:pt x="164" y="38"/>
                  </a:lnTo>
                  <a:lnTo>
                    <a:pt x="177" y="31"/>
                  </a:lnTo>
                  <a:lnTo>
                    <a:pt x="189" y="18"/>
                  </a:lnTo>
                  <a:lnTo>
                    <a:pt x="202" y="15"/>
                  </a:lnTo>
                  <a:lnTo>
                    <a:pt x="215" y="12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2" y="0"/>
                  </a:lnTo>
                  <a:lnTo>
                    <a:pt x="265" y="4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24600" y="228276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4600" y="51084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24600" y="48182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24600" y="45036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24600" y="42116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24600" y="38973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24600" y="36068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4600" y="32925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4600" y="30002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24600" y="26877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24600" y="23954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01120" y="4929120"/>
              <a:ext cx="1486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3520" y="4614840"/>
              <a:ext cx="2962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7360" y="430200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7360" y="398772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07360" y="367344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7360" y="335916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7360" y="304632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07360" y="273204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07360" y="241776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07360" y="210348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900000">
              <a:off x="121680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900000">
              <a:off x="176112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900000">
              <a:off x="22834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8900000">
              <a:off x="28072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900000">
              <a:off x="33296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00000">
              <a:off x="38534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900000">
              <a:off x="43966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900000">
              <a:off x="49204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900000">
              <a:off x="54428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8900000">
              <a:off x="59666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900000">
              <a:off x="64904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900000">
              <a:off x="703332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6600" y="6342120"/>
              <a:ext cx="4662720" cy="289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Fuente:  División de Estadística de la OMC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200000">
              <a:off x="142920" y="3567600"/>
              <a:ext cx="13676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(1980=100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33760" y="4929120"/>
              <a:ext cx="1486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33400" y="463860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33400" y="43243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33400" y="403236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33400" y="371808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33400" y="342756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7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3400" y="31129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9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3400" y="282096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0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33400" y="250812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33400" y="221616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3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7852680" y="3503880"/>
              <a:ext cx="225324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iles de millones de dó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760" y="1341360"/>
              <a:ext cx="544680" cy="135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52080" y="1341360"/>
              <a:ext cx="166788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xportaciones de mercancí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1840" y="1341360"/>
              <a:ext cx="542880" cy="135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27880" y="1341360"/>
              <a:ext cx="22165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xportaciones de servicios comerci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37080" y="1413000"/>
              <a:ext cx="565200" cy="1440"/>
            </a:xfrm>
            <a:prstGeom prst="line">
              <a:avLst/>
            </a:prstGeom>
            <a:ln w="41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64200" y="1341360"/>
              <a:ext cx="17701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en el sector de los 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rvicios (198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760" y="1633680"/>
              <a:ext cx="565200" cy="14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5320" y="1565280"/>
              <a:ext cx="11149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del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1840" y="1633680"/>
              <a:ext cx="565200" cy="1440"/>
            </a:xfrm>
            <a:prstGeom prst="line">
              <a:avLst/>
            </a:prstGeom>
            <a:ln w="414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29320" y="1565280"/>
              <a:ext cx="229140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del comercio de mercancí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63F-555C-41C7-B619-B20C2D45187A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gunda Razó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534160" cy="4035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itar barreras discriminatorias o restric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ilidad en las reglas del juego y certidumbre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mentar la 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ger a los proveedores de servicios (en algunos casos inversionistas y sus invers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Aumentar los flujos del comercio de servicios  y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94C-6AD8-4A2B-92C0-38E2DF330FE4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993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es Barrer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úmero de personas extranj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pos de Entidad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icipación Capital 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ueba de Neces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496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arantías financi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gencia de Nacionalidad o Re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quisitos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gencia de Transferencia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1D8-3229-4211-B8C5-E06C2644D08A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0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¿Qué se Negocia cuando se Negocia Servici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55640" y="2205000"/>
          <a:ext cx="72723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05000"/>
                    <a:ext cx="72723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DD0-E9F9-4576-A221-6060869D6F40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611280" y="2349360"/>
          <a:ext cx="748980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489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FA7-01E7-471D-91A3-CF5E15516D2D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838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alidades de Liber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94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s positivas (OMC, UE, EFTA,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740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 negativa (EE.UU., MX, CA, Corea, C.A, P4, Ecuador, Colombia, Japón, Perú, 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886200"/>
            <a:ext cx="1752480" cy="2133720"/>
          </a:xfrm>
          <a:prstGeom prst="upArrow">
            <a:avLst>
              <a:gd name="adj1" fmla="val 50000"/>
              <a:gd name="adj2" fmla="val 30439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4495680"/>
            <a:ext cx="1371600" cy="2362320"/>
          </a:xfrm>
          <a:prstGeom prst="downArrow">
            <a:avLst>
              <a:gd name="adj1" fmla="val 50000"/>
              <a:gd name="adj2" fmla="val 43058"/>
            </a:avLst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CF6-29FE-4301-8DA2-EF22FC0F0C6C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77564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 Lista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sectores están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omisos en base a modos de pres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listan compromisos en: Acceso a Mercados y Trato Na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D0B-A4E4-4F1C-8FB2-FCBB432ED98F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122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promisos bajo lista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0880" y="1905120"/>
          <a:ext cx="8534520" cy="411480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  <a:gridCol w="21337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or o sub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Limitaciones al acceso a los mercado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Limitaciones al trato nacion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Compromisos adicional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7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os los se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DEB-82BF-40F2-94A4-789D1C52D148}" type="slidenum">
              <a:t>19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5045760"/>
            <a:ext cx="854712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es un Servici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775640" cy="1152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 Lista Neg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s los sectores están incluidos (con posibilidad de exceptuar sec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 que importa es la “medida” (Ley, reglamento, norma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cripción de la lim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listan restriccione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o Na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ción Mas Favorec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encia Loc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stricciones Cuantitat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C54-4864-4498-AE46-01B6F2C164F3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Compromisos bajo lista negativ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476360" y="1413000"/>
            <a:ext cx="6130800" cy="5257800"/>
            <a:chOff x="1476360" y="1413000"/>
            <a:chExt cx="6130800" cy="5257800"/>
          </a:xfrm>
        </p:grpSpPr>
        <p:grpSp>
          <p:nvGrpSpPr>
            <p:cNvPr id="249" name=""/>
            <p:cNvGrpSpPr/>
            <p:nvPr/>
          </p:nvGrpSpPr>
          <p:grpSpPr>
            <a:xfrm>
              <a:off x="1481040" y="1415520"/>
              <a:ext cx="6121440" cy="5251320"/>
              <a:chOff x="1481040" y="1415520"/>
              <a:chExt cx="6121440" cy="52513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481040" y="1415520"/>
                <a:ext cx="1917720" cy="592200"/>
                <a:chOff x="1481040" y="1415520"/>
                <a:chExt cx="1917720" cy="5922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525320" y="1415520"/>
                  <a:ext cx="1828800" cy="592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tor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1040" y="1415520"/>
                  <a:ext cx="1917720" cy="59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398760" y="1415520"/>
                <a:ext cx="4203720" cy="592200"/>
                <a:chOff x="3398760" y="1415520"/>
                <a:chExt cx="4203720" cy="5922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443040" y="1415520"/>
                  <a:ext cx="4114800" cy="592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ios especializ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uardias de seguridad privados arm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98760" y="1415520"/>
                  <a:ext cx="4203720" cy="59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481040" y="2007720"/>
                <a:ext cx="1917720" cy="480960"/>
                <a:chOff x="1481040" y="2007720"/>
                <a:chExt cx="1917720" cy="480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525320" y="2007720"/>
                  <a:ext cx="1828800" cy="480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ligaciones afectadas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81040" y="2007720"/>
                  <a:ext cx="1917720" cy="4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398760" y="2007720"/>
                <a:ext cx="4203720" cy="480960"/>
                <a:chOff x="3398760" y="2007720"/>
                <a:chExt cx="4203720" cy="4809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443040" y="2007720"/>
                  <a:ext cx="4114800" cy="480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o Nacional (Artículo 12.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398760" y="2007720"/>
                  <a:ext cx="4203720" cy="4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481040" y="2488680"/>
                <a:ext cx="1917720" cy="813960"/>
                <a:chOff x="1481040" y="2488680"/>
                <a:chExt cx="1917720" cy="8139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525320" y="2488680"/>
                  <a:ext cx="1828800" cy="813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1040" y="2488680"/>
                  <a:ext cx="1917720" cy="81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398760" y="2488680"/>
                <a:ext cx="4203720" cy="813960"/>
                <a:chOff x="3398760" y="2488680"/>
                <a:chExt cx="4203720" cy="813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443040" y="2488680"/>
                  <a:ext cx="4114800" cy="813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y 17.773, del Ministerio de Interior, Diario Oficial, noviembre 14, 19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98760" y="2488680"/>
                  <a:ext cx="4203720" cy="81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1481040" y="3302640"/>
                <a:ext cx="1917720" cy="3364200"/>
                <a:chOff x="1481040" y="3302640"/>
                <a:chExt cx="1917720" cy="33642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525320" y="3302640"/>
                  <a:ext cx="1828800" cy="3364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ripción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81040" y="3302640"/>
                  <a:ext cx="1917720" cy="33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398760" y="3302640"/>
                <a:ext cx="4203720" cy="3364200"/>
                <a:chOff x="3398760" y="3302640"/>
                <a:chExt cx="4203720" cy="33642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443040" y="3302640"/>
                  <a:ext cx="4114800" cy="3364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Comercio transfronterizo de servic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o las personas naturales chilenas pueden prestar servicios como guardias de seguridad privados arm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398760" y="3302640"/>
                  <a:ext cx="4203720" cy="33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1476360" y="1413000"/>
              <a:ext cx="6130800" cy="5257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F51-9135-4B91-872A-5367FC29DF8E}" type="slidenum">
              <a:t>21</a:t>
            </a:fld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27236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Chile y las Negociaciones de Servi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71640" y="2248560"/>
            <a:ext cx="7315200" cy="334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lateral o Regional (TLCs con Australia, Canadá, Corea, China, Centro América, Colombia, EU, EFTA, EE.UU., México, MERCOSUR, P4 y Per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ltilateral (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CE9-A660-4953-88B5-A3D482C20B1E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106 Grupo"/>
          <p:cNvGrpSpPr/>
          <p:nvPr/>
        </p:nvGrpSpPr>
        <p:grpSpPr>
          <a:xfrm>
            <a:off x="395280" y="1773360"/>
            <a:ext cx="8429760" cy="4643280"/>
            <a:chOff x="395280" y="1773360"/>
            <a:chExt cx="8429760" cy="4643280"/>
          </a:xfrm>
        </p:grpSpPr>
        <p:grpSp>
          <p:nvGrpSpPr>
            <p:cNvPr id="278" name="84 Grupo"/>
            <p:cNvGrpSpPr/>
            <p:nvPr/>
          </p:nvGrpSpPr>
          <p:grpSpPr>
            <a:xfrm>
              <a:off x="395280" y="1773360"/>
              <a:ext cx="8429760" cy="4643280"/>
              <a:chOff x="395280" y="1773360"/>
              <a:chExt cx="8429760" cy="4643280"/>
            </a:xfrm>
          </p:grpSpPr>
          <p:sp>
            <p:nvSpPr>
              <p:cNvPr id="279" name="123 Elipse"/>
              <p:cNvSpPr/>
              <p:nvPr/>
            </p:nvSpPr>
            <p:spPr>
              <a:xfrm>
                <a:off x="395280" y="1773360"/>
                <a:ext cx="8337960" cy="4643280"/>
              </a:xfrm>
              <a:prstGeom prst="ellipse">
                <a:avLst/>
              </a:prstGeom>
              <a:solidFill>
                <a:srgbClr val="dce6f2"/>
              </a:solidFill>
              <a:ln w="12600">
                <a:solidFill>
                  <a:srgbClr val="385d8a">
                    <a:alpha val="2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ext Box 67"/>
              <p:cNvSpPr/>
              <p:nvPr/>
            </p:nvSpPr>
            <p:spPr>
              <a:xfrm>
                <a:off x="7623360" y="1790640"/>
                <a:ext cx="1201680" cy="946440"/>
              </a:xfrm>
              <a:prstGeom prst="rect">
                <a:avLst/>
              </a:prstGeom>
              <a:noFill/>
              <a:ln w="0">
                <a:solidFill>
                  <a:srgbClr val="4bacc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ige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00"/>
                    </a:solidFill>
                    <a:latin typeface="Trebuchet MS"/>
                    <a:ea typeface="Arial"/>
                  </a:rPr>
                  <a:t>Suscri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Trebuchet MS"/>
                    <a:ea typeface="Arial"/>
                  </a:rPr>
                  <a:t>En Negoci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122 Grupo"/>
              <p:cNvGrpSpPr/>
              <p:nvPr/>
            </p:nvGrpSpPr>
            <p:grpSpPr>
              <a:xfrm>
                <a:off x="448920" y="2522160"/>
                <a:ext cx="7666200" cy="3378240"/>
                <a:chOff x="448920" y="2522160"/>
                <a:chExt cx="7666200" cy="3378240"/>
              </a:xfrm>
            </p:grpSpPr>
            <p:sp>
              <p:nvSpPr>
                <p:cNvPr id="282" name="Rectangle 3"/>
                <p:cNvSpPr/>
                <p:nvPr/>
              </p:nvSpPr>
              <p:spPr>
                <a:xfrm>
                  <a:off x="1605960" y="2896560"/>
                  <a:ext cx="5497200" cy="25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1"/>
                <p:cNvSpPr/>
                <p:nvPr/>
              </p:nvSpPr>
              <p:spPr>
                <a:xfrm>
                  <a:off x="751320" y="3095640"/>
                  <a:ext cx="2825640" cy="699480"/>
                </a:xfrm>
                <a:custGeom>
                  <a:avLst/>
                  <a:gdLst>
                    <a:gd name="textAreaLeft" fmla="*/ 0 w 2825640"/>
                    <a:gd name="textAreaRight" fmla="*/ 2826000 w 2825640"/>
                    <a:gd name="textAreaTop" fmla="*/ 0 h 699480"/>
                    <a:gd name="textAreaBottom" fmla="*/ 699840 h 699480"/>
                  </a:gdLst>
                  <a:ahLst/>
                  <a:rect l="textAreaLeft" t="textAreaTop" r="textAreaRight" b="textAreaBottom"/>
                  <a:pathLst>
                    <a:path w="1981" h="528">
                      <a:moveTo>
                        <a:pt x="1464" y="528"/>
                      </a:moveTo>
                      <a:lnTo>
                        <a:pt x="1473" y="512"/>
                      </a:lnTo>
                      <a:lnTo>
                        <a:pt x="1482" y="491"/>
                      </a:lnTo>
                      <a:lnTo>
                        <a:pt x="1490" y="471"/>
                      </a:lnTo>
                      <a:lnTo>
                        <a:pt x="1496" y="459"/>
                      </a:lnTo>
                      <a:lnTo>
                        <a:pt x="1497" y="447"/>
                      </a:lnTo>
                      <a:lnTo>
                        <a:pt x="1493" y="432"/>
                      </a:lnTo>
                      <a:lnTo>
                        <a:pt x="1482" y="420"/>
                      </a:lnTo>
                      <a:lnTo>
                        <a:pt x="1464" y="415"/>
                      </a:lnTo>
                      <a:lnTo>
                        <a:pt x="1449" y="412"/>
                      </a:lnTo>
                      <a:lnTo>
                        <a:pt x="1447" y="403"/>
                      </a:lnTo>
                      <a:lnTo>
                        <a:pt x="1455" y="391"/>
                      </a:lnTo>
                      <a:lnTo>
                        <a:pt x="1469" y="376"/>
                      </a:lnTo>
                      <a:lnTo>
                        <a:pt x="1478" y="368"/>
                      </a:lnTo>
                      <a:lnTo>
                        <a:pt x="1488" y="359"/>
                      </a:lnTo>
                      <a:lnTo>
                        <a:pt x="1500" y="352"/>
                      </a:lnTo>
                      <a:lnTo>
                        <a:pt x="1512" y="344"/>
                      </a:lnTo>
                      <a:lnTo>
                        <a:pt x="1523" y="338"/>
                      </a:lnTo>
                      <a:lnTo>
                        <a:pt x="1534" y="334"/>
                      </a:lnTo>
                      <a:lnTo>
                        <a:pt x="1541" y="334"/>
                      </a:lnTo>
                      <a:lnTo>
                        <a:pt x="1544" y="335"/>
                      </a:lnTo>
                      <a:lnTo>
                        <a:pt x="1549" y="346"/>
                      </a:lnTo>
                      <a:lnTo>
                        <a:pt x="1556" y="355"/>
                      </a:lnTo>
                      <a:lnTo>
                        <a:pt x="1564" y="359"/>
                      </a:lnTo>
                      <a:lnTo>
                        <a:pt x="1571" y="356"/>
                      </a:lnTo>
                      <a:lnTo>
                        <a:pt x="1582" y="347"/>
                      </a:lnTo>
                      <a:lnTo>
                        <a:pt x="1596" y="341"/>
                      </a:lnTo>
                      <a:lnTo>
                        <a:pt x="1609" y="341"/>
                      </a:lnTo>
                      <a:lnTo>
                        <a:pt x="1615" y="347"/>
                      </a:lnTo>
                      <a:lnTo>
                        <a:pt x="1617" y="358"/>
                      </a:lnTo>
                      <a:lnTo>
                        <a:pt x="1621" y="365"/>
                      </a:lnTo>
                      <a:lnTo>
                        <a:pt x="1629" y="367"/>
                      </a:lnTo>
                      <a:lnTo>
                        <a:pt x="1639" y="359"/>
                      </a:lnTo>
                      <a:lnTo>
                        <a:pt x="1645" y="352"/>
                      </a:lnTo>
                      <a:lnTo>
                        <a:pt x="1653" y="343"/>
                      </a:lnTo>
                      <a:lnTo>
                        <a:pt x="1661" y="334"/>
                      </a:lnTo>
                      <a:lnTo>
                        <a:pt x="1670" y="325"/>
                      </a:lnTo>
                      <a:lnTo>
                        <a:pt x="1677" y="317"/>
                      </a:lnTo>
                      <a:lnTo>
                        <a:pt x="1685" y="313"/>
                      </a:lnTo>
                      <a:lnTo>
                        <a:pt x="1692" y="311"/>
                      </a:lnTo>
                      <a:lnTo>
                        <a:pt x="1698" y="316"/>
                      </a:lnTo>
                      <a:lnTo>
                        <a:pt x="1706" y="328"/>
                      </a:lnTo>
                      <a:lnTo>
                        <a:pt x="1706" y="335"/>
                      </a:lnTo>
                      <a:lnTo>
                        <a:pt x="1700" y="341"/>
                      </a:lnTo>
                      <a:lnTo>
                        <a:pt x="1691" y="352"/>
                      </a:lnTo>
                      <a:lnTo>
                        <a:pt x="1685" y="358"/>
                      </a:lnTo>
                      <a:lnTo>
                        <a:pt x="1677" y="364"/>
                      </a:lnTo>
                      <a:lnTo>
                        <a:pt x="1670" y="368"/>
                      </a:lnTo>
                      <a:lnTo>
                        <a:pt x="1662" y="373"/>
                      </a:lnTo>
                      <a:lnTo>
                        <a:pt x="1654" y="379"/>
                      </a:lnTo>
                      <a:lnTo>
                        <a:pt x="1648" y="383"/>
                      </a:lnTo>
                      <a:lnTo>
                        <a:pt x="1645" y="389"/>
                      </a:lnTo>
                      <a:lnTo>
                        <a:pt x="1647" y="396"/>
                      </a:lnTo>
                      <a:lnTo>
                        <a:pt x="1651" y="414"/>
                      </a:lnTo>
                      <a:lnTo>
                        <a:pt x="1654" y="436"/>
                      </a:lnTo>
                      <a:lnTo>
                        <a:pt x="1657" y="456"/>
                      </a:lnTo>
                      <a:lnTo>
                        <a:pt x="1667" y="466"/>
                      </a:lnTo>
                      <a:lnTo>
                        <a:pt x="1673" y="466"/>
                      </a:lnTo>
                      <a:lnTo>
                        <a:pt x="1680" y="463"/>
                      </a:lnTo>
                      <a:lnTo>
                        <a:pt x="1688" y="457"/>
                      </a:lnTo>
                      <a:lnTo>
                        <a:pt x="1697" y="451"/>
                      </a:lnTo>
                      <a:lnTo>
                        <a:pt x="1704" y="442"/>
                      </a:lnTo>
                      <a:lnTo>
                        <a:pt x="1710" y="435"/>
                      </a:lnTo>
                      <a:lnTo>
                        <a:pt x="1718" y="429"/>
                      </a:lnTo>
                      <a:lnTo>
                        <a:pt x="1722" y="423"/>
                      </a:lnTo>
                      <a:lnTo>
                        <a:pt x="1730" y="412"/>
                      </a:lnTo>
                      <a:lnTo>
                        <a:pt x="1738" y="397"/>
                      </a:lnTo>
                      <a:lnTo>
                        <a:pt x="1741" y="383"/>
                      </a:lnTo>
                      <a:lnTo>
                        <a:pt x="1742" y="371"/>
                      </a:lnTo>
                      <a:lnTo>
                        <a:pt x="1745" y="362"/>
                      </a:lnTo>
                      <a:lnTo>
                        <a:pt x="1751" y="353"/>
                      </a:lnTo>
                      <a:lnTo>
                        <a:pt x="1765" y="346"/>
                      </a:lnTo>
                      <a:lnTo>
                        <a:pt x="1783" y="340"/>
                      </a:lnTo>
                      <a:lnTo>
                        <a:pt x="1795" y="337"/>
                      </a:lnTo>
                      <a:lnTo>
                        <a:pt x="1809" y="334"/>
                      </a:lnTo>
                      <a:lnTo>
                        <a:pt x="1824" y="329"/>
                      </a:lnTo>
                      <a:lnTo>
                        <a:pt x="1837" y="325"/>
                      </a:lnTo>
                      <a:lnTo>
                        <a:pt x="1852" y="320"/>
                      </a:lnTo>
                      <a:lnTo>
                        <a:pt x="1865" y="316"/>
                      </a:lnTo>
                      <a:lnTo>
                        <a:pt x="1874" y="309"/>
                      </a:lnTo>
                      <a:lnTo>
                        <a:pt x="1878" y="303"/>
                      </a:lnTo>
                      <a:lnTo>
                        <a:pt x="1886" y="291"/>
                      </a:lnTo>
                      <a:lnTo>
                        <a:pt x="1896" y="278"/>
                      </a:lnTo>
                      <a:lnTo>
                        <a:pt x="1905" y="269"/>
                      </a:lnTo>
                      <a:lnTo>
                        <a:pt x="1910" y="264"/>
                      </a:lnTo>
                      <a:lnTo>
                        <a:pt x="1958" y="300"/>
                      </a:lnTo>
                      <a:lnTo>
                        <a:pt x="1964" y="282"/>
                      </a:lnTo>
                      <a:lnTo>
                        <a:pt x="1973" y="260"/>
                      </a:lnTo>
                      <a:lnTo>
                        <a:pt x="1981" y="237"/>
                      </a:lnTo>
                      <a:lnTo>
                        <a:pt x="1978" y="225"/>
                      </a:lnTo>
                      <a:lnTo>
                        <a:pt x="1972" y="222"/>
                      </a:lnTo>
                      <a:lnTo>
                        <a:pt x="1966" y="222"/>
                      </a:lnTo>
                      <a:lnTo>
                        <a:pt x="1957" y="222"/>
                      </a:lnTo>
                      <a:lnTo>
                        <a:pt x="1949" y="223"/>
                      </a:lnTo>
                      <a:lnTo>
                        <a:pt x="1942" y="225"/>
                      </a:lnTo>
                      <a:lnTo>
                        <a:pt x="1936" y="226"/>
                      </a:lnTo>
                      <a:lnTo>
                        <a:pt x="1931" y="228"/>
                      </a:lnTo>
                      <a:lnTo>
                        <a:pt x="1930" y="228"/>
                      </a:lnTo>
                      <a:lnTo>
                        <a:pt x="1925" y="228"/>
                      </a:lnTo>
                      <a:lnTo>
                        <a:pt x="1914" y="225"/>
                      </a:lnTo>
                      <a:lnTo>
                        <a:pt x="1901" y="219"/>
                      </a:lnTo>
                      <a:lnTo>
                        <a:pt x="1890" y="208"/>
                      </a:lnTo>
                      <a:lnTo>
                        <a:pt x="1884" y="202"/>
                      </a:lnTo>
                      <a:lnTo>
                        <a:pt x="1875" y="196"/>
                      </a:lnTo>
                      <a:lnTo>
                        <a:pt x="1865" y="190"/>
                      </a:lnTo>
                      <a:lnTo>
                        <a:pt x="1852" y="184"/>
                      </a:lnTo>
                      <a:lnTo>
                        <a:pt x="1842" y="181"/>
                      </a:lnTo>
                      <a:lnTo>
                        <a:pt x="1831" y="180"/>
                      </a:lnTo>
                      <a:lnTo>
                        <a:pt x="1822" y="180"/>
                      </a:lnTo>
                      <a:lnTo>
                        <a:pt x="1818" y="184"/>
                      </a:lnTo>
                      <a:lnTo>
                        <a:pt x="1813" y="190"/>
                      </a:lnTo>
                      <a:lnTo>
                        <a:pt x="1804" y="193"/>
                      </a:lnTo>
                      <a:lnTo>
                        <a:pt x="1792" y="196"/>
                      </a:lnTo>
                      <a:lnTo>
                        <a:pt x="1778" y="196"/>
                      </a:lnTo>
                      <a:lnTo>
                        <a:pt x="1762" y="196"/>
                      </a:lnTo>
                      <a:lnTo>
                        <a:pt x="1745" y="193"/>
                      </a:lnTo>
                      <a:lnTo>
                        <a:pt x="1727" y="190"/>
                      </a:lnTo>
                      <a:lnTo>
                        <a:pt x="1710" y="184"/>
                      </a:lnTo>
                      <a:lnTo>
                        <a:pt x="1692" y="177"/>
                      </a:lnTo>
                      <a:lnTo>
                        <a:pt x="1673" y="168"/>
                      </a:lnTo>
                      <a:lnTo>
                        <a:pt x="1651" y="157"/>
                      </a:lnTo>
                      <a:lnTo>
                        <a:pt x="1632" y="148"/>
                      </a:lnTo>
                      <a:lnTo>
                        <a:pt x="1611" y="137"/>
                      </a:lnTo>
                      <a:lnTo>
                        <a:pt x="1594" y="130"/>
                      </a:lnTo>
                      <a:lnTo>
                        <a:pt x="1577" y="125"/>
                      </a:lnTo>
                      <a:lnTo>
                        <a:pt x="1567" y="125"/>
                      </a:lnTo>
                      <a:lnTo>
                        <a:pt x="1559" y="125"/>
                      </a:lnTo>
                      <a:lnTo>
                        <a:pt x="1555" y="121"/>
                      </a:lnTo>
                      <a:lnTo>
                        <a:pt x="1550" y="116"/>
                      </a:lnTo>
                      <a:lnTo>
                        <a:pt x="1546" y="110"/>
                      </a:lnTo>
                      <a:lnTo>
                        <a:pt x="1541" y="106"/>
                      </a:lnTo>
                      <a:lnTo>
                        <a:pt x="1535" y="103"/>
                      </a:lnTo>
                      <a:lnTo>
                        <a:pt x="1528" y="101"/>
                      </a:lnTo>
                      <a:lnTo>
                        <a:pt x="1515" y="106"/>
                      </a:lnTo>
                      <a:lnTo>
                        <a:pt x="1502" y="112"/>
                      </a:lnTo>
                      <a:lnTo>
                        <a:pt x="1487" y="119"/>
                      </a:lnTo>
                      <a:lnTo>
                        <a:pt x="1472" y="127"/>
                      </a:lnTo>
                      <a:lnTo>
                        <a:pt x="1455" y="133"/>
                      </a:lnTo>
                      <a:lnTo>
                        <a:pt x="1438" y="137"/>
                      </a:lnTo>
                      <a:lnTo>
                        <a:pt x="1420" y="139"/>
                      </a:lnTo>
                      <a:lnTo>
                        <a:pt x="1401" y="137"/>
                      </a:lnTo>
                      <a:lnTo>
                        <a:pt x="1381" y="133"/>
                      </a:lnTo>
                      <a:lnTo>
                        <a:pt x="1360" y="125"/>
                      </a:lnTo>
                      <a:lnTo>
                        <a:pt x="1339" y="118"/>
                      </a:lnTo>
                      <a:lnTo>
                        <a:pt x="1316" y="112"/>
                      </a:lnTo>
                      <a:lnTo>
                        <a:pt x="1296" y="106"/>
                      </a:lnTo>
                      <a:lnTo>
                        <a:pt x="1275" y="101"/>
                      </a:lnTo>
                      <a:lnTo>
                        <a:pt x="1257" y="98"/>
                      </a:lnTo>
                      <a:lnTo>
                        <a:pt x="1242" y="98"/>
                      </a:lnTo>
                      <a:lnTo>
                        <a:pt x="1228" y="101"/>
                      </a:lnTo>
                      <a:lnTo>
                        <a:pt x="1216" y="106"/>
                      </a:lnTo>
                      <a:lnTo>
                        <a:pt x="1201" y="109"/>
                      </a:lnTo>
                      <a:lnTo>
                        <a:pt x="1187" y="112"/>
                      </a:lnTo>
                      <a:lnTo>
                        <a:pt x="1172" y="113"/>
                      </a:lnTo>
                      <a:lnTo>
                        <a:pt x="1159" y="116"/>
                      </a:lnTo>
                      <a:lnTo>
                        <a:pt x="1148" y="116"/>
                      </a:lnTo>
                      <a:lnTo>
                        <a:pt x="1142" y="118"/>
                      </a:lnTo>
                      <a:lnTo>
                        <a:pt x="1139" y="118"/>
                      </a:lnTo>
                      <a:lnTo>
                        <a:pt x="1151" y="104"/>
                      </a:lnTo>
                      <a:lnTo>
                        <a:pt x="1154" y="89"/>
                      </a:lnTo>
                      <a:lnTo>
                        <a:pt x="1153" y="78"/>
                      </a:lnTo>
                      <a:lnTo>
                        <a:pt x="1151" y="74"/>
                      </a:lnTo>
                      <a:lnTo>
                        <a:pt x="1186" y="62"/>
                      </a:lnTo>
                      <a:lnTo>
                        <a:pt x="1171" y="51"/>
                      </a:lnTo>
                      <a:lnTo>
                        <a:pt x="1157" y="41"/>
                      </a:lnTo>
                      <a:lnTo>
                        <a:pt x="1144" y="29"/>
                      </a:lnTo>
                      <a:lnTo>
                        <a:pt x="1132" y="18"/>
                      </a:lnTo>
                      <a:lnTo>
                        <a:pt x="1119" y="9"/>
                      </a:lnTo>
                      <a:lnTo>
                        <a:pt x="1109" y="3"/>
                      </a:lnTo>
                      <a:lnTo>
                        <a:pt x="1098" y="0"/>
                      </a:lnTo>
                      <a:lnTo>
                        <a:pt x="1091" y="2"/>
                      </a:lnTo>
                      <a:lnTo>
                        <a:pt x="1083" y="6"/>
                      </a:lnTo>
                      <a:lnTo>
                        <a:pt x="1076" y="12"/>
                      </a:lnTo>
                      <a:lnTo>
                        <a:pt x="1068" y="18"/>
                      </a:lnTo>
                      <a:lnTo>
                        <a:pt x="1062" y="26"/>
                      </a:lnTo>
                      <a:lnTo>
                        <a:pt x="1054" y="32"/>
                      </a:lnTo>
                      <a:lnTo>
                        <a:pt x="1048" y="36"/>
                      </a:lnTo>
                      <a:lnTo>
                        <a:pt x="1041" y="42"/>
                      </a:lnTo>
                      <a:lnTo>
                        <a:pt x="1035" y="45"/>
                      </a:lnTo>
                      <a:lnTo>
                        <a:pt x="1026" y="44"/>
                      </a:lnTo>
                      <a:lnTo>
                        <a:pt x="1017" y="36"/>
                      </a:lnTo>
                      <a:lnTo>
                        <a:pt x="1006" y="30"/>
                      </a:lnTo>
                      <a:lnTo>
                        <a:pt x="991" y="33"/>
                      </a:lnTo>
                      <a:lnTo>
                        <a:pt x="982" y="39"/>
                      </a:lnTo>
                      <a:lnTo>
                        <a:pt x="971" y="47"/>
                      </a:lnTo>
                      <a:lnTo>
                        <a:pt x="961" y="53"/>
                      </a:lnTo>
                      <a:lnTo>
                        <a:pt x="950" y="60"/>
                      </a:lnTo>
                      <a:lnTo>
                        <a:pt x="938" y="66"/>
                      </a:lnTo>
                      <a:lnTo>
                        <a:pt x="928" y="71"/>
                      </a:lnTo>
                      <a:lnTo>
                        <a:pt x="915" y="75"/>
                      </a:lnTo>
                      <a:lnTo>
                        <a:pt x="903" y="77"/>
                      </a:lnTo>
                      <a:lnTo>
                        <a:pt x="893" y="80"/>
                      </a:lnTo>
                      <a:lnTo>
                        <a:pt x="884" y="88"/>
                      </a:lnTo>
                      <a:lnTo>
                        <a:pt x="876" y="97"/>
                      </a:lnTo>
                      <a:lnTo>
                        <a:pt x="869" y="106"/>
                      </a:lnTo>
                      <a:lnTo>
                        <a:pt x="863" y="118"/>
                      </a:lnTo>
                      <a:lnTo>
                        <a:pt x="855" y="128"/>
                      </a:lnTo>
                      <a:lnTo>
                        <a:pt x="849" y="137"/>
                      </a:lnTo>
                      <a:lnTo>
                        <a:pt x="840" y="145"/>
                      </a:lnTo>
                      <a:lnTo>
                        <a:pt x="835" y="146"/>
                      </a:lnTo>
                      <a:lnTo>
                        <a:pt x="828" y="148"/>
                      </a:lnTo>
                      <a:lnTo>
                        <a:pt x="820" y="146"/>
                      </a:lnTo>
                      <a:lnTo>
                        <a:pt x="813" y="145"/>
                      </a:lnTo>
                      <a:lnTo>
                        <a:pt x="804" y="143"/>
                      </a:lnTo>
                      <a:lnTo>
                        <a:pt x="795" y="140"/>
                      </a:lnTo>
                      <a:lnTo>
                        <a:pt x="785" y="139"/>
                      </a:lnTo>
                      <a:lnTo>
                        <a:pt x="776" y="137"/>
                      </a:lnTo>
                      <a:lnTo>
                        <a:pt x="766" y="136"/>
                      </a:lnTo>
                      <a:lnTo>
                        <a:pt x="754" y="137"/>
                      </a:lnTo>
                      <a:lnTo>
                        <a:pt x="740" y="139"/>
                      </a:lnTo>
                      <a:lnTo>
                        <a:pt x="726" y="142"/>
                      </a:lnTo>
                      <a:lnTo>
                        <a:pt x="714" y="148"/>
                      </a:lnTo>
                      <a:lnTo>
                        <a:pt x="704" y="154"/>
                      </a:lnTo>
                      <a:lnTo>
                        <a:pt x="696" y="160"/>
                      </a:lnTo>
                      <a:lnTo>
                        <a:pt x="693" y="169"/>
                      </a:lnTo>
                      <a:lnTo>
                        <a:pt x="690" y="177"/>
                      </a:lnTo>
                      <a:lnTo>
                        <a:pt x="683" y="184"/>
                      </a:lnTo>
                      <a:lnTo>
                        <a:pt x="672" y="190"/>
                      </a:lnTo>
                      <a:lnTo>
                        <a:pt x="662" y="193"/>
                      </a:lnTo>
                      <a:lnTo>
                        <a:pt x="649" y="198"/>
                      </a:lnTo>
                      <a:lnTo>
                        <a:pt x="637" y="199"/>
                      </a:lnTo>
                      <a:lnTo>
                        <a:pt x="627" y="201"/>
                      </a:lnTo>
                      <a:lnTo>
                        <a:pt x="618" y="201"/>
                      </a:lnTo>
                      <a:lnTo>
                        <a:pt x="607" y="201"/>
                      </a:lnTo>
                      <a:lnTo>
                        <a:pt x="595" y="199"/>
                      </a:lnTo>
                      <a:lnTo>
                        <a:pt x="580" y="198"/>
                      </a:lnTo>
                      <a:lnTo>
                        <a:pt x="565" y="196"/>
                      </a:lnTo>
                      <a:lnTo>
                        <a:pt x="550" y="196"/>
                      </a:lnTo>
                      <a:lnTo>
                        <a:pt x="538" y="198"/>
                      </a:lnTo>
                      <a:lnTo>
                        <a:pt x="527" y="201"/>
                      </a:lnTo>
                      <a:lnTo>
                        <a:pt x="521" y="205"/>
                      </a:lnTo>
                      <a:lnTo>
                        <a:pt x="512" y="219"/>
                      </a:lnTo>
                      <a:lnTo>
                        <a:pt x="501" y="232"/>
                      </a:lnTo>
                      <a:lnTo>
                        <a:pt x="491" y="245"/>
                      </a:lnTo>
                      <a:lnTo>
                        <a:pt x="486" y="249"/>
                      </a:lnTo>
                      <a:lnTo>
                        <a:pt x="442" y="245"/>
                      </a:lnTo>
                      <a:lnTo>
                        <a:pt x="439" y="246"/>
                      </a:lnTo>
                      <a:lnTo>
                        <a:pt x="433" y="248"/>
                      </a:lnTo>
                      <a:lnTo>
                        <a:pt x="426" y="251"/>
                      </a:lnTo>
                      <a:lnTo>
                        <a:pt x="417" y="252"/>
                      </a:lnTo>
                      <a:lnTo>
                        <a:pt x="409" y="254"/>
                      </a:lnTo>
                      <a:lnTo>
                        <a:pt x="403" y="255"/>
                      </a:lnTo>
                      <a:lnTo>
                        <a:pt x="402" y="254"/>
                      </a:lnTo>
                      <a:lnTo>
                        <a:pt x="406" y="249"/>
                      </a:lnTo>
                      <a:lnTo>
                        <a:pt x="414" y="234"/>
                      </a:lnTo>
                      <a:lnTo>
                        <a:pt x="412" y="216"/>
                      </a:lnTo>
                      <a:lnTo>
                        <a:pt x="402" y="201"/>
                      </a:lnTo>
                      <a:lnTo>
                        <a:pt x="389" y="196"/>
                      </a:lnTo>
                      <a:lnTo>
                        <a:pt x="382" y="198"/>
                      </a:lnTo>
                      <a:lnTo>
                        <a:pt x="371" y="199"/>
                      </a:lnTo>
                      <a:lnTo>
                        <a:pt x="361" y="201"/>
                      </a:lnTo>
                      <a:lnTo>
                        <a:pt x="349" y="201"/>
                      </a:lnTo>
                      <a:lnTo>
                        <a:pt x="337" y="199"/>
                      </a:lnTo>
                      <a:lnTo>
                        <a:pt x="327" y="198"/>
                      </a:lnTo>
                      <a:lnTo>
                        <a:pt x="321" y="193"/>
                      </a:lnTo>
                      <a:lnTo>
                        <a:pt x="318" y="189"/>
                      </a:lnTo>
                      <a:lnTo>
                        <a:pt x="315" y="172"/>
                      </a:lnTo>
                      <a:lnTo>
                        <a:pt x="308" y="149"/>
                      </a:lnTo>
                      <a:lnTo>
                        <a:pt x="296" y="130"/>
                      </a:lnTo>
                      <a:lnTo>
                        <a:pt x="282" y="118"/>
                      </a:lnTo>
                      <a:lnTo>
                        <a:pt x="273" y="116"/>
                      </a:lnTo>
                      <a:lnTo>
                        <a:pt x="263" y="119"/>
                      </a:lnTo>
                      <a:lnTo>
                        <a:pt x="250" y="125"/>
                      </a:lnTo>
                      <a:lnTo>
                        <a:pt x="237" y="133"/>
                      </a:lnTo>
                      <a:lnTo>
                        <a:pt x="223" y="142"/>
                      </a:lnTo>
                      <a:lnTo>
                        <a:pt x="208" y="152"/>
                      </a:lnTo>
                      <a:lnTo>
                        <a:pt x="194" y="163"/>
                      </a:lnTo>
                      <a:lnTo>
                        <a:pt x="182" y="172"/>
                      </a:lnTo>
                      <a:lnTo>
                        <a:pt x="169" y="183"/>
                      </a:lnTo>
                      <a:lnTo>
                        <a:pt x="155" y="195"/>
                      </a:lnTo>
                      <a:lnTo>
                        <a:pt x="140" y="208"/>
                      </a:lnTo>
                      <a:lnTo>
                        <a:pt x="125" y="222"/>
                      </a:lnTo>
                      <a:lnTo>
                        <a:pt x="110" y="236"/>
                      </a:lnTo>
                      <a:lnTo>
                        <a:pt x="96" y="246"/>
                      </a:lnTo>
                      <a:lnTo>
                        <a:pt x="84" y="257"/>
                      </a:lnTo>
                      <a:lnTo>
                        <a:pt x="75" y="264"/>
                      </a:lnTo>
                      <a:lnTo>
                        <a:pt x="63" y="278"/>
                      </a:lnTo>
                      <a:lnTo>
                        <a:pt x="55" y="291"/>
                      </a:lnTo>
                      <a:lnTo>
                        <a:pt x="54" y="308"/>
                      </a:lnTo>
                      <a:lnTo>
                        <a:pt x="60" y="325"/>
                      </a:lnTo>
                      <a:lnTo>
                        <a:pt x="69" y="344"/>
                      </a:lnTo>
                      <a:lnTo>
                        <a:pt x="78" y="365"/>
                      </a:lnTo>
                      <a:lnTo>
                        <a:pt x="87" y="382"/>
                      </a:lnTo>
                      <a:lnTo>
                        <a:pt x="99" y="388"/>
                      </a:lnTo>
                      <a:lnTo>
                        <a:pt x="107" y="388"/>
                      </a:lnTo>
                      <a:lnTo>
                        <a:pt x="116" y="386"/>
                      </a:lnTo>
                      <a:lnTo>
                        <a:pt x="125" y="385"/>
                      </a:lnTo>
                      <a:lnTo>
                        <a:pt x="134" y="382"/>
                      </a:lnTo>
                      <a:lnTo>
                        <a:pt x="143" y="377"/>
                      </a:lnTo>
                      <a:lnTo>
                        <a:pt x="152" y="374"/>
                      </a:lnTo>
                      <a:lnTo>
                        <a:pt x="158" y="370"/>
                      </a:lnTo>
                      <a:lnTo>
                        <a:pt x="163" y="364"/>
                      </a:lnTo>
                      <a:lnTo>
                        <a:pt x="170" y="352"/>
                      </a:lnTo>
                      <a:lnTo>
                        <a:pt x="181" y="340"/>
                      </a:lnTo>
                      <a:lnTo>
                        <a:pt x="187" y="328"/>
                      </a:lnTo>
                      <a:lnTo>
                        <a:pt x="187" y="313"/>
                      </a:lnTo>
                      <a:lnTo>
                        <a:pt x="181" y="296"/>
                      </a:lnTo>
                      <a:lnTo>
                        <a:pt x="178" y="281"/>
                      </a:lnTo>
                      <a:lnTo>
                        <a:pt x="179" y="269"/>
                      </a:lnTo>
                      <a:lnTo>
                        <a:pt x="187" y="257"/>
                      </a:lnTo>
                      <a:lnTo>
                        <a:pt x="194" y="251"/>
                      </a:lnTo>
                      <a:lnTo>
                        <a:pt x="202" y="245"/>
                      </a:lnTo>
                      <a:lnTo>
                        <a:pt x="211" y="239"/>
                      </a:lnTo>
                      <a:lnTo>
                        <a:pt x="219" y="232"/>
                      </a:lnTo>
                      <a:lnTo>
                        <a:pt x="226" y="228"/>
                      </a:lnTo>
                      <a:lnTo>
                        <a:pt x="232" y="223"/>
                      </a:lnTo>
                      <a:lnTo>
                        <a:pt x="237" y="222"/>
                      </a:lnTo>
                      <a:lnTo>
                        <a:pt x="238" y="220"/>
                      </a:lnTo>
                      <a:lnTo>
                        <a:pt x="240" y="220"/>
                      </a:lnTo>
                      <a:lnTo>
                        <a:pt x="244" y="222"/>
                      </a:lnTo>
                      <a:lnTo>
                        <a:pt x="249" y="228"/>
                      </a:lnTo>
                      <a:lnTo>
                        <a:pt x="250" y="237"/>
                      </a:lnTo>
                      <a:lnTo>
                        <a:pt x="249" y="245"/>
                      </a:lnTo>
                      <a:lnTo>
                        <a:pt x="243" y="248"/>
                      </a:lnTo>
                      <a:lnTo>
                        <a:pt x="234" y="252"/>
                      </a:lnTo>
                      <a:lnTo>
                        <a:pt x="223" y="260"/>
                      </a:lnTo>
                      <a:lnTo>
                        <a:pt x="214" y="275"/>
                      </a:lnTo>
                      <a:lnTo>
                        <a:pt x="214" y="293"/>
                      </a:lnTo>
                      <a:lnTo>
                        <a:pt x="222" y="308"/>
                      </a:lnTo>
                      <a:lnTo>
                        <a:pt x="238" y="313"/>
                      </a:lnTo>
                      <a:lnTo>
                        <a:pt x="250" y="309"/>
                      </a:lnTo>
                      <a:lnTo>
                        <a:pt x="263" y="305"/>
                      </a:lnTo>
                      <a:lnTo>
                        <a:pt x="275" y="300"/>
                      </a:lnTo>
                      <a:lnTo>
                        <a:pt x="287" y="296"/>
                      </a:lnTo>
                      <a:lnTo>
                        <a:pt x="299" y="290"/>
                      </a:lnTo>
                      <a:lnTo>
                        <a:pt x="309" y="287"/>
                      </a:lnTo>
                      <a:lnTo>
                        <a:pt x="317" y="284"/>
                      </a:lnTo>
                      <a:lnTo>
                        <a:pt x="323" y="284"/>
                      </a:lnTo>
                      <a:lnTo>
                        <a:pt x="332" y="291"/>
                      </a:lnTo>
                      <a:lnTo>
                        <a:pt x="341" y="305"/>
                      </a:lnTo>
                      <a:lnTo>
                        <a:pt x="349" y="319"/>
                      </a:lnTo>
                      <a:lnTo>
                        <a:pt x="355" y="328"/>
                      </a:lnTo>
                      <a:lnTo>
                        <a:pt x="346" y="329"/>
                      </a:lnTo>
                      <a:lnTo>
                        <a:pt x="337" y="331"/>
                      </a:lnTo>
                      <a:lnTo>
                        <a:pt x="329" y="335"/>
                      </a:lnTo>
                      <a:lnTo>
                        <a:pt x="321" y="340"/>
                      </a:lnTo>
                      <a:lnTo>
                        <a:pt x="315" y="344"/>
                      </a:lnTo>
                      <a:lnTo>
                        <a:pt x="311" y="347"/>
                      </a:lnTo>
                      <a:lnTo>
                        <a:pt x="308" y="350"/>
                      </a:lnTo>
                      <a:lnTo>
                        <a:pt x="306" y="352"/>
                      </a:lnTo>
                      <a:lnTo>
                        <a:pt x="303" y="352"/>
                      </a:lnTo>
                      <a:lnTo>
                        <a:pt x="296" y="350"/>
                      </a:lnTo>
                      <a:lnTo>
                        <a:pt x="284" y="349"/>
                      </a:lnTo>
                      <a:lnTo>
                        <a:pt x="272" y="347"/>
                      </a:lnTo>
                      <a:lnTo>
                        <a:pt x="258" y="347"/>
                      </a:lnTo>
                      <a:lnTo>
                        <a:pt x="246" y="349"/>
                      </a:lnTo>
                      <a:lnTo>
                        <a:pt x="238" y="352"/>
                      </a:lnTo>
                      <a:lnTo>
                        <a:pt x="235" y="356"/>
                      </a:lnTo>
                      <a:lnTo>
                        <a:pt x="232" y="373"/>
                      </a:lnTo>
                      <a:lnTo>
                        <a:pt x="226" y="393"/>
                      </a:lnTo>
                      <a:lnTo>
                        <a:pt x="213" y="409"/>
                      </a:lnTo>
                      <a:lnTo>
                        <a:pt x="194" y="412"/>
                      </a:lnTo>
                      <a:lnTo>
                        <a:pt x="182" y="409"/>
                      </a:lnTo>
                      <a:lnTo>
                        <a:pt x="166" y="408"/>
                      </a:lnTo>
                      <a:lnTo>
                        <a:pt x="148" y="409"/>
                      </a:lnTo>
                      <a:lnTo>
                        <a:pt x="128" y="411"/>
                      </a:lnTo>
                      <a:lnTo>
                        <a:pt x="110" y="414"/>
                      </a:lnTo>
                      <a:lnTo>
                        <a:pt x="92" y="420"/>
                      </a:lnTo>
                      <a:lnTo>
                        <a:pt x="78" y="429"/>
                      </a:lnTo>
                      <a:lnTo>
                        <a:pt x="68" y="439"/>
                      </a:lnTo>
                      <a:lnTo>
                        <a:pt x="60" y="450"/>
                      </a:lnTo>
                      <a:lnTo>
                        <a:pt x="52" y="459"/>
                      </a:lnTo>
                      <a:lnTo>
                        <a:pt x="46" y="466"/>
                      </a:lnTo>
                      <a:lnTo>
                        <a:pt x="39" y="474"/>
                      </a:lnTo>
                      <a:lnTo>
                        <a:pt x="33" y="480"/>
                      </a:lnTo>
                      <a:lnTo>
                        <a:pt x="27" y="486"/>
                      </a:lnTo>
                      <a:lnTo>
                        <a:pt x="21" y="492"/>
                      </a:lnTo>
                      <a:lnTo>
                        <a:pt x="16" y="500"/>
                      </a:lnTo>
                      <a:lnTo>
                        <a:pt x="12" y="507"/>
                      </a:lnTo>
                      <a:lnTo>
                        <a:pt x="7" y="513"/>
                      </a:lnTo>
                      <a:lnTo>
                        <a:pt x="3" y="521"/>
                      </a:lnTo>
                      <a:lnTo>
                        <a:pt x="0" y="528"/>
                      </a:lnTo>
                      <a:lnTo>
                        <a:pt x="1464" y="52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2"/>
                <p:cNvSpPr/>
                <p:nvPr/>
              </p:nvSpPr>
              <p:spPr>
                <a:xfrm>
                  <a:off x="608400" y="3795480"/>
                  <a:ext cx="2230920" cy="698400"/>
                </a:xfrm>
                <a:custGeom>
                  <a:avLst/>
                  <a:gdLst>
                    <a:gd name="textAreaLeft" fmla="*/ 0 w 2230920"/>
                    <a:gd name="textAreaRight" fmla="*/ 2231280 w 223092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564" h="527">
                      <a:moveTo>
                        <a:pt x="100" y="0"/>
                      </a:moveTo>
                      <a:lnTo>
                        <a:pt x="95" y="9"/>
                      </a:lnTo>
                      <a:lnTo>
                        <a:pt x="90" y="17"/>
                      </a:lnTo>
                      <a:lnTo>
                        <a:pt x="87" y="23"/>
                      </a:lnTo>
                      <a:lnTo>
                        <a:pt x="84" y="26"/>
                      </a:lnTo>
                      <a:lnTo>
                        <a:pt x="77" y="31"/>
                      </a:lnTo>
                      <a:lnTo>
                        <a:pt x="68" y="31"/>
                      </a:lnTo>
                      <a:lnTo>
                        <a:pt x="57" y="31"/>
                      </a:lnTo>
                      <a:lnTo>
                        <a:pt x="47" y="28"/>
                      </a:lnTo>
                      <a:lnTo>
                        <a:pt x="36" y="25"/>
                      </a:lnTo>
                      <a:lnTo>
                        <a:pt x="27" y="22"/>
                      </a:lnTo>
                      <a:lnTo>
                        <a:pt x="21" y="20"/>
                      </a:lnTo>
                      <a:lnTo>
                        <a:pt x="19" y="19"/>
                      </a:lnTo>
                      <a:lnTo>
                        <a:pt x="16" y="22"/>
                      </a:lnTo>
                      <a:lnTo>
                        <a:pt x="10" y="31"/>
                      </a:lnTo>
                      <a:lnTo>
                        <a:pt x="3" y="43"/>
                      </a:lnTo>
                      <a:lnTo>
                        <a:pt x="0" y="55"/>
                      </a:lnTo>
                      <a:lnTo>
                        <a:pt x="3" y="70"/>
                      </a:lnTo>
                      <a:lnTo>
                        <a:pt x="9" y="89"/>
                      </a:lnTo>
                      <a:lnTo>
                        <a:pt x="16" y="108"/>
                      </a:lnTo>
                      <a:lnTo>
                        <a:pt x="24" y="118"/>
                      </a:lnTo>
                      <a:lnTo>
                        <a:pt x="28" y="121"/>
                      </a:lnTo>
                      <a:lnTo>
                        <a:pt x="33" y="124"/>
                      </a:lnTo>
                      <a:lnTo>
                        <a:pt x="41" y="126"/>
                      </a:lnTo>
                      <a:lnTo>
                        <a:pt x="48" y="127"/>
                      </a:lnTo>
                      <a:lnTo>
                        <a:pt x="57" y="126"/>
                      </a:lnTo>
                      <a:lnTo>
                        <a:pt x="65" y="124"/>
                      </a:lnTo>
                      <a:lnTo>
                        <a:pt x="72" y="120"/>
                      </a:lnTo>
                      <a:lnTo>
                        <a:pt x="80" y="114"/>
                      </a:lnTo>
                      <a:lnTo>
                        <a:pt x="86" y="105"/>
                      </a:lnTo>
                      <a:lnTo>
                        <a:pt x="95" y="94"/>
                      </a:lnTo>
                      <a:lnTo>
                        <a:pt x="104" y="80"/>
                      </a:lnTo>
                      <a:lnTo>
                        <a:pt x="115" y="67"/>
                      </a:lnTo>
                      <a:lnTo>
                        <a:pt x="125" y="55"/>
                      </a:lnTo>
                      <a:lnTo>
                        <a:pt x="136" y="44"/>
                      </a:lnTo>
                      <a:lnTo>
                        <a:pt x="146" y="35"/>
                      </a:lnTo>
                      <a:lnTo>
                        <a:pt x="155" y="31"/>
                      </a:lnTo>
                      <a:lnTo>
                        <a:pt x="165" y="28"/>
                      </a:lnTo>
                      <a:lnTo>
                        <a:pt x="174" y="28"/>
                      </a:lnTo>
                      <a:lnTo>
                        <a:pt x="183" y="26"/>
                      </a:lnTo>
                      <a:lnTo>
                        <a:pt x="192" y="28"/>
                      </a:lnTo>
                      <a:lnTo>
                        <a:pt x="201" y="29"/>
                      </a:lnTo>
                      <a:lnTo>
                        <a:pt x="210" y="32"/>
                      </a:lnTo>
                      <a:lnTo>
                        <a:pt x="217" y="37"/>
                      </a:lnTo>
                      <a:lnTo>
                        <a:pt x="223" y="43"/>
                      </a:lnTo>
                      <a:lnTo>
                        <a:pt x="230" y="50"/>
                      </a:lnTo>
                      <a:lnTo>
                        <a:pt x="237" y="59"/>
                      </a:lnTo>
                      <a:lnTo>
                        <a:pt x="245" y="70"/>
                      </a:lnTo>
                      <a:lnTo>
                        <a:pt x="252" y="80"/>
                      </a:lnTo>
                      <a:lnTo>
                        <a:pt x="260" y="89"/>
                      </a:lnTo>
                      <a:lnTo>
                        <a:pt x="266" y="99"/>
                      </a:lnTo>
                      <a:lnTo>
                        <a:pt x="269" y="105"/>
                      </a:lnTo>
                      <a:lnTo>
                        <a:pt x="270" y="106"/>
                      </a:lnTo>
                      <a:lnTo>
                        <a:pt x="279" y="79"/>
                      </a:lnTo>
                      <a:lnTo>
                        <a:pt x="311" y="70"/>
                      </a:lnTo>
                      <a:lnTo>
                        <a:pt x="323" y="118"/>
                      </a:lnTo>
                      <a:lnTo>
                        <a:pt x="325" y="115"/>
                      </a:lnTo>
                      <a:lnTo>
                        <a:pt x="331" y="108"/>
                      </a:lnTo>
                      <a:lnTo>
                        <a:pt x="340" y="96"/>
                      </a:lnTo>
                      <a:lnTo>
                        <a:pt x="350" y="82"/>
                      </a:lnTo>
                      <a:lnTo>
                        <a:pt x="364" y="64"/>
                      </a:lnTo>
                      <a:lnTo>
                        <a:pt x="376" y="43"/>
                      </a:lnTo>
                      <a:lnTo>
                        <a:pt x="385" y="26"/>
                      </a:lnTo>
                      <a:lnTo>
                        <a:pt x="390" y="19"/>
                      </a:lnTo>
                      <a:lnTo>
                        <a:pt x="393" y="20"/>
                      </a:lnTo>
                      <a:lnTo>
                        <a:pt x="400" y="22"/>
                      </a:lnTo>
                      <a:lnTo>
                        <a:pt x="409" y="26"/>
                      </a:lnTo>
                      <a:lnTo>
                        <a:pt x="418" y="31"/>
                      </a:lnTo>
                      <a:lnTo>
                        <a:pt x="424" y="34"/>
                      </a:lnTo>
                      <a:lnTo>
                        <a:pt x="431" y="35"/>
                      </a:lnTo>
                      <a:lnTo>
                        <a:pt x="440" y="38"/>
                      </a:lnTo>
                      <a:lnTo>
                        <a:pt x="447" y="40"/>
                      </a:lnTo>
                      <a:lnTo>
                        <a:pt x="455" y="41"/>
                      </a:lnTo>
                      <a:lnTo>
                        <a:pt x="461" y="41"/>
                      </a:lnTo>
                      <a:lnTo>
                        <a:pt x="465" y="43"/>
                      </a:lnTo>
                      <a:lnTo>
                        <a:pt x="467" y="43"/>
                      </a:lnTo>
                      <a:lnTo>
                        <a:pt x="473" y="44"/>
                      </a:lnTo>
                      <a:lnTo>
                        <a:pt x="485" y="47"/>
                      </a:lnTo>
                      <a:lnTo>
                        <a:pt x="500" y="52"/>
                      </a:lnTo>
                      <a:lnTo>
                        <a:pt x="511" y="58"/>
                      </a:lnTo>
                      <a:lnTo>
                        <a:pt x="518" y="67"/>
                      </a:lnTo>
                      <a:lnTo>
                        <a:pt x="529" y="79"/>
                      </a:lnTo>
                      <a:lnTo>
                        <a:pt x="538" y="89"/>
                      </a:lnTo>
                      <a:lnTo>
                        <a:pt x="542" y="94"/>
                      </a:lnTo>
                      <a:lnTo>
                        <a:pt x="530" y="96"/>
                      </a:lnTo>
                      <a:lnTo>
                        <a:pt x="520" y="97"/>
                      </a:lnTo>
                      <a:lnTo>
                        <a:pt x="509" y="99"/>
                      </a:lnTo>
                      <a:lnTo>
                        <a:pt x="500" y="99"/>
                      </a:lnTo>
                      <a:lnTo>
                        <a:pt x="491" y="99"/>
                      </a:lnTo>
                      <a:lnTo>
                        <a:pt x="482" y="99"/>
                      </a:lnTo>
                      <a:lnTo>
                        <a:pt x="474" y="97"/>
                      </a:lnTo>
                      <a:lnTo>
                        <a:pt x="467" y="94"/>
                      </a:lnTo>
                      <a:lnTo>
                        <a:pt x="458" y="91"/>
                      </a:lnTo>
                      <a:lnTo>
                        <a:pt x="449" y="91"/>
                      </a:lnTo>
                      <a:lnTo>
                        <a:pt x="440" y="91"/>
                      </a:lnTo>
                      <a:lnTo>
                        <a:pt x="431" y="91"/>
                      </a:lnTo>
                      <a:lnTo>
                        <a:pt x="420" y="92"/>
                      </a:lnTo>
                      <a:lnTo>
                        <a:pt x="411" y="96"/>
                      </a:lnTo>
                      <a:lnTo>
                        <a:pt x="402" y="99"/>
                      </a:lnTo>
                      <a:lnTo>
                        <a:pt x="394" y="102"/>
                      </a:lnTo>
                      <a:lnTo>
                        <a:pt x="382" y="114"/>
                      </a:lnTo>
                      <a:lnTo>
                        <a:pt x="373" y="127"/>
                      </a:lnTo>
                      <a:lnTo>
                        <a:pt x="369" y="141"/>
                      </a:lnTo>
                      <a:lnTo>
                        <a:pt x="367" y="145"/>
                      </a:lnTo>
                      <a:lnTo>
                        <a:pt x="372" y="147"/>
                      </a:lnTo>
                      <a:lnTo>
                        <a:pt x="382" y="150"/>
                      </a:lnTo>
                      <a:lnTo>
                        <a:pt x="397" y="154"/>
                      </a:lnTo>
                      <a:lnTo>
                        <a:pt x="411" y="157"/>
                      </a:lnTo>
                      <a:lnTo>
                        <a:pt x="420" y="162"/>
                      </a:lnTo>
                      <a:lnTo>
                        <a:pt x="426" y="166"/>
                      </a:lnTo>
                      <a:lnTo>
                        <a:pt x="429" y="176"/>
                      </a:lnTo>
                      <a:lnTo>
                        <a:pt x="431" y="186"/>
                      </a:lnTo>
                      <a:lnTo>
                        <a:pt x="427" y="198"/>
                      </a:lnTo>
                      <a:lnTo>
                        <a:pt x="423" y="212"/>
                      </a:lnTo>
                      <a:lnTo>
                        <a:pt x="417" y="221"/>
                      </a:lnTo>
                      <a:lnTo>
                        <a:pt x="414" y="225"/>
                      </a:lnTo>
                      <a:lnTo>
                        <a:pt x="423" y="233"/>
                      </a:lnTo>
                      <a:lnTo>
                        <a:pt x="435" y="243"/>
                      </a:lnTo>
                      <a:lnTo>
                        <a:pt x="446" y="257"/>
                      </a:lnTo>
                      <a:lnTo>
                        <a:pt x="450" y="266"/>
                      </a:lnTo>
                      <a:lnTo>
                        <a:pt x="462" y="272"/>
                      </a:lnTo>
                      <a:lnTo>
                        <a:pt x="471" y="284"/>
                      </a:lnTo>
                      <a:lnTo>
                        <a:pt x="479" y="298"/>
                      </a:lnTo>
                      <a:lnTo>
                        <a:pt x="482" y="310"/>
                      </a:lnTo>
                      <a:lnTo>
                        <a:pt x="485" y="317"/>
                      </a:lnTo>
                      <a:lnTo>
                        <a:pt x="489" y="330"/>
                      </a:lnTo>
                      <a:lnTo>
                        <a:pt x="497" y="343"/>
                      </a:lnTo>
                      <a:lnTo>
                        <a:pt x="505" y="360"/>
                      </a:lnTo>
                      <a:lnTo>
                        <a:pt x="514" y="376"/>
                      </a:lnTo>
                      <a:lnTo>
                        <a:pt x="521" y="390"/>
                      </a:lnTo>
                      <a:lnTo>
                        <a:pt x="529" y="400"/>
                      </a:lnTo>
                      <a:lnTo>
                        <a:pt x="533" y="405"/>
                      </a:lnTo>
                      <a:lnTo>
                        <a:pt x="544" y="410"/>
                      </a:lnTo>
                      <a:lnTo>
                        <a:pt x="556" y="419"/>
                      </a:lnTo>
                      <a:lnTo>
                        <a:pt x="568" y="428"/>
                      </a:lnTo>
                      <a:lnTo>
                        <a:pt x="576" y="432"/>
                      </a:lnTo>
                      <a:lnTo>
                        <a:pt x="580" y="432"/>
                      </a:lnTo>
                      <a:lnTo>
                        <a:pt x="585" y="432"/>
                      </a:lnTo>
                      <a:lnTo>
                        <a:pt x="592" y="429"/>
                      </a:lnTo>
                      <a:lnTo>
                        <a:pt x="598" y="426"/>
                      </a:lnTo>
                      <a:lnTo>
                        <a:pt x="606" y="423"/>
                      </a:lnTo>
                      <a:lnTo>
                        <a:pt x="612" y="419"/>
                      </a:lnTo>
                      <a:lnTo>
                        <a:pt x="618" y="413"/>
                      </a:lnTo>
                      <a:lnTo>
                        <a:pt x="621" y="407"/>
                      </a:lnTo>
                      <a:lnTo>
                        <a:pt x="624" y="400"/>
                      </a:lnTo>
                      <a:lnTo>
                        <a:pt x="629" y="391"/>
                      </a:lnTo>
                      <a:lnTo>
                        <a:pt x="636" y="382"/>
                      </a:lnTo>
                      <a:lnTo>
                        <a:pt x="642" y="372"/>
                      </a:lnTo>
                      <a:lnTo>
                        <a:pt x="650" y="363"/>
                      </a:lnTo>
                      <a:lnTo>
                        <a:pt x="657" y="354"/>
                      </a:lnTo>
                      <a:lnTo>
                        <a:pt x="665" y="348"/>
                      </a:lnTo>
                      <a:lnTo>
                        <a:pt x="671" y="343"/>
                      </a:lnTo>
                      <a:lnTo>
                        <a:pt x="683" y="337"/>
                      </a:lnTo>
                      <a:lnTo>
                        <a:pt x="695" y="330"/>
                      </a:lnTo>
                      <a:lnTo>
                        <a:pt x="703" y="323"/>
                      </a:lnTo>
                      <a:lnTo>
                        <a:pt x="706" y="320"/>
                      </a:lnTo>
                      <a:lnTo>
                        <a:pt x="689" y="316"/>
                      </a:lnTo>
                      <a:lnTo>
                        <a:pt x="672" y="311"/>
                      </a:lnTo>
                      <a:lnTo>
                        <a:pt x="656" y="307"/>
                      </a:lnTo>
                      <a:lnTo>
                        <a:pt x="639" y="302"/>
                      </a:lnTo>
                      <a:lnTo>
                        <a:pt x="624" y="296"/>
                      </a:lnTo>
                      <a:lnTo>
                        <a:pt x="610" y="290"/>
                      </a:lnTo>
                      <a:lnTo>
                        <a:pt x="600" y="284"/>
                      </a:lnTo>
                      <a:lnTo>
                        <a:pt x="592" y="277"/>
                      </a:lnTo>
                      <a:lnTo>
                        <a:pt x="585" y="262"/>
                      </a:lnTo>
                      <a:lnTo>
                        <a:pt x="583" y="248"/>
                      </a:lnTo>
                      <a:lnTo>
                        <a:pt x="589" y="236"/>
                      </a:lnTo>
                      <a:lnTo>
                        <a:pt x="600" y="227"/>
                      </a:lnTo>
                      <a:lnTo>
                        <a:pt x="612" y="225"/>
                      </a:lnTo>
                      <a:lnTo>
                        <a:pt x="622" y="230"/>
                      </a:lnTo>
                      <a:lnTo>
                        <a:pt x="632" y="239"/>
                      </a:lnTo>
                      <a:lnTo>
                        <a:pt x="638" y="248"/>
                      </a:lnTo>
                      <a:lnTo>
                        <a:pt x="641" y="253"/>
                      </a:lnTo>
                      <a:lnTo>
                        <a:pt x="644" y="257"/>
                      </a:lnTo>
                      <a:lnTo>
                        <a:pt x="650" y="263"/>
                      </a:lnTo>
                      <a:lnTo>
                        <a:pt x="656" y="269"/>
                      </a:lnTo>
                      <a:lnTo>
                        <a:pt x="662" y="275"/>
                      </a:lnTo>
                      <a:lnTo>
                        <a:pt x="669" y="280"/>
                      </a:lnTo>
                      <a:lnTo>
                        <a:pt x="677" y="281"/>
                      </a:lnTo>
                      <a:lnTo>
                        <a:pt x="686" y="281"/>
                      </a:lnTo>
                      <a:lnTo>
                        <a:pt x="697" y="281"/>
                      </a:lnTo>
                      <a:lnTo>
                        <a:pt x="710" y="281"/>
                      </a:lnTo>
                      <a:lnTo>
                        <a:pt x="725" y="284"/>
                      </a:lnTo>
                      <a:lnTo>
                        <a:pt x="742" y="289"/>
                      </a:lnTo>
                      <a:lnTo>
                        <a:pt x="757" y="295"/>
                      </a:lnTo>
                      <a:lnTo>
                        <a:pt x="772" y="301"/>
                      </a:lnTo>
                      <a:lnTo>
                        <a:pt x="786" y="307"/>
                      </a:lnTo>
                      <a:lnTo>
                        <a:pt x="795" y="314"/>
                      </a:lnTo>
                      <a:lnTo>
                        <a:pt x="802" y="322"/>
                      </a:lnTo>
                      <a:lnTo>
                        <a:pt x="811" y="328"/>
                      </a:lnTo>
                      <a:lnTo>
                        <a:pt x="820" y="334"/>
                      </a:lnTo>
                      <a:lnTo>
                        <a:pt x="830" y="339"/>
                      </a:lnTo>
                      <a:lnTo>
                        <a:pt x="839" y="343"/>
                      </a:lnTo>
                      <a:lnTo>
                        <a:pt x="845" y="349"/>
                      </a:lnTo>
                      <a:lnTo>
                        <a:pt x="849" y="355"/>
                      </a:lnTo>
                      <a:lnTo>
                        <a:pt x="852" y="363"/>
                      </a:lnTo>
                      <a:lnTo>
                        <a:pt x="855" y="381"/>
                      </a:lnTo>
                      <a:lnTo>
                        <a:pt x="858" y="397"/>
                      </a:lnTo>
                      <a:lnTo>
                        <a:pt x="863" y="416"/>
                      </a:lnTo>
                      <a:lnTo>
                        <a:pt x="870" y="429"/>
                      </a:lnTo>
                      <a:lnTo>
                        <a:pt x="879" y="443"/>
                      </a:lnTo>
                      <a:lnTo>
                        <a:pt x="888" y="459"/>
                      </a:lnTo>
                      <a:lnTo>
                        <a:pt x="899" y="476"/>
                      </a:lnTo>
                      <a:lnTo>
                        <a:pt x="910" y="488"/>
                      </a:lnTo>
                      <a:lnTo>
                        <a:pt x="920" y="494"/>
                      </a:lnTo>
                      <a:lnTo>
                        <a:pt x="928" y="496"/>
                      </a:lnTo>
                      <a:lnTo>
                        <a:pt x="932" y="488"/>
                      </a:lnTo>
                      <a:lnTo>
                        <a:pt x="934" y="467"/>
                      </a:lnTo>
                      <a:lnTo>
                        <a:pt x="935" y="440"/>
                      </a:lnTo>
                      <a:lnTo>
                        <a:pt x="941" y="413"/>
                      </a:lnTo>
                      <a:lnTo>
                        <a:pt x="952" y="391"/>
                      </a:lnTo>
                      <a:lnTo>
                        <a:pt x="970" y="373"/>
                      </a:lnTo>
                      <a:lnTo>
                        <a:pt x="981" y="366"/>
                      </a:lnTo>
                      <a:lnTo>
                        <a:pt x="990" y="360"/>
                      </a:lnTo>
                      <a:lnTo>
                        <a:pt x="999" y="354"/>
                      </a:lnTo>
                      <a:lnTo>
                        <a:pt x="1008" y="349"/>
                      </a:lnTo>
                      <a:lnTo>
                        <a:pt x="1015" y="345"/>
                      </a:lnTo>
                      <a:lnTo>
                        <a:pt x="1023" y="342"/>
                      </a:lnTo>
                      <a:lnTo>
                        <a:pt x="1029" y="339"/>
                      </a:lnTo>
                      <a:lnTo>
                        <a:pt x="1034" y="336"/>
                      </a:lnTo>
                      <a:lnTo>
                        <a:pt x="1046" y="326"/>
                      </a:lnTo>
                      <a:lnTo>
                        <a:pt x="1059" y="314"/>
                      </a:lnTo>
                      <a:lnTo>
                        <a:pt x="1070" y="310"/>
                      </a:lnTo>
                      <a:lnTo>
                        <a:pt x="1073" y="325"/>
                      </a:lnTo>
                      <a:lnTo>
                        <a:pt x="1071" y="349"/>
                      </a:lnTo>
                      <a:lnTo>
                        <a:pt x="1071" y="367"/>
                      </a:lnTo>
                      <a:lnTo>
                        <a:pt x="1076" y="384"/>
                      </a:lnTo>
                      <a:lnTo>
                        <a:pt x="1088" y="400"/>
                      </a:lnTo>
                      <a:lnTo>
                        <a:pt x="1100" y="419"/>
                      </a:lnTo>
                      <a:lnTo>
                        <a:pt x="1109" y="437"/>
                      </a:lnTo>
                      <a:lnTo>
                        <a:pt x="1115" y="455"/>
                      </a:lnTo>
                      <a:lnTo>
                        <a:pt x="1120" y="468"/>
                      </a:lnTo>
                      <a:lnTo>
                        <a:pt x="1123" y="483"/>
                      </a:lnTo>
                      <a:lnTo>
                        <a:pt x="1124" y="500"/>
                      </a:lnTo>
                      <a:lnTo>
                        <a:pt x="1127" y="514"/>
                      </a:lnTo>
                      <a:lnTo>
                        <a:pt x="1127" y="520"/>
                      </a:lnTo>
                      <a:lnTo>
                        <a:pt x="1154" y="500"/>
                      </a:lnTo>
                      <a:lnTo>
                        <a:pt x="1157" y="506"/>
                      </a:lnTo>
                      <a:lnTo>
                        <a:pt x="1165" y="517"/>
                      </a:lnTo>
                      <a:lnTo>
                        <a:pt x="1174" y="527"/>
                      </a:lnTo>
                      <a:lnTo>
                        <a:pt x="1183" y="527"/>
                      </a:lnTo>
                      <a:lnTo>
                        <a:pt x="1185" y="517"/>
                      </a:lnTo>
                      <a:lnTo>
                        <a:pt x="1179" y="500"/>
                      </a:lnTo>
                      <a:lnTo>
                        <a:pt x="1171" y="483"/>
                      </a:lnTo>
                      <a:lnTo>
                        <a:pt x="1171" y="468"/>
                      </a:lnTo>
                      <a:lnTo>
                        <a:pt x="1177" y="459"/>
                      </a:lnTo>
                      <a:lnTo>
                        <a:pt x="1185" y="456"/>
                      </a:lnTo>
                      <a:lnTo>
                        <a:pt x="1194" y="456"/>
                      </a:lnTo>
                      <a:lnTo>
                        <a:pt x="1203" y="456"/>
                      </a:lnTo>
                      <a:lnTo>
                        <a:pt x="1213" y="453"/>
                      </a:lnTo>
                      <a:lnTo>
                        <a:pt x="1225" y="447"/>
                      </a:lnTo>
                      <a:lnTo>
                        <a:pt x="1236" y="438"/>
                      </a:lnTo>
                      <a:lnTo>
                        <a:pt x="1247" y="429"/>
                      </a:lnTo>
                      <a:lnTo>
                        <a:pt x="1250" y="420"/>
                      </a:lnTo>
                      <a:lnTo>
                        <a:pt x="1245" y="411"/>
                      </a:lnTo>
                      <a:lnTo>
                        <a:pt x="1238" y="402"/>
                      </a:lnTo>
                      <a:lnTo>
                        <a:pt x="1235" y="393"/>
                      </a:lnTo>
                      <a:lnTo>
                        <a:pt x="1230" y="384"/>
                      </a:lnTo>
                      <a:lnTo>
                        <a:pt x="1222" y="376"/>
                      </a:lnTo>
                      <a:lnTo>
                        <a:pt x="1215" y="370"/>
                      </a:lnTo>
                      <a:lnTo>
                        <a:pt x="1215" y="361"/>
                      </a:lnTo>
                      <a:lnTo>
                        <a:pt x="1219" y="357"/>
                      </a:lnTo>
                      <a:lnTo>
                        <a:pt x="1227" y="351"/>
                      </a:lnTo>
                      <a:lnTo>
                        <a:pt x="1238" y="346"/>
                      </a:lnTo>
                      <a:lnTo>
                        <a:pt x="1248" y="340"/>
                      </a:lnTo>
                      <a:lnTo>
                        <a:pt x="1262" y="334"/>
                      </a:lnTo>
                      <a:lnTo>
                        <a:pt x="1274" y="330"/>
                      </a:lnTo>
                      <a:lnTo>
                        <a:pt x="1284" y="325"/>
                      </a:lnTo>
                      <a:lnTo>
                        <a:pt x="1295" y="320"/>
                      </a:lnTo>
                      <a:lnTo>
                        <a:pt x="1303" y="317"/>
                      </a:lnTo>
                      <a:lnTo>
                        <a:pt x="1312" y="311"/>
                      </a:lnTo>
                      <a:lnTo>
                        <a:pt x="1319" y="307"/>
                      </a:lnTo>
                      <a:lnTo>
                        <a:pt x="1328" y="299"/>
                      </a:lnTo>
                      <a:lnTo>
                        <a:pt x="1336" y="293"/>
                      </a:lnTo>
                      <a:lnTo>
                        <a:pt x="1345" y="286"/>
                      </a:lnTo>
                      <a:lnTo>
                        <a:pt x="1352" y="280"/>
                      </a:lnTo>
                      <a:lnTo>
                        <a:pt x="1360" y="274"/>
                      </a:lnTo>
                      <a:lnTo>
                        <a:pt x="1372" y="259"/>
                      </a:lnTo>
                      <a:lnTo>
                        <a:pt x="1378" y="240"/>
                      </a:lnTo>
                      <a:lnTo>
                        <a:pt x="1377" y="222"/>
                      </a:lnTo>
                      <a:lnTo>
                        <a:pt x="1372" y="206"/>
                      </a:lnTo>
                      <a:lnTo>
                        <a:pt x="1368" y="192"/>
                      </a:lnTo>
                      <a:lnTo>
                        <a:pt x="1368" y="177"/>
                      </a:lnTo>
                      <a:lnTo>
                        <a:pt x="1372" y="163"/>
                      </a:lnTo>
                      <a:lnTo>
                        <a:pt x="1381" y="150"/>
                      </a:lnTo>
                      <a:lnTo>
                        <a:pt x="1387" y="142"/>
                      </a:lnTo>
                      <a:lnTo>
                        <a:pt x="1393" y="133"/>
                      </a:lnTo>
                      <a:lnTo>
                        <a:pt x="1401" y="126"/>
                      </a:lnTo>
                      <a:lnTo>
                        <a:pt x="1407" y="118"/>
                      </a:lnTo>
                      <a:lnTo>
                        <a:pt x="1414" y="114"/>
                      </a:lnTo>
                      <a:lnTo>
                        <a:pt x="1419" y="112"/>
                      </a:lnTo>
                      <a:lnTo>
                        <a:pt x="1425" y="115"/>
                      </a:lnTo>
                      <a:lnTo>
                        <a:pt x="1428" y="123"/>
                      </a:lnTo>
                      <a:lnTo>
                        <a:pt x="1433" y="145"/>
                      </a:lnTo>
                      <a:lnTo>
                        <a:pt x="1436" y="168"/>
                      </a:lnTo>
                      <a:lnTo>
                        <a:pt x="1437" y="186"/>
                      </a:lnTo>
                      <a:lnTo>
                        <a:pt x="1437" y="194"/>
                      </a:lnTo>
                      <a:lnTo>
                        <a:pt x="1454" y="179"/>
                      </a:lnTo>
                      <a:lnTo>
                        <a:pt x="1464" y="157"/>
                      </a:lnTo>
                      <a:lnTo>
                        <a:pt x="1470" y="136"/>
                      </a:lnTo>
                      <a:lnTo>
                        <a:pt x="1476" y="123"/>
                      </a:lnTo>
                      <a:lnTo>
                        <a:pt x="1485" y="109"/>
                      </a:lnTo>
                      <a:lnTo>
                        <a:pt x="1496" y="89"/>
                      </a:lnTo>
                      <a:lnTo>
                        <a:pt x="1510" y="70"/>
                      </a:lnTo>
                      <a:lnTo>
                        <a:pt x="1520" y="58"/>
                      </a:lnTo>
                      <a:lnTo>
                        <a:pt x="1529" y="49"/>
                      </a:lnTo>
                      <a:lnTo>
                        <a:pt x="1540" y="34"/>
                      </a:lnTo>
                      <a:lnTo>
                        <a:pt x="1550" y="19"/>
                      </a:lnTo>
                      <a:lnTo>
                        <a:pt x="1560" y="6"/>
                      </a:lnTo>
                      <a:lnTo>
                        <a:pt x="1561" y="5"/>
                      </a:lnTo>
                      <a:lnTo>
                        <a:pt x="1563" y="3"/>
                      </a:lnTo>
                      <a:lnTo>
                        <a:pt x="1563" y="2"/>
                      </a:lnTo>
                      <a:lnTo>
                        <a:pt x="1564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3"/>
                <p:cNvSpPr/>
                <p:nvPr/>
              </p:nvSpPr>
              <p:spPr>
                <a:xfrm>
                  <a:off x="448920" y="3990240"/>
                  <a:ext cx="999720" cy="108252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082520"/>
                    <a:gd name="textAreaBottom" fmla="*/ 1082880 h 1082520"/>
                  </a:gdLst>
                  <a:ahLst/>
                  <a:rect l="textAreaLeft" t="textAreaTop" r="textAreaRight" b="textAreaBottom"/>
                  <a:pathLst>
                    <a:path w="701" h="817">
                      <a:moveTo>
                        <a:pt x="511" y="83"/>
                      </a:moveTo>
                      <a:lnTo>
                        <a:pt x="502" y="83"/>
                      </a:lnTo>
                      <a:lnTo>
                        <a:pt x="491" y="83"/>
                      </a:lnTo>
                      <a:lnTo>
                        <a:pt x="481" y="80"/>
                      </a:lnTo>
                      <a:lnTo>
                        <a:pt x="471" y="77"/>
                      </a:lnTo>
                      <a:lnTo>
                        <a:pt x="462" y="74"/>
                      </a:lnTo>
                      <a:lnTo>
                        <a:pt x="455" y="69"/>
                      </a:lnTo>
                      <a:lnTo>
                        <a:pt x="449" y="66"/>
                      </a:lnTo>
                      <a:lnTo>
                        <a:pt x="443" y="63"/>
                      </a:lnTo>
                      <a:lnTo>
                        <a:pt x="438" y="62"/>
                      </a:lnTo>
                      <a:lnTo>
                        <a:pt x="432" y="62"/>
                      </a:lnTo>
                      <a:lnTo>
                        <a:pt x="426" y="65"/>
                      </a:lnTo>
                      <a:lnTo>
                        <a:pt x="420" y="68"/>
                      </a:lnTo>
                      <a:lnTo>
                        <a:pt x="413" y="72"/>
                      </a:lnTo>
                      <a:lnTo>
                        <a:pt x="406" y="77"/>
                      </a:lnTo>
                      <a:lnTo>
                        <a:pt x="399" y="80"/>
                      </a:lnTo>
                      <a:lnTo>
                        <a:pt x="391" y="83"/>
                      </a:lnTo>
                      <a:lnTo>
                        <a:pt x="384" y="83"/>
                      </a:lnTo>
                      <a:lnTo>
                        <a:pt x="373" y="81"/>
                      </a:lnTo>
                      <a:lnTo>
                        <a:pt x="363" y="80"/>
                      </a:lnTo>
                      <a:lnTo>
                        <a:pt x="352" y="75"/>
                      </a:lnTo>
                      <a:lnTo>
                        <a:pt x="342" y="69"/>
                      </a:lnTo>
                      <a:lnTo>
                        <a:pt x="331" y="63"/>
                      </a:lnTo>
                      <a:lnTo>
                        <a:pt x="322" y="56"/>
                      </a:lnTo>
                      <a:lnTo>
                        <a:pt x="316" y="47"/>
                      </a:lnTo>
                      <a:lnTo>
                        <a:pt x="308" y="38"/>
                      </a:lnTo>
                      <a:lnTo>
                        <a:pt x="298" y="27"/>
                      </a:lnTo>
                      <a:lnTo>
                        <a:pt x="284" y="18"/>
                      </a:lnTo>
                      <a:lnTo>
                        <a:pt x="272" y="10"/>
                      </a:lnTo>
                      <a:lnTo>
                        <a:pt x="258" y="4"/>
                      </a:lnTo>
                      <a:lnTo>
                        <a:pt x="246" y="0"/>
                      </a:lnTo>
                      <a:lnTo>
                        <a:pt x="236" y="0"/>
                      </a:lnTo>
                      <a:lnTo>
                        <a:pt x="228" y="3"/>
                      </a:lnTo>
                      <a:lnTo>
                        <a:pt x="221" y="7"/>
                      </a:lnTo>
                      <a:lnTo>
                        <a:pt x="212" y="12"/>
                      </a:lnTo>
                      <a:lnTo>
                        <a:pt x="199" y="13"/>
                      </a:lnTo>
                      <a:lnTo>
                        <a:pt x="187" y="15"/>
                      </a:lnTo>
                      <a:lnTo>
                        <a:pt x="175" y="16"/>
                      </a:lnTo>
                      <a:lnTo>
                        <a:pt x="163" y="18"/>
                      </a:lnTo>
                      <a:lnTo>
                        <a:pt x="153" y="22"/>
                      </a:lnTo>
                      <a:lnTo>
                        <a:pt x="144" y="27"/>
                      </a:lnTo>
                      <a:lnTo>
                        <a:pt x="136" y="33"/>
                      </a:lnTo>
                      <a:lnTo>
                        <a:pt x="127" y="42"/>
                      </a:lnTo>
                      <a:lnTo>
                        <a:pt x="116" y="53"/>
                      </a:lnTo>
                      <a:lnTo>
                        <a:pt x="107" y="63"/>
                      </a:lnTo>
                      <a:lnTo>
                        <a:pt x="98" y="74"/>
                      </a:lnTo>
                      <a:lnTo>
                        <a:pt x="89" y="84"/>
                      </a:lnTo>
                      <a:lnTo>
                        <a:pt x="82" y="95"/>
                      </a:lnTo>
                      <a:lnTo>
                        <a:pt x="77" y="102"/>
                      </a:lnTo>
                      <a:lnTo>
                        <a:pt x="71" y="110"/>
                      </a:lnTo>
                      <a:lnTo>
                        <a:pt x="62" y="116"/>
                      </a:lnTo>
                      <a:lnTo>
                        <a:pt x="53" y="124"/>
                      </a:lnTo>
                      <a:lnTo>
                        <a:pt x="42" y="131"/>
                      </a:lnTo>
                      <a:lnTo>
                        <a:pt x="33" y="139"/>
                      </a:lnTo>
                      <a:lnTo>
                        <a:pt x="24" y="146"/>
                      </a:lnTo>
                      <a:lnTo>
                        <a:pt x="18" y="154"/>
                      </a:lnTo>
                      <a:lnTo>
                        <a:pt x="17" y="163"/>
                      </a:lnTo>
                      <a:lnTo>
                        <a:pt x="14" y="181"/>
                      </a:lnTo>
                      <a:lnTo>
                        <a:pt x="9" y="199"/>
                      </a:lnTo>
                      <a:lnTo>
                        <a:pt x="3" y="211"/>
                      </a:lnTo>
                      <a:lnTo>
                        <a:pt x="0" y="217"/>
                      </a:lnTo>
                      <a:lnTo>
                        <a:pt x="1" y="226"/>
                      </a:lnTo>
                      <a:lnTo>
                        <a:pt x="4" y="249"/>
                      </a:lnTo>
                      <a:lnTo>
                        <a:pt x="9" y="273"/>
                      </a:lnTo>
                      <a:lnTo>
                        <a:pt x="17" y="290"/>
                      </a:lnTo>
                      <a:lnTo>
                        <a:pt x="23" y="303"/>
                      </a:lnTo>
                      <a:lnTo>
                        <a:pt x="27" y="323"/>
                      </a:lnTo>
                      <a:lnTo>
                        <a:pt x="36" y="341"/>
                      </a:lnTo>
                      <a:lnTo>
                        <a:pt x="53" y="353"/>
                      </a:lnTo>
                      <a:lnTo>
                        <a:pt x="66" y="356"/>
                      </a:lnTo>
                      <a:lnTo>
                        <a:pt x="85" y="359"/>
                      </a:lnTo>
                      <a:lnTo>
                        <a:pt x="104" y="362"/>
                      </a:lnTo>
                      <a:lnTo>
                        <a:pt x="125" y="364"/>
                      </a:lnTo>
                      <a:lnTo>
                        <a:pt x="147" y="365"/>
                      </a:lnTo>
                      <a:lnTo>
                        <a:pt x="166" y="367"/>
                      </a:lnTo>
                      <a:lnTo>
                        <a:pt x="183" y="367"/>
                      </a:lnTo>
                      <a:lnTo>
                        <a:pt x="196" y="365"/>
                      </a:lnTo>
                      <a:lnTo>
                        <a:pt x="207" y="364"/>
                      </a:lnTo>
                      <a:lnTo>
                        <a:pt x="216" y="364"/>
                      </a:lnTo>
                      <a:lnTo>
                        <a:pt x="225" y="364"/>
                      </a:lnTo>
                      <a:lnTo>
                        <a:pt x="234" y="365"/>
                      </a:lnTo>
                      <a:lnTo>
                        <a:pt x="242" y="367"/>
                      </a:lnTo>
                      <a:lnTo>
                        <a:pt x="249" y="370"/>
                      </a:lnTo>
                      <a:lnTo>
                        <a:pt x="257" y="373"/>
                      </a:lnTo>
                      <a:lnTo>
                        <a:pt x="263" y="377"/>
                      </a:lnTo>
                      <a:lnTo>
                        <a:pt x="275" y="386"/>
                      </a:lnTo>
                      <a:lnTo>
                        <a:pt x="283" y="398"/>
                      </a:lnTo>
                      <a:lnTo>
                        <a:pt x="286" y="410"/>
                      </a:lnTo>
                      <a:lnTo>
                        <a:pt x="284" y="424"/>
                      </a:lnTo>
                      <a:lnTo>
                        <a:pt x="280" y="438"/>
                      </a:lnTo>
                      <a:lnTo>
                        <a:pt x="280" y="447"/>
                      </a:lnTo>
                      <a:lnTo>
                        <a:pt x="287" y="454"/>
                      </a:lnTo>
                      <a:lnTo>
                        <a:pt x="304" y="460"/>
                      </a:lnTo>
                      <a:lnTo>
                        <a:pt x="317" y="468"/>
                      </a:lnTo>
                      <a:lnTo>
                        <a:pt x="320" y="480"/>
                      </a:lnTo>
                      <a:lnTo>
                        <a:pt x="319" y="494"/>
                      </a:lnTo>
                      <a:lnTo>
                        <a:pt x="317" y="509"/>
                      </a:lnTo>
                      <a:lnTo>
                        <a:pt x="317" y="525"/>
                      </a:lnTo>
                      <a:lnTo>
                        <a:pt x="316" y="542"/>
                      </a:lnTo>
                      <a:lnTo>
                        <a:pt x="313" y="561"/>
                      </a:lnTo>
                      <a:lnTo>
                        <a:pt x="311" y="584"/>
                      </a:lnTo>
                      <a:lnTo>
                        <a:pt x="308" y="595"/>
                      </a:lnTo>
                      <a:lnTo>
                        <a:pt x="304" y="604"/>
                      </a:lnTo>
                      <a:lnTo>
                        <a:pt x="302" y="613"/>
                      </a:lnTo>
                      <a:lnTo>
                        <a:pt x="307" y="628"/>
                      </a:lnTo>
                      <a:lnTo>
                        <a:pt x="311" y="637"/>
                      </a:lnTo>
                      <a:lnTo>
                        <a:pt x="317" y="652"/>
                      </a:lnTo>
                      <a:lnTo>
                        <a:pt x="323" y="667"/>
                      </a:lnTo>
                      <a:lnTo>
                        <a:pt x="329" y="678"/>
                      </a:lnTo>
                      <a:lnTo>
                        <a:pt x="335" y="688"/>
                      </a:lnTo>
                      <a:lnTo>
                        <a:pt x="345" y="705"/>
                      </a:lnTo>
                      <a:lnTo>
                        <a:pt x="354" y="723"/>
                      </a:lnTo>
                      <a:lnTo>
                        <a:pt x="360" y="737"/>
                      </a:lnTo>
                      <a:lnTo>
                        <a:pt x="364" y="753"/>
                      </a:lnTo>
                      <a:lnTo>
                        <a:pt x="370" y="777"/>
                      </a:lnTo>
                      <a:lnTo>
                        <a:pt x="379" y="798"/>
                      </a:lnTo>
                      <a:lnTo>
                        <a:pt x="388" y="811"/>
                      </a:lnTo>
                      <a:lnTo>
                        <a:pt x="394" y="814"/>
                      </a:lnTo>
                      <a:lnTo>
                        <a:pt x="405" y="815"/>
                      </a:lnTo>
                      <a:lnTo>
                        <a:pt x="416" y="817"/>
                      </a:lnTo>
                      <a:lnTo>
                        <a:pt x="429" y="817"/>
                      </a:lnTo>
                      <a:lnTo>
                        <a:pt x="441" y="815"/>
                      </a:lnTo>
                      <a:lnTo>
                        <a:pt x="453" y="812"/>
                      </a:lnTo>
                      <a:lnTo>
                        <a:pt x="462" y="806"/>
                      </a:lnTo>
                      <a:lnTo>
                        <a:pt x="470" y="798"/>
                      </a:lnTo>
                      <a:lnTo>
                        <a:pt x="476" y="789"/>
                      </a:lnTo>
                      <a:lnTo>
                        <a:pt x="485" y="782"/>
                      </a:lnTo>
                      <a:lnTo>
                        <a:pt x="494" y="774"/>
                      </a:lnTo>
                      <a:lnTo>
                        <a:pt x="503" y="767"/>
                      </a:lnTo>
                      <a:lnTo>
                        <a:pt x="512" y="761"/>
                      </a:lnTo>
                      <a:lnTo>
                        <a:pt x="520" y="755"/>
                      </a:lnTo>
                      <a:lnTo>
                        <a:pt x="526" y="749"/>
                      </a:lnTo>
                      <a:lnTo>
                        <a:pt x="530" y="743"/>
                      </a:lnTo>
                      <a:lnTo>
                        <a:pt x="533" y="731"/>
                      </a:lnTo>
                      <a:lnTo>
                        <a:pt x="530" y="715"/>
                      </a:lnTo>
                      <a:lnTo>
                        <a:pt x="527" y="702"/>
                      </a:lnTo>
                      <a:lnTo>
                        <a:pt x="526" y="691"/>
                      </a:lnTo>
                      <a:lnTo>
                        <a:pt x="530" y="687"/>
                      </a:lnTo>
                      <a:lnTo>
                        <a:pt x="541" y="687"/>
                      </a:lnTo>
                      <a:lnTo>
                        <a:pt x="553" y="688"/>
                      </a:lnTo>
                      <a:lnTo>
                        <a:pt x="562" y="687"/>
                      </a:lnTo>
                      <a:lnTo>
                        <a:pt x="564" y="681"/>
                      </a:lnTo>
                      <a:lnTo>
                        <a:pt x="562" y="670"/>
                      </a:lnTo>
                      <a:lnTo>
                        <a:pt x="561" y="657"/>
                      </a:lnTo>
                      <a:lnTo>
                        <a:pt x="562" y="643"/>
                      </a:lnTo>
                      <a:lnTo>
                        <a:pt x="570" y="634"/>
                      </a:lnTo>
                      <a:lnTo>
                        <a:pt x="582" y="625"/>
                      </a:lnTo>
                      <a:lnTo>
                        <a:pt x="594" y="617"/>
                      </a:lnTo>
                      <a:lnTo>
                        <a:pt x="601" y="608"/>
                      </a:lnTo>
                      <a:lnTo>
                        <a:pt x="606" y="590"/>
                      </a:lnTo>
                      <a:lnTo>
                        <a:pt x="608" y="567"/>
                      </a:lnTo>
                      <a:lnTo>
                        <a:pt x="606" y="543"/>
                      </a:lnTo>
                      <a:lnTo>
                        <a:pt x="606" y="524"/>
                      </a:lnTo>
                      <a:lnTo>
                        <a:pt x="601" y="512"/>
                      </a:lnTo>
                      <a:lnTo>
                        <a:pt x="592" y="504"/>
                      </a:lnTo>
                      <a:lnTo>
                        <a:pt x="585" y="497"/>
                      </a:lnTo>
                      <a:lnTo>
                        <a:pt x="582" y="484"/>
                      </a:lnTo>
                      <a:lnTo>
                        <a:pt x="588" y="471"/>
                      </a:lnTo>
                      <a:lnTo>
                        <a:pt x="600" y="457"/>
                      </a:lnTo>
                      <a:lnTo>
                        <a:pt x="614" y="442"/>
                      </a:lnTo>
                      <a:lnTo>
                        <a:pt x="626" y="424"/>
                      </a:lnTo>
                      <a:lnTo>
                        <a:pt x="633" y="412"/>
                      </a:lnTo>
                      <a:lnTo>
                        <a:pt x="644" y="395"/>
                      </a:lnTo>
                      <a:lnTo>
                        <a:pt x="657" y="377"/>
                      </a:lnTo>
                      <a:lnTo>
                        <a:pt x="669" y="359"/>
                      </a:lnTo>
                      <a:lnTo>
                        <a:pt x="682" y="341"/>
                      </a:lnTo>
                      <a:lnTo>
                        <a:pt x="692" y="327"/>
                      </a:lnTo>
                      <a:lnTo>
                        <a:pt x="698" y="317"/>
                      </a:lnTo>
                      <a:lnTo>
                        <a:pt x="701" y="314"/>
                      </a:lnTo>
                      <a:lnTo>
                        <a:pt x="694" y="311"/>
                      </a:lnTo>
                      <a:lnTo>
                        <a:pt x="683" y="311"/>
                      </a:lnTo>
                      <a:lnTo>
                        <a:pt x="672" y="314"/>
                      </a:lnTo>
                      <a:lnTo>
                        <a:pt x="662" y="314"/>
                      </a:lnTo>
                      <a:lnTo>
                        <a:pt x="656" y="311"/>
                      </a:lnTo>
                      <a:lnTo>
                        <a:pt x="648" y="305"/>
                      </a:lnTo>
                      <a:lnTo>
                        <a:pt x="638" y="297"/>
                      </a:lnTo>
                      <a:lnTo>
                        <a:pt x="627" y="290"/>
                      </a:lnTo>
                      <a:lnTo>
                        <a:pt x="617" y="281"/>
                      </a:lnTo>
                      <a:lnTo>
                        <a:pt x="606" y="270"/>
                      </a:lnTo>
                      <a:lnTo>
                        <a:pt x="597" y="261"/>
                      </a:lnTo>
                      <a:lnTo>
                        <a:pt x="589" y="253"/>
                      </a:lnTo>
                      <a:lnTo>
                        <a:pt x="577" y="237"/>
                      </a:lnTo>
                      <a:lnTo>
                        <a:pt x="568" y="217"/>
                      </a:lnTo>
                      <a:lnTo>
                        <a:pt x="559" y="198"/>
                      </a:lnTo>
                      <a:lnTo>
                        <a:pt x="555" y="178"/>
                      </a:lnTo>
                      <a:lnTo>
                        <a:pt x="552" y="157"/>
                      </a:lnTo>
                      <a:lnTo>
                        <a:pt x="550" y="133"/>
                      </a:lnTo>
                      <a:lnTo>
                        <a:pt x="550" y="115"/>
                      </a:lnTo>
                      <a:lnTo>
                        <a:pt x="550" y="107"/>
                      </a:lnTo>
                      <a:lnTo>
                        <a:pt x="544" y="98"/>
                      </a:lnTo>
                      <a:lnTo>
                        <a:pt x="533" y="90"/>
                      </a:lnTo>
                      <a:lnTo>
                        <a:pt x="521" y="84"/>
                      </a:lnTo>
                      <a:lnTo>
                        <a:pt x="511" y="8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>
                  <a:off x="1654200" y="3126240"/>
                  <a:ext cx="202320" cy="11772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42" h="89">
                      <a:moveTo>
                        <a:pt x="24" y="46"/>
                      </a:moveTo>
                      <a:lnTo>
                        <a:pt x="35" y="43"/>
                      </a:lnTo>
                      <a:lnTo>
                        <a:pt x="44" y="39"/>
                      </a:lnTo>
                      <a:lnTo>
                        <a:pt x="53" y="33"/>
                      </a:lnTo>
                      <a:lnTo>
                        <a:pt x="60" y="27"/>
                      </a:lnTo>
                      <a:lnTo>
                        <a:pt x="66" y="21"/>
                      </a:lnTo>
                      <a:lnTo>
                        <a:pt x="74" y="15"/>
                      </a:lnTo>
                      <a:lnTo>
                        <a:pt x="80" y="12"/>
                      </a:lnTo>
                      <a:lnTo>
                        <a:pt x="87" y="10"/>
                      </a:lnTo>
                      <a:lnTo>
                        <a:pt x="95" y="9"/>
                      </a:lnTo>
                      <a:lnTo>
                        <a:pt x="103" y="7"/>
                      </a:lnTo>
                      <a:lnTo>
                        <a:pt x="110" y="4"/>
                      </a:lnTo>
                      <a:lnTo>
                        <a:pt x="118" y="1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6" y="3"/>
                      </a:lnTo>
                      <a:lnTo>
                        <a:pt x="139" y="10"/>
                      </a:lnTo>
                      <a:lnTo>
                        <a:pt x="142" y="27"/>
                      </a:lnTo>
                      <a:lnTo>
                        <a:pt x="137" y="39"/>
                      </a:lnTo>
                      <a:lnTo>
                        <a:pt x="124" y="48"/>
                      </a:lnTo>
                      <a:lnTo>
                        <a:pt x="104" y="51"/>
                      </a:lnTo>
                      <a:lnTo>
                        <a:pt x="93" y="51"/>
                      </a:lnTo>
                      <a:lnTo>
                        <a:pt x="83" y="51"/>
                      </a:lnTo>
                      <a:lnTo>
                        <a:pt x="74" y="52"/>
                      </a:lnTo>
                      <a:lnTo>
                        <a:pt x="68" y="54"/>
                      </a:lnTo>
                      <a:lnTo>
                        <a:pt x="62" y="55"/>
                      </a:lnTo>
                      <a:lnTo>
                        <a:pt x="57" y="59"/>
                      </a:lnTo>
                      <a:lnTo>
                        <a:pt x="54" y="62"/>
                      </a:lnTo>
                      <a:lnTo>
                        <a:pt x="51" y="66"/>
                      </a:lnTo>
                      <a:lnTo>
                        <a:pt x="45" y="77"/>
                      </a:lnTo>
                      <a:lnTo>
                        <a:pt x="35" y="84"/>
                      </a:lnTo>
                      <a:lnTo>
                        <a:pt x="21" y="89"/>
                      </a:lnTo>
                      <a:lnTo>
                        <a:pt x="7" y="86"/>
                      </a:lnTo>
                      <a:lnTo>
                        <a:pt x="0" y="75"/>
                      </a:lnTo>
                      <a:lnTo>
                        <a:pt x="0" y="63"/>
                      </a:lnTo>
                      <a:lnTo>
                        <a:pt x="7" y="52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5"/>
                <p:cNvSpPr/>
                <p:nvPr/>
              </p:nvSpPr>
              <p:spPr>
                <a:xfrm>
                  <a:off x="1561320" y="3261240"/>
                  <a:ext cx="64080" cy="7668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45" h="58">
                      <a:moveTo>
                        <a:pt x="38" y="0"/>
                      </a:moveTo>
                      <a:lnTo>
                        <a:pt x="36" y="2"/>
                      </a:lnTo>
                      <a:lnTo>
                        <a:pt x="30" y="3"/>
                      </a:lnTo>
                      <a:lnTo>
                        <a:pt x="22" y="6"/>
                      </a:lnTo>
                      <a:lnTo>
                        <a:pt x="15" y="11"/>
                      </a:lnTo>
                      <a:lnTo>
                        <a:pt x="7" y="15"/>
                      </a:lnTo>
                      <a:lnTo>
                        <a:pt x="1" y="20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3" y="38"/>
                      </a:lnTo>
                      <a:lnTo>
                        <a:pt x="29" y="50"/>
                      </a:lnTo>
                      <a:lnTo>
                        <a:pt x="41" y="58"/>
                      </a:lnTo>
                      <a:lnTo>
                        <a:pt x="45" y="52"/>
                      </a:lnTo>
                      <a:lnTo>
                        <a:pt x="44" y="35"/>
                      </a:lnTo>
                      <a:lnTo>
                        <a:pt x="42" y="18"/>
                      </a:lnTo>
                      <a:lnTo>
                        <a:pt x="39" y="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7"/>
                <p:cNvSpPr/>
                <p:nvPr/>
              </p:nvSpPr>
              <p:spPr>
                <a:xfrm>
                  <a:off x="2509920" y="4708440"/>
                  <a:ext cx="604800" cy="439920"/>
                </a:xfrm>
                <a:custGeom>
                  <a:avLst/>
                  <a:gdLst>
                    <a:gd name="textAreaLeft" fmla="*/ 0 w 604800"/>
                    <a:gd name="textAreaRight" fmla="*/ 605160 w 60480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424" h="332">
                      <a:moveTo>
                        <a:pt x="299" y="66"/>
                      </a:moveTo>
                      <a:lnTo>
                        <a:pt x="291" y="65"/>
                      </a:lnTo>
                      <a:lnTo>
                        <a:pt x="284" y="63"/>
                      </a:lnTo>
                      <a:lnTo>
                        <a:pt x="276" y="63"/>
                      </a:lnTo>
                      <a:lnTo>
                        <a:pt x="269" y="62"/>
                      </a:lnTo>
                      <a:lnTo>
                        <a:pt x="260" y="60"/>
                      </a:lnTo>
                      <a:lnTo>
                        <a:pt x="254" y="59"/>
                      </a:lnTo>
                      <a:lnTo>
                        <a:pt x="248" y="59"/>
                      </a:lnTo>
                      <a:lnTo>
                        <a:pt x="243" y="57"/>
                      </a:lnTo>
                      <a:lnTo>
                        <a:pt x="239" y="54"/>
                      </a:lnTo>
                      <a:lnTo>
                        <a:pt x="239" y="48"/>
                      </a:lnTo>
                      <a:lnTo>
                        <a:pt x="243" y="42"/>
                      </a:lnTo>
                      <a:lnTo>
                        <a:pt x="251" y="36"/>
                      </a:lnTo>
                      <a:lnTo>
                        <a:pt x="252" y="30"/>
                      </a:lnTo>
                      <a:lnTo>
                        <a:pt x="245" y="22"/>
                      </a:lnTo>
                      <a:lnTo>
                        <a:pt x="234" y="16"/>
                      </a:lnTo>
                      <a:lnTo>
                        <a:pt x="227" y="10"/>
                      </a:lnTo>
                      <a:lnTo>
                        <a:pt x="222" y="6"/>
                      </a:lnTo>
                      <a:lnTo>
                        <a:pt x="217" y="1"/>
                      </a:lnTo>
                      <a:lnTo>
                        <a:pt x="213" y="0"/>
                      </a:lnTo>
                      <a:lnTo>
                        <a:pt x="211" y="4"/>
                      </a:lnTo>
                      <a:lnTo>
                        <a:pt x="205" y="10"/>
                      </a:lnTo>
                      <a:lnTo>
                        <a:pt x="193" y="18"/>
                      </a:lnTo>
                      <a:lnTo>
                        <a:pt x="180" y="24"/>
                      </a:lnTo>
                      <a:lnTo>
                        <a:pt x="168" y="30"/>
                      </a:lnTo>
                      <a:lnTo>
                        <a:pt x="160" y="35"/>
                      </a:lnTo>
                      <a:lnTo>
                        <a:pt x="155" y="39"/>
                      </a:lnTo>
                      <a:lnTo>
                        <a:pt x="148" y="41"/>
                      </a:lnTo>
                      <a:lnTo>
                        <a:pt x="139" y="42"/>
                      </a:lnTo>
                      <a:lnTo>
                        <a:pt x="133" y="44"/>
                      </a:lnTo>
                      <a:lnTo>
                        <a:pt x="125" y="45"/>
                      </a:lnTo>
                      <a:lnTo>
                        <a:pt x="116" y="50"/>
                      </a:lnTo>
                      <a:lnTo>
                        <a:pt x="109" y="54"/>
                      </a:lnTo>
                      <a:lnTo>
                        <a:pt x="100" y="60"/>
                      </a:lnTo>
                      <a:lnTo>
                        <a:pt x="92" y="66"/>
                      </a:lnTo>
                      <a:lnTo>
                        <a:pt x="86" y="74"/>
                      </a:lnTo>
                      <a:lnTo>
                        <a:pt x="80" y="81"/>
                      </a:lnTo>
                      <a:lnTo>
                        <a:pt x="75" y="89"/>
                      </a:lnTo>
                      <a:lnTo>
                        <a:pt x="71" y="93"/>
                      </a:lnTo>
                      <a:lnTo>
                        <a:pt x="65" y="99"/>
                      </a:lnTo>
                      <a:lnTo>
                        <a:pt x="59" y="104"/>
                      </a:lnTo>
                      <a:lnTo>
                        <a:pt x="53" y="109"/>
                      </a:lnTo>
                      <a:lnTo>
                        <a:pt x="45" y="115"/>
                      </a:lnTo>
                      <a:lnTo>
                        <a:pt x="36" y="119"/>
                      </a:lnTo>
                      <a:lnTo>
                        <a:pt x="27" y="125"/>
                      </a:lnTo>
                      <a:lnTo>
                        <a:pt x="16" y="128"/>
                      </a:lnTo>
                      <a:lnTo>
                        <a:pt x="7" y="128"/>
                      </a:lnTo>
                      <a:lnTo>
                        <a:pt x="1" y="137"/>
                      </a:lnTo>
                      <a:lnTo>
                        <a:pt x="0" y="170"/>
                      </a:lnTo>
                      <a:lnTo>
                        <a:pt x="0" y="184"/>
                      </a:lnTo>
                      <a:lnTo>
                        <a:pt x="1" y="192"/>
                      </a:lnTo>
                      <a:lnTo>
                        <a:pt x="3" y="198"/>
                      </a:lnTo>
                      <a:lnTo>
                        <a:pt x="7" y="205"/>
                      </a:lnTo>
                      <a:lnTo>
                        <a:pt x="15" y="211"/>
                      </a:lnTo>
                      <a:lnTo>
                        <a:pt x="22" y="216"/>
                      </a:lnTo>
                      <a:lnTo>
                        <a:pt x="25" y="222"/>
                      </a:lnTo>
                      <a:lnTo>
                        <a:pt x="24" y="231"/>
                      </a:lnTo>
                      <a:lnTo>
                        <a:pt x="19" y="240"/>
                      </a:lnTo>
                      <a:lnTo>
                        <a:pt x="15" y="247"/>
                      </a:lnTo>
                      <a:lnTo>
                        <a:pt x="12" y="256"/>
                      </a:lnTo>
                      <a:lnTo>
                        <a:pt x="12" y="269"/>
                      </a:lnTo>
                      <a:lnTo>
                        <a:pt x="15" y="275"/>
                      </a:lnTo>
                      <a:lnTo>
                        <a:pt x="19" y="279"/>
                      </a:lnTo>
                      <a:lnTo>
                        <a:pt x="29" y="284"/>
                      </a:lnTo>
                      <a:lnTo>
                        <a:pt x="38" y="285"/>
                      </a:lnTo>
                      <a:lnTo>
                        <a:pt x="47" y="285"/>
                      </a:lnTo>
                      <a:lnTo>
                        <a:pt x="57" y="285"/>
                      </a:lnTo>
                      <a:lnTo>
                        <a:pt x="66" y="284"/>
                      </a:lnTo>
                      <a:lnTo>
                        <a:pt x="74" y="281"/>
                      </a:lnTo>
                      <a:lnTo>
                        <a:pt x="80" y="278"/>
                      </a:lnTo>
                      <a:lnTo>
                        <a:pt x="87" y="275"/>
                      </a:lnTo>
                      <a:lnTo>
                        <a:pt x="95" y="272"/>
                      </a:lnTo>
                      <a:lnTo>
                        <a:pt x="103" y="269"/>
                      </a:lnTo>
                      <a:lnTo>
                        <a:pt x="112" y="266"/>
                      </a:lnTo>
                      <a:lnTo>
                        <a:pt x="121" y="263"/>
                      </a:lnTo>
                      <a:lnTo>
                        <a:pt x="130" y="259"/>
                      </a:lnTo>
                      <a:lnTo>
                        <a:pt x="139" y="256"/>
                      </a:lnTo>
                      <a:lnTo>
                        <a:pt x="149" y="253"/>
                      </a:lnTo>
                      <a:lnTo>
                        <a:pt x="162" y="252"/>
                      </a:lnTo>
                      <a:lnTo>
                        <a:pt x="175" y="250"/>
                      </a:lnTo>
                      <a:lnTo>
                        <a:pt x="189" y="249"/>
                      </a:lnTo>
                      <a:lnTo>
                        <a:pt x="202" y="250"/>
                      </a:lnTo>
                      <a:lnTo>
                        <a:pt x="216" y="252"/>
                      </a:lnTo>
                      <a:lnTo>
                        <a:pt x="228" y="256"/>
                      </a:lnTo>
                      <a:lnTo>
                        <a:pt x="239" y="261"/>
                      </a:lnTo>
                      <a:lnTo>
                        <a:pt x="248" y="267"/>
                      </a:lnTo>
                      <a:lnTo>
                        <a:pt x="257" y="275"/>
                      </a:lnTo>
                      <a:lnTo>
                        <a:pt x="264" y="282"/>
                      </a:lnTo>
                      <a:lnTo>
                        <a:pt x="272" y="291"/>
                      </a:lnTo>
                      <a:lnTo>
                        <a:pt x="278" y="300"/>
                      </a:lnTo>
                      <a:lnTo>
                        <a:pt x="285" y="308"/>
                      </a:lnTo>
                      <a:lnTo>
                        <a:pt x="290" y="315"/>
                      </a:lnTo>
                      <a:lnTo>
                        <a:pt x="295" y="323"/>
                      </a:lnTo>
                      <a:lnTo>
                        <a:pt x="301" y="327"/>
                      </a:lnTo>
                      <a:lnTo>
                        <a:pt x="310" y="330"/>
                      </a:lnTo>
                      <a:lnTo>
                        <a:pt x="320" y="332"/>
                      </a:lnTo>
                      <a:lnTo>
                        <a:pt x="332" y="330"/>
                      </a:lnTo>
                      <a:lnTo>
                        <a:pt x="344" y="329"/>
                      </a:lnTo>
                      <a:lnTo>
                        <a:pt x="353" y="327"/>
                      </a:lnTo>
                      <a:lnTo>
                        <a:pt x="361" y="324"/>
                      </a:lnTo>
                      <a:lnTo>
                        <a:pt x="364" y="320"/>
                      </a:lnTo>
                      <a:lnTo>
                        <a:pt x="367" y="309"/>
                      </a:lnTo>
                      <a:lnTo>
                        <a:pt x="373" y="296"/>
                      </a:lnTo>
                      <a:lnTo>
                        <a:pt x="379" y="284"/>
                      </a:lnTo>
                      <a:lnTo>
                        <a:pt x="382" y="273"/>
                      </a:lnTo>
                      <a:lnTo>
                        <a:pt x="387" y="264"/>
                      </a:lnTo>
                      <a:lnTo>
                        <a:pt x="396" y="253"/>
                      </a:lnTo>
                      <a:lnTo>
                        <a:pt x="405" y="243"/>
                      </a:lnTo>
                      <a:lnTo>
                        <a:pt x="409" y="232"/>
                      </a:lnTo>
                      <a:lnTo>
                        <a:pt x="411" y="222"/>
                      </a:lnTo>
                      <a:lnTo>
                        <a:pt x="415" y="210"/>
                      </a:lnTo>
                      <a:lnTo>
                        <a:pt x="421" y="198"/>
                      </a:lnTo>
                      <a:lnTo>
                        <a:pt x="424" y="186"/>
                      </a:lnTo>
                      <a:lnTo>
                        <a:pt x="423" y="179"/>
                      </a:lnTo>
                      <a:lnTo>
                        <a:pt x="420" y="172"/>
                      </a:lnTo>
                      <a:lnTo>
                        <a:pt x="414" y="166"/>
                      </a:lnTo>
                      <a:lnTo>
                        <a:pt x="408" y="160"/>
                      </a:lnTo>
                      <a:lnTo>
                        <a:pt x="400" y="152"/>
                      </a:lnTo>
                      <a:lnTo>
                        <a:pt x="393" y="146"/>
                      </a:lnTo>
                      <a:lnTo>
                        <a:pt x="385" y="142"/>
                      </a:lnTo>
                      <a:lnTo>
                        <a:pt x="381" y="136"/>
                      </a:lnTo>
                      <a:lnTo>
                        <a:pt x="367" y="121"/>
                      </a:lnTo>
                      <a:lnTo>
                        <a:pt x="356" y="109"/>
                      </a:lnTo>
                      <a:lnTo>
                        <a:pt x="347" y="98"/>
                      </a:lnTo>
                      <a:lnTo>
                        <a:pt x="343" y="86"/>
                      </a:lnTo>
                      <a:lnTo>
                        <a:pt x="340" y="71"/>
                      </a:lnTo>
                      <a:lnTo>
                        <a:pt x="338" y="56"/>
                      </a:lnTo>
                      <a:lnTo>
                        <a:pt x="337" y="42"/>
                      </a:lnTo>
                      <a:lnTo>
                        <a:pt x="332" y="30"/>
                      </a:lnTo>
                      <a:lnTo>
                        <a:pt x="326" y="19"/>
                      </a:lnTo>
                      <a:lnTo>
                        <a:pt x="319" y="12"/>
                      </a:lnTo>
                      <a:lnTo>
                        <a:pt x="311" y="4"/>
                      </a:lnTo>
                      <a:lnTo>
                        <a:pt x="305" y="0"/>
                      </a:lnTo>
                      <a:lnTo>
                        <a:pt x="308" y="15"/>
                      </a:lnTo>
                      <a:lnTo>
                        <a:pt x="311" y="30"/>
                      </a:lnTo>
                      <a:lnTo>
                        <a:pt x="311" y="44"/>
                      </a:lnTo>
                      <a:lnTo>
                        <a:pt x="311" y="54"/>
                      </a:lnTo>
                      <a:lnTo>
                        <a:pt x="311" y="60"/>
                      </a:lnTo>
                      <a:lnTo>
                        <a:pt x="308" y="65"/>
                      </a:lnTo>
                      <a:lnTo>
                        <a:pt x="305" y="66"/>
                      </a:lnTo>
                      <a:lnTo>
                        <a:pt x="299" y="6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8"/>
                <p:cNvSpPr/>
                <p:nvPr/>
              </p:nvSpPr>
              <p:spPr>
                <a:xfrm>
                  <a:off x="2455560" y="4446000"/>
                  <a:ext cx="118080" cy="156240"/>
                </a:xfrm>
                <a:custGeom>
                  <a:avLst/>
                  <a:gdLst>
                    <a:gd name="textAreaLeft" fmla="*/ 0 w 118080"/>
                    <a:gd name="textAreaRight" fmla="*/ 118440 w 11808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83" h="118">
                      <a:moveTo>
                        <a:pt x="24" y="42"/>
                      </a:moveTo>
                      <a:lnTo>
                        <a:pt x="35" y="38"/>
                      </a:lnTo>
                      <a:lnTo>
                        <a:pt x="42" y="30"/>
                      </a:lnTo>
                      <a:lnTo>
                        <a:pt x="48" y="23"/>
                      </a:lnTo>
                      <a:lnTo>
                        <a:pt x="56" y="14"/>
                      </a:lnTo>
                      <a:lnTo>
                        <a:pt x="63" y="6"/>
                      </a:lnTo>
                      <a:lnTo>
                        <a:pt x="73" y="0"/>
                      </a:lnTo>
                      <a:lnTo>
                        <a:pt x="80" y="3"/>
                      </a:lnTo>
                      <a:lnTo>
                        <a:pt x="83" y="15"/>
                      </a:lnTo>
                      <a:lnTo>
                        <a:pt x="83" y="30"/>
                      </a:lnTo>
                      <a:lnTo>
                        <a:pt x="82" y="42"/>
                      </a:lnTo>
                      <a:lnTo>
                        <a:pt x="79" y="53"/>
                      </a:lnTo>
                      <a:lnTo>
                        <a:pt x="80" y="63"/>
                      </a:lnTo>
                      <a:lnTo>
                        <a:pt x="80" y="74"/>
                      </a:lnTo>
                      <a:lnTo>
                        <a:pt x="77" y="85"/>
                      </a:lnTo>
                      <a:lnTo>
                        <a:pt x="71" y="94"/>
                      </a:lnTo>
                      <a:lnTo>
                        <a:pt x="62" y="98"/>
                      </a:lnTo>
                      <a:lnTo>
                        <a:pt x="53" y="101"/>
                      </a:lnTo>
                      <a:lnTo>
                        <a:pt x="44" y="106"/>
                      </a:lnTo>
                      <a:lnTo>
                        <a:pt x="36" y="110"/>
                      </a:lnTo>
                      <a:lnTo>
                        <a:pt x="32" y="115"/>
                      </a:lnTo>
                      <a:lnTo>
                        <a:pt x="27" y="118"/>
                      </a:lnTo>
                      <a:lnTo>
                        <a:pt x="20" y="116"/>
                      </a:lnTo>
                      <a:lnTo>
                        <a:pt x="12" y="112"/>
                      </a:lnTo>
                      <a:lnTo>
                        <a:pt x="6" y="104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8" y="54"/>
                      </a:lnTo>
                      <a:lnTo>
                        <a:pt x="24" y="4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9"/>
                <p:cNvSpPr/>
                <p:nvPr/>
              </p:nvSpPr>
              <p:spPr>
                <a:xfrm>
                  <a:off x="2219040" y="4525560"/>
                  <a:ext cx="178200" cy="158760"/>
                </a:xfrm>
                <a:custGeom>
                  <a:avLst/>
                  <a:gdLst>
                    <a:gd name="textAreaLeft" fmla="*/ 0 w 178200"/>
                    <a:gd name="textAreaRight" fmla="*/ 178560 w 17820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5" h="120">
                      <a:moveTo>
                        <a:pt x="0" y="3"/>
                      </a:moveTo>
                      <a:lnTo>
                        <a:pt x="1" y="11"/>
                      </a:lnTo>
                      <a:lnTo>
                        <a:pt x="13" y="17"/>
                      </a:lnTo>
                      <a:lnTo>
                        <a:pt x="27" y="25"/>
                      </a:lnTo>
                      <a:lnTo>
                        <a:pt x="36" y="35"/>
                      </a:lnTo>
                      <a:lnTo>
                        <a:pt x="42" y="44"/>
                      </a:lnTo>
                      <a:lnTo>
                        <a:pt x="47" y="52"/>
                      </a:lnTo>
                      <a:lnTo>
                        <a:pt x="51" y="59"/>
                      </a:lnTo>
                      <a:lnTo>
                        <a:pt x="56" y="68"/>
                      </a:lnTo>
                      <a:lnTo>
                        <a:pt x="62" y="79"/>
                      </a:lnTo>
                      <a:lnTo>
                        <a:pt x="71" y="91"/>
                      </a:lnTo>
                      <a:lnTo>
                        <a:pt x="80" y="103"/>
                      </a:lnTo>
                      <a:lnTo>
                        <a:pt x="90" y="117"/>
                      </a:lnTo>
                      <a:lnTo>
                        <a:pt x="98" y="120"/>
                      </a:lnTo>
                      <a:lnTo>
                        <a:pt x="107" y="120"/>
                      </a:lnTo>
                      <a:lnTo>
                        <a:pt x="116" y="118"/>
                      </a:lnTo>
                      <a:lnTo>
                        <a:pt x="124" y="114"/>
                      </a:lnTo>
                      <a:lnTo>
                        <a:pt x="125" y="106"/>
                      </a:lnTo>
                      <a:lnTo>
                        <a:pt x="122" y="97"/>
                      </a:lnTo>
                      <a:lnTo>
                        <a:pt x="116" y="86"/>
                      </a:lnTo>
                      <a:lnTo>
                        <a:pt x="107" y="79"/>
                      </a:lnTo>
                      <a:lnTo>
                        <a:pt x="100" y="73"/>
                      </a:lnTo>
                      <a:lnTo>
                        <a:pt x="92" y="67"/>
                      </a:lnTo>
                      <a:lnTo>
                        <a:pt x="83" y="61"/>
                      </a:lnTo>
                      <a:lnTo>
                        <a:pt x="75" y="55"/>
                      </a:lnTo>
                      <a:lnTo>
                        <a:pt x="69" y="49"/>
                      </a:lnTo>
                      <a:lnTo>
                        <a:pt x="63" y="43"/>
                      </a:lnTo>
                      <a:lnTo>
                        <a:pt x="59" y="37"/>
                      </a:lnTo>
                      <a:lnTo>
                        <a:pt x="54" y="31"/>
                      </a:lnTo>
                      <a:lnTo>
                        <a:pt x="50" y="23"/>
                      </a:lnTo>
                      <a:lnTo>
                        <a:pt x="44" y="17"/>
                      </a:lnTo>
                      <a:lnTo>
                        <a:pt x="38" y="13"/>
                      </a:lnTo>
                      <a:lnTo>
                        <a:pt x="30" y="11"/>
                      </a:lnTo>
                      <a:lnTo>
                        <a:pt x="22" y="8"/>
                      </a:lnTo>
                      <a:lnTo>
                        <a:pt x="13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20"/>
                <p:cNvSpPr/>
                <p:nvPr/>
              </p:nvSpPr>
              <p:spPr>
                <a:xfrm>
                  <a:off x="2793600" y="3877560"/>
                  <a:ext cx="192240" cy="176040"/>
                </a:xfrm>
                <a:custGeom>
                  <a:avLst/>
                  <a:gdLst>
                    <a:gd name="textAreaLeft" fmla="*/ 0 w 192240"/>
                    <a:gd name="textAreaRight" fmla="*/ 192600 w 19224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35" h="133">
                      <a:moveTo>
                        <a:pt x="83" y="120"/>
                      </a:moveTo>
                      <a:lnTo>
                        <a:pt x="97" y="104"/>
                      </a:lnTo>
                      <a:lnTo>
                        <a:pt x="109" y="86"/>
                      </a:lnTo>
                      <a:lnTo>
                        <a:pt x="117" y="67"/>
                      </a:lnTo>
                      <a:lnTo>
                        <a:pt x="120" y="52"/>
                      </a:lnTo>
                      <a:lnTo>
                        <a:pt x="124" y="40"/>
                      </a:lnTo>
                      <a:lnTo>
                        <a:pt x="130" y="27"/>
                      </a:lnTo>
                      <a:lnTo>
                        <a:pt x="135" y="15"/>
                      </a:lnTo>
                      <a:lnTo>
                        <a:pt x="127" y="5"/>
                      </a:lnTo>
                      <a:lnTo>
                        <a:pt x="115" y="0"/>
                      </a:lnTo>
                      <a:lnTo>
                        <a:pt x="109" y="2"/>
                      </a:lnTo>
                      <a:lnTo>
                        <a:pt x="106" y="9"/>
                      </a:lnTo>
                      <a:lnTo>
                        <a:pt x="103" y="20"/>
                      </a:lnTo>
                      <a:lnTo>
                        <a:pt x="99" y="35"/>
                      </a:lnTo>
                      <a:lnTo>
                        <a:pt x="89" y="52"/>
                      </a:lnTo>
                      <a:lnTo>
                        <a:pt x="80" y="67"/>
                      </a:lnTo>
                      <a:lnTo>
                        <a:pt x="71" y="80"/>
                      </a:lnTo>
                      <a:lnTo>
                        <a:pt x="65" y="86"/>
                      </a:lnTo>
                      <a:lnTo>
                        <a:pt x="55" y="92"/>
                      </a:lnTo>
                      <a:lnTo>
                        <a:pt x="44" y="98"/>
                      </a:lnTo>
                      <a:lnTo>
                        <a:pt x="32" y="104"/>
                      </a:lnTo>
                      <a:lnTo>
                        <a:pt x="20" y="109"/>
                      </a:lnTo>
                      <a:lnTo>
                        <a:pt x="9" y="114"/>
                      </a:lnTo>
                      <a:lnTo>
                        <a:pt x="3" y="115"/>
                      </a:lnTo>
                      <a:lnTo>
                        <a:pt x="0" y="117"/>
                      </a:lnTo>
                      <a:lnTo>
                        <a:pt x="8" y="124"/>
                      </a:lnTo>
                      <a:lnTo>
                        <a:pt x="18" y="129"/>
                      </a:lnTo>
                      <a:lnTo>
                        <a:pt x="29" y="133"/>
                      </a:lnTo>
                      <a:lnTo>
                        <a:pt x="40" y="133"/>
                      </a:lnTo>
                      <a:lnTo>
                        <a:pt x="52" y="133"/>
                      </a:lnTo>
                      <a:lnTo>
                        <a:pt x="62" y="130"/>
                      </a:lnTo>
                      <a:lnTo>
                        <a:pt x="74" y="126"/>
                      </a:lnTo>
                      <a:lnTo>
                        <a:pt x="83" y="12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21"/>
                <p:cNvSpPr/>
                <p:nvPr/>
              </p:nvSpPr>
              <p:spPr>
                <a:xfrm>
                  <a:off x="2802240" y="4578480"/>
                  <a:ext cx="252360" cy="12168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177" h="92">
                      <a:moveTo>
                        <a:pt x="31" y="4"/>
                      </a:moveTo>
                      <a:lnTo>
                        <a:pt x="38" y="3"/>
                      </a:lnTo>
                      <a:lnTo>
                        <a:pt x="44" y="1"/>
                      </a:lnTo>
                      <a:lnTo>
                        <a:pt x="52" y="1"/>
                      </a:lnTo>
                      <a:lnTo>
                        <a:pt x="58" y="0"/>
                      </a:lnTo>
                      <a:lnTo>
                        <a:pt x="64" y="0"/>
                      </a:lnTo>
                      <a:lnTo>
                        <a:pt x="71" y="1"/>
                      </a:lnTo>
                      <a:lnTo>
                        <a:pt x="77" y="4"/>
                      </a:lnTo>
                      <a:lnTo>
                        <a:pt x="85" y="9"/>
                      </a:lnTo>
                      <a:lnTo>
                        <a:pt x="93" y="15"/>
                      </a:lnTo>
                      <a:lnTo>
                        <a:pt x="100" y="21"/>
                      </a:lnTo>
                      <a:lnTo>
                        <a:pt x="106" y="28"/>
                      </a:lnTo>
                      <a:lnTo>
                        <a:pt x="114" y="34"/>
                      </a:lnTo>
                      <a:lnTo>
                        <a:pt x="120" y="42"/>
                      </a:lnTo>
                      <a:lnTo>
                        <a:pt x="127" y="48"/>
                      </a:lnTo>
                      <a:lnTo>
                        <a:pt x="133" y="53"/>
                      </a:lnTo>
                      <a:lnTo>
                        <a:pt x="141" y="57"/>
                      </a:lnTo>
                      <a:lnTo>
                        <a:pt x="155" y="66"/>
                      </a:lnTo>
                      <a:lnTo>
                        <a:pt x="167" y="77"/>
                      </a:lnTo>
                      <a:lnTo>
                        <a:pt x="174" y="87"/>
                      </a:lnTo>
                      <a:lnTo>
                        <a:pt x="177" y="92"/>
                      </a:lnTo>
                      <a:lnTo>
                        <a:pt x="126" y="80"/>
                      </a:lnTo>
                      <a:lnTo>
                        <a:pt x="94" y="84"/>
                      </a:lnTo>
                      <a:lnTo>
                        <a:pt x="91" y="84"/>
                      </a:lnTo>
                      <a:lnTo>
                        <a:pt x="85" y="84"/>
                      </a:lnTo>
                      <a:lnTo>
                        <a:pt x="76" y="83"/>
                      </a:lnTo>
                      <a:lnTo>
                        <a:pt x="65" y="80"/>
                      </a:lnTo>
                      <a:lnTo>
                        <a:pt x="53" y="75"/>
                      </a:lnTo>
                      <a:lnTo>
                        <a:pt x="41" y="69"/>
                      </a:lnTo>
                      <a:lnTo>
                        <a:pt x="32" y="60"/>
                      </a:lnTo>
                      <a:lnTo>
                        <a:pt x="26" y="48"/>
                      </a:lnTo>
                      <a:lnTo>
                        <a:pt x="22" y="40"/>
                      </a:lnTo>
                      <a:lnTo>
                        <a:pt x="14" y="33"/>
                      </a:lnTo>
                      <a:lnTo>
                        <a:pt x="8" y="28"/>
                      </a:lnTo>
                      <a:lnTo>
                        <a:pt x="2" y="22"/>
                      </a:lnTo>
                      <a:lnTo>
                        <a:pt x="0" y="16"/>
                      </a:lnTo>
                      <a:lnTo>
                        <a:pt x="3" y="12"/>
                      </a:lnTo>
                      <a:lnTo>
                        <a:pt x="14" y="7"/>
                      </a:lnTo>
                      <a:lnTo>
                        <a:pt x="31" y="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22"/>
                <p:cNvSpPr/>
                <p:nvPr/>
              </p:nvSpPr>
              <p:spPr>
                <a:xfrm>
                  <a:off x="3278880" y="5153760"/>
                  <a:ext cx="116640" cy="13248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82" h="100">
                      <a:moveTo>
                        <a:pt x="23" y="53"/>
                      </a:moveTo>
                      <a:lnTo>
                        <a:pt x="29" y="50"/>
                      </a:lnTo>
                      <a:lnTo>
                        <a:pt x="37" y="46"/>
                      </a:lnTo>
                      <a:lnTo>
                        <a:pt x="46" y="38"/>
                      </a:lnTo>
                      <a:lnTo>
                        <a:pt x="53" y="29"/>
                      </a:lnTo>
                      <a:lnTo>
                        <a:pt x="62" y="22"/>
                      </a:lnTo>
                      <a:lnTo>
                        <a:pt x="70" y="13"/>
                      </a:lnTo>
                      <a:lnTo>
                        <a:pt x="76" y="7"/>
                      </a:lnTo>
                      <a:lnTo>
                        <a:pt x="79" y="2"/>
                      </a:lnTo>
                      <a:lnTo>
                        <a:pt x="82" y="0"/>
                      </a:lnTo>
                      <a:lnTo>
                        <a:pt x="82" y="4"/>
                      </a:lnTo>
                      <a:lnTo>
                        <a:pt x="82" y="13"/>
                      </a:lnTo>
                      <a:lnTo>
                        <a:pt x="80" y="26"/>
                      </a:lnTo>
                      <a:lnTo>
                        <a:pt x="77" y="40"/>
                      </a:lnTo>
                      <a:lnTo>
                        <a:pt x="70" y="50"/>
                      </a:lnTo>
                      <a:lnTo>
                        <a:pt x="61" y="58"/>
                      </a:lnTo>
                      <a:lnTo>
                        <a:pt x="52" y="62"/>
                      </a:lnTo>
                      <a:lnTo>
                        <a:pt x="47" y="67"/>
                      </a:lnTo>
                      <a:lnTo>
                        <a:pt x="44" y="76"/>
                      </a:lnTo>
                      <a:lnTo>
                        <a:pt x="44" y="87"/>
                      </a:lnTo>
                      <a:lnTo>
                        <a:pt x="44" y="94"/>
                      </a:lnTo>
                      <a:lnTo>
                        <a:pt x="38" y="99"/>
                      </a:lnTo>
                      <a:lnTo>
                        <a:pt x="26" y="100"/>
                      </a:lnTo>
                      <a:lnTo>
                        <a:pt x="11" y="97"/>
                      </a:lnTo>
                      <a:lnTo>
                        <a:pt x="2" y="90"/>
                      </a:lnTo>
                      <a:lnTo>
                        <a:pt x="0" y="79"/>
                      </a:lnTo>
                      <a:lnTo>
                        <a:pt x="3" y="67"/>
                      </a:lnTo>
                      <a:lnTo>
                        <a:pt x="11" y="58"/>
                      </a:lnTo>
                      <a:lnTo>
                        <a:pt x="23" y="5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23"/>
                <p:cNvSpPr/>
                <p:nvPr/>
              </p:nvSpPr>
              <p:spPr>
                <a:xfrm>
                  <a:off x="3402720" y="5058360"/>
                  <a:ext cx="91080" cy="1083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108360"/>
                    <a:gd name="textAreaBottom" fmla="*/ 108720 h 108360"/>
                  </a:gdLst>
                  <a:ahLst/>
                  <a:rect l="textAreaLeft" t="textAreaTop" r="textAreaRight" b="textAreaBottom"/>
                  <a:pathLst>
                    <a:path w="64" h="82">
                      <a:moveTo>
                        <a:pt x="3" y="0"/>
                      </a:moveTo>
                      <a:lnTo>
                        <a:pt x="12" y="6"/>
                      </a:lnTo>
                      <a:lnTo>
                        <a:pt x="21" y="18"/>
                      </a:lnTo>
                      <a:lnTo>
                        <a:pt x="28" y="30"/>
                      </a:lnTo>
                      <a:lnTo>
                        <a:pt x="34" y="36"/>
                      </a:lnTo>
                      <a:lnTo>
                        <a:pt x="42" y="36"/>
                      </a:lnTo>
                      <a:lnTo>
                        <a:pt x="51" y="36"/>
                      </a:lnTo>
                      <a:lnTo>
                        <a:pt x="60" y="38"/>
                      </a:lnTo>
                      <a:lnTo>
                        <a:pt x="64" y="42"/>
                      </a:lnTo>
                      <a:lnTo>
                        <a:pt x="64" y="50"/>
                      </a:lnTo>
                      <a:lnTo>
                        <a:pt x="61" y="57"/>
                      </a:lnTo>
                      <a:lnTo>
                        <a:pt x="55" y="66"/>
                      </a:lnTo>
                      <a:lnTo>
                        <a:pt x="49" y="74"/>
                      </a:lnTo>
                      <a:lnTo>
                        <a:pt x="43" y="79"/>
                      </a:lnTo>
                      <a:lnTo>
                        <a:pt x="37" y="82"/>
                      </a:lnTo>
                      <a:lnTo>
                        <a:pt x="30" y="80"/>
                      </a:lnTo>
                      <a:lnTo>
                        <a:pt x="24" y="74"/>
                      </a:lnTo>
                      <a:lnTo>
                        <a:pt x="19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41"/>
                      </a:lnTo>
                      <a:lnTo>
                        <a:pt x="13" y="33"/>
                      </a:lnTo>
                      <a:lnTo>
                        <a:pt x="9" y="24"/>
                      </a:lnTo>
                      <a:lnTo>
                        <a:pt x="3" y="18"/>
                      </a:lnTo>
                      <a:lnTo>
                        <a:pt x="0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25"/>
                <p:cNvSpPr/>
                <p:nvPr/>
              </p:nvSpPr>
              <p:spPr>
                <a:xfrm>
                  <a:off x="1362960" y="4725720"/>
                  <a:ext cx="115200" cy="22248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81" h="168">
                      <a:moveTo>
                        <a:pt x="54" y="3"/>
                      </a:moveTo>
                      <a:lnTo>
                        <a:pt x="69" y="0"/>
                      </a:lnTo>
                      <a:lnTo>
                        <a:pt x="77" y="3"/>
                      </a:lnTo>
                      <a:lnTo>
                        <a:pt x="81" y="12"/>
                      </a:lnTo>
                      <a:lnTo>
                        <a:pt x="81" y="25"/>
                      </a:lnTo>
                      <a:lnTo>
                        <a:pt x="80" y="38"/>
                      </a:lnTo>
                      <a:lnTo>
                        <a:pt x="77" y="53"/>
                      </a:lnTo>
                      <a:lnTo>
                        <a:pt x="74" y="67"/>
                      </a:lnTo>
                      <a:lnTo>
                        <a:pt x="72" y="79"/>
                      </a:lnTo>
                      <a:lnTo>
                        <a:pt x="72" y="102"/>
                      </a:lnTo>
                      <a:lnTo>
                        <a:pt x="71" y="124"/>
                      </a:lnTo>
                      <a:lnTo>
                        <a:pt x="68" y="144"/>
                      </a:lnTo>
                      <a:lnTo>
                        <a:pt x="65" y="156"/>
                      </a:lnTo>
                      <a:lnTo>
                        <a:pt x="62" y="159"/>
                      </a:lnTo>
                      <a:lnTo>
                        <a:pt x="57" y="162"/>
                      </a:lnTo>
                      <a:lnTo>
                        <a:pt x="50" y="165"/>
                      </a:lnTo>
                      <a:lnTo>
                        <a:pt x="42" y="168"/>
                      </a:lnTo>
                      <a:lnTo>
                        <a:pt x="33" y="168"/>
                      </a:lnTo>
                      <a:lnTo>
                        <a:pt x="25" y="166"/>
                      </a:lnTo>
                      <a:lnTo>
                        <a:pt x="19" y="160"/>
                      </a:lnTo>
                      <a:lnTo>
                        <a:pt x="13" y="153"/>
                      </a:lnTo>
                      <a:lnTo>
                        <a:pt x="6" y="132"/>
                      </a:lnTo>
                      <a:lnTo>
                        <a:pt x="1" y="114"/>
                      </a:lnTo>
                      <a:lnTo>
                        <a:pt x="0" y="99"/>
                      </a:lnTo>
                      <a:lnTo>
                        <a:pt x="1" y="88"/>
                      </a:lnTo>
                      <a:lnTo>
                        <a:pt x="6" y="77"/>
                      </a:lnTo>
                      <a:lnTo>
                        <a:pt x="13" y="65"/>
                      </a:lnTo>
                      <a:lnTo>
                        <a:pt x="24" y="56"/>
                      </a:lnTo>
                      <a:lnTo>
                        <a:pt x="33" y="53"/>
                      </a:lnTo>
                      <a:lnTo>
                        <a:pt x="39" y="46"/>
                      </a:lnTo>
                      <a:lnTo>
                        <a:pt x="44" y="29"/>
                      </a:lnTo>
                      <a:lnTo>
                        <a:pt x="48" y="12"/>
                      </a:lnTo>
                      <a:lnTo>
                        <a:pt x="54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30"/>
                <p:cNvSpPr/>
                <p:nvPr/>
              </p:nvSpPr>
              <p:spPr>
                <a:xfrm>
                  <a:off x="609120" y="3271680"/>
                  <a:ext cx="520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31"/>
                <p:cNvSpPr/>
                <p:nvPr/>
              </p:nvSpPr>
              <p:spPr>
                <a:xfrm>
                  <a:off x="822240" y="3570840"/>
                  <a:ext cx="70920" cy="1497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32"/>
                <p:cNvSpPr/>
                <p:nvPr/>
              </p:nvSpPr>
              <p:spPr>
                <a:xfrm flipH="1">
                  <a:off x="2674440" y="3270960"/>
                  <a:ext cx="1068840" cy="6156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33"/>
                <p:cNvSpPr/>
                <p:nvPr/>
              </p:nvSpPr>
              <p:spPr>
                <a:xfrm>
                  <a:off x="3641400" y="2822040"/>
                  <a:ext cx="8157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South</a:t>
                  </a: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 </a:t>
                  </a: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Kore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34"/>
                <p:cNvSpPr/>
                <p:nvPr/>
              </p:nvSpPr>
              <p:spPr>
                <a:xfrm flipH="1" flipV="1">
                  <a:off x="3401280" y="5196960"/>
                  <a:ext cx="555840" cy="32112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37"/>
                <p:cNvSpPr/>
                <p:nvPr/>
              </p:nvSpPr>
              <p:spPr>
                <a:xfrm flipH="1">
                  <a:off x="1320840" y="3046320"/>
                  <a:ext cx="70920" cy="44928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Text Box 39"/>
                <p:cNvSpPr/>
                <p:nvPr/>
              </p:nvSpPr>
              <p:spPr>
                <a:xfrm>
                  <a:off x="3713760" y="5593320"/>
                  <a:ext cx="1271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New Zealan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40"/>
                <p:cNvSpPr/>
                <p:nvPr/>
              </p:nvSpPr>
              <p:spPr>
                <a:xfrm>
                  <a:off x="1768680" y="5144040"/>
                  <a:ext cx="1035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Singapor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41"/>
                <p:cNvSpPr/>
                <p:nvPr/>
              </p:nvSpPr>
              <p:spPr>
                <a:xfrm>
                  <a:off x="2625480" y="4241880"/>
                  <a:ext cx="84276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Trebuchet MS"/>
                    </a:rPr>
                    <a:t>Malaysi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V="1">
                  <a:off x="1392480" y="4300920"/>
                  <a:ext cx="522000" cy="76716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 flipH="1">
                  <a:off x="2367000" y="2896560"/>
                  <a:ext cx="663480" cy="104364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Text Box 44"/>
                <p:cNvSpPr/>
                <p:nvPr/>
              </p:nvSpPr>
              <p:spPr>
                <a:xfrm>
                  <a:off x="2945160" y="2671200"/>
                  <a:ext cx="659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hi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45"/>
                <p:cNvSpPr/>
                <p:nvPr/>
              </p:nvSpPr>
              <p:spPr>
                <a:xfrm flipV="1">
                  <a:off x="2299680" y="4602600"/>
                  <a:ext cx="67320" cy="54072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46"/>
                <p:cNvSpPr/>
                <p:nvPr/>
              </p:nvSpPr>
              <p:spPr>
                <a:xfrm flipH="1" flipV="1">
                  <a:off x="2817000" y="4619520"/>
                  <a:ext cx="56988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Text Box 47"/>
                <p:cNvSpPr/>
                <p:nvPr/>
              </p:nvSpPr>
              <p:spPr>
                <a:xfrm>
                  <a:off x="3313440" y="3720960"/>
                  <a:ext cx="657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66"/>
                      </a:solidFill>
                      <a:latin typeface="Trebuchet MS"/>
                    </a:rPr>
                    <a:t>Japó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49"/>
                <p:cNvSpPr/>
                <p:nvPr/>
              </p:nvSpPr>
              <p:spPr>
                <a:xfrm flipH="1">
                  <a:off x="2432160" y="4361400"/>
                  <a:ext cx="257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50"/>
                <p:cNvSpPr/>
                <p:nvPr/>
              </p:nvSpPr>
              <p:spPr>
                <a:xfrm flipV="1">
                  <a:off x="2033640" y="4394520"/>
                  <a:ext cx="213480" cy="37440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51"/>
                <p:cNvSpPr/>
                <p:nvPr/>
              </p:nvSpPr>
              <p:spPr>
                <a:xfrm>
                  <a:off x="1534680" y="4694760"/>
                  <a:ext cx="89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0000"/>
                      </a:solidFill>
                      <a:latin typeface="Trebuchet MS"/>
                    </a:rPr>
                    <a:t>Vietn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Text Box 52"/>
                <p:cNvSpPr/>
                <p:nvPr/>
              </p:nvSpPr>
              <p:spPr>
                <a:xfrm>
                  <a:off x="3387240" y="4694760"/>
                  <a:ext cx="711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Brune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53"/>
                <p:cNvSpPr/>
                <p:nvPr/>
              </p:nvSpPr>
              <p:spPr>
                <a:xfrm flipH="1" flipV="1">
                  <a:off x="2817000" y="4919040"/>
                  <a:ext cx="455400" cy="5241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54"/>
                <p:cNvSpPr/>
                <p:nvPr/>
              </p:nvSpPr>
              <p:spPr>
                <a:xfrm>
                  <a:off x="2729880" y="5367960"/>
                  <a:ext cx="919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Austral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55"/>
                <p:cNvSpPr/>
                <p:nvPr/>
              </p:nvSpPr>
              <p:spPr>
                <a:xfrm flipH="1">
                  <a:off x="1249560" y="3046320"/>
                  <a:ext cx="569880" cy="74880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56"/>
                <p:cNvSpPr/>
                <p:nvPr/>
              </p:nvSpPr>
              <p:spPr>
                <a:xfrm>
                  <a:off x="1594800" y="2746080"/>
                  <a:ext cx="749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rebuchet MS"/>
                    </a:rPr>
                    <a:t>Turke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64"/>
                <p:cNvSpPr/>
                <p:nvPr/>
              </p:nvSpPr>
              <p:spPr>
                <a:xfrm>
                  <a:off x="1013040" y="49932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In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74"/>
                <p:cNvSpPr/>
                <p:nvPr/>
              </p:nvSpPr>
              <p:spPr>
                <a:xfrm flipH="1">
                  <a:off x="2959560" y="3870360"/>
                  <a:ext cx="356040" cy="7488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78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79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80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30"/>
                <p:cNvSpPr/>
                <p:nvPr/>
              </p:nvSpPr>
              <p:spPr>
                <a:xfrm>
                  <a:off x="1036080" y="2822040"/>
                  <a:ext cx="64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F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4"/>
                <p:cNvSpPr/>
                <p:nvPr/>
              </p:nvSpPr>
              <p:spPr>
                <a:xfrm>
                  <a:off x="6404040" y="4312080"/>
                  <a:ext cx="673200" cy="1058760"/>
                </a:xfrm>
                <a:custGeom>
                  <a:avLst/>
                  <a:gdLst>
                    <a:gd name="textAreaLeft" fmla="*/ 0 w 673200"/>
                    <a:gd name="textAreaRight" fmla="*/ 673560 w 673200"/>
                    <a:gd name="textAreaTop" fmla="*/ 0 h 1058760"/>
                    <a:gd name="textAreaBottom" fmla="*/ 1059120 h 1058760"/>
                  </a:gdLst>
                  <a:ahLst/>
                  <a:rect l="textAreaLeft" t="textAreaTop" r="textAreaRight" b="textAreaBottom"/>
                  <a:pathLst>
                    <a:path w="472" h="799">
                      <a:moveTo>
                        <a:pt x="15" y="52"/>
                      </a:moveTo>
                      <a:lnTo>
                        <a:pt x="6" y="86"/>
                      </a:lnTo>
                      <a:lnTo>
                        <a:pt x="0" y="133"/>
                      </a:lnTo>
                      <a:lnTo>
                        <a:pt x="2" y="183"/>
                      </a:lnTo>
                      <a:lnTo>
                        <a:pt x="12" y="224"/>
                      </a:lnTo>
                      <a:lnTo>
                        <a:pt x="23" y="239"/>
                      </a:lnTo>
                      <a:lnTo>
                        <a:pt x="35" y="254"/>
                      </a:lnTo>
                      <a:lnTo>
                        <a:pt x="48" y="268"/>
                      </a:lnTo>
                      <a:lnTo>
                        <a:pt x="62" y="281"/>
                      </a:lnTo>
                      <a:lnTo>
                        <a:pt x="74" y="295"/>
                      </a:lnTo>
                      <a:lnTo>
                        <a:pt x="86" y="308"/>
                      </a:lnTo>
                      <a:lnTo>
                        <a:pt x="94" y="322"/>
                      </a:lnTo>
                      <a:lnTo>
                        <a:pt x="100" y="337"/>
                      </a:lnTo>
                      <a:lnTo>
                        <a:pt x="106" y="367"/>
                      </a:lnTo>
                      <a:lnTo>
                        <a:pt x="107" y="402"/>
                      </a:lnTo>
                      <a:lnTo>
                        <a:pt x="104" y="438"/>
                      </a:lnTo>
                      <a:lnTo>
                        <a:pt x="97" y="476"/>
                      </a:lnTo>
                      <a:lnTo>
                        <a:pt x="91" y="500"/>
                      </a:lnTo>
                      <a:lnTo>
                        <a:pt x="88" y="524"/>
                      </a:lnTo>
                      <a:lnTo>
                        <a:pt x="86" y="550"/>
                      </a:lnTo>
                      <a:lnTo>
                        <a:pt x="85" y="574"/>
                      </a:lnTo>
                      <a:lnTo>
                        <a:pt x="83" y="597"/>
                      </a:lnTo>
                      <a:lnTo>
                        <a:pt x="82" y="618"/>
                      </a:lnTo>
                      <a:lnTo>
                        <a:pt x="79" y="637"/>
                      </a:lnTo>
                      <a:lnTo>
                        <a:pt x="76" y="653"/>
                      </a:lnTo>
                      <a:lnTo>
                        <a:pt x="70" y="668"/>
                      </a:lnTo>
                      <a:lnTo>
                        <a:pt x="65" y="686"/>
                      </a:lnTo>
                      <a:lnTo>
                        <a:pt x="62" y="702"/>
                      </a:lnTo>
                      <a:lnTo>
                        <a:pt x="67" y="719"/>
                      </a:lnTo>
                      <a:lnTo>
                        <a:pt x="74" y="737"/>
                      </a:lnTo>
                      <a:lnTo>
                        <a:pt x="85" y="758"/>
                      </a:lnTo>
                      <a:lnTo>
                        <a:pt x="95" y="778"/>
                      </a:lnTo>
                      <a:lnTo>
                        <a:pt x="107" y="790"/>
                      </a:lnTo>
                      <a:lnTo>
                        <a:pt x="115" y="793"/>
                      </a:lnTo>
                      <a:lnTo>
                        <a:pt x="122" y="794"/>
                      </a:lnTo>
                      <a:lnTo>
                        <a:pt x="130" y="797"/>
                      </a:lnTo>
                      <a:lnTo>
                        <a:pt x="138" y="797"/>
                      </a:lnTo>
                      <a:lnTo>
                        <a:pt x="147" y="799"/>
                      </a:lnTo>
                      <a:lnTo>
                        <a:pt x="153" y="799"/>
                      </a:lnTo>
                      <a:lnTo>
                        <a:pt x="159" y="797"/>
                      </a:lnTo>
                      <a:lnTo>
                        <a:pt x="163" y="796"/>
                      </a:lnTo>
                      <a:lnTo>
                        <a:pt x="163" y="790"/>
                      </a:lnTo>
                      <a:lnTo>
                        <a:pt x="159" y="787"/>
                      </a:lnTo>
                      <a:lnTo>
                        <a:pt x="154" y="782"/>
                      </a:lnTo>
                      <a:lnTo>
                        <a:pt x="148" y="775"/>
                      </a:lnTo>
                      <a:lnTo>
                        <a:pt x="142" y="766"/>
                      </a:lnTo>
                      <a:lnTo>
                        <a:pt x="138" y="754"/>
                      </a:lnTo>
                      <a:lnTo>
                        <a:pt x="135" y="737"/>
                      </a:lnTo>
                      <a:lnTo>
                        <a:pt x="136" y="714"/>
                      </a:lnTo>
                      <a:lnTo>
                        <a:pt x="142" y="693"/>
                      </a:lnTo>
                      <a:lnTo>
                        <a:pt x="150" y="680"/>
                      </a:lnTo>
                      <a:lnTo>
                        <a:pt x="160" y="669"/>
                      </a:lnTo>
                      <a:lnTo>
                        <a:pt x="172" y="659"/>
                      </a:lnTo>
                      <a:lnTo>
                        <a:pt x="184" y="646"/>
                      </a:lnTo>
                      <a:lnTo>
                        <a:pt x="192" y="631"/>
                      </a:lnTo>
                      <a:lnTo>
                        <a:pt x="198" y="615"/>
                      </a:lnTo>
                      <a:lnTo>
                        <a:pt x="204" y="600"/>
                      </a:lnTo>
                      <a:lnTo>
                        <a:pt x="212" y="588"/>
                      </a:lnTo>
                      <a:lnTo>
                        <a:pt x="221" y="582"/>
                      </a:lnTo>
                      <a:lnTo>
                        <a:pt x="231" y="577"/>
                      </a:lnTo>
                      <a:lnTo>
                        <a:pt x="242" y="571"/>
                      </a:lnTo>
                      <a:lnTo>
                        <a:pt x="251" y="563"/>
                      </a:lnTo>
                      <a:lnTo>
                        <a:pt x="260" y="551"/>
                      </a:lnTo>
                      <a:lnTo>
                        <a:pt x="268" y="541"/>
                      </a:lnTo>
                      <a:lnTo>
                        <a:pt x="275" y="532"/>
                      </a:lnTo>
                      <a:lnTo>
                        <a:pt x="283" y="523"/>
                      </a:lnTo>
                      <a:lnTo>
                        <a:pt x="290" y="514"/>
                      </a:lnTo>
                      <a:lnTo>
                        <a:pt x="296" y="505"/>
                      </a:lnTo>
                      <a:lnTo>
                        <a:pt x="304" y="494"/>
                      </a:lnTo>
                      <a:lnTo>
                        <a:pt x="310" y="485"/>
                      </a:lnTo>
                      <a:lnTo>
                        <a:pt x="313" y="477"/>
                      </a:lnTo>
                      <a:lnTo>
                        <a:pt x="317" y="470"/>
                      </a:lnTo>
                      <a:lnTo>
                        <a:pt x="323" y="462"/>
                      </a:lnTo>
                      <a:lnTo>
                        <a:pt x="326" y="452"/>
                      </a:lnTo>
                      <a:lnTo>
                        <a:pt x="325" y="440"/>
                      </a:lnTo>
                      <a:lnTo>
                        <a:pt x="323" y="429"/>
                      </a:lnTo>
                      <a:lnTo>
                        <a:pt x="326" y="422"/>
                      </a:lnTo>
                      <a:lnTo>
                        <a:pt x="334" y="419"/>
                      </a:lnTo>
                      <a:lnTo>
                        <a:pt x="343" y="417"/>
                      </a:lnTo>
                      <a:lnTo>
                        <a:pt x="351" y="417"/>
                      </a:lnTo>
                      <a:lnTo>
                        <a:pt x="360" y="414"/>
                      </a:lnTo>
                      <a:lnTo>
                        <a:pt x="369" y="411"/>
                      </a:lnTo>
                      <a:lnTo>
                        <a:pt x="379" y="406"/>
                      </a:lnTo>
                      <a:lnTo>
                        <a:pt x="390" y="402"/>
                      </a:lnTo>
                      <a:lnTo>
                        <a:pt x="401" y="400"/>
                      </a:lnTo>
                      <a:lnTo>
                        <a:pt x="410" y="399"/>
                      </a:lnTo>
                      <a:lnTo>
                        <a:pt x="417" y="393"/>
                      </a:lnTo>
                      <a:lnTo>
                        <a:pt x="423" y="385"/>
                      </a:lnTo>
                      <a:lnTo>
                        <a:pt x="429" y="378"/>
                      </a:lnTo>
                      <a:lnTo>
                        <a:pt x="435" y="364"/>
                      </a:lnTo>
                      <a:lnTo>
                        <a:pt x="443" y="343"/>
                      </a:lnTo>
                      <a:lnTo>
                        <a:pt x="450" y="320"/>
                      </a:lnTo>
                      <a:lnTo>
                        <a:pt x="456" y="302"/>
                      </a:lnTo>
                      <a:lnTo>
                        <a:pt x="459" y="287"/>
                      </a:lnTo>
                      <a:lnTo>
                        <a:pt x="464" y="271"/>
                      </a:lnTo>
                      <a:lnTo>
                        <a:pt x="467" y="255"/>
                      </a:lnTo>
                      <a:lnTo>
                        <a:pt x="470" y="243"/>
                      </a:lnTo>
                      <a:lnTo>
                        <a:pt x="472" y="231"/>
                      </a:lnTo>
                      <a:lnTo>
                        <a:pt x="470" y="216"/>
                      </a:lnTo>
                      <a:lnTo>
                        <a:pt x="466" y="201"/>
                      </a:lnTo>
                      <a:lnTo>
                        <a:pt x="461" y="194"/>
                      </a:lnTo>
                      <a:lnTo>
                        <a:pt x="456" y="192"/>
                      </a:lnTo>
                      <a:lnTo>
                        <a:pt x="450" y="189"/>
                      </a:lnTo>
                      <a:lnTo>
                        <a:pt x="443" y="188"/>
                      </a:lnTo>
                      <a:lnTo>
                        <a:pt x="435" y="185"/>
                      </a:lnTo>
                      <a:lnTo>
                        <a:pt x="429" y="182"/>
                      </a:lnTo>
                      <a:lnTo>
                        <a:pt x="422" y="177"/>
                      </a:lnTo>
                      <a:lnTo>
                        <a:pt x="417" y="172"/>
                      </a:lnTo>
                      <a:lnTo>
                        <a:pt x="414" y="168"/>
                      </a:lnTo>
                      <a:lnTo>
                        <a:pt x="410" y="159"/>
                      </a:lnTo>
                      <a:lnTo>
                        <a:pt x="404" y="151"/>
                      </a:lnTo>
                      <a:lnTo>
                        <a:pt x="396" y="147"/>
                      </a:lnTo>
                      <a:lnTo>
                        <a:pt x="388" y="145"/>
                      </a:lnTo>
                      <a:lnTo>
                        <a:pt x="384" y="145"/>
                      </a:lnTo>
                      <a:lnTo>
                        <a:pt x="378" y="145"/>
                      </a:lnTo>
                      <a:lnTo>
                        <a:pt x="372" y="145"/>
                      </a:lnTo>
                      <a:lnTo>
                        <a:pt x="364" y="145"/>
                      </a:lnTo>
                      <a:lnTo>
                        <a:pt x="357" y="144"/>
                      </a:lnTo>
                      <a:lnTo>
                        <a:pt x="351" y="141"/>
                      </a:lnTo>
                      <a:lnTo>
                        <a:pt x="346" y="138"/>
                      </a:lnTo>
                      <a:lnTo>
                        <a:pt x="342" y="133"/>
                      </a:lnTo>
                      <a:lnTo>
                        <a:pt x="334" y="121"/>
                      </a:lnTo>
                      <a:lnTo>
                        <a:pt x="323" y="105"/>
                      </a:lnTo>
                      <a:lnTo>
                        <a:pt x="314" y="91"/>
                      </a:lnTo>
                      <a:lnTo>
                        <a:pt x="305" y="82"/>
                      </a:lnTo>
                      <a:lnTo>
                        <a:pt x="299" y="77"/>
                      </a:lnTo>
                      <a:lnTo>
                        <a:pt x="289" y="70"/>
                      </a:lnTo>
                      <a:lnTo>
                        <a:pt x="275" y="61"/>
                      </a:lnTo>
                      <a:lnTo>
                        <a:pt x="258" y="50"/>
                      </a:lnTo>
                      <a:lnTo>
                        <a:pt x="240" y="41"/>
                      </a:lnTo>
                      <a:lnTo>
                        <a:pt x="222" y="32"/>
                      </a:lnTo>
                      <a:lnTo>
                        <a:pt x="204" y="26"/>
                      </a:lnTo>
                      <a:lnTo>
                        <a:pt x="187" y="23"/>
                      </a:lnTo>
                      <a:lnTo>
                        <a:pt x="172" y="21"/>
                      </a:lnTo>
                      <a:lnTo>
                        <a:pt x="160" y="20"/>
                      </a:lnTo>
                      <a:lnTo>
                        <a:pt x="148" y="18"/>
                      </a:lnTo>
                      <a:lnTo>
                        <a:pt x="139" y="17"/>
                      </a:lnTo>
                      <a:lnTo>
                        <a:pt x="130" y="17"/>
                      </a:lnTo>
                      <a:lnTo>
                        <a:pt x="122" y="15"/>
                      </a:lnTo>
                      <a:lnTo>
                        <a:pt x="118" y="15"/>
                      </a:lnTo>
                      <a:lnTo>
                        <a:pt x="113" y="17"/>
                      </a:lnTo>
                      <a:lnTo>
                        <a:pt x="107" y="17"/>
                      </a:lnTo>
                      <a:lnTo>
                        <a:pt x="101" y="14"/>
                      </a:lnTo>
                      <a:lnTo>
                        <a:pt x="95" y="9"/>
                      </a:lnTo>
                      <a:lnTo>
                        <a:pt x="91" y="5"/>
                      </a:lnTo>
                      <a:lnTo>
                        <a:pt x="85" y="2"/>
                      </a:lnTo>
                      <a:lnTo>
                        <a:pt x="79" y="0"/>
                      </a:lnTo>
                      <a:lnTo>
                        <a:pt x="71" y="3"/>
                      </a:lnTo>
                      <a:lnTo>
                        <a:pt x="65" y="6"/>
                      </a:lnTo>
                      <a:lnTo>
                        <a:pt x="59" y="12"/>
                      </a:lnTo>
                      <a:lnTo>
                        <a:pt x="51" y="21"/>
                      </a:lnTo>
                      <a:lnTo>
                        <a:pt x="45" y="29"/>
                      </a:lnTo>
                      <a:lnTo>
                        <a:pt x="38" y="35"/>
                      </a:lnTo>
                      <a:lnTo>
                        <a:pt x="35" y="37"/>
                      </a:lnTo>
                      <a:lnTo>
                        <a:pt x="29" y="40"/>
                      </a:lnTo>
                      <a:lnTo>
                        <a:pt x="21" y="46"/>
                      </a:lnTo>
                      <a:lnTo>
                        <a:pt x="15" y="5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5"/>
                <p:cNvSpPr/>
                <p:nvPr/>
              </p:nvSpPr>
              <p:spPr>
                <a:xfrm>
                  <a:off x="5097240" y="3196080"/>
                  <a:ext cx="1702800" cy="1184760"/>
                </a:xfrm>
                <a:custGeom>
                  <a:avLst/>
                  <a:gdLst>
                    <a:gd name="textAreaLeft" fmla="*/ 0 w 1702800"/>
                    <a:gd name="textAreaRight" fmla="*/ 1703160 w 1702800"/>
                    <a:gd name="textAreaTop" fmla="*/ 0 h 1184760"/>
                    <a:gd name="textAreaBottom" fmla="*/ 1185120 h 1184760"/>
                  </a:gdLst>
                  <a:ahLst/>
                  <a:rect l="textAreaLeft" t="textAreaTop" r="textAreaRight" b="textAreaBottom"/>
                  <a:pathLst>
                    <a:path w="1194" h="894">
                      <a:moveTo>
                        <a:pt x="872" y="649"/>
                      </a:moveTo>
                      <a:lnTo>
                        <a:pt x="862" y="651"/>
                      </a:lnTo>
                      <a:lnTo>
                        <a:pt x="853" y="646"/>
                      </a:lnTo>
                      <a:lnTo>
                        <a:pt x="843" y="643"/>
                      </a:lnTo>
                      <a:lnTo>
                        <a:pt x="833" y="648"/>
                      </a:lnTo>
                      <a:lnTo>
                        <a:pt x="822" y="657"/>
                      </a:lnTo>
                      <a:lnTo>
                        <a:pt x="816" y="661"/>
                      </a:lnTo>
                      <a:lnTo>
                        <a:pt x="809" y="664"/>
                      </a:lnTo>
                      <a:lnTo>
                        <a:pt x="800" y="666"/>
                      </a:lnTo>
                      <a:lnTo>
                        <a:pt x="794" y="666"/>
                      </a:lnTo>
                      <a:lnTo>
                        <a:pt x="786" y="666"/>
                      </a:lnTo>
                      <a:lnTo>
                        <a:pt x="778" y="666"/>
                      </a:lnTo>
                      <a:lnTo>
                        <a:pt x="771" y="666"/>
                      </a:lnTo>
                      <a:lnTo>
                        <a:pt x="765" y="670"/>
                      </a:lnTo>
                      <a:lnTo>
                        <a:pt x="759" y="676"/>
                      </a:lnTo>
                      <a:lnTo>
                        <a:pt x="753" y="687"/>
                      </a:lnTo>
                      <a:lnTo>
                        <a:pt x="750" y="702"/>
                      </a:lnTo>
                      <a:lnTo>
                        <a:pt x="748" y="719"/>
                      </a:lnTo>
                      <a:lnTo>
                        <a:pt x="750" y="732"/>
                      </a:lnTo>
                      <a:lnTo>
                        <a:pt x="756" y="743"/>
                      </a:lnTo>
                      <a:lnTo>
                        <a:pt x="762" y="752"/>
                      </a:lnTo>
                      <a:lnTo>
                        <a:pt x="769" y="759"/>
                      </a:lnTo>
                      <a:lnTo>
                        <a:pt x="777" y="765"/>
                      </a:lnTo>
                      <a:lnTo>
                        <a:pt x="785" y="768"/>
                      </a:lnTo>
                      <a:lnTo>
                        <a:pt x="791" y="771"/>
                      </a:lnTo>
                      <a:lnTo>
                        <a:pt x="797" y="771"/>
                      </a:lnTo>
                      <a:lnTo>
                        <a:pt x="803" y="770"/>
                      </a:lnTo>
                      <a:lnTo>
                        <a:pt x="809" y="767"/>
                      </a:lnTo>
                      <a:lnTo>
                        <a:pt x="816" y="762"/>
                      </a:lnTo>
                      <a:lnTo>
                        <a:pt x="822" y="758"/>
                      </a:lnTo>
                      <a:lnTo>
                        <a:pt x="828" y="752"/>
                      </a:lnTo>
                      <a:lnTo>
                        <a:pt x="834" y="747"/>
                      </a:lnTo>
                      <a:lnTo>
                        <a:pt x="840" y="741"/>
                      </a:lnTo>
                      <a:lnTo>
                        <a:pt x="850" y="740"/>
                      </a:lnTo>
                      <a:lnTo>
                        <a:pt x="854" y="750"/>
                      </a:lnTo>
                      <a:lnTo>
                        <a:pt x="854" y="765"/>
                      </a:lnTo>
                      <a:lnTo>
                        <a:pt x="850" y="779"/>
                      </a:lnTo>
                      <a:lnTo>
                        <a:pt x="845" y="788"/>
                      </a:lnTo>
                      <a:lnTo>
                        <a:pt x="848" y="793"/>
                      </a:lnTo>
                      <a:lnTo>
                        <a:pt x="854" y="797"/>
                      </a:lnTo>
                      <a:lnTo>
                        <a:pt x="863" y="799"/>
                      </a:lnTo>
                      <a:lnTo>
                        <a:pt x="872" y="802"/>
                      </a:lnTo>
                      <a:lnTo>
                        <a:pt x="881" y="808"/>
                      </a:lnTo>
                      <a:lnTo>
                        <a:pt x="890" y="818"/>
                      </a:lnTo>
                      <a:lnTo>
                        <a:pt x="895" y="833"/>
                      </a:lnTo>
                      <a:lnTo>
                        <a:pt x="896" y="847"/>
                      </a:lnTo>
                      <a:lnTo>
                        <a:pt x="898" y="856"/>
                      </a:lnTo>
                      <a:lnTo>
                        <a:pt x="899" y="865"/>
                      </a:lnTo>
                      <a:lnTo>
                        <a:pt x="904" y="871"/>
                      </a:lnTo>
                      <a:lnTo>
                        <a:pt x="910" y="874"/>
                      </a:lnTo>
                      <a:lnTo>
                        <a:pt x="919" y="877"/>
                      </a:lnTo>
                      <a:lnTo>
                        <a:pt x="928" y="879"/>
                      </a:lnTo>
                      <a:lnTo>
                        <a:pt x="936" y="880"/>
                      </a:lnTo>
                      <a:lnTo>
                        <a:pt x="942" y="880"/>
                      </a:lnTo>
                      <a:lnTo>
                        <a:pt x="945" y="879"/>
                      </a:lnTo>
                      <a:lnTo>
                        <a:pt x="946" y="879"/>
                      </a:lnTo>
                      <a:lnTo>
                        <a:pt x="946" y="880"/>
                      </a:lnTo>
                      <a:lnTo>
                        <a:pt x="945" y="883"/>
                      </a:lnTo>
                      <a:lnTo>
                        <a:pt x="942" y="888"/>
                      </a:lnTo>
                      <a:lnTo>
                        <a:pt x="937" y="892"/>
                      </a:lnTo>
                      <a:lnTo>
                        <a:pt x="931" y="894"/>
                      </a:lnTo>
                      <a:lnTo>
                        <a:pt x="927" y="894"/>
                      </a:lnTo>
                      <a:lnTo>
                        <a:pt x="919" y="892"/>
                      </a:lnTo>
                      <a:lnTo>
                        <a:pt x="913" y="892"/>
                      </a:lnTo>
                      <a:lnTo>
                        <a:pt x="905" y="889"/>
                      </a:lnTo>
                      <a:lnTo>
                        <a:pt x="898" y="888"/>
                      </a:lnTo>
                      <a:lnTo>
                        <a:pt x="890" y="886"/>
                      </a:lnTo>
                      <a:lnTo>
                        <a:pt x="886" y="883"/>
                      </a:lnTo>
                      <a:lnTo>
                        <a:pt x="883" y="882"/>
                      </a:lnTo>
                      <a:lnTo>
                        <a:pt x="878" y="879"/>
                      </a:lnTo>
                      <a:lnTo>
                        <a:pt x="871" y="874"/>
                      </a:lnTo>
                      <a:lnTo>
                        <a:pt x="862" y="868"/>
                      </a:lnTo>
                      <a:lnTo>
                        <a:pt x="851" y="860"/>
                      </a:lnTo>
                      <a:lnTo>
                        <a:pt x="842" y="853"/>
                      </a:lnTo>
                      <a:lnTo>
                        <a:pt x="836" y="847"/>
                      </a:lnTo>
                      <a:lnTo>
                        <a:pt x="831" y="841"/>
                      </a:lnTo>
                      <a:lnTo>
                        <a:pt x="827" y="836"/>
                      </a:lnTo>
                      <a:lnTo>
                        <a:pt x="822" y="832"/>
                      </a:lnTo>
                      <a:lnTo>
                        <a:pt x="816" y="827"/>
                      </a:lnTo>
                      <a:lnTo>
                        <a:pt x="807" y="823"/>
                      </a:lnTo>
                      <a:lnTo>
                        <a:pt x="795" y="818"/>
                      </a:lnTo>
                      <a:lnTo>
                        <a:pt x="786" y="815"/>
                      </a:lnTo>
                      <a:lnTo>
                        <a:pt x="775" y="811"/>
                      </a:lnTo>
                      <a:lnTo>
                        <a:pt x="766" y="808"/>
                      </a:lnTo>
                      <a:lnTo>
                        <a:pt x="757" y="803"/>
                      </a:lnTo>
                      <a:lnTo>
                        <a:pt x="748" y="800"/>
                      </a:lnTo>
                      <a:lnTo>
                        <a:pt x="741" y="797"/>
                      </a:lnTo>
                      <a:lnTo>
                        <a:pt x="733" y="794"/>
                      </a:lnTo>
                      <a:lnTo>
                        <a:pt x="726" y="791"/>
                      </a:lnTo>
                      <a:lnTo>
                        <a:pt x="718" y="788"/>
                      </a:lnTo>
                      <a:lnTo>
                        <a:pt x="710" y="782"/>
                      </a:lnTo>
                      <a:lnTo>
                        <a:pt x="703" y="774"/>
                      </a:lnTo>
                      <a:lnTo>
                        <a:pt x="695" y="767"/>
                      </a:lnTo>
                      <a:lnTo>
                        <a:pt x="689" y="759"/>
                      </a:lnTo>
                      <a:lnTo>
                        <a:pt x="683" y="752"/>
                      </a:lnTo>
                      <a:lnTo>
                        <a:pt x="677" y="746"/>
                      </a:lnTo>
                      <a:lnTo>
                        <a:pt x="674" y="743"/>
                      </a:lnTo>
                      <a:lnTo>
                        <a:pt x="668" y="737"/>
                      </a:lnTo>
                      <a:lnTo>
                        <a:pt x="661" y="728"/>
                      </a:lnTo>
                      <a:lnTo>
                        <a:pt x="653" y="720"/>
                      </a:lnTo>
                      <a:lnTo>
                        <a:pt x="642" y="716"/>
                      </a:lnTo>
                      <a:lnTo>
                        <a:pt x="635" y="714"/>
                      </a:lnTo>
                      <a:lnTo>
                        <a:pt x="627" y="713"/>
                      </a:lnTo>
                      <a:lnTo>
                        <a:pt x="618" y="709"/>
                      </a:lnTo>
                      <a:lnTo>
                        <a:pt x="609" y="706"/>
                      </a:lnTo>
                      <a:lnTo>
                        <a:pt x="600" y="702"/>
                      </a:lnTo>
                      <a:lnTo>
                        <a:pt x="591" y="696"/>
                      </a:lnTo>
                      <a:lnTo>
                        <a:pt x="584" y="691"/>
                      </a:lnTo>
                      <a:lnTo>
                        <a:pt x="576" y="684"/>
                      </a:lnTo>
                      <a:lnTo>
                        <a:pt x="562" y="670"/>
                      </a:lnTo>
                      <a:lnTo>
                        <a:pt x="550" y="657"/>
                      </a:lnTo>
                      <a:lnTo>
                        <a:pt x="541" y="643"/>
                      </a:lnTo>
                      <a:lnTo>
                        <a:pt x="537" y="631"/>
                      </a:lnTo>
                      <a:lnTo>
                        <a:pt x="532" y="619"/>
                      </a:lnTo>
                      <a:lnTo>
                        <a:pt x="529" y="607"/>
                      </a:lnTo>
                      <a:lnTo>
                        <a:pt x="525" y="595"/>
                      </a:lnTo>
                      <a:lnTo>
                        <a:pt x="520" y="584"/>
                      </a:lnTo>
                      <a:lnTo>
                        <a:pt x="517" y="580"/>
                      </a:lnTo>
                      <a:lnTo>
                        <a:pt x="512" y="574"/>
                      </a:lnTo>
                      <a:lnTo>
                        <a:pt x="505" y="568"/>
                      </a:lnTo>
                      <a:lnTo>
                        <a:pt x="497" y="560"/>
                      </a:lnTo>
                      <a:lnTo>
                        <a:pt x="490" y="554"/>
                      </a:lnTo>
                      <a:lnTo>
                        <a:pt x="481" y="545"/>
                      </a:lnTo>
                      <a:lnTo>
                        <a:pt x="475" y="537"/>
                      </a:lnTo>
                      <a:lnTo>
                        <a:pt x="469" y="528"/>
                      </a:lnTo>
                      <a:lnTo>
                        <a:pt x="464" y="509"/>
                      </a:lnTo>
                      <a:lnTo>
                        <a:pt x="464" y="488"/>
                      </a:lnTo>
                      <a:lnTo>
                        <a:pt x="469" y="469"/>
                      </a:lnTo>
                      <a:lnTo>
                        <a:pt x="473" y="457"/>
                      </a:lnTo>
                      <a:lnTo>
                        <a:pt x="475" y="444"/>
                      </a:lnTo>
                      <a:lnTo>
                        <a:pt x="475" y="426"/>
                      </a:lnTo>
                      <a:lnTo>
                        <a:pt x="473" y="405"/>
                      </a:lnTo>
                      <a:lnTo>
                        <a:pt x="469" y="385"/>
                      </a:lnTo>
                      <a:lnTo>
                        <a:pt x="463" y="371"/>
                      </a:lnTo>
                      <a:lnTo>
                        <a:pt x="458" y="362"/>
                      </a:lnTo>
                      <a:lnTo>
                        <a:pt x="451" y="356"/>
                      </a:lnTo>
                      <a:lnTo>
                        <a:pt x="440" y="349"/>
                      </a:lnTo>
                      <a:lnTo>
                        <a:pt x="431" y="340"/>
                      </a:lnTo>
                      <a:lnTo>
                        <a:pt x="425" y="331"/>
                      </a:lnTo>
                      <a:lnTo>
                        <a:pt x="420" y="321"/>
                      </a:lnTo>
                      <a:lnTo>
                        <a:pt x="417" y="309"/>
                      </a:lnTo>
                      <a:lnTo>
                        <a:pt x="411" y="299"/>
                      </a:lnTo>
                      <a:lnTo>
                        <a:pt x="402" y="290"/>
                      </a:lnTo>
                      <a:lnTo>
                        <a:pt x="392" y="285"/>
                      </a:lnTo>
                      <a:lnTo>
                        <a:pt x="381" y="285"/>
                      </a:lnTo>
                      <a:lnTo>
                        <a:pt x="376" y="287"/>
                      </a:lnTo>
                      <a:lnTo>
                        <a:pt x="369" y="285"/>
                      </a:lnTo>
                      <a:lnTo>
                        <a:pt x="363" y="284"/>
                      </a:lnTo>
                      <a:lnTo>
                        <a:pt x="355" y="279"/>
                      </a:lnTo>
                      <a:lnTo>
                        <a:pt x="346" y="276"/>
                      </a:lnTo>
                      <a:lnTo>
                        <a:pt x="339" y="273"/>
                      </a:lnTo>
                      <a:lnTo>
                        <a:pt x="331" y="269"/>
                      </a:lnTo>
                      <a:lnTo>
                        <a:pt x="325" y="266"/>
                      </a:lnTo>
                      <a:lnTo>
                        <a:pt x="315" y="261"/>
                      </a:lnTo>
                      <a:lnTo>
                        <a:pt x="307" y="257"/>
                      </a:lnTo>
                      <a:lnTo>
                        <a:pt x="299" y="252"/>
                      </a:lnTo>
                      <a:lnTo>
                        <a:pt x="289" y="249"/>
                      </a:lnTo>
                      <a:lnTo>
                        <a:pt x="283" y="249"/>
                      </a:lnTo>
                      <a:lnTo>
                        <a:pt x="277" y="248"/>
                      </a:lnTo>
                      <a:lnTo>
                        <a:pt x="271" y="249"/>
                      </a:lnTo>
                      <a:lnTo>
                        <a:pt x="263" y="249"/>
                      </a:lnTo>
                      <a:lnTo>
                        <a:pt x="256" y="249"/>
                      </a:lnTo>
                      <a:lnTo>
                        <a:pt x="248" y="248"/>
                      </a:lnTo>
                      <a:lnTo>
                        <a:pt x="240" y="244"/>
                      </a:lnTo>
                      <a:lnTo>
                        <a:pt x="233" y="241"/>
                      </a:lnTo>
                      <a:lnTo>
                        <a:pt x="225" y="237"/>
                      </a:lnTo>
                      <a:lnTo>
                        <a:pt x="219" y="234"/>
                      </a:lnTo>
                      <a:lnTo>
                        <a:pt x="212" y="232"/>
                      </a:lnTo>
                      <a:lnTo>
                        <a:pt x="204" y="231"/>
                      </a:lnTo>
                      <a:lnTo>
                        <a:pt x="197" y="231"/>
                      </a:lnTo>
                      <a:lnTo>
                        <a:pt x="188" y="231"/>
                      </a:lnTo>
                      <a:lnTo>
                        <a:pt x="177" y="232"/>
                      </a:lnTo>
                      <a:lnTo>
                        <a:pt x="166" y="234"/>
                      </a:lnTo>
                      <a:lnTo>
                        <a:pt x="156" y="237"/>
                      </a:lnTo>
                      <a:lnTo>
                        <a:pt x="145" y="244"/>
                      </a:lnTo>
                      <a:lnTo>
                        <a:pt x="138" y="254"/>
                      </a:lnTo>
                      <a:lnTo>
                        <a:pt x="129" y="263"/>
                      </a:lnTo>
                      <a:lnTo>
                        <a:pt x="121" y="272"/>
                      </a:lnTo>
                      <a:lnTo>
                        <a:pt x="112" y="279"/>
                      </a:lnTo>
                      <a:lnTo>
                        <a:pt x="103" y="285"/>
                      </a:lnTo>
                      <a:lnTo>
                        <a:pt x="92" y="285"/>
                      </a:lnTo>
                      <a:lnTo>
                        <a:pt x="82" y="281"/>
                      </a:lnTo>
                      <a:lnTo>
                        <a:pt x="76" y="275"/>
                      </a:lnTo>
                      <a:lnTo>
                        <a:pt x="71" y="269"/>
                      </a:lnTo>
                      <a:lnTo>
                        <a:pt x="62" y="261"/>
                      </a:lnTo>
                      <a:lnTo>
                        <a:pt x="53" y="252"/>
                      </a:lnTo>
                      <a:lnTo>
                        <a:pt x="49" y="237"/>
                      </a:lnTo>
                      <a:lnTo>
                        <a:pt x="49" y="217"/>
                      </a:lnTo>
                      <a:lnTo>
                        <a:pt x="55" y="195"/>
                      </a:lnTo>
                      <a:lnTo>
                        <a:pt x="58" y="183"/>
                      </a:lnTo>
                      <a:lnTo>
                        <a:pt x="56" y="174"/>
                      </a:lnTo>
                      <a:lnTo>
                        <a:pt x="52" y="169"/>
                      </a:lnTo>
                      <a:lnTo>
                        <a:pt x="44" y="166"/>
                      </a:lnTo>
                      <a:lnTo>
                        <a:pt x="36" y="164"/>
                      </a:lnTo>
                      <a:lnTo>
                        <a:pt x="26" y="161"/>
                      </a:lnTo>
                      <a:lnTo>
                        <a:pt x="15" y="158"/>
                      </a:lnTo>
                      <a:lnTo>
                        <a:pt x="6" y="154"/>
                      </a:lnTo>
                      <a:lnTo>
                        <a:pt x="0" y="146"/>
                      </a:lnTo>
                      <a:lnTo>
                        <a:pt x="0" y="136"/>
                      </a:lnTo>
                      <a:lnTo>
                        <a:pt x="5" y="124"/>
                      </a:lnTo>
                      <a:lnTo>
                        <a:pt x="12" y="110"/>
                      </a:lnTo>
                      <a:lnTo>
                        <a:pt x="23" y="98"/>
                      </a:lnTo>
                      <a:lnTo>
                        <a:pt x="33" y="84"/>
                      </a:lnTo>
                      <a:lnTo>
                        <a:pt x="44" y="74"/>
                      </a:lnTo>
                      <a:lnTo>
                        <a:pt x="55" y="66"/>
                      </a:lnTo>
                      <a:lnTo>
                        <a:pt x="64" y="60"/>
                      </a:lnTo>
                      <a:lnTo>
                        <a:pt x="71" y="53"/>
                      </a:lnTo>
                      <a:lnTo>
                        <a:pt x="80" y="45"/>
                      </a:lnTo>
                      <a:lnTo>
                        <a:pt x="91" y="39"/>
                      </a:lnTo>
                      <a:lnTo>
                        <a:pt x="106" y="35"/>
                      </a:lnTo>
                      <a:lnTo>
                        <a:pt x="126" y="32"/>
                      </a:lnTo>
                      <a:lnTo>
                        <a:pt x="150" y="32"/>
                      </a:lnTo>
                      <a:lnTo>
                        <a:pt x="182" y="35"/>
                      </a:lnTo>
                      <a:lnTo>
                        <a:pt x="197" y="44"/>
                      </a:lnTo>
                      <a:lnTo>
                        <a:pt x="209" y="50"/>
                      </a:lnTo>
                      <a:lnTo>
                        <a:pt x="219" y="54"/>
                      </a:lnTo>
                      <a:lnTo>
                        <a:pt x="228" y="57"/>
                      </a:lnTo>
                      <a:lnTo>
                        <a:pt x="236" y="59"/>
                      </a:lnTo>
                      <a:lnTo>
                        <a:pt x="243" y="62"/>
                      </a:lnTo>
                      <a:lnTo>
                        <a:pt x="251" y="63"/>
                      </a:lnTo>
                      <a:lnTo>
                        <a:pt x="257" y="65"/>
                      </a:lnTo>
                      <a:lnTo>
                        <a:pt x="266" y="68"/>
                      </a:lnTo>
                      <a:lnTo>
                        <a:pt x="278" y="69"/>
                      </a:lnTo>
                      <a:lnTo>
                        <a:pt x="293" y="71"/>
                      </a:lnTo>
                      <a:lnTo>
                        <a:pt x="310" y="74"/>
                      </a:lnTo>
                      <a:lnTo>
                        <a:pt x="325" y="75"/>
                      </a:lnTo>
                      <a:lnTo>
                        <a:pt x="340" y="75"/>
                      </a:lnTo>
                      <a:lnTo>
                        <a:pt x="354" y="75"/>
                      </a:lnTo>
                      <a:lnTo>
                        <a:pt x="363" y="75"/>
                      </a:lnTo>
                      <a:lnTo>
                        <a:pt x="372" y="74"/>
                      </a:lnTo>
                      <a:lnTo>
                        <a:pt x="384" y="74"/>
                      </a:lnTo>
                      <a:lnTo>
                        <a:pt x="398" y="74"/>
                      </a:lnTo>
                      <a:lnTo>
                        <a:pt x="413" y="74"/>
                      </a:lnTo>
                      <a:lnTo>
                        <a:pt x="428" y="74"/>
                      </a:lnTo>
                      <a:lnTo>
                        <a:pt x="441" y="75"/>
                      </a:lnTo>
                      <a:lnTo>
                        <a:pt x="454" y="75"/>
                      </a:lnTo>
                      <a:lnTo>
                        <a:pt x="461" y="75"/>
                      </a:lnTo>
                      <a:lnTo>
                        <a:pt x="467" y="75"/>
                      </a:lnTo>
                      <a:lnTo>
                        <a:pt x="475" y="77"/>
                      </a:lnTo>
                      <a:lnTo>
                        <a:pt x="484" y="78"/>
                      </a:lnTo>
                      <a:lnTo>
                        <a:pt x="493" y="80"/>
                      </a:lnTo>
                      <a:lnTo>
                        <a:pt x="502" y="81"/>
                      </a:lnTo>
                      <a:lnTo>
                        <a:pt x="511" y="84"/>
                      </a:lnTo>
                      <a:lnTo>
                        <a:pt x="520" y="86"/>
                      </a:lnTo>
                      <a:lnTo>
                        <a:pt x="528" y="89"/>
                      </a:lnTo>
                      <a:lnTo>
                        <a:pt x="538" y="92"/>
                      </a:lnTo>
                      <a:lnTo>
                        <a:pt x="550" y="95"/>
                      </a:lnTo>
                      <a:lnTo>
                        <a:pt x="567" y="98"/>
                      </a:lnTo>
                      <a:lnTo>
                        <a:pt x="584" y="100"/>
                      </a:lnTo>
                      <a:lnTo>
                        <a:pt x="600" y="103"/>
                      </a:lnTo>
                      <a:lnTo>
                        <a:pt x="615" y="106"/>
                      </a:lnTo>
                      <a:lnTo>
                        <a:pt x="629" y="107"/>
                      </a:lnTo>
                      <a:lnTo>
                        <a:pt x="638" y="107"/>
                      </a:lnTo>
                      <a:lnTo>
                        <a:pt x="647" y="107"/>
                      </a:lnTo>
                      <a:lnTo>
                        <a:pt x="661" y="107"/>
                      </a:lnTo>
                      <a:lnTo>
                        <a:pt x="676" y="106"/>
                      </a:lnTo>
                      <a:lnTo>
                        <a:pt x="694" y="104"/>
                      </a:lnTo>
                      <a:lnTo>
                        <a:pt x="710" y="103"/>
                      </a:lnTo>
                      <a:lnTo>
                        <a:pt x="727" y="100"/>
                      </a:lnTo>
                      <a:lnTo>
                        <a:pt x="741" y="97"/>
                      </a:lnTo>
                      <a:lnTo>
                        <a:pt x="753" y="92"/>
                      </a:lnTo>
                      <a:lnTo>
                        <a:pt x="768" y="84"/>
                      </a:lnTo>
                      <a:lnTo>
                        <a:pt x="777" y="78"/>
                      </a:lnTo>
                      <a:lnTo>
                        <a:pt x="780" y="72"/>
                      </a:lnTo>
                      <a:lnTo>
                        <a:pt x="782" y="66"/>
                      </a:lnTo>
                      <a:lnTo>
                        <a:pt x="778" y="60"/>
                      </a:lnTo>
                      <a:lnTo>
                        <a:pt x="771" y="51"/>
                      </a:lnTo>
                      <a:lnTo>
                        <a:pt x="763" y="44"/>
                      </a:lnTo>
                      <a:lnTo>
                        <a:pt x="757" y="38"/>
                      </a:lnTo>
                      <a:lnTo>
                        <a:pt x="756" y="30"/>
                      </a:lnTo>
                      <a:lnTo>
                        <a:pt x="759" y="21"/>
                      </a:lnTo>
                      <a:lnTo>
                        <a:pt x="765" y="12"/>
                      </a:lnTo>
                      <a:lnTo>
                        <a:pt x="771" y="3"/>
                      </a:lnTo>
                      <a:lnTo>
                        <a:pt x="780" y="0"/>
                      </a:lnTo>
                      <a:lnTo>
                        <a:pt x="789" y="1"/>
                      </a:lnTo>
                      <a:lnTo>
                        <a:pt x="801" y="6"/>
                      </a:lnTo>
                      <a:lnTo>
                        <a:pt x="812" y="10"/>
                      </a:lnTo>
                      <a:lnTo>
                        <a:pt x="818" y="17"/>
                      </a:lnTo>
                      <a:lnTo>
                        <a:pt x="819" y="26"/>
                      </a:lnTo>
                      <a:lnTo>
                        <a:pt x="819" y="35"/>
                      </a:lnTo>
                      <a:lnTo>
                        <a:pt x="819" y="42"/>
                      </a:lnTo>
                      <a:lnTo>
                        <a:pt x="822" y="50"/>
                      </a:lnTo>
                      <a:lnTo>
                        <a:pt x="830" y="60"/>
                      </a:lnTo>
                      <a:lnTo>
                        <a:pt x="840" y="66"/>
                      </a:lnTo>
                      <a:lnTo>
                        <a:pt x="854" y="69"/>
                      </a:lnTo>
                      <a:lnTo>
                        <a:pt x="862" y="69"/>
                      </a:lnTo>
                      <a:lnTo>
                        <a:pt x="869" y="69"/>
                      </a:lnTo>
                      <a:lnTo>
                        <a:pt x="877" y="71"/>
                      </a:lnTo>
                      <a:lnTo>
                        <a:pt x="884" y="72"/>
                      </a:lnTo>
                      <a:lnTo>
                        <a:pt x="892" y="75"/>
                      </a:lnTo>
                      <a:lnTo>
                        <a:pt x="899" y="77"/>
                      </a:lnTo>
                      <a:lnTo>
                        <a:pt x="907" y="78"/>
                      </a:lnTo>
                      <a:lnTo>
                        <a:pt x="915" y="80"/>
                      </a:lnTo>
                      <a:lnTo>
                        <a:pt x="927" y="81"/>
                      </a:lnTo>
                      <a:lnTo>
                        <a:pt x="933" y="84"/>
                      </a:lnTo>
                      <a:lnTo>
                        <a:pt x="933" y="91"/>
                      </a:lnTo>
                      <a:lnTo>
                        <a:pt x="931" y="98"/>
                      </a:lnTo>
                      <a:lnTo>
                        <a:pt x="928" y="103"/>
                      </a:lnTo>
                      <a:lnTo>
                        <a:pt x="925" y="107"/>
                      </a:lnTo>
                      <a:lnTo>
                        <a:pt x="919" y="110"/>
                      </a:lnTo>
                      <a:lnTo>
                        <a:pt x="913" y="112"/>
                      </a:lnTo>
                      <a:lnTo>
                        <a:pt x="905" y="113"/>
                      </a:lnTo>
                      <a:lnTo>
                        <a:pt x="898" y="115"/>
                      </a:lnTo>
                      <a:lnTo>
                        <a:pt x="890" y="115"/>
                      </a:lnTo>
                      <a:lnTo>
                        <a:pt x="883" y="116"/>
                      </a:lnTo>
                      <a:lnTo>
                        <a:pt x="869" y="121"/>
                      </a:lnTo>
                      <a:lnTo>
                        <a:pt x="859" y="125"/>
                      </a:lnTo>
                      <a:lnTo>
                        <a:pt x="848" y="133"/>
                      </a:lnTo>
                      <a:lnTo>
                        <a:pt x="839" y="140"/>
                      </a:lnTo>
                      <a:lnTo>
                        <a:pt x="830" y="149"/>
                      </a:lnTo>
                      <a:lnTo>
                        <a:pt x="819" y="160"/>
                      </a:lnTo>
                      <a:lnTo>
                        <a:pt x="807" y="172"/>
                      </a:lnTo>
                      <a:lnTo>
                        <a:pt x="797" y="189"/>
                      </a:lnTo>
                      <a:lnTo>
                        <a:pt x="791" y="210"/>
                      </a:lnTo>
                      <a:lnTo>
                        <a:pt x="791" y="237"/>
                      </a:lnTo>
                      <a:lnTo>
                        <a:pt x="794" y="261"/>
                      </a:lnTo>
                      <a:lnTo>
                        <a:pt x="797" y="278"/>
                      </a:lnTo>
                      <a:lnTo>
                        <a:pt x="801" y="285"/>
                      </a:lnTo>
                      <a:lnTo>
                        <a:pt x="807" y="287"/>
                      </a:lnTo>
                      <a:lnTo>
                        <a:pt x="815" y="285"/>
                      </a:lnTo>
                      <a:lnTo>
                        <a:pt x="822" y="285"/>
                      </a:lnTo>
                      <a:lnTo>
                        <a:pt x="831" y="287"/>
                      </a:lnTo>
                      <a:lnTo>
                        <a:pt x="842" y="288"/>
                      </a:lnTo>
                      <a:lnTo>
                        <a:pt x="851" y="293"/>
                      </a:lnTo>
                      <a:lnTo>
                        <a:pt x="860" y="297"/>
                      </a:lnTo>
                      <a:lnTo>
                        <a:pt x="869" y="300"/>
                      </a:lnTo>
                      <a:lnTo>
                        <a:pt x="877" y="303"/>
                      </a:lnTo>
                      <a:lnTo>
                        <a:pt x="883" y="305"/>
                      </a:lnTo>
                      <a:lnTo>
                        <a:pt x="890" y="305"/>
                      </a:lnTo>
                      <a:lnTo>
                        <a:pt x="898" y="305"/>
                      </a:lnTo>
                      <a:lnTo>
                        <a:pt x="904" y="308"/>
                      </a:lnTo>
                      <a:lnTo>
                        <a:pt x="908" y="312"/>
                      </a:lnTo>
                      <a:lnTo>
                        <a:pt x="910" y="320"/>
                      </a:lnTo>
                      <a:lnTo>
                        <a:pt x="913" y="328"/>
                      </a:lnTo>
                      <a:lnTo>
                        <a:pt x="918" y="332"/>
                      </a:lnTo>
                      <a:lnTo>
                        <a:pt x="924" y="335"/>
                      </a:lnTo>
                      <a:lnTo>
                        <a:pt x="931" y="337"/>
                      </a:lnTo>
                      <a:lnTo>
                        <a:pt x="936" y="332"/>
                      </a:lnTo>
                      <a:lnTo>
                        <a:pt x="937" y="320"/>
                      </a:lnTo>
                      <a:lnTo>
                        <a:pt x="937" y="306"/>
                      </a:lnTo>
                      <a:lnTo>
                        <a:pt x="934" y="293"/>
                      </a:lnTo>
                      <a:lnTo>
                        <a:pt x="936" y="285"/>
                      </a:lnTo>
                      <a:lnTo>
                        <a:pt x="943" y="279"/>
                      </a:lnTo>
                      <a:lnTo>
                        <a:pt x="955" y="276"/>
                      </a:lnTo>
                      <a:lnTo>
                        <a:pt x="966" y="272"/>
                      </a:lnTo>
                      <a:lnTo>
                        <a:pt x="973" y="266"/>
                      </a:lnTo>
                      <a:lnTo>
                        <a:pt x="972" y="255"/>
                      </a:lnTo>
                      <a:lnTo>
                        <a:pt x="967" y="246"/>
                      </a:lnTo>
                      <a:lnTo>
                        <a:pt x="958" y="238"/>
                      </a:lnTo>
                      <a:lnTo>
                        <a:pt x="952" y="231"/>
                      </a:lnTo>
                      <a:lnTo>
                        <a:pt x="949" y="222"/>
                      </a:lnTo>
                      <a:lnTo>
                        <a:pt x="951" y="213"/>
                      </a:lnTo>
                      <a:lnTo>
                        <a:pt x="954" y="202"/>
                      </a:lnTo>
                      <a:lnTo>
                        <a:pt x="963" y="195"/>
                      </a:lnTo>
                      <a:lnTo>
                        <a:pt x="975" y="192"/>
                      </a:lnTo>
                      <a:lnTo>
                        <a:pt x="989" y="195"/>
                      </a:lnTo>
                      <a:lnTo>
                        <a:pt x="996" y="201"/>
                      </a:lnTo>
                      <a:lnTo>
                        <a:pt x="1002" y="207"/>
                      </a:lnTo>
                      <a:lnTo>
                        <a:pt x="1011" y="213"/>
                      </a:lnTo>
                      <a:lnTo>
                        <a:pt x="1020" y="216"/>
                      </a:lnTo>
                      <a:lnTo>
                        <a:pt x="1028" y="220"/>
                      </a:lnTo>
                      <a:lnTo>
                        <a:pt x="1034" y="225"/>
                      </a:lnTo>
                      <a:lnTo>
                        <a:pt x="1040" y="231"/>
                      </a:lnTo>
                      <a:lnTo>
                        <a:pt x="1046" y="238"/>
                      </a:lnTo>
                      <a:lnTo>
                        <a:pt x="1052" y="244"/>
                      </a:lnTo>
                      <a:lnTo>
                        <a:pt x="1060" y="246"/>
                      </a:lnTo>
                      <a:lnTo>
                        <a:pt x="1067" y="240"/>
                      </a:lnTo>
                      <a:lnTo>
                        <a:pt x="1076" y="231"/>
                      </a:lnTo>
                      <a:lnTo>
                        <a:pt x="1082" y="222"/>
                      </a:lnTo>
                      <a:lnTo>
                        <a:pt x="1088" y="217"/>
                      </a:lnTo>
                      <a:lnTo>
                        <a:pt x="1099" y="220"/>
                      </a:lnTo>
                      <a:lnTo>
                        <a:pt x="1108" y="228"/>
                      </a:lnTo>
                      <a:lnTo>
                        <a:pt x="1114" y="240"/>
                      </a:lnTo>
                      <a:lnTo>
                        <a:pt x="1119" y="249"/>
                      </a:lnTo>
                      <a:lnTo>
                        <a:pt x="1125" y="258"/>
                      </a:lnTo>
                      <a:lnTo>
                        <a:pt x="1131" y="266"/>
                      </a:lnTo>
                      <a:lnTo>
                        <a:pt x="1140" y="276"/>
                      </a:lnTo>
                      <a:lnTo>
                        <a:pt x="1149" y="287"/>
                      </a:lnTo>
                      <a:lnTo>
                        <a:pt x="1153" y="294"/>
                      </a:lnTo>
                      <a:lnTo>
                        <a:pt x="1156" y="302"/>
                      </a:lnTo>
                      <a:lnTo>
                        <a:pt x="1158" y="309"/>
                      </a:lnTo>
                      <a:lnTo>
                        <a:pt x="1161" y="315"/>
                      </a:lnTo>
                      <a:lnTo>
                        <a:pt x="1168" y="317"/>
                      </a:lnTo>
                      <a:lnTo>
                        <a:pt x="1177" y="315"/>
                      </a:lnTo>
                      <a:lnTo>
                        <a:pt x="1185" y="314"/>
                      </a:lnTo>
                      <a:lnTo>
                        <a:pt x="1191" y="315"/>
                      </a:lnTo>
                      <a:lnTo>
                        <a:pt x="1194" y="321"/>
                      </a:lnTo>
                      <a:lnTo>
                        <a:pt x="1193" y="334"/>
                      </a:lnTo>
                      <a:lnTo>
                        <a:pt x="1188" y="347"/>
                      </a:lnTo>
                      <a:lnTo>
                        <a:pt x="1181" y="358"/>
                      </a:lnTo>
                      <a:lnTo>
                        <a:pt x="1173" y="362"/>
                      </a:lnTo>
                      <a:lnTo>
                        <a:pt x="1164" y="364"/>
                      </a:lnTo>
                      <a:lnTo>
                        <a:pt x="1153" y="365"/>
                      </a:lnTo>
                      <a:lnTo>
                        <a:pt x="1144" y="367"/>
                      </a:lnTo>
                      <a:lnTo>
                        <a:pt x="1137" y="368"/>
                      </a:lnTo>
                      <a:lnTo>
                        <a:pt x="1129" y="370"/>
                      </a:lnTo>
                      <a:lnTo>
                        <a:pt x="1123" y="373"/>
                      </a:lnTo>
                      <a:lnTo>
                        <a:pt x="1120" y="380"/>
                      </a:lnTo>
                      <a:lnTo>
                        <a:pt x="1120" y="391"/>
                      </a:lnTo>
                      <a:lnTo>
                        <a:pt x="1122" y="403"/>
                      </a:lnTo>
                      <a:lnTo>
                        <a:pt x="1123" y="415"/>
                      </a:lnTo>
                      <a:lnTo>
                        <a:pt x="1120" y="426"/>
                      </a:lnTo>
                      <a:lnTo>
                        <a:pt x="1109" y="436"/>
                      </a:lnTo>
                      <a:lnTo>
                        <a:pt x="1096" y="444"/>
                      </a:lnTo>
                      <a:lnTo>
                        <a:pt x="1084" y="448"/>
                      </a:lnTo>
                      <a:lnTo>
                        <a:pt x="1075" y="453"/>
                      </a:lnTo>
                      <a:lnTo>
                        <a:pt x="1066" y="460"/>
                      </a:lnTo>
                      <a:lnTo>
                        <a:pt x="1057" y="469"/>
                      </a:lnTo>
                      <a:lnTo>
                        <a:pt x="1052" y="480"/>
                      </a:lnTo>
                      <a:lnTo>
                        <a:pt x="1048" y="489"/>
                      </a:lnTo>
                      <a:lnTo>
                        <a:pt x="1043" y="497"/>
                      </a:lnTo>
                      <a:lnTo>
                        <a:pt x="1035" y="501"/>
                      </a:lnTo>
                      <a:lnTo>
                        <a:pt x="1028" y="509"/>
                      </a:lnTo>
                      <a:lnTo>
                        <a:pt x="1020" y="515"/>
                      </a:lnTo>
                      <a:lnTo>
                        <a:pt x="1014" y="516"/>
                      </a:lnTo>
                      <a:lnTo>
                        <a:pt x="1007" y="518"/>
                      </a:lnTo>
                      <a:lnTo>
                        <a:pt x="998" y="522"/>
                      </a:lnTo>
                      <a:lnTo>
                        <a:pt x="992" y="528"/>
                      </a:lnTo>
                      <a:lnTo>
                        <a:pt x="992" y="534"/>
                      </a:lnTo>
                      <a:lnTo>
                        <a:pt x="992" y="540"/>
                      </a:lnTo>
                      <a:lnTo>
                        <a:pt x="990" y="548"/>
                      </a:lnTo>
                      <a:lnTo>
                        <a:pt x="987" y="557"/>
                      </a:lnTo>
                      <a:lnTo>
                        <a:pt x="986" y="566"/>
                      </a:lnTo>
                      <a:lnTo>
                        <a:pt x="983" y="577"/>
                      </a:lnTo>
                      <a:lnTo>
                        <a:pt x="978" y="586"/>
                      </a:lnTo>
                      <a:lnTo>
                        <a:pt x="975" y="593"/>
                      </a:lnTo>
                      <a:lnTo>
                        <a:pt x="975" y="599"/>
                      </a:lnTo>
                      <a:lnTo>
                        <a:pt x="973" y="604"/>
                      </a:lnTo>
                      <a:lnTo>
                        <a:pt x="966" y="605"/>
                      </a:lnTo>
                      <a:lnTo>
                        <a:pt x="957" y="607"/>
                      </a:lnTo>
                      <a:lnTo>
                        <a:pt x="951" y="608"/>
                      </a:lnTo>
                      <a:lnTo>
                        <a:pt x="946" y="613"/>
                      </a:lnTo>
                      <a:lnTo>
                        <a:pt x="942" y="623"/>
                      </a:lnTo>
                      <a:lnTo>
                        <a:pt x="943" y="643"/>
                      </a:lnTo>
                      <a:lnTo>
                        <a:pt x="948" y="667"/>
                      </a:lnTo>
                      <a:lnTo>
                        <a:pt x="949" y="690"/>
                      </a:lnTo>
                      <a:lnTo>
                        <a:pt x="942" y="699"/>
                      </a:lnTo>
                      <a:lnTo>
                        <a:pt x="933" y="697"/>
                      </a:lnTo>
                      <a:lnTo>
                        <a:pt x="925" y="694"/>
                      </a:lnTo>
                      <a:lnTo>
                        <a:pt x="921" y="688"/>
                      </a:lnTo>
                      <a:lnTo>
                        <a:pt x="916" y="681"/>
                      </a:lnTo>
                      <a:lnTo>
                        <a:pt x="911" y="672"/>
                      </a:lnTo>
                      <a:lnTo>
                        <a:pt x="908" y="661"/>
                      </a:lnTo>
                      <a:lnTo>
                        <a:pt x="905" y="652"/>
                      </a:lnTo>
                      <a:lnTo>
                        <a:pt x="904" y="649"/>
                      </a:lnTo>
                      <a:lnTo>
                        <a:pt x="901" y="649"/>
                      </a:lnTo>
                      <a:lnTo>
                        <a:pt x="892" y="648"/>
                      </a:lnTo>
                      <a:lnTo>
                        <a:pt x="881" y="648"/>
                      </a:lnTo>
                      <a:lnTo>
                        <a:pt x="872" y="64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6"/>
                <p:cNvSpPr/>
                <p:nvPr/>
              </p:nvSpPr>
              <p:spPr>
                <a:xfrm>
                  <a:off x="6319800" y="3148560"/>
                  <a:ext cx="413640" cy="302040"/>
                </a:xfrm>
                <a:custGeom>
                  <a:avLst/>
                  <a:gdLst>
                    <a:gd name="textAreaLeft" fmla="*/ 0 w 413640"/>
                    <a:gd name="textAreaRight" fmla="*/ 414000 w 41364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290" h="228">
                      <a:moveTo>
                        <a:pt x="14" y="6"/>
                      </a:moveTo>
                      <a:lnTo>
                        <a:pt x="20" y="3"/>
                      </a:lnTo>
                      <a:lnTo>
                        <a:pt x="27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50" y="1"/>
                      </a:lnTo>
                      <a:lnTo>
                        <a:pt x="58" y="3"/>
                      </a:lnTo>
                      <a:lnTo>
                        <a:pt x="65" y="4"/>
                      </a:lnTo>
                      <a:lnTo>
                        <a:pt x="74" y="7"/>
                      </a:lnTo>
                      <a:lnTo>
                        <a:pt x="83" y="10"/>
                      </a:lnTo>
                      <a:lnTo>
                        <a:pt x="92" y="13"/>
                      </a:lnTo>
                      <a:lnTo>
                        <a:pt x="103" y="16"/>
                      </a:lnTo>
                      <a:lnTo>
                        <a:pt x="113" y="19"/>
                      </a:lnTo>
                      <a:lnTo>
                        <a:pt x="123" y="24"/>
                      </a:lnTo>
                      <a:lnTo>
                        <a:pt x="132" y="27"/>
                      </a:lnTo>
                      <a:lnTo>
                        <a:pt x="141" y="30"/>
                      </a:lnTo>
                      <a:lnTo>
                        <a:pt x="147" y="31"/>
                      </a:lnTo>
                      <a:lnTo>
                        <a:pt x="154" y="33"/>
                      </a:lnTo>
                      <a:lnTo>
                        <a:pt x="165" y="36"/>
                      </a:lnTo>
                      <a:lnTo>
                        <a:pt x="175" y="39"/>
                      </a:lnTo>
                      <a:lnTo>
                        <a:pt x="187" y="43"/>
                      </a:lnTo>
                      <a:lnTo>
                        <a:pt x="200" y="50"/>
                      </a:lnTo>
                      <a:lnTo>
                        <a:pt x="212" y="54"/>
                      </a:lnTo>
                      <a:lnTo>
                        <a:pt x="221" y="62"/>
                      </a:lnTo>
                      <a:lnTo>
                        <a:pt x="228" y="68"/>
                      </a:lnTo>
                      <a:lnTo>
                        <a:pt x="239" y="84"/>
                      </a:lnTo>
                      <a:lnTo>
                        <a:pt x="248" y="107"/>
                      </a:lnTo>
                      <a:lnTo>
                        <a:pt x="256" y="127"/>
                      </a:lnTo>
                      <a:lnTo>
                        <a:pt x="263" y="137"/>
                      </a:lnTo>
                      <a:lnTo>
                        <a:pt x="271" y="143"/>
                      </a:lnTo>
                      <a:lnTo>
                        <a:pt x="277" y="154"/>
                      </a:lnTo>
                      <a:lnTo>
                        <a:pt x="280" y="166"/>
                      </a:lnTo>
                      <a:lnTo>
                        <a:pt x="281" y="178"/>
                      </a:lnTo>
                      <a:lnTo>
                        <a:pt x="281" y="188"/>
                      </a:lnTo>
                      <a:lnTo>
                        <a:pt x="284" y="197"/>
                      </a:lnTo>
                      <a:lnTo>
                        <a:pt x="287" y="205"/>
                      </a:lnTo>
                      <a:lnTo>
                        <a:pt x="290" y="213"/>
                      </a:lnTo>
                      <a:lnTo>
                        <a:pt x="289" y="217"/>
                      </a:lnTo>
                      <a:lnTo>
                        <a:pt x="283" y="222"/>
                      </a:lnTo>
                      <a:lnTo>
                        <a:pt x="275" y="225"/>
                      </a:lnTo>
                      <a:lnTo>
                        <a:pt x="265" y="226"/>
                      </a:lnTo>
                      <a:lnTo>
                        <a:pt x="254" y="228"/>
                      </a:lnTo>
                      <a:lnTo>
                        <a:pt x="243" y="226"/>
                      </a:lnTo>
                      <a:lnTo>
                        <a:pt x="233" y="222"/>
                      </a:lnTo>
                      <a:lnTo>
                        <a:pt x="225" y="216"/>
                      </a:lnTo>
                      <a:lnTo>
                        <a:pt x="218" y="208"/>
                      </a:lnTo>
                      <a:lnTo>
                        <a:pt x="210" y="200"/>
                      </a:lnTo>
                      <a:lnTo>
                        <a:pt x="201" y="194"/>
                      </a:lnTo>
                      <a:lnTo>
                        <a:pt x="192" y="188"/>
                      </a:lnTo>
                      <a:lnTo>
                        <a:pt x="183" y="184"/>
                      </a:lnTo>
                      <a:lnTo>
                        <a:pt x="174" y="179"/>
                      </a:lnTo>
                      <a:lnTo>
                        <a:pt x="165" y="178"/>
                      </a:lnTo>
                      <a:lnTo>
                        <a:pt x="157" y="176"/>
                      </a:lnTo>
                      <a:lnTo>
                        <a:pt x="142" y="173"/>
                      </a:lnTo>
                      <a:lnTo>
                        <a:pt x="129" y="164"/>
                      </a:lnTo>
                      <a:lnTo>
                        <a:pt x="121" y="155"/>
                      </a:lnTo>
                      <a:lnTo>
                        <a:pt x="121" y="145"/>
                      </a:lnTo>
                      <a:lnTo>
                        <a:pt x="124" y="142"/>
                      </a:lnTo>
                      <a:lnTo>
                        <a:pt x="130" y="139"/>
                      </a:lnTo>
                      <a:lnTo>
                        <a:pt x="136" y="137"/>
                      </a:lnTo>
                      <a:lnTo>
                        <a:pt x="144" y="137"/>
                      </a:lnTo>
                      <a:lnTo>
                        <a:pt x="150" y="136"/>
                      </a:lnTo>
                      <a:lnTo>
                        <a:pt x="157" y="136"/>
                      </a:lnTo>
                      <a:lnTo>
                        <a:pt x="163" y="136"/>
                      </a:lnTo>
                      <a:lnTo>
                        <a:pt x="169" y="134"/>
                      </a:lnTo>
                      <a:lnTo>
                        <a:pt x="172" y="127"/>
                      </a:lnTo>
                      <a:lnTo>
                        <a:pt x="166" y="114"/>
                      </a:lnTo>
                      <a:lnTo>
                        <a:pt x="156" y="102"/>
                      </a:lnTo>
                      <a:lnTo>
                        <a:pt x="145" y="93"/>
                      </a:lnTo>
                      <a:lnTo>
                        <a:pt x="139" y="90"/>
                      </a:lnTo>
                      <a:lnTo>
                        <a:pt x="129" y="89"/>
                      </a:lnTo>
                      <a:lnTo>
                        <a:pt x="116" y="84"/>
                      </a:lnTo>
                      <a:lnTo>
                        <a:pt x="103" y="81"/>
                      </a:lnTo>
                      <a:lnTo>
                        <a:pt x="88" y="78"/>
                      </a:lnTo>
                      <a:lnTo>
                        <a:pt x="74" y="75"/>
                      </a:lnTo>
                      <a:lnTo>
                        <a:pt x="62" y="72"/>
                      </a:lnTo>
                      <a:lnTo>
                        <a:pt x="51" y="69"/>
                      </a:lnTo>
                      <a:lnTo>
                        <a:pt x="42" y="65"/>
                      </a:lnTo>
                      <a:lnTo>
                        <a:pt x="32" y="60"/>
                      </a:lnTo>
                      <a:lnTo>
                        <a:pt x="20" y="53"/>
                      </a:lnTo>
                      <a:lnTo>
                        <a:pt x="11" y="43"/>
                      </a:lnTo>
                      <a:lnTo>
                        <a:pt x="3" y="34"/>
                      </a:lnTo>
                      <a:lnTo>
                        <a:pt x="0" y="25"/>
                      </a:lnTo>
                      <a:lnTo>
                        <a:pt x="3" y="15"/>
                      </a:lnTo>
                      <a:lnTo>
                        <a:pt x="14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7"/>
                <p:cNvSpPr/>
                <p:nvPr/>
              </p:nvSpPr>
              <p:spPr>
                <a:xfrm>
                  <a:off x="6580800" y="2802600"/>
                  <a:ext cx="842760" cy="645120"/>
                </a:xfrm>
                <a:custGeom>
                  <a:avLst/>
                  <a:gdLst>
                    <a:gd name="textAreaLeft" fmla="*/ 0 w 842760"/>
                    <a:gd name="textAreaRight" fmla="*/ 843120 w 842760"/>
                    <a:gd name="textAreaTop" fmla="*/ 0 h 645120"/>
                    <a:gd name="textAreaBottom" fmla="*/ 645480 h 645120"/>
                  </a:gdLst>
                  <a:ahLst/>
                  <a:rect l="textAreaLeft" t="textAreaTop" r="textAreaRight" b="textAreaBottom"/>
                  <a:pathLst>
                    <a:path w="591" h="487">
                      <a:moveTo>
                        <a:pt x="136" y="67"/>
                      </a:moveTo>
                      <a:lnTo>
                        <a:pt x="128" y="69"/>
                      </a:lnTo>
                      <a:lnTo>
                        <a:pt x="122" y="70"/>
                      </a:lnTo>
                      <a:lnTo>
                        <a:pt x="116" y="69"/>
                      </a:lnTo>
                      <a:lnTo>
                        <a:pt x="110" y="69"/>
                      </a:lnTo>
                      <a:lnTo>
                        <a:pt x="104" y="69"/>
                      </a:lnTo>
                      <a:lnTo>
                        <a:pt x="98" y="70"/>
                      </a:lnTo>
                      <a:lnTo>
                        <a:pt x="91" y="75"/>
                      </a:lnTo>
                      <a:lnTo>
                        <a:pt x="83" y="81"/>
                      </a:lnTo>
                      <a:lnTo>
                        <a:pt x="71" y="98"/>
                      </a:lnTo>
                      <a:lnTo>
                        <a:pt x="63" y="111"/>
                      </a:lnTo>
                      <a:lnTo>
                        <a:pt x="56" y="123"/>
                      </a:lnTo>
                      <a:lnTo>
                        <a:pt x="45" y="132"/>
                      </a:lnTo>
                      <a:lnTo>
                        <a:pt x="38" y="137"/>
                      </a:lnTo>
                      <a:lnTo>
                        <a:pt x="30" y="140"/>
                      </a:lnTo>
                      <a:lnTo>
                        <a:pt x="21" y="144"/>
                      </a:lnTo>
                      <a:lnTo>
                        <a:pt x="14" y="149"/>
                      </a:lnTo>
                      <a:lnTo>
                        <a:pt x="6" y="154"/>
                      </a:lnTo>
                      <a:lnTo>
                        <a:pt x="1" y="158"/>
                      </a:lnTo>
                      <a:lnTo>
                        <a:pt x="0" y="163"/>
                      </a:lnTo>
                      <a:lnTo>
                        <a:pt x="1" y="167"/>
                      </a:lnTo>
                      <a:lnTo>
                        <a:pt x="9" y="173"/>
                      </a:lnTo>
                      <a:lnTo>
                        <a:pt x="15" y="176"/>
                      </a:lnTo>
                      <a:lnTo>
                        <a:pt x="20" y="181"/>
                      </a:lnTo>
                      <a:lnTo>
                        <a:pt x="24" y="187"/>
                      </a:lnTo>
                      <a:lnTo>
                        <a:pt x="27" y="196"/>
                      </a:lnTo>
                      <a:lnTo>
                        <a:pt x="35" y="205"/>
                      </a:lnTo>
                      <a:lnTo>
                        <a:pt x="44" y="209"/>
                      </a:lnTo>
                      <a:lnTo>
                        <a:pt x="56" y="203"/>
                      </a:lnTo>
                      <a:lnTo>
                        <a:pt x="68" y="194"/>
                      </a:lnTo>
                      <a:lnTo>
                        <a:pt x="77" y="190"/>
                      </a:lnTo>
                      <a:lnTo>
                        <a:pt x="88" y="188"/>
                      </a:lnTo>
                      <a:lnTo>
                        <a:pt x="98" y="187"/>
                      </a:lnTo>
                      <a:lnTo>
                        <a:pt x="106" y="184"/>
                      </a:lnTo>
                      <a:lnTo>
                        <a:pt x="112" y="182"/>
                      </a:lnTo>
                      <a:lnTo>
                        <a:pt x="116" y="182"/>
                      </a:lnTo>
                      <a:lnTo>
                        <a:pt x="121" y="188"/>
                      </a:lnTo>
                      <a:lnTo>
                        <a:pt x="128" y="199"/>
                      </a:lnTo>
                      <a:lnTo>
                        <a:pt x="137" y="209"/>
                      </a:lnTo>
                      <a:lnTo>
                        <a:pt x="145" y="215"/>
                      </a:lnTo>
                      <a:lnTo>
                        <a:pt x="148" y="218"/>
                      </a:lnTo>
                      <a:lnTo>
                        <a:pt x="148" y="221"/>
                      </a:lnTo>
                      <a:lnTo>
                        <a:pt x="148" y="227"/>
                      </a:lnTo>
                      <a:lnTo>
                        <a:pt x="148" y="237"/>
                      </a:lnTo>
                      <a:lnTo>
                        <a:pt x="150" y="244"/>
                      </a:lnTo>
                      <a:lnTo>
                        <a:pt x="153" y="253"/>
                      </a:lnTo>
                      <a:lnTo>
                        <a:pt x="160" y="262"/>
                      </a:lnTo>
                      <a:lnTo>
                        <a:pt x="171" y="271"/>
                      </a:lnTo>
                      <a:lnTo>
                        <a:pt x="180" y="280"/>
                      </a:lnTo>
                      <a:lnTo>
                        <a:pt x="186" y="289"/>
                      </a:lnTo>
                      <a:lnTo>
                        <a:pt x="189" y="297"/>
                      </a:lnTo>
                      <a:lnTo>
                        <a:pt x="190" y="307"/>
                      </a:lnTo>
                      <a:lnTo>
                        <a:pt x="192" y="320"/>
                      </a:lnTo>
                      <a:lnTo>
                        <a:pt x="193" y="335"/>
                      </a:lnTo>
                      <a:lnTo>
                        <a:pt x="195" y="351"/>
                      </a:lnTo>
                      <a:lnTo>
                        <a:pt x="195" y="366"/>
                      </a:lnTo>
                      <a:lnTo>
                        <a:pt x="193" y="375"/>
                      </a:lnTo>
                      <a:lnTo>
                        <a:pt x="189" y="384"/>
                      </a:lnTo>
                      <a:lnTo>
                        <a:pt x="184" y="394"/>
                      </a:lnTo>
                      <a:lnTo>
                        <a:pt x="181" y="403"/>
                      </a:lnTo>
                      <a:lnTo>
                        <a:pt x="180" y="412"/>
                      </a:lnTo>
                      <a:lnTo>
                        <a:pt x="181" y="419"/>
                      </a:lnTo>
                      <a:lnTo>
                        <a:pt x="186" y="424"/>
                      </a:lnTo>
                      <a:lnTo>
                        <a:pt x="190" y="427"/>
                      </a:lnTo>
                      <a:lnTo>
                        <a:pt x="193" y="433"/>
                      </a:lnTo>
                      <a:lnTo>
                        <a:pt x="195" y="442"/>
                      </a:lnTo>
                      <a:lnTo>
                        <a:pt x="196" y="451"/>
                      </a:lnTo>
                      <a:lnTo>
                        <a:pt x="201" y="460"/>
                      </a:lnTo>
                      <a:lnTo>
                        <a:pt x="207" y="468"/>
                      </a:lnTo>
                      <a:lnTo>
                        <a:pt x="213" y="471"/>
                      </a:lnTo>
                      <a:lnTo>
                        <a:pt x="221" y="475"/>
                      </a:lnTo>
                      <a:lnTo>
                        <a:pt x="230" y="480"/>
                      </a:lnTo>
                      <a:lnTo>
                        <a:pt x="240" y="484"/>
                      </a:lnTo>
                      <a:lnTo>
                        <a:pt x="251" y="487"/>
                      </a:lnTo>
                      <a:lnTo>
                        <a:pt x="260" y="487"/>
                      </a:lnTo>
                      <a:lnTo>
                        <a:pt x="267" y="487"/>
                      </a:lnTo>
                      <a:lnTo>
                        <a:pt x="274" y="483"/>
                      </a:lnTo>
                      <a:lnTo>
                        <a:pt x="278" y="477"/>
                      </a:lnTo>
                      <a:lnTo>
                        <a:pt x="284" y="469"/>
                      </a:lnTo>
                      <a:lnTo>
                        <a:pt x="293" y="461"/>
                      </a:lnTo>
                      <a:lnTo>
                        <a:pt x="302" y="454"/>
                      </a:lnTo>
                      <a:lnTo>
                        <a:pt x="311" y="445"/>
                      </a:lnTo>
                      <a:lnTo>
                        <a:pt x="320" y="436"/>
                      </a:lnTo>
                      <a:lnTo>
                        <a:pt x="329" y="428"/>
                      </a:lnTo>
                      <a:lnTo>
                        <a:pt x="337" y="421"/>
                      </a:lnTo>
                      <a:lnTo>
                        <a:pt x="343" y="413"/>
                      </a:lnTo>
                      <a:lnTo>
                        <a:pt x="349" y="406"/>
                      </a:lnTo>
                      <a:lnTo>
                        <a:pt x="355" y="397"/>
                      </a:lnTo>
                      <a:lnTo>
                        <a:pt x="361" y="388"/>
                      </a:lnTo>
                      <a:lnTo>
                        <a:pt x="367" y="378"/>
                      </a:lnTo>
                      <a:lnTo>
                        <a:pt x="373" y="371"/>
                      </a:lnTo>
                      <a:lnTo>
                        <a:pt x="381" y="365"/>
                      </a:lnTo>
                      <a:lnTo>
                        <a:pt x="388" y="362"/>
                      </a:lnTo>
                      <a:lnTo>
                        <a:pt x="396" y="360"/>
                      </a:lnTo>
                      <a:lnTo>
                        <a:pt x="405" y="359"/>
                      </a:lnTo>
                      <a:lnTo>
                        <a:pt x="413" y="357"/>
                      </a:lnTo>
                      <a:lnTo>
                        <a:pt x="420" y="356"/>
                      </a:lnTo>
                      <a:lnTo>
                        <a:pt x="426" y="354"/>
                      </a:lnTo>
                      <a:lnTo>
                        <a:pt x="434" y="351"/>
                      </a:lnTo>
                      <a:lnTo>
                        <a:pt x="440" y="348"/>
                      </a:lnTo>
                      <a:lnTo>
                        <a:pt x="444" y="345"/>
                      </a:lnTo>
                      <a:lnTo>
                        <a:pt x="453" y="339"/>
                      </a:lnTo>
                      <a:lnTo>
                        <a:pt x="461" y="335"/>
                      </a:lnTo>
                      <a:lnTo>
                        <a:pt x="467" y="330"/>
                      </a:lnTo>
                      <a:lnTo>
                        <a:pt x="476" y="326"/>
                      </a:lnTo>
                      <a:lnTo>
                        <a:pt x="484" y="320"/>
                      </a:lnTo>
                      <a:lnTo>
                        <a:pt x="490" y="312"/>
                      </a:lnTo>
                      <a:lnTo>
                        <a:pt x="494" y="306"/>
                      </a:lnTo>
                      <a:lnTo>
                        <a:pt x="494" y="300"/>
                      </a:lnTo>
                      <a:lnTo>
                        <a:pt x="491" y="295"/>
                      </a:lnTo>
                      <a:lnTo>
                        <a:pt x="485" y="291"/>
                      </a:lnTo>
                      <a:lnTo>
                        <a:pt x="479" y="286"/>
                      </a:lnTo>
                      <a:lnTo>
                        <a:pt x="475" y="285"/>
                      </a:lnTo>
                      <a:lnTo>
                        <a:pt x="468" y="283"/>
                      </a:lnTo>
                      <a:lnTo>
                        <a:pt x="459" y="280"/>
                      </a:lnTo>
                      <a:lnTo>
                        <a:pt x="453" y="277"/>
                      </a:lnTo>
                      <a:lnTo>
                        <a:pt x="453" y="270"/>
                      </a:lnTo>
                      <a:lnTo>
                        <a:pt x="458" y="261"/>
                      </a:lnTo>
                      <a:lnTo>
                        <a:pt x="462" y="252"/>
                      </a:lnTo>
                      <a:lnTo>
                        <a:pt x="467" y="247"/>
                      </a:lnTo>
                      <a:lnTo>
                        <a:pt x="475" y="249"/>
                      </a:lnTo>
                      <a:lnTo>
                        <a:pt x="484" y="252"/>
                      </a:lnTo>
                      <a:lnTo>
                        <a:pt x="496" y="253"/>
                      </a:lnTo>
                      <a:lnTo>
                        <a:pt x="505" y="255"/>
                      </a:lnTo>
                      <a:lnTo>
                        <a:pt x="509" y="255"/>
                      </a:lnTo>
                      <a:lnTo>
                        <a:pt x="511" y="253"/>
                      </a:lnTo>
                      <a:lnTo>
                        <a:pt x="514" y="249"/>
                      </a:lnTo>
                      <a:lnTo>
                        <a:pt x="515" y="241"/>
                      </a:lnTo>
                      <a:lnTo>
                        <a:pt x="518" y="229"/>
                      </a:lnTo>
                      <a:lnTo>
                        <a:pt x="521" y="217"/>
                      </a:lnTo>
                      <a:lnTo>
                        <a:pt x="523" y="206"/>
                      </a:lnTo>
                      <a:lnTo>
                        <a:pt x="521" y="197"/>
                      </a:lnTo>
                      <a:lnTo>
                        <a:pt x="520" y="187"/>
                      </a:lnTo>
                      <a:lnTo>
                        <a:pt x="517" y="175"/>
                      </a:lnTo>
                      <a:lnTo>
                        <a:pt x="517" y="160"/>
                      </a:lnTo>
                      <a:lnTo>
                        <a:pt x="520" y="143"/>
                      </a:lnTo>
                      <a:lnTo>
                        <a:pt x="526" y="129"/>
                      </a:lnTo>
                      <a:lnTo>
                        <a:pt x="530" y="119"/>
                      </a:lnTo>
                      <a:lnTo>
                        <a:pt x="536" y="111"/>
                      </a:lnTo>
                      <a:lnTo>
                        <a:pt x="544" y="104"/>
                      </a:lnTo>
                      <a:lnTo>
                        <a:pt x="549" y="99"/>
                      </a:lnTo>
                      <a:lnTo>
                        <a:pt x="555" y="95"/>
                      </a:lnTo>
                      <a:lnTo>
                        <a:pt x="561" y="90"/>
                      </a:lnTo>
                      <a:lnTo>
                        <a:pt x="568" y="86"/>
                      </a:lnTo>
                      <a:lnTo>
                        <a:pt x="574" y="81"/>
                      </a:lnTo>
                      <a:lnTo>
                        <a:pt x="580" y="77"/>
                      </a:lnTo>
                      <a:lnTo>
                        <a:pt x="586" y="70"/>
                      </a:lnTo>
                      <a:lnTo>
                        <a:pt x="589" y="66"/>
                      </a:lnTo>
                      <a:lnTo>
                        <a:pt x="591" y="57"/>
                      </a:lnTo>
                      <a:lnTo>
                        <a:pt x="586" y="52"/>
                      </a:lnTo>
                      <a:lnTo>
                        <a:pt x="579" y="52"/>
                      </a:lnTo>
                      <a:lnTo>
                        <a:pt x="570" y="54"/>
                      </a:lnTo>
                      <a:lnTo>
                        <a:pt x="561" y="54"/>
                      </a:lnTo>
                      <a:lnTo>
                        <a:pt x="550" y="52"/>
                      </a:lnTo>
                      <a:lnTo>
                        <a:pt x="540" y="51"/>
                      </a:lnTo>
                      <a:lnTo>
                        <a:pt x="532" y="49"/>
                      </a:lnTo>
                      <a:lnTo>
                        <a:pt x="524" y="49"/>
                      </a:lnTo>
                      <a:lnTo>
                        <a:pt x="518" y="49"/>
                      </a:lnTo>
                      <a:lnTo>
                        <a:pt x="514" y="54"/>
                      </a:lnTo>
                      <a:lnTo>
                        <a:pt x="509" y="60"/>
                      </a:lnTo>
                      <a:lnTo>
                        <a:pt x="506" y="63"/>
                      </a:lnTo>
                      <a:lnTo>
                        <a:pt x="502" y="64"/>
                      </a:lnTo>
                      <a:lnTo>
                        <a:pt x="496" y="66"/>
                      </a:lnTo>
                      <a:lnTo>
                        <a:pt x="490" y="67"/>
                      </a:lnTo>
                      <a:lnTo>
                        <a:pt x="482" y="67"/>
                      </a:lnTo>
                      <a:lnTo>
                        <a:pt x="476" y="67"/>
                      </a:lnTo>
                      <a:lnTo>
                        <a:pt x="468" y="67"/>
                      </a:lnTo>
                      <a:lnTo>
                        <a:pt x="462" y="67"/>
                      </a:lnTo>
                      <a:lnTo>
                        <a:pt x="450" y="66"/>
                      </a:lnTo>
                      <a:lnTo>
                        <a:pt x="438" y="64"/>
                      </a:lnTo>
                      <a:lnTo>
                        <a:pt x="428" y="63"/>
                      </a:lnTo>
                      <a:lnTo>
                        <a:pt x="419" y="63"/>
                      </a:lnTo>
                      <a:lnTo>
                        <a:pt x="414" y="63"/>
                      </a:lnTo>
                      <a:lnTo>
                        <a:pt x="417" y="61"/>
                      </a:lnTo>
                      <a:lnTo>
                        <a:pt x="425" y="58"/>
                      </a:lnTo>
                      <a:lnTo>
                        <a:pt x="434" y="51"/>
                      </a:lnTo>
                      <a:lnTo>
                        <a:pt x="443" y="43"/>
                      </a:lnTo>
                      <a:lnTo>
                        <a:pt x="452" y="39"/>
                      </a:lnTo>
                      <a:lnTo>
                        <a:pt x="461" y="37"/>
                      </a:lnTo>
                      <a:lnTo>
                        <a:pt x="470" y="36"/>
                      </a:lnTo>
                      <a:lnTo>
                        <a:pt x="481" y="36"/>
                      </a:lnTo>
                      <a:lnTo>
                        <a:pt x="494" y="37"/>
                      </a:lnTo>
                      <a:lnTo>
                        <a:pt x="505" y="40"/>
                      </a:lnTo>
                      <a:lnTo>
                        <a:pt x="509" y="40"/>
                      </a:lnTo>
                      <a:lnTo>
                        <a:pt x="502" y="28"/>
                      </a:lnTo>
                      <a:lnTo>
                        <a:pt x="491" y="16"/>
                      </a:lnTo>
                      <a:lnTo>
                        <a:pt x="481" y="9"/>
                      </a:lnTo>
                      <a:lnTo>
                        <a:pt x="472" y="4"/>
                      </a:lnTo>
                      <a:lnTo>
                        <a:pt x="467" y="3"/>
                      </a:lnTo>
                      <a:lnTo>
                        <a:pt x="459" y="3"/>
                      </a:lnTo>
                      <a:lnTo>
                        <a:pt x="452" y="1"/>
                      </a:lnTo>
                      <a:lnTo>
                        <a:pt x="443" y="0"/>
                      </a:lnTo>
                      <a:lnTo>
                        <a:pt x="434" y="0"/>
                      </a:lnTo>
                      <a:lnTo>
                        <a:pt x="423" y="0"/>
                      </a:lnTo>
                      <a:lnTo>
                        <a:pt x="413" y="0"/>
                      </a:lnTo>
                      <a:lnTo>
                        <a:pt x="402" y="1"/>
                      </a:lnTo>
                      <a:lnTo>
                        <a:pt x="391" y="3"/>
                      </a:lnTo>
                      <a:lnTo>
                        <a:pt x="381" y="4"/>
                      </a:lnTo>
                      <a:lnTo>
                        <a:pt x="369" y="4"/>
                      </a:lnTo>
                      <a:lnTo>
                        <a:pt x="358" y="4"/>
                      </a:lnTo>
                      <a:lnTo>
                        <a:pt x="348" y="6"/>
                      </a:lnTo>
                      <a:lnTo>
                        <a:pt x="339" y="6"/>
                      </a:lnTo>
                      <a:lnTo>
                        <a:pt x="331" y="6"/>
                      </a:lnTo>
                      <a:lnTo>
                        <a:pt x="325" y="7"/>
                      </a:lnTo>
                      <a:lnTo>
                        <a:pt x="314" y="12"/>
                      </a:lnTo>
                      <a:lnTo>
                        <a:pt x="305" y="16"/>
                      </a:lnTo>
                      <a:lnTo>
                        <a:pt x="296" y="21"/>
                      </a:lnTo>
                      <a:lnTo>
                        <a:pt x="287" y="22"/>
                      </a:lnTo>
                      <a:lnTo>
                        <a:pt x="280" y="22"/>
                      </a:lnTo>
                      <a:lnTo>
                        <a:pt x="275" y="24"/>
                      </a:lnTo>
                      <a:lnTo>
                        <a:pt x="270" y="27"/>
                      </a:lnTo>
                      <a:lnTo>
                        <a:pt x="263" y="30"/>
                      </a:lnTo>
                      <a:lnTo>
                        <a:pt x="258" y="34"/>
                      </a:lnTo>
                      <a:lnTo>
                        <a:pt x="260" y="39"/>
                      </a:lnTo>
                      <a:lnTo>
                        <a:pt x="264" y="46"/>
                      </a:lnTo>
                      <a:lnTo>
                        <a:pt x="267" y="54"/>
                      </a:lnTo>
                      <a:lnTo>
                        <a:pt x="266" y="58"/>
                      </a:lnTo>
                      <a:lnTo>
                        <a:pt x="260" y="58"/>
                      </a:lnTo>
                      <a:lnTo>
                        <a:pt x="251" y="58"/>
                      </a:lnTo>
                      <a:lnTo>
                        <a:pt x="240" y="60"/>
                      </a:lnTo>
                      <a:lnTo>
                        <a:pt x="230" y="63"/>
                      </a:lnTo>
                      <a:lnTo>
                        <a:pt x="222" y="63"/>
                      </a:lnTo>
                      <a:lnTo>
                        <a:pt x="215" y="63"/>
                      </a:lnTo>
                      <a:lnTo>
                        <a:pt x="209" y="61"/>
                      </a:lnTo>
                      <a:lnTo>
                        <a:pt x="201" y="61"/>
                      </a:lnTo>
                      <a:lnTo>
                        <a:pt x="190" y="63"/>
                      </a:lnTo>
                      <a:lnTo>
                        <a:pt x="181" y="64"/>
                      </a:lnTo>
                      <a:lnTo>
                        <a:pt x="177" y="66"/>
                      </a:lnTo>
                      <a:lnTo>
                        <a:pt x="172" y="66"/>
                      </a:lnTo>
                      <a:lnTo>
                        <a:pt x="162" y="64"/>
                      </a:lnTo>
                      <a:lnTo>
                        <a:pt x="148" y="64"/>
                      </a:lnTo>
                      <a:lnTo>
                        <a:pt x="136" y="6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8"/>
                <p:cNvSpPr/>
                <p:nvPr/>
              </p:nvSpPr>
              <p:spPr>
                <a:xfrm>
                  <a:off x="6285600" y="2843640"/>
                  <a:ext cx="454680" cy="218520"/>
                </a:xfrm>
                <a:custGeom>
                  <a:avLst/>
                  <a:gdLst>
                    <a:gd name="textAreaLeft" fmla="*/ 0 w 454680"/>
                    <a:gd name="textAreaRight" fmla="*/ 455040 w 45468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319" h="165">
                      <a:moveTo>
                        <a:pt x="319" y="17"/>
                      </a:moveTo>
                      <a:lnTo>
                        <a:pt x="317" y="15"/>
                      </a:lnTo>
                      <a:lnTo>
                        <a:pt x="308" y="15"/>
                      </a:lnTo>
                      <a:lnTo>
                        <a:pt x="293" y="15"/>
                      </a:lnTo>
                      <a:lnTo>
                        <a:pt x="276" y="15"/>
                      </a:lnTo>
                      <a:lnTo>
                        <a:pt x="258" y="14"/>
                      </a:lnTo>
                      <a:lnTo>
                        <a:pt x="242" y="14"/>
                      </a:lnTo>
                      <a:lnTo>
                        <a:pt x="227" y="12"/>
                      </a:lnTo>
                      <a:lnTo>
                        <a:pt x="218" y="11"/>
                      </a:lnTo>
                      <a:lnTo>
                        <a:pt x="208" y="8"/>
                      </a:lnTo>
                      <a:lnTo>
                        <a:pt x="195" y="6"/>
                      </a:lnTo>
                      <a:lnTo>
                        <a:pt x="178" y="3"/>
                      </a:lnTo>
                      <a:lnTo>
                        <a:pt x="160" y="2"/>
                      </a:lnTo>
                      <a:lnTo>
                        <a:pt x="142" y="0"/>
                      </a:lnTo>
                      <a:lnTo>
                        <a:pt x="127" y="2"/>
                      </a:lnTo>
                      <a:lnTo>
                        <a:pt x="113" y="3"/>
                      </a:lnTo>
                      <a:lnTo>
                        <a:pt x="104" y="6"/>
                      </a:lnTo>
                      <a:lnTo>
                        <a:pt x="97" y="11"/>
                      </a:lnTo>
                      <a:lnTo>
                        <a:pt x="88" y="14"/>
                      </a:lnTo>
                      <a:lnTo>
                        <a:pt x="78" y="15"/>
                      </a:lnTo>
                      <a:lnTo>
                        <a:pt x="69" y="17"/>
                      </a:lnTo>
                      <a:lnTo>
                        <a:pt x="60" y="20"/>
                      </a:lnTo>
                      <a:lnTo>
                        <a:pt x="51" y="21"/>
                      </a:lnTo>
                      <a:lnTo>
                        <a:pt x="44" y="23"/>
                      </a:lnTo>
                      <a:lnTo>
                        <a:pt x="38" y="24"/>
                      </a:lnTo>
                      <a:lnTo>
                        <a:pt x="27" y="27"/>
                      </a:lnTo>
                      <a:lnTo>
                        <a:pt x="15" y="27"/>
                      </a:lnTo>
                      <a:lnTo>
                        <a:pt x="6" y="27"/>
                      </a:lnTo>
                      <a:lnTo>
                        <a:pt x="0" y="32"/>
                      </a:lnTo>
                      <a:lnTo>
                        <a:pt x="1" y="39"/>
                      </a:lnTo>
                      <a:lnTo>
                        <a:pt x="7" y="46"/>
                      </a:lnTo>
                      <a:lnTo>
                        <a:pt x="17" y="50"/>
                      </a:lnTo>
                      <a:lnTo>
                        <a:pt x="24" y="55"/>
                      </a:lnTo>
                      <a:lnTo>
                        <a:pt x="32" y="58"/>
                      </a:lnTo>
                      <a:lnTo>
                        <a:pt x="41" y="59"/>
                      </a:lnTo>
                      <a:lnTo>
                        <a:pt x="51" y="62"/>
                      </a:lnTo>
                      <a:lnTo>
                        <a:pt x="60" y="67"/>
                      </a:lnTo>
                      <a:lnTo>
                        <a:pt x="69" y="74"/>
                      </a:lnTo>
                      <a:lnTo>
                        <a:pt x="77" y="83"/>
                      </a:lnTo>
                      <a:lnTo>
                        <a:pt x="78" y="92"/>
                      </a:lnTo>
                      <a:lnTo>
                        <a:pt x="69" y="100"/>
                      </a:lnTo>
                      <a:lnTo>
                        <a:pt x="56" y="107"/>
                      </a:lnTo>
                      <a:lnTo>
                        <a:pt x="48" y="118"/>
                      </a:lnTo>
                      <a:lnTo>
                        <a:pt x="44" y="127"/>
                      </a:lnTo>
                      <a:lnTo>
                        <a:pt x="42" y="132"/>
                      </a:lnTo>
                      <a:lnTo>
                        <a:pt x="39" y="157"/>
                      </a:lnTo>
                      <a:lnTo>
                        <a:pt x="80" y="157"/>
                      </a:lnTo>
                      <a:lnTo>
                        <a:pt x="83" y="159"/>
                      </a:lnTo>
                      <a:lnTo>
                        <a:pt x="89" y="162"/>
                      </a:lnTo>
                      <a:lnTo>
                        <a:pt x="97" y="165"/>
                      </a:lnTo>
                      <a:lnTo>
                        <a:pt x="104" y="163"/>
                      </a:lnTo>
                      <a:lnTo>
                        <a:pt x="109" y="160"/>
                      </a:lnTo>
                      <a:lnTo>
                        <a:pt x="115" y="157"/>
                      </a:lnTo>
                      <a:lnTo>
                        <a:pt x="122" y="153"/>
                      </a:lnTo>
                      <a:lnTo>
                        <a:pt x="130" y="147"/>
                      </a:lnTo>
                      <a:lnTo>
                        <a:pt x="139" y="142"/>
                      </a:lnTo>
                      <a:lnTo>
                        <a:pt x="145" y="138"/>
                      </a:lnTo>
                      <a:lnTo>
                        <a:pt x="150" y="133"/>
                      </a:lnTo>
                      <a:lnTo>
                        <a:pt x="151" y="130"/>
                      </a:lnTo>
                      <a:lnTo>
                        <a:pt x="151" y="124"/>
                      </a:lnTo>
                      <a:lnTo>
                        <a:pt x="150" y="116"/>
                      </a:lnTo>
                      <a:lnTo>
                        <a:pt x="151" y="107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3" y="77"/>
                      </a:lnTo>
                      <a:lnTo>
                        <a:pt x="169" y="71"/>
                      </a:lnTo>
                      <a:lnTo>
                        <a:pt x="177" y="70"/>
                      </a:lnTo>
                      <a:lnTo>
                        <a:pt x="186" y="74"/>
                      </a:lnTo>
                      <a:lnTo>
                        <a:pt x="193" y="82"/>
                      </a:lnTo>
                      <a:lnTo>
                        <a:pt x="199" y="89"/>
                      </a:lnTo>
                      <a:lnTo>
                        <a:pt x="202" y="98"/>
                      </a:lnTo>
                      <a:lnTo>
                        <a:pt x="204" y="104"/>
                      </a:lnTo>
                      <a:lnTo>
                        <a:pt x="207" y="107"/>
                      </a:lnTo>
                      <a:lnTo>
                        <a:pt x="213" y="109"/>
                      </a:lnTo>
                      <a:lnTo>
                        <a:pt x="224" y="104"/>
                      </a:lnTo>
                      <a:lnTo>
                        <a:pt x="233" y="98"/>
                      </a:lnTo>
                      <a:lnTo>
                        <a:pt x="240" y="89"/>
                      </a:lnTo>
                      <a:lnTo>
                        <a:pt x="249" y="77"/>
                      </a:lnTo>
                      <a:lnTo>
                        <a:pt x="260" y="65"/>
                      </a:lnTo>
                      <a:lnTo>
                        <a:pt x="270" y="52"/>
                      </a:lnTo>
                      <a:lnTo>
                        <a:pt x="284" y="38"/>
                      </a:lnTo>
                      <a:lnTo>
                        <a:pt x="301" y="26"/>
                      </a:lnTo>
                      <a:lnTo>
                        <a:pt x="319" y="1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9"/>
                <p:cNvSpPr/>
                <p:nvPr/>
              </p:nvSpPr>
              <p:spPr>
                <a:xfrm>
                  <a:off x="5884920" y="3181680"/>
                  <a:ext cx="227880" cy="109800"/>
                </a:xfrm>
                <a:custGeom>
                  <a:avLst/>
                  <a:gdLst>
                    <a:gd name="textAreaLeft" fmla="*/ 0 w 227880"/>
                    <a:gd name="textAreaRight" fmla="*/ 228240 w 227880"/>
                    <a:gd name="textAreaTop" fmla="*/ 0 h 109800"/>
                    <a:gd name="textAreaBottom" fmla="*/ 110160 h 109800"/>
                  </a:gdLst>
                  <a:ahLst/>
                  <a:rect l="textAreaLeft" t="textAreaTop" r="textAreaRight" b="textAreaBottom"/>
                  <a:pathLst>
                    <a:path w="160" h="83">
                      <a:moveTo>
                        <a:pt x="16" y="6"/>
                      </a:moveTo>
                      <a:lnTo>
                        <a:pt x="24" y="3"/>
                      </a:lnTo>
                      <a:lnTo>
                        <a:pt x="33" y="0"/>
                      </a:lnTo>
                      <a:lnTo>
                        <a:pt x="44" y="0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1" y="3"/>
                      </a:lnTo>
                      <a:lnTo>
                        <a:pt x="78" y="6"/>
                      </a:lnTo>
                      <a:lnTo>
                        <a:pt x="84" y="9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8" y="20"/>
                      </a:lnTo>
                      <a:lnTo>
                        <a:pt x="104" y="23"/>
                      </a:lnTo>
                      <a:lnTo>
                        <a:pt x="110" y="26"/>
                      </a:lnTo>
                      <a:lnTo>
                        <a:pt x="118" y="29"/>
                      </a:lnTo>
                      <a:lnTo>
                        <a:pt x="124" y="31"/>
                      </a:lnTo>
                      <a:lnTo>
                        <a:pt x="131" y="31"/>
                      </a:lnTo>
                      <a:lnTo>
                        <a:pt x="143" y="35"/>
                      </a:lnTo>
                      <a:lnTo>
                        <a:pt x="152" y="46"/>
                      </a:lnTo>
                      <a:lnTo>
                        <a:pt x="158" y="58"/>
                      </a:lnTo>
                      <a:lnTo>
                        <a:pt x="160" y="62"/>
                      </a:lnTo>
                      <a:lnTo>
                        <a:pt x="158" y="62"/>
                      </a:lnTo>
                      <a:lnTo>
                        <a:pt x="155" y="64"/>
                      </a:lnTo>
                      <a:lnTo>
                        <a:pt x="149" y="65"/>
                      </a:lnTo>
                      <a:lnTo>
                        <a:pt x="143" y="68"/>
                      </a:lnTo>
                      <a:lnTo>
                        <a:pt x="136" y="70"/>
                      </a:lnTo>
                      <a:lnTo>
                        <a:pt x="127" y="70"/>
                      </a:lnTo>
                      <a:lnTo>
                        <a:pt x="119" y="71"/>
                      </a:lnTo>
                      <a:lnTo>
                        <a:pt x="112" y="70"/>
                      </a:lnTo>
                      <a:lnTo>
                        <a:pt x="104" y="68"/>
                      </a:lnTo>
                      <a:lnTo>
                        <a:pt x="95" y="70"/>
                      </a:lnTo>
                      <a:lnTo>
                        <a:pt x="86" y="71"/>
                      </a:lnTo>
                      <a:lnTo>
                        <a:pt x="77" y="74"/>
                      </a:lnTo>
                      <a:lnTo>
                        <a:pt x="68" y="77"/>
                      </a:lnTo>
                      <a:lnTo>
                        <a:pt x="62" y="79"/>
                      </a:lnTo>
                      <a:lnTo>
                        <a:pt x="57" y="82"/>
                      </a:lnTo>
                      <a:lnTo>
                        <a:pt x="56" y="82"/>
                      </a:lnTo>
                      <a:lnTo>
                        <a:pt x="48" y="83"/>
                      </a:lnTo>
                      <a:lnTo>
                        <a:pt x="35" y="83"/>
                      </a:lnTo>
                      <a:lnTo>
                        <a:pt x="19" y="83"/>
                      </a:lnTo>
                      <a:lnTo>
                        <a:pt x="12" y="77"/>
                      </a:lnTo>
                      <a:lnTo>
                        <a:pt x="15" y="67"/>
                      </a:lnTo>
                      <a:lnTo>
                        <a:pt x="22" y="55"/>
                      </a:lnTo>
                      <a:lnTo>
                        <a:pt x="29" y="46"/>
                      </a:lnTo>
                      <a:lnTo>
                        <a:pt x="32" y="43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6" y="14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0"/>
                <p:cNvSpPr/>
                <p:nvPr/>
              </p:nvSpPr>
              <p:spPr>
                <a:xfrm>
                  <a:off x="7254000" y="3306240"/>
                  <a:ext cx="175320" cy="8604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23" h="65">
                      <a:moveTo>
                        <a:pt x="48" y="20"/>
                      </a:moveTo>
                      <a:lnTo>
                        <a:pt x="49" y="27"/>
                      </a:lnTo>
                      <a:lnTo>
                        <a:pt x="55" y="29"/>
                      </a:lnTo>
                      <a:lnTo>
                        <a:pt x="64" y="26"/>
                      </a:lnTo>
                      <a:lnTo>
                        <a:pt x="74" y="20"/>
                      </a:lnTo>
                      <a:lnTo>
                        <a:pt x="84" y="14"/>
                      </a:lnTo>
                      <a:lnTo>
                        <a:pt x="95" y="6"/>
                      </a:lnTo>
                      <a:lnTo>
                        <a:pt x="104" y="3"/>
                      </a:lnTo>
                      <a:lnTo>
                        <a:pt x="111" y="3"/>
                      </a:lnTo>
                      <a:lnTo>
                        <a:pt x="120" y="14"/>
                      </a:lnTo>
                      <a:lnTo>
                        <a:pt x="123" y="29"/>
                      </a:lnTo>
                      <a:lnTo>
                        <a:pt x="123" y="41"/>
                      </a:lnTo>
                      <a:lnTo>
                        <a:pt x="123" y="47"/>
                      </a:lnTo>
                      <a:lnTo>
                        <a:pt x="120" y="50"/>
                      </a:lnTo>
                      <a:lnTo>
                        <a:pt x="113" y="54"/>
                      </a:lnTo>
                      <a:lnTo>
                        <a:pt x="99" y="60"/>
                      </a:lnTo>
                      <a:lnTo>
                        <a:pt x="84" y="63"/>
                      </a:lnTo>
                      <a:lnTo>
                        <a:pt x="75" y="63"/>
                      </a:lnTo>
                      <a:lnTo>
                        <a:pt x="66" y="63"/>
                      </a:lnTo>
                      <a:lnTo>
                        <a:pt x="57" y="65"/>
                      </a:lnTo>
                      <a:lnTo>
                        <a:pt x="48" y="63"/>
                      </a:lnTo>
                      <a:lnTo>
                        <a:pt x="40" y="63"/>
                      </a:lnTo>
                      <a:lnTo>
                        <a:pt x="34" y="62"/>
                      </a:lnTo>
                      <a:lnTo>
                        <a:pt x="31" y="60"/>
                      </a:lnTo>
                      <a:lnTo>
                        <a:pt x="28" y="56"/>
                      </a:lnTo>
                      <a:lnTo>
                        <a:pt x="22" y="48"/>
                      </a:lnTo>
                      <a:lnTo>
                        <a:pt x="12" y="41"/>
                      </a:lnTo>
                      <a:lnTo>
                        <a:pt x="4" y="38"/>
                      </a:lnTo>
                      <a:lnTo>
                        <a:pt x="0" y="36"/>
                      </a:lnTo>
                      <a:lnTo>
                        <a:pt x="0" y="32"/>
                      </a:lnTo>
                      <a:lnTo>
                        <a:pt x="1" y="20"/>
                      </a:lnTo>
                      <a:lnTo>
                        <a:pt x="7" y="8"/>
                      </a:lnTo>
                      <a:lnTo>
                        <a:pt x="16" y="0"/>
                      </a:lnTo>
                      <a:lnTo>
                        <a:pt x="28" y="0"/>
                      </a:lnTo>
                      <a:lnTo>
                        <a:pt x="37" y="3"/>
                      </a:lnTo>
                      <a:lnTo>
                        <a:pt x="45" y="11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6"/>
                <p:cNvSpPr/>
                <p:nvPr/>
              </p:nvSpPr>
              <p:spPr>
                <a:xfrm>
                  <a:off x="7563600" y="3462480"/>
                  <a:ext cx="176760" cy="195840"/>
                </a:xfrm>
                <a:custGeom>
                  <a:avLst/>
                  <a:gdLst>
                    <a:gd name="textAreaLeft" fmla="*/ 0 w 176760"/>
                    <a:gd name="textAreaRight" fmla="*/ 177120 w 17676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24" h="148">
                      <a:moveTo>
                        <a:pt x="2" y="77"/>
                      </a:moveTo>
                      <a:lnTo>
                        <a:pt x="0" y="69"/>
                      </a:lnTo>
                      <a:lnTo>
                        <a:pt x="3" y="63"/>
                      </a:lnTo>
                      <a:lnTo>
                        <a:pt x="6" y="60"/>
                      </a:lnTo>
                      <a:lnTo>
                        <a:pt x="12" y="57"/>
                      </a:lnTo>
                      <a:lnTo>
                        <a:pt x="20" y="54"/>
                      </a:lnTo>
                      <a:lnTo>
                        <a:pt x="27" y="50"/>
                      </a:lnTo>
                      <a:lnTo>
                        <a:pt x="35" y="45"/>
                      </a:lnTo>
                      <a:lnTo>
                        <a:pt x="41" y="37"/>
                      </a:lnTo>
                      <a:lnTo>
                        <a:pt x="47" y="28"/>
                      </a:lnTo>
                      <a:lnTo>
                        <a:pt x="53" y="19"/>
                      </a:lnTo>
                      <a:lnTo>
                        <a:pt x="59" y="12"/>
                      </a:lnTo>
                      <a:lnTo>
                        <a:pt x="67" y="6"/>
                      </a:lnTo>
                      <a:lnTo>
                        <a:pt x="74" y="1"/>
                      </a:lnTo>
                      <a:lnTo>
                        <a:pt x="82" y="0"/>
                      </a:lnTo>
                      <a:lnTo>
                        <a:pt x="91" y="1"/>
                      </a:lnTo>
                      <a:lnTo>
                        <a:pt x="101" y="6"/>
                      </a:lnTo>
                      <a:lnTo>
                        <a:pt x="115" y="21"/>
                      </a:lnTo>
                      <a:lnTo>
                        <a:pt x="121" y="36"/>
                      </a:lnTo>
                      <a:lnTo>
                        <a:pt x="121" y="53"/>
                      </a:lnTo>
                      <a:lnTo>
                        <a:pt x="123" y="69"/>
                      </a:lnTo>
                      <a:lnTo>
                        <a:pt x="124" y="81"/>
                      </a:lnTo>
                      <a:lnTo>
                        <a:pt x="121" y="93"/>
                      </a:lnTo>
                      <a:lnTo>
                        <a:pt x="117" y="104"/>
                      </a:lnTo>
                      <a:lnTo>
                        <a:pt x="112" y="114"/>
                      </a:lnTo>
                      <a:lnTo>
                        <a:pt x="109" y="122"/>
                      </a:lnTo>
                      <a:lnTo>
                        <a:pt x="104" y="130"/>
                      </a:lnTo>
                      <a:lnTo>
                        <a:pt x="98" y="136"/>
                      </a:lnTo>
                      <a:lnTo>
                        <a:pt x="91" y="142"/>
                      </a:lnTo>
                      <a:lnTo>
                        <a:pt x="82" y="146"/>
                      </a:lnTo>
                      <a:lnTo>
                        <a:pt x="76" y="148"/>
                      </a:lnTo>
                      <a:lnTo>
                        <a:pt x="70" y="145"/>
                      </a:lnTo>
                      <a:lnTo>
                        <a:pt x="65" y="137"/>
                      </a:lnTo>
                      <a:lnTo>
                        <a:pt x="59" y="120"/>
                      </a:lnTo>
                      <a:lnTo>
                        <a:pt x="56" y="108"/>
                      </a:lnTo>
                      <a:lnTo>
                        <a:pt x="58" y="99"/>
                      </a:lnTo>
                      <a:lnTo>
                        <a:pt x="70" y="93"/>
                      </a:lnTo>
                      <a:lnTo>
                        <a:pt x="83" y="84"/>
                      </a:lnTo>
                      <a:lnTo>
                        <a:pt x="92" y="71"/>
                      </a:lnTo>
                      <a:lnTo>
                        <a:pt x="92" y="57"/>
                      </a:lnTo>
                      <a:lnTo>
                        <a:pt x="85" y="50"/>
                      </a:lnTo>
                      <a:lnTo>
                        <a:pt x="79" y="48"/>
                      </a:lnTo>
                      <a:lnTo>
                        <a:pt x="71" y="47"/>
                      </a:lnTo>
                      <a:lnTo>
                        <a:pt x="64" y="47"/>
                      </a:lnTo>
                      <a:lnTo>
                        <a:pt x="56" y="48"/>
                      </a:lnTo>
                      <a:lnTo>
                        <a:pt x="50" y="51"/>
                      </a:lnTo>
                      <a:lnTo>
                        <a:pt x="44" y="54"/>
                      </a:lnTo>
                      <a:lnTo>
                        <a:pt x="39" y="59"/>
                      </a:lnTo>
                      <a:lnTo>
                        <a:pt x="36" y="66"/>
                      </a:lnTo>
                      <a:lnTo>
                        <a:pt x="30" y="80"/>
                      </a:lnTo>
                      <a:lnTo>
                        <a:pt x="21" y="89"/>
                      </a:lnTo>
                      <a:lnTo>
                        <a:pt x="9" y="90"/>
                      </a:lnTo>
                      <a:lnTo>
                        <a:pt x="2" y="7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4"/>
                <p:cNvSpPr/>
                <p:nvPr/>
              </p:nvSpPr>
              <p:spPr>
                <a:xfrm>
                  <a:off x="6429600" y="4188960"/>
                  <a:ext cx="163800" cy="752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115" h="57">
                      <a:moveTo>
                        <a:pt x="0" y="6"/>
                      </a:moveTo>
                      <a:lnTo>
                        <a:pt x="5" y="0"/>
                      </a:lnTo>
                      <a:lnTo>
                        <a:pt x="12" y="0"/>
                      </a:lnTo>
                      <a:lnTo>
                        <a:pt x="24" y="3"/>
                      </a:lnTo>
                      <a:lnTo>
                        <a:pt x="36" y="9"/>
                      </a:lnTo>
                      <a:lnTo>
                        <a:pt x="50" y="15"/>
                      </a:lnTo>
                      <a:lnTo>
                        <a:pt x="64" y="22"/>
                      </a:lnTo>
                      <a:lnTo>
                        <a:pt x="76" y="30"/>
                      </a:lnTo>
                      <a:lnTo>
                        <a:pt x="85" y="34"/>
                      </a:lnTo>
                      <a:lnTo>
                        <a:pt x="100" y="41"/>
                      </a:lnTo>
                      <a:lnTo>
                        <a:pt x="112" y="48"/>
                      </a:lnTo>
                      <a:lnTo>
                        <a:pt x="115" y="54"/>
                      </a:lnTo>
                      <a:lnTo>
                        <a:pt x="107" y="57"/>
                      </a:lnTo>
                      <a:lnTo>
                        <a:pt x="100" y="57"/>
                      </a:lnTo>
                      <a:lnTo>
                        <a:pt x="91" y="56"/>
                      </a:lnTo>
                      <a:lnTo>
                        <a:pt x="83" y="54"/>
                      </a:lnTo>
                      <a:lnTo>
                        <a:pt x="74" y="53"/>
                      </a:lnTo>
                      <a:lnTo>
                        <a:pt x="67" y="53"/>
                      </a:lnTo>
                      <a:lnTo>
                        <a:pt x="61" y="51"/>
                      </a:lnTo>
                      <a:lnTo>
                        <a:pt x="58" y="50"/>
                      </a:lnTo>
                      <a:lnTo>
                        <a:pt x="56" y="50"/>
                      </a:lnTo>
                      <a:lnTo>
                        <a:pt x="53" y="48"/>
                      </a:lnTo>
                      <a:lnTo>
                        <a:pt x="47" y="45"/>
                      </a:lnTo>
                      <a:lnTo>
                        <a:pt x="38" y="41"/>
                      </a:lnTo>
                      <a:lnTo>
                        <a:pt x="27" y="34"/>
                      </a:lnTo>
                      <a:lnTo>
                        <a:pt x="17" y="27"/>
                      </a:lnTo>
                      <a:lnTo>
                        <a:pt x="8" y="19"/>
                      </a:lnTo>
                      <a:lnTo>
                        <a:pt x="2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5616000" y="3046320"/>
                  <a:ext cx="493560" cy="7488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27"/>
                <p:cNvSpPr/>
                <p:nvPr/>
              </p:nvSpPr>
              <p:spPr>
                <a:xfrm>
                  <a:off x="5051160" y="2671200"/>
                  <a:ext cx="776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US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28"/>
                <p:cNvSpPr/>
                <p:nvPr/>
              </p:nvSpPr>
              <p:spPr>
                <a:xfrm>
                  <a:off x="5239800" y="3121200"/>
                  <a:ext cx="869760" cy="8985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Text Box 29"/>
                <p:cNvSpPr/>
                <p:nvPr/>
              </p:nvSpPr>
              <p:spPr>
                <a:xfrm>
                  <a:off x="4578840" y="2896920"/>
                  <a:ext cx="822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Mexico</a:t>
                  </a:r>
                  <a:r>
                    <a:rPr b="0" lang="en-US" sz="1400" spc="-1" strike="noStrike">
                      <a:solidFill>
                        <a:srgbClr val="ff6600"/>
                      </a:solidFill>
                      <a:latin typeface="Trebuchet MS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35"/>
                <p:cNvSpPr/>
                <p:nvPr/>
              </p:nvSpPr>
              <p:spPr>
                <a:xfrm flipH="1" flipV="1">
                  <a:off x="5453280" y="3795480"/>
                  <a:ext cx="712440" cy="3744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36"/>
                <p:cNvSpPr/>
                <p:nvPr/>
              </p:nvSpPr>
              <p:spPr>
                <a:xfrm>
                  <a:off x="4385880" y="3570120"/>
                  <a:ext cx="112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l Salvad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osta 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48"/>
                <p:cNvSpPr/>
                <p:nvPr/>
              </p:nvSpPr>
              <p:spPr>
                <a:xfrm>
                  <a:off x="6815160" y="4694400"/>
                  <a:ext cx="27684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59"/>
                <p:cNvSpPr/>
                <p:nvPr/>
              </p:nvSpPr>
              <p:spPr>
                <a:xfrm>
                  <a:off x="5681520" y="4631040"/>
                  <a:ext cx="5713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Per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Text Box 60"/>
                <p:cNvSpPr/>
                <p:nvPr/>
              </p:nvSpPr>
              <p:spPr>
                <a:xfrm>
                  <a:off x="6694560" y="4019760"/>
                  <a:ext cx="896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66"/>
                      </a:solidFill>
                      <a:latin typeface="Trebuchet MS"/>
                    </a:rPr>
                    <a:t>Panamá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61"/>
                <p:cNvSpPr/>
                <p:nvPr/>
              </p:nvSpPr>
              <p:spPr>
                <a:xfrm flipH="1">
                  <a:off x="6237000" y="4694400"/>
                  <a:ext cx="284760" cy="4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62"/>
                <p:cNvSpPr/>
                <p:nvPr/>
              </p:nvSpPr>
              <p:spPr>
                <a:xfrm flipH="1">
                  <a:off x="5474520" y="4244760"/>
                  <a:ext cx="775800" cy="7488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Text Box 65"/>
                <p:cNvSpPr/>
                <p:nvPr/>
              </p:nvSpPr>
              <p:spPr>
                <a:xfrm>
                  <a:off x="6656760" y="3795840"/>
                  <a:ext cx="613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ub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66"/>
                <p:cNvSpPr/>
                <p:nvPr/>
              </p:nvSpPr>
              <p:spPr>
                <a:xfrm flipH="1">
                  <a:off x="6522120" y="4020120"/>
                  <a:ext cx="213480" cy="149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68"/>
                <p:cNvSpPr/>
                <p:nvPr/>
              </p:nvSpPr>
              <p:spPr>
                <a:xfrm>
                  <a:off x="4323960" y="3987720"/>
                  <a:ext cx="107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9900"/>
                      </a:solidFill>
                      <a:latin typeface="Trebuchet MS"/>
                    </a:rPr>
                    <a:t>Guatemal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69"/>
                <p:cNvSpPr/>
                <p:nvPr/>
              </p:nvSpPr>
              <p:spPr>
                <a:xfrm flipH="1" flipV="1">
                  <a:off x="5382000" y="4169520"/>
                  <a:ext cx="855000" cy="73800"/>
                </a:xfrm>
                <a:prstGeom prst="line">
                  <a:avLst/>
                </a:prstGeom>
                <a:ln w="15840">
                  <a:solidFill>
                    <a:srgbClr val="008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Text Box 70"/>
                <p:cNvSpPr/>
                <p:nvPr/>
              </p:nvSpPr>
              <p:spPr>
                <a:xfrm>
                  <a:off x="5333760" y="4319640"/>
                  <a:ext cx="96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Colomb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Line 71"/>
                <p:cNvSpPr/>
                <p:nvPr/>
              </p:nvSpPr>
              <p:spPr>
                <a:xfrm flipH="1" flipV="1">
                  <a:off x="6308280" y="4496040"/>
                  <a:ext cx="213480" cy="4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72"/>
                <p:cNvSpPr/>
                <p:nvPr/>
              </p:nvSpPr>
              <p:spPr>
                <a:xfrm>
                  <a:off x="6023520" y="2821680"/>
                  <a:ext cx="156600" cy="7488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73"/>
                <p:cNvSpPr/>
                <p:nvPr/>
              </p:nvSpPr>
              <p:spPr>
                <a:xfrm>
                  <a:off x="5662440" y="2522160"/>
                  <a:ext cx="81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Can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76"/>
                <p:cNvSpPr/>
                <p:nvPr/>
              </p:nvSpPr>
              <p:spPr>
                <a:xfrm flipH="1">
                  <a:off x="6379560" y="4169880"/>
                  <a:ext cx="356040" cy="1497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Text Box 77"/>
                <p:cNvSpPr/>
                <p:nvPr/>
              </p:nvSpPr>
              <p:spPr>
                <a:xfrm>
                  <a:off x="4395600" y="4202280"/>
                  <a:ext cx="9968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Hondur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35"/>
                <p:cNvSpPr/>
                <p:nvPr/>
              </p:nvSpPr>
              <p:spPr>
                <a:xfrm flipH="1" flipV="1">
                  <a:off x="5453280" y="4020120"/>
                  <a:ext cx="71244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63"/>
                <p:cNvSpPr/>
                <p:nvPr/>
              </p:nvSpPr>
              <p:spPr>
                <a:xfrm>
                  <a:off x="7092720" y="4469040"/>
                  <a:ext cx="102240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Urugu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Paragu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Argentin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66"/>
                      </a:solidFill>
                      <a:latin typeface="Trebuchet MS"/>
                    </a:rPr>
                    <a:t>Brazi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Boliv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Venezue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Ecu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7" name="86 Forma libre"/>
            <p:cNvSpPr/>
            <p:nvPr/>
          </p:nvSpPr>
          <p:spPr>
            <a:xfrm>
              <a:off x="6491520" y="4770360"/>
              <a:ext cx="128520" cy="601560"/>
            </a:xfrm>
            <a:custGeom>
              <a:avLst/>
              <a:gdLst/>
              <a:ahLst/>
              <a:rect l="l" t="t" r="r" b="b"/>
              <a:pathLst>
                <a:path w="129306" h="572654">
                  <a:moveTo>
                    <a:pt x="110835" y="554182"/>
                  </a:moveTo>
                  <a:cubicBezTo>
                    <a:pt x="0" y="517239"/>
                    <a:pt x="129306" y="572654"/>
                    <a:pt x="55417" y="498764"/>
                  </a:cubicBezTo>
                  <a:cubicBezTo>
                    <a:pt x="45090" y="488437"/>
                    <a:pt x="27708" y="489527"/>
                    <a:pt x="13853" y="484909"/>
                  </a:cubicBezTo>
                  <a:cubicBezTo>
                    <a:pt x="18471" y="447964"/>
                    <a:pt x="23358" y="411051"/>
                    <a:pt x="27708" y="374073"/>
                  </a:cubicBezTo>
                  <a:cubicBezTo>
                    <a:pt x="32594" y="332540"/>
                    <a:pt x="33361" y="290389"/>
                    <a:pt x="41562" y="249382"/>
                  </a:cubicBezTo>
                  <a:cubicBezTo>
                    <a:pt x="47290" y="220741"/>
                    <a:pt x="69271" y="195463"/>
                    <a:pt x="69271" y="166255"/>
                  </a:cubicBezTo>
                  <a:lnTo>
                    <a:pt x="692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Picture 86" descr="http://tbn0.google.com/images?q=tbn:m-8QfYCMScdD2M:http://www.holachc.com/wp-content/uploads/2008/09/bandera_de_chile.pn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72640" y="4993920"/>
              <a:ext cx="24804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1 Título"/>
          <p:cNvSpPr/>
          <p:nvPr/>
        </p:nvSpPr>
        <p:spPr>
          <a:xfrm>
            <a:off x="857160" y="928800"/>
            <a:ext cx="745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Chile tiene 20 Acuerdos Comerciales con 56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84 CuadroTexto"/>
          <p:cNvSpPr/>
          <p:nvPr/>
        </p:nvSpPr>
        <p:spPr>
          <a:xfrm>
            <a:off x="5435640" y="6453360"/>
            <a:ext cx="35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1111"/>
                </a:solidFill>
                <a:latin typeface="Arial"/>
                <a:ea typeface="Arial"/>
              </a:rPr>
              <a:t>(*): Nicaragua: </a:t>
            </a:r>
            <a:r>
              <a:rPr b="1" lang="en-US" sz="1000" spc="-1" strike="noStrike">
                <a:solidFill>
                  <a:srgbClr val="ff1111"/>
                </a:solidFill>
                <a:latin typeface="Arial"/>
                <a:ea typeface="Arial"/>
              </a:rPr>
              <a:t>listas de servicios y bienes pend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2" descr="foto_PPT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362" name="Title 128"/>
          <p:cNvSpPr/>
          <p:nvPr/>
        </p:nvSpPr>
        <p:spPr>
          <a:xfrm>
            <a:off x="395280" y="6093000"/>
            <a:ext cx="1185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03A-4376-4D77-8AC2-CB820DEDF20C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1082160"/>
            <a:ext cx="6553080" cy="660600"/>
          </a:xfrm>
          <a:prstGeom prst="rect">
            <a:avLst/>
          </a:prstGeom>
          <a:solidFill>
            <a:srgbClr val="6699ff"/>
          </a:solidFill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Disciplinas Bilater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2597040"/>
            <a:ext cx="7315200" cy="258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to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ación Más Favorec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encia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65B-68B8-4CE4-8DC5-76A8E243FCB4}" type="slidenum">
              <a:t>2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7340760" cy="78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Times New Roman"/>
              </a:rPr>
              <a:t>Otras Regl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27236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onocimiento Mut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lamentación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rigen: Denegación de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18A-AC05-4F2A-BD7C-76D74FCE02F9}" type="slidenum">
              <a:t>25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560" y="1082160"/>
            <a:ext cx="6172200" cy="660600"/>
          </a:xfrm>
          <a:prstGeom prst="rect">
            <a:avLst/>
          </a:prstGeom>
          <a:solidFill>
            <a:srgbClr val="6699ff"/>
          </a:solidFill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Proceso de Liberaliz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7239240" cy="3087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gel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romis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incipio de Crema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cepciones Anexo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4B5-AFA1-4691-B4E9-2D415DFF51C8}" type="slidenum">
              <a:t>26</a:t>
            </a:fld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7082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Disciplinas a Nivel Multilateral</a:t>
            </a:r>
            <a:br>
              <a:rPr sz="34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uerdo General sobre el Comercio de Servicios (AGCS - GA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Objetivo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1981080"/>
            <a:ext cx="795492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ón del comercio de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beralización progresiva mediant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esivas rondas de negociaciones com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o de promover el crecimiento y e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ia de normas 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lam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ción creciente de los países 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5DE-4F10-4443-BC0E-925DC37D1728}" type="slidenum">
              <a:t>28</a:t>
            </a:fld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143000" y="1066680"/>
            <a:ext cx="7772400" cy="838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Estruc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2286000"/>
            <a:ext cx="7772400" cy="3505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ículos marco (I - XX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exos, relativos a determinad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estiones sectoriales o de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as de compromisos específ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una Lista por cada Miembro de la 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9DA-3713-4604-B486-99949B36C5E0}" type="slidenum">
              <a:t>29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ASIFICACIÓN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Servicios prestados a l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Servicios de 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Servicios de Construcción e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Servicio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Servicios de Enseñ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Servici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o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 Servici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. Servicios Sociales y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. Servicios de Turismo y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. Servicios de Esparcimiento, culturales y depor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1.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2. Otros Servicios n.c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52A-D75B-4BB4-9161-CCD07F2FA347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95280" y="1628640"/>
            <a:ext cx="8569440" cy="5214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DAS QUE AFECTAN AL COMERCIO 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IOS EN TODOS LOS NIVELES DE GOBIERN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DOS LOS SERVICIOS (excepto los suministrados e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rcicio de facultades gubernamentales y los derechos de tráfico            aér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APLICACIÓN A LOS SERVICIOS Y A LOS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ROVEEDOR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ATRO MODOS DE SUMIN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 Suministro transfronteriz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o en el 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 Presencia comerci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cia de persona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549360"/>
            <a:ext cx="784872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Ambito, Cobertura, 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090-223C-4FDE-B8CE-BFAE502B1DC3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8720" y="333000"/>
            <a:ext cx="7340400" cy="1079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6280" y="3086640"/>
            <a:ext cx="13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veedor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317556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724280"/>
            <a:ext cx="2195640" cy="1440000"/>
          </a:xfrm>
          <a:prstGeom prst="wedgeRoundRectCallout">
            <a:avLst>
              <a:gd name="adj1" fmla="val -29398"/>
              <a:gd name="adj2" fmla="val -94296"/>
              <a:gd name="adj3" fmla="val 16667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 proveedor de servicios presta el servicio desde el territorio de un Miem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4724280"/>
            <a:ext cx="2195640" cy="1440000"/>
          </a:xfrm>
          <a:prstGeom prst="wedgeRoundRectCallout">
            <a:avLst>
              <a:gd name="adj1" fmla="val 27953"/>
              <a:gd name="adj2" fmla="val -10578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 consumidor de servicios recibe el servicio en el territorio de cualquier otro Miem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465920"/>
            <a:ext cx="7315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inistro transfronterizo:  m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752760" cy="4419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2895480"/>
            <a:ext cx="1981440" cy="129564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tación del servicio hacia el territorio de otro Miemb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2133720"/>
            <a:ext cx="6324480" cy="1036440"/>
          </a:xfrm>
          <a:custGeom>
            <a:avLst/>
            <a:gdLst>
              <a:gd name="textAreaLeft" fmla="*/ 1106640 w 6324480"/>
              <a:gd name="textAreaRight" fmla="*/ 4585320 w 6324480"/>
              <a:gd name="textAreaTop" fmla="*/ 138600 h 1036440"/>
              <a:gd name="textAreaBottom" fmla="*/ 897840 h 1036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934-2886-4CED-B286-7C8C50047F04}" type="slidenum">
              <a:t>31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340760" cy="882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31784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vee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3542040"/>
            <a:ext cx="19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267200"/>
            <a:ext cx="73915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o en el extranjero:  mod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42900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4418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1752480"/>
            <a:ext cx="3429000" cy="1295640"/>
          </a:xfrm>
          <a:prstGeom prst="wedgeRoundRectCallout">
            <a:avLst>
              <a:gd name="adj1" fmla="val -7222"/>
              <a:gd name="adj2" fmla="val 83212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itorio de un Miembro 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idor de servici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5516640"/>
            <a:ext cx="3276720" cy="1268280"/>
          </a:xfrm>
          <a:prstGeom prst="wedgeRoundRectCallout">
            <a:avLst>
              <a:gd name="adj1" fmla="val 6782"/>
              <a:gd name="adj2" fmla="val -7740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sumidor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recibe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en el territori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prov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752760" cy="4419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932360" y="1844640"/>
            <a:ext cx="2714760" cy="1523880"/>
          </a:xfrm>
          <a:prstGeom prst="wedgeRoundRectCallout">
            <a:avLst>
              <a:gd name="adj1" fmla="val -103157"/>
              <a:gd name="adj2" fmla="val 53125"/>
              <a:gd name="adj3" fmla="val 16667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veedor d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prest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ervicio e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itori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0920" y="3962520"/>
            <a:ext cx="2210040" cy="91440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056-7CDB-46EF-8722-EEFE872F1FFC}" type="slidenum">
              <a:t>32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98040" y="188640"/>
            <a:ext cx="7340760" cy="801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00000" y="3326040"/>
            <a:ext cx="20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veedor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59280" y="4651560"/>
            <a:ext cx="201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1168920"/>
            <a:ext cx="7238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encia comercial:  mod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924360" y="2286000"/>
            <a:ext cx="752400" cy="4419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148360" y="3016080"/>
            <a:ext cx="1619280" cy="9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04000" y="3141720"/>
            <a:ext cx="733320" cy="2446200"/>
          </a:xfrm>
          <a:custGeom>
            <a:avLst/>
            <a:gdLst>
              <a:gd name="textAreaLeft" fmla="*/ 98280 w 733320"/>
              <a:gd name="textAreaRight" fmla="*/ 635040 w 733320"/>
              <a:gd name="textAreaTop" fmla="*/ 417240 h 2446200"/>
              <a:gd name="textAreaBottom" fmla="*/ 1675080 h 24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73" stAng="-5400000" swAng="5400000"/>
                <a:lnTo>
                  <a:pt x="21600" y="11104"/>
                </a:lnTo>
                <a:arcTo wR="21600" hR="7373" stAng="0" swAng="2755134"/>
                <a:lnTo>
                  <a:pt x="6779" y="21228"/>
                </a:lnTo>
                <a:lnTo>
                  <a:pt x="0" y="16611"/>
                </a:lnTo>
                <a:lnTo>
                  <a:pt x="6779" y="11249"/>
                </a:lnTo>
                <a:lnTo>
                  <a:pt x="6779" y="14373"/>
                </a:lnTo>
                <a:arcTo wR="21600" hR="7373" stAng="2755134" swAng="-2449055"/>
                <a:lnTo>
                  <a:pt x="20897" y="9238"/>
                </a:lnTo>
                <a:arcTo wR="21600" hR="7373" stAng="-306079" swAng="-5093921"/>
                <a:close/>
              </a:path>
              <a:path fill="darkenLess" w="21600" h="21600">
                <a:moveTo>
                  <a:pt x="0" y="0"/>
                </a:moveTo>
                <a:arcTo wR="21600" hR="7373" stAng="-5400000" swAng="5400000"/>
                <a:lnTo>
                  <a:pt x="21600" y="11104"/>
                </a:lnTo>
                <a:arcTo wR="21600" hR="7373" stAng="0" swAng="-306079"/>
                <a:lnTo>
                  <a:pt x="20897" y="9238"/>
                </a:lnTo>
                <a:arcTo wR="21600" hR="7373" stAng="-306079" swAng="-5093921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30400" y="3789360"/>
            <a:ext cx="214632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676520"/>
            <a:ext cx="3527280" cy="1320840"/>
          </a:xfrm>
          <a:prstGeom prst="wedgeRoundRectCallout">
            <a:avLst>
              <a:gd name="adj1" fmla="val 11069"/>
              <a:gd name="adj2" fmla="val 728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veedor de servici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 una presenc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al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itorio de 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1600200"/>
            <a:ext cx="2914560" cy="1066680"/>
          </a:xfrm>
          <a:prstGeom prst="wedgeRoundRectCallout">
            <a:avLst>
              <a:gd name="adj1" fmla="val -26708"/>
              <a:gd name="adj2" fmla="val 8020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ip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imient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al o profe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5734080"/>
            <a:ext cx="2592360" cy="1030320"/>
          </a:xfrm>
          <a:prstGeom prst="wedgeRoundRectCallout">
            <a:avLst>
              <a:gd name="adj1" fmla="val 18097"/>
              <a:gd name="adj2" fmla="val -105009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l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E00-63E6-4488-84AA-AE101D04C26E}" type="slidenum">
              <a:t>33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98040" y="333000"/>
            <a:ext cx="7340760" cy="733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48373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1172160"/>
            <a:ext cx="7238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cia de personas físicas:  mod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132000" y="2209680"/>
            <a:ext cx="752760" cy="4419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932360" y="3156120"/>
            <a:ext cx="817560" cy="1064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411280" y="3733920"/>
            <a:ext cx="228600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24360" y="1600200"/>
            <a:ext cx="3240360" cy="1828800"/>
          </a:xfrm>
          <a:prstGeom prst="wedgeRoundRectCallout">
            <a:avLst>
              <a:gd name="adj1" fmla="val -16731"/>
              <a:gd name="adj2" fmla="val 73351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mediant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resencia de person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ísicas de un Miembr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territori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332000" y="3156120"/>
            <a:ext cx="817560" cy="1064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3995640" y="1981080"/>
            <a:ext cx="1619280" cy="989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012000" y="3645000"/>
            <a:ext cx="733320" cy="2089080"/>
          </a:xfrm>
          <a:custGeom>
            <a:avLst/>
            <a:gdLst>
              <a:gd name="textAreaLeft" fmla="*/ 98280 w 733320"/>
              <a:gd name="textAreaRight" fmla="*/ 635040 w 733320"/>
              <a:gd name="textAreaTop" fmla="*/ 365400 h 2089080"/>
              <a:gd name="textAreaBottom" fmla="*/ 15145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11280" y="2060640"/>
          <a:ext cx="1619280" cy="98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060640"/>
                    <a:ext cx="16192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839-E93B-4EE3-8474-E950C689AE69}" type="slidenum">
              <a:t>3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74880" y="404280"/>
            <a:ext cx="7340400" cy="863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l Anexo sobre Mo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91160" cy="4419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GCS no se aplica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onas físicas que traten de acceder al mercado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das en materia de ciudadanía, residencia o empleo con carácter perma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gobiernos pueden libremente regular la entrada y la estancia temporal, siempre que esas medidas no anulen o menoscaben los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813-64D2-4F60-BD57-FA668C8EE2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7340760" cy="93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mportancia relativa del mo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572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ma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1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2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3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60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4 - ~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la situación puede diferir entre los sectores, dependiendo de si el modo 4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único modo de suministro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o de los modos posibles entre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mplemento y facilita el comercio en relación con otros modos de sumin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EB3-1A73-4459-A9A3-3B40111F8D3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uál es el modo de suministro de los siguientes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cia temporal de un contador para suministrar servicios de contabilidad en otro paí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blecimiento de una sucursal de una compañía de seguros extranjera en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ios utilizados por personas que viajan al extranjero en viaje de nego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esoramiento médico por un equipo de expertos del país A a médicos que realizan una intervención quirúrgica de derivación coronaria en el país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 dentista del país B ofrece tratamiento en un consultorio del que es propietario en el país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259-C1CC-47D9-8624-0F2CC8775A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6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0" y="2241720"/>
            <a:ext cx="9144000" cy="16448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¿Qué está Exluído del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Acuerdo General sobre el Comercio de Servicios (AGCS - GAT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619200"/>
            <a:ext cx="7556760" cy="946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uación I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. Servicios de transporte aér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dan excluidos del ámbito de aplicación las medidas que afecten a los “derechos de tráfico” y a los “servicios directamente relacionados con el ejercicio de los derechos de tráf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bstante, el AGCS se aplic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reparación y mantenimiento de aerona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venta y comercialización de los servicios 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e aére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los sistemas de reserva informat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0D4-AB2C-44B1-BBBA-794C0CE8B869}" type="slidenum">
              <a:t>39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características tiene un Servici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1280" cy="1131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uación II: 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. Servicios Gubern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2258640"/>
            <a:ext cx="7558200" cy="3668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dan excluidos del ámbito de aplicación los “servicios suministrados en ejercicio de facultades gubernamentales” que, a su vez, se definen como servicios no suministrados “en condiciones comerciales ni en competencia con uno o varios proveedores de servicios” (párrafo 3 del artículo 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828-C37A-45F2-9BF9-9C667975F6BB}" type="slidenum">
              <a:t>40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457200"/>
            <a:ext cx="7101000" cy="1316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Qué son los “servicios gubernamentales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7177320" cy="3857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mplos habit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cía, protección contra incendios, servicios de infraestructura (carreteras, etc.), operaciones de política monetaria, administración de aduanas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cualquier otro servicio público (salud, enseñanza, etc.) que cumpla los criterios pertin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110-4C8C-4C4A-8C2B-0A4428E2CBA8}" type="slidenum">
              <a:t>41</a:t>
            </a:fld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360" y="533160"/>
            <a:ext cx="7850160" cy="1600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ligaciones de Aplicaión General (“incondicionales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848720" cy="3700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to de la Nación Más Favorecid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ligaciones de 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ras disposiciones de “buena gestión” (recursos jurídicos disponibl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000000"/>
                </a:solidFill>
                <a:uFillTx/>
                <a:latin typeface="Times New Roman"/>
              </a:rPr>
              <a:t>Nota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:  ¡No hay obligación de abrir el mercado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FD5-1358-418F-90A7-58D0D2126680}" type="slidenum">
              <a:t>42</a:t>
            </a:fld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96440" cy="1218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iedra Angular:  Trato de Nación Mas Favorecida (NM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da Miembro otorgará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mediata e incondicionalme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s servicios y a los proveedores de servicios de cualquier otro Miembro un trato no menos favorable que el que conceda a los servicios similares y a los proveedores de servicios similares de cualquier otro país” (párrafo 1 del artículo 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 podían haber solicitado exenciones por períodos no superiores en principio a 10 años, en la fecha de entrada en vigor del AG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EBB-D07F-4A8A-8B17-71586B41D2B9}" type="slidenum">
              <a:t>43</a:t>
            </a:fld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0880" y="1752480"/>
            <a:ext cx="8534520" cy="4908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exo sobre Exenciones de las Obligaciones del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tículo II (NM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tegración Económica (Artículo V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cuerdos de Reconocimiento (artículo VI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tr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uerdos de integración de los mercados de trabajo (artículo 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cepciones generales y excepciones relativas a la segurida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rtículos XIV y XI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cepciones cautelares en los servicios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304920"/>
            <a:ext cx="8229600" cy="1221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sviaciones Admisibles de NMF - Disposiciones pertinentes: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3F6-BCDD-42CD-B869-BDFFECA818E5}" type="slidenum">
              <a:t>44</a:t>
            </a:fld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80880" y="1676520"/>
            <a:ext cx="8534520" cy="517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bligaciones generales ("incondicionales"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ublicación de "todas las medidas pertinentes de aplicación general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Establecimiento de servicio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Establecimiento de puntos de contacto (párrafo 2 del artículo IV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bligación "condicional" en sectores consign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Requisito de suministro anual de información sobre las nuevas medidas que afecten significativamente al comer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304920"/>
            <a:ext cx="845820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Transparenci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rtículo III y párrafo 2 del artícul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B63-A605-4735-AC7E-F8C7A6C30816}" type="slidenum">
              <a:t>45</a:t>
            </a:fld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9480" y="380880"/>
            <a:ext cx="7696440" cy="1052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Reglamentación Doméstica:  Preámbulo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1752480"/>
            <a:ext cx="7620120" cy="2988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conociendo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derecho de los Miembros a reglamentar el suministro de servicios en su territorio, y a establecer nuevas reglamentaciones al respecto, con el fin de realizar los objetivos de su política nacional, y la especial necesidad de los países en desarrollo de ejercer este derecho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598-05A3-4BAF-9B27-02312ED24425}" type="slidenum">
              <a:t>46</a:t>
            </a:fld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9280" y="380880"/>
            <a:ext cx="8583840" cy="560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Reglamentación: Artículo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9640" y="1125360"/>
            <a:ext cx="8458200" cy="5184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sectores consignados en las Listas:  administr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azonable, objetiva e imparci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as medida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árrafo 1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visión de las decisiones administrativas que afecten 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rcio de servicios (párrafo 2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tatu qu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" en los sectores consignados en las Listas (párrafo 5 del artículo V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elaborará ningún reglamento nuev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a más gravoso de lo necesa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pudiera haberse esperado;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ule o menoscabe un comprom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as oblig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ones sobre las disciplinas (párrafo 4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752-CBC4-4A31-8510-9863201007B9}" type="slidenum">
              <a:t>47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3560" y="809280"/>
            <a:ext cx="7267680" cy="94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ligaciones sujetas a Compromisos Específ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245360" cy="424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3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l AGCS prescribe que cada Miembro presente una Lista de compromisos específicos en la que enumere los sectores para los que concede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Acceso a los Mercados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Trato Nacional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85E-8E01-4AFA-8AC4-A5CDCC941D39}" type="slidenum">
              <a:t>48</a:t>
            </a:fld>
          </a:p>
        </p:txBody>
      </p:sp>
    </p:spTree>
  </p:cSld>
  <p:transition>
    <p:cover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4360" y="404640"/>
            <a:ext cx="7940520" cy="1152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ceso a los Mercados y Trato Nacional:   Elementos princip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1828800"/>
            <a:ext cx="7772400" cy="3922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SO A LOS MERCADOS (artículo X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encia de limitaciones numéricas y simi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TO NACIONAL (artículo X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iscriminación con respecto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d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das que afectan al suministro de un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alquier limitación debe estar incluida en la lista dentro del modo pertin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BE1-55DB-4337-AB2E-C8566D1F01A7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41360"/>
            <a:ext cx="8064360" cy="5327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COMERCIABLES Y NO ALMACEN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taneidad de la producción y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Importancia del establecimiento y de la movilidad de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TE PARTICIPACIÓN DEL GOBIER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opolios natural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tivos no económicos (sociales, culturales, de seguridad) =&gt; obligaciones de proveer servicios públ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ancia infraestructural de los servicios (transportes, telecomunicacion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OS INTANG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 criterios de calidad se aplican más bien a los proveedores de servicios que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E APLICAN ARANC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 condiciones de acceso se determinan mediante reglamentaciones, contingen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2DA-EDA3-4B4F-81CC-AC7C424EBA0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533520"/>
            <a:ext cx="8305560" cy="99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ómo Proteger los Intereses de Política Nacional en el Marco del AGCS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1828800"/>
            <a:ext cx="8305560" cy="3685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s obligaciones de Acceso a los Mercados y de Trato Nacional existen únicamen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n los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ectores incluidos en las Lista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;  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n la medida en que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no se hayan consignado limitacion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ueden ser renegociadas a cambio de una compensación o, en circunstancias especificadas, suspendidas por motivos de política fundamentales (por ejemplo, protección de la salud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D29-0345-4CBD-81F4-F00C726FB936}" type="slidenum">
              <a:t>50</a:t>
            </a:fld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71640" y="836640"/>
            <a:ext cx="7486560" cy="1224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Son los Compromisos Irrevoc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2514600"/>
            <a:ext cx="7486560" cy="180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 Pueden ser renegociados a cambio de una compensación a los Miembros afectados después de transcurridos tres años a partir de su entrada en vigor (artículo XX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1EF-F909-48DF-9D88-1FF8B231A8FA}" type="slidenum">
              <a:t>51</a:t>
            </a:fld>
          </a:p>
        </p:txBody>
      </p:sp>
    </p:spTree>
  </p:cSld>
  <p:transition>
    <p:checke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80880" y="5028840"/>
            <a:ext cx="854712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" spc="-1" strike="noStrike">
                <a:solidFill>
                  <a:srgbClr val="ff0000"/>
                </a:solidFill>
                <a:latin typeface="Arial"/>
                <a:ea typeface="Arial"/>
              </a:rPr>
              <a:t>AN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MUCHAS GRACI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1614600" y="4753080"/>
            <a:ext cx="107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a Nov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efa Departamento Servicios, Inversiones y Transporte Aé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R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ovik@direcon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2490480"/>
            <a:ext cx="9144000" cy="1190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on las características mencionada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Es posible comercializar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8169120" cy="558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ados servicios (transporte internacional y comunicaciones) han sido objeto de comercio desde hace sig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servicios se suministran conjuntamente c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ancías (finanzas, seguros, comercializa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evos servicios han comenzado a ser comerciables com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 progreso técnico (banca electrónica, telemedicina, enseñanza a dista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compresión del gasto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liberalización de los mercados y la reforma de l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A3A-6976-4F1D-A3CF-9DEC47AC28AF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Por qué negociar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Primera Razón: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Importancia Económica de los Servi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027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articipación en la producción y el emple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Oscila entre menos del 30 y más del 70 por ciento en función de la estructura de los recursos y del nivel de desarrollo de la economí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articipación en el comercio mundial total               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Alrededor del 20 por ciento (en base a cifras de balanza de pagos)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8FE-2067-45BA-8153-7E16AB145F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1:55:38Z</dcterms:created>
  <dc:creator>Rodrigo Rojo</dc:creator>
  <dc:description/>
  <dc:language>en-US</dc:language>
  <cp:lastModifiedBy>Direcon</cp:lastModifiedBy>
  <dcterms:modified xsi:type="dcterms:W3CDTF">2009-08-10T21:39:32Z</dcterms:modified>
  <cp:revision>51</cp:revision>
  <dc:subject/>
  <dc:title>PowerPoint Presentation</dc:title>
</cp:coreProperties>
</file>