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2212-42A1-42DE-9966-6C9AF037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1360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9640" y="3949920"/>
            <a:ext cx="81360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F397-C270-4B97-92BA-60C43C97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84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640" y="394992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8440" y="394992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89F5-BB62-4B78-82A4-BB3E03C1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760" y="155736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1880" y="155736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9640" y="394992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760" y="394992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1880" y="394992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7914-F3B0-4AF2-8A0A-BE53B629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640" y="1557360"/>
            <a:ext cx="81360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136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70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8440" y="1557360"/>
            <a:ext cx="3970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7417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8440" y="1557360"/>
            <a:ext cx="3970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640" y="394992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9640" y="1557360"/>
            <a:ext cx="81360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34D8-05D8-48F4-817C-FB88CBB6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70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84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8440" y="394992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84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640" y="3949920"/>
            <a:ext cx="81360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1360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640" y="3949920"/>
            <a:ext cx="81360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84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640" y="394992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440" y="394992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0760" y="155736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1880" y="155736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640" y="394992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0760" y="394992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1880" y="394992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136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CC3C-5900-41E1-8B85-08D6CB91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70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8440" y="1557360"/>
            <a:ext cx="3970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13CC-6144-46E2-94F1-72F98C2E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00F0-0E5A-438C-A044-11429D1D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7417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1DBF-3673-41FD-9A23-47383D50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8440" y="1557360"/>
            <a:ext cx="3970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9640" y="394992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7D1E-C929-46FF-9108-3BA1C1AE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70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84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440" y="394992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A63F-421C-405B-A20C-86E69D3D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4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640" y="3949920"/>
            <a:ext cx="81360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6CF3-7608-4FDA-909F-ED956051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413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79280" y="6093000"/>
            <a:ext cx="468360" cy="57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9640" y="1557360"/>
            <a:ext cx="8136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74720" y="631944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9933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87280" y="6319440"/>
            <a:ext cx="43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9933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32280" y="6319440"/>
            <a:ext cx="114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F847-7486-4274-951E-B0492F224417}" type="slidenum">
              <a:rPr b="0" lang="en-GB" sz="900" spc="-1" strike="noStrike">
                <a:solidFill>
                  <a:srgbClr val="99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56000" y="1699920"/>
            <a:ext cx="46036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9933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99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580000" y="1699920"/>
            <a:ext cx="33796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Comercio Internacional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Agrícola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77840" y="5876640"/>
            <a:ext cx="40258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cc"/>
                </a:solidFill>
                <a:latin typeface="Arial"/>
              </a:rPr>
              <a:t>Serafino Marchese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cc"/>
                </a:solidFill>
                <a:latin typeface="Arial"/>
              </a:rPr>
              <a:t>Consejero, IFCT de la OMC 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Crecimiento del Comercio Internacional (Volumen) – 1950/2005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56144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C4C-510B-4BC6-B06C-2842748562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Comercio Internacional - 2005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8893080" cy="5229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V="1" rot="16200000">
            <a:off x="5759280" y="3537000"/>
            <a:ext cx="216000" cy="1727280"/>
          </a:xfrm>
          <a:custGeom>
            <a:avLst/>
            <a:gdLst>
              <a:gd name="textAreaLeft" fmla="*/ 0 w 216000"/>
              <a:gd name="textAreaRight" fmla="*/ 216360 w 216000"/>
              <a:gd name="textAreaTop" fmla="*/ 360 h 1727280"/>
              <a:gd name="textAreaBottom" fmla="*/ 172800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3794040"/>
            <a:ext cx="9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8.8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5183280" y="4256640"/>
            <a:ext cx="216000" cy="865080"/>
          </a:xfrm>
          <a:custGeom>
            <a:avLst/>
            <a:gdLst>
              <a:gd name="textAreaLeft" fmla="*/ 0 w 216000"/>
              <a:gd name="textAreaRight" fmla="*/ 216360 w 21600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4802040"/>
            <a:ext cx="9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8.4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3817-A4D0-49CC-A961-0C6112FDE8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Partes Regionales del Comercio Agrícola - 2005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6551640" cy="489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8440-EA2C-4E1D-A770-6E2987E9D2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Principales Exportadores de Productos Agrícolas - 2005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518160" cy="497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00C-EB18-478B-BBF5-93D701B4A3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Principales Productos Agrícolas Importados – 2003/2004</a:t>
            </a:r>
            <a:r>
              <a:rPr b="1" lang="es-ES" sz="3000" spc="-1" strike="noStrike">
                <a:solidFill>
                  <a:srgbClr val="9933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11280" y="1844640"/>
          <a:ext cx="8362800" cy="4251240"/>
        </p:xfrm>
        <a:graphic>
          <a:graphicData uri="http://schemas.openxmlformats.org/drawingml/2006/table">
            <a:tbl>
              <a:tblPr/>
              <a:tblGrid>
                <a:gridCol w="514080"/>
                <a:gridCol w="1214640"/>
                <a:gridCol w="6634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ignación de los produ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bas (porotos, frijoles, fréjoles) de soja (soya), incluso quebranta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4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no de uvas frescas, excepto vino espumoso, incluso encabezado;  mosto de u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rtas y demás residuos sólidos de la extracción de grasas o aceites vegetales, incluso molidos o en "pellets", excepto los de las partidas 23.04 ó 23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5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íz, excepto para siemb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igo, excepto el trigo duro;  morc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godón sin cardar ni pein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6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paraciones alimenticias n.e.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0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anos o plátanos, frescos o se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fé, sin tostar ni descafein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2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arrillos que contengan taba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CD33-3335-429D-A458-9413D7DCF9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Principales Productos Agrícolas Importados – 2003/2004</a:t>
            </a:r>
            <a:r>
              <a:rPr b="1" lang="es-ES" sz="3000" spc="-1" strike="noStrike">
                <a:solidFill>
                  <a:srgbClr val="9933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1560" y="1773360"/>
          <a:ext cx="8363160" cy="4435200"/>
        </p:xfrm>
        <a:graphic>
          <a:graphicData uri="http://schemas.openxmlformats.org/drawingml/2006/table">
            <a:tbl>
              <a:tblPr/>
              <a:tblGrid>
                <a:gridCol w="514440"/>
                <a:gridCol w="934920"/>
                <a:gridCol w="6913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ignación de los produ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ite de palma, excepto crudo, y sus fracciones, incluso refinado, pero sin modificar químicam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cao en grano, entero o partido, crudo o tos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03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ne de animales de la especie porcina, excepto canales, medias canales, piernas, paletas, y sus troz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úcar de caña en bruto, en estado sólido, sin adición de aromatizante ni colorante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aco total o parcialmente desvenado o desnerv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0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ne de animales de la especie bovina, fresca o refrigerada, deshues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02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ne de animales de la especie bovina, congelada, deshues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rveza de mal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7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ite de soja (soya) crudo, incluso desgomado, sin modificar químicam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07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ne y despojos comestibles de gallos y gallinas, congel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7455-01AF-4BBF-AA1D-2C97B250C4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09:12:25Z</dcterms:created>
  <dc:creator>Robson Fernandes</dc:creator>
  <dc:description/>
  <dc:language>en-US</dc:language>
  <cp:lastModifiedBy>Doris</cp:lastModifiedBy>
  <dcterms:modified xsi:type="dcterms:W3CDTF">2009-07-31T13:52:27Z</dcterms:modified>
  <cp:revision>17</cp:revision>
  <dc:subject/>
  <dc:title>Comercio Internacional Agrícola</dc:title>
</cp:coreProperties>
</file>