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4B5C-9309-4731-9920-B3FD79426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741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13600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9640" y="3949920"/>
            <a:ext cx="813600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D9A8-A1C6-4207-B424-F793A1347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741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397008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08440" y="1557360"/>
            <a:ext cx="397008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9640" y="3949920"/>
            <a:ext cx="397008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08440" y="3949920"/>
            <a:ext cx="397008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7320-D6AF-4FE3-854B-E4A2E5094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741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261972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90760" y="1557360"/>
            <a:ext cx="261972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1880" y="1557360"/>
            <a:ext cx="261972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39640" y="3949920"/>
            <a:ext cx="261972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90760" y="3949920"/>
            <a:ext cx="261972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1880" y="3949920"/>
            <a:ext cx="261972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6DDB-D2DC-432F-A316-29A6E2EE2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741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39640" y="1557360"/>
            <a:ext cx="813600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741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136000" cy="45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741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3970080" cy="45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08440" y="1557360"/>
            <a:ext cx="3970080" cy="45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741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39280" y="274320"/>
            <a:ext cx="7417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741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397008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08440" y="1557360"/>
            <a:ext cx="3970080" cy="45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39640" y="3949920"/>
            <a:ext cx="397008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741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39640" y="1557360"/>
            <a:ext cx="813600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CEFB-A2A0-46FB-B635-F771F249A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741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3970080" cy="45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08440" y="1557360"/>
            <a:ext cx="397008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08440" y="3949920"/>
            <a:ext cx="397008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741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397008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08440" y="1557360"/>
            <a:ext cx="397008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9640" y="3949920"/>
            <a:ext cx="813600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741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13600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9640" y="3949920"/>
            <a:ext cx="813600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741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397008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08440" y="1557360"/>
            <a:ext cx="397008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9640" y="3949920"/>
            <a:ext cx="397008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440" y="3949920"/>
            <a:ext cx="397008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741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261972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0760" y="1557360"/>
            <a:ext cx="261972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1880" y="1557360"/>
            <a:ext cx="261972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39640" y="3949920"/>
            <a:ext cx="261972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0760" y="3949920"/>
            <a:ext cx="261972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1880" y="3949920"/>
            <a:ext cx="261972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741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136000" cy="45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4B8C-647E-4F5F-ADC1-A7E030E3D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741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3970080" cy="45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08440" y="1557360"/>
            <a:ext cx="3970080" cy="45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8E0F-0CEC-4F02-8554-CDF57CF9D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741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4CE9-B76B-4DF8-9F85-C9EB7CB91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39280" y="274320"/>
            <a:ext cx="7417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70C7-37CF-4809-849B-6AE138E68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741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397008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08440" y="1557360"/>
            <a:ext cx="3970080" cy="45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39640" y="3949920"/>
            <a:ext cx="397008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54EE-B591-497A-AB28-8B31A0499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741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3970080" cy="45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08440" y="1557360"/>
            <a:ext cx="397008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440" y="3949920"/>
            <a:ext cx="397008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09FB-6F1C-4B22-B1EB-111ADDA01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741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397008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440" y="1557360"/>
            <a:ext cx="397008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9640" y="3949920"/>
            <a:ext cx="813600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F590-1C51-4A1D-ABF5-250578185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7905600" y="0"/>
            <a:ext cx="1238400" cy="1413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179280" y="6093000"/>
            <a:ext cx="468360" cy="574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741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539640" y="1557360"/>
            <a:ext cx="8136000" cy="45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99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774720" y="6319440"/>
            <a:ext cx="1835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9933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9933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987280" y="6319440"/>
            <a:ext cx="4321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9933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993300"/>
                </a:solidFill>
                <a:latin typeface="Times New Roman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532280" y="6319440"/>
            <a:ext cx="1143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9933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A8E17-532C-4718-9283-888ADA165BDE}" type="slidenum">
              <a:rPr b="0" lang="en-GB" sz="900" spc="-1" strike="noStrike">
                <a:solidFill>
                  <a:srgbClr val="9933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356000" y="1699920"/>
            <a:ext cx="4603680" cy="19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ffffcc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9933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9933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33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993300"/>
              </a:solidFill>
              <a:latin typeface="Arial"/>
            </a:endParaRPr>
          </a:p>
          <a:p>
            <a:pPr lvl="4" marL="1828800" algn="ctr">
              <a:spcBef>
                <a:spcPts val="300"/>
              </a:spcBef>
              <a:buClr>
                <a:srgbClr val="9933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33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993300"/>
              </a:solidFill>
              <a:latin typeface="Arial"/>
            </a:endParaRPr>
          </a:p>
          <a:p>
            <a:pPr lvl="5" marL="18288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33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993300"/>
              </a:solidFill>
              <a:latin typeface="Arial"/>
            </a:endParaRPr>
          </a:p>
          <a:p>
            <a:pPr lvl="6" marL="18288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33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580000" y="1699920"/>
            <a:ext cx="3379680" cy="19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cc"/>
                </a:solidFill>
                <a:latin typeface="Arial"/>
              </a:rPr>
              <a:t>Comercio Internacional</a:t>
            </a:r>
            <a:br>
              <a:rPr sz="3200"/>
            </a:br>
            <a:r>
              <a:rPr b="1" lang="es-ES" sz="3200" spc="-1" strike="noStrike">
                <a:solidFill>
                  <a:srgbClr val="ffffcc"/>
                </a:solidFill>
                <a:latin typeface="Arial"/>
              </a:rPr>
              <a:t>Agrícola</a:t>
            </a: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777840" y="5876640"/>
            <a:ext cx="40258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cc"/>
                </a:solidFill>
                <a:latin typeface="Arial"/>
              </a:rPr>
              <a:t>Serafino Marchese</a:t>
            </a:r>
            <a:endParaRPr b="1" lang="en-US" sz="1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cc"/>
                </a:solidFill>
                <a:latin typeface="Arial"/>
              </a:rPr>
              <a:t>Consejero, IFCT de la OMC </a:t>
            </a:r>
            <a:endParaRPr b="1" lang="en-US" sz="1800" spc="-1" strike="noStrike">
              <a:solidFill>
                <a:srgbClr val="ffffcc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7705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993300"/>
                </a:solidFill>
                <a:latin typeface="Arial"/>
              </a:rPr>
              <a:t>Crecimiento del Comercio Internacional (Volumen) – 1950/2005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826920" y="1557360"/>
            <a:ext cx="7561440" cy="5257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4800-BDA4-4F45-BE78-69AEB68F76C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741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993300"/>
                </a:solidFill>
                <a:latin typeface="Arial"/>
              </a:rPr>
              <a:t>Comercio Internacional - 2005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1628640"/>
            <a:ext cx="8893080" cy="52293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 flipV="1" rot="16200000">
            <a:off x="5759280" y="3537000"/>
            <a:ext cx="216000" cy="1727280"/>
          </a:xfrm>
          <a:custGeom>
            <a:avLst/>
            <a:gdLst>
              <a:gd name="textAreaLeft" fmla="*/ 0 w 216000"/>
              <a:gd name="textAreaRight" fmla="*/ 216360 w 216000"/>
              <a:gd name="textAreaTop" fmla="*/ 360 h 1727280"/>
              <a:gd name="textAreaBottom" fmla="*/ 1728000 h 1727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7280" y="3794040"/>
            <a:ext cx="936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6ff"/>
                </a:solidFill>
                <a:latin typeface="Arial"/>
              </a:rPr>
              <a:t>8.8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rot="5400000">
            <a:off x="5183280" y="4256640"/>
            <a:ext cx="216000" cy="865080"/>
          </a:xfrm>
          <a:custGeom>
            <a:avLst/>
            <a:gdLst>
              <a:gd name="textAreaLeft" fmla="*/ 0 w 216000"/>
              <a:gd name="textAreaRight" fmla="*/ 216360 w 216000"/>
              <a:gd name="textAreaTop" fmla="*/ 0 h 865080"/>
              <a:gd name="textAreaBottom" fmla="*/ 865440 h 865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19640" y="4802040"/>
            <a:ext cx="936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6ff"/>
                </a:solidFill>
                <a:latin typeface="Arial"/>
              </a:rPr>
              <a:t>8.4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D8CC-7245-480A-B87A-289AFD72661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741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993300"/>
                </a:solidFill>
                <a:latin typeface="Arial"/>
              </a:rPr>
              <a:t>Partes Regionales del Comercio Agrícola - 2005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900000" y="1628640"/>
            <a:ext cx="6551640" cy="489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746E-8122-4DE2-A963-DD57F4EAF43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741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993300"/>
                </a:solidFill>
                <a:latin typeface="Arial"/>
              </a:rPr>
              <a:t>Principales Exportadores de Productos Agrícolas - 2005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116000" y="1700280"/>
            <a:ext cx="6518160" cy="4978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9752-D7CA-4C8F-82AF-3B2C6941546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741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993300"/>
                </a:solidFill>
                <a:latin typeface="Arial"/>
              </a:rPr>
              <a:t>Principales Productos Agrícolas Importados – 2003/2004</a:t>
            </a:r>
            <a:r>
              <a:rPr b="1" lang="es-ES" sz="3000" spc="-1" strike="noStrike">
                <a:solidFill>
                  <a:srgbClr val="993300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9933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611280" y="1844640"/>
          <a:ext cx="8362800" cy="4251240"/>
        </p:xfrm>
        <a:graphic>
          <a:graphicData uri="http://schemas.openxmlformats.org/drawingml/2006/table">
            <a:tbl>
              <a:tblPr/>
              <a:tblGrid>
                <a:gridCol w="514080"/>
                <a:gridCol w="1214640"/>
                <a:gridCol w="66340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f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rti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f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signación de los product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fd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abas (porotos, frijoles, fréjoles) de soja (soya), incluso quebrantad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04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no de uvas frescas, excepto vino espumoso, incluso encabezado;  mosto de uv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04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rtas y demás residuos sólidos de la extracción de grasas o aceites vegetales, incluso molidos o en "pellets", excepto los de las partidas 23.04 ó 23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5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íz, excepto para siemb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1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igo, excepto el trigo duro;  morcaj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0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godón sin cardar ni pein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06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paraciones alimenticias n.e.p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803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nanos o plátanos, frescos o sec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901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fé, sin tostar ni descafein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02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igarrillos que contengan taba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35BC-106D-4E32-8BE6-7FF35DFA6BE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741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993300"/>
                </a:solidFill>
                <a:latin typeface="Arial"/>
              </a:rPr>
              <a:t>Principales Productos Agrícolas Importados – 2003/2004</a:t>
            </a:r>
            <a:r>
              <a:rPr b="1" lang="es-ES" sz="3000" spc="-1" strike="noStrike">
                <a:solidFill>
                  <a:srgbClr val="993300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9933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01560" y="1773360"/>
          <a:ext cx="8363160" cy="4435200"/>
        </p:xfrm>
        <a:graphic>
          <a:graphicData uri="http://schemas.openxmlformats.org/drawingml/2006/table">
            <a:tbl>
              <a:tblPr/>
              <a:tblGrid>
                <a:gridCol w="514440"/>
                <a:gridCol w="934920"/>
                <a:gridCol w="69138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f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rti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f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signación de los product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fd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11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eite de palma, excepto crudo, y sus fracciones, incluso refinado, pero sin modificar químicamen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0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cao en grano, entero o partido, crudo o tosta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03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rne de animales de la especie porcina, excepto canales, medias canales, piernas, paletas, y sus troz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01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zúcar de caña en bruto, en estado sólido, sin adición de aromatizante ni colorante 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0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abaco total o parcialmente desvenado o desnerva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0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rne de animales de la especie bovina, fresca o refrigerada, deshuesa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02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rne de animales de la especie bovina, congelada, deshuesa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03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erveza de mal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07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eite de soja (soya) crudo, incluso desgomado, sin modificar químicamen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07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rne y despojos comestibles de gallos y gallinas, congelad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04BB-F7F6-46CF-8681-6172105F4AA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6T09:12:25Z</dcterms:created>
  <dc:creator>Robson Fernandes</dc:creator>
  <dc:description/>
  <dc:language>en-US</dc:language>
  <cp:lastModifiedBy>Doris</cp:lastModifiedBy>
  <dcterms:modified xsi:type="dcterms:W3CDTF">2009-07-31T13:52:27Z</dcterms:modified>
  <cp:revision>17</cp:revision>
  <dc:subject/>
  <dc:title>Comercio Internacional Agrícola</dc:title>
</cp:coreProperties>
</file>