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55F77A-538C-4DEA-AE70-89323B41BC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543CFB-E273-4D1C-97E2-495DE253A4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8F9BF9-68EA-473B-8FC1-9D026C2614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B12315-4A94-4D26-824F-E167828048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B0770E-70A1-440C-A56E-8F342919CB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EB81D3-BBCE-4E0C-AEE3-EC6B39F60C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D2294F-9FD6-4FF2-93AD-D5B3882C53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462412-544C-4CEB-AE1E-C41626994D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3400" y="70344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9FA69A-2C3E-4794-8096-8CBD80E26C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4AD339-E601-498A-BFD0-077223BEB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9520" y="723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B60546-316D-4CB5-8872-B762D59C0C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BFEC27-522D-46EC-B223-587237F66E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4A08E7-FF70-4489-A1A9-F437FFF7A2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34EA97-F8E1-4D94-BEFE-C5D3A7060C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AAAB8E-6FA9-41B9-9D74-7650542C3C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D07115-29D4-427E-B4C2-C8814FFD3D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BBD8EA-3A23-43BF-816A-F9EC2632F1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F90-8F95-4887-9C18-8F27E3CD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6A4-86EA-43F5-A74E-11F3BCF4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3C3-B42D-4252-883F-6EC1F5C8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C5C-AADE-45C9-BB09-7D683D14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2EE-0719-457D-B1FD-9F939D9D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39DA-614F-4A7C-BACA-EE2A090F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B7CE-6936-4955-A589-DFD10EA2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6308-BB89-4EAD-B931-EC6F128C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3900-67FF-469D-9B6A-452572CC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2D79-E130-4CBA-8A59-01050CBA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64E2-FB66-4600-8E55-8D0DB9E7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524-4AE0-4A15-9EF3-0931409F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A026-1838-48FE-92B4-262BF27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CB86-B860-4821-A0D9-1B80E8BE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0EA8-6B07-4F65-912F-9E93EB15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181B-B7AD-4F5A-A165-7F981062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FD15-062D-42A1-B9EE-B82DA393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050-9E2B-444A-A8D5-5E6E30AB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EB8-0868-4E2C-B088-50F44332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7D4-9460-4CFC-B5F1-C99F0C2A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8D0-FD45-43F1-A03B-1C809A38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128-D1CD-4735-BEA2-4F76502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4F6-0A35-40EE-B398-D803EF13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FD6-A73C-4E35-BFCF-C022368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C7E4-B6D7-4AEC-B41E-5663EB051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1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6093000"/>
            <a:ext cx="468360" cy="574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74720" y="631944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87280" y="6319440"/>
            <a:ext cx="43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32280" y="631944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707-BCBB-4A40-A107-D900A9BB1473}" type="slidenum"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0" y="169992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720" y="227628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rebuchet MS"/>
              </a:rPr>
              <a:t>El Acuerdo sobre la Agricultura (AsA)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5070600"/>
            <a:ext cx="4033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0800" bIns="10800" anchor="t">
            <a:noAutofit/>
          </a:bodyPr>
          <a:p>
            <a:pPr marL="353880">
              <a:lnSpc>
                <a:spcPct val="140000"/>
              </a:lnSpc>
              <a:spcBef>
                <a:spcPts val="1049"/>
              </a:spcBef>
              <a:spcAft>
                <a:spcPts val="1049"/>
              </a:spcAft>
              <a:buClr>
                <a:srgbClr val="fbdf53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573408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Serafino Marc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Consejero, IFCT de la OM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03280" y="2205000"/>
            <a:ext cx="6193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hibido mantener, adoptar o restablecer medidas no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948400">
            <a:off x="1042920" y="2420640"/>
            <a:ext cx="649440" cy="1297080"/>
          </a:xfrm>
          <a:custGeom>
            <a:avLst/>
            <a:gdLst>
              <a:gd name="textAreaLeft" fmla="*/ 86760 w 649440"/>
              <a:gd name="textAreaRight" fmla="*/ 562680 w 64944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360" y="3141720"/>
            <a:ext cx="630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versión en 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recho de aduana propiamente dich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” con efecto de proteccón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5080" y="4724280"/>
            <a:ext cx="6983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olidación y reducción (Listas de compromi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ingentes arancel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ntener los flujos de comercio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brir nuevas oportunidades de ac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720" y="1268280"/>
            <a:ext cx="507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Un régimen sólo arancel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99"/>
                </a:solidFill>
                <a:latin typeface="Verdana"/>
              </a:rPr>
              <a:t>AM: Acceso a los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3280" y="4292640"/>
            <a:ext cx="1511280" cy="28872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436-BF2C-42E4-84FA-388B9750B8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3080" y="1989000"/>
            <a:ext cx="6551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stricciones cuantit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vámenes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cios mínimos a la impor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cencias de importación discre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mantenidas por 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mitaciones voluntarias de expor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similares [...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4720" y="1268280"/>
            <a:ext cx="7091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Artículo 4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AM: ¿</a:t>
            </a:r>
            <a:r>
              <a:rPr b="1" lang="es-ES" sz="3600" spc="-1" strike="noStrike">
                <a:solidFill>
                  <a:srgbClr val="009999"/>
                </a:solidFill>
                <a:latin typeface="Verdana"/>
              </a:rPr>
              <a:t>Medidas no arancelaria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22560" y="2101680"/>
            <a:ext cx="288720" cy="324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4140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072000">
            <a:off x="-261360" y="3837960"/>
            <a:ext cx="30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cc"/>
                </a:solidFill>
                <a:latin typeface="Verdana"/>
              </a:rPr>
              <a:t>Arance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A72-B3F7-4E3A-83ED-E1FAEBF19A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1125360"/>
            <a:ext cx="8459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rtículo 5 (Salvaguardia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imitada a productos arance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riterios de activación estrictos (volumen/pre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exo 5 (Trato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didas mantenidas al amparo de otros Acuer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za de p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alvarguardia art. XIX del G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0"/>
            <a:ext cx="8207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99"/>
                </a:solidFill>
                <a:latin typeface="Verdana"/>
              </a:rPr>
              <a:t>AM: Excepciones al Art. 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CF0-DDD6-416E-ABF4-21FBC637CB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Arial"/>
              </a:rPr>
              <a:t>AM: Aranceles Promedio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1840" y="88416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marL="449280" indent="-449280">
              <a:spcBef>
                <a:spcPts val="499"/>
              </a:spcBef>
              <a:tabLst>
                <a:tab algn="l" pos="0"/>
                <a:tab algn="dec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11360" y="1625760"/>
          <a:ext cx="838188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625760"/>
                    <a:ext cx="83818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D81-709D-43F4-8708-A8A095DC49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60720" y="2421000"/>
            <a:ext cx="3184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ro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7640" y="1989000"/>
            <a:ext cx="1908360" cy="3798720"/>
            <a:chOff x="647640" y="1989000"/>
            <a:chExt cx="1908360" cy="3798720"/>
          </a:xfrm>
        </p:grpSpPr>
        <p:grpSp>
          <p:nvGrpSpPr>
            <p:cNvPr id="191" name=""/>
            <p:cNvGrpSpPr/>
            <p:nvPr/>
          </p:nvGrpSpPr>
          <p:grpSpPr>
            <a:xfrm>
              <a:off x="683280" y="2412720"/>
              <a:ext cx="1554480" cy="3072600"/>
              <a:chOff x="683280" y="2412720"/>
              <a:chExt cx="1554480" cy="3072600"/>
            </a:xfrm>
          </p:grpSpPr>
          <p:sp>
            <p:nvSpPr>
              <p:cNvPr id="192" name=""/>
              <p:cNvSpPr/>
              <p:nvPr/>
            </p:nvSpPr>
            <p:spPr>
              <a:xfrm>
                <a:off x="1121040" y="2453400"/>
                <a:ext cx="1083600" cy="807120"/>
              </a:xfrm>
              <a:custGeom>
                <a:avLst/>
                <a:gdLst/>
                <a:ahLst/>
                <a:rect l="l" t="t" r="r" b="b"/>
                <a:pathLst>
                  <a:path w="4606" h="3462">
                    <a:moveTo>
                      <a:pt x="4402" y="809"/>
                    </a:moveTo>
                    <a:lnTo>
                      <a:pt x="4513" y="1047"/>
                    </a:lnTo>
                    <a:lnTo>
                      <a:pt x="4513" y="1052"/>
                    </a:lnTo>
                    <a:lnTo>
                      <a:pt x="4522" y="1067"/>
                    </a:lnTo>
                    <a:lnTo>
                      <a:pt x="4534" y="1092"/>
                    </a:lnTo>
                    <a:lnTo>
                      <a:pt x="4547" y="1126"/>
                    </a:lnTo>
                    <a:lnTo>
                      <a:pt x="4562" y="1164"/>
                    </a:lnTo>
                    <a:lnTo>
                      <a:pt x="4575" y="1216"/>
                    </a:lnTo>
                    <a:lnTo>
                      <a:pt x="4589" y="1275"/>
                    </a:lnTo>
                    <a:lnTo>
                      <a:pt x="4598" y="1341"/>
                    </a:lnTo>
                    <a:lnTo>
                      <a:pt x="4604" y="1414"/>
                    </a:lnTo>
                    <a:lnTo>
                      <a:pt x="4606" y="1494"/>
                    </a:lnTo>
                    <a:lnTo>
                      <a:pt x="4601" y="1580"/>
                    </a:lnTo>
                    <a:lnTo>
                      <a:pt x="4589" y="1672"/>
                    </a:lnTo>
                    <a:lnTo>
                      <a:pt x="4567" y="1771"/>
                    </a:lnTo>
                    <a:lnTo>
                      <a:pt x="4535" y="1877"/>
                    </a:lnTo>
                    <a:lnTo>
                      <a:pt x="4493" y="1983"/>
                    </a:lnTo>
                    <a:lnTo>
                      <a:pt x="4460" y="2059"/>
                    </a:lnTo>
                    <a:lnTo>
                      <a:pt x="4423" y="2129"/>
                    </a:lnTo>
                    <a:lnTo>
                      <a:pt x="4383" y="2200"/>
                    </a:lnTo>
                    <a:lnTo>
                      <a:pt x="4343" y="2262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3"/>
                    </a:lnTo>
                    <a:lnTo>
                      <a:pt x="4173" y="2496"/>
                    </a:lnTo>
                    <a:lnTo>
                      <a:pt x="4127" y="2546"/>
                    </a:lnTo>
                    <a:lnTo>
                      <a:pt x="4082" y="2599"/>
                    </a:lnTo>
                    <a:lnTo>
                      <a:pt x="4034" y="2642"/>
                    </a:lnTo>
                    <a:lnTo>
                      <a:pt x="3986" y="2687"/>
                    </a:lnTo>
                    <a:lnTo>
                      <a:pt x="3938" y="2731"/>
                    </a:lnTo>
                    <a:lnTo>
                      <a:pt x="3887" y="2769"/>
                    </a:lnTo>
                    <a:lnTo>
                      <a:pt x="3838" y="2803"/>
                    </a:lnTo>
                    <a:lnTo>
                      <a:pt x="3791" y="2840"/>
                    </a:lnTo>
                    <a:lnTo>
                      <a:pt x="3738" y="2874"/>
                    </a:lnTo>
                    <a:lnTo>
                      <a:pt x="3689" y="2906"/>
                    </a:lnTo>
                    <a:lnTo>
                      <a:pt x="3641" y="2934"/>
                    </a:lnTo>
                    <a:lnTo>
                      <a:pt x="3589" y="2962"/>
                    </a:lnTo>
                    <a:lnTo>
                      <a:pt x="3538" y="2989"/>
                    </a:lnTo>
                    <a:lnTo>
                      <a:pt x="3490" y="3013"/>
                    </a:lnTo>
                    <a:lnTo>
                      <a:pt x="3442" y="3037"/>
                    </a:lnTo>
                    <a:lnTo>
                      <a:pt x="3391" y="3061"/>
                    </a:lnTo>
                    <a:lnTo>
                      <a:pt x="3343" y="3080"/>
                    </a:lnTo>
                    <a:lnTo>
                      <a:pt x="3295" y="3100"/>
                    </a:lnTo>
                    <a:lnTo>
                      <a:pt x="3247" y="3120"/>
                    </a:lnTo>
                    <a:lnTo>
                      <a:pt x="3202" y="3137"/>
                    </a:lnTo>
                    <a:lnTo>
                      <a:pt x="3156" y="3157"/>
                    </a:lnTo>
                    <a:lnTo>
                      <a:pt x="3113" y="3170"/>
                    </a:lnTo>
                    <a:lnTo>
                      <a:pt x="3069" y="3187"/>
                    </a:lnTo>
                    <a:lnTo>
                      <a:pt x="3028" y="3202"/>
                    </a:lnTo>
                    <a:lnTo>
                      <a:pt x="2986" y="3215"/>
                    </a:lnTo>
                    <a:lnTo>
                      <a:pt x="2946" y="3231"/>
                    </a:lnTo>
                    <a:lnTo>
                      <a:pt x="2853" y="3264"/>
                    </a:lnTo>
                    <a:lnTo>
                      <a:pt x="2764" y="3294"/>
                    </a:lnTo>
                    <a:lnTo>
                      <a:pt x="2674" y="3320"/>
                    </a:lnTo>
                    <a:lnTo>
                      <a:pt x="2589" y="3347"/>
                    </a:lnTo>
                    <a:lnTo>
                      <a:pt x="2506" y="3365"/>
                    </a:lnTo>
                    <a:lnTo>
                      <a:pt x="2428" y="3385"/>
                    </a:lnTo>
                    <a:lnTo>
                      <a:pt x="2351" y="3401"/>
                    </a:lnTo>
                    <a:lnTo>
                      <a:pt x="2274" y="3416"/>
                    </a:lnTo>
                    <a:lnTo>
                      <a:pt x="2204" y="3427"/>
                    </a:lnTo>
                    <a:lnTo>
                      <a:pt x="2136" y="3438"/>
                    </a:lnTo>
                    <a:lnTo>
                      <a:pt x="2067" y="3447"/>
                    </a:lnTo>
                    <a:lnTo>
                      <a:pt x="2003" y="3453"/>
                    </a:lnTo>
                    <a:lnTo>
                      <a:pt x="1943" y="3455"/>
                    </a:lnTo>
                    <a:lnTo>
                      <a:pt x="1880" y="3462"/>
                    </a:lnTo>
                    <a:lnTo>
                      <a:pt x="1824" y="3462"/>
                    </a:lnTo>
                    <a:lnTo>
                      <a:pt x="1767" y="3462"/>
                    </a:lnTo>
                    <a:lnTo>
                      <a:pt x="1717" y="3462"/>
                    </a:lnTo>
                    <a:lnTo>
                      <a:pt x="1664" y="3455"/>
                    </a:lnTo>
                    <a:lnTo>
                      <a:pt x="1618" y="3453"/>
                    </a:lnTo>
                    <a:lnTo>
                      <a:pt x="1568" y="3447"/>
                    </a:lnTo>
                    <a:lnTo>
                      <a:pt x="1527" y="3443"/>
                    </a:lnTo>
                    <a:lnTo>
                      <a:pt x="1482" y="3435"/>
                    </a:lnTo>
                    <a:lnTo>
                      <a:pt x="1440" y="3430"/>
                    </a:lnTo>
                    <a:lnTo>
                      <a:pt x="1404" y="3422"/>
                    </a:lnTo>
                    <a:lnTo>
                      <a:pt x="1368" y="3413"/>
                    </a:lnTo>
                    <a:lnTo>
                      <a:pt x="1331" y="3405"/>
                    </a:lnTo>
                    <a:lnTo>
                      <a:pt x="1291" y="3393"/>
                    </a:lnTo>
                    <a:lnTo>
                      <a:pt x="1249" y="3382"/>
                    </a:lnTo>
                    <a:lnTo>
                      <a:pt x="1200" y="3365"/>
                    </a:lnTo>
                    <a:lnTo>
                      <a:pt x="1149" y="3348"/>
                    </a:lnTo>
                    <a:lnTo>
                      <a:pt x="1096" y="3328"/>
                    </a:lnTo>
                    <a:lnTo>
                      <a:pt x="1042" y="3306"/>
                    </a:lnTo>
                    <a:lnTo>
                      <a:pt x="984" y="3284"/>
                    </a:lnTo>
                    <a:lnTo>
                      <a:pt x="925" y="3256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2"/>
                    </a:lnTo>
                    <a:lnTo>
                      <a:pt x="688" y="3125"/>
                    </a:lnTo>
                    <a:lnTo>
                      <a:pt x="631" y="3088"/>
                    </a:lnTo>
                    <a:lnTo>
                      <a:pt x="572" y="3050"/>
                    </a:lnTo>
                    <a:lnTo>
                      <a:pt x="515" y="3008"/>
                    </a:lnTo>
                    <a:lnTo>
                      <a:pt x="458" y="2964"/>
                    </a:lnTo>
                    <a:lnTo>
                      <a:pt x="407" y="2919"/>
                    </a:lnTo>
                    <a:lnTo>
                      <a:pt x="354" y="2872"/>
                    </a:lnTo>
                    <a:lnTo>
                      <a:pt x="308" y="2820"/>
                    </a:lnTo>
                    <a:lnTo>
                      <a:pt x="259" y="2769"/>
                    </a:lnTo>
                    <a:lnTo>
                      <a:pt x="221" y="2715"/>
                    </a:lnTo>
                    <a:lnTo>
                      <a:pt x="179" y="2657"/>
                    </a:lnTo>
                    <a:lnTo>
                      <a:pt x="149" y="2599"/>
                    </a:lnTo>
                    <a:lnTo>
                      <a:pt x="117" y="2538"/>
                    </a:lnTo>
                    <a:lnTo>
                      <a:pt x="96" y="2477"/>
                    </a:lnTo>
                    <a:lnTo>
                      <a:pt x="72" y="2406"/>
                    </a:lnTo>
                    <a:lnTo>
                      <a:pt x="53" y="2339"/>
                    </a:lnTo>
                    <a:lnTo>
                      <a:pt x="35" y="2269"/>
                    </a:lnTo>
                    <a:lnTo>
                      <a:pt x="25" y="2200"/>
                    </a:lnTo>
                    <a:lnTo>
                      <a:pt x="13" y="2132"/>
                    </a:lnTo>
                    <a:lnTo>
                      <a:pt x="5" y="2068"/>
                    </a:lnTo>
                    <a:lnTo>
                      <a:pt x="2" y="2002"/>
                    </a:lnTo>
                    <a:lnTo>
                      <a:pt x="0" y="1940"/>
                    </a:lnTo>
                    <a:lnTo>
                      <a:pt x="0" y="1877"/>
                    </a:lnTo>
                    <a:lnTo>
                      <a:pt x="2" y="1816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7"/>
                    </a:lnTo>
                    <a:lnTo>
                      <a:pt x="38" y="1580"/>
                    </a:lnTo>
                    <a:lnTo>
                      <a:pt x="53" y="1523"/>
                    </a:lnTo>
                    <a:lnTo>
                      <a:pt x="70" y="1469"/>
                    </a:lnTo>
                    <a:lnTo>
                      <a:pt x="88" y="1414"/>
                    </a:lnTo>
                    <a:lnTo>
                      <a:pt x="109" y="1362"/>
                    </a:lnTo>
                    <a:lnTo>
                      <a:pt x="133" y="1309"/>
                    </a:lnTo>
                    <a:lnTo>
                      <a:pt x="155" y="1258"/>
                    </a:lnTo>
                    <a:lnTo>
                      <a:pt x="179" y="1209"/>
                    </a:lnTo>
                    <a:lnTo>
                      <a:pt x="208" y="1163"/>
                    </a:lnTo>
                    <a:lnTo>
                      <a:pt x="237" y="1114"/>
                    </a:lnTo>
                    <a:lnTo>
                      <a:pt x="269" y="1067"/>
                    </a:lnTo>
                    <a:lnTo>
                      <a:pt x="299" y="1018"/>
                    </a:lnTo>
                    <a:lnTo>
                      <a:pt x="333" y="977"/>
                    </a:lnTo>
                    <a:lnTo>
                      <a:pt x="367" y="933"/>
                    </a:lnTo>
                    <a:lnTo>
                      <a:pt x="403" y="887"/>
                    </a:lnTo>
                    <a:lnTo>
                      <a:pt x="440" y="849"/>
                    </a:lnTo>
                    <a:lnTo>
                      <a:pt x="478" y="807"/>
                    </a:lnTo>
                    <a:lnTo>
                      <a:pt x="518" y="767"/>
                    </a:lnTo>
                    <a:lnTo>
                      <a:pt x="557" y="730"/>
                    </a:lnTo>
                    <a:lnTo>
                      <a:pt x="597" y="691"/>
                    </a:lnTo>
                    <a:lnTo>
                      <a:pt x="640" y="656"/>
                    </a:lnTo>
                    <a:lnTo>
                      <a:pt x="680" y="621"/>
                    </a:lnTo>
                    <a:lnTo>
                      <a:pt x="723" y="586"/>
                    </a:lnTo>
                    <a:lnTo>
                      <a:pt x="767" y="552"/>
                    </a:lnTo>
                    <a:lnTo>
                      <a:pt x="810" y="523"/>
                    </a:lnTo>
                    <a:lnTo>
                      <a:pt x="851" y="491"/>
                    </a:lnTo>
                    <a:lnTo>
                      <a:pt x="898" y="460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5"/>
                    </a:lnTo>
                    <a:lnTo>
                      <a:pt x="1074" y="350"/>
                    </a:lnTo>
                    <a:lnTo>
                      <a:pt x="1116" y="324"/>
                    </a:lnTo>
                    <a:lnTo>
                      <a:pt x="1162" y="301"/>
                    </a:lnTo>
                    <a:lnTo>
                      <a:pt x="1203" y="276"/>
                    </a:lnTo>
                    <a:lnTo>
                      <a:pt x="1249" y="256"/>
                    </a:lnTo>
                    <a:lnTo>
                      <a:pt x="1291" y="234"/>
                    </a:lnTo>
                    <a:lnTo>
                      <a:pt x="1333" y="213"/>
                    </a:lnTo>
                    <a:lnTo>
                      <a:pt x="1373" y="197"/>
                    </a:lnTo>
                    <a:lnTo>
                      <a:pt x="1416" y="178"/>
                    </a:lnTo>
                    <a:lnTo>
                      <a:pt x="1456" y="163"/>
                    </a:lnTo>
                    <a:lnTo>
                      <a:pt x="1495" y="147"/>
                    </a:lnTo>
                    <a:lnTo>
                      <a:pt x="1535" y="130"/>
                    </a:lnTo>
                    <a:lnTo>
                      <a:pt x="1572" y="118"/>
                    </a:lnTo>
                    <a:lnTo>
                      <a:pt x="1610" y="105"/>
                    </a:lnTo>
                    <a:lnTo>
                      <a:pt x="1647" y="93"/>
                    </a:lnTo>
                    <a:lnTo>
                      <a:pt x="1680" y="81"/>
                    </a:lnTo>
                    <a:lnTo>
                      <a:pt x="1711" y="70"/>
                    </a:lnTo>
                    <a:lnTo>
                      <a:pt x="2442" y="0"/>
                    </a:lnTo>
                    <a:lnTo>
                      <a:pt x="2451" y="0"/>
                    </a:lnTo>
                    <a:lnTo>
                      <a:pt x="2473" y="6"/>
                    </a:lnTo>
                    <a:lnTo>
                      <a:pt x="2509" y="8"/>
                    </a:lnTo>
                    <a:lnTo>
                      <a:pt x="2559" y="14"/>
                    </a:lnTo>
                    <a:lnTo>
                      <a:pt x="2613" y="22"/>
                    </a:lnTo>
                    <a:lnTo>
                      <a:pt x="2680" y="32"/>
                    </a:lnTo>
                    <a:lnTo>
                      <a:pt x="2754" y="43"/>
                    </a:lnTo>
                    <a:lnTo>
                      <a:pt x="2833" y="51"/>
                    </a:lnTo>
                    <a:lnTo>
                      <a:pt x="2917" y="65"/>
                    </a:lnTo>
                    <a:lnTo>
                      <a:pt x="3003" y="77"/>
                    </a:lnTo>
                    <a:lnTo>
                      <a:pt x="3090" y="90"/>
                    </a:lnTo>
                    <a:lnTo>
                      <a:pt x="3178" y="105"/>
                    </a:lnTo>
                    <a:lnTo>
                      <a:pt x="3264" y="118"/>
                    </a:lnTo>
                    <a:lnTo>
                      <a:pt x="3345" y="130"/>
                    </a:lnTo>
                    <a:lnTo>
                      <a:pt x="3426" y="147"/>
                    </a:lnTo>
                    <a:lnTo>
                      <a:pt x="3498" y="159"/>
                    </a:lnTo>
                    <a:lnTo>
                      <a:pt x="3561" y="172"/>
                    </a:lnTo>
                    <a:lnTo>
                      <a:pt x="3618" y="186"/>
                    </a:lnTo>
                    <a:lnTo>
                      <a:pt x="3680" y="205"/>
                    </a:lnTo>
                    <a:lnTo>
                      <a:pt x="3748" y="237"/>
                    </a:lnTo>
                    <a:lnTo>
                      <a:pt x="3817" y="279"/>
                    </a:lnTo>
                    <a:lnTo>
                      <a:pt x="3887" y="328"/>
                    </a:lnTo>
                    <a:lnTo>
                      <a:pt x="3958" y="382"/>
                    </a:lnTo>
                    <a:lnTo>
                      <a:pt x="4025" y="436"/>
                    </a:lnTo>
                    <a:lnTo>
                      <a:pt x="4094" y="497"/>
                    </a:lnTo>
                    <a:lnTo>
                      <a:pt x="4156" y="556"/>
                    </a:lnTo>
                    <a:lnTo>
                      <a:pt x="4214" y="613"/>
                    </a:lnTo>
                    <a:lnTo>
                      <a:pt x="4268" y="663"/>
                    </a:lnTo>
                    <a:lnTo>
                      <a:pt x="4311" y="710"/>
                    </a:lnTo>
                    <a:lnTo>
                      <a:pt x="4348" y="754"/>
                    </a:lnTo>
                    <a:lnTo>
                      <a:pt x="4377" y="782"/>
                    </a:lnTo>
                    <a:lnTo>
                      <a:pt x="4394" y="800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e03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54160" y="3508560"/>
                <a:ext cx="1083600" cy="805320"/>
              </a:xfrm>
              <a:custGeom>
                <a:avLst/>
                <a:gdLst/>
                <a:ahLst/>
                <a:rect l="l" t="t" r="r" b="b"/>
                <a:pathLst>
                  <a:path w="4608" h="3459">
                    <a:moveTo>
                      <a:pt x="4401" y="810"/>
                    </a:moveTo>
                    <a:lnTo>
                      <a:pt x="4512" y="1048"/>
                    </a:lnTo>
                    <a:lnTo>
                      <a:pt x="4516" y="1052"/>
                    </a:lnTo>
                    <a:lnTo>
                      <a:pt x="4524" y="1067"/>
                    </a:lnTo>
                    <a:lnTo>
                      <a:pt x="4534" y="1089"/>
                    </a:lnTo>
                    <a:lnTo>
                      <a:pt x="4549" y="1126"/>
                    </a:lnTo>
                    <a:lnTo>
                      <a:pt x="4562" y="1165"/>
                    </a:lnTo>
                    <a:lnTo>
                      <a:pt x="4578" y="1217"/>
                    </a:lnTo>
                    <a:lnTo>
                      <a:pt x="4591" y="1275"/>
                    </a:lnTo>
                    <a:lnTo>
                      <a:pt x="4599" y="1343"/>
                    </a:lnTo>
                    <a:lnTo>
                      <a:pt x="4608" y="1413"/>
                    </a:lnTo>
                    <a:lnTo>
                      <a:pt x="4608" y="1495"/>
                    </a:lnTo>
                    <a:lnTo>
                      <a:pt x="4602" y="1580"/>
                    </a:lnTo>
                    <a:lnTo>
                      <a:pt x="4591" y="1673"/>
                    </a:lnTo>
                    <a:lnTo>
                      <a:pt x="4569" y="1771"/>
                    </a:lnTo>
                    <a:lnTo>
                      <a:pt x="4537" y="1874"/>
                    </a:lnTo>
                    <a:lnTo>
                      <a:pt x="4495" y="1981"/>
                    </a:lnTo>
                    <a:lnTo>
                      <a:pt x="4461" y="2057"/>
                    </a:lnTo>
                    <a:lnTo>
                      <a:pt x="4421" y="2127"/>
                    </a:lnTo>
                    <a:lnTo>
                      <a:pt x="4384" y="2196"/>
                    </a:lnTo>
                    <a:lnTo>
                      <a:pt x="4346" y="2263"/>
                    </a:lnTo>
                    <a:lnTo>
                      <a:pt x="4305" y="2325"/>
                    </a:lnTo>
                    <a:lnTo>
                      <a:pt x="4263" y="2384"/>
                    </a:lnTo>
                    <a:lnTo>
                      <a:pt x="4218" y="2440"/>
                    </a:lnTo>
                    <a:lnTo>
                      <a:pt x="4175" y="2498"/>
                    </a:lnTo>
                    <a:lnTo>
                      <a:pt x="4130" y="2548"/>
                    </a:lnTo>
                    <a:lnTo>
                      <a:pt x="4081" y="2596"/>
                    </a:lnTo>
                    <a:lnTo>
                      <a:pt x="4036" y="2642"/>
                    </a:lnTo>
                    <a:lnTo>
                      <a:pt x="3988" y="2687"/>
                    </a:lnTo>
                    <a:lnTo>
                      <a:pt x="3940" y="2729"/>
                    </a:lnTo>
                    <a:lnTo>
                      <a:pt x="3889" y="2768"/>
                    </a:lnTo>
                    <a:lnTo>
                      <a:pt x="3840" y="2804"/>
                    </a:lnTo>
                    <a:lnTo>
                      <a:pt x="3789" y="2838"/>
                    </a:lnTo>
                    <a:lnTo>
                      <a:pt x="3741" y="2873"/>
                    </a:lnTo>
                    <a:lnTo>
                      <a:pt x="3690" y="2904"/>
                    </a:lnTo>
                    <a:lnTo>
                      <a:pt x="3639" y="2935"/>
                    </a:lnTo>
                    <a:lnTo>
                      <a:pt x="3591" y="2963"/>
                    </a:lnTo>
                    <a:lnTo>
                      <a:pt x="3541" y="2989"/>
                    </a:lnTo>
                    <a:lnTo>
                      <a:pt x="3492" y="3013"/>
                    </a:lnTo>
                    <a:lnTo>
                      <a:pt x="3442" y="3036"/>
                    </a:lnTo>
                    <a:lnTo>
                      <a:pt x="3392" y="3059"/>
                    </a:lnTo>
                    <a:lnTo>
                      <a:pt x="3344" y="3081"/>
                    </a:lnTo>
                    <a:lnTo>
                      <a:pt x="3296" y="3101"/>
                    </a:lnTo>
                    <a:lnTo>
                      <a:pt x="3251" y="3118"/>
                    </a:lnTo>
                    <a:lnTo>
                      <a:pt x="3202" y="3135"/>
                    </a:lnTo>
                    <a:lnTo>
                      <a:pt x="3157" y="3151"/>
                    </a:lnTo>
                    <a:lnTo>
                      <a:pt x="3114" y="3168"/>
                    </a:lnTo>
                    <a:lnTo>
                      <a:pt x="3072" y="3186"/>
                    </a:lnTo>
                    <a:lnTo>
                      <a:pt x="3027" y="3199"/>
                    </a:lnTo>
                    <a:lnTo>
                      <a:pt x="2986" y="3213"/>
                    </a:lnTo>
                    <a:lnTo>
                      <a:pt x="2948" y="3228"/>
                    </a:lnTo>
                    <a:lnTo>
                      <a:pt x="2853" y="3262"/>
                    </a:lnTo>
                    <a:lnTo>
                      <a:pt x="2763" y="3292"/>
                    </a:lnTo>
                    <a:lnTo>
                      <a:pt x="2675" y="3319"/>
                    </a:lnTo>
                    <a:lnTo>
                      <a:pt x="2591" y="3344"/>
                    </a:lnTo>
                    <a:lnTo>
                      <a:pt x="2509" y="3366"/>
                    </a:lnTo>
                    <a:lnTo>
                      <a:pt x="2429" y="3386"/>
                    </a:lnTo>
                    <a:lnTo>
                      <a:pt x="2351" y="3400"/>
                    </a:lnTo>
                    <a:lnTo>
                      <a:pt x="2277" y="3414"/>
                    </a:lnTo>
                    <a:lnTo>
                      <a:pt x="2205" y="3427"/>
                    </a:lnTo>
                    <a:lnTo>
                      <a:pt x="2135" y="3436"/>
                    </a:lnTo>
                    <a:lnTo>
                      <a:pt x="2066" y="3445"/>
                    </a:lnTo>
                    <a:lnTo>
                      <a:pt x="2003" y="3451"/>
                    </a:lnTo>
                    <a:lnTo>
                      <a:pt x="1941" y="3456"/>
                    </a:lnTo>
                    <a:lnTo>
                      <a:pt x="1882" y="3459"/>
                    </a:lnTo>
                    <a:lnTo>
                      <a:pt x="1826" y="3459"/>
                    </a:lnTo>
                    <a:lnTo>
                      <a:pt x="1770" y="3459"/>
                    </a:lnTo>
                    <a:lnTo>
                      <a:pt x="1717" y="3456"/>
                    </a:lnTo>
                    <a:lnTo>
                      <a:pt x="1667" y="3456"/>
                    </a:lnTo>
                    <a:lnTo>
                      <a:pt x="1618" y="3451"/>
                    </a:lnTo>
                    <a:lnTo>
                      <a:pt x="1571" y="3448"/>
                    </a:lnTo>
                    <a:lnTo>
                      <a:pt x="1527" y="3440"/>
                    </a:lnTo>
                    <a:lnTo>
                      <a:pt x="1483" y="3436"/>
                    </a:lnTo>
                    <a:lnTo>
                      <a:pt x="1443" y="3427"/>
                    </a:lnTo>
                    <a:lnTo>
                      <a:pt x="1402" y="3419"/>
                    </a:lnTo>
                    <a:lnTo>
                      <a:pt x="1368" y="3411"/>
                    </a:lnTo>
                    <a:lnTo>
                      <a:pt x="1331" y="3406"/>
                    </a:lnTo>
                    <a:lnTo>
                      <a:pt x="1293" y="3390"/>
                    </a:lnTo>
                    <a:lnTo>
                      <a:pt x="1248" y="3381"/>
                    </a:lnTo>
                    <a:lnTo>
                      <a:pt x="1202" y="3366"/>
                    </a:lnTo>
                    <a:lnTo>
                      <a:pt x="1152" y="3345"/>
                    </a:lnTo>
                    <a:lnTo>
                      <a:pt x="1099" y="3327"/>
                    </a:lnTo>
                    <a:lnTo>
                      <a:pt x="1043" y="3304"/>
                    </a:lnTo>
                    <a:lnTo>
                      <a:pt x="987" y="3278"/>
                    </a:lnTo>
                    <a:lnTo>
                      <a:pt x="928" y="3254"/>
                    </a:lnTo>
                    <a:lnTo>
                      <a:pt x="867" y="3225"/>
                    </a:lnTo>
                    <a:lnTo>
                      <a:pt x="808" y="3195"/>
                    </a:lnTo>
                    <a:lnTo>
                      <a:pt x="749" y="3159"/>
                    </a:lnTo>
                    <a:lnTo>
                      <a:pt x="688" y="3122"/>
                    </a:lnTo>
                    <a:lnTo>
                      <a:pt x="630" y="3087"/>
                    </a:lnTo>
                    <a:lnTo>
                      <a:pt x="573" y="3047"/>
                    </a:lnTo>
                    <a:lnTo>
                      <a:pt x="517" y="3005"/>
                    </a:lnTo>
                    <a:lnTo>
                      <a:pt x="459" y="2963"/>
                    </a:lnTo>
                    <a:lnTo>
                      <a:pt x="406" y="2918"/>
                    </a:lnTo>
                    <a:lnTo>
                      <a:pt x="355" y="2867"/>
                    </a:lnTo>
                    <a:lnTo>
                      <a:pt x="307" y="2819"/>
                    </a:lnTo>
                    <a:lnTo>
                      <a:pt x="261" y="2766"/>
                    </a:lnTo>
                    <a:lnTo>
                      <a:pt x="222" y="2713"/>
                    </a:lnTo>
                    <a:lnTo>
                      <a:pt x="182" y="2658"/>
                    </a:lnTo>
                    <a:lnTo>
                      <a:pt x="150" y="2598"/>
                    </a:lnTo>
                    <a:lnTo>
                      <a:pt x="120" y="2540"/>
                    </a:lnTo>
                    <a:lnTo>
                      <a:pt x="96" y="2477"/>
                    </a:lnTo>
                    <a:lnTo>
                      <a:pt x="74" y="2404"/>
                    </a:lnTo>
                    <a:lnTo>
                      <a:pt x="54" y="2333"/>
                    </a:lnTo>
                    <a:lnTo>
                      <a:pt x="40" y="2267"/>
                    </a:lnTo>
                    <a:lnTo>
                      <a:pt x="25" y="2198"/>
                    </a:lnTo>
                    <a:lnTo>
                      <a:pt x="16" y="2134"/>
                    </a:lnTo>
                    <a:lnTo>
                      <a:pt x="6" y="2065"/>
                    </a:lnTo>
                    <a:lnTo>
                      <a:pt x="3" y="2002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3" y="1814"/>
                    </a:lnTo>
                    <a:lnTo>
                      <a:pt x="8" y="1755"/>
                    </a:lnTo>
                    <a:lnTo>
                      <a:pt x="17" y="1696"/>
                    </a:lnTo>
                    <a:lnTo>
                      <a:pt x="25" y="1636"/>
                    </a:lnTo>
                    <a:lnTo>
                      <a:pt x="40" y="1580"/>
                    </a:lnTo>
                    <a:lnTo>
                      <a:pt x="54" y="1524"/>
                    </a:lnTo>
                    <a:lnTo>
                      <a:pt x="70" y="1466"/>
                    </a:lnTo>
                    <a:lnTo>
                      <a:pt x="88" y="1413"/>
                    </a:lnTo>
                    <a:lnTo>
                      <a:pt x="112" y="1363"/>
                    </a:lnTo>
                    <a:lnTo>
                      <a:pt x="133" y="1309"/>
                    </a:lnTo>
                    <a:lnTo>
                      <a:pt x="157" y="1259"/>
                    </a:lnTo>
                    <a:lnTo>
                      <a:pt x="182" y="1209"/>
                    </a:lnTo>
                    <a:lnTo>
                      <a:pt x="211" y="1160"/>
                    </a:lnTo>
                    <a:lnTo>
                      <a:pt x="240" y="1112"/>
                    </a:lnTo>
                    <a:lnTo>
                      <a:pt x="269" y="1067"/>
                    </a:lnTo>
                    <a:lnTo>
                      <a:pt x="301" y="1020"/>
                    </a:lnTo>
                    <a:lnTo>
                      <a:pt x="335" y="974"/>
                    </a:lnTo>
                    <a:lnTo>
                      <a:pt x="369" y="932"/>
                    </a:lnTo>
                    <a:lnTo>
                      <a:pt x="403" y="889"/>
                    </a:lnTo>
                    <a:lnTo>
                      <a:pt x="443" y="850"/>
                    </a:lnTo>
                    <a:lnTo>
                      <a:pt x="480" y="808"/>
                    </a:lnTo>
                    <a:lnTo>
                      <a:pt x="518" y="768"/>
                    </a:lnTo>
                    <a:lnTo>
                      <a:pt x="559" y="731"/>
                    </a:lnTo>
                    <a:lnTo>
                      <a:pt x="598" y="693"/>
                    </a:lnTo>
                    <a:lnTo>
                      <a:pt x="638" y="656"/>
                    </a:lnTo>
                    <a:lnTo>
                      <a:pt x="683" y="621"/>
                    </a:lnTo>
                    <a:lnTo>
                      <a:pt x="722" y="587"/>
                    </a:lnTo>
                    <a:lnTo>
                      <a:pt x="766" y="553"/>
                    </a:lnTo>
                    <a:lnTo>
                      <a:pt x="808" y="520"/>
                    </a:lnTo>
                    <a:lnTo>
                      <a:pt x="854" y="488"/>
                    </a:lnTo>
                    <a:lnTo>
                      <a:pt x="896" y="462"/>
                    </a:lnTo>
                    <a:lnTo>
                      <a:pt x="941" y="430"/>
                    </a:lnTo>
                    <a:lnTo>
                      <a:pt x="987" y="401"/>
                    </a:lnTo>
                    <a:lnTo>
                      <a:pt x="1029" y="375"/>
                    </a:lnTo>
                    <a:lnTo>
                      <a:pt x="1074" y="351"/>
                    </a:lnTo>
                    <a:lnTo>
                      <a:pt x="1120" y="325"/>
                    </a:lnTo>
                    <a:lnTo>
                      <a:pt x="1162" y="300"/>
                    </a:lnTo>
                    <a:lnTo>
                      <a:pt x="1205" y="277"/>
                    </a:lnTo>
                    <a:lnTo>
                      <a:pt x="1251" y="257"/>
                    </a:lnTo>
                    <a:lnTo>
                      <a:pt x="1293" y="235"/>
                    </a:lnTo>
                    <a:lnTo>
                      <a:pt x="1331" y="215"/>
                    </a:lnTo>
                    <a:lnTo>
                      <a:pt x="1378" y="198"/>
                    </a:lnTo>
                    <a:lnTo>
                      <a:pt x="1418" y="178"/>
                    </a:lnTo>
                    <a:lnTo>
                      <a:pt x="1456" y="162"/>
                    </a:lnTo>
                    <a:lnTo>
                      <a:pt x="1496" y="144"/>
                    </a:lnTo>
                    <a:lnTo>
                      <a:pt x="1538" y="131"/>
                    </a:lnTo>
                    <a:lnTo>
                      <a:pt x="1573" y="116"/>
                    </a:lnTo>
                    <a:lnTo>
                      <a:pt x="1610" y="104"/>
                    </a:lnTo>
                    <a:lnTo>
                      <a:pt x="1647" y="91"/>
                    </a:lnTo>
                    <a:lnTo>
                      <a:pt x="1680" y="83"/>
                    </a:lnTo>
                    <a:lnTo>
                      <a:pt x="1715" y="70"/>
                    </a:lnTo>
                    <a:lnTo>
                      <a:pt x="2443" y="0"/>
                    </a:lnTo>
                    <a:lnTo>
                      <a:pt x="2451" y="0"/>
                    </a:lnTo>
                    <a:lnTo>
                      <a:pt x="2475" y="4"/>
                    </a:lnTo>
                    <a:lnTo>
                      <a:pt x="2512" y="9"/>
                    </a:lnTo>
                    <a:lnTo>
                      <a:pt x="2556" y="16"/>
                    </a:lnTo>
                    <a:lnTo>
                      <a:pt x="2616" y="24"/>
                    </a:lnTo>
                    <a:lnTo>
                      <a:pt x="2682" y="32"/>
                    </a:lnTo>
                    <a:lnTo>
                      <a:pt x="2754" y="43"/>
                    </a:lnTo>
                    <a:lnTo>
                      <a:pt x="2834" y="51"/>
                    </a:lnTo>
                    <a:lnTo>
                      <a:pt x="2916" y="66"/>
                    </a:lnTo>
                    <a:lnTo>
                      <a:pt x="3004" y="78"/>
                    </a:lnTo>
                    <a:lnTo>
                      <a:pt x="3093" y="91"/>
                    </a:lnTo>
                    <a:lnTo>
                      <a:pt x="3180" y="102"/>
                    </a:lnTo>
                    <a:lnTo>
                      <a:pt x="3264" y="120"/>
                    </a:lnTo>
                    <a:lnTo>
                      <a:pt x="3351" y="131"/>
                    </a:lnTo>
                    <a:lnTo>
                      <a:pt x="3426" y="144"/>
                    </a:lnTo>
                    <a:lnTo>
                      <a:pt x="3500" y="158"/>
                    </a:lnTo>
                    <a:lnTo>
                      <a:pt x="3562" y="173"/>
                    </a:lnTo>
                    <a:lnTo>
                      <a:pt x="3620" y="184"/>
                    </a:lnTo>
                    <a:lnTo>
                      <a:pt x="3682" y="203"/>
                    </a:lnTo>
                    <a:lnTo>
                      <a:pt x="3749" y="239"/>
                    </a:lnTo>
                    <a:lnTo>
                      <a:pt x="3818" y="280"/>
                    </a:lnTo>
                    <a:lnTo>
                      <a:pt x="3889" y="327"/>
                    </a:lnTo>
                    <a:lnTo>
                      <a:pt x="3956" y="380"/>
                    </a:lnTo>
                    <a:lnTo>
                      <a:pt x="4028" y="438"/>
                    </a:lnTo>
                    <a:lnTo>
                      <a:pt x="4093" y="497"/>
                    </a:lnTo>
                    <a:lnTo>
                      <a:pt x="4155" y="553"/>
                    </a:lnTo>
                    <a:lnTo>
                      <a:pt x="4214" y="612"/>
                    </a:lnTo>
                    <a:lnTo>
                      <a:pt x="4265" y="664"/>
                    </a:lnTo>
                    <a:lnTo>
                      <a:pt x="4314" y="711"/>
                    </a:lnTo>
                    <a:lnTo>
                      <a:pt x="4351" y="751"/>
                    </a:lnTo>
                    <a:lnTo>
                      <a:pt x="4379" y="781"/>
                    </a:lnTo>
                    <a:lnTo>
                      <a:pt x="4396" y="802"/>
                    </a:lnTo>
                    <a:lnTo>
                      <a:pt x="4401" y="810"/>
                    </a:lnTo>
                    <a:close/>
                  </a:path>
                </a:pathLst>
              </a:custGeom>
              <a:solidFill>
                <a:srgbClr val="f6d4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880" y="4627440"/>
                <a:ext cx="1083240" cy="805680"/>
              </a:xfrm>
              <a:custGeom>
                <a:avLst/>
                <a:gdLst/>
                <a:ahLst/>
                <a:rect l="l" t="t" r="r" b="b"/>
                <a:pathLst>
                  <a:path w="4606" h="3461">
                    <a:moveTo>
                      <a:pt x="4402" y="809"/>
                    </a:moveTo>
                    <a:lnTo>
                      <a:pt x="4513" y="1046"/>
                    </a:lnTo>
                    <a:lnTo>
                      <a:pt x="4513" y="1053"/>
                    </a:lnTo>
                    <a:lnTo>
                      <a:pt x="4522" y="1066"/>
                    </a:lnTo>
                    <a:lnTo>
                      <a:pt x="4534" y="1091"/>
                    </a:lnTo>
                    <a:lnTo>
                      <a:pt x="4547" y="1126"/>
                    </a:lnTo>
                    <a:lnTo>
                      <a:pt x="4562" y="1168"/>
                    </a:lnTo>
                    <a:lnTo>
                      <a:pt x="4575" y="1218"/>
                    </a:lnTo>
                    <a:lnTo>
                      <a:pt x="4589" y="1276"/>
                    </a:lnTo>
                    <a:lnTo>
                      <a:pt x="4598" y="1342"/>
                    </a:lnTo>
                    <a:lnTo>
                      <a:pt x="4604" y="1416"/>
                    </a:lnTo>
                    <a:lnTo>
                      <a:pt x="4606" y="1495"/>
                    </a:lnTo>
                    <a:lnTo>
                      <a:pt x="4601" y="1582"/>
                    </a:lnTo>
                    <a:lnTo>
                      <a:pt x="4589" y="1676"/>
                    </a:lnTo>
                    <a:lnTo>
                      <a:pt x="4567" y="1772"/>
                    </a:lnTo>
                    <a:lnTo>
                      <a:pt x="4535" y="1876"/>
                    </a:lnTo>
                    <a:lnTo>
                      <a:pt x="4493" y="1982"/>
                    </a:lnTo>
                    <a:lnTo>
                      <a:pt x="4460" y="2060"/>
                    </a:lnTo>
                    <a:lnTo>
                      <a:pt x="4423" y="2130"/>
                    </a:lnTo>
                    <a:lnTo>
                      <a:pt x="4383" y="2200"/>
                    </a:lnTo>
                    <a:lnTo>
                      <a:pt x="4343" y="2266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5"/>
                    </a:lnTo>
                    <a:lnTo>
                      <a:pt x="4173" y="2499"/>
                    </a:lnTo>
                    <a:lnTo>
                      <a:pt x="4127" y="2551"/>
                    </a:lnTo>
                    <a:lnTo>
                      <a:pt x="4082" y="2598"/>
                    </a:lnTo>
                    <a:lnTo>
                      <a:pt x="4034" y="2643"/>
                    </a:lnTo>
                    <a:lnTo>
                      <a:pt x="3986" y="2688"/>
                    </a:lnTo>
                    <a:lnTo>
                      <a:pt x="3938" y="2730"/>
                    </a:lnTo>
                    <a:lnTo>
                      <a:pt x="3887" y="2770"/>
                    </a:lnTo>
                    <a:lnTo>
                      <a:pt x="3838" y="2807"/>
                    </a:lnTo>
                    <a:lnTo>
                      <a:pt x="3791" y="2841"/>
                    </a:lnTo>
                    <a:lnTo>
                      <a:pt x="3738" y="2874"/>
                    </a:lnTo>
                    <a:lnTo>
                      <a:pt x="3689" y="2908"/>
                    </a:lnTo>
                    <a:lnTo>
                      <a:pt x="3641" y="2937"/>
                    </a:lnTo>
                    <a:lnTo>
                      <a:pt x="3589" y="2965"/>
                    </a:lnTo>
                    <a:lnTo>
                      <a:pt x="3538" y="2990"/>
                    </a:lnTo>
                    <a:lnTo>
                      <a:pt x="3490" y="3015"/>
                    </a:lnTo>
                    <a:lnTo>
                      <a:pt x="3442" y="3038"/>
                    </a:lnTo>
                    <a:lnTo>
                      <a:pt x="3391" y="3060"/>
                    </a:lnTo>
                    <a:lnTo>
                      <a:pt x="3343" y="3081"/>
                    </a:lnTo>
                    <a:lnTo>
                      <a:pt x="3295" y="3100"/>
                    </a:lnTo>
                    <a:lnTo>
                      <a:pt x="3247" y="3121"/>
                    </a:lnTo>
                    <a:lnTo>
                      <a:pt x="3202" y="3139"/>
                    </a:lnTo>
                    <a:lnTo>
                      <a:pt x="3156" y="3156"/>
                    </a:lnTo>
                    <a:lnTo>
                      <a:pt x="3113" y="3171"/>
                    </a:lnTo>
                    <a:lnTo>
                      <a:pt x="3069" y="3187"/>
                    </a:lnTo>
                    <a:lnTo>
                      <a:pt x="3028" y="3205"/>
                    </a:lnTo>
                    <a:lnTo>
                      <a:pt x="2986" y="3216"/>
                    </a:lnTo>
                    <a:lnTo>
                      <a:pt x="2946" y="3230"/>
                    </a:lnTo>
                    <a:lnTo>
                      <a:pt x="2853" y="3263"/>
                    </a:lnTo>
                    <a:lnTo>
                      <a:pt x="2764" y="3295"/>
                    </a:lnTo>
                    <a:lnTo>
                      <a:pt x="2674" y="3323"/>
                    </a:lnTo>
                    <a:lnTo>
                      <a:pt x="2589" y="3346"/>
                    </a:lnTo>
                    <a:lnTo>
                      <a:pt x="2506" y="3368"/>
                    </a:lnTo>
                    <a:lnTo>
                      <a:pt x="2428" y="3386"/>
                    </a:lnTo>
                    <a:lnTo>
                      <a:pt x="2351" y="3402"/>
                    </a:lnTo>
                    <a:lnTo>
                      <a:pt x="2274" y="3415"/>
                    </a:lnTo>
                    <a:lnTo>
                      <a:pt x="2204" y="3428"/>
                    </a:lnTo>
                    <a:lnTo>
                      <a:pt x="2136" y="3439"/>
                    </a:lnTo>
                    <a:lnTo>
                      <a:pt x="2067" y="3447"/>
                    </a:lnTo>
                    <a:lnTo>
                      <a:pt x="2003" y="3452"/>
                    </a:lnTo>
                    <a:lnTo>
                      <a:pt x="1943" y="3459"/>
                    </a:lnTo>
                    <a:lnTo>
                      <a:pt x="1880" y="3461"/>
                    </a:lnTo>
                    <a:lnTo>
                      <a:pt x="1824" y="3461"/>
                    </a:lnTo>
                    <a:lnTo>
                      <a:pt x="1767" y="3461"/>
                    </a:lnTo>
                    <a:lnTo>
                      <a:pt x="1717" y="3461"/>
                    </a:lnTo>
                    <a:lnTo>
                      <a:pt x="1664" y="3456"/>
                    </a:lnTo>
                    <a:lnTo>
                      <a:pt x="1618" y="3452"/>
                    </a:lnTo>
                    <a:lnTo>
                      <a:pt x="1568" y="3447"/>
                    </a:lnTo>
                    <a:lnTo>
                      <a:pt x="1527" y="3444"/>
                    </a:lnTo>
                    <a:lnTo>
                      <a:pt x="1482" y="3436"/>
                    </a:lnTo>
                    <a:lnTo>
                      <a:pt x="1440" y="3431"/>
                    </a:lnTo>
                    <a:lnTo>
                      <a:pt x="1404" y="3424"/>
                    </a:lnTo>
                    <a:lnTo>
                      <a:pt x="1368" y="3415"/>
                    </a:lnTo>
                    <a:lnTo>
                      <a:pt x="1331" y="3407"/>
                    </a:lnTo>
                    <a:lnTo>
                      <a:pt x="1291" y="3397"/>
                    </a:lnTo>
                    <a:lnTo>
                      <a:pt x="1249" y="3383"/>
                    </a:lnTo>
                    <a:lnTo>
                      <a:pt x="1200" y="3365"/>
                    </a:lnTo>
                    <a:lnTo>
                      <a:pt x="1149" y="3349"/>
                    </a:lnTo>
                    <a:lnTo>
                      <a:pt x="1096" y="3328"/>
                    </a:lnTo>
                    <a:lnTo>
                      <a:pt x="1042" y="3307"/>
                    </a:lnTo>
                    <a:lnTo>
                      <a:pt x="984" y="3283"/>
                    </a:lnTo>
                    <a:lnTo>
                      <a:pt x="925" y="3254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3"/>
                    </a:lnTo>
                    <a:lnTo>
                      <a:pt x="688" y="3129"/>
                    </a:lnTo>
                    <a:lnTo>
                      <a:pt x="631" y="3089"/>
                    </a:lnTo>
                    <a:lnTo>
                      <a:pt x="572" y="3050"/>
                    </a:lnTo>
                    <a:lnTo>
                      <a:pt x="515" y="3010"/>
                    </a:lnTo>
                    <a:lnTo>
                      <a:pt x="458" y="2965"/>
                    </a:lnTo>
                    <a:lnTo>
                      <a:pt x="407" y="2919"/>
                    </a:lnTo>
                    <a:lnTo>
                      <a:pt x="354" y="2871"/>
                    </a:lnTo>
                    <a:lnTo>
                      <a:pt x="308" y="2821"/>
                    </a:lnTo>
                    <a:lnTo>
                      <a:pt x="259" y="2770"/>
                    </a:lnTo>
                    <a:lnTo>
                      <a:pt x="221" y="2713"/>
                    </a:lnTo>
                    <a:lnTo>
                      <a:pt x="179" y="2658"/>
                    </a:lnTo>
                    <a:lnTo>
                      <a:pt x="149" y="2601"/>
                    </a:lnTo>
                    <a:lnTo>
                      <a:pt x="117" y="2539"/>
                    </a:lnTo>
                    <a:lnTo>
                      <a:pt x="96" y="2481"/>
                    </a:lnTo>
                    <a:lnTo>
                      <a:pt x="72" y="2409"/>
                    </a:lnTo>
                    <a:lnTo>
                      <a:pt x="53" y="2338"/>
                    </a:lnTo>
                    <a:lnTo>
                      <a:pt x="35" y="2268"/>
                    </a:lnTo>
                    <a:lnTo>
                      <a:pt x="25" y="2200"/>
                    </a:lnTo>
                    <a:lnTo>
                      <a:pt x="13" y="2131"/>
                    </a:lnTo>
                    <a:lnTo>
                      <a:pt x="5" y="2068"/>
                    </a:lnTo>
                    <a:lnTo>
                      <a:pt x="2" y="2003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2" y="1817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9"/>
                    </a:lnTo>
                    <a:lnTo>
                      <a:pt x="38" y="1581"/>
                    </a:lnTo>
                    <a:lnTo>
                      <a:pt x="53" y="1526"/>
                    </a:lnTo>
                    <a:lnTo>
                      <a:pt x="70" y="1470"/>
                    </a:lnTo>
                    <a:lnTo>
                      <a:pt x="88" y="1416"/>
                    </a:lnTo>
                    <a:lnTo>
                      <a:pt x="109" y="1363"/>
                    </a:lnTo>
                    <a:lnTo>
                      <a:pt x="133" y="1313"/>
                    </a:lnTo>
                    <a:lnTo>
                      <a:pt x="155" y="1260"/>
                    </a:lnTo>
                    <a:lnTo>
                      <a:pt x="179" y="1210"/>
                    </a:lnTo>
                    <a:lnTo>
                      <a:pt x="208" y="1162"/>
                    </a:lnTo>
                    <a:lnTo>
                      <a:pt x="237" y="1114"/>
                    </a:lnTo>
                    <a:lnTo>
                      <a:pt x="269" y="1066"/>
                    </a:lnTo>
                    <a:lnTo>
                      <a:pt x="299" y="1021"/>
                    </a:lnTo>
                    <a:lnTo>
                      <a:pt x="333" y="976"/>
                    </a:lnTo>
                    <a:lnTo>
                      <a:pt x="367" y="934"/>
                    </a:lnTo>
                    <a:lnTo>
                      <a:pt x="403" y="888"/>
                    </a:lnTo>
                    <a:lnTo>
                      <a:pt x="440" y="849"/>
                    </a:lnTo>
                    <a:lnTo>
                      <a:pt x="478" y="809"/>
                    </a:lnTo>
                    <a:lnTo>
                      <a:pt x="518" y="769"/>
                    </a:lnTo>
                    <a:lnTo>
                      <a:pt x="557" y="730"/>
                    </a:lnTo>
                    <a:lnTo>
                      <a:pt x="597" y="694"/>
                    </a:lnTo>
                    <a:lnTo>
                      <a:pt x="640" y="657"/>
                    </a:lnTo>
                    <a:lnTo>
                      <a:pt x="680" y="620"/>
                    </a:lnTo>
                    <a:lnTo>
                      <a:pt x="723" y="586"/>
                    </a:lnTo>
                    <a:lnTo>
                      <a:pt x="767" y="553"/>
                    </a:lnTo>
                    <a:lnTo>
                      <a:pt x="810" y="522"/>
                    </a:lnTo>
                    <a:lnTo>
                      <a:pt x="851" y="491"/>
                    </a:lnTo>
                    <a:lnTo>
                      <a:pt x="898" y="462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6"/>
                    </a:lnTo>
                    <a:lnTo>
                      <a:pt x="1074" y="352"/>
                    </a:lnTo>
                    <a:lnTo>
                      <a:pt x="1116" y="326"/>
                    </a:lnTo>
                    <a:lnTo>
                      <a:pt x="1162" y="302"/>
                    </a:lnTo>
                    <a:lnTo>
                      <a:pt x="1203" y="280"/>
                    </a:lnTo>
                    <a:lnTo>
                      <a:pt x="1249" y="257"/>
                    </a:lnTo>
                    <a:lnTo>
                      <a:pt x="1291" y="236"/>
                    </a:lnTo>
                    <a:lnTo>
                      <a:pt x="1333" y="218"/>
                    </a:lnTo>
                    <a:lnTo>
                      <a:pt x="1373" y="198"/>
                    </a:lnTo>
                    <a:lnTo>
                      <a:pt x="1416" y="178"/>
                    </a:lnTo>
                    <a:lnTo>
                      <a:pt x="1456" y="164"/>
                    </a:lnTo>
                    <a:lnTo>
                      <a:pt x="1495" y="148"/>
                    </a:lnTo>
                    <a:lnTo>
                      <a:pt x="1535" y="129"/>
                    </a:lnTo>
                    <a:lnTo>
                      <a:pt x="1572" y="119"/>
                    </a:lnTo>
                    <a:lnTo>
                      <a:pt x="1610" y="104"/>
                    </a:lnTo>
                    <a:lnTo>
                      <a:pt x="1647" y="93"/>
                    </a:lnTo>
                    <a:lnTo>
                      <a:pt x="1680" y="82"/>
                    </a:lnTo>
                    <a:lnTo>
                      <a:pt x="1711" y="74"/>
                    </a:lnTo>
                    <a:lnTo>
                      <a:pt x="2442" y="0"/>
                    </a:lnTo>
                    <a:lnTo>
                      <a:pt x="2451" y="3"/>
                    </a:lnTo>
                    <a:lnTo>
                      <a:pt x="2473" y="5"/>
                    </a:lnTo>
                    <a:lnTo>
                      <a:pt x="2509" y="8"/>
                    </a:lnTo>
                    <a:lnTo>
                      <a:pt x="2559" y="16"/>
                    </a:lnTo>
                    <a:lnTo>
                      <a:pt x="2613" y="26"/>
                    </a:lnTo>
                    <a:lnTo>
                      <a:pt x="2680" y="31"/>
                    </a:lnTo>
                    <a:lnTo>
                      <a:pt x="2754" y="42"/>
                    </a:lnTo>
                    <a:lnTo>
                      <a:pt x="2833" y="53"/>
                    </a:lnTo>
                    <a:lnTo>
                      <a:pt x="2917" y="66"/>
                    </a:lnTo>
                    <a:lnTo>
                      <a:pt x="3003" y="79"/>
                    </a:lnTo>
                    <a:lnTo>
                      <a:pt x="3090" y="90"/>
                    </a:lnTo>
                    <a:lnTo>
                      <a:pt x="3178" y="104"/>
                    </a:lnTo>
                    <a:lnTo>
                      <a:pt x="3264" y="119"/>
                    </a:lnTo>
                    <a:lnTo>
                      <a:pt x="3345" y="132"/>
                    </a:lnTo>
                    <a:lnTo>
                      <a:pt x="3426" y="148"/>
                    </a:lnTo>
                    <a:lnTo>
                      <a:pt x="3498" y="157"/>
                    </a:lnTo>
                    <a:lnTo>
                      <a:pt x="3561" y="174"/>
                    </a:lnTo>
                    <a:lnTo>
                      <a:pt x="3618" y="186"/>
                    </a:lnTo>
                    <a:lnTo>
                      <a:pt x="3680" y="206"/>
                    </a:lnTo>
                    <a:lnTo>
                      <a:pt x="3748" y="236"/>
                    </a:lnTo>
                    <a:lnTo>
                      <a:pt x="3817" y="280"/>
                    </a:lnTo>
                    <a:lnTo>
                      <a:pt x="3887" y="327"/>
                    </a:lnTo>
                    <a:lnTo>
                      <a:pt x="3958" y="380"/>
                    </a:lnTo>
                    <a:lnTo>
                      <a:pt x="4025" y="441"/>
                    </a:lnTo>
                    <a:lnTo>
                      <a:pt x="4094" y="496"/>
                    </a:lnTo>
                    <a:lnTo>
                      <a:pt x="4156" y="557"/>
                    </a:lnTo>
                    <a:lnTo>
                      <a:pt x="4214" y="612"/>
                    </a:lnTo>
                    <a:lnTo>
                      <a:pt x="4268" y="666"/>
                    </a:lnTo>
                    <a:lnTo>
                      <a:pt x="4311" y="714"/>
                    </a:lnTo>
                    <a:lnTo>
                      <a:pt x="4348" y="753"/>
                    </a:lnTo>
                    <a:lnTo>
                      <a:pt x="4377" y="785"/>
                    </a:lnTo>
                    <a:lnTo>
                      <a:pt x="4394" y="804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64b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22760" y="2492280"/>
                <a:ext cx="1033920" cy="756720"/>
              </a:xfrm>
              <a:custGeom>
                <a:avLst/>
                <a:gdLst/>
                <a:ahLst/>
                <a:rect l="l" t="t" r="r" b="b"/>
                <a:pathLst>
                  <a:path w="4397" h="3244">
                    <a:moveTo>
                      <a:pt x="1067" y="310"/>
                    </a:moveTo>
                    <a:lnTo>
                      <a:pt x="1062" y="310"/>
                    </a:lnTo>
                    <a:lnTo>
                      <a:pt x="1047" y="319"/>
                    </a:lnTo>
                    <a:lnTo>
                      <a:pt x="1029" y="330"/>
                    </a:lnTo>
                    <a:lnTo>
                      <a:pt x="1000" y="346"/>
                    </a:lnTo>
                    <a:lnTo>
                      <a:pt x="968" y="367"/>
                    </a:lnTo>
                    <a:lnTo>
                      <a:pt x="930" y="390"/>
                    </a:lnTo>
                    <a:lnTo>
                      <a:pt x="885" y="420"/>
                    </a:lnTo>
                    <a:lnTo>
                      <a:pt x="838" y="452"/>
                    </a:lnTo>
                    <a:lnTo>
                      <a:pt x="787" y="491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3"/>
                    </a:lnTo>
                    <a:lnTo>
                      <a:pt x="441" y="792"/>
                    </a:lnTo>
                    <a:lnTo>
                      <a:pt x="382" y="855"/>
                    </a:lnTo>
                    <a:lnTo>
                      <a:pt x="328" y="923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8"/>
                    </a:lnTo>
                    <a:lnTo>
                      <a:pt x="22" y="1611"/>
                    </a:lnTo>
                    <a:lnTo>
                      <a:pt x="13" y="1670"/>
                    </a:lnTo>
                    <a:lnTo>
                      <a:pt x="5" y="1733"/>
                    </a:lnTo>
                    <a:lnTo>
                      <a:pt x="2" y="1791"/>
                    </a:lnTo>
                    <a:lnTo>
                      <a:pt x="0" y="1853"/>
                    </a:lnTo>
                    <a:lnTo>
                      <a:pt x="2" y="1914"/>
                    </a:lnTo>
                    <a:lnTo>
                      <a:pt x="5" y="1972"/>
                    </a:lnTo>
                    <a:lnTo>
                      <a:pt x="13" y="2031"/>
                    </a:lnTo>
                    <a:lnTo>
                      <a:pt x="22" y="2091"/>
                    </a:lnTo>
                    <a:lnTo>
                      <a:pt x="34" y="2150"/>
                    </a:lnTo>
                    <a:lnTo>
                      <a:pt x="50" y="2209"/>
                    </a:lnTo>
                    <a:lnTo>
                      <a:pt x="67" y="2269"/>
                    </a:lnTo>
                    <a:lnTo>
                      <a:pt x="91" y="2325"/>
                    </a:lnTo>
                    <a:lnTo>
                      <a:pt x="116" y="2384"/>
                    </a:lnTo>
                    <a:lnTo>
                      <a:pt x="143" y="2440"/>
                    </a:lnTo>
                    <a:lnTo>
                      <a:pt x="171" y="2497"/>
                    </a:lnTo>
                    <a:lnTo>
                      <a:pt x="207" y="2554"/>
                    </a:lnTo>
                    <a:lnTo>
                      <a:pt x="242" y="2609"/>
                    </a:lnTo>
                    <a:lnTo>
                      <a:pt x="286" y="2666"/>
                    </a:lnTo>
                    <a:lnTo>
                      <a:pt x="331" y="2723"/>
                    </a:lnTo>
                    <a:lnTo>
                      <a:pt x="382" y="2779"/>
                    </a:lnTo>
                    <a:lnTo>
                      <a:pt x="432" y="2827"/>
                    </a:lnTo>
                    <a:lnTo>
                      <a:pt x="490" y="2874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3"/>
                    </a:lnTo>
                    <a:lnTo>
                      <a:pt x="730" y="3026"/>
                    </a:lnTo>
                    <a:lnTo>
                      <a:pt x="792" y="3058"/>
                    </a:lnTo>
                    <a:lnTo>
                      <a:pt x="855" y="3084"/>
                    </a:lnTo>
                    <a:lnTo>
                      <a:pt x="920" y="3108"/>
                    </a:lnTo>
                    <a:lnTo>
                      <a:pt x="983" y="3132"/>
                    </a:lnTo>
                    <a:lnTo>
                      <a:pt x="1047" y="3151"/>
                    </a:lnTo>
                    <a:lnTo>
                      <a:pt x="1107" y="3169"/>
                    </a:lnTo>
                    <a:lnTo>
                      <a:pt x="1170" y="3182"/>
                    </a:lnTo>
                    <a:lnTo>
                      <a:pt x="1232" y="3196"/>
                    </a:lnTo>
                    <a:lnTo>
                      <a:pt x="1290" y="3207"/>
                    </a:lnTo>
                    <a:lnTo>
                      <a:pt x="1346" y="3216"/>
                    </a:lnTo>
                    <a:lnTo>
                      <a:pt x="1399" y="3224"/>
                    </a:lnTo>
                    <a:lnTo>
                      <a:pt x="1450" y="3231"/>
                    </a:lnTo>
                    <a:lnTo>
                      <a:pt x="1498" y="3236"/>
                    </a:lnTo>
                    <a:lnTo>
                      <a:pt x="1544" y="3239"/>
                    </a:lnTo>
                    <a:lnTo>
                      <a:pt x="1584" y="3241"/>
                    </a:lnTo>
                    <a:lnTo>
                      <a:pt x="1623" y="3244"/>
                    </a:lnTo>
                    <a:lnTo>
                      <a:pt x="1656" y="3244"/>
                    </a:lnTo>
                    <a:lnTo>
                      <a:pt x="1685" y="3244"/>
                    </a:lnTo>
                    <a:lnTo>
                      <a:pt x="1719" y="3244"/>
                    </a:lnTo>
                    <a:lnTo>
                      <a:pt x="1759" y="3244"/>
                    </a:lnTo>
                    <a:lnTo>
                      <a:pt x="1802" y="3241"/>
                    </a:lnTo>
                    <a:lnTo>
                      <a:pt x="1847" y="3241"/>
                    </a:lnTo>
                    <a:lnTo>
                      <a:pt x="1898" y="3241"/>
                    </a:lnTo>
                    <a:lnTo>
                      <a:pt x="1951" y="3236"/>
                    </a:lnTo>
                    <a:lnTo>
                      <a:pt x="2008" y="3233"/>
                    </a:lnTo>
                    <a:lnTo>
                      <a:pt x="2067" y="3231"/>
                    </a:lnTo>
                    <a:lnTo>
                      <a:pt x="2128" y="3224"/>
                    </a:lnTo>
                    <a:lnTo>
                      <a:pt x="2192" y="3216"/>
                    </a:lnTo>
                    <a:lnTo>
                      <a:pt x="2258" y="3211"/>
                    </a:lnTo>
                    <a:lnTo>
                      <a:pt x="2327" y="3202"/>
                    </a:lnTo>
                    <a:lnTo>
                      <a:pt x="2394" y="3191"/>
                    </a:lnTo>
                    <a:lnTo>
                      <a:pt x="2464" y="3177"/>
                    </a:lnTo>
                    <a:lnTo>
                      <a:pt x="2535" y="3162"/>
                    </a:lnTo>
                    <a:lnTo>
                      <a:pt x="2604" y="3145"/>
                    </a:lnTo>
                    <a:lnTo>
                      <a:pt x="2677" y="3129"/>
                    </a:lnTo>
                    <a:lnTo>
                      <a:pt x="2751" y="3106"/>
                    </a:lnTo>
                    <a:lnTo>
                      <a:pt x="2821" y="3087"/>
                    </a:lnTo>
                    <a:lnTo>
                      <a:pt x="2895" y="3058"/>
                    </a:lnTo>
                    <a:lnTo>
                      <a:pt x="2967" y="3033"/>
                    </a:lnTo>
                    <a:lnTo>
                      <a:pt x="3037" y="3002"/>
                    </a:lnTo>
                    <a:lnTo>
                      <a:pt x="3108" y="2968"/>
                    </a:lnTo>
                    <a:lnTo>
                      <a:pt x="3177" y="2934"/>
                    </a:lnTo>
                    <a:lnTo>
                      <a:pt x="3244" y="2894"/>
                    </a:lnTo>
                    <a:lnTo>
                      <a:pt x="3306" y="2856"/>
                    </a:lnTo>
                    <a:lnTo>
                      <a:pt x="3372" y="2811"/>
                    </a:lnTo>
                    <a:lnTo>
                      <a:pt x="3399" y="2787"/>
                    </a:lnTo>
                    <a:lnTo>
                      <a:pt x="3431" y="2761"/>
                    </a:lnTo>
                    <a:lnTo>
                      <a:pt x="3465" y="2740"/>
                    </a:lnTo>
                    <a:lnTo>
                      <a:pt x="3498" y="2711"/>
                    </a:lnTo>
                    <a:lnTo>
                      <a:pt x="3535" y="2683"/>
                    </a:lnTo>
                    <a:lnTo>
                      <a:pt x="3572" y="2657"/>
                    </a:lnTo>
                    <a:lnTo>
                      <a:pt x="3610" y="2625"/>
                    </a:lnTo>
                    <a:lnTo>
                      <a:pt x="3650" y="2593"/>
                    </a:lnTo>
                    <a:lnTo>
                      <a:pt x="3689" y="2559"/>
                    </a:lnTo>
                    <a:lnTo>
                      <a:pt x="3729" y="2525"/>
                    </a:lnTo>
                    <a:lnTo>
                      <a:pt x="3767" y="2488"/>
                    </a:lnTo>
                    <a:lnTo>
                      <a:pt x="3812" y="2448"/>
                    </a:lnTo>
                    <a:lnTo>
                      <a:pt x="3850" y="2410"/>
                    </a:lnTo>
                    <a:lnTo>
                      <a:pt x="3890" y="2368"/>
                    </a:lnTo>
                    <a:lnTo>
                      <a:pt x="3929" y="2325"/>
                    </a:lnTo>
                    <a:lnTo>
                      <a:pt x="3970" y="2279"/>
                    </a:lnTo>
                    <a:lnTo>
                      <a:pt x="4009" y="2233"/>
                    </a:lnTo>
                    <a:lnTo>
                      <a:pt x="4049" y="2184"/>
                    </a:lnTo>
                    <a:lnTo>
                      <a:pt x="4086" y="2135"/>
                    </a:lnTo>
                    <a:lnTo>
                      <a:pt x="4119" y="2083"/>
                    </a:lnTo>
                    <a:lnTo>
                      <a:pt x="4156" y="2029"/>
                    </a:lnTo>
                    <a:lnTo>
                      <a:pt x="4186" y="1972"/>
                    </a:lnTo>
                    <a:lnTo>
                      <a:pt x="4218" y="1916"/>
                    </a:lnTo>
                    <a:lnTo>
                      <a:pt x="4247" y="1856"/>
                    </a:lnTo>
                    <a:lnTo>
                      <a:pt x="4276" y="1795"/>
                    </a:lnTo>
                    <a:lnTo>
                      <a:pt x="4301" y="1733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32"/>
                    </a:lnTo>
                    <a:lnTo>
                      <a:pt x="4375" y="1460"/>
                    </a:lnTo>
                    <a:lnTo>
                      <a:pt x="4386" y="1386"/>
                    </a:lnTo>
                    <a:lnTo>
                      <a:pt x="4393" y="1312"/>
                    </a:lnTo>
                    <a:lnTo>
                      <a:pt x="4397" y="1237"/>
                    </a:lnTo>
                    <a:lnTo>
                      <a:pt x="4397" y="1156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53"/>
                    </a:lnTo>
                    <a:lnTo>
                      <a:pt x="4351" y="764"/>
                    </a:lnTo>
                    <a:lnTo>
                      <a:pt x="4332" y="683"/>
                    </a:lnTo>
                    <a:lnTo>
                      <a:pt x="4306" y="606"/>
                    </a:lnTo>
                    <a:lnTo>
                      <a:pt x="4278" y="536"/>
                    </a:lnTo>
                    <a:lnTo>
                      <a:pt x="4247" y="470"/>
                    </a:lnTo>
                    <a:lnTo>
                      <a:pt x="4214" y="412"/>
                    </a:lnTo>
                    <a:lnTo>
                      <a:pt x="4177" y="362"/>
                    </a:lnTo>
                    <a:lnTo>
                      <a:pt x="4140" y="310"/>
                    </a:lnTo>
                    <a:lnTo>
                      <a:pt x="4100" y="268"/>
                    </a:lnTo>
                    <a:lnTo>
                      <a:pt x="4060" y="229"/>
                    </a:lnTo>
                    <a:lnTo>
                      <a:pt x="4020" y="192"/>
                    </a:lnTo>
                    <a:lnTo>
                      <a:pt x="3981" y="160"/>
                    </a:lnTo>
                    <a:lnTo>
                      <a:pt x="3938" y="132"/>
                    </a:lnTo>
                    <a:lnTo>
                      <a:pt x="3900" y="107"/>
                    </a:lnTo>
                    <a:lnTo>
                      <a:pt x="3858" y="85"/>
                    </a:lnTo>
                    <a:lnTo>
                      <a:pt x="3820" y="69"/>
                    </a:lnTo>
                    <a:lnTo>
                      <a:pt x="3783" y="53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19"/>
                    </a:lnTo>
                    <a:lnTo>
                      <a:pt x="3650" y="14"/>
                    </a:lnTo>
                    <a:lnTo>
                      <a:pt x="3621" y="8"/>
                    </a:lnTo>
                    <a:lnTo>
                      <a:pt x="3596" y="6"/>
                    </a:lnTo>
                    <a:lnTo>
                      <a:pt x="3575" y="3"/>
                    </a:lnTo>
                    <a:lnTo>
                      <a:pt x="3561" y="3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4"/>
                    </a:lnTo>
                    <a:lnTo>
                      <a:pt x="2623" y="144"/>
                    </a:lnTo>
                    <a:lnTo>
                      <a:pt x="2655" y="144"/>
                    </a:lnTo>
                    <a:lnTo>
                      <a:pt x="2700" y="144"/>
                    </a:lnTo>
                    <a:lnTo>
                      <a:pt x="2759" y="144"/>
                    </a:lnTo>
                    <a:lnTo>
                      <a:pt x="2829" y="151"/>
                    </a:lnTo>
                    <a:lnTo>
                      <a:pt x="2909" y="155"/>
                    </a:lnTo>
                    <a:lnTo>
                      <a:pt x="2995" y="164"/>
                    </a:lnTo>
                    <a:lnTo>
                      <a:pt x="3079" y="176"/>
                    </a:lnTo>
                    <a:lnTo>
                      <a:pt x="3167" y="194"/>
                    </a:lnTo>
                    <a:lnTo>
                      <a:pt x="3256" y="218"/>
                    </a:lnTo>
                    <a:lnTo>
                      <a:pt x="3335" y="248"/>
                    </a:lnTo>
                    <a:lnTo>
                      <a:pt x="3405" y="282"/>
                    </a:lnTo>
                    <a:lnTo>
                      <a:pt x="3442" y="305"/>
                    </a:lnTo>
                    <a:lnTo>
                      <a:pt x="3482" y="330"/>
                    </a:lnTo>
                    <a:lnTo>
                      <a:pt x="3525" y="358"/>
                    </a:lnTo>
                    <a:lnTo>
                      <a:pt x="3569" y="387"/>
                    </a:lnTo>
                    <a:lnTo>
                      <a:pt x="3615" y="420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2"/>
                    </a:lnTo>
                    <a:lnTo>
                      <a:pt x="3803" y="576"/>
                    </a:lnTo>
                    <a:lnTo>
                      <a:pt x="3847" y="623"/>
                    </a:lnTo>
                    <a:lnTo>
                      <a:pt x="3890" y="672"/>
                    </a:lnTo>
                    <a:lnTo>
                      <a:pt x="3929" y="722"/>
                    </a:lnTo>
                    <a:lnTo>
                      <a:pt x="3967" y="776"/>
                    </a:lnTo>
                    <a:lnTo>
                      <a:pt x="3999" y="836"/>
                    </a:lnTo>
                    <a:lnTo>
                      <a:pt x="4028" y="895"/>
                    </a:lnTo>
                    <a:lnTo>
                      <a:pt x="4052" y="960"/>
                    </a:lnTo>
                    <a:lnTo>
                      <a:pt x="4071" y="1024"/>
                    </a:lnTo>
                    <a:lnTo>
                      <a:pt x="4086" y="1092"/>
                    </a:lnTo>
                    <a:lnTo>
                      <a:pt x="4089" y="1163"/>
                    </a:lnTo>
                    <a:lnTo>
                      <a:pt x="4089" y="1238"/>
                    </a:lnTo>
                    <a:lnTo>
                      <a:pt x="4086" y="1315"/>
                    </a:lnTo>
                    <a:lnTo>
                      <a:pt x="4077" y="1386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3"/>
                    </a:lnTo>
                    <a:lnTo>
                      <a:pt x="4028" y="1659"/>
                    </a:lnTo>
                    <a:lnTo>
                      <a:pt x="4012" y="1721"/>
                    </a:lnTo>
                    <a:lnTo>
                      <a:pt x="3991" y="1783"/>
                    </a:lnTo>
                    <a:lnTo>
                      <a:pt x="3975" y="1845"/>
                    </a:lnTo>
                    <a:lnTo>
                      <a:pt x="3953" y="1901"/>
                    </a:lnTo>
                    <a:lnTo>
                      <a:pt x="3929" y="1961"/>
                    </a:lnTo>
                    <a:lnTo>
                      <a:pt x="3908" y="2014"/>
                    </a:lnTo>
                    <a:lnTo>
                      <a:pt x="3882" y="2068"/>
                    </a:lnTo>
                    <a:lnTo>
                      <a:pt x="3853" y="2118"/>
                    </a:lnTo>
                    <a:lnTo>
                      <a:pt x="3825" y="2170"/>
                    </a:lnTo>
                    <a:lnTo>
                      <a:pt x="3793" y="2217"/>
                    </a:lnTo>
                    <a:lnTo>
                      <a:pt x="3762" y="2265"/>
                    </a:lnTo>
                    <a:lnTo>
                      <a:pt x="3730" y="2311"/>
                    </a:lnTo>
                    <a:lnTo>
                      <a:pt x="3697" y="2352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4"/>
                    </a:lnTo>
                    <a:lnTo>
                      <a:pt x="3551" y="2514"/>
                    </a:lnTo>
                    <a:lnTo>
                      <a:pt x="3510" y="2551"/>
                    </a:lnTo>
                    <a:lnTo>
                      <a:pt x="3471" y="2583"/>
                    </a:lnTo>
                    <a:lnTo>
                      <a:pt x="3431" y="2617"/>
                    </a:lnTo>
                    <a:lnTo>
                      <a:pt x="3386" y="2649"/>
                    </a:lnTo>
                    <a:lnTo>
                      <a:pt x="3343" y="2679"/>
                    </a:lnTo>
                    <a:lnTo>
                      <a:pt x="3301" y="2711"/>
                    </a:lnTo>
                    <a:lnTo>
                      <a:pt x="3256" y="2740"/>
                    </a:lnTo>
                    <a:lnTo>
                      <a:pt x="3212" y="2765"/>
                    </a:lnTo>
                    <a:lnTo>
                      <a:pt x="3165" y="2790"/>
                    </a:lnTo>
                    <a:lnTo>
                      <a:pt x="3119" y="2816"/>
                    </a:lnTo>
                    <a:lnTo>
                      <a:pt x="3071" y="2838"/>
                    </a:lnTo>
                    <a:lnTo>
                      <a:pt x="3023" y="2857"/>
                    </a:lnTo>
                    <a:lnTo>
                      <a:pt x="2975" y="2880"/>
                    </a:lnTo>
                    <a:lnTo>
                      <a:pt x="2926" y="2898"/>
                    </a:lnTo>
                    <a:lnTo>
                      <a:pt x="2879" y="2917"/>
                    </a:lnTo>
                    <a:lnTo>
                      <a:pt x="2826" y="2934"/>
                    </a:lnTo>
                    <a:lnTo>
                      <a:pt x="2780" y="2951"/>
                    </a:lnTo>
                    <a:lnTo>
                      <a:pt x="2729" y="2965"/>
                    </a:lnTo>
                    <a:lnTo>
                      <a:pt x="2677" y="2979"/>
                    </a:lnTo>
                    <a:lnTo>
                      <a:pt x="2626" y="2993"/>
                    </a:lnTo>
                    <a:lnTo>
                      <a:pt x="2576" y="3005"/>
                    </a:lnTo>
                    <a:lnTo>
                      <a:pt x="2524" y="3013"/>
                    </a:lnTo>
                    <a:lnTo>
                      <a:pt x="2473" y="3025"/>
                    </a:lnTo>
                    <a:lnTo>
                      <a:pt x="2423" y="3033"/>
                    </a:lnTo>
                    <a:lnTo>
                      <a:pt x="2370" y="3042"/>
                    </a:lnTo>
                    <a:lnTo>
                      <a:pt x="2320" y="3047"/>
                    </a:lnTo>
                    <a:lnTo>
                      <a:pt x="2269" y="3053"/>
                    </a:lnTo>
                    <a:lnTo>
                      <a:pt x="2219" y="3058"/>
                    </a:lnTo>
                    <a:lnTo>
                      <a:pt x="2167" y="3063"/>
                    </a:lnTo>
                    <a:lnTo>
                      <a:pt x="2116" y="3066"/>
                    </a:lnTo>
                    <a:lnTo>
                      <a:pt x="2066" y="3070"/>
                    </a:lnTo>
                    <a:lnTo>
                      <a:pt x="2013" y="3071"/>
                    </a:lnTo>
                    <a:lnTo>
                      <a:pt x="1967" y="3071"/>
                    </a:lnTo>
                    <a:lnTo>
                      <a:pt x="1914" y="3071"/>
                    </a:lnTo>
                    <a:lnTo>
                      <a:pt x="1867" y="3071"/>
                    </a:lnTo>
                    <a:lnTo>
                      <a:pt x="1816" y="3071"/>
                    </a:lnTo>
                    <a:lnTo>
                      <a:pt x="1768" y="3070"/>
                    </a:lnTo>
                    <a:lnTo>
                      <a:pt x="1719" y="3066"/>
                    </a:lnTo>
                    <a:lnTo>
                      <a:pt x="1672" y="3063"/>
                    </a:lnTo>
                    <a:lnTo>
                      <a:pt x="1626" y="3061"/>
                    </a:lnTo>
                    <a:lnTo>
                      <a:pt x="1581" y="3055"/>
                    </a:lnTo>
                    <a:lnTo>
                      <a:pt x="1535" y="3053"/>
                    </a:lnTo>
                    <a:lnTo>
                      <a:pt x="1490" y="3047"/>
                    </a:lnTo>
                    <a:lnTo>
                      <a:pt x="1445" y="3039"/>
                    </a:lnTo>
                    <a:lnTo>
                      <a:pt x="1402" y="3033"/>
                    </a:lnTo>
                    <a:lnTo>
                      <a:pt x="1360" y="3026"/>
                    </a:lnTo>
                    <a:lnTo>
                      <a:pt x="1320" y="3018"/>
                    </a:lnTo>
                    <a:lnTo>
                      <a:pt x="1279" y="3013"/>
                    </a:lnTo>
                    <a:lnTo>
                      <a:pt x="1240" y="3005"/>
                    </a:lnTo>
                    <a:lnTo>
                      <a:pt x="1200" y="2993"/>
                    </a:lnTo>
                    <a:lnTo>
                      <a:pt x="1163" y="2984"/>
                    </a:lnTo>
                    <a:lnTo>
                      <a:pt x="1125" y="2976"/>
                    </a:lnTo>
                    <a:lnTo>
                      <a:pt x="1091" y="2965"/>
                    </a:lnTo>
                    <a:lnTo>
                      <a:pt x="1056" y="2956"/>
                    </a:lnTo>
                    <a:lnTo>
                      <a:pt x="1021" y="2946"/>
                    </a:lnTo>
                    <a:lnTo>
                      <a:pt x="992" y="2934"/>
                    </a:lnTo>
                    <a:lnTo>
                      <a:pt x="960" y="2922"/>
                    </a:lnTo>
                    <a:lnTo>
                      <a:pt x="931" y="2911"/>
                    </a:lnTo>
                    <a:lnTo>
                      <a:pt x="906" y="2901"/>
                    </a:lnTo>
                    <a:lnTo>
                      <a:pt x="877" y="2889"/>
                    </a:lnTo>
                    <a:lnTo>
                      <a:pt x="855" y="2877"/>
                    </a:lnTo>
                    <a:lnTo>
                      <a:pt x="830" y="2866"/>
                    </a:lnTo>
                    <a:lnTo>
                      <a:pt x="806" y="2853"/>
                    </a:lnTo>
                    <a:lnTo>
                      <a:pt x="727" y="2802"/>
                    </a:lnTo>
                    <a:lnTo>
                      <a:pt x="651" y="2748"/>
                    </a:lnTo>
                    <a:lnTo>
                      <a:pt x="581" y="2691"/>
                    </a:lnTo>
                    <a:lnTo>
                      <a:pt x="520" y="2638"/>
                    </a:lnTo>
                    <a:lnTo>
                      <a:pt x="464" y="2579"/>
                    </a:lnTo>
                    <a:lnTo>
                      <a:pt x="413" y="2519"/>
                    </a:lnTo>
                    <a:lnTo>
                      <a:pt x="367" y="2456"/>
                    </a:lnTo>
                    <a:lnTo>
                      <a:pt x="328" y="2394"/>
                    </a:lnTo>
                    <a:lnTo>
                      <a:pt x="294" y="2336"/>
                    </a:lnTo>
                    <a:lnTo>
                      <a:pt x="263" y="2274"/>
                    </a:lnTo>
                    <a:lnTo>
                      <a:pt x="240" y="2209"/>
                    </a:lnTo>
                    <a:lnTo>
                      <a:pt x="217" y="2147"/>
                    </a:lnTo>
                    <a:lnTo>
                      <a:pt x="200" y="2084"/>
                    </a:lnTo>
                    <a:lnTo>
                      <a:pt x="187" y="2026"/>
                    </a:lnTo>
                    <a:lnTo>
                      <a:pt x="175" y="1964"/>
                    </a:lnTo>
                    <a:lnTo>
                      <a:pt x="170" y="1903"/>
                    </a:lnTo>
                    <a:lnTo>
                      <a:pt x="163" y="1848"/>
                    </a:lnTo>
                    <a:lnTo>
                      <a:pt x="163" y="1787"/>
                    </a:lnTo>
                    <a:lnTo>
                      <a:pt x="163" y="1734"/>
                    </a:lnTo>
                    <a:lnTo>
                      <a:pt x="166" y="1681"/>
                    </a:lnTo>
                    <a:lnTo>
                      <a:pt x="170" y="1630"/>
                    </a:lnTo>
                    <a:lnTo>
                      <a:pt x="175" y="1583"/>
                    </a:lnTo>
                    <a:lnTo>
                      <a:pt x="180" y="1535"/>
                    </a:lnTo>
                    <a:lnTo>
                      <a:pt x="189" y="1493"/>
                    </a:lnTo>
                    <a:lnTo>
                      <a:pt x="197" y="1452"/>
                    </a:lnTo>
                    <a:lnTo>
                      <a:pt x="207" y="1416"/>
                    </a:lnTo>
                    <a:lnTo>
                      <a:pt x="216" y="1383"/>
                    </a:lnTo>
                    <a:lnTo>
                      <a:pt x="224" y="1354"/>
                    </a:lnTo>
                    <a:lnTo>
                      <a:pt x="229" y="1325"/>
                    </a:lnTo>
                    <a:lnTo>
                      <a:pt x="234" y="1307"/>
                    </a:lnTo>
                    <a:lnTo>
                      <a:pt x="242" y="1290"/>
                    </a:lnTo>
                    <a:lnTo>
                      <a:pt x="245" y="1275"/>
                    </a:lnTo>
                    <a:lnTo>
                      <a:pt x="249" y="1267"/>
                    </a:lnTo>
                    <a:lnTo>
                      <a:pt x="251" y="1267"/>
                    </a:lnTo>
                    <a:lnTo>
                      <a:pt x="286" y="1184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900"/>
                    </a:lnTo>
                    <a:lnTo>
                      <a:pt x="518" y="836"/>
                    </a:lnTo>
                    <a:lnTo>
                      <a:pt x="573" y="776"/>
                    </a:lnTo>
                    <a:lnTo>
                      <a:pt x="627" y="717"/>
                    </a:lnTo>
                    <a:lnTo>
                      <a:pt x="685" y="664"/>
                    </a:lnTo>
                    <a:lnTo>
                      <a:pt x="744" y="610"/>
                    </a:lnTo>
                    <a:lnTo>
                      <a:pt x="806" y="564"/>
                    </a:lnTo>
                    <a:lnTo>
                      <a:pt x="869" y="516"/>
                    </a:lnTo>
                    <a:lnTo>
                      <a:pt x="930" y="470"/>
                    </a:lnTo>
                    <a:lnTo>
                      <a:pt x="994" y="432"/>
                    </a:lnTo>
                    <a:lnTo>
                      <a:pt x="1056" y="391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6"/>
                    </a:lnTo>
                    <a:lnTo>
                      <a:pt x="1360" y="239"/>
                    </a:lnTo>
                    <a:lnTo>
                      <a:pt x="1419" y="215"/>
                    </a:lnTo>
                    <a:lnTo>
                      <a:pt x="1473" y="192"/>
                    </a:lnTo>
                    <a:lnTo>
                      <a:pt x="1523" y="173"/>
                    </a:lnTo>
                    <a:lnTo>
                      <a:pt x="1576" y="155"/>
                    </a:lnTo>
                    <a:lnTo>
                      <a:pt x="1623" y="139"/>
                    </a:lnTo>
                    <a:lnTo>
                      <a:pt x="1668" y="123"/>
                    </a:lnTo>
                    <a:lnTo>
                      <a:pt x="1709" y="114"/>
                    </a:lnTo>
                    <a:lnTo>
                      <a:pt x="1746" y="102"/>
                    </a:lnTo>
                    <a:lnTo>
                      <a:pt x="1779" y="93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3"/>
                    </a:lnTo>
                    <a:lnTo>
                      <a:pt x="1864" y="70"/>
                    </a:lnTo>
                    <a:lnTo>
                      <a:pt x="1872" y="70"/>
                    </a:lnTo>
                    <a:lnTo>
                      <a:pt x="1875" y="69"/>
                    </a:lnTo>
                    <a:lnTo>
                      <a:pt x="1067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22760" y="3562560"/>
                <a:ext cx="1033920" cy="754920"/>
              </a:xfrm>
              <a:custGeom>
                <a:avLst/>
                <a:gdLst/>
                <a:ahLst/>
                <a:rect l="l" t="t" r="r" b="b"/>
                <a:pathLst>
                  <a:path w="4397" h="3241">
                    <a:moveTo>
                      <a:pt x="1067" y="308"/>
                    </a:moveTo>
                    <a:lnTo>
                      <a:pt x="1062" y="310"/>
                    </a:lnTo>
                    <a:lnTo>
                      <a:pt x="1047" y="316"/>
                    </a:lnTo>
                    <a:lnTo>
                      <a:pt x="1029" y="326"/>
                    </a:lnTo>
                    <a:lnTo>
                      <a:pt x="1000" y="345"/>
                    </a:lnTo>
                    <a:lnTo>
                      <a:pt x="968" y="363"/>
                    </a:lnTo>
                    <a:lnTo>
                      <a:pt x="930" y="389"/>
                    </a:lnTo>
                    <a:lnTo>
                      <a:pt x="885" y="421"/>
                    </a:lnTo>
                    <a:lnTo>
                      <a:pt x="838" y="453"/>
                    </a:lnTo>
                    <a:lnTo>
                      <a:pt x="787" y="488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0"/>
                    </a:lnTo>
                    <a:lnTo>
                      <a:pt x="441" y="789"/>
                    </a:lnTo>
                    <a:lnTo>
                      <a:pt x="382" y="854"/>
                    </a:lnTo>
                    <a:lnTo>
                      <a:pt x="328" y="920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9"/>
                    </a:lnTo>
                    <a:lnTo>
                      <a:pt x="22" y="1608"/>
                    </a:lnTo>
                    <a:lnTo>
                      <a:pt x="13" y="1671"/>
                    </a:lnTo>
                    <a:lnTo>
                      <a:pt x="5" y="1730"/>
                    </a:lnTo>
                    <a:lnTo>
                      <a:pt x="2" y="1791"/>
                    </a:lnTo>
                    <a:lnTo>
                      <a:pt x="0" y="1850"/>
                    </a:lnTo>
                    <a:lnTo>
                      <a:pt x="2" y="1910"/>
                    </a:lnTo>
                    <a:lnTo>
                      <a:pt x="5" y="1969"/>
                    </a:lnTo>
                    <a:lnTo>
                      <a:pt x="13" y="2031"/>
                    </a:lnTo>
                    <a:lnTo>
                      <a:pt x="22" y="2090"/>
                    </a:lnTo>
                    <a:lnTo>
                      <a:pt x="34" y="2147"/>
                    </a:lnTo>
                    <a:lnTo>
                      <a:pt x="50" y="2205"/>
                    </a:lnTo>
                    <a:lnTo>
                      <a:pt x="67" y="2266"/>
                    </a:lnTo>
                    <a:lnTo>
                      <a:pt x="91" y="2324"/>
                    </a:lnTo>
                    <a:lnTo>
                      <a:pt x="116" y="2381"/>
                    </a:lnTo>
                    <a:lnTo>
                      <a:pt x="143" y="2436"/>
                    </a:lnTo>
                    <a:lnTo>
                      <a:pt x="171" y="2494"/>
                    </a:lnTo>
                    <a:lnTo>
                      <a:pt x="207" y="2552"/>
                    </a:lnTo>
                    <a:lnTo>
                      <a:pt x="242" y="2606"/>
                    </a:lnTo>
                    <a:lnTo>
                      <a:pt x="286" y="2663"/>
                    </a:lnTo>
                    <a:lnTo>
                      <a:pt x="331" y="2722"/>
                    </a:lnTo>
                    <a:lnTo>
                      <a:pt x="382" y="2775"/>
                    </a:lnTo>
                    <a:lnTo>
                      <a:pt x="432" y="2824"/>
                    </a:lnTo>
                    <a:lnTo>
                      <a:pt x="490" y="2872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0"/>
                    </a:lnTo>
                    <a:lnTo>
                      <a:pt x="730" y="3025"/>
                    </a:lnTo>
                    <a:lnTo>
                      <a:pt x="792" y="3055"/>
                    </a:lnTo>
                    <a:lnTo>
                      <a:pt x="855" y="3080"/>
                    </a:lnTo>
                    <a:lnTo>
                      <a:pt x="920" y="3105"/>
                    </a:lnTo>
                    <a:lnTo>
                      <a:pt x="983" y="3129"/>
                    </a:lnTo>
                    <a:lnTo>
                      <a:pt x="1047" y="3149"/>
                    </a:lnTo>
                    <a:lnTo>
                      <a:pt x="1107" y="3166"/>
                    </a:lnTo>
                    <a:lnTo>
                      <a:pt x="1170" y="3179"/>
                    </a:lnTo>
                    <a:lnTo>
                      <a:pt x="1232" y="3194"/>
                    </a:lnTo>
                    <a:lnTo>
                      <a:pt x="1290" y="3204"/>
                    </a:lnTo>
                    <a:lnTo>
                      <a:pt x="1346" y="3216"/>
                    </a:lnTo>
                    <a:lnTo>
                      <a:pt x="1399" y="3221"/>
                    </a:lnTo>
                    <a:lnTo>
                      <a:pt x="1450" y="3227"/>
                    </a:lnTo>
                    <a:lnTo>
                      <a:pt x="1498" y="3232"/>
                    </a:lnTo>
                    <a:lnTo>
                      <a:pt x="1544" y="3235"/>
                    </a:lnTo>
                    <a:lnTo>
                      <a:pt x="1584" y="3240"/>
                    </a:lnTo>
                    <a:lnTo>
                      <a:pt x="1623" y="3240"/>
                    </a:lnTo>
                    <a:lnTo>
                      <a:pt x="1656" y="3241"/>
                    </a:lnTo>
                    <a:lnTo>
                      <a:pt x="1685" y="3241"/>
                    </a:lnTo>
                    <a:lnTo>
                      <a:pt x="1719" y="3241"/>
                    </a:lnTo>
                    <a:lnTo>
                      <a:pt x="1759" y="3241"/>
                    </a:lnTo>
                    <a:lnTo>
                      <a:pt x="1802" y="3240"/>
                    </a:lnTo>
                    <a:lnTo>
                      <a:pt x="1847" y="3240"/>
                    </a:lnTo>
                    <a:lnTo>
                      <a:pt x="1898" y="3235"/>
                    </a:lnTo>
                    <a:lnTo>
                      <a:pt x="1951" y="3235"/>
                    </a:lnTo>
                    <a:lnTo>
                      <a:pt x="2008" y="3232"/>
                    </a:lnTo>
                    <a:lnTo>
                      <a:pt x="2067" y="3227"/>
                    </a:lnTo>
                    <a:lnTo>
                      <a:pt x="2128" y="3221"/>
                    </a:lnTo>
                    <a:lnTo>
                      <a:pt x="2192" y="3216"/>
                    </a:lnTo>
                    <a:lnTo>
                      <a:pt x="2258" y="3208"/>
                    </a:lnTo>
                    <a:lnTo>
                      <a:pt x="2327" y="3200"/>
                    </a:lnTo>
                    <a:lnTo>
                      <a:pt x="2394" y="3187"/>
                    </a:lnTo>
                    <a:lnTo>
                      <a:pt x="2464" y="3174"/>
                    </a:lnTo>
                    <a:lnTo>
                      <a:pt x="2535" y="3158"/>
                    </a:lnTo>
                    <a:lnTo>
                      <a:pt x="2604" y="3145"/>
                    </a:lnTo>
                    <a:lnTo>
                      <a:pt x="2677" y="3126"/>
                    </a:lnTo>
                    <a:lnTo>
                      <a:pt x="2751" y="3105"/>
                    </a:lnTo>
                    <a:lnTo>
                      <a:pt x="2821" y="3083"/>
                    </a:lnTo>
                    <a:lnTo>
                      <a:pt x="2895" y="3059"/>
                    </a:lnTo>
                    <a:lnTo>
                      <a:pt x="2967" y="3030"/>
                    </a:lnTo>
                    <a:lnTo>
                      <a:pt x="3037" y="2998"/>
                    </a:lnTo>
                    <a:lnTo>
                      <a:pt x="3108" y="2967"/>
                    </a:lnTo>
                    <a:lnTo>
                      <a:pt x="3177" y="2931"/>
                    </a:lnTo>
                    <a:lnTo>
                      <a:pt x="3244" y="2890"/>
                    </a:lnTo>
                    <a:lnTo>
                      <a:pt x="3306" y="2852"/>
                    </a:lnTo>
                    <a:lnTo>
                      <a:pt x="3372" y="2804"/>
                    </a:lnTo>
                    <a:lnTo>
                      <a:pt x="3399" y="2786"/>
                    </a:lnTo>
                    <a:lnTo>
                      <a:pt x="3431" y="2762"/>
                    </a:lnTo>
                    <a:lnTo>
                      <a:pt x="3465" y="2736"/>
                    </a:lnTo>
                    <a:lnTo>
                      <a:pt x="3498" y="2712"/>
                    </a:lnTo>
                    <a:lnTo>
                      <a:pt x="3535" y="2683"/>
                    </a:lnTo>
                    <a:lnTo>
                      <a:pt x="3572" y="2654"/>
                    </a:lnTo>
                    <a:lnTo>
                      <a:pt x="3610" y="2624"/>
                    </a:lnTo>
                    <a:lnTo>
                      <a:pt x="3650" y="2592"/>
                    </a:lnTo>
                    <a:lnTo>
                      <a:pt x="3689" y="2555"/>
                    </a:lnTo>
                    <a:lnTo>
                      <a:pt x="3729" y="2522"/>
                    </a:lnTo>
                    <a:lnTo>
                      <a:pt x="3767" y="2486"/>
                    </a:lnTo>
                    <a:lnTo>
                      <a:pt x="3812" y="2447"/>
                    </a:lnTo>
                    <a:lnTo>
                      <a:pt x="3850" y="2406"/>
                    </a:lnTo>
                    <a:lnTo>
                      <a:pt x="3890" y="2366"/>
                    </a:lnTo>
                    <a:lnTo>
                      <a:pt x="3929" y="2321"/>
                    </a:lnTo>
                    <a:lnTo>
                      <a:pt x="3970" y="2277"/>
                    </a:lnTo>
                    <a:lnTo>
                      <a:pt x="4009" y="2232"/>
                    </a:lnTo>
                    <a:lnTo>
                      <a:pt x="4049" y="2180"/>
                    </a:lnTo>
                    <a:lnTo>
                      <a:pt x="4086" y="2133"/>
                    </a:lnTo>
                    <a:lnTo>
                      <a:pt x="4119" y="2080"/>
                    </a:lnTo>
                    <a:lnTo>
                      <a:pt x="4156" y="2026"/>
                    </a:lnTo>
                    <a:lnTo>
                      <a:pt x="4186" y="1972"/>
                    </a:lnTo>
                    <a:lnTo>
                      <a:pt x="4218" y="1912"/>
                    </a:lnTo>
                    <a:lnTo>
                      <a:pt x="4247" y="1854"/>
                    </a:lnTo>
                    <a:lnTo>
                      <a:pt x="4276" y="1794"/>
                    </a:lnTo>
                    <a:lnTo>
                      <a:pt x="4301" y="1730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28"/>
                    </a:lnTo>
                    <a:lnTo>
                      <a:pt x="4375" y="1457"/>
                    </a:lnTo>
                    <a:lnTo>
                      <a:pt x="4386" y="1385"/>
                    </a:lnTo>
                    <a:lnTo>
                      <a:pt x="4393" y="1312"/>
                    </a:lnTo>
                    <a:lnTo>
                      <a:pt x="4397" y="1233"/>
                    </a:lnTo>
                    <a:lnTo>
                      <a:pt x="4397" y="1154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49"/>
                    </a:lnTo>
                    <a:lnTo>
                      <a:pt x="4351" y="762"/>
                    </a:lnTo>
                    <a:lnTo>
                      <a:pt x="4332" y="680"/>
                    </a:lnTo>
                    <a:lnTo>
                      <a:pt x="4306" y="603"/>
                    </a:lnTo>
                    <a:lnTo>
                      <a:pt x="4278" y="536"/>
                    </a:lnTo>
                    <a:lnTo>
                      <a:pt x="4247" y="471"/>
                    </a:lnTo>
                    <a:lnTo>
                      <a:pt x="4214" y="412"/>
                    </a:lnTo>
                    <a:lnTo>
                      <a:pt x="4177" y="361"/>
                    </a:lnTo>
                    <a:lnTo>
                      <a:pt x="4140" y="310"/>
                    </a:lnTo>
                    <a:lnTo>
                      <a:pt x="4100" y="265"/>
                    </a:lnTo>
                    <a:lnTo>
                      <a:pt x="4060" y="226"/>
                    </a:lnTo>
                    <a:lnTo>
                      <a:pt x="4020" y="189"/>
                    </a:lnTo>
                    <a:lnTo>
                      <a:pt x="3981" y="157"/>
                    </a:lnTo>
                    <a:lnTo>
                      <a:pt x="3938" y="130"/>
                    </a:lnTo>
                    <a:lnTo>
                      <a:pt x="3900" y="106"/>
                    </a:lnTo>
                    <a:lnTo>
                      <a:pt x="3858" y="85"/>
                    </a:lnTo>
                    <a:lnTo>
                      <a:pt x="3820" y="68"/>
                    </a:lnTo>
                    <a:lnTo>
                      <a:pt x="3783" y="50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20"/>
                    </a:lnTo>
                    <a:lnTo>
                      <a:pt x="3650" y="11"/>
                    </a:lnTo>
                    <a:lnTo>
                      <a:pt x="3621" y="8"/>
                    </a:lnTo>
                    <a:lnTo>
                      <a:pt x="3596" y="7"/>
                    </a:lnTo>
                    <a:lnTo>
                      <a:pt x="3575" y="3"/>
                    </a:lnTo>
                    <a:lnTo>
                      <a:pt x="3561" y="0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3"/>
                    </a:lnTo>
                    <a:lnTo>
                      <a:pt x="2623" y="143"/>
                    </a:lnTo>
                    <a:lnTo>
                      <a:pt x="2655" y="143"/>
                    </a:lnTo>
                    <a:lnTo>
                      <a:pt x="2700" y="143"/>
                    </a:lnTo>
                    <a:lnTo>
                      <a:pt x="2759" y="143"/>
                    </a:lnTo>
                    <a:lnTo>
                      <a:pt x="2829" y="148"/>
                    </a:lnTo>
                    <a:lnTo>
                      <a:pt x="2909" y="153"/>
                    </a:lnTo>
                    <a:lnTo>
                      <a:pt x="2995" y="164"/>
                    </a:lnTo>
                    <a:lnTo>
                      <a:pt x="3079" y="175"/>
                    </a:lnTo>
                    <a:lnTo>
                      <a:pt x="3167" y="194"/>
                    </a:lnTo>
                    <a:lnTo>
                      <a:pt x="3256" y="217"/>
                    </a:lnTo>
                    <a:lnTo>
                      <a:pt x="3335" y="246"/>
                    </a:lnTo>
                    <a:lnTo>
                      <a:pt x="3405" y="283"/>
                    </a:lnTo>
                    <a:lnTo>
                      <a:pt x="3442" y="305"/>
                    </a:lnTo>
                    <a:lnTo>
                      <a:pt x="3482" y="326"/>
                    </a:lnTo>
                    <a:lnTo>
                      <a:pt x="3525" y="355"/>
                    </a:lnTo>
                    <a:lnTo>
                      <a:pt x="3569" y="387"/>
                    </a:lnTo>
                    <a:lnTo>
                      <a:pt x="3615" y="421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3"/>
                    </a:lnTo>
                    <a:lnTo>
                      <a:pt x="3803" y="576"/>
                    </a:lnTo>
                    <a:lnTo>
                      <a:pt x="3847" y="620"/>
                    </a:lnTo>
                    <a:lnTo>
                      <a:pt x="3890" y="671"/>
                    </a:lnTo>
                    <a:lnTo>
                      <a:pt x="3929" y="722"/>
                    </a:lnTo>
                    <a:lnTo>
                      <a:pt x="3967" y="775"/>
                    </a:lnTo>
                    <a:lnTo>
                      <a:pt x="3999" y="835"/>
                    </a:lnTo>
                    <a:lnTo>
                      <a:pt x="4028" y="894"/>
                    </a:lnTo>
                    <a:lnTo>
                      <a:pt x="4052" y="957"/>
                    </a:lnTo>
                    <a:lnTo>
                      <a:pt x="4071" y="1024"/>
                    </a:lnTo>
                    <a:lnTo>
                      <a:pt x="4086" y="1093"/>
                    </a:lnTo>
                    <a:lnTo>
                      <a:pt x="4089" y="1162"/>
                    </a:lnTo>
                    <a:lnTo>
                      <a:pt x="4089" y="1234"/>
                    </a:lnTo>
                    <a:lnTo>
                      <a:pt x="4086" y="1312"/>
                    </a:lnTo>
                    <a:lnTo>
                      <a:pt x="4077" y="1385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2"/>
                    </a:lnTo>
                    <a:lnTo>
                      <a:pt x="4028" y="1659"/>
                    </a:lnTo>
                    <a:lnTo>
                      <a:pt x="4012" y="1717"/>
                    </a:lnTo>
                    <a:lnTo>
                      <a:pt x="3991" y="1783"/>
                    </a:lnTo>
                    <a:lnTo>
                      <a:pt x="3975" y="1841"/>
                    </a:lnTo>
                    <a:lnTo>
                      <a:pt x="3953" y="1902"/>
                    </a:lnTo>
                    <a:lnTo>
                      <a:pt x="3929" y="1956"/>
                    </a:lnTo>
                    <a:lnTo>
                      <a:pt x="3908" y="2011"/>
                    </a:lnTo>
                    <a:lnTo>
                      <a:pt x="3882" y="2064"/>
                    </a:lnTo>
                    <a:lnTo>
                      <a:pt x="3853" y="2118"/>
                    </a:lnTo>
                    <a:lnTo>
                      <a:pt x="3825" y="2167"/>
                    </a:lnTo>
                    <a:lnTo>
                      <a:pt x="3793" y="2215"/>
                    </a:lnTo>
                    <a:lnTo>
                      <a:pt x="3762" y="2263"/>
                    </a:lnTo>
                    <a:lnTo>
                      <a:pt x="3730" y="2308"/>
                    </a:lnTo>
                    <a:lnTo>
                      <a:pt x="3697" y="2349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3"/>
                    </a:lnTo>
                    <a:lnTo>
                      <a:pt x="3551" y="2510"/>
                    </a:lnTo>
                    <a:lnTo>
                      <a:pt x="3510" y="2547"/>
                    </a:lnTo>
                    <a:lnTo>
                      <a:pt x="3471" y="2581"/>
                    </a:lnTo>
                    <a:lnTo>
                      <a:pt x="3431" y="2616"/>
                    </a:lnTo>
                    <a:lnTo>
                      <a:pt x="3386" y="2646"/>
                    </a:lnTo>
                    <a:lnTo>
                      <a:pt x="3343" y="2680"/>
                    </a:lnTo>
                    <a:lnTo>
                      <a:pt x="3301" y="2704"/>
                    </a:lnTo>
                    <a:lnTo>
                      <a:pt x="3256" y="2733"/>
                    </a:lnTo>
                    <a:lnTo>
                      <a:pt x="3212" y="2762"/>
                    </a:lnTo>
                    <a:lnTo>
                      <a:pt x="3165" y="2787"/>
                    </a:lnTo>
                    <a:lnTo>
                      <a:pt x="3119" y="2812"/>
                    </a:lnTo>
                    <a:lnTo>
                      <a:pt x="3071" y="2836"/>
                    </a:lnTo>
                    <a:lnTo>
                      <a:pt x="3023" y="2857"/>
                    </a:lnTo>
                    <a:lnTo>
                      <a:pt x="2975" y="2877"/>
                    </a:lnTo>
                    <a:lnTo>
                      <a:pt x="2926" y="2898"/>
                    </a:lnTo>
                    <a:lnTo>
                      <a:pt x="2879" y="2914"/>
                    </a:lnTo>
                    <a:lnTo>
                      <a:pt x="2826" y="2931"/>
                    </a:lnTo>
                    <a:lnTo>
                      <a:pt x="2780" y="2948"/>
                    </a:lnTo>
                    <a:lnTo>
                      <a:pt x="2729" y="2963"/>
                    </a:lnTo>
                    <a:lnTo>
                      <a:pt x="2677" y="2977"/>
                    </a:lnTo>
                    <a:lnTo>
                      <a:pt x="2626" y="2990"/>
                    </a:lnTo>
                    <a:lnTo>
                      <a:pt x="2576" y="3001"/>
                    </a:lnTo>
                    <a:lnTo>
                      <a:pt x="2524" y="3009"/>
                    </a:lnTo>
                    <a:lnTo>
                      <a:pt x="2473" y="3022"/>
                    </a:lnTo>
                    <a:lnTo>
                      <a:pt x="2423" y="3030"/>
                    </a:lnTo>
                    <a:lnTo>
                      <a:pt x="2370" y="3038"/>
                    </a:lnTo>
                    <a:lnTo>
                      <a:pt x="2320" y="3046"/>
                    </a:lnTo>
                    <a:lnTo>
                      <a:pt x="2269" y="3050"/>
                    </a:lnTo>
                    <a:lnTo>
                      <a:pt x="2219" y="3055"/>
                    </a:lnTo>
                    <a:lnTo>
                      <a:pt x="2167" y="3060"/>
                    </a:lnTo>
                    <a:lnTo>
                      <a:pt x="2116" y="3063"/>
                    </a:lnTo>
                    <a:lnTo>
                      <a:pt x="2066" y="3067"/>
                    </a:lnTo>
                    <a:lnTo>
                      <a:pt x="2013" y="3070"/>
                    </a:lnTo>
                    <a:lnTo>
                      <a:pt x="1967" y="3070"/>
                    </a:lnTo>
                    <a:lnTo>
                      <a:pt x="1914" y="3070"/>
                    </a:lnTo>
                    <a:lnTo>
                      <a:pt x="1867" y="3070"/>
                    </a:lnTo>
                    <a:lnTo>
                      <a:pt x="1816" y="3070"/>
                    </a:lnTo>
                    <a:lnTo>
                      <a:pt x="1768" y="3067"/>
                    </a:lnTo>
                    <a:lnTo>
                      <a:pt x="1719" y="3067"/>
                    </a:lnTo>
                    <a:lnTo>
                      <a:pt x="1672" y="3060"/>
                    </a:lnTo>
                    <a:lnTo>
                      <a:pt x="1626" y="3059"/>
                    </a:lnTo>
                    <a:lnTo>
                      <a:pt x="1581" y="3055"/>
                    </a:lnTo>
                    <a:lnTo>
                      <a:pt x="1535" y="3050"/>
                    </a:lnTo>
                    <a:lnTo>
                      <a:pt x="1490" y="3043"/>
                    </a:lnTo>
                    <a:lnTo>
                      <a:pt x="1445" y="3038"/>
                    </a:lnTo>
                    <a:lnTo>
                      <a:pt x="1402" y="3030"/>
                    </a:lnTo>
                    <a:lnTo>
                      <a:pt x="1360" y="3025"/>
                    </a:lnTo>
                    <a:lnTo>
                      <a:pt x="1320" y="3017"/>
                    </a:lnTo>
                    <a:lnTo>
                      <a:pt x="1279" y="3009"/>
                    </a:lnTo>
                    <a:lnTo>
                      <a:pt x="1240" y="2998"/>
                    </a:lnTo>
                    <a:lnTo>
                      <a:pt x="1200" y="2990"/>
                    </a:lnTo>
                    <a:lnTo>
                      <a:pt x="1163" y="2981"/>
                    </a:lnTo>
                    <a:lnTo>
                      <a:pt x="1125" y="2972"/>
                    </a:lnTo>
                    <a:lnTo>
                      <a:pt x="1091" y="2963"/>
                    </a:lnTo>
                    <a:lnTo>
                      <a:pt x="1056" y="2954"/>
                    </a:lnTo>
                    <a:lnTo>
                      <a:pt x="1021" y="2943"/>
                    </a:lnTo>
                    <a:lnTo>
                      <a:pt x="992" y="2931"/>
                    </a:lnTo>
                    <a:lnTo>
                      <a:pt x="960" y="2919"/>
                    </a:lnTo>
                    <a:lnTo>
                      <a:pt x="931" y="2909"/>
                    </a:lnTo>
                    <a:lnTo>
                      <a:pt x="906" y="2898"/>
                    </a:lnTo>
                    <a:lnTo>
                      <a:pt x="877" y="2886"/>
                    </a:lnTo>
                    <a:lnTo>
                      <a:pt x="855" y="2874"/>
                    </a:lnTo>
                    <a:lnTo>
                      <a:pt x="830" y="2864"/>
                    </a:lnTo>
                    <a:lnTo>
                      <a:pt x="806" y="2849"/>
                    </a:lnTo>
                    <a:lnTo>
                      <a:pt x="727" y="2799"/>
                    </a:lnTo>
                    <a:lnTo>
                      <a:pt x="651" y="2744"/>
                    </a:lnTo>
                    <a:lnTo>
                      <a:pt x="581" y="2691"/>
                    </a:lnTo>
                    <a:lnTo>
                      <a:pt x="520" y="2635"/>
                    </a:lnTo>
                    <a:lnTo>
                      <a:pt x="464" y="2576"/>
                    </a:lnTo>
                    <a:lnTo>
                      <a:pt x="413" y="2517"/>
                    </a:lnTo>
                    <a:lnTo>
                      <a:pt x="367" y="2455"/>
                    </a:lnTo>
                    <a:lnTo>
                      <a:pt x="328" y="2394"/>
                    </a:lnTo>
                    <a:lnTo>
                      <a:pt x="294" y="2330"/>
                    </a:lnTo>
                    <a:lnTo>
                      <a:pt x="263" y="2271"/>
                    </a:lnTo>
                    <a:lnTo>
                      <a:pt x="240" y="2208"/>
                    </a:lnTo>
                    <a:lnTo>
                      <a:pt x="217" y="2147"/>
                    </a:lnTo>
                    <a:lnTo>
                      <a:pt x="200" y="2081"/>
                    </a:lnTo>
                    <a:lnTo>
                      <a:pt x="187" y="2022"/>
                    </a:lnTo>
                    <a:lnTo>
                      <a:pt x="175" y="1961"/>
                    </a:lnTo>
                    <a:lnTo>
                      <a:pt x="170" y="1902"/>
                    </a:lnTo>
                    <a:lnTo>
                      <a:pt x="163" y="1845"/>
                    </a:lnTo>
                    <a:lnTo>
                      <a:pt x="163" y="1786"/>
                    </a:lnTo>
                    <a:lnTo>
                      <a:pt x="163" y="1733"/>
                    </a:lnTo>
                    <a:lnTo>
                      <a:pt x="166" y="1680"/>
                    </a:lnTo>
                    <a:lnTo>
                      <a:pt x="170" y="1631"/>
                    </a:lnTo>
                    <a:lnTo>
                      <a:pt x="175" y="1581"/>
                    </a:lnTo>
                    <a:lnTo>
                      <a:pt x="180" y="1534"/>
                    </a:lnTo>
                    <a:lnTo>
                      <a:pt x="189" y="1493"/>
                    </a:lnTo>
                    <a:lnTo>
                      <a:pt x="197" y="1449"/>
                    </a:lnTo>
                    <a:lnTo>
                      <a:pt x="207" y="1412"/>
                    </a:lnTo>
                    <a:lnTo>
                      <a:pt x="216" y="1382"/>
                    </a:lnTo>
                    <a:lnTo>
                      <a:pt x="224" y="1350"/>
                    </a:lnTo>
                    <a:lnTo>
                      <a:pt x="229" y="1326"/>
                    </a:lnTo>
                    <a:lnTo>
                      <a:pt x="234" y="1303"/>
                    </a:lnTo>
                    <a:lnTo>
                      <a:pt x="242" y="1289"/>
                    </a:lnTo>
                    <a:lnTo>
                      <a:pt x="245" y="1275"/>
                    </a:lnTo>
                    <a:lnTo>
                      <a:pt x="249" y="1266"/>
                    </a:lnTo>
                    <a:lnTo>
                      <a:pt x="251" y="1263"/>
                    </a:lnTo>
                    <a:lnTo>
                      <a:pt x="286" y="1185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896"/>
                    </a:lnTo>
                    <a:lnTo>
                      <a:pt x="518" y="835"/>
                    </a:lnTo>
                    <a:lnTo>
                      <a:pt x="573" y="775"/>
                    </a:lnTo>
                    <a:lnTo>
                      <a:pt x="627" y="717"/>
                    </a:lnTo>
                    <a:lnTo>
                      <a:pt x="685" y="663"/>
                    </a:lnTo>
                    <a:lnTo>
                      <a:pt x="744" y="610"/>
                    </a:lnTo>
                    <a:lnTo>
                      <a:pt x="806" y="562"/>
                    </a:lnTo>
                    <a:lnTo>
                      <a:pt x="869" y="516"/>
                    </a:lnTo>
                    <a:lnTo>
                      <a:pt x="930" y="471"/>
                    </a:lnTo>
                    <a:lnTo>
                      <a:pt x="994" y="432"/>
                    </a:lnTo>
                    <a:lnTo>
                      <a:pt x="1056" y="392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5"/>
                    </a:lnTo>
                    <a:lnTo>
                      <a:pt x="1360" y="238"/>
                    </a:lnTo>
                    <a:lnTo>
                      <a:pt x="1419" y="214"/>
                    </a:lnTo>
                    <a:lnTo>
                      <a:pt x="1473" y="193"/>
                    </a:lnTo>
                    <a:lnTo>
                      <a:pt x="1523" y="172"/>
                    </a:lnTo>
                    <a:lnTo>
                      <a:pt x="1576" y="156"/>
                    </a:lnTo>
                    <a:lnTo>
                      <a:pt x="1623" y="138"/>
                    </a:lnTo>
                    <a:lnTo>
                      <a:pt x="1668" y="124"/>
                    </a:lnTo>
                    <a:lnTo>
                      <a:pt x="1709" y="111"/>
                    </a:lnTo>
                    <a:lnTo>
                      <a:pt x="1746" y="98"/>
                    </a:lnTo>
                    <a:lnTo>
                      <a:pt x="1779" y="90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4"/>
                    </a:lnTo>
                    <a:lnTo>
                      <a:pt x="1864" y="71"/>
                    </a:lnTo>
                    <a:lnTo>
                      <a:pt x="1872" y="68"/>
                    </a:lnTo>
                    <a:lnTo>
                      <a:pt x="1875" y="68"/>
                    </a:lnTo>
                    <a:lnTo>
                      <a:pt x="1067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69840" y="4655160"/>
                <a:ext cx="1035360" cy="755280"/>
              </a:xfrm>
              <a:custGeom>
                <a:avLst/>
                <a:gdLst/>
                <a:ahLst/>
                <a:rect l="l" t="t" r="r" b="b"/>
                <a:pathLst>
                  <a:path w="4399" h="3241">
                    <a:moveTo>
                      <a:pt x="1069" y="308"/>
                    </a:moveTo>
                    <a:lnTo>
                      <a:pt x="1064" y="310"/>
                    </a:lnTo>
                    <a:lnTo>
                      <a:pt x="1052" y="319"/>
                    </a:lnTo>
                    <a:lnTo>
                      <a:pt x="1032" y="330"/>
                    </a:lnTo>
                    <a:lnTo>
                      <a:pt x="1003" y="343"/>
                    </a:lnTo>
                    <a:lnTo>
                      <a:pt x="969" y="367"/>
                    </a:lnTo>
                    <a:lnTo>
                      <a:pt x="929" y="388"/>
                    </a:lnTo>
                    <a:lnTo>
                      <a:pt x="886" y="417"/>
                    </a:lnTo>
                    <a:lnTo>
                      <a:pt x="840" y="451"/>
                    </a:lnTo>
                    <a:lnTo>
                      <a:pt x="785" y="488"/>
                    </a:lnTo>
                    <a:lnTo>
                      <a:pt x="732" y="529"/>
                    </a:lnTo>
                    <a:lnTo>
                      <a:pt x="675" y="574"/>
                    </a:lnTo>
                    <a:lnTo>
                      <a:pt x="617" y="624"/>
                    </a:lnTo>
                    <a:lnTo>
                      <a:pt x="558" y="674"/>
                    </a:lnTo>
                    <a:lnTo>
                      <a:pt x="502" y="731"/>
                    </a:lnTo>
                    <a:lnTo>
                      <a:pt x="443" y="789"/>
                    </a:lnTo>
                    <a:lnTo>
                      <a:pt x="385" y="855"/>
                    </a:lnTo>
                    <a:lnTo>
                      <a:pt x="329" y="921"/>
                    </a:lnTo>
                    <a:lnTo>
                      <a:pt x="278" y="990"/>
                    </a:lnTo>
                    <a:lnTo>
                      <a:pt x="230" y="1064"/>
                    </a:lnTo>
                    <a:lnTo>
                      <a:pt x="185" y="1139"/>
                    </a:lnTo>
                    <a:lnTo>
                      <a:pt x="144" y="1218"/>
                    </a:lnTo>
                    <a:lnTo>
                      <a:pt x="110" y="1301"/>
                    </a:lnTo>
                    <a:lnTo>
                      <a:pt x="89" y="1362"/>
                    </a:lnTo>
                    <a:lnTo>
                      <a:pt x="68" y="1425"/>
                    </a:lnTo>
                    <a:lnTo>
                      <a:pt x="52" y="1487"/>
                    </a:lnTo>
                    <a:lnTo>
                      <a:pt x="36" y="1545"/>
                    </a:lnTo>
                    <a:lnTo>
                      <a:pt x="23" y="1607"/>
                    </a:lnTo>
                    <a:lnTo>
                      <a:pt x="14" y="1669"/>
                    </a:lnTo>
                    <a:lnTo>
                      <a:pt x="6" y="1730"/>
                    </a:lnTo>
                    <a:lnTo>
                      <a:pt x="3" y="1792"/>
                    </a:lnTo>
                    <a:lnTo>
                      <a:pt x="0" y="1850"/>
                    </a:lnTo>
                    <a:lnTo>
                      <a:pt x="3" y="1911"/>
                    </a:lnTo>
                    <a:lnTo>
                      <a:pt x="6" y="1972"/>
                    </a:lnTo>
                    <a:lnTo>
                      <a:pt x="11" y="2031"/>
                    </a:lnTo>
                    <a:lnTo>
                      <a:pt x="23" y="2090"/>
                    </a:lnTo>
                    <a:lnTo>
                      <a:pt x="36" y="2150"/>
                    </a:lnTo>
                    <a:lnTo>
                      <a:pt x="52" y="2206"/>
                    </a:lnTo>
                    <a:lnTo>
                      <a:pt x="70" y="2266"/>
                    </a:lnTo>
                    <a:lnTo>
                      <a:pt x="91" y="2325"/>
                    </a:lnTo>
                    <a:lnTo>
                      <a:pt x="116" y="2381"/>
                    </a:lnTo>
                    <a:lnTo>
                      <a:pt x="144" y="2440"/>
                    </a:lnTo>
                    <a:lnTo>
                      <a:pt x="176" y="2497"/>
                    </a:lnTo>
                    <a:lnTo>
                      <a:pt x="211" y="2553"/>
                    </a:lnTo>
                    <a:lnTo>
                      <a:pt x="247" y="2609"/>
                    </a:lnTo>
                    <a:lnTo>
                      <a:pt x="286" y="2667"/>
                    </a:lnTo>
                    <a:lnTo>
                      <a:pt x="334" y="2721"/>
                    </a:lnTo>
                    <a:lnTo>
                      <a:pt x="384" y="2776"/>
                    </a:lnTo>
                    <a:lnTo>
                      <a:pt x="438" y="2827"/>
                    </a:lnTo>
                    <a:lnTo>
                      <a:pt x="493" y="2874"/>
                    </a:lnTo>
                    <a:lnTo>
                      <a:pt x="547" y="2917"/>
                    </a:lnTo>
                    <a:lnTo>
                      <a:pt x="608" y="2957"/>
                    </a:lnTo>
                    <a:lnTo>
                      <a:pt x="670" y="2994"/>
                    </a:lnTo>
                    <a:lnTo>
                      <a:pt x="732" y="3023"/>
                    </a:lnTo>
                    <a:lnTo>
                      <a:pt x="795" y="3055"/>
                    </a:lnTo>
                    <a:lnTo>
                      <a:pt x="859" y="3084"/>
                    </a:lnTo>
                    <a:lnTo>
                      <a:pt x="920" y="3106"/>
                    </a:lnTo>
                    <a:lnTo>
                      <a:pt x="982" y="3130"/>
                    </a:lnTo>
                    <a:lnTo>
                      <a:pt x="1048" y="3151"/>
                    </a:lnTo>
                    <a:lnTo>
                      <a:pt x="1110" y="3166"/>
                    </a:lnTo>
                    <a:lnTo>
                      <a:pt x="1171" y="3183"/>
                    </a:lnTo>
                    <a:lnTo>
                      <a:pt x="1233" y="3193"/>
                    </a:lnTo>
                    <a:lnTo>
                      <a:pt x="1289" y="3204"/>
                    </a:lnTo>
                    <a:lnTo>
                      <a:pt x="1347" y="3216"/>
                    </a:lnTo>
                    <a:lnTo>
                      <a:pt x="1403" y="3225"/>
                    </a:lnTo>
                    <a:lnTo>
                      <a:pt x="1454" y="3230"/>
                    </a:lnTo>
                    <a:lnTo>
                      <a:pt x="1501" y="3233"/>
                    </a:lnTo>
                    <a:lnTo>
                      <a:pt x="1545" y="3238"/>
                    </a:lnTo>
                    <a:lnTo>
                      <a:pt x="1587" y="3241"/>
                    </a:lnTo>
                    <a:lnTo>
                      <a:pt x="1624" y="3241"/>
                    </a:lnTo>
                    <a:lnTo>
                      <a:pt x="1658" y="3241"/>
                    </a:lnTo>
                    <a:lnTo>
                      <a:pt x="1686" y="3241"/>
                    </a:lnTo>
                    <a:lnTo>
                      <a:pt x="1723" y="3241"/>
                    </a:lnTo>
                    <a:lnTo>
                      <a:pt x="1760" y="3241"/>
                    </a:lnTo>
                    <a:lnTo>
                      <a:pt x="1803" y="3241"/>
                    </a:lnTo>
                    <a:lnTo>
                      <a:pt x="1850" y="3241"/>
                    </a:lnTo>
                    <a:lnTo>
                      <a:pt x="1899" y="3238"/>
                    </a:lnTo>
                    <a:lnTo>
                      <a:pt x="1952" y="3236"/>
                    </a:lnTo>
                    <a:lnTo>
                      <a:pt x="2010" y="3233"/>
                    </a:lnTo>
                    <a:lnTo>
                      <a:pt x="2069" y="3230"/>
                    </a:lnTo>
                    <a:lnTo>
                      <a:pt x="2131" y="3222"/>
                    </a:lnTo>
                    <a:lnTo>
                      <a:pt x="2193" y="3216"/>
                    </a:lnTo>
                    <a:lnTo>
                      <a:pt x="2259" y="3208"/>
                    </a:lnTo>
                    <a:lnTo>
                      <a:pt x="2326" y="3199"/>
                    </a:lnTo>
                    <a:lnTo>
                      <a:pt x="2395" y="3188"/>
                    </a:lnTo>
                    <a:lnTo>
                      <a:pt x="2466" y="3176"/>
                    </a:lnTo>
                    <a:lnTo>
                      <a:pt x="2536" y="3162"/>
                    </a:lnTo>
                    <a:lnTo>
                      <a:pt x="2608" y="3146"/>
                    </a:lnTo>
                    <a:lnTo>
                      <a:pt x="2682" y="3126"/>
                    </a:lnTo>
                    <a:lnTo>
                      <a:pt x="2754" y="3106"/>
                    </a:lnTo>
                    <a:lnTo>
                      <a:pt x="2826" y="3084"/>
                    </a:lnTo>
                    <a:lnTo>
                      <a:pt x="2897" y="3060"/>
                    </a:lnTo>
                    <a:lnTo>
                      <a:pt x="2970" y="3032"/>
                    </a:lnTo>
                    <a:lnTo>
                      <a:pt x="3038" y="3002"/>
                    </a:lnTo>
                    <a:lnTo>
                      <a:pt x="3109" y="2968"/>
                    </a:lnTo>
                    <a:lnTo>
                      <a:pt x="3176" y="2935"/>
                    </a:lnTo>
                    <a:lnTo>
                      <a:pt x="3245" y="2894"/>
                    </a:lnTo>
                    <a:lnTo>
                      <a:pt x="3309" y="2853"/>
                    </a:lnTo>
                    <a:lnTo>
                      <a:pt x="3371" y="2808"/>
                    </a:lnTo>
                    <a:lnTo>
                      <a:pt x="3400" y="2784"/>
                    </a:lnTo>
                    <a:lnTo>
                      <a:pt x="3434" y="2762"/>
                    </a:lnTo>
                    <a:lnTo>
                      <a:pt x="3466" y="2737"/>
                    </a:lnTo>
                    <a:lnTo>
                      <a:pt x="3499" y="2712"/>
                    </a:lnTo>
                    <a:lnTo>
                      <a:pt x="3536" y="2685"/>
                    </a:lnTo>
                    <a:lnTo>
                      <a:pt x="3574" y="2655"/>
                    </a:lnTo>
                    <a:lnTo>
                      <a:pt x="3613" y="2623"/>
                    </a:lnTo>
                    <a:lnTo>
                      <a:pt x="3650" y="2593"/>
                    </a:lnTo>
                    <a:lnTo>
                      <a:pt x="3690" y="2559"/>
                    </a:lnTo>
                    <a:lnTo>
                      <a:pt x="3732" y="2522"/>
                    </a:lnTo>
                    <a:lnTo>
                      <a:pt x="3773" y="2489"/>
                    </a:lnTo>
                    <a:lnTo>
                      <a:pt x="3811" y="2448"/>
                    </a:lnTo>
                    <a:lnTo>
                      <a:pt x="3851" y="2408"/>
                    </a:lnTo>
                    <a:lnTo>
                      <a:pt x="3893" y="2366"/>
                    </a:lnTo>
                    <a:lnTo>
                      <a:pt x="3934" y="2325"/>
                    </a:lnTo>
                    <a:lnTo>
                      <a:pt x="3973" y="2276"/>
                    </a:lnTo>
                    <a:lnTo>
                      <a:pt x="4013" y="2230"/>
                    </a:lnTo>
                    <a:lnTo>
                      <a:pt x="4050" y="2184"/>
                    </a:lnTo>
                    <a:lnTo>
                      <a:pt x="4087" y="2134"/>
                    </a:lnTo>
                    <a:lnTo>
                      <a:pt x="4123" y="2080"/>
                    </a:lnTo>
                    <a:lnTo>
                      <a:pt x="4158" y="2028"/>
                    </a:lnTo>
                    <a:lnTo>
                      <a:pt x="4192" y="1972"/>
                    </a:lnTo>
                    <a:lnTo>
                      <a:pt x="4221" y="1916"/>
                    </a:lnTo>
                    <a:lnTo>
                      <a:pt x="4250" y="1857"/>
                    </a:lnTo>
                    <a:lnTo>
                      <a:pt x="4276" y="1795"/>
                    </a:lnTo>
                    <a:lnTo>
                      <a:pt x="4301" y="1730"/>
                    </a:lnTo>
                    <a:lnTo>
                      <a:pt x="4325" y="1664"/>
                    </a:lnTo>
                    <a:lnTo>
                      <a:pt x="4344" y="1599"/>
                    </a:lnTo>
                    <a:lnTo>
                      <a:pt x="4362" y="1529"/>
                    </a:lnTo>
                    <a:lnTo>
                      <a:pt x="4375" y="1458"/>
                    </a:lnTo>
                    <a:lnTo>
                      <a:pt x="4387" y="1384"/>
                    </a:lnTo>
                    <a:lnTo>
                      <a:pt x="4395" y="1309"/>
                    </a:lnTo>
                    <a:lnTo>
                      <a:pt x="4399" y="1234"/>
                    </a:lnTo>
                    <a:lnTo>
                      <a:pt x="4399" y="1153"/>
                    </a:lnTo>
                    <a:lnTo>
                      <a:pt x="4395" y="1048"/>
                    </a:lnTo>
                    <a:lnTo>
                      <a:pt x="4384" y="945"/>
                    </a:lnTo>
                    <a:lnTo>
                      <a:pt x="4370" y="850"/>
                    </a:lnTo>
                    <a:lnTo>
                      <a:pt x="4354" y="762"/>
                    </a:lnTo>
                    <a:lnTo>
                      <a:pt x="4330" y="682"/>
                    </a:lnTo>
                    <a:lnTo>
                      <a:pt x="4308" y="606"/>
                    </a:lnTo>
                    <a:lnTo>
                      <a:pt x="4279" y="536"/>
                    </a:lnTo>
                    <a:lnTo>
                      <a:pt x="4247" y="471"/>
                    </a:lnTo>
                    <a:lnTo>
                      <a:pt x="4213" y="412"/>
                    </a:lnTo>
                    <a:lnTo>
                      <a:pt x="4180" y="359"/>
                    </a:lnTo>
                    <a:lnTo>
                      <a:pt x="4143" y="310"/>
                    </a:lnTo>
                    <a:lnTo>
                      <a:pt x="4104" y="265"/>
                    </a:lnTo>
                    <a:lnTo>
                      <a:pt x="4064" y="226"/>
                    </a:lnTo>
                    <a:lnTo>
                      <a:pt x="4025" y="189"/>
                    </a:lnTo>
                    <a:lnTo>
                      <a:pt x="3981" y="157"/>
                    </a:lnTo>
                    <a:lnTo>
                      <a:pt x="3943" y="130"/>
                    </a:lnTo>
                    <a:lnTo>
                      <a:pt x="3899" y="104"/>
                    </a:lnTo>
                    <a:lnTo>
                      <a:pt x="3860" y="85"/>
                    </a:lnTo>
                    <a:lnTo>
                      <a:pt x="3819" y="66"/>
                    </a:lnTo>
                    <a:lnTo>
                      <a:pt x="3783" y="50"/>
                    </a:lnTo>
                    <a:lnTo>
                      <a:pt x="3747" y="40"/>
                    </a:lnTo>
                    <a:lnTo>
                      <a:pt x="3712" y="29"/>
                    </a:lnTo>
                    <a:lnTo>
                      <a:pt x="3678" y="20"/>
                    </a:lnTo>
                    <a:lnTo>
                      <a:pt x="3650" y="11"/>
                    </a:lnTo>
                    <a:lnTo>
                      <a:pt x="3621" y="5"/>
                    </a:lnTo>
                    <a:lnTo>
                      <a:pt x="3599" y="3"/>
                    </a:lnTo>
                    <a:lnTo>
                      <a:pt x="3579" y="3"/>
                    </a:lnTo>
                    <a:lnTo>
                      <a:pt x="3562" y="0"/>
                    </a:lnTo>
                    <a:lnTo>
                      <a:pt x="3550" y="0"/>
                    </a:lnTo>
                    <a:lnTo>
                      <a:pt x="3542" y="0"/>
                    </a:lnTo>
                    <a:lnTo>
                      <a:pt x="3541" y="0"/>
                    </a:lnTo>
                    <a:lnTo>
                      <a:pt x="2616" y="144"/>
                    </a:lnTo>
                    <a:lnTo>
                      <a:pt x="2627" y="144"/>
                    </a:lnTo>
                    <a:lnTo>
                      <a:pt x="2656" y="144"/>
                    </a:lnTo>
                    <a:lnTo>
                      <a:pt x="2704" y="144"/>
                    </a:lnTo>
                    <a:lnTo>
                      <a:pt x="2762" y="144"/>
                    </a:lnTo>
                    <a:lnTo>
                      <a:pt x="2832" y="147"/>
                    </a:lnTo>
                    <a:lnTo>
                      <a:pt x="2910" y="152"/>
                    </a:lnTo>
                    <a:lnTo>
                      <a:pt x="2997" y="160"/>
                    </a:lnTo>
                    <a:lnTo>
                      <a:pt x="3083" y="175"/>
                    </a:lnTo>
                    <a:lnTo>
                      <a:pt x="3171" y="191"/>
                    </a:lnTo>
                    <a:lnTo>
                      <a:pt x="3256" y="218"/>
                    </a:lnTo>
                    <a:lnTo>
                      <a:pt x="3335" y="245"/>
                    </a:lnTo>
                    <a:lnTo>
                      <a:pt x="3408" y="282"/>
                    </a:lnTo>
                    <a:lnTo>
                      <a:pt x="3446" y="305"/>
                    </a:lnTo>
                    <a:lnTo>
                      <a:pt x="3486" y="327"/>
                    </a:lnTo>
                    <a:lnTo>
                      <a:pt x="3528" y="356"/>
                    </a:lnTo>
                    <a:lnTo>
                      <a:pt x="3574" y="387"/>
                    </a:lnTo>
                    <a:lnTo>
                      <a:pt x="3616" y="417"/>
                    </a:lnTo>
                    <a:lnTo>
                      <a:pt x="3664" y="454"/>
                    </a:lnTo>
                    <a:lnTo>
                      <a:pt x="3712" y="491"/>
                    </a:lnTo>
                    <a:lnTo>
                      <a:pt x="3757" y="533"/>
                    </a:lnTo>
                    <a:lnTo>
                      <a:pt x="3803" y="574"/>
                    </a:lnTo>
                    <a:lnTo>
                      <a:pt x="3848" y="621"/>
                    </a:lnTo>
                    <a:lnTo>
                      <a:pt x="3890" y="672"/>
                    </a:lnTo>
                    <a:lnTo>
                      <a:pt x="3931" y="722"/>
                    </a:lnTo>
                    <a:lnTo>
                      <a:pt x="3968" y="776"/>
                    </a:lnTo>
                    <a:lnTo>
                      <a:pt x="4002" y="833"/>
                    </a:lnTo>
                    <a:lnTo>
                      <a:pt x="4030" y="895"/>
                    </a:lnTo>
                    <a:lnTo>
                      <a:pt x="4052" y="957"/>
                    </a:lnTo>
                    <a:lnTo>
                      <a:pt x="4072" y="1020"/>
                    </a:lnTo>
                    <a:lnTo>
                      <a:pt x="4084" y="1089"/>
                    </a:lnTo>
                    <a:lnTo>
                      <a:pt x="4093" y="1163"/>
                    </a:lnTo>
                    <a:lnTo>
                      <a:pt x="4093" y="1235"/>
                    </a:lnTo>
                    <a:lnTo>
                      <a:pt x="4084" y="1312"/>
                    </a:lnTo>
                    <a:lnTo>
                      <a:pt x="4077" y="1384"/>
                    </a:lnTo>
                    <a:lnTo>
                      <a:pt x="4069" y="1457"/>
                    </a:lnTo>
                    <a:lnTo>
                      <a:pt x="4059" y="1524"/>
                    </a:lnTo>
                    <a:lnTo>
                      <a:pt x="4043" y="1590"/>
                    </a:lnTo>
                    <a:lnTo>
                      <a:pt x="4030" y="1659"/>
                    </a:lnTo>
                    <a:lnTo>
                      <a:pt x="4013" y="1721"/>
                    </a:lnTo>
                    <a:lnTo>
                      <a:pt x="3997" y="1783"/>
                    </a:lnTo>
                    <a:lnTo>
                      <a:pt x="3976" y="1842"/>
                    </a:lnTo>
                    <a:lnTo>
                      <a:pt x="3952" y="1903"/>
                    </a:lnTo>
                    <a:lnTo>
                      <a:pt x="3934" y="1957"/>
                    </a:lnTo>
                    <a:lnTo>
                      <a:pt x="3907" y="2015"/>
                    </a:lnTo>
                    <a:lnTo>
                      <a:pt x="3882" y="2068"/>
                    </a:lnTo>
                    <a:lnTo>
                      <a:pt x="3855" y="2118"/>
                    </a:lnTo>
                    <a:lnTo>
                      <a:pt x="3826" y="2167"/>
                    </a:lnTo>
                    <a:lnTo>
                      <a:pt x="3794" y="2217"/>
                    </a:lnTo>
                    <a:lnTo>
                      <a:pt x="3764" y="2262"/>
                    </a:lnTo>
                    <a:lnTo>
                      <a:pt x="3732" y="2311"/>
                    </a:lnTo>
                    <a:lnTo>
                      <a:pt x="3698" y="2353"/>
                    </a:lnTo>
                    <a:lnTo>
                      <a:pt x="3664" y="2395"/>
                    </a:lnTo>
                    <a:lnTo>
                      <a:pt x="3627" y="2435"/>
                    </a:lnTo>
                    <a:lnTo>
                      <a:pt x="3591" y="2474"/>
                    </a:lnTo>
                    <a:lnTo>
                      <a:pt x="3554" y="2511"/>
                    </a:lnTo>
                    <a:lnTo>
                      <a:pt x="3515" y="2548"/>
                    </a:lnTo>
                    <a:lnTo>
                      <a:pt x="3474" y="2581"/>
                    </a:lnTo>
                    <a:lnTo>
                      <a:pt x="3432" y="2618"/>
                    </a:lnTo>
                    <a:lnTo>
                      <a:pt x="3389" y="2649"/>
                    </a:lnTo>
                    <a:lnTo>
                      <a:pt x="3347" y="2680"/>
                    </a:lnTo>
                    <a:lnTo>
                      <a:pt x="3301" y="2708"/>
                    </a:lnTo>
                    <a:lnTo>
                      <a:pt x="3259" y="2737"/>
                    </a:lnTo>
                    <a:lnTo>
                      <a:pt x="3210" y="2766"/>
                    </a:lnTo>
                    <a:lnTo>
                      <a:pt x="3168" y="2787"/>
                    </a:lnTo>
                    <a:lnTo>
                      <a:pt x="3121" y="2813"/>
                    </a:lnTo>
                    <a:lnTo>
                      <a:pt x="3072" y="2835"/>
                    </a:lnTo>
                    <a:lnTo>
                      <a:pt x="3024" y="2858"/>
                    </a:lnTo>
                    <a:lnTo>
                      <a:pt x="2978" y="2877"/>
                    </a:lnTo>
                    <a:lnTo>
                      <a:pt x="2928" y="2898"/>
                    </a:lnTo>
                    <a:lnTo>
                      <a:pt x="2878" y="2917"/>
                    </a:lnTo>
                    <a:lnTo>
                      <a:pt x="2829" y="2935"/>
                    </a:lnTo>
                    <a:lnTo>
                      <a:pt x="2781" y="2948"/>
                    </a:lnTo>
                    <a:lnTo>
                      <a:pt x="2732" y="2965"/>
                    </a:lnTo>
                    <a:lnTo>
                      <a:pt x="2678" y="2976"/>
                    </a:lnTo>
                    <a:lnTo>
                      <a:pt x="2629" y="2989"/>
                    </a:lnTo>
                    <a:lnTo>
                      <a:pt x="2579" y="3002"/>
                    </a:lnTo>
                    <a:lnTo>
                      <a:pt x="2528" y="3013"/>
                    </a:lnTo>
                    <a:lnTo>
                      <a:pt x="2476" y="3021"/>
                    </a:lnTo>
                    <a:lnTo>
                      <a:pt x="2426" y="3032"/>
                    </a:lnTo>
                    <a:lnTo>
                      <a:pt x="2375" y="3042"/>
                    </a:lnTo>
                    <a:lnTo>
                      <a:pt x="2321" y="3047"/>
                    </a:lnTo>
                    <a:lnTo>
                      <a:pt x="2270" y="3052"/>
                    </a:lnTo>
                    <a:lnTo>
                      <a:pt x="2219" y="3058"/>
                    </a:lnTo>
                    <a:lnTo>
                      <a:pt x="2168" y="3060"/>
                    </a:lnTo>
                    <a:lnTo>
                      <a:pt x="2118" y="3063"/>
                    </a:lnTo>
                    <a:lnTo>
                      <a:pt x="2065" y="3067"/>
                    </a:lnTo>
                    <a:lnTo>
                      <a:pt x="2018" y="3069"/>
                    </a:lnTo>
                    <a:lnTo>
                      <a:pt x="1968" y="3072"/>
                    </a:lnTo>
                    <a:lnTo>
                      <a:pt x="1919" y="3072"/>
                    </a:lnTo>
                    <a:lnTo>
                      <a:pt x="1869" y="3072"/>
                    </a:lnTo>
                    <a:lnTo>
                      <a:pt x="1819" y="3069"/>
                    </a:lnTo>
                    <a:lnTo>
                      <a:pt x="1771" y="3067"/>
                    </a:lnTo>
                    <a:lnTo>
                      <a:pt x="1723" y="3067"/>
                    </a:lnTo>
                    <a:lnTo>
                      <a:pt x="1675" y="3063"/>
                    </a:lnTo>
                    <a:lnTo>
                      <a:pt x="1627" y="3060"/>
                    </a:lnTo>
                    <a:lnTo>
                      <a:pt x="1582" y="3055"/>
                    </a:lnTo>
                    <a:lnTo>
                      <a:pt x="1537" y="3050"/>
                    </a:lnTo>
                    <a:lnTo>
                      <a:pt x="1491" y="3044"/>
                    </a:lnTo>
                    <a:lnTo>
                      <a:pt x="1448" y="3039"/>
                    </a:lnTo>
                    <a:lnTo>
                      <a:pt x="1405" y="3032"/>
                    </a:lnTo>
                    <a:lnTo>
                      <a:pt x="1360" y="3023"/>
                    </a:lnTo>
                    <a:lnTo>
                      <a:pt x="1321" y="3018"/>
                    </a:lnTo>
                    <a:lnTo>
                      <a:pt x="1278" y="3010"/>
                    </a:lnTo>
                    <a:lnTo>
                      <a:pt x="1238" y="3002"/>
                    </a:lnTo>
                    <a:lnTo>
                      <a:pt x="1202" y="2994"/>
                    </a:lnTo>
                    <a:lnTo>
                      <a:pt x="1161" y="2985"/>
                    </a:lnTo>
                    <a:lnTo>
                      <a:pt x="1128" y="2973"/>
                    </a:lnTo>
                    <a:lnTo>
                      <a:pt x="1091" y="2965"/>
                    </a:lnTo>
                    <a:lnTo>
                      <a:pt x="1057" y="2954"/>
                    </a:lnTo>
                    <a:lnTo>
                      <a:pt x="1024" y="2943"/>
                    </a:lnTo>
                    <a:lnTo>
                      <a:pt x="992" y="2935"/>
                    </a:lnTo>
                    <a:lnTo>
                      <a:pt x="964" y="2923"/>
                    </a:lnTo>
                    <a:lnTo>
                      <a:pt x="932" y="2907"/>
                    </a:lnTo>
                    <a:lnTo>
                      <a:pt x="904" y="2898"/>
                    </a:lnTo>
                    <a:lnTo>
                      <a:pt x="878" y="2886"/>
                    </a:lnTo>
                    <a:lnTo>
                      <a:pt x="853" y="2874"/>
                    </a:lnTo>
                    <a:lnTo>
                      <a:pt x="832" y="2862"/>
                    </a:lnTo>
                    <a:lnTo>
                      <a:pt x="811" y="2849"/>
                    </a:lnTo>
                    <a:lnTo>
                      <a:pt x="725" y="2798"/>
                    </a:lnTo>
                    <a:lnTo>
                      <a:pt x="651" y="2747"/>
                    </a:lnTo>
                    <a:lnTo>
                      <a:pt x="584" y="2692"/>
                    </a:lnTo>
                    <a:lnTo>
                      <a:pt x="521" y="2635"/>
                    </a:lnTo>
                    <a:lnTo>
                      <a:pt x="464" y="2575"/>
                    </a:lnTo>
                    <a:lnTo>
                      <a:pt x="414" y="2516"/>
                    </a:lnTo>
                    <a:lnTo>
                      <a:pt x="368" y="2453"/>
                    </a:lnTo>
                    <a:lnTo>
                      <a:pt x="329" y="2395"/>
                    </a:lnTo>
                    <a:lnTo>
                      <a:pt x="294" y="2333"/>
                    </a:lnTo>
                    <a:lnTo>
                      <a:pt x="267" y="2271"/>
                    </a:lnTo>
                    <a:lnTo>
                      <a:pt x="240" y="2209"/>
                    </a:lnTo>
                    <a:lnTo>
                      <a:pt x="219" y="2147"/>
                    </a:lnTo>
                    <a:lnTo>
                      <a:pt x="205" y="2084"/>
                    </a:lnTo>
                    <a:lnTo>
                      <a:pt x="187" y="2023"/>
                    </a:lnTo>
                    <a:lnTo>
                      <a:pt x="179" y="1964"/>
                    </a:lnTo>
                    <a:lnTo>
                      <a:pt x="169" y="1903"/>
                    </a:lnTo>
                    <a:lnTo>
                      <a:pt x="168" y="1845"/>
                    </a:lnTo>
                    <a:lnTo>
                      <a:pt x="164" y="1789"/>
                    </a:lnTo>
                    <a:lnTo>
                      <a:pt x="164" y="1733"/>
                    </a:lnTo>
                    <a:lnTo>
                      <a:pt x="168" y="1681"/>
                    </a:lnTo>
                    <a:lnTo>
                      <a:pt x="169" y="1630"/>
                    </a:lnTo>
                    <a:lnTo>
                      <a:pt x="176" y="1580"/>
                    </a:lnTo>
                    <a:lnTo>
                      <a:pt x="185" y="1535"/>
                    </a:lnTo>
                    <a:lnTo>
                      <a:pt x="190" y="1492"/>
                    </a:lnTo>
                    <a:lnTo>
                      <a:pt x="198" y="1453"/>
                    </a:lnTo>
                    <a:lnTo>
                      <a:pt x="206" y="1413"/>
                    </a:lnTo>
                    <a:lnTo>
                      <a:pt x="215" y="1383"/>
                    </a:lnTo>
                    <a:lnTo>
                      <a:pt x="224" y="1351"/>
                    </a:lnTo>
                    <a:lnTo>
                      <a:pt x="230" y="1325"/>
                    </a:lnTo>
                    <a:lnTo>
                      <a:pt x="238" y="1304"/>
                    </a:lnTo>
                    <a:lnTo>
                      <a:pt x="244" y="1287"/>
                    </a:lnTo>
                    <a:lnTo>
                      <a:pt x="247" y="1275"/>
                    </a:lnTo>
                    <a:lnTo>
                      <a:pt x="249" y="1267"/>
                    </a:lnTo>
                    <a:lnTo>
                      <a:pt x="252" y="1264"/>
                    </a:lnTo>
                    <a:lnTo>
                      <a:pt x="286" y="1185"/>
                    </a:lnTo>
                    <a:lnTo>
                      <a:pt x="326" y="1110"/>
                    </a:lnTo>
                    <a:lnTo>
                      <a:pt x="372" y="1033"/>
                    </a:lnTo>
                    <a:lnTo>
                      <a:pt x="417" y="966"/>
                    </a:lnTo>
                    <a:lnTo>
                      <a:pt x="464" y="897"/>
                    </a:lnTo>
                    <a:lnTo>
                      <a:pt x="518" y="834"/>
                    </a:lnTo>
                    <a:lnTo>
                      <a:pt x="572" y="773"/>
                    </a:lnTo>
                    <a:lnTo>
                      <a:pt x="629" y="717"/>
                    </a:lnTo>
                    <a:lnTo>
                      <a:pt x="686" y="664"/>
                    </a:lnTo>
                    <a:lnTo>
                      <a:pt x="745" y="610"/>
                    </a:lnTo>
                    <a:lnTo>
                      <a:pt x="808" y="561"/>
                    </a:lnTo>
                    <a:lnTo>
                      <a:pt x="870" y="516"/>
                    </a:lnTo>
                    <a:lnTo>
                      <a:pt x="932" y="471"/>
                    </a:lnTo>
                    <a:lnTo>
                      <a:pt x="995" y="433"/>
                    </a:lnTo>
                    <a:lnTo>
                      <a:pt x="1057" y="393"/>
                    </a:lnTo>
                    <a:lnTo>
                      <a:pt x="1120" y="359"/>
                    </a:lnTo>
                    <a:lnTo>
                      <a:pt x="1182" y="325"/>
                    </a:lnTo>
                    <a:lnTo>
                      <a:pt x="1242" y="293"/>
                    </a:lnTo>
                    <a:lnTo>
                      <a:pt x="1304" y="263"/>
                    </a:lnTo>
                    <a:lnTo>
                      <a:pt x="1360" y="236"/>
                    </a:lnTo>
                    <a:lnTo>
                      <a:pt x="1421" y="215"/>
                    </a:lnTo>
                    <a:lnTo>
                      <a:pt x="1475" y="191"/>
                    </a:lnTo>
                    <a:lnTo>
                      <a:pt x="1528" y="173"/>
                    </a:lnTo>
                    <a:lnTo>
                      <a:pt x="1576" y="152"/>
                    </a:lnTo>
                    <a:lnTo>
                      <a:pt x="1624" y="139"/>
                    </a:lnTo>
                    <a:lnTo>
                      <a:pt x="1670" y="124"/>
                    </a:lnTo>
                    <a:lnTo>
                      <a:pt x="1709" y="111"/>
                    </a:lnTo>
                    <a:lnTo>
                      <a:pt x="1745" y="99"/>
                    </a:lnTo>
                    <a:lnTo>
                      <a:pt x="1779" y="91"/>
                    </a:lnTo>
                    <a:lnTo>
                      <a:pt x="1808" y="82"/>
                    </a:lnTo>
                    <a:lnTo>
                      <a:pt x="1833" y="79"/>
                    </a:lnTo>
                    <a:lnTo>
                      <a:pt x="1850" y="74"/>
                    </a:lnTo>
                    <a:lnTo>
                      <a:pt x="1865" y="70"/>
                    </a:lnTo>
                    <a:lnTo>
                      <a:pt x="1873" y="67"/>
                    </a:lnTo>
                    <a:lnTo>
                      <a:pt x="1878" y="66"/>
                    </a:lnTo>
                    <a:lnTo>
                      <a:pt x="1069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3280" y="2412720"/>
                <a:ext cx="156240" cy="3072600"/>
              </a:xfrm>
              <a:custGeom>
                <a:avLst/>
                <a:gdLst/>
                <a:ahLst/>
                <a:rect l="l" t="t" r="r" b="b"/>
                <a:pathLst>
                  <a:path w="662" h="13186">
                    <a:moveTo>
                      <a:pt x="662" y="13186"/>
                    </a:moveTo>
                    <a:lnTo>
                      <a:pt x="386" y="0"/>
                    </a:lnTo>
                    <a:lnTo>
                      <a:pt x="110" y="193"/>
                    </a:lnTo>
                    <a:lnTo>
                      <a:pt x="0" y="13076"/>
                    </a:lnTo>
                    <a:lnTo>
                      <a:pt x="662" y="13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47640" y="1989000"/>
              <a:ext cx="1908360" cy="30816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640" y="5486040"/>
              <a:ext cx="1864440" cy="30168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4520" y="2272320"/>
              <a:ext cx="141480" cy="33192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97080" y="3249720"/>
            <a:ext cx="4537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825720"/>
            <a:ext cx="52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Reducción MGA &gt;&gt; 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Excepto: TED; </a:t>
            </a:r>
            <a:r>
              <a:rPr b="0" i="1" lang="es-ES" sz="2000" spc="-1" strike="noStrike">
                <a:solidFill>
                  <a:srgbClr val="333399"/>
                </a:solidFill>
                <a:latin typeface="Verdana"/>
              </a:rPr>
              <a:t>de minimis</a:t>
            </a: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; Az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97080" y="4691160"/>
            <a:ext cx="3059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00cc00"/>
                </a:solidFill>
                <a:latin typeface="Verdana"/>
              </a:rPr>
              <a:t>Aut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194440"/>
            <a:ext cx="532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  Servicios generales y pag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 Criterios de “desconex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60280"/>
            <a:ext cx="727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Ayuda inter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4520" y="1268280"/>
            <a:ext cx="309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co con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CAC-8408-4DB6-9AA3-E130CF8B8A4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2133720"/>
            <a:ext cx="6840720" cy="3527280"/>
          </a:xfrm>
          <a:prstGeom prst="rect">
            <a:avLst/>
          </a:prstGeom>
          <a:solidFill>
            <a:srgbClr val="ccffcc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efecto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distorsión del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ayuda en materia de precios a los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 otorgada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diante un programa gubern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nanciada con fond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implica transferencias d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9933"/>
                </a:solidFill>
                <a:latin typeface="Verdana"/>
              </a:rPr>
              <a:t>Criterios fu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33360"/>
            <a:ext cx="640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 (Anexo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723-7536-4AB5-B00A-7B547AC2A8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060640"/>
            <a:ext cx="370836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rogramas estatales</a:t>
            </a:r>
            <a:r>
              <a:rPr b="0" lang="es-ES_tradnl" sz="2900" spc="-1" strike="noStrike">
                <a:solidFill>
                  <a:srgbClr val="ffffff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2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rvici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lucha pla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nsul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merci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fraestruc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stitución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alimentari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065320"/>
            <a:ext cx="352872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agos direct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cose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reajuste e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retiro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detracció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grama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sistencia regional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04640"/>
            <a:ext cx="4392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cff99"/>
                </a:solidFill>
                <a:latin typeface="Verdana"/>
              </a:rPr>
              <a:t>Criterios 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2DC-0E98-40E6-B4CE-3CB1F5F411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76360" y="5084640"/>
            <a:ext cx="5400720" cy="733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sposiciones “anti-elu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789360"/>
            <a:ext cx="1008000" cy="1763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08520 h 1763640"/>
              <a:gd name="textAreaBottom" fmla="*/ 12787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38560" y="3679920"/>
            <a:ext cx="3384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Listas de con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64080" y="1952640"/>
            <a:ext cx="43639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ohibición gener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65520" y="3032280"/>
            <a:ext cx="47941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04640"/>
            <a:ext cx="626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Marco norm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68480" y="1413000"/>
            <a:ext cx="1523520" cy="3330000"/>
            <a:chOff x="1968480" y="1413000"/>
            <a:chExt cx="1523520" cy="3330000"/>
          </a:xfrm>
        </p:grpSpPr>
        <p:sp>
          <p:nvSpPr>
            <p:cNvPr id="222" name=""/>
            <p:cNvSpPr/>
            <p:nvPr/>
          </p:nvSpPr>
          <p:spPr>
            <a:xfrm>
              <a:off x="2340000" y="1935360"/>
              <a:ext cx="828720" cy="784080"/>
            </a:xfrm>
            <a:custGeom>
              <a:avLst/>
              <a:gdLst/>
              <a:ahLst/>
              <a:rect l="l" t="t" r="r" b="b"/>
              <a:pathLst>
                <a:path w="4606" h="3462">
                  <a:moveTo>
                    <a:pt x="4402" y="809"/>
                  </a:moveTo>
                  <a:lnTo>
                    <a:pt x="4513" y="1047"/>
                  </a:lnTo>
                  <a:lnTo>
                    <a:pt x="4513" y="1052"/>
                  </a:lnTo>
                  <a:lnTo>
                    <a:pt x="4522" y="1067"/>
                  </a:lnTo>
                  <a:lnTo>
                    <a:pt x="4534" y="1092"/>
                  </a:lnTo>
                  <a:lnTo>
                    <a:pt x="4547" y="1126"/>
                  </a:lnTo>
                  <a:lnTo>
                    <a:pt x="4562" y="1164"/>
                  </a:lnTo>
                  <a:lnTo>
                    <a:pt x="4575" y="1216"/>
                  </a:lnTo>
                  <a:lnTo>
                    <a:pt x="4589" y="1275"/>
                  </a:lnTo>
                  <a:lnTo>
                    <a:pt x="4598" y="1341"/>
                  </a:lnTo>
                  <a:lnTo>
                    <a:pt x="4604" y="1414"/>
                  </a:lnTo>
                  <a:lnTo>
                    <a:pt x="4606" y="1494"/>
                  </a:lnTo>
                  <a:lnTo>
                    <a:pt x="4601" y="1580"/>
                  </a:lnTo>
                  <a:lnTo>
                    <a:pt x="4589" y="1672"/>
                  </a:lnTo>
                  <a:lnTo>
                    <a:pt x="4567" y="1771"/>
                  </a:lnTo>
                  <a:lnTo>
                    <a:pt x="4535" y="1877"/>
                  </a:lnTo>
                  <a:lnTo>
                    <a:pt x="4493" y="1983"/>
                  </a:lnTo>
                  <a:lnTo>
                    <a:pt x="4460" y="2059"/>
                  </a:lnTo>
                  <a:lnTo>
                    <a:pt x="4423" y="2129"/>
                  </a:lnTo>
                  <a:lnTo>
                    <a:pt x="4383" y="2200"/>
                  </a:lnTo>
                  <a:lnTo>
                    <a:pt x="4343" y="2262"/>
                  </a:lnTo>
                  <a:lnTo>
                    <a:pt x="4303" y="2328"/>
                  </a:lnTo>
                  <a:lnTo>
                    <a:pt x="4261" y="2386"/>
                  </a:lnTo>
                  <a:lnTo>
                    <a:pt x="4215" y="2443"/>
                  </a:lnTo>
                  <a:lnTo>
                    <a:pt x="4173" y="2496"/>
                  </a:lnTo>
                  <a:lnTo>
                    <a:pt x="4127" y="2546"/>
                  </a:lnTo>
                  <a:lnTo>
                    <a:pt x="4082" y="2599"/>
                  </a:lnTo>
                  <a:lnTo>
                    <a:pt x="4034" y="2642"/>
                  </a:lnTo>
                  <a:lnTo>
                    <a:pt x="3986" y="2687"/>
                  </a:lnTo>
                  <a:lnTo>
                    <a:pt x="3938" y="2731"/>
                  </a:lnTo>
                  <a:lnTo>
                    <a:pt x="3887" y="2769"/>
                  </a:lnTo>
                  <a:lnTo>
                    <a:pt x="3838" y="2803"/>
                  </a:lnTo>
                  <a:lnTo>
                    <a:pt x="3791" y="2840"/>
                  </a:lnTo>
                  <a:lnTo>
                    <a:pt x="3738" y="2874"/>
                  </a:lnTo>
                  <a:lnTo>
                    <a:pt x="3689" y="2906"/>
                  </a:lnTo>
                  <a:lnTo>
                    <a:pt x="3641" y="2934"/>
                  </a:lnTo>
                  <a:lnTo>
                    <a:pt x="3589" y="2962"/>
                  </a:lnTo>
                  <a:lnTo>
                    <a:pt x="3538" y="2989"/>
                  </a:lnTo>
                  <a:lnTo>
                    <a:pt x="3490" y="3013"/>
                  </a:lnTo>
                  <a:lnTo>
                    <a:pt x="3442" y="3037"/>
                  </a:lnTo>
                  <a:lnTo>
                    <a:pt x="3391" y="3061"/>
                  </a:lnTo>
                  <a:lnTo>
                    <a:pt x="3343" y="3080"/>
                  </a:lnTo>
                  <a:lnTo>
                    <a:pt x="3295" y="3100"/>
                  </a:lnTo>
                  <a:lnTo>
                    <a:pt x="3247" y="3120"/>
                  </a:lnTo>
                  <a:lnTo>
                    <a:pt x="3202" y="3137"/>
                  </a:lnTo>
                  <a:lnTo>
                    <a:pt x="3156" y="3157"/>
                  </a:lnTo>
                  <a:lnTo>
                    <a:pt x="3113" y="3170"/>
                  </a:lnTo>
                  <a:lnTo>
                    <a:pt x="3069" y="3187"/>
                  </a:lnTo>
                  <a:lnTo>
                    <a:pt x="3028" y="3202"/>
                  </a:lnTo>
                  <a:lnTo>
                    <a:pt x="2986" y="3215"/>
                  </a:lnTo>
                  <a:lnTo>
                    <a:pt x="2946" y="3231"/>
                  </a:lnTo>
                  <a:lnTo>
                    <a:pt x="2853" y="3264"/>
                  </a:lnTo>
                  <a:lnTo>
                    <a:pt x="2764" y="3294"/>
                  </a:lnTo>
                  <a:lnTo>
                    <a:pt x="2674" y="3320"/>
                  </a:lnTo>
                  <a:lnTo>
                    <a:pt x="2589" y="3347"/>
                  </a:lnTo>
                  <a:lnTo>
                    <a:pt x="2506" y="3365"/>
                  </a:lnTo>
                  <a:lnTo>
                    <a:pt x="2428" y="3385"/>
                  </a:lnTo>
                  <a:lnTo>
                    <a:pt x="2351" y="3401"/>
                  </a:lnTo>
                  <a:lnTo>
                    <a:pt x="2274" y="3416"/>
                  </a:lnTo>
                  <a:lnTo>
                    <a:pt x="2204" y="3427"/>
                  </a:lnTo>
                  <a:lnTo>
                    <a:pt x="2136" y="3438"/>
                  </a:lnTo>
                  <a:lnTo>
                    <a:pt x="2067" y="3447"/>
                  </a:lnTo>
                  <a:lnTo>
                    <a:pt x="2003" y="3453"/>
                  </a:lnTo>
                  <a:lnTo>
                    <a:pt x="1943" y="3455"/>
                  </a:lnTo>
                  <a:lnTo>
                    <a:pt x="1880" y="3462"/>
                  </a:lnTo>
                  <a:lnTo>
                    <a:pt x="1824" y="3462"/>
                  </a:lnTo>
                  <a:lnTo>
                    <a:pt x="1767" y="3462"/>
                  </a:lnTo>
                  <a:lnTo>
                    <a:pt x="1717" y="3462"/>
                  </a:lnTo>
                  <a:lnTo>
                    <a:pt x="1664" y="3455"/>
                  </a:lnTo>
                  <a:lnTo>
                    <a:pt x="1618" y="3453"/>
                  </a:lnTo>
                  <a:lnTo>
                    <a:pt x="1568" y="3447"/>
                  </a:lnTo>
                  <a:lnTo>
                    <a:pt x="1527" y="3443"/>
                  </a:lnTo>
                  <a:lnTo>
                    <a:pt x="1482" y="3435"/>
                  </a:lnTo>
                  <a:lnTo>
                    <a:pt x="1440" y="3430"/>
                  </a:lnTo>
                  <a:lnTo>
                    <a:pt x="1404" y="3422"/>
                  </a:lnTo>
                  <a:lnTo>
                    <a:pt x="1368" y="3413"/>
                  </a:lnTo>
                  <a:lnTo>
                    <a:pt x="1331" y="3405"/>
                  </a:lnTo>
                  <a:lnTo>
                    <a:pt x="1291" y="3393"/>
                  </a:lnTo>
                  <a:lnTo>
                    <a:pt x="1249" y="3382"/>
                  </a:lnTo>
                  <a:lnTo>
                    <a:pt x="1200" y="3365"/>
                  </a:lnTo>
                  <a:lnTo>
                    <a:pt x="1149" y="3348"/>
                  </a:lnTo>
                  <a:lnTo>
                    <a:pt x="1096" y="3328"/>
                  </a:lnTo>
                  <a:lnTo>
                    <a:pt x="1042" y="3306"/>
                  </a:lnTo>
                  <a:lnTo>
                    <a:pt x="984" y="3284"/>
                  </a:lnTo>
                  <a:lnTo>
                    <a:pt x="925" y="3256"/>
                  </a:lnTo>
                  <a:lnTo>
                    <a:pt x="869" y="3227"/>
                  </a:lnTo>
                  <a:lnTo>
                    <a:pt x="810" y="3196"/>
                  </a:lnTo>
                  <a:lnTo>
                    <a:pt x="751" y="3162"/>
                  </a:lnTo>
                  <a:lnTo>
                    <a:pt x="688" y="3125"/>
                  </a:lnTo>
                  <a:lnTo>
                    <a:pt x="631" y="3088"/>
                  </a:lnTo>
                  <a:lnTo>
                    <a:pt x="572" y="3050"/>
                  </a:lnTo>
                  <a:lnTo>
                    <a:pt x="515" y="3008"/>
                  </a:lnTo>
                  <a:lnTo>
                    <a:pt x="458" y="2964"/>
                  </a:lnTo>
                  <a:lnTo>
                    <a:pt x="407" y="2919"/>
                  </a:lnTo>
                  <a:lnTo>
                    <a:pt x="354" y="2872"/>
                  </a:lnTo>
                  <a:lnTo>
                    <a:pt x="308" y="2820"/>
                  </a:lnTo>
                  <a:lnTo>
                    <a:pt x="259" y="2769"/>
                  </a:lnTo>
                  <a:lnTo>
                    <a:pt x="221" y="2715"/>
                  </a:lnTo>
                  <a:lnTo>
                    <a:pt x="179" y="2657"/>
                  </a:lnTo>
                  <a:lnTo>
                    <a:pt x="149" y="2599"/>
                  </a:lnTo>
                  <a:lnTo>
                    <a:pt x="117" y="2538"/>
                  </a:lnTo>
                  <a:lnTo>
                    <a:pt x="96" y="2477"/>
                  </a:lnTo>
                  <a:lnTo>
                    <a:pt x="72" y="2406"/>
                  </a:lnTo>
                  <a:lnTo>
                    <a:pt x="53" y="2339"/>
                  </a:lnTo>
                  <a:lnTo>
                    <a:pt x="35" y="2269"/>
                  </a:lnTo>
                  <a:lnTo>
                    <a:pt x="25" y="2200"/>
                  </a:lnTo>
                  <a:lnTo>
                    <a:pt x="13" y="2132"/>
                  </a:lnTo>
                  <a:lnTo>
                    <a:pt x="5" y="2068"/>
                  </a:lnTo>
                  <a:lnTo>
                    <a:pt x="2" y="2002"/>
                  </a:lnTo>
                  <a:lnTo>
                    <a:pt x="0" y="1940"/>
                  </a:lnTo>
                  <a:lnTo>
                    <a:pt x="0" y="1877"/>
                  </a:lnTo>
                  <a:lnTo>
                    <a:pt x="2" y="1816"/>
                  </a:lnTo>
                  <a:lnTo>
                    <a:pt x="8" y="1754"/>
                  </a:lnTo>
                  <a:lnTo>
                    <a:pt x="16" y="1696"/>
                  </a:lnTo>
                  <a:lnTo>
                    <a:pt x="25" y="1637"/>
                  </a:lnTo>
                  <a:lnTo>
                    <a:pt x="38" y="1580"/>
                  </a:lnTo>
                  <a:lnTo>
                    <a:pt x="53" y="1523"/>
                  </a:lnTo>
                  <a:lnTo>
                    <a:pt x="70" y="1469"/>
                  </a:lnTo>
                  <a:lnTo>
                    <a:pt x="88" y="1414"/>
                  </a:lnTo>
                  <a:lnTo>
                    <a:pt x="109" y="1362"/>
                  </a:lnTo>
                  <a:lnTo>
                    <a:pt x="133" y="1309"/>
                  </a:lnTo>
                  <a:lnTo>
                    <a:pt x="155" y="1258"/>
                  </a:lnTo>
                  <a:lnTo>
                    <a:pt x="179" y="1209"/>
                  </a:lnTo>
                  <a:lnTo>
                    <a:pt x="208" y="1163"/>
                  </a:lnTo>
                  <a:lnTo>
                    <a:pt x="237" y="1114"/>
                  </a:lnTo>
                  <a:lnTo>
                    <a:pt x="269" y="1067"/>
                  </a:lnTo>
                  <a:lnTo>
                    <a:pt x="299" y="1018"/>
                  </a:lnTo>
                  <a:lnTo>
                    <a:pt x="333" y="977"/>
                  </a:lnTo>
                  <a:lnTo>
                    <a:pt x="367" y="933"/>
                  </a:lnTo>
                  <a:lnTo>
                    <a:pt x="403" y="887"/>
                  </a:lnTo>
                  <a:lnTo>
                    <a:pt x="440" y="849"/>
                  </a:lnTo>
                  <a:lnTo>
                    <a:pt x="478" y="807"/>
                  </a:lnTo>
                  <a:lnTo>
                    <a:pt x="518" y="767"/>
                  </a:lnTo>
                  <a:lnTo>
                    <a:pt x="557" y="730"/>
                  </a:lnTo>
                  <a:lnTo>
                    <a:pt x="597" y="691"/>
                  </a:lnTo>
                  <a:lnTo>
                    <a:pt x="640" y="656"/>
                  </a:lnTo>
                  <a:lnTo>
                    <a:pt x="680" y="621"/>
                  </a:lnTo>
                  <a:lnTo>
                    <a:pt x="723" y="586"/>
                  </a:lnTo>
                  <a:lnTo>
                    <a:pt x="767" y="552"/>
                  </a:lnTo>
                  <a:lnTo>
                    <a:pt x="810" y="523"/>
                  </a:lnTo>
                  <a:lnTo>
                    <a:pt x="851" y="491"/>
                  </a:lnTo>
                  <a:lnTo>
                    <a:pt x="898" y="460"/>
                  </a:lnTo>
                  <a:lnTo>
                    <a:pt x="939" y="432"/>
                  </a:lnTo>
                  <a:lnTo>
                    <a:pt x="984" y="404"/>
                  </a:lnTo>
                  <a:lnTo>
                    <a:pt x="1030" y="375"/>
                  </a:lnTo>
                  <a:lnTo>
                    <a:pt x="1074" y="350"/>
                  </a:lnTo>
                  <a:lnTo>
                    <a:pt x="1116" y="324"/>
                  </a:lnTo>
                  <a:lnTo>
                    <a:pt x="1162" y="301"/>
                  </a:lnTo>
                  <a:lnTo>
                    <a:pt x="1203" y="276"/>
                  </a:lnTo>
                  <a:lnTo>
                    <a:pt x="1249" y="256"/>
                  </a:lnTo>
                  <a:lnTo>
                    <a:pt x="1291" y="234"/>
                  </a:lnTo>
                  <a:lnTo>
                    <a:pt x="1333" y="213"/>
                  </a:lnTo>
                  <a:lnTo>
                    <a:pt x="1373" y="197"/>
                  </a:lnTo>
                  <a:lnTo>
                    <a:pt x="1416" y="178"/>
                  </a:lnTo>
                  <a:lnTo>
                    <a:pt x="1456" y="163"/>
                  </a:lnTo>
                  <a:lnTo>
                    <a:pt x="1495" y="147"/>
                  </a:lnTo>
                  <a:lnTo>
                    <a:pt x="1535" y="130"/>
                  </a:lnTo>
                  <a:lnTo>
                    <a:pt x="1572" y="118"/>
                  </a:lnTo>
                  <a:lnTo>
                    <a:pt x="1610" y="105"/>
                  </a:lnTo>
                  <a:lnTo>
                    <a:pt x="1647" y="93"/>
                  </a:lnTo>
                  <a:lnTo>
                    <a:pt x="1680" y="81"/>
                  </a:lnTo>
                  <a:lnTo>
                    <a:pt x="1711" y="70"/>
                  </a:lnTo>
                  <a:lnTo>
                    <a:pt x="2442" y="0"/>
                  </a:lnTo>
                  <a:lnTo>
                    <a:pt x="2451" y="0"/>
                  </a:lnTo>
                  <a:lnTo>
                    <a:pt x="2473" y="6"/>
                  </a:lnTo>
                  <a:lnTo>
                    <a:pt x="2509" y="8"/>
                  </a:lnTo>
                  <a:lnTo>
                    <a:pt x="2559" y="14"/>
                  </a:lnTo>
                  <a:lnTo>
                    <a:pt x="2613" y="22"/>
                  </a:lnTo>
                  <a:lnTo>
                    <a:pt x="2680" y="32"/>
                  </a:lnTo>
                  <a:lnTo>
                    <a:pt x="2754" y="43"/>
                  </a:lnTo>
                  <a:lnTo>
                    <a:pt x="2833" y="51"/>
                  </a:lnTo>
                  <a:lnTo>
                    <a:pt x="2917" y="65"/>
                  </a:lnTo>
                  <a:lnTo>
                    <a:pt x="3003" y="77"/>
                  </a:lnTo>
                  <a:lnTo>
                    <a:pt x="3090" y="90"/>
                  </a:lnTo>
                  <a:lnTo>
                    <a:pt x="3178" y="105"/>
                  </a:lnTo>
                  <a:lnTo>
                    <a:pt x="3264" y="118"/>
                  </a:lnTo>
                  <a:lnTo>
                    <a:pt x="3345" y="130"/>
                  </a:lnTo>
                  <a:lnTo>
                    <a:pt x="3426" y="147"/>
                  </a:lnTo>
                  <a:lnTo>
                    <a:pt x="3498" y="159"/>
                  </a:lnTo>
                  <a:lnTo>
                    <a:pt x="3561" y="172"/>
                  </a:lnTo>
                  <a:lnTo>
                    <a:pt x="3618" y="186"/>
                  </a:lnTo>
                  <a:lnTo>
                    <a:pt x="3680" y="205"/>
                  </a:lnTo>
                  <a:lnTo>
                    <a:pt x="3748" y="237"/>
                  </a:lnTo>
                  <a:lnTo>
                    <a:pt x="3817" y="279"/>
                  </a:lnTo>
                  <a:lnTo>
                    <a:pt x="3887" y="328"/>
                  </a:lnTo>
                  <a:lnTo>
                    <a:pt x="3958" y="382"/>
                  </a:lnTo>
                  <a:lnTo>
                    <a:pt x="4025" y="436"/>
                  </a:lnTo>
                  <a:lnTo>
                    <a:pt x="4094" y="497"/>
                  </a:lnTo>
                  <a:lnTo>
                    <a:pt x="4156" y="556"/>
                  </a:lnTo>
                  <a:lnTo>
                    <a:pt x="4214" y="613"/>
                  </a:lnTo>
                  <a:lnTo>
                    <a:pt x="4268" y="663"/>
                  </a:lnTo>
                  <a:lnTo>
                    <a:pt x="4311" y="710"/>
                  </a:lnTo>
                  <a:lnTo>
                    <a:pt x="4348" y="754"/>
                  </a:lnTo>
                  <a:lnTo>
                    <a:pt x="4377" y="782"/>
                  </a:lnTo>
                  <a:lnTo>
                    <a:pt x="4394" y="800"/>
                  </a:lnTo>
                  <a:lnTo>
                    <a:pt x="4402" y="809"/>
                  </a:lnTo>
                  <a:close/>
                </a:path>
              </a:pathLst>
            </a:custGeom>
            <a:solidFill>
              <a:srgbClr val="e0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55120" y="3195000"/>
              <a:ext cx="828720" cy="782280"/>
            </a:xfrm>
            <a:custGeom>
              <a:avLst/>
              <a:gdLst/>
              <a:ahLst/>
              <a:rect l="l" t="t" r="r" b="b"/>
              <a:pathLst>
                <a:path w="4608" h="3459">
                  <a:moveTo>
                    <a:pt x="4401" y="810"/>
                  </a:moveTo>
                  <a:lnTo>
                    <a:pt x="4512" y="1048"/>
                  </a:lnTo>
                  <a:lnTo>
                    <a:pt x="4516" y="1052"/>
                  </a:lnTo>
                  <a:lnTo>
                    <a:pt x="4524" y="1067"/>
                  </a:lnTo>
                  <a:lnTo>
                    <a:pt x="4534" y="1089"/>
                  </a:lnTo>
                  <a:lnTo>
                    <a:pt x="4549" y="1126"/>
                  </a:lnTo>
                  <a:lnTo>
                    <a:pt x="4562" y="1165"/>
                  </a:lnTo>
                  <a:lnTo>
                    <a:pt x="4578" y="1217"/>
                  </a:lnTo>
                  <a:lnTo>
                    <a:pt x="4591" y="1275"/>
                  </a:lnTo>
                  <a:lnTo>
                    <a:pt x="4599" y="1343"/>
                  </a:lnTo>
                  <a:lnTo>
                    <a:pt x="4608" y="1413"/>
                  </a:lnTo>
                  <a:lnTo>
                    <a:pt x="4608" y="1495"/>
                  </a:lnTo>
                  <a:lnTo>
                    <a:pt x="4602" y="1580"/>
                  </a:lnTo>
                  <a:lnTo>
                    <a:pt x="4591" y="1673"/>
                  </a:lnTo>
                  <a:lnTo>
                    <a:pt x="4569" y="1771"/>
                  </a:lnTo>
                  <a:lnTo>
                    <a:pt x="4537" y="1874"/>
                  </a:lnTo>
                  <a:lnTo>
                    <a:pt x="4495" y="1981"/>
                  </a:lnTo>
                  <a:lnTo>
                    <a:pt x="4461" y="2057"/>
                  </a:lnTo>
                  <a:lnTo>
                    <a:pt x="4421" y="2127"/>
                  </a:lnTo>
                  <a:lnTo>
                    <a:pt x="4384" y="2196"/>
                  </a:lnTo>
                  <a:lnTo>
                    <a:pt x="4346" y="2263"/>
                  </a:lnTo>
                  <a:lnTo>
                    <a:pt x="4305" y="2325"/>
                  </a:lnTo>
                  <a:lnTo>
                    <a:pt x="4263" y="2384"/>
                  </a:lnTo>
                  <a:lnTo>
                    <a:pt x="4218" y="2440"/>
                  </a:lnTo>
                  <a:lnTo>
                    <a:pt x="4175" y="2498"/>
                  </a:lnTo>
                  <a:lnTo>
                    <a:pt x="4130" y="2548"/>
                  </a:lnTo>
                  <a:lnTo>
                    <a:pt x="4081" y="2596"/>
                  </a:lnTo>
                  <a:lnTo>
                    <a:pt x="4036" y="2642"/>
                  </a:lnTo>
                  <a:lnTo>
                    <a:pt x="3988" y="2687"/>
                  </a:lnTo>
                  <a:lnTo>
                    <a:pt x="3940" y="2729"/>
                  </a:lnTo>
                  <a:lnTo>
                    <a:pt x="3889" y="2768"/>
                  </a:lnTo>
                  <a:lnTo>
                    <a:pt x="3840" y="2804"/>
                  </a:lnTo>
                  <a:lnTo>
                    <a:pt x="3789" y="2838"/>
                  </a:lnTo>
                  <a:lnTo>
                    <a:pt x="3741" y="2873"/>
                  </a:lnTo>
                  <a:lnTo>
                    <a:pt x="3690" y="2904"/>
                  </a:lnTo>
                  <a:lnTo>
                    <a:pt x="3639" y="2935"/>
                  </a:lnTo>
                  <a:lnTo>
                    <a:pt x="3591" y="2963"/>
                  </a:lnTo>
                  <a:lnTo>
                    <a:pt x="3541" y="2989"/>
                  </a:lnTo>
                  <a:lnTo>
                    <a:pt x="3492" y="3013"/>
                  </a:lnTo>
                  <a:lnTo>
                    <a:pt x="3442" y="3036"/>
                  </a:lnTo>
                  <a:lnTo>
                    <a:pt x="3392" y="3059"/>
                  </a:lnTo>
                  <a:lnTo>
                    <a:pt x="3344" y="3081"/>
                  </a:lnTo>
                  <a:lnTo>
                    <a:pt x="3296" y="3101"/>
                  </a:lnTo>
                  <a:lnTo>
                    <a:pt x="3251" y="3118"/>
                  </a:lnTo>
                  <a:lnTo>
                    <a:pt x="3202" y="3135"/>
                  </a:lnTo>
                  <a:lnTo>
                    <a:pt x="3157" y="3151"/>
                  </a:lnTo>
                  <a:lnTo>
                    <a:pt x="3114" y="3168"/>
                  </a:lnTo>
                  <a:lnTo>
                    <a:pt x="3072" y="3186"/>
                  </a:lnTo>
                  <a:lnTo>
                    <a:pt x="3027" y="3199"/>
                  </a:lnTo>
                  <a:lnTo>
                    <a:pt x="2986" y="3213"/>
                  </a:lnTo>
                  <a:lnTo>
                    <a:pt x="2948" y="3228"/>
                  </a:lnTo>
                  <a:lnTo>
                    <a:pt x="2853" y="3262"/>
                  </a:lnTo>
                  <a:lnTo>
                    <a:pt x="2763" y="3292"/>
                  </a:lnTo>
                  <a:lnTo>
                    <a:pt x="2675" y="3319"/>
                  </a:lnTo>
                  <a:lnTo>
                    <a:pt x="2591" y="3344"/>
                  </a:lnTo>
                  <a:lnTo>
                    <a:pt x="2509" y="3366"/>
                  </a:lnTo>
                  <a:lnTo>
                    <a:pt x="2429" y="3386"/>
                  </a:lnTo>
                  <a:lnTo>
                    <a:pt x="2351" y="3400"/>
                  </a:lnTo>
                  <a:lnTo>
                    <a:pt x="2277" y="3414"/>
                  </a:lnTo>
                  <a:lnTo>
                    <a:pt x="2205" y="3427"/>
                  </a:lnTo>
                  <a:lnTo>
                    <a:pt x="2135" y="3436"/>
                  </a:lnTo>
                  <a:lnTo>
                    <a:pt x="2066" y="3445"/>
                  </a:lnTo>
                  <a:lnTo>
                    <a:pt x="2003" y="3451"/>
                  </a:lnTo>
                  <a:lnTo>
                    <a:pt x="1941" y="3456"/>
                  </a:lnTo>
                  <a:lnTo>
                    <a:pt x="1882" y="3459"/>
                  </a:lnTo>
                  <a:lnTo>
                    <a:pt x="1826" y="3459"/>
                  </a:lnTo>
                  <a:lnTo>
                    <a:pt x="1770" y="3459"/>
                  </a:lnTo>
                  <a:lnTo>
                    <a:pt x="1717" y="3456"/>
                  </a:lnTo>
                  <a:lnTo>
                    <a:pt x="1667" y="3456"/>
                  </a:lnTo>
                  <a:lnTo>
                    <a:pt x="1618" y="3451"/>
                  </a:lnTo>
                  <a:lnTo>
                    <a:pt x="1571" y="3448"/>
                  </a:lnTo>
                  <a:lnTo>
                    <a:pt x="1527" y="3440"/>
                  </a:lnTo>
                  <a:lnTo>
                    <a:pt x="1483" y="3436"/>
                  </a:lnTo>
                  <a:lnTo>
                    <a:pt x="1443" y="3427"/>
                  </a:lnTo>
                  <a:lnTo>
                    <a:pt x="1402" y="3419"/>
                  </a:lnTo>
                  <a:lnTo>
                    <a:pt x="1368" y="3411"/>
                  </a:lnTo>
                  <a:lnTo>
                    <a:pt x="1331" y="3406"/>
                  </a:lnTo>
                  <a:lnTo>
                    <a:pt x="1293" y="3390"/>
                  </a:lnTo>
                  <a:lnTo>
                    <a:pt x="1248" y="3381"/>
                  </a:lnTo>
                  <a:lnTo>
                    <a:pt x="1202" y="3366"/>
                  </a:lnTo>
                  <a:lnTo>
                    <a:pt x="1152" y="3345"/>
                  </a:lnTo>
                  <a:lnTo>
                    <a:pt x="1099" y="3327"/>
                  </a:lnTo>
                  <a:lnTo>
                    <a:pt x="1043" y="3304"/>
                  </a:lnTo>
                  <a:lnTo>
                    <a:pt x="987" y="3278"/>
                  </a:lnTo>
                  <a:lnTo>
                    <a:pt x="928" y="3254"/>
                  </a:lnTo>
                  <a:lnTo>
                    <a:pt x="867" y="3225"/>
                  </a:lnTo>
                  <a:lnTo>
                    <a:pt x="808" y="3195"/>
                  </a:lnTo>
                  <a:lnTo>
                    <a:pt x="749" y="3159"/>
                  </a:lnTo>
                  <a:lnTo>
                    <a:pt x="688" y="3122"/>
                  </a:lnTo>
                  <a:lnTo>
                    <a:pt x="630" y="3087"/>
                  </a:lnTo>
                  <a:lnTo>
                    <a:pt x="573" y="3047"/>
                  </a:lnTo>
                  <a:lnTo>
                    <a:pt x="517" y="3005"/>
                  </a:lnTo>
                  <a:lnTo>
                    <a:pt x="459" y="2963"/>
                  </a:lnTo>
                  <a:lnTo>
                    <a:pt x="406" y="2918"/>
                  </a:lnTo>
                  <a:lnTo>
                    <a:pt x="355" y="2867"/>
                  </a:lnTo>
                  <a:lnTo>
                    <a:pt x="307" y="2819"/>
                  </a:lnTo>
                  <a:lnTo>
                    <a:pt x="261" y="2766"/>
                  </a:lnTo>
                  <a:lnTo>
                    <a:pt x="222" y="2713"/>
                  </a:lnTo>
                  <a:lnTo>
                    <a:pt x="182" y="2658"/>
                  </a:lnTo>
                  <a:lnTo>
                    <a:pt x="150" y="2598"/>
                  </a:lnTo>
                  <a:lnTo>
                    <a:pt x="120" y="2540"/>
                  </a:lnTo>
                  <a:lnTo>
                    <a:pt x="96" y="2477"/>
                  </a:lnTo>
                  <a:lnTo>
                    <a:pt x="74" y="2404"/>
                  </a:lnTo>
                  <a:lnTo>
                    <a:pt x="54" y="2333"/>
                  </a:lnTo>
                  <a:lnTo>
                    <a:pt x="40" y="2267"/>
                  </a:lnTo>
                  <a:lnTo>
                    <a:pt x="25" y="2198"/>
                  </a:lnTo>
                  <a:lnTo>
                    <a:pt x="16" y="2134"/>
                  </a:lnTo>
                  <a:lnTo>
                    <a:pt x="6" y="2065"/>
                  </a:lnTo>
                  <a:lnTo>
                    <a:pt x="3" y="2002"/>
                  </a:lnTo>
                  <a:lnTo>
                    <a:pt x="0" y="1940"/>
                  </a:lnTo>
                  <a:lnTo>
                    <a:pt x="0" y="1876"/>
                  </a:lnTo>
                  <a:lnTo>
                    <a:pt x="3" y="1814"/>
                  </a:lnTo>
                  <a:lnTo>
                    <a:pt x="8" y="1755"/>
                  </a:lnTo>
                  <a:lnTo>
                    <a:pt x="17" y="1696"/>
                  </a:lnTo>
                  <a:lnTo>
                    <a:pt x="25" y="1636"/>
                  </a:lnTo>
                  <a:lnTo>
                    <a:pt x="40" y="1580"/>
                  </a:lnTo>
                  <a:lnTo>
                    <a:pt x="54" y="1524"/>
                  </a:lnTo>
                  <a:lnTo>
                    <a:pt x="70" y="1466"/>
                  </a:lnTo>
                  <a:lnTo>
                    <a:pt x="88" y="1413"/>
                  </a:lnTo>
                  <a:lnTo>
                    <a:pt x="112" y="1363"/>
                  </a:lnTo>
                  <a:lnTo>
                    <a:pt x="133" y="1309"/>
                  </a:lnTo>
                  <a:lnTo>
                    <a:pt x="157" y="1259"/>
                  </a:lnTo>
                  <a:lnTo>
                    <a:pt x="182" y="1209"/>
                  </a:lnTo>
                  <a:lnTo>
                    <a:pt x="211" y="1160"/>
                  </a:lnTo>
                  <a:lnTo>
                    <a:pt x="240" y="1112"/>
                  </a:lnTo>
                  <a:lnTo>
                    <a:pt x="269" y="1067"/>
                  </a:lnTo>
                  <a:lnTo>
                    <a:pt x="301" y="1020"/>
                  </a:lnTo>
                  <a:lnTo>
                    <a:pt x="335" y="974"/>
                  </a:lnTo>
                  <a:lnTo>
                    <a:pt x="369" y="932"/>
                  </a:lnTo>
                  <a:lnTo>
                    <a:pt x="403" y="889"/>
                  </a:lnTo>
                  <a:lnTo>
                    <a:pt x="443" y="850"/>
                  </a:lnTo>
                  <a:lnTo>
                    <a:pt x="480" y="808"/>
                  </a:lnTo>
                  <a:lnTo>
                    <a:pt x="518" y="768"/>
                  </a:lnTo>
                  <a:lnTo>
                    <a:pt x="559" y="731"/>
                  </a:lnTo>
                  <a:lnTo>
                    <a:pt x="598" y="693"/>
                  </a:lnTo>
                  <a:lnTo>
                    <a:pt x="638" y="656"/>
                  </a:lnTo>
                  <a:lnTo>
                    <a:pt x="683" y="621"/>
                  </a:lnTo>
                  <a:lnTo>
                    <a:pt x="722" y="587"/>
                  </a:lnTo>
                  <a:lnTo>
                    <a:pt x="766" y="553"/>
                  </a:lnTo>
                  <a:lnTo>
                    <a:pt x="808" y="520"/>
                  </a:lnTo>
                  <a:lnTo>
                    <a:pt x="854" y="488"/>
                  </a:lnTo>
                  <a:lnTo>
                    <a:pt x="896" y="462"/>
                  </a:lnTo>
                  <a:lnTo>
                    <a:pt x="941" y="430"/>
                  </a:lnTo>
                  <a:lnTo>
                    <a:pt x="987" y="401"/>
                  </a:lnTo>
                  <a:lnTo>
                    <a:pt x="1029" y="375"/>
                  </a:lnTo>
                  <a:lnTo>
                    <a:pt x="1074" y="351"/>
                  </a:lnTo>
                  <a:lnTo>
                    <a:pt x="1120" y="325"/>
                  </a:lnTo>
                  <a:lnTo>
                    <a:pt x="1162" y="300"/>
                  </a:lnTo>
                  <a:lnTo>
                    <a:pt x="1205" y="277"/>
                  </a:lnTo>
                  <a:lnTo>
                    <a:pt x="1251" y="257"/>
                  </a:lnTo>
                  <a:lnTo>
                    <a:pt x="1293" y="235"/>
                  </a:lnTo>
                  <a:lnTo>
                    <a:pt x="1331" y="215"/>
                  </a:lnTo>
                  <a:lnTo>
                    <a:pt x="1378" y="198"/>
                  </a:lnTo>
                  <a:lnTo>
                    <a:pt x="1418" y="178"/>
                  </a:lnTo>
                  <a:lnTo>
                    <a:pt x="1456" y="162"/>
                  </a:lnTo>
                  <a:lnTo>
                    <a:pt x="1496" y="144"/>
                  </a:lnTo>
                  <a:lnTo>
                    <a:pt x="1538" y="131"/>
                  </a:lnTo>
                  <a:lnTo>
                    <a:pt x="1573" y="116"/>
                  </a:lnTo>
                  <a:lnTo>
                    <a:pt x="1610" y="104"/>
                  </a:lnTo>
                  <a:lnTo>
                    <a:pt x="1647" y="91"/>
                  </a:lnTo>
                  <a:lnTo>
                    <a:pt x="1680" y="83"/>
                  </a:lnTo>
                  <a:lnTo>
                    <a:pt x="1715" y="70"/>
                  </a:lnTo>
                  <a:lnTo>
                    <a:pt x="2443" y="0"/>
                  </a:lnTo>
                  <a:lnTo>
                    <a:pt x="2451" y="0"/>
                  </a:lnTo>
                  <a:lnTo>
                    <a:pt x="2475" y="4"/>
                  </a:lnTo>
                  <a:lnTo>
                    <a:pt x="2512" y="9"/>
                  </a:lnTo>
                  <a:lnTo>
                    <a:pt x="2556" y="16"/>
                  </a:lnTo>
                  <a:lnTo>
                    <a:pt x="2616" y="24"/>
                  </a:lnTo>
                  <a:lnTo>
                    <a:pt x="2682" y="32"/>
                  </a:lnTo>
                  <a:lnTo>
                    <a:pt x="2754" y="43"/>
                  </a:lnTo>
                  <a:lnTo>
                    <a:pt x="2834" y="51"/>
                  </a:lnTo>
                  <a:lnTo>
                    <a:pt x="2916" y="66"/>
                  </a:lnTo>
                  <a:lnTo>
                    <a:pt x="3004" y="78"/>
                  </a:lnTo>
                  <a:lnTo>
                    <a:pt x="3093" y="91"/>
                  </a:lnTo>
                  <a:lnTo>
                    <a:pt x="3180" y="102"/>
                  </a:lnTo>
                  <a:lnTo>
                    <a:pt x="3264" y="120"/>
                  </a:lnTo>
                  <a:lnTo>
                    <a:pt x="3351" y="131"/>
                  </a:lnTo>
                  <a:lnTo>
                    <a:pt x="3426" y="144"/>
                  </a:lnTo>
                  <a:lnTo>
                    <a:pt x="3500" y="158"/>
                  </a:lnTo>
                  <a:lnTo>
                    <a:pt x="3562" y="173"/>
                  </a:lnTo>
                  <a:lnTo>
                    <a:pt x="3620" y="184"/>
                  </a:lnTo>
                  <a:lnTo>
                    <a:pt x="3682" y="203"/>
                  </a:lnTo>
                  <a:lnTo>
                    <a:pt x="3749" y="239"/>
                  </a:lnTo>
                  <a:lnTo>
                    <a:pt x="3818" y="280"/>
                  </a:lnTo>
                  <a:lnTo>
                    <a:pt x="3889" y="327"/>
                  </a:lnTo>
                  <a:lnTo>
                    <a:pt x="3956" y="380"/>
                  </a:lnTo>
                  <a:lnTo>
                    <a:pt x="4028" y="438"/>
                  </a:lnTo>
                  <a:lnTo>
                    <a:pt x="4093" y="497"/>
                  </a:lnTo>
                  <a:lnTo>
                    <a:pt x="4155" y="553"/>
                  </a:lnTo>
                  <a:lnTo>
                    <a:pt x="4214" y="612"/>
                  </a:lnTo>
                  <a:lnTo>
                    <a:pt x="4265" y="664"/>
                  </a:lnTo>
                  <a:lnTo>
                    <a:pt x="4314" y="711"/>
                  </a:lnTo>
                  <a:lnTo>
                    <a:pt x="4351" y="751"/>
                  </a:lnTo>
                  <a:lnTo>
                    <a:pt x="4379" y="781"/>
                  </a:lnTo>
                  <a:lnTo>
                    <a:pt x="4396" y="802"/>
                  </a:lnTo>
                  <a:lnTo>
                    <a:pt x="4401" y="810"/>
                  </a:lnTo>
                  <a:close/>
                </a:path>
              </a:pathLst>
            </a:custGeom>
            <a:solidFill>
              <a:srgbClr val="f6d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4320" y="1986120"/>
              <a:ext cx="790920" cy="734760"/>
            </a:xfrm>
            <a:custGeom>
              <a:avLst/>
              <a:gdLst/>
              <a:ahLst/>
              <a:rect l="l" t="t" r="r" b="b"/>
              <a:pathLst>
                <a:path w="4397" h="3244">
                  <a:moveTo>
                    <a:pt x="1067" y="310"/>
                  </a:moveTo>
                  <a:lnTo>
                    <a:pt x="1062" y="310"/>
                  </a:lnTo>
                  <a:lnTo>
                    <a:pt x="1047" y="319"/>
                  </a:lnTo>
                  <a:lnTo>
                    <a:pt x="1029" y="330"/>
                  </a:lnTo>
                  <a:lnTo>
                    <a:pt x="1000" y="346"/>
                  </a:lnTo>
                  <a:lnTo>
                    <a:pt x="968" y="367"/>
                  </a:lnTo>
                  <a:lnTo>
                    <a:pt x="930" y="390"/>
                  </a:lnTo>
                  <a:lnTo>
                    <a:pt x="885" y="420"/>
                  </a:lnTo>
                  <a:lnTo>
                    <a:pt x="838" y="452"/>
                  </a:lnTo>
                  <a:lnTo>
                    <a:pt x="787" y="491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3"/>
                  </a:lnTo>
                  <a:lnTo>
                    <a:pt x="441" y="792"/>
                  </a:lnTo>
                  <a:lnTo>
                    <a:pt x="382" y="855"/>
                  </a:lnTo>
                  <a:lnTo>
                    <a:pt x="328" y="923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8"/>
                  </a:lnTo>
                  <a:lnTo>
                    <a:pt x="22" y="1611"/>
                  </a:lnTo>
                  <a:lnTo>
                    <a:pt x="13" y="1670"/>
                  </a:lnTo>
                  <a:lnTo>
                    <a:pt x="5" y="1733"/>
                  </a:lnTo>
                  <a:lnTo>
                    <a:pt x="2" y="1791"/>
                  </a:lnTo>
                  <a:lnTo>
                    <a:pt x="0" y="1853"/>
                  </a:lnTo>
                  <a:lnTo>
                    <a:pt x="2" y="1914"/>
                  </a:lnTo>
                  <a:lnTo>
                    <a:pt x="5" y="1972"/>
                  </a:lnTo>
                  <a:lnTo>
                    <a:pt x="13" y="2031"/>
                  </a:lnTo>
                  <a:lnTo>
                    <a:pt x="22" y="2091"/>
                  </a:lnTo>
                  <a:lnTo>
                    <a:pt x="34" y="2150"/>
                  </a:lnTo>
                  <a:lnTo>
                    <a:pt x="50" y="2209"/>
                  </a:lnTo>
                  <a:lnTo>
                    <a:pt x="67" y="2269"/>
                  </a:lnTo>
                  <a:lnTo>
                    <a:pt x="91" y="2325"/>
                  </a:lnTo>
                  <a:lnTo>
                    <a:pt x="116" y="2384"/>
                  </a:lnTo>
                  <a:lnTo>
                    <a:pt x="143" y="2440"/>
                  </a:lnTo>
                  <a:lnTo>
                    <a:pt x="171" y="2497"/>
                  </a:lnTo>
                  <a:lnTo>
                    <a:pt x="207" y="2554"/>
                  </a:lnTo>
                  <a:lnTo>
                    <a:pt x="242" y="2609"/>
                  </a:lnTo>
                  <a:lnTo>
                    <a:pt x="286" y="2666"/>
                  </a:lnTo>
                  <a:lnTo>
                    <a:pt x="331" y="2723"/>
                  </a:lnTo>
                  <a:lnTo>
                    <a:pt x="382" y="2779"/>
                  </a:lnTo>
                  <a:lnTo>
                    <a:pt x="432" y="2827"/>
                  </a:lnTo>
                  <a:lnTo>
                    <a:pt x="490" y="2874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3"/>
                  </a:lnTo>
                  <a:lnTo>
                    <a:pt x="730" y="3026"/>
                  </a:lnTo>
                  <a:lnTo>
                    <a:pt x="792" y="3058"/>
                  </a:lnTo>
                  <a:lnTo>
                    <a:pt x="855" y="3084"/>
                  </a:lnTo>
                  <a:lnTo>
                    <a:pt x="920" y="3108"/>
                  </a:lnTo>
                  <a:lnTo>
                    <a:pt x="983" y="3132"/>
                  </a:lnTo>
                  <a:lnTo>
                    <a:pt x="1047" y="3151"/>
                  </a:lnTo>
                  <a:lnTo>
                    <a:pt x="1107" y="3169"/>
                  </a:lnTo>
                  <a:lnTo>
                    <a:pt x="1170" y="3182"/>
                  </a:lnTo>
                  <a:lnTo>
                    <a:pt x="1232" y="3196"/>
                  </a:lnTo>
                  <a:lnTo>
                    <a:pt x="1290" y="3207"/>
                  </a:lnTo>
                  <a:lnTo>
                    <a:pt x="1346" y="3216"/>
                  </a:lnTo>
                  <a:lnTo>
                    <a:pt x="1399" y="3224"/>
                  </a:lnTo>
                  <a:lnTo>
                    <a:pt x="1450" y="3231"/>
                  </a:lnTo>
                  <a:lnTo>
                    <a:pt x="1498" y="3236"/>
                  </a:lnTo>
                  <a:lnTo>
                    <a:pt x="1544" y="3239"/>
                  </a:lnTo>
                  <a:lnTo>
                    <a:pt x="1584" y="3241"/>
                  </a:lnTo>
                  <a:lnTo>
                    <a:pt x="1623" y="3244"/>
                  </a:lnTo>
                  <a:lnTo>
                    <a:pt x="1656" y="3244"/>
                  </a:lnTo>
                  <a:lnTo>
                    <a:pt x="1685" y="3244"/>
                  </a:lnTo>
                  <a:lnTo>
                    <a:pt x="1719" y="3244"/>
                  </a:lnTo>
                  <a:lnTo>
                    <a:pt x="1759" y="3244"/>
                  </a:lnTo>
                  <a:lnTo>
                    <a:pt x="1802" y="3241"/>
                  </a:lnTo>
                  <a:lnTo>
                    <a:pt x="1847" y="3241"/>
                  </a:lnTo>
                  <a:lnTo>
                    <a:pt x="1898" y="3241"/>
                  </a:lnTo>
                  <a:lnTo>
                    <a:pt x="1951" y="3236"/>
                  </a:lnTo>
                  <a:lnTo>
                    <a:pt x="2008" y="3233"/>
                  </a:lnTo>
                  <a:lnTo>
                    <a:pt x="2067" y="3231"/>
                  </a:lnTo>
                  <a:lnTo>
                    <a:pt x="2128" y="3224"/>
                  </a:lnTo>
                  <a:lnTo>
                    <a:pt x="2192" y="3216"/>
                  </a:lnTo>
                  <a:lnTo>
                    <a:pt x="2258" y="3211"/>
                  </a:lnTo>
                  <a:lnTo>
                    <a:pt x="2327" y="3202"/>
                  </a:lnTo>
                  <a:lnTo>
                    <a:pt x="2394" y="3191"/>
                  </a:lnTo>
                  <a:lnTo>
                    <a:pt x="2464" y="3177"/>
                  </a:lnTo>
                  <a:lnTo>
                    <a:pt x="2535" y="3162"/>
                  </a:lnTo>
                  <a:lnTo>
                    <a:pt x="2604" y="3145"/>
                  </a:lnTo>
                  <a:lnTo>
                    <a:pt x="2677" y="3129"/>
                  </a:lnTo>
                  <a:lnTo>
                    <a:pt x="2751" y="3106"/>
                  </a:lnTo>
                  <a:lnTo>
                    <a:pt x="2821" y="3087"/>
                  </a:lnTo>
                  <a:lnTo>
                    <a:pt x="2895" y="3058"/>
                  </a:lnTo>
                  <a:lnTo>
                    <a:pt x="2967" y="3033"/>
                  </a:lnTo>
                  <a:lnTo>
                    <a:pt x="3037" y="3002"/>
                  </a:lnTo>
                  <a:lnTo>
                    <a:pt x="3108" y="2968"/>
                  </a:lnTo>
                  <a:lnTo>
                    <a:pt x="3177" y="2934"/>
                  </a:lnTo>
                  <a:lnTo>
                    <a:pt x="3244" y="2894"/>
                  </a:lnTo>
                  <a:lnTo>
                    <a:pt x="3306" y="2856"/>
                  </a:lnTo>
                  <a:lnTo>
                    <a:pt x="3372" y="2811"/>
                  </a:lnTo>
                  <a:lnTo>
                    <a:pt x="3399" y="2787"/>
                  </a:lnTo>
                  <a:lnTo>
                    <a:pt x="3431" y="2761"/>
                  </a:lnTo>
                  <a:lnTo>
                    <a:pt x="3465" y="2740"/>
                  </a:lnTo>
                  <a:lnTo>
                    <a:pt x="3498" y="2711"/>
                  </a:lnTo>
                  <a:lnTo>
                    <a:pt x="3535" y="2683"/>
                  </a:lnTo>
                  <a:lnTo>
                    <a:pt x="3572" y="2657"/>
                  </a:lnTo>
                  <a:lnTo>
                    <a:pt x="3610" y="2625"/>
                  </a:lnTo>
                  <a:lnTo>
                    <a:pt x="3650" y="2593"/>
                  </a:lnTo>
                  <a:lnTo>
                    <a:pt x="3689" y="2559"/>
                  </a:lnTo>
                  <a:lnTo>
                    <a:pt x="3729" y="2525"/>
                  </a:lnTo>
                  <a:lnTo>
                    <a:pt x="3767" y="2488"/>
                  </a:lnTo>
                  <a:lnTo>
                    <a:pt x="3812" y="2448"/>
                  </a:lnTo>
                  <a:lnTo>
                    <a:pt x="3850" y="2410"/>
                  </a:lnTo>
                  <a:lnTo>
                    <a:pt x="3890" y="2368"/>
                  </a:lnTo>
                  <a:lnTo>
                    <a:pt x="3929" y="2325"/>
                  </a:lnTo>
                  <a:lnTo>
                    <a:pt x="3970" y="2279"/>
                  </a:lnTo>
                  <a:lnTo>
                    <a:pt x="4009" y="2233"/>
                  </a:lnTo>
                  <a:lnTo>
                    <a:pt x="4049" y="2184"/>
                  </a:lnTo>
                  <a:lnTo>
                    <a:pt x="4086" y="2135"/>
                  </a:lnTo>
                  <a:lnTo>
                    <a:pt x="4119" y="2083"/>
                  </a:lnTo>
                  <a:lnTo>
                    <a:pt x="4156" y="2029"/>
                  </a:lnTo>
                  <a:lnTo>
                    <a:pt x="4186" y="1972"/>
                  </a:lnTo>
                  <a:lnTo>
                    <a:pt x="4218" y="1916"/>
                  </a:lnTo>
                  <a:lnTo>
                    <a:pt x="4247" y="1856"/>
                  </a:lnTo>
                  <a:lnTo>
                    <a:pt x="4276" y="1795"/>
                  </a:lnTo>
                  <a:lnTo>
                    <a:pt x="4301" y="1733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32"/>
                  </a:lnTo>
                  <a:lnTo>
                    <a:pt x="4375" y="1460"/>
                  </a:lnTo>
                  <a:lnTo>
                    <a:pt x="4386" y="1386"/>
                  </a:lnTo>
                  <a:lnTo>
                    <a:pt x="4393" y="1312"/>
                  </a:lnTo>
                  <a:lnTo>
                    <a:pt x="4397" y="1237"/>
                  </a:lnTo>
                  <a:lnTo>
                    <a:pt x="4397" y="1156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53"/>
                  </a:lnTo>
                  <a:lnTo>
                    <a:pt x="4351" y="764"/>
                  </a:lnTo>
                  <a:lnTo>
                    <a:pt x="4332" y="683"/>
                  </a:lnTo>
                  <a:lnTo>
                    <a:pt x="4306" y="606"/>
                  </a:lnTo>
                  <a:lnTo>
                    <a:pt x="4278" y="536"/>
                  </a:lnTo>
                  <a:lnTo>
                    <a:pt x="4247" y="470"/>
                  </a:lnTo>
                  <a:lnTo>
                    <a:pt x="4214" y="412"/>
                  </a:lnTo>
                  <a:lnTo>
                    <a:pt x="4177" y="362"/>
                  </a:lnTo>
                  <a:lnTo>
                    <a:pt x="4140" y="310"/>
                  </a:lnTo>
                  <a:lnTo>
                    <a:pt x="4100" y="268"/>
                  </a:lnTo>
                  <a:lnTo>
                    <a:pt x="4060" y="229"/>
                  </a:lnTo>
                  <a:lnTo>
                    <a:pt x="4020" y="192"/>
                  </a:lnTo>
                  <a:lnTo>
                    <a:pt x="3981" y="160"/>
                  </a:lnTo>
                  <a:lnTo>
                    <a:pt x="3938" y="132"/>
                  </a:lnTo>
                  <a:lnTo>
                    <a:pt x="3900" y="107"/>
                  </a:lnTo>
                  <a:lnTo>
                    <a:pt x="3858" y="85"/>
                  </a:lnTo>
                  <a:lnTo>
                    <a:pt x="3820" y="69"/>
                  </a:lnTo>
                  <a:lnTo>
                    <a:pt x="3783" y="53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19"/>
                  </a:lnTo>
                  <a:lnTo>
                    <a:pt x="3650" y="14"/>
                  </a:lnTo>
                  <a:lnTo>
                    <a:pt x="3621" y="8"/>
                  </a:lnTo>
                  <a:lnTo>
                    <a:pt x="3596" y="6"/>
                  </a:lnTo>
                  <a:lnTo>
                    <a:pt x="3575" y="3"/>
                  </a:lnTo>
                  <a:lnTo>
                    <a:pt x="3561" y="3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4"/>
                  </a:lnTo>
                  <a:lnTo>
                    <a:pt x="2623" y="144"/>
                  </a:lnTo>
                  <a:lnTo>
                    <a:pt x="2655" y="144"/>
                  </a:lnTo>
                  <a:lnTo>
                    <a:pt x="2700" y="144"/>
                  </a:lnTo>
                  <a:lnTo>
                    <a:pt x="2759" y="144"/>
                  </a:lnTo>
                  <a:lnTo>
                    <a:pt x="2829" y="151"/>
                  </a:lnTo>
                  <a:lnTo>
                    <a:pt x="2909" y="155"/>
                  </a:lnTo>
                  <a:lnTo>
                    <a:pt x="2995" y="164"/>
                  </a:lnTo>
                  <a:lnTo>
                    <a:pt x="3079" y="176"/>
                  </a:lnTo>
                  <a:lnTo>
                    <a:pt x="3167" y="194"/>
                  </a:lnTo>
                  <a:lnTo>
                    <a:pt x="3256" y="218"/>
                  </a:lnTo>
                  <a:lnTo>
                    <a:pt x="3335" y="248"/>
                  </a:lnTo>
                  <a:lnTo>
                    <a:pt x="3405" y="282"/>
                  </a:lnTo>
                  <a:lnTo>
                    <a:pt x="3442" y="305"/>
                  </a:lnTo>
                  <a:lnTo>
                    <a:pt x="3482" y="330"/>
                  </a:lnTo>
                  <a:lnTo>
                    <a:pt x="3525" y="358"/>
                  </a:lnTo>
                  <a:lnTo>
                    <a:pt x="3569" y="387"/>
                  </a:lnTo>
                  <a:lnTo>
                    <a:pt x="3615" y="420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2"/>
                  </a:lnTo>
                  <a:lnTo>
                    <a:pt x="3803" y="576"/>
                  </a:lnTo>
                  <a:lnTo>
                    <a:pt x="3847" y="623"/>
                  </a:lnTo>
                  <a:lnTo>
                    <a:pt x="3890" y="672"/>
                  </a:lnTo>
                  <a:lnTo>
                    <a:pt x="3929" y="722"/>
                  </a:lnTo>
                  <a:lnTo>
                    <a:pt x="3967" y="776"/>
                  </a:lnTo>
                  <a:lnTo>
                    <a:pt x="3999" y="836"/>
                  </a:lnTo>
                  <a:lnTo>
                    <a:pt x="4028" y="895"/>
                  </a:lnTo>
                  <a:lnTo>
                    <a:pt x="4052" y="960"/>
                  </a:lnTo>
                  <a:lnTo>
                    <a:pt x="4071" y="1024"/>
                  </a:lnTo>
                  <a:lnTo>
                    <a:pt x="4086" y="1092"/>
                  </a:lnTo>
                  <a:lnTo>
                    <a:pt x="4089" y="1163"/>
                  </a:lnTo>
                  <a:lnTo>
                    <a:pt x="4089" y="1238"/>
                  </a:lnTo>
                  <a:lnTo>
                    <a:pt x="4086" y="1315"/>
                  </a:lnTo>
                  <a:lnTo>
                    <a:pt x="4077" y="1386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3"/>
                  </a:lnTo>
                  <a:lnTo>
                    <a:pt x="4028" y="1659"/>
                  </a:lnTo>
                  <a:lnTo>
                    <a:pt x="4012" y="1721"/>
                  </a:lnTo>
                  <a:lnTo>
                    <a:pt x="3991" y="1783"/>
                  </a:lnTo>
                  <a:lnTo>
                    <a:pt x="3975" y="1845"/>
                  </a:lnTo>
                  <a:lnTo>
                    <a:pt x="3953" y="1901"/>
                  </a:lnTo>
                  <a:lnTo>
                    <a:pt x="3929" y="1961"/>
                  </a:lnTo>
                  <a:lnTo>
                    <a:pt x="3908" y="2014"/>
                  </a:lnTo>
                  <a:lnTo>
                    <a:pt x="3882" y="2068"/>
                  </a:lnTo>
                  <a:lnTo>
                    <a:pt x="3853" y="2118"/>
                  </a:lnTo>
                  <a:lnTo>
                    <a:pt x="3825" y="2170"/>
                  </a:lnTo>
                  <a:lnTo>
                    <a:pt x="3793" y="2217"/>
                  </a:lnTo>
                  <a:lnTo>
                    <a:pt x="3762" y="2265"/>
                  </a:lnTo>
                  <a:lnTo>
                    <a:pt x="3730" y="2311"/>
                  </a:lnTo>
                  <a:lnTo>
                    <a:pt x="3697" y="2352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4"/>
                  </a:lnTo>
                  <a:lnTo>
                    <a:pt x="3551" y="2514"/>
                  </a:lnTo>
                  <a:lnTo>
                    <a:pt x="3510" y="2551"/>
                  </a:lnTo>
                  <a:lnTo>
                    <a:pt x="3471" y="2583"/>
                  </a:lnTo>
                  <a:lnTo>
                    <a:pt x="3431" y="2617"/>
                  </a:lnTo>
                  <a:lnTo>
                    <a:pt x="3386" y="2649"/>
                  </a:lnTo>
                  <a:lnTo>
                    <a:pt x="3343" y="2679"/>
                  </a:lnTo>
                  <a:lnTo>
                    <a:pt x="3301" y="2711"/>
                  </a:lnTo>
                  <a:lnTo>
                    <a:pt x="3256" y="2740"/>
                  </a:lnTo>
                  <a:lnTo>
                    <a:pt x="3212" y="2765"/>
                  </a:lnTo>
                  <a:lnTo>
                    <a:pt x="3165" y="2790"/>
                  </a:lnTo>
                  <a:lnTo>
                    <a:pt x="3119" y="2816"/>
                  </a:lnTo>
                  <a:lnTo>
                    <a:pt x="3071" y="2838"/>
                  </a:lnTo>
                  <a:lnTo>
                    <a:pt x="3023" y="2857"/>
                  </a:lnTo>
                  <a:lnTo>
                    <a:pt x="2975" y="2880"/>
                  </a:lnTo>
                  <a:lnTo>
                    <a:pt x="2926" y="2898"/>
                  </a:lnTo>
                  <a:lnTo>
                    <a:pt x="2879" y="2917"/>
                  </a:lnTo>
                  <a:lnTo>
                    <a:pt x="2826" y="2934"/>
                  </a:lnTo>
                  <a:lnTo>
                    <a:pt x="2780" y="2951"/>
                  </a:lnTo>
                  <a:lnTo>
                    <a:pt x="2729" y="2965"/>
                  </a:lnTo>
                  <a:lnTo>
                    <a:pt x="2677" y="2979"/>
                  </a:lnTo>
                  <a:lnTo>
                    <a:pt x="2626" y="2993"/>
                  </a:lnTo>
                  <a:lnTo>
                    <a:pt x="2576" y="3005"/>
                  </a:lnTo>
                  <a:lnTo>
                    <a:pt x="2524" y="3013"/>
                  </a:lnTo>
                  <a:lnTo>
                    <a:pt x="2473" y="3025"/>
                  </a:lnTo>
                  <a:lnTo>
                    <a:pt x="2423" y="3033"/>
                  </a:lnTo>
                  <a:lnTo>
                    <a:pt x="2370" y="3042"/>
                  </a:lnTo>
                  <a:lnTo>
                    <a:pt x="2320" y="3047"/>
                  </a:lnTo>
                  <a:lnTo>
                    <a:pt x="2269" y="3053"/>
                  </a:lnTo>
                  <a:lnTo>
                    <a:pt x="2219" y="3058"/>
                  </a:lnTo>
                  <a:lnTo>
                    <a:pt x="2167" y="3063"/>
                  </a:lnTo>
                  <a:lnTo>
                    <a:pt x="2116" y="3066"/>
                  </a:lnTo>
                  <a:lnTo>
                    <a:pt x="2066" y="3070"/>
                  </a:lnTo>
                  <a:lnTo>
                    <a:pt x="2013" y="3071"/>
                  </a:lnTo>
                  <a:lnTo>
                    <a:pt x="1967" y="3071"/>
                  </a:lnTo>
                  <a:lnTo>
                    <a:pt x="1914" y="3071"/>
                  </a:lnTo>
                  <a:lnTo>
                    <a:pt x="1867" y="3071"/>
                  </a:lnTo>
                  <a:lnTo>
                    <a:pt x="1816" y="3071"/>
                  </a:lnTo>
                  <a:lnTo>
                    <a:pt x="1768" y="3070"/>
                  </a:lnTo>
                  <a:lnTo>
                    <a:pt x="1719" y="3066"/>
                  </a:lnTo>
                  <a:lnTo>
                    <a:pt x="1672" y="3063"/>
                  </a:lnTo>
                  <a:lnTo>
                    <a:pt x="1626" y="3061"/>
                  </a:lnTo>
                  <a:lnTo>
                    <a:pt x="1581" y="3055"/>
                  </a:lnTo>
                  <a:lnTo>
                    <a:pt x="1535" y="3053"/>
                  </a:lnTo>
                  <a:lnTo>
                    <a:pt x="1490" y="3047"/>
                  </a:lnTo>
                  <a:lnTo>
                    <a:pt x="1445" y="3039"/>
                  </a:lnTo>
                  <a:lnTo>
                    <a:pt x="1402" y="3033"/>
                  </a:lnTo>
                  <a:lnTo>
                    <a:pt x="1360" y="3026"/>
                  </a:lnTo>
                  <a:lnTo>
                    <a:pt x="1320" y="3018"/>
                  </a:lnTo>
                  <a:lnTo>
                    <a:pt x="1279" y="3013"/>
                  </a:lnTo>
                  <a:lnTo>
                    <a:pt x="1240" y="3005"/>
                  </a:lnTo>
                  <a:lnTo>
                    <a:pt x="1200" y="2993"/>
                  </a:lnTo>
                  <a:lnTo>
                    <a:pt x="1163" y="2984"/>
                  </a:lnTo>
                  <a:lnTo>
                    <a:pt x="1125" y="2976"/>
                  </a:lnTo>
                  <a:lnTo>
                    <a:pt x="1091" y="2965"/>
                  </a:lnTo>
                  <a:lnTo>
                    <a:pt x="1056" y="2956"/>
                  </a:lnTo>
                  <a:lnTo>
                    <a:pt x="1021" y="2946"/>
                  </a:lnTo>
                  <a:lnTo>
                    <a:pt x="992" y="2934"/>
                  </a:lnTo>
                  <a:lnTo>
                    <a:pt x="960" y="2922"/>
                  </a:lnTo>
                  <a:lnTo>
                    <a:pt x="931" y="2911"/>
                  </a:lnTo>
                  <a:lnTo>
                    <a:pt x="906" y="2901"/>
                  </a:lnTo>
                  <a:lnTo>
                    <a:pt x="877" y="2889"/>
                  </a:lnTo>
                  <a:lnTo>
                    <a:pt x="855" y="2877"/>
                  </a:lnTo>
                  <a:lnTo>
                    <a:pt x="830" y="2866"/>
                  </a:lnTo>
                  <a:lnTo>
                    <a:pt x="806" y="2853"/>
                  </a:lnTo>
                  <a:lnTo>
                    <a:pt x="727" y="2802"/>
                  </a:lnTo>
                  <a:lnTo>
                    <a:pt x="651" y="2748"/>
                  </a:lnTo>
                  <a:lnTo>
                    <a:pt x="581" y="2691"/>
                  </a:lnTo>
                  <a:lnTo>
                    <a:pt x="520" y="2638"/>
                  </a:lnTo>
                  <a:lnTo>
                    <a:pt x="464" y="2579"/>
                  </a:lnTo>
                  <a:lnTo>
                    <a:pt x="413" y="2519"/>
                  </a:lnTo>
                  <a:lnTo>
                    <a:pt x="367" y="2456"/>
                  </a:lnTo>
                  <a:lnTo>
                    <a:pt x="328" y="2394"/>
                  </a:lnTo>
                  <a:lnTo>
                    <a:pt x="294" y="2336"/>
                  </a:lnTo>
                  <a:lnTo>
                    <a:pt x="263" y="2274"/>
                  </a:lnTo>
                  <a:lnTo>
                    <a:pt x="240" y="2209"/>
                  </a:lnTo>
                  <a:lnTo>
                    <a:pt x="217" y="2147"/>
                  </a:lnTo>
                  <a:lnTo>
                    <a:pt x="200" y="2084"/>
                  </a:lnTo>
                  <a:lnTo>
                    <a:pt x="187" y="2026"/>
                  </a:lnTo>
                  <a:lnTo>
                    <a:pt x="175" y="1964"/>
                  </a:lnTo>
                  <a:lnTo>
                    <a:pt x="170" y="1903"/>
                  </a:lnTo>
                  <a:lnTo>
                    <a:pt x="163" y="1848"/>
                  </a:lnTo>
                  <a:lnTo>
                    <a:pt x="163" y="1787"/>
                  </a:lnTo>
                  <a:lnTo>
                    <a:pt x="163" y="1734"/>
                  </a:lnTo>
                  <a:lnTo>
                    <a:pt x="166" y="1681"/>
                  </a:lnTo>
                  <a:lnTo>
                    <a:pt x="170" y="1630"/>
                  </a:lnTo>
                  <a:lnTo>
                    <a:pt x="175" y="1583"/>
                  </a:lnTo>
                  <a:lnTo>
                    <a:pt x="180" y="1535"/>
                  </a:lnTo>
                  <a:lnTo>
                    <a:pt x="189" y="1493"/>
                  </a:lnTo>
                  <a:lnTo>
                    <a:pt x="197" y="1452"/>
                  </a:lnTo>
                  <a:lnTo>
                    <a:pt x="207" y="1416"/>
                  </a:lnTo>
                  <a:lnTo>
                    <a:pt x="216" y="1383"/>
                  </a:lnTo>
                  <a:lnTo>
                    <a:pt x="224" y="1354"/>
                  </a:lnTo>
                  <a:lnTo>
                    <a:pt x="229" y="1325"/>
                  </a:lnTo>
                  <a:lnTo>
                    <a:pt x="234" y="1307"/>
                  </a:lnTo>
                  <a:lnTo>
                    <a:pt x="242" y="1290"/>
                  </a:lnTo>
                  <a:lnTo>
                    <a:pt x="245" y="1275"/>
                  </a:lnTo>
                  <a:lnTo>
                    <a:pt x="249" y="1267"/>
                  </a:lnTo>
                  <a:lnTo>
                    <a:pt x="251" y="1267"/>
                  </a:lnTo>
                  <a:lnTo>
                    <a:pt x="286" y="1184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900"/>
                  </a:lnTo>
                  <a:lnTo>
                    <a:pt x="518" y="836"/>
                  </a:lnTo>
                  <a:lnTo>
                    <a:pt x="573" y="776"/>
                  </a:lnTo>
                  <a:lnTo>
                    <a:pt x="627" y="717"/>
                  </a:lnTo>
                  <a:lnTo>
                    <a:pt x="685" y="664"/>
                  </a:lnTo>
                  <a:lnTo>
                    <a:pt x="744" y="610"/>
                  </a:lnTo>
                  <a:lnTo>
                    <a:pt x="806" y="564"/>
                  </a:lnTo>
                  <a:lnTo>
                    <a:pt x="869" y="516"/>
                  </a:lnTo>
                  <a:lnTo>
                    <a:pt x="930" y="470"/>
                  </a:lnTo>
                  <a:lnTo>
                    <a:pt x="994" y="432"/>
                  </a:lnTo>
                  <a:lnTo>
                    <a:pt x="1056" y="391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6"/>
                  </a:lnTo>
                  <a:lnTo>
                    <a:pt x="1360" y="239"/>
                  </a:lnTo>
                  <a:lnTo>
                    <a:pt x="1419" y="215"/>
                  </a:lnTo>
                  <a:lnTo>
                    <a:pt x="1473" y="192"/>
                  </a:lnTo>
                  <a:lnTo>
                    <a:pt x="1523" y="173"/>
                  </a:lnTo>
                  <a:lnTo>
                    <a:pt x="1576" y="155"/>
                  </a:lnTo>
                  <a:lnTo>
                    <a:pt x="1623" y="139"/>
                  </a:lnTo>
                  <a:lnTo>
                    <a:pt x="1668" y="123"/>
                  </a:lnTo>
                  <a:lnTo>
                    <a:pt x="1709" y="114"/>
                  </a:lnTo>
                  <a:lnTo>
                    <a:pt x="1746" y="102"/>
                  </a:lnTo>
                  <a:lnTo>
                    <a:pt x="1779" y="93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3"/>
                  </a:lnTo>
                  <a:lnTo>
                    <a:pt x="1864" y="70"/>
                  </a:lnTo>
                  <a:lnTo>
                    <a:pt x="1872" y="70"/>
                  </a:lnTo>
                  <a:lnTo>
                    <a:pt x="1875" y="69"/>
                  </a:lnTo>
                  <a:lnTo>
                    <a:pt x="1067" y="3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54320" y="3245400"/>
              <a:ext cx="790920" cy="732960"/>
            </a:xfrm>
            <a:custGeom>
              <a:avLst/>
              <a:gdLst/>
              <a:ahLst/>
              <a:rect l="l" t="t" r="r" b="b"/>
              <a:pathLst>
                <a:path w="4397" h="3241">
                  <a:moveTo>
                    <a:pt x="1067" y="308"/>
                  </a:moveTo>
                  <a:lnTo>
                    <a:pt x="1062" y="310"/>
                  </a:lnTo>
                  <a:lnTo>
                    <a:pt x="1047" y="316"/>
                  </a:lnTo>
                  <a:lnTo>
                    <a:pt x="1029" y="326"/>
                  </a:lnTo>
                  <a:lnTo>
                    <a:pt x="1000" y="345"/>
                  </a:lnTo>
                  <a:lnTo>
                    <a:pt x="968" y="363"/>
                  </a:lnTo>
                  <a:lnTo>
                    <a:pt x="930" y="389"/>
                  </a:lnTo>
                  <a:lnTo>
                    <a:pt x="885" y="421"/>
                  </a:lnTo>
                  <a:lnTo>
                    <a:pt x="838" y="453"/>
                  </a:lnTo>
                  <a:lnTo>
                    <a:pt x="787" y="488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0"/>
                  </a:lnTo>
                  <a:lnTo>
                    <a:pt x="441" y="789"/>
                  </a:lnTo>
                  <a:lnTo>
                    <a:pt x="382" y="854"/>
                  </a:lnTo>
                  <a:lnTo>
                    <a:pt x="328" y="920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9"/>
                  </a:lnTo>
                  <a:lnTo>
                    <a:pt x="22" y="1608"/>
                  </a:lnTo>
                  <a:lnTo>
                    <a:pt x="13" y="1671"/>
                  </a:lnTo>
                  <a:lnTo>
                    <a:pt x="5" y="1730"/>
                  </a:lnTo>
                  <a:lnTo>
                    <a:pt x="2" y="1791"/>
                  </a:lnTo>
                  <a:lnTo>
                    <a:pt x="0" y="1850"/>
                  </a:lnTo>
                  <a:lnTo>
                    <a:pt x="2" y="1910"/>
                  </a:lnTo>
                  <a:lnTo>
                    <a:pt x="5" y="1969"/>
                  </a:lnTo>
                  <a:lnTo>
                    <a:pt x="13" y="2031"/>
                  </a:lnTo>
                  <a:lnTo>
                    <a:pt x="22" y="2090"/>
                  </a:lnTo>
                  <a:lnTo>
                    <a:pt x="34" y="2147"/>
                  </a:lnTo>
                  <a:lnTo>
                    <a:pt x="50" y="2205"/>
                  </a:lnTo>
                  <a:lnTo>
                    <a:pt x="67" y="2266"/>
                  </a:lnTo>
                  <a:lnTo>
                    <a:pt x="91" y="2324"/>
                  </a:lnTo>
                  <a:lnTo>
                    <a:pt x="116" y="2381"/>
                  </a:lnTo>
                  <a:lnTo>
                    <a:pt x="143" y="2436"/>
                  </a:lnTo>
                  <a:lnTo>
                    <a:pt x="171" y="2494"/>
                  </a:lnTo>
                  <a:lnTo>
                    <a:pt x="207" y="2552"/>
                  </a:lnTo>
                  <a:lnTo>
                    <a:pt x="242" y="2606"/>
                  </a:lnTo>
                  <a:lnTo>
                    <a:pt x="286" y="2663"/>
                  </a:lnTo>
                  <a:lnTo>
                    <a:pt x="331" y="2722"/>
                  </a:lnTo>
                  <a:lnTo>
                    <a:pt x="382" y="2775"/>
                  </a:lnTo>
                  <a:lnTo>
                    <a:pt x="432" y="2824"/>
                  </a:lnTo>
                  <a:lnTo>
                    <a:pt x="490" y="2872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0"/>
                  </a:lnTo>
                  <a:lnTo>
                    <a:pt x="730" y="3025"/>
                  </a:lnTo>
                  <a:lnTo>
                    <a:pt x="792" y="3055"/>
                  </a:lnTo>
                  <a:lnTo>
                    <a:pt x="855" y="3080"/>
                  </a:lnTo>
                  <a:lnTo>
                    <a:pt x="920" y="3105"/>
                  </a:lnTo>
                  <a:lnTo>
                    <a:pt x="983" y="3129"/>
                  </a:lnTo>
                  <a:lnTo>
                    <a:pt x="1047" y="3149"/>
                  </a:lnTo>
                  <a:lnTo>
                    <a:pt x="1107" y="3166"/>
                  </a:lnTo>
                  <a:lnTo>
                    <a:pt x="1170" y="3179"/>
                  </a:lnTo>
                  <a:lnTo>
                    <a:pt x="1232" y="3194"/>
                  </a:lnTo>
                  <a:lnTo>
                    <a:pt x="1290" y="3204"/>
                  </a:lnTo>
                  <a:lnTo>
                    <a:pt x="1346" y="3216"/>
                  </a:lnTo>
                  <a:lnTo>
                    <a:pt x="1399" y="3221"/>
                  </a:lnTo>
                  <a:lnTo>
                    <a:pt x="1450" y="3227"/>
                  </a:lnTo>
                  <a:lnTo>
                    <a:pt x="1498" y="3232"/>
                  </a:lnTo>
                  <a:lnTo>
                    <a:pt x="1544" y="3235"/>
                  </a:lnTo>
                  <a:lnTo>
                    <a:pt x="1584" y="3240"/>
                  </a:lnTo>
                  <a:lnTo>
                    <a:pt x="1623" y="3240"/>
                  </a:lnTo>
                  <a:lnTo>
                    <a:pt x="1656" y="3241"/>
                  </a:lnTo>
                  <a:lnTo>
                    <a:pt x="1685" y="3241"/>
                  </a:lnTo>
                  <a:lnTo>
                    <a:pt x="1719" y="3241"/>
                  </a:lnTo>
                  <a:lnTo>
                    <a:pt x="1759" y="3241"/>
                  </a:lnTo>
                  <a:lnTo>
                    <a:pt x="1802" y="3240"/>
                  </a:lnTo>
                  <a:lnTo>
                    <a:pt x="1847" y="3240"/>
                  </a:lnTo>
                  <a:lnTo>
                    <a:pt x="1898" y="3235"/>
                  </a:lnTo>
                  <a:lnTo>
                    <a:pt x="1951" y="3235"/>
                  </a:lnTo>
                  <a:lnTo>
                    <a:pt x="2008" y="3232"/>
                  </a:lnTo>
                  <a:lnTo>
                    <a:pt x="2067" y="3227"/>
                  </a:lnTo>
                  <a:lnTo>
                    <a:pt x="2128" y="3221"/>
                  </a:lnTo>
                  <a:lnTo>
                    <a:pt x="2192" y="3216"/>
                  </a:lnTo>
                  <a:lnTo>
                    <a:pt x="2258" y="3208"/>
                  </a:lnTo>
                  <a:lnTo>
                    <a:pt x="2327" y="3200"/>
                  </a:lnTo>
                  <a:lnTo>
                    <a:pt x="2394" y="3187"/>
                  </a:lnTo>
                  <a:lnTo>
                    <a:pt x="2464" y="3174"/>
                  </a:lnTo>
                  <a:lnTo>
                    <a:pt x="2535" y="3158"/>
                  </a:lnTo>
                  <a:lnTo>
                    <a:pt x="2604" y="3145"/>
                  </a:lnTo>
                  <a:lnTo>
                    <a:pt x="2677" y="3126"/>
                  </a:lnTo>
                  <a:lnTo>
                    <a:pt x="2751" y="3105"/>
                  </a:lnTo>
                  <a:lnTo>
                    <a:pt x="2821" y="3083"/>
                  </a:lnTo>
                  <a:lnTo>
                    <a:pt x="2895" y="3059"/>
                  </a:lnTo>
                  <a:lnTo>
                    <a:pt x="2967" y="3030"/>
                  </a:lnTo>
                  <a:lnTo>
                    <a:pt x="3037" y="2998"/>
                  </a:lnTo>
                  <a:lnTo>
                    <a:pt x="3108" y="2967"/>
                  </a:lnTo>
                  <a:lnTo>
                    <a:pt x="3177" y="2931"/>
                  </a:lnTo>
                  <a:lnTo>
                    <a:pt x="3244" y="2890"/>
                  </a:lnTo>
                  <a:lnTo>
                    <a:pt x="3306" y="2852"/>
                  </a:lnTo>
                  <a:lnTo>
                    <a:pt x="3372" y="2804"/>
                  </a:lnTo>
                  <a:lnTo>
                    <a:pt x="3399" y="2786"/>
                  </a:lnTo>
                  <a:lnTo>
                    <a:pt x="3431" y="2762"/>
                  </a:lnTo>
                  <a:lnTo>
                    <a:pt x="3465" y="2736"/>
                  </a:lnTo>
                  <a:lnTo>
                    <a:pt x="3498" y="2712"/>
                  </a:lnTo>
                  <a:lnTo>
                    <a:pt x="3535" y="2683"/>
                  </a:lnTo>
                  <a:lnTo>
                    <a:pt x="3572" y="2654"/>
                  </a:lnTo>
                  <a:lnTo>
                    <a:pt x="3610" y="2624"/>
                  </a:lnTo>
                  <a:lnTo>
                    <a:pt x="3650" y="2592"/>
                  </a:lnTo>
                  <a:lnTo>
                    <a:pt x="3689" y="2555"/>
                  </a:lnTo>
                  <a:lnTo>
                    <a:pt x="3729" y="2522"/>
                  </a:lnTo>
                  <a:lnTo>
                    <a:pt x="3767" y="2486"/>
                  </a:lnTo>
                  <a:lnTo>
                    <a:pt x="3812" y="2447"/>
                  </a:lnTo>
                  <a:lnTo>
                    <a:pt x="3850" y="2406"/>
                  </a:lnTo>
                  <a:lnTo>
                    <a:pt x="3890" y="2366"/>
                  </a:lnTo>
                  <a:lnTo>
                    <a:pt x="3929" y="2321"/>
                  </a:lnTo>
                  <a:lnTo>
                    <a:pt x="3970" y="2277"/>
                  </a:lnTo>
                  <a:lnTo>
                    <a:pt x="4009" y="2232"/>
                  </a:lnTo>
                  <a:lnTo>
                    <a:pt x="4049" y="2180"/>
                  </a:lnTo>
                  <a:lnTo>
                    <a:pt x="4086" y="2133"/>
                  </a:lnTo>
                  <a:lnTo>
                    <a:pt x="4119" y="2080"/>
                  </a:lnTo>
                  <a:lnTo>
                    <a:pt x="4156" y="2026"/>
                  </a:lnTo>
                  <a:lnTo>
                    <a:pt x="4186" y="1972"/>
                  </a:lnTo>
                  <a:lnTo>
                    <a:pt x="4218" y="1912"/>
                  </a:lnTo>
                  <a:lnTo>
                    <a:pt x="4247" y="1854"/>
                  </a:lnTo>
                  <a:lnTo>
                    <a:pt x="4276" y="1794"/>
                  </a:lnTo>
                  <a:lnTo>
                    <a:pt x="4301" y="1730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28"/>
                  </a:lnTo>
                  <a:lnTo>
                    <a:pt x="4375" y="1457"/>
                  </a:lnTo>
                  <a:lnTo>
                    <a:pt x="4386" y="1385"/>
                  </a:lnTo>
                  <a:lnTo>
                    <a:pt x="4393" y="1312"/>
                  </a:lnTo>
                  <a:lnTo>
                    <a:pt x="4397" y="1233"/>
                  </a:lnTo>
                  <a:lnTo>
                    <a:pt x="4397" y="1154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49"/>
                  </a:lnTo>
                  <a:lnTo>
                    <a:pt x="4351" y="762"/>
                  </a:lnTo>
                  <a:lnTo>
                    <a:pt x="4332" y="680"/>
                  </a:lnTo>
                  <a:lnTo>
                    <a:pt x="4306" y="603"/>
                  </a:lnTo>
                  <a:lnTo>
                    <a:pt x="4278" y="536"/>
                  </a:lnTo>
                  <a:lnTo>
                    <a:pt x="4247" y="471"/>
                  </a:lnTo>
                  <a:lnTo>
                    <a:pt x="4214" y="412"/>
                  </a:lnTo>
                  <a:lnTo>
                    <a:pt x="4177" y="361"/>
                  </a:lnTo>
                  <a:lnTo>
                    <a:pt x="4140" y="310"/>
                  </a:lnTo>
                  <a:lnTo>
                    <a:pt x="4100" y="265"/>
                  </a:lnTo>
                  <a:lnTo>
                    <a:pt x="4060" y="226"/>
                  </a:lnTo>
                  <a:lnTo>
                    <a:pt x="4020" y="189"/>
                  </a:lnTo>
                  <a:lnTo>
                    <a:pt x="3981" y="157"/>
                  </a:lnTo>
                  <a:lnTo>
                    <a:pt x="3938" y="130"/>
                  </a:lnTo>
                  <a:lnTo>
                    <a:pt x="3900" y="106"/>
                  </a:lnTo>
                  <a:lnTo>
                    <a:pt x="3858" y="85"/>
                  </a:lnTo>
                  <a:lnTo>
                    <a:pt x="3820" y="68"/>
                  </a:lnTo>
                  <a:lnTo>
                    <a:pt x="3783" y="50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20"/>
                  </a:lnTo>
                  <a:lnTo>
                    <a:pt x="3650" y="11"/>
                  </a:lnTo>
                  <a:lnTo>
                    <a:pt x="3621" y="8"/>
                  </a:lnTo>
                  <a:lnTo>
                    <a:pt x="3596" y="7"/>
                  </a:lnTo>
                  <a:lnTo>
                    <a:pt x="3575" y="3"/>
                  </a:lnTo>
                  <a:lnTo>
                    <a:pt x="3561" y="0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3"/>
                  </a:lnTo>
                  <a:lnTo>
                    <a:pt x="2623" y="143"/>
                  </a:lnTo>
                  <a:lnTo>
                    <a:pt x="2655" y="143"/>
                  </a:lnTo>
                  <a:lnTo>
                    <a:pt x="2700" y="143"/>
                  </a:lnTo>
                  <a:lnTo>
                    <a:pt x="2759" y="143"/>
                  </a:lnTo>
                  <a:lnTo>
                    <a:pt x="2829" y="148"/>
                  </a:lnTo>
                  <a:lnTo>
                    <a:pt x="2909" y="153"/>
                  </a:lnTo>
                  <a:lnTo>
                    <a:pt x="2995" y="164"/>
                  </a:lnTo>
                  <a:lnTo>
                    <a:pt x="3079" y="175"/>
                  </a:lnTo>
                  <a:lnTo>
                    <a:pt x="3167" y="194"/>
                  </a:lnTo>
                  <a:lnTo>
                    <a:pt x="3256" y="217"/>
                  </a:lnTo>
                  <a:lnTo>
                    <a:pt x="3335" y="246"/>
                  </a:lnTo>
                  <a:lnTo>
                    <a:pt x="3405" y="283"/>
                  </a:lnTo>
                  <a:lnTo>
                    <a:pt x="3442" y="305"/>
                  </a:lnTo>
                  <a:lnTo>
                    <a:pt x="3482" y="326"/>
                  </a:lnTo>
                  <a:lnTo>
                    <a:pt x="3525" y="355"/>
                  </a:lnTo>
                  <a:lnTo>
                    <a:pt x="3569" y="387"/>
                  </a:lnTo>
                  <a:lnTo>
                    <a:pt x="3615" y="421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3"/>
                  </a:lnTo>
                  <a:lnTo>
                    <a:pt x="3803" y="576"/>
                  </a:lnTo>
                  <a:lnTo>
                    <a:pt x="3847" y="620"/>
                  </a:lnTo>
                  <a:lnTo>
                    <a:pt x="3890" y="671"/>
                  </a:lnTo>
                  <a:lnTo>
                    <a:pt x="3929" y="722"/>
                  </a:lnTo>
                  <a:lnTo>
                    <a:pt x="3967" y="775"/>
                  </a:lnTo>
                  <a:lnTo>
                    <a:pt x="3999" y="835"/>
                  </a:lnTo>
                  <a:lnTo>
                    <a:pt x="4028" y="894"/>
                  </a:lnTo>
                  <a:lnTo>
                    <a:pt x="4052" y="957"/>
                  </a:lnTo>
                  <a:lnTo>
                    <a:pt x="4071" y="1024"/>
                  </a:lnTo>
                  <a:lnTo>
                    <a:pt x="4086" y="1093"/>
                  </a:lnTo>
                  <a:lnTo>
                    <a:pt x="4089" y="1162"/>
                  </a:lnTo>
                  <a:lnTo>
                    <a:pt x="4089" y="1234"/>
                  </a:lnTo>
                  <a:lnTo>
                    <a:pt x="4086" y="1312"/>
                  </a:lnTo>
                  <a:lnTo>
                    <a:pt x="4077" y="1385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2"/>
                  </a:lnTo>
                  <a:lnTo>
                    <a:pt x="4028" y="1659"/>
                  </a:lnTo>
                  <a:lnTo>
                    <a:pt x="4012" y="1717"/>
                  </a:lnTo>
                  <a:lnTo>
                    <a:pt x="3991" y="1783"/>
                  </a:lnTo>
                  <a:lnTo>
                    <a:pt x="3975" y="1841"/>
                  </a:lnTo>
                  <a:lnTo>
                    <a:pt x="3953" y="1902"/>
                  </a:lnTo>
                  <a:lnTo>
                    <a:pt x="3929" y="1956"/>
                  </a:lnTo>
                  <a:lnTo>
                    <a:pt x="3908" y="2011"/>
                  </a:lnTo>
                  <a:lnTo>
                    <a:pt x="3882" y="2064"/>
                  </a:lnTo>
                  <a:lnTo>
                    <a:pt x="3853" y="2118"/>
                  </a:lnTo>
                  <a:lnTo>
                    <a:pt x="3825" y="2167"/>
                  </a:lnTo>
                  <a:lnTo>
                    <a:pt x="3793" y="2215"/>
                  </a:lnTo>
                  <a:lnTo>
                    <a:pt x="3762" y="2263"/>
                  </a:lnTo>
                  <a:lnTo>
                    <a:pt x="3730" y="2308"/>
                  </a:lnTo>
                  <a:lnTo>
                    <a:pt x="3697" y="2349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3"/>
                  </a:lnTo>
                  <a:lnTo>
                    <a:pt x="3551" y="2510"/>
                  </a:lnTo>
                  <a:lnTo>
                    <a:pt x="3510" y="2547"/>
                  </a:lnTo>
                  <a:lnTo>
                    <a:pt x="3471" y="2581"/>
                  </a:lnTo>
                  <a:lnTo>
                    <a:pt x="3431" y="2616"/>
                  </a:lnTo>
                  <a:lnTo>
                    <a:pt x="3386" y="2646"/>
                  </a:lnTo>
                  <a:lnTo>
                    <a:pt x="3343" y="2680"/>
                  </a:lnTo>
                  <a:lnTo>
                    <a:pt x="3301" y="2704"/>
                  </a:lnTo>
                  <a:lnTo>
                    <a:pt x="3256" y="2733"/>
                  </a:lnTo>
                  <a:lnTo>
                    <a:pt x="3212" y="2762"/>
                  </a:lnTo>
                  <a:lnTo>
                    <a:pt x="3165" y="2787"/>
                  </a:lnTo>
                  <a:lnTo>
                    <a:pt x="3119" y="2812"/>
                  </a:lnTo>
                  <a:lnTo>
                    <a:pt x="3071" y="2836"/>
                  </a:lnTo>
                  <a:lnTo>
                    <a:pt x="3023" y="2857"/>
                  </a:lnTo>
                  <a:lnTo>
                    <a:pt x="2975" y="2877"/>
                  </a:lnTo>
                  <a:lnTo>
                    <a:pt x="2926" y="2898"/>
                  </a:lnTo>
                  <a:lnTo>
                    <a:pt x="2879" y="2914"/>
                  </a:lnTo>
                  <a:lnTo>
                    <a:pt x="2826" y="2931"/>
                  </a:lnTo>
                  <a:lnTo>
                    <a:pt x="2780" y="2948"/>
                  </a:lnTo>
                  <a:lnTo>
                    <a:pt x="2729" y="2963"/>
                  </a:lnTo>
                  <a:lnTo>
                    <a:pt x="2677" y="2977"/>
                  </a:lnTo>
                  <a:lnTo>
                    <a:pt x="2626" y="2990"/>
                  </a:lnTo>
                  <a:lnTo>
                    <a:pt x="2576" y="3001"/>
                  </a:lnTo>
                  <a:lnTo>
                    <a:pt x="2524" y="3009"/>
                  </a:lnTo>
                  <a:lnTo>
                    <a:pt x="2473" y="3022"/>
                  </a:lnTo>
                  <a:lnTo>
                    <a:pt x="2423" y="3030"/>
                  </a:lnTo>
                  <a:lnTo>
                    <a:pt x="2370" y="3038"/>
                  </a:lnTo>
                  <a:lnTo>
                    <a:pt x="2320" y="3046"/>
                  </a:lnTo>
                  <a:lnTo>
                    <a:pt x="2269" y="3050"/>
                  </a:lnTo>
                  <a:lnTo>
                    <a:pt x="2219" y="3055"/>
                  </a:lnTo>
                  <a:lnTo>
                    <a:pt x="2167" y="3060"/>
                  </a:lnTo>
                  <a:lnTo>
                    <a:pt x="2116" y="3063"/>
                  </a:lnTo>
                  <a:lnTo>
                    <a:pt x="2066" y="3067"/>
                  </a:lnTo>
                  <a:lnTo>
                    <a:pt x="2013" y="3070"/>
                  </a:lnTo>
                  <a:lnTo>
                    <a:pt x="1967" y="3070"/>
                  </a:lnTo>
                  <a:lnTo>
                    <a:pt x="1914" y="3070"/>
                  </a:lnTo>
                  <a:lnTo>
                    <a:pt x="1867" y="3070"/>
                  </a:lnTo>
                  <a:lnTo>
                    <a:pt x="1816" y="3070"/>
                  </a:lnTo>
                  <a:lnTo>
                    <a:pt x="1768" y="3067"/>
                  </a:lnTo>
                  <a:lnTo>
                    <a:pt x="1719" y="3067"/>
                  </a:lnTo>
                  <a:lnTo>
                    <a:pt x="1672" y="3060"/>
                  </a:lnTo>
                  <a:lnTo>
                    <a:pt x="1626" y="3059"/>
                  </a:lnTo>
                  <a:lnTo>
                    <a:pt x="1581" y="3055"/>
                  </a:lnTo>
                  <a:lnTo>
                    <a:pt x="1535" y="3050"/>
                  </a:lnTo>
                  <a:lnTo>
                    <a:pt x="1490" y="3043"/>
                  </a:lnTo>
                  <a:lnTo>
                    <a:pt x="1445" y="3038"/>
                  </a:lnTo>
                  <a:lnTo>
                    <a:pt x="1402" y="3030"/>
                  </a:lnTo>
                  <a:lnTo>
                    <a:pt x="1360" y="3025"/>
                  </a:lnTo>
                  <a:lnTo>
                    <a:pt x="1320" y="3017"/>
                  </a:lnTo>
                  <a:lnTo>
                    <a:pt x="1279" y="3009"/>
                  </a:lnTo>
                  <a:lnTo>
                    <a:pt x="1240" y="2998"/>
                  </a:lnTo>
                  <a:lnTo>
                    <a:pt x="1200" y="2990"/>
                  </a:lnTo>
                  <a:lnTo>
                    <a:pt x="1163" y="2981"/>
                  </a:lnTo>
                  <a:lnTo>
                    <a:pt x="1125" y="2972"/>
                  </a:lnTo>
                  <a:lnTo>
                    <a:pt x="1091" y="2963"/>
                  </a:lnTo>
                  <a:lnTo>
                    <a:pt x="1056" y="2954"/>
                  </a:lnTo>
                  <a:lnTo>
                    <a:pt x="1021" y="2943"/>
                  </a:lnTo>
                  <a:lnTo>
                    <a:pt x="992" y="2931"/>
                  </a:lnTo>
                  <a:lnTo>
                    <a:pt x="960" y="2919"/>
                  </a:lnTo>
                  <a:lnTo>
                    <a:pt x="931" y="2909"/>
                  </a:lnTo>
                  <a:lnTo>
                    <a:pt x="906" y="2898"/>
                  </a:lnTo>
                  <a:lnTo>
                    <a:pt x="877" y="2886"/>
                  </a:lnTo>
                  <a:lnTo>
                    <a:pt x="855" y="2874"/>
                  </a:lnTo>
                  <a:lnTo>
                    <a:pt x="830" y="2864"/>
                  </a:lnTo>
                  <a:lnTo>
                    <a:pt x="806" y="2849"/>
                  </a:lnTo>
                  <a:lnTo>
                    <a:pt x="727" y="2799"/>
                  </a:lnTo>
                  <a:lnTo>
                    <a:pt x="651" y="2744"/>
                  </a:lnTo>
                  <a:lnTo>
                    <a:pt x="581" y="2691"/>
                  </a:lnTo>
                  <a:lnTo>
                    <a:pt x="520" y="2635"/>
                  </a:lnTo>
                  <a:lnTo>
                    <a:pt x="464" y="2576"/>
                  </a:lnTo>
                  <a:lnTo>
                    <a:pt x="413" y="2517"/>
                  </a:lnTo>
                  <a:lnTo>
                    <a:pt x="367" y="2455"/>
                  </a:lnTo>
                  <a:lnTo>
                    <a:pt x="328" y="2394"/>
                  </a:lnTo>
                  <a:lnTo>
                    <a:pt x="294" y="2330"/>
                  </a:lnTo>
                  <a:lnTo>
                    <a:pt x="263" y="2271"/>
                  </a:lnTo>
                  <a:lnTo>
                    <a:pt x="240" y="2208"/>
                  </a:lnTo>
                  <a:lnTo>
                    <a:pt x="217" y="2147"/>
                  </a:lnTo>
                  <a:lnTo>
                    <a:pt x="200" y="2081"/>
                  </a:lnTo>
                  <a:lnTo>
                    <a:pt x="187" y="2022"/>
                  </a:lnTo>
                  <a:lnTo>
                    <a:pt x="175" y="1961"/>
                  </a:lnTo>
                  <a:lnTo>
                    <a:pt x="170" y="1902"/>
                  </a:lnTo>
                  <a:lnTo>
                    <a:pt x="163" y="1845"/>
                  </a:lnTo>
                  <a:lnTo>
                    <a:pt x="163" y="1786"/>
                  </a:lnTo>
                  <a:lnTo>
                    <a:pt x="163" y="1733"/>
                  </a:lnTo>
                  <a:lnTo>
                    <a:pt x="166" y="1680"/>
                  </a:lnTo>
                  <a:lnTo>
                    <a:pt x="170" y="1631"/>
                  </a:lnTo>
                  <a:lnTo>
                    <a:pt x="175" y="1581"/>
                  </a:lnTo>
                  <a:lnTo>
                    <a:pt x="180" y="1534"/>
                  </a:lnTo>
                  <a:lnTo>
                    <a:pt x="189" y="1493"/>
                  </a:lnTo>
                  <a:lnTo>
                    <a:pt x="197" y="1449"/>
                  </a:lnTo>
                  <a:lnTo>
                    <a:pt x="207" y="1412"/>
                  </a:lnTo>
                  <a:lnTo>
                    <a:pt x="216" y="1382"/>
                  </a:lnTo>
                  <a:lnTo>
                    <a:pt x="224" y="1350"/>
                  </a:lnTo>
                  <a:lnTo>
                    <a:pt x="229" y="1326"/>
                  </a:lnTo>
                  <a:lnTo>
                    <a:pt x="234" y="1303"/>
                  </a:lnTo>
                  <a:lnTo>
                    <a:pt x="242" y="1289"/>
                  </a:lnTo>
                  <a:lnTo>
                    <a:pt x="245" y="1275"/>
                  </a:lnTo>
                  <a:lnTo>
                    <a:pt x="249" y="1266"/>
                  </a:lnTo>
                  <a:lnTo>
                    <a:pt x="251" y="1263"/>
                  </a:lnTo>
                  <a:lnTo>
                    <a:pt x="286" y="1185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896"/>
                  </a:lnTo>
                  <a:lnTo>
                    <a:pt x="518" y="835"/>
                  </a:lnTo>
                  <a:lnTo>
                    <a:pt x="573" y="775"/>
                  </a:lnTo>
                  <a:lnTo>
                    <a:pt x="627" y="717"/>
                  </a:lnTo>
                  <a:lnTo>
                    <a:pt x="685" y="663"/>
                  </a:lnTo>
                  <a:lnTo>
                    <a:pt x="744" y="610"/>
                  </a:lnTo>
                  <a:lnTo>
                    <a:pt x="806" y="562"/>
                  </a:lnTo>
                  <a:lnTo>
                    <a:pt x="869" y="516"/>
                  </a:lnTo>
                  <a:lnTo>
                    <a:pt x="930" y="471"/>
                  </a:lnTo>
                  <a:lnTo>
                    <a:pt x="994" y="432"/>
                  </a:lnTo>
                  <a:lnTo>
                    <a:pt x="1056" y="392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5"/>
                  </a:lnTo>
                  <a:lnTo>
                    <a:pt x="1360" y="238"/>
                  </a:lnTo>
                  <a:lnTo>
                    <a:pt x="1419" y="214"/>
                  </a:lnTo>
                  <a:lnTo>
                    <a:pt x="1473" y="193"/>
                  </a:lnTo>
                  <a:lnTo>
                    <a:pt x="1523" y="172"/>
                  </a:lnTo>
                  <a:lnTo>
                    <a:pt x="1576" y="156"/>
                  </a:lnTo>
                  <a:lnTo>
                    <a:pt x="1623" y="138"/>
                  </a:lnTo>
                  <a:lnTo>
                    <a:pt x="1668" y="124"/>
                  </a:lnTo>
                  <a:lnTo>
                    <a:pt x="1709" y="111"/>
                  </a:lnTo>
                  <a:lnTo>
                    <a:pt x="1746" y="98"/>
                  </a:lnTo>
                  <a:lnTo>
                    <a:pt x="1779" y="90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4"/>
                  </a:lnTo>
                  <a:lnTo>
                    <a:pt x="1864" y="71"/>
                  </a:lnTo>
                  <a:lnTo>
                    <a:pt x="1872" y="68"/>
                  </a:lnTo>
                  <a:lnTo>
                    <a:pt x="1875" y="68"/>
                  </a:lnTo>
                  <a:lnTo>
                    <a:pt x="1067" y="3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38680" y="1413000"/>
              <a:ext cx="1453320" cy="31320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968480" y="4237200"/>
              <a:ext cx="1449360" cy="50256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4840" y="1758600"/>
              <a:ext cx="119520" cy="2984400"/>
            </a:xfrm>
            <a:custGeom>
              <a:avLst/>
              <a:gdLst/>
              <a:ahLst/>
              <a:rect l="l" t="t" r="r" b="b"/>
              <a:pathLst>
                <a:path w="662" h="13186">
                  <a:moveTo>
                    <a:pt x="662" y="13186"/>
                  </a:moveTo>
                  <a:lnTo>
                    <a:pt x="386" y="0"/>
                  </a:lnTo>
                  <a:lnTo>
                    <a:pt x="110" y="193"/>
                  </a:lnTo>
                  <a:lnTo>
                    <a:pt x="0" y="13076"/>
                  </a:lnTo>
                  <a:lnTo>
                    <a:pt x="662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8800" y="1758600"/>
              <a:ext cx="118080" cy="29844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4C2-1B0F-49C3-AC80-26CA6B7B8E4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78200" y="2421000"/>
            <a:ext cx="6049800" cy="187164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Subvenciones supeditadas a la actuación exportadora,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on inclusión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 de las enumeradas en el Artículo 9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333360"/>
            <a:ext cx="752652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Subvención a la expor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6360" y="147960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finición – Artículo 1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941720"/>
            <a:ext cx="2808360" cy="803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ista ilustrativa: Artículo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93800">
            <a:off x="394920" y="3500280"/>
            <a:ext cx="936720" cy="1943280"/>
          </a:xfrm>
          <a:custGeom>
            <a:avLst/>
            <a:gdLst>
              <a:gd name="textAreaLeft" fmla="*/ 125280 w 936720"/>
              <a:gd name="textAreaRight" fmla="*/ 811440 w 936720"/>
              <a:gd name="textAreaTop" fmla="*/ 342720 h 1943280"/>
              <a:gd name="textAreaBottom" fmla="*/ 139536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21" stAng="-5400000" swAng="-5400000"/>
                <a:lnTo>
                  <a:pt x="0" y="11697"/>
                </a:lnTo>
                <a:arcTo wR="21600" hR="7621" stAng="10800000" swAng="-2353670"/>
                <a:lnTo>
                  <a:pt x="13031" y="20975"/>
                </a:lnTo>
                <a:lnTo>
                  <a:pt x="21600" y="17280"/>
                </a:lnTo>
                <a:lnTo>
                  <a:pt x="13031" y="12335"/>
                </a:lnTo>
                <a:lnTo>
                  <a:pt x="13031" y="14617"/>
                </a:lnTo>
                <a:arcTo wR="21600" hR="7621" stAng="8446330" swAng="2018123"/>
                <a:lnTo>
                  <a:pt x="787" y="9659"/>
                </a:lnTo>
                <a:arcTo wR="21600" hR="7621" stAng="-10464452" swAng="5064452"/>
                <a:close/>
              </a:path>
              <a:path fill="darkenLess" w="21600" h="21600">
                <a:moveTo>
                  <a:pt x="21600" y="0"/>
                </a:moveTo>
                <a:arcTo wR="21600" hR="7621" stAng="-5400000" swAng="-5400000"/>
                <a:lnTo>
                  <a:pt x="0" y="7621"/>
                </a:lnTo>
                <a:arcTo wR="21600" hR="7621" stAng="10800000" swAng="-335548"/>
                <a:lnTo>
                  <a:pt x="787" y="9659"/>
                </a:lnTo>
                <a:arcTo wR="21600" hR="7621" stAng="-10464452" swAng="5064452"/>
                <a:close/>
              </a:path>
            </a:pathLst>
          </a:custGeom>
          <a:solidFill>
            <a:srgbClr val="ffcc99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5D1-E407-45B8-AD82-B93BFF8E98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99cc00"/>
                </a:solidFill>
                <a:latin typeface="Arial"/>
              </a:rPr>
              <a:t>CE: Subvenciones a la Exportación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4000" y="1052640"/>
          <a:ext cx="7993080" cy="50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79930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DA6-68E9-4F58-B9E4-A6A29C2216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a50021"/>
                </a:solidFill>
                <a:latin typeface="Arial"/>
              </a:rPr>
              <a:t>Contenido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: los 3 p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ceso a los mercados (AM o 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yuda interna (AI o 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etencia de las exportaciones (CE o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ciplinas y compromi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3BB-8F07-4349-85E9-56183FF1D4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6560" y="1484280"/>
            <a:ext cx="80661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istema normativo que reduce arbitrar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Mejores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Compromisos vinculantes y discipl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Reducción de la ayuda y la pro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e reconoce la situación particular de los 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Efectos de la reforma sobre importadores net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Promesa de proseguir la re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Artículo 20: Cláusula de contin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7628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Logros del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530-DD83-4A3E-82BA-9FDE3F42A7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2720" y="1989000"/>
            <a:ext cx="77043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spcAft>
                <a:spcPts val="675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Antes de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Exención de muchas reglas del G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Obstáculos al comercio + Disto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692280"/>
            <a:ext cx="6480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gricultura en el G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933720"/>
            <a:ext cx="5327640" cy="193608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bvencione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ecios ba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incentivo 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909400">
            <a:off x="1115640" y="3500280"/>
            <a:ext cx="1008000" cy="2160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5AC-72C8-47A6-8744-99CE18BB425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692280"/>
            <a:ext cx="66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Objetivo a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773360"/>
            <a:ext cx="648036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Establecer un sistema de comercio agropecuario equitativo y orientado al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3962520"/>
            <a:ext cx="7272360" cy="2008440"/>
          </a:xfrm>
          <a:prstGeom prst="rect">
            <a:avLst/>
          </a:prstGeom>
          <a:solidFill>
            <a:srgbClr val="ffff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niciación de un proceso de reform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educciones progresivas sustancial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de la ayuda y la protecció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ara corregir y prevenir restricciones y distorsion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3354480"/>
            <a:ext cx="720720" cy="36180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050-5ED3-483A-B07E-122DDFAFEB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27640" y="3502080"/>
            <a:ext cx="3887640" cy="2303280"/>
          </a:xfrm>
          <a:prstGeom prst="rect">
            <a:avLst/>
          </a:prstGeom>
          <a:solidFill>
            <a:srgbClr val="ccffc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guridad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tecció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pect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to diferen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9228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ograma de re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060640"/>
            <a:ext cx="3456000" cy="20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enci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362480"/>
            <a:ext cx="720720" cy="36180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5006880"/>
            <a:ext cx="3024360" cy="43812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Los Tres Pila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0920" y="2130480"/>
            <a:ext cx="2881080" cy="742680"/>
          </a:xfrm>
          <a:prstGeom prst="rect">
            <a:avLst/>
          </a:prstGeom>
          <a:solidFill>
            <a:srgbClr val="ccff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Preocupaciones no comercial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2000" y="2995560"/>
            <a:ext cx="720720" cy="36216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810-148F-407C-B8B9-CD49500B8A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6560" y="692280"/>
            <a:ext cx="48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imeros pas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2565360"/>
            <a:ext cx="655344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la Agri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M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cisión de Marrakech IN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484280"/>
            <a:ext cx="52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rakech, 1 de enero de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B97-A26B-49FC-BA8B-D7113348D5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6560" y="54936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Los 3 pi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1555920"/>
            <a:ext cx="2376720" cy="100800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cceso a los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555920"/>
            <a:ext cx="2519280" cy="100800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1555920"/>
            <a:ext cx="2664000" cy="100800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etencia de las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2708280"/>
            <a:ext cx="2376720" cy="280836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r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in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lvagu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uerdo M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708280"/>
            <a:ext cx="2519280" cy="280836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5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utorizada &gt;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dida Global Ay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xcep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ja Azú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De mini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2708280"/>
            <a:ext cx="2664000" cy="280836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ubv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yuda alimen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réditos y garant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tras “forma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5472000" y="3104640"/>
            <a:ext cx="431640" cy="540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5973840"/>
            <a:ext cx="46814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Cláusula de Paz” =&gt;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D21-D3D2-4948-B11F-3746AAB919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692280"/>
            <a:ext cx="6985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M: Normas y compromi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557360"/>
            <a:ext cx="684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Consolidaciones arancel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productos (Anexo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Miembros, incluso los </a:t>
            </a:r>
            <a:r>
              <a:rPr b="0" lang="es-ES_tradnl" sz="2400" spc="-1" strike="noStrike">
                <a:solidFill>
                  <a:srgbClr val="009999"/>
                </a:solidFill>
                <a:latin typeface="Verdana"/>
              </a:rPr>
              <a:t>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Reducció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aranc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protección con efectos de disto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Normas adicionales (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321-7230-4009-B245-2CC019DB0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76560" y="5535720"/>
            <a:ext cx="6283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765000"/>
          <a:ext cx="8785440" cy="5400720"/>
        </p:xfrm>
        <a:graphic>
          <a:graphicData uri="http://schemas.openxmlformats.org/drawingml/2006/table">
            <a:tbl>
              <a:tblPr/>
              <a:tblGrid>
                <a:gridCol w="3630600"/>
                <a:gridCol w="2497320"/>
                <a:gridCol w="2657520"/>
              </a:tblGrid>
              <a:tr h="418680">
                <a:tc rowSpan="2"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íodo de apl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75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10818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o a los 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arancel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mínimo/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yuda inte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 MGA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mini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ja de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 de las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rt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iplinas adi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valor,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95280" y="0"/>
            <a:ext cx="8064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Verdana"/>
              </a:rPr>
              <a:t>Compromisos 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6381720"/>
            <a:ext cx="79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99"/>
                </a:solidFill>
                <a:latin typeface="Verdana"/>
              </a:rPr>
              <a:t>Los PMA no tuvieron que asumir compromisos de reducción durante la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AAF-19AB-494B-ABB0-A528CAF1A4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1:50:06Z</dcterms:created>
  <dc:creator>petschen</dc:creator>
  <dc:description>y ayuda alimentaria en contexto de la Decision</dc:description>
  <cp:keywords>AoA</cp:keywords>
  <dc:language>en-US</dc:language>
  <cp:lastModifiedBy>Doris</cp:lastModifiedBy>
  <dcterms:modified xsi:type="dcterms:W3CDTF">2009-07-31T13:51:46Z</dcterms:modified>
  <cp:revision>275</cp:revision>
  <dc:subject>Introduction to AoA</dc:subject>
  <dc:title>Nacional Workshop Asunción, PRY</dc:title>
</cp:coreProperties>
</file>