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74A-B564-4AAC-B0D2-CE5A4464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7CB-DA28-49E5-A7E7-5D1C6842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6C4-324B-43ED-A775-CE8450CA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4D7-1C0D-45F5-9801-C77FE532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FED-3CBC-425F-8D0B-644588A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ED0-32BC-4AC2-B4D2-6C9E4A19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4EA-FAA2-4757-A2D2-AA36E750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9F0-D137-4C3D-9399-FF40AFFA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D1F-6CE1-4DDB-8C58-32D93838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670-A073-472C-9A02-73C2A03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D8E-BE2A-49A9-891F-44C48EF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CE7-667C-42E3-AAD1-DE48A5F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104-9EC0-4CF1-A329-606651C7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2480"/>
            <a:ext cx="4870440" cy="3541680"/>
          </a:xfrm>
          <a:custGeom>
            <a:avLst/>
            <a:gdLst/>
            <a:ahLst/>
            <a:rect l="l" t="t" r="r" b="b"/>
            <a:pathLst>
              <a:path w="3068" h="2231">
                <a:moveTo>
                  <a:pt x="1174" y="227"/>
                </a:moveTo>
                <a:cubicBezTo>
                  <a:pt x="1028" y="323"/>
                  <a:pt x="890" y="452"/>
                  <a:pt x="749" y="563"/>
                </a:cubicBezTo>
                <a:cubicBezTo>
                  <a:pt x="616" y="667"/>
                  <a:pt x="475" y="763"/>
                  <a:pt x="341" y="865"/>
                </a:cubicBezTo>
                <a:cubicBezTo>
                  <a:pt x="226" y="953"/>
                  <a:pt x="129" y="1070"/>
                  <a:pt x="40" y="1184"/>
                </a:cubicBezTo>
                <a:cubicBezTo>
                  <a:pt x="0" y="1303"/>
                  <a:pt x="9" y="1349"/>
                  <a:pt x="22" y="1503"/>
                </a:cubicBezTo>
                <a:cubicBezTo>
                  <a:pt x="41" y="1736"/>
                  <a:pt x="239" y="2014"/>
                  <a:pt x="474" y="2070"/>
                </a:cubicBezTo>
                <a:cubicBezTo>
                  <a:pt x="608" y="2102"/>
                  <a:pt x="746" y="2097"/>
                  <a:pt x="882" y="2114"/>
                </a:cubicBezTo>
                <a:cubicBezTo>
                  <a:pt x="1097" y="2141"/>
                  <a:pt x="1305" y="2201"/>
                  <a:pt x="1520" y="2229"/>
                </a:cubicBezTo>
                <a:cubicBezTo>
                  <a:pt x="1573" y="2226"/>
                  <a:pt x="1627" y="2231"/>
                  <a:pt x="1679" y="2221"/>
                </a:cubicBezTo>
                <a:cubicBezTo>
                  <a:pt x="1722" y="2213"/>
                  <a:pt x="1728" y="2131"/>
                  <a:pt x="1750" y="2105"/>
                </a:cubicBezTo>
                <a:cubicBezTo>
                  <a:pt x="1757" y="2097"/>
                  <a:pt x="1768" y="2094"/>
                  <a:pt x="1777" y="2088"/>
                </a:cubicBezTo>
                <a:cubicBezTo>
                  <a:pt x="1812" y="2035"/>
                  <a:pt x="1847" y="2054"/>
                  <a:pt x="1910" y="2061"/>
                </a:cubicBezTo>
                <a:cubicBezTo>
                  <a:pt x="1946" y="2074"/>
                  <a:pt x="1984" y="2093"/>
                  <a:pt x="2016" y="2114"/>
                </a:cubicBezTo>
                <a:cubicBezTo>
                  <a:pt x="2057" y="1996"/>
                  <a:pt x="1990" y="1838"/>
                  <a:pt x="2114" y="1760"/>
                </a:cubicBezTo>
                <a:cubicBezTo>
                  <a:pt x="2151" y="1681"/>
                  <a:pt x="2104" y="1760"/>
                  <a:pt x="2167" y="1707"/>
                </a:cubicBezTo>
                <a:cubicBezTo>
                  <a:pt x="2178" y="1697"/>
                  <a:pt x="2182" y="1681"/>
                  <a:pt x="2193" y="1671"/>
                </a:cubicBezTo>
                <a:cubicBezTo>
                  <a:pt x="2216" y="1651"/>
                  <a:pt x="2246" y="1641"/>
                  <a:pt x="2273" y="1627"/>
                </a:cubicBezTo>
                <a:cubicBezTo>
                  <a:pt x="2321" y="1601"/>
                  <a:pt x="2382" y="1567"/>
                  <a:pt x="2433" y="1547"/>
                </a:cubicBezTo>
                <a:cubicBezTo>
                  <a:pt x="2456" y="1538"/>
                  <a:pt x="2481" y="1537"/>
                  <a:pt x="2504" y="1529"/>
                </a:cubicBezTo>
                <a:cubicBezTo>
                  <a:pt x="2519" y="1524"/>
                  <a:pt x="2532" y="1514"/>
                  <a:pt x="2548" y="1512"/>
                </a:cubicBezTo>
                <a:cubicBezTo>
                  <a:pt x="2598" y="1505"/>
                  <a:pt x="2648" y="1506"/>
                  <a:pt x="2698" y="1503"/>
                </a:cubicBezTo>
                <a:cubicBezTo>
                  <a:pt x="2777" y="1492"/>
                  <a:pt x="2813" y="1503"/>
                  <a:pt x="2867" y="1458"/>
                </a:cubicBezTo>
                <a:cubicBezTo>
                  <a:pt x="2889" y="1439"/>
                  <a:pt x="2929" y="1396"/>
                  <a:pt x="2929" y="1396"/>
                </a:cubicBezTo>
                <a:cubicBezTo>
                  <a:pt x="2942" y="1369"/>
                  <a:pt x="2961" y="1345"/>
                  <a:pt x="2973" y="1317"/>
                </a:cubicBezTo>
                <a:cubicBezTo>
                  <a:pt x="2978" y="1306"/>
                  <a:pt x="2978" y="1293"/>
                  <a:pt x="2982" y="1281"/>
                </a:cubicBezTo>
                <a:cubicBezTo>
                  <a:pt x="2987" y="1269"/>
                  <a:pt x="2994" y="1258"/>
                  <a:pt x="3000" y="1246"/>
                </a:cubicBezTo>
                <a:cubicBezTo>
                  <a:pt x="3019" y="1172"/>
                  <a:pt x="3026" y="1097"/>
                  <a:pt x="3044" y="1024"/>
                </a:cubicBezTo>
                <a:cubicBezTo>
                  <a:pt x="3042" y="952"/>
                  <a:pt x="3068" y="706"/>
                  <a:pt x="3000" y="608"/>
                </a:cubicBezTo>
                <a:cubicBezTo>
                  <a:pt x="2915" y="270"/>
                  <a:pt x="2461" y="416"/>
                  <a:pt x="2211" y="413"/>
                </a:cubicBezTo>
                <a:cubicBezTo>
                  <a:pt x="2209" y="412"/>
                  <a:pt x="2154" y="399"/>
                  <a:pt x="2149" y="395"/>
                </a:cubicBezTo>
                <a:cubicBezTo>
                  <a:pt x="2052" y="316"/>
                  <a:pt x="2004" y="178"/>
                  <a:pt x="1928" y="76"/>
                </a:cubicBezTo>
                <a:cubicBezTo>
                  <a:pt x="1896" y="33"/>
                  <a:pt x="1826" y="22"/>
                  <a:pt x="1777" y="14"/>
                </a:cubicBezTo>
                <a:cubicBezTo>
                  <a:pt x="1599" y="18"/>
                  <a:pt x="1409" y="0"/>
                  <a:pt x="1236" y="58"/>
                </a:cubicBezTo>
                <a:cubicBezTo>
                  <a:pt x="1201" y="94"/>
                  <a:pt x="1205" y="108"/>
                  <a:pt x="1192" y="156"/>
                </a:cubicBezTo>
                <a:cubicBezTo>
                  <a:pt x="1187" y="174"/>
                  <a:pt x="1189" y="198"/>
                  <a:pt x="1174" y="209"/>
                </a:cubicBezTo>
                <a:cubicBezTo>
                  <a:pt x="1165" y="215"/>
                  <a:pt x="1148" y="216"/>
                  <a:pt x="1148" y="227"/>
                </a:cubicBezTo>
                <a:cubicBezTo>
                  <a:pt x="1148" y="236"/>
                  <a:pt x="1165" y="227"/>
                  <a:pt x="1174" y="22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620640"/>
            <a:ext cx="3151080" cy="4584600"/>
          </a:xfrm>
          <a:custGeom>
            <a:avLst/>
            <a:gdLst/>
            <a:ahLst/>
            <a:rect l="l" t="t" r="r" b="b"/>
            <a:pathLst>
              <a:path w="1453" h="2756">
                <a:moveTo>
                  <a:pt x="432" y="283"/>
                </a:moveTo>
                <a:cubicBezTo>
                  <a:pt x="468" y="179"/>
                  <a:pt x="461" y="114"/>
                  <a:pt x="565" y="53"/>
                </a:cubicBezTo>
                <a:cubicBezTo>
                  <a:pt x="588" y="40"/>
                  <a:pt x="612" y="30"/>
                  <a:pt x="636" y="18"/>
                </a:cubicBezTo>
                <a:cubicBezTo>
                  <a:pt x="668" y="2"/>
                  <a:pt x="743" y="0"/>
                  <a:pt x="743" y="0"/>
                </a:cubicBezTo>
                <a:cubicBezTo>
                  <a:pt x="858" y="3"/>
                  <a:pt x="973" y="1"/>
                  <a:pt x="1088" y="9"/>
                </a:cubicBezTo>
                <a:cubicBezTo>
                  <a:pt x="1156" y="14"/>
                  <a:pt x="1264" y="135"/>
                  <a:pt x="1327" y="168"/>
                </a:cubicBezTo>
                <a:cubicBezTo>
                  <a:pt x="1340" y="207"/>
                  <a:pt x="1365" y="238"/>
                  <a:pt x="1381" y="275"/>
                </a:cubicBezTo>
                <a:cubicBezTo>
                  <a:pt x="1403" y="326"/>
                  <a:pt x="1420" y="380"/>
                  <a:pt x="1434" y="434"/>
                </a:cubicBezTo>
                <a:cubicBezTo>
                  <a:pt x="1430" y="712"/>
                  <a:pt x="1453" y="1003"/>
                  <a:pt x="1389" y="1276"/>
                </a:cubicBezTo>
                <a:cubicBezTo>
                  <a:pt x="1382" y="1308"/>
                  <a:pt x="1378" y="1341"/>
                  <a:pt x="1372" y="1373"/>
                </a:cubicBezTo>
                <a:cubicBezTo>
                  <a:pt x="1361" y="1434"/>
                  <a:pt x="1321" y="1488"/>
                  <a:pt x="1310" y="1551"/>
                </a:cubicBezTo>
                <a:cubicBezTo>
                  <a:pt x="1301" y="1604"/>
                  <a:pt x="1292" y="1657"/>
                  <a:pt x="1283" y="1710"/>
                </a:cubicBezTo>
                <a:cubicBezTo>
                  <a:pt x="1280" y="1728"/>
                  <a:pt x="1274" y="1763"/>
                  <a:pt x="1274" y="1763"/>
                </a:cubicBezTo>
                <a:cubicBezTo>
                  <a:pt x="1262" y="1904"/>
                  <a:pt x="1239" y="2038"/>
                  <a:pt x="1195" y="2171"/>
                </a:cubicBezTo>
                <a:cubicBezTo>
                  <a:pt x="1176" y="2228"/>
                  <a:pt x="1175" y="2281"/>
                  <a:pt x="1141" y="2330"/>
                </a:cubicBezTo>
                <a:cubicBezTo>
                  <a:pt x="1117" y="2439"/>
                  <a:pt x="1013" y="2512"/>
                  <a:pt x="938" y="2587"/>
                </a:cubicBezTo>
                <a:cubicBezTo>
                  <a:pt x="897" y="2628"/>
                  <a:pt x="946" y="2605"/>
                  <a:pt x="893" y="2623"/>
                </a:cubicBezTo>
                <a:cubicBezTo>
                  <a:pt x="857" y="2659"/>
                  <a:pt x="808" y="2669"/>
                  <a:pt x="760" y="2685"/>
                </a:cubicBezTo>
                <a:cubicBezTo>
                  <a:pt x="626" y="2730"/>
                  <a:pt x="545" y="2736"/>
                  <a:pt x="406" y="2756"/>
                </a:cubicBezTo>
                <a:cubicBezTo>
                  <a:pt x="288" y="2750"/>
                  <a:pt x="212" y="2738"/>
                  <a:pt x="105" y="2720"/>
                </a:cubicBezTo>
                <a:cubicBezTo>
                  <a:pt x="34" y="2674"/>
                  <a:pt x="58" y="2701"/>
                  <a:pt x="34" y="2632"/>
                </a:cubicBezTo>
                <a:cubicBezTo>
                  <a:pt x="0" y="2399"/>
                  <a:pt x="48" y="2165"/>
                  <a:pt x="51" y="1932"/>
                </a:cubicBezTo>
                <a:cubicBezTo>
                  <a:pt x="53" y="1752"/>
                  <a:pt x="51" y="1571"/>
                  <a:pt x="51" y="1391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4280" y="3938760"/>
            <a:ext cx="3438360" cy="1722240"/>
          </a:xfrm>
          <a:custGeom>
            <a:avLst/>
            <a:gdLst/>
            <a:ahLst/>
            <a:rect l="l" t="t" r="r" b="b"/>
            <a:pathLst>
              <a:path w="2166" h="1789">
                <a:moveTo>
                  <a:pt x="430" y="0"/>
                </a:moveTo>
                <a:cubicBezTo>
                  <a:pt x="388" y="124"/>
                  <a:pt x="308" y="225"/>
                  <a:pt x="243" y="337"/>
                </a:cubicBezTo>
                <a:cubicBezTo>
                  <a:pt x="181" y="443"/>
                  <a:pt x="118" y="546"/>
                  <a:pt x="48" y="647"/>
                </a:cubicBezTo>
                <a:cubicBezTo>
                  <a:pt x="40" y="674"/>
                  <a:pt x="29" y="700"/>
                  <a:pt x="22" y="727"/>
                </a:cubicBezTo>
                <a:cubicBezTo>
                  <a:pt x="16" y="751"/>
                  <a:pt x="4" y="798"/>
                  <a:pt x="4" y="798"/>
                </a:cubicBezTo>
                <a:cubicBezTo>
                  <a:pt x="7" y="916"/>
                  <a:pt x="0" y="1035"/>
                  <a:pt x="13" y="1152"/>
                </a:cubicBezTo>
                <a:cubicBezTo>
                  <a:pt x="15" y="1170"/>
                  <a:pt x="73" y="1219"/>
                  <a:pt x="84" y="1232"/>
                </a:cubicBezTo>
                <a:cubicBezTo>
                  <a:pt x="129" y="1282"/>
                  <a:pt x="178" y="1355"/>
                  <a:pt x="235" y="1391"/>
                </a:cubicBezTo>
                <a:cubicBezTo>
                  <a:pt x="285" y="1470"/>
                  <a:pt x="371" y="1508"/>
                  <a:pt x="447" y="1560"/>
                </a:cubicBezTo>
                <a:cubicBezTo>
                  <a:pt x="467" y="1574"/>
                  <a:pt x="512" y="1576"/>
                  <a:pt x="536" y="1586"/>
                </a:cubicBezTo>
                <a:cubicBezTo>
                  <a:pt x="690" y="1651"/>
                  <a:pt x="857" y="1674"/>
                  <a:pt x="1023" y="1693"/>
                </a:cubicBezTo>
                <a:cubicBezTo>
                  <a:pt x="1135" y="1721"/>
                  <a:pt x="1255" y="1731"/>
                  <a:pt x="1369" y="1746"/>
                </a:cubicBezTo>
                <a:cubicBezTo>
                  <a:pt x="1493" y="1789"/>
                  <a:pt x="1636" y="1759"/>
                  <a:pt x="1759" y="1755"/>
                </a:cubicBezTo>
                <a:cubicBezTo>
                  <a:pt x="1794" y="1746"/>
                  <a:pt x="1830" y="1739"/>
                  <a:pt x="1865" y="1728"/>
                </a:cubicBezTo>
                <a:cubicBezTo>
                  <a:pt x="1883" y="1722"/>
                  <a:pt x="1918" y="1711"/>
                  <a:pt x="1918" y="1711"/>
                </a:cubicBezTo>
                <a:cubicBezTo>
                  <a:pt x="1927" y="1705"/>
                  <a:pt x="1935" y="1698"/>
                  <a:pt x="1945" y="1693"/>
                </a:cubicBezTo>
                <a:cubicBezTo>
                  <a:pt x="1953" y="1689"/>
                  <a:pt x="1963" y="1688"/>
                  <a:pt x="1971" y="1684"/>
                </a:cubicBezTo>
                <a:cubicBezTo>
                  <a:pt x="1990" y="1673"/>
                  <a:pt x="2025" y="1648"/>
                  <a:pt x="2025" y="1648"/>
                </a:cubicBezTo>
                <a:cubicBezTo>
                  <a:pt x="2031" y="1639"/>
                  <a:pt x="2035" y="1629"/>
                  <a:pt x="2042" y="1622"/>
                </a:cubicBezTo>
                <a:cubicBezTo>
                  <a:pt x="2050" y="1614"/>
                  <a:pt x="2062" y="1612"/>
                  <a:pt x="2069" y="1604"/>
                </a:cubicBezTo>
                <a:cubicBezTo>
                  <a:pt x="2075" y="1597"/>
                  <a:pt x="2074" y="1586"/>
                  <a:pt x="2078" y="1578"/>
                </a:cubicBezTo>
                <a:cubicBezTo>
                  <a:pt x="2106" y="1526"/>
                  <a:pt x="2105" y="1531"/>
                  <a:pt x="2140" y="1498"/>
                </a:cubicBezTo>
                <a:cubicBezTo>
                  <a:pt x="2158" y="1389"/>
                  <a:pt x="2158" y="1405"/>
                  <a:pt x="2158" y="1232"/>
                </a:cubicBezTo>
                <a:cubicBezTo>
                  <a:pt x="2158" y="1178"/>
                  <a:pt x="2166" y="1119"/>
                  <a:pt x="2140" y="1072"/>
                </a:cubicBezTo>
                <a:cubicBezTo>
                  <a:pt x="2088" y="979"/>
                  <a:pt x="2127" y="1046"/>
                  <a:pt x="2078" y="1002"/>
                </a:cubicBezTo>
                <a:cubicBezTo>
                  <a:pt x="2025" y="954"/>
                  <a:pt x="1977" y="905"/>
                  <a:pt x="1909" y="878"/>
                </a:cubicBezTo>
                <a:cubicBezTo>
                  <a:pt x="1818" y="842"/>
                  <a:pt x="1716" y="837"/>
                  <a:pt x="1626" y="798"/>
                </a:cubicBezTo>
                <a:cubicBezTo>
                  <a:pt x="1575" y="776"/>
                  <a:pt x="1531" y="749"/>
                  <a:pt x="1484" y="718"/>
                </a:cubicBezTo>
                <a:cubicBezTo>
                  <a:pt x="1466" y="706"/>
                  <a:pt x="1446" y="698"/>
                  <a:pt x="1431" y="683"/>
                </a:cubicBezTo>
                <a:cubicBezTo>
                  <a:pt x="1380" y="631"/>
                  <a:pt x="1324" y="589"/>
                  <a:pt x="1280" y="532"/>
                </a:cubicBezTo>
                <a:cubicBezTo>
                  <a:pt x="1215" y="448"/>
                  <a:pt x="1170" y="353"/>
                  <a:pt x="1112" y="266"/>
                </a:cubicBezTo>
                <a:cubicBezTo>
                  <a:pt x="1096" y="242"/>
                  <a:pt x="1092" y="210"/>
                  <a:pt x="1076" y="186"/>
                </a:cubicBezTo>
                <a:cubicBezTo>
                  <a:pt x="1056" y="125"/>
                  <a:pt x="1059" y="152"/>
                  <a:pt x="1059" y="10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40000" y="2924280"/>
            <a:ext cx="3240000" cy="2520720"/>
          </a:xfrm>
          <a:custGeom>
            <a:avLst/>
            <a:gdLst/>
            <a:ahLst/>
            <a:rect l="l" t="t" r="r" b="b"/>
            <a:pathLst>
              <a:path w="2667" h="1330">
                <a:moveTo>
                  <a:pt x="0" y="1214"/>
                </a:moveTo>
                <a:cubicBezTo>
                  <a:pt x="23" y="1222"/>
                  <a:pt x="42" y="1226"/>
                  <a:pt x="62" y="1241"/>
                </a:cubicBezTo>
                <a:cubicBezTo>
                  <a:pt x="72" y="1248"/>
                  <a:pt x="78" y="1262"/>
                  <a:pt x="89" y="1268"/>
                </a:cubicBezTo>
                <a:cubicBezTo>
                  <a:pt x="108" y="1279"/>
                  <a:pt x="131" y="1277"/>
                  <a:pt x="151" y="1285"/>
                </a:cubicBezTo>
                <a:cubicBezTo>
                  <a:pt x="208" y="1307"/>
                  <a:pt x="258" y="1320"/>
                  <a:pt x="319" y="1330"/>
                </a:cubicBezTo>
                <a:cubicBezTo>
                  <a:pt x="491" y="1328"/>
                  <a:pt x="892" y="1329"/>
                  <a:pt x="1134" y="1312"/>
                </a:cubicBezTo>
                <a:cubicBezTo>
                  <a:pt x="1348" y="1297"/>
                  <a:pt x="1556" y="1251"/>
                  <a:pt x="1772" y="1241"/>
                </a:cubicBezTo>
                <a:cubicBezTo>
                  <a:pt x="1887" y="1226"/>
                  <a:pt x="2003" y="1215"/>
                  <a:pt x="2118" y="1206"/>
                </a:cubicBezTo>
                <a:cubicBezTo>
                  <a:pt x="2165" y="1196"/>
                  <a:pt x="2214" y="1192"/>
                  <a:pt x="2260" y="1179"/>
                </a:cubicBezTo>
                <a:cubicBezTo>
                  <a:pt x="2278" y="1174"/>
                  <a:pt x="2313" y="1161"/>
                  <a:pt x="2313" y="1161"/>
                </a:cubicBezTo>
                <a:cubicBezTo>
                  <a:pt x="2374" y="1121"/>
                  <a:pt x="2346" y="1133"/>
                  <a:pt x="2393" y="1117"/>
                </a:cubicBezTo>
                <a:cubicBezTo>
                  <a:pt x="2431" y="1077"/>
                  <a:pt x="2471" y="1044"/>
                  <a:pt x="2508" y="1002"/>
                </a:cubicBezTo>
                <a:cubicBezTo>
                  <a:pt x="2552" y="951"/>
                  <a:pt x="2542" y="909"/>
                  <a:pt x="2605" y="878"/>
                </a:cubicBezTo>
                <a:cubicBezTo>
                  <a:pt x="2628" y="848"/>
                  <a:pt x="2655" y="833"/>
                  <a:pt x="2667" y="798"/>
                </a:cubicBezTo>
                <a:cubicBezTo>
                  <a:pt x="2664" y="689"/>
                  <a:pt x="2663" y="579"/>
                  <a:pt x="2658" y="470"/>
                </a:cubicBezTo>
                <a:cubicBezTo>
                  <a:pt x="2655" y="399"/>
                  <a:pt x="2607" y="326"/>
                  <a:pt x="2561" y="275"/>
                </a:cubicBezTo>
                <a:cubicBezTo>
                  <a:pt x="2544" y="256"/>
                  <a:pt x="2519" y="244"/>
                  <a:pt x="2508" y="222"/>
                </a:cubicBezTo>
                <a:cubicBezTo>
                  <a:pt x="2485" y="176"/>
                  <a:pt x="2501" y="193"/>
                  <a:pt x="2463" y="169"/>
                </a:cubicBezTo>
                <a:cubicBezTo>
                  <a:pt x="2427" y="111"/>
                  <a:pt x="2374" y="101"/>
                  <a:pt x="2313" y="80"/>
                </a:cubicBezTo>
                <a:cubicBezTo>
                  <a:pt x="2303" y="76"/>
                  <a:pt x="2296" y="66"/>
                  <a:pt x="2286" y="62"/>
                </a:cubicBezTo>
                <a:cubicBezTo>
                  <a:pt x="2191" y="20"/>
                  <a:pt x="2097" y="8"/>
                  <a:pt x="1994" y="0"/>
                </a:cubicBezTo>
                <a:cubicBezTo>
                  <a:pt x="1820" y="3"/>
                  <a:pt x="1645" y="4"/>
                  <a:pt x="1471" y="9"/>
                </a:cubicBezTo>
                <a:cubicBezTo>
                  <a:pt x="1368" y="12"/>
                  <a:pt x="1264" y="36"/>
                  <a:pt x="1161" y="36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91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L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0" y="2421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I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4025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RI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360" y="47181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NCHI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44:51Z</dcterms:created>
  <dc:creator>Doris</dc:creator>
  <dc:description/>
  <dc:language>en-US</dc:language>
  <cp:lastModifiedBy>Doris</cp:lastModifiedBy>
  <dcterms:modified xsi:type="dcterms:W3CDTF">2009-07-27T15:22:08Z</dcterms:modified>
  <cp:revision>2</cp:revision>
  <dc:subject/>
  <dc:title>Diapositiva 1</dc:title>
</cp:coreProperties>
</file>