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30E-CE93-4F1E-977E-935BA081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907-DB77-4457-8811-F76EA33E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D29-968E-4DED-B4AE-FB18C934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54C-3477-4AF5-9CE0-89ED5E66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7177-B82D-4C31-9118-1C5D8875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75F0-610E-490A-AFEC-EDA991E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FA8E-BAEA-4696-8851-E7B4C92D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0509-9DBA-46B3-8E38-4F06F8AF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F094-0522-4E74-AFE3-9DE9B38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1205-E20B-47F4-B13C-4DE7416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2C19-E569-4052-925D-FD77CD3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4CC-3A40-4E0B-8EE8-253644E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AD4A-B164-4DC4-9902-B9DD2C7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C81-C542-4D63-B756-1F6D815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6245-FB8A-4C4C-AE9F-03F12DF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531-5241-49F3-B365-FD27FDD1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7FA3-7B95-400C-B9AF-9FBE7E9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7F4-2BBC-46D6-91EB-7A3E89FC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9C9-F495-4334-9CBE-00B5BC0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E13-A50D-4A24-9BAE-28A3F8B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F30-B2A2-4A56-97CB-791D79A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114-227B-40D0-9066-6B91BFD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80B-1C41-4155-BCD7-9361089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E53-1524-46BE-B9E0-67E3F9A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D74-9DC7-4267-A17E-ACDDA1E78C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507-21A2-4F08-8FE4-C1C9F1C9CD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CHILE y la OMC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ITUTO DE ESTUDIO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varo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7 de julio d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MC  395 casos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(según la OM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nte    1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rido     1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a Parte     22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CAL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ALMON (C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OFFSET ACT (BYR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AXES ON CIGARETTES (Per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DURAZNOS ENLATAD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TAX TREATMENT (Peru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TAX TREATMENT (Urugu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– MEDIUM DENSITY FIBREBOAR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SG – SALM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43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MPUESTO BEBIDAS ALCOHÓLICAS - 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MPUESTO BEBIDAS ALCOHÓLICAS-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PEZ ESP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ISTEMA DE BANDAS DE PRE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rgent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SB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(PROV) MEZCLAS DE ACEITES COMES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SG AZÚCAR / MODIFICACIÓN LIS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SG FRUCT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PROV. &amp; DEF LÁCTE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AD HARINA DE TRIG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ALLOP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QUILLE SAINT-JACQUE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EIRA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TIONE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products (PEC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 I – III GATT, Article 2 T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im Report = mutually agre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 –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7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12 Peru / DS 14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FFSET ACT</a:t>
            </a:r>
            <a:br>
              <a:rPr sz="4400"/>
            </a:b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Byrd Amendment)</a:t>
            </a:r>
            <a:br>
              <a:rPr sz="32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Dumping and Subsidy Offset Act o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17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, Brazil, Chile, EC, Korea, India, Indonesia, Japan &amp; Thail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34: Canada &amp; 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ALMON - EC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Chile DS 3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Noruega DS 3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s 8 Feb 2005 (medida definitiva con vigencia desde 6 Feb 2005 a agosto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de mayo 2005 solicitud retirada porque CE suprimió medida 27 Abri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sky         Pisco        De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97                  70%              25%           30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7 =&gt;                   65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8 =&gt;                   59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9 =&gt; 1.12.00      53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Alcohol             Impuesto Ad Va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5º                                    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6º                                     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7º                                     35%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8º                                     39%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9º                                     4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    39º                                     47%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848720" cy="33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ffff"/>
                </a:solidFill>
                <a:latin typeface="Times New Roman"/>
              </a:rPr>
              <a:t>CHILE y el GATT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3715920"/>
            <a:ext cx="77551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EZ ESP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OMC “Medidas que afectan el tránsito e Importación del Pez Espada” (Abril - Diciembre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Tribunal Hamburgo CONVEMAR Caso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ervación y explotación sostenible de poblaciones de pez espada en Pacífico Sud Este” (Junio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C — Scallop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US — AD on Certain Hot-Rolled Steel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US — AD and CVD on Steel Plate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di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Egypt — AD on Steel Rebar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urke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EC — AD on Malleable Cast Iron Tube or Pipe Fitting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EC — Trade Description of Sardin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 Argentina — AD on Poultry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US — Sunset Review of AD on Corrosion-Resistant Carbon Steel Flat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US — Equalizing Excise Tax Imposed by Florida on Processed Orange and Grapefruit Produc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Australia — Certain Measures Affecting the Importation of Fresh Fruit and Vegetabl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ilippin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899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Canada — Measures Relating to Exports of Wheat and Treatment of Imported Grai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Australia — Quarantine Regime for Impor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EC — Measures Affecting the Approval and Marketing of Biotech Products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Dominican Republic — Measures Affecting the Importation and Internal Sale of Cigarett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ondura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US — AD Measure on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US — AD Measures relating to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aila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US — AD Measures on Stainless Steel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xic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India — Measures Affecting the Importation and Sale of Wines and Spirits from the E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India — Additional and Extra-Additional Duties on Imports from the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tralia – Measures affecting the importation of Apples from New Zea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GATT y sus Códigos (Toki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CM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as Públ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ne de Bov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eronaves civ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solidación Ronda Toki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826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ile: primer país en consolidar la totalidad de sus líneas arancelarias en un nivel uniforme de 35%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ferencias en el GAT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826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stralia: Subvenciones al Sulfato am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E.UU. Taba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en Ronda Urugua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hile fija su nivel en 25%, excep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arina de 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zú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eites vege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excepción: AZÚCAR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negociación de la Lista a 98 %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po libre de arancel de 60 mil ton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is líneas arancelarias con tipos &lt; al 25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a 0 % (cenizas de hueso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3 % (embarcaciones de más de 3.500 toneladas o 120 metros de eslor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15 % (varios tipos de materias para tallar trabajadas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es líneas a 23 % (varios tipos de turbina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Arancel interno (NMF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ructura arancela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sta 1973 dispersa de 0 a 7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romedio 15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82 (crisis deuda exter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suben a 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1 se reducen desde 15 % a 1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8 Ley 19.589 rebajó un punto porcentual anual desde 11% a 6 % en 200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rancel interno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 un Arancel 0 (nulo) aplicado a ciertos productos,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cción 0 del Arancel en favor de entidades benéficas, públicas y relig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3:33:09Z</dcterms:created>
  <dc:creator>Natacha Montalva</dc:creator>
  <dc:description/>
  <dc:language>en-US</dc:language>
  <cp:lastModifiedBy>WinuE</cp:lastModifiedBy>
  <dcterms:modified xsi:type="dcterms:W3CDTF">2009-08-26T20:53:53Z</dcterms:modified>
  <cp:revision>23</cp:revision>
  <dc:subject/>
  <dc:title>http://www.wto.org   http://badicc.eclac.cl </dc:title>
</cp:coreProperties>
</file>