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560F-2C32-47BE-9554-83D6B3AD4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3610-7342-4821-B08A-624998695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56BB-0460-43AC-96B1-2400C73C6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C08B-DA07-464F-8F41-E97630236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4797F-43CF-47E7-A323-F1A7E6A5C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00C61-C1B2-4FAC-B73E-2D6E83FF5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EF60F-727A-4819-822B-4DFD35C1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F5299-0048-4D9C-904B-F14AA96FB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0886D-8A22-422F-A997-CEA45AE11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20D65-92F9-4E54-ACA6-1C6B94B53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1BCD3-F33B-4C0E-ABEF-D921F783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E144-FB41-470C-84FF-F88573484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DA32D-BEA6-42DC-ACCF-C0E62DFE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33D36-8DFD-4B5A-8BAE-4C7B80E5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CD55E-7645-4793-AEB9-3301B2599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AAA04-664C-4EFA-B6AC-ED7BC25A0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CD278-0662-4AAC-A1D8-E1A41ACB9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F0E1-6F3C-491C-83AB-9718075B5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AB52-F3B5-444B-87A6-17B1F4756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F1DF-529E-4BB0-8165-7C074695A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A003-52A2-49BC-BD54-9C6E5201B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D369-81B6-4753-BBF5-F3D687E8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0D87-A2FB-4BBE-BA54-115893CC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414B-F8DD-4CEA-9236-48C2F1C1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D6C4F-5752-46F8-8A53-290524D0495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DAA07-8F24-4B7F-8C84-A63D964D847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71640" y="620640"/>
            <a:ext cx="7921440" cy="23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ffff"/>
                </a:solidFill>
                <a:latin typeface="Times New Roman"/>
              </a:rPr>
              <a:t>“</a:t>
            </a:r>
            <a:r>
              <a:rPr b="0" lang="es-ES" sz="4800" spc="-1" strike="noStrike">
                <a:solidFill>
                  <a:srgbClr val="00ffff"/>
                </a:solidFill>
                <a:latin typeface="Times New Roman"/>
              </a:rPr>
              <a:t>CHILE y la OMC”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42920" y="2923920"/>
            <a:ext cx="7850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INSTITUTO DE ESTUDIOS INTERNACION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UNIVERSIDAD DE CHIL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Alvaro Espinoz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27 de julio de 200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s-E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 </a:t>
            </a:r>
            <a:br>
              <a:rPr sz="3600"/>
            </a:br>
            <a:r>
              <a:rPr b="0" lang="es-E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OMC  395 casos</a:t>
            </a:r>
            <a:br>
              <a:rPr sz="3600"/>
            </a:b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193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LE (según la OMC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lamante    10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erido     13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cera Parte     22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CHILE RECLAMANTE</a:t>
            </a:r>
            <a:br>
              <a:rPr sz="3200"/>
            </a:br>
            <a:r>
              <a:rPr b="0" lang="es-ES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10 casos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SCALLO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SALMON (CV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OFFSET ACT (BYRD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TAXES ON CIGARETTES (Peru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MATCH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CHILE RECLAMANTE</a:t>
            </a:r>
            <a:br>
              <a:rPr sz="3200"/>
            </a:b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(Continuación)</a:t>
            </a:r>
            <a:br>
              <a:rPr sz="3200"/>
            </a:b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SG DURAZNOS ENLATADOS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 TAX TREATMENT (Peru)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TAX TREATMENT (Urugua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SG – MEDIUM DENSITY FIBREBOARD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SG – SALMON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7677000" cy="87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CHILE REQUERIDO</a:t>
            </a:r>
            <a:br>
              <a:rPr sz="3200"/>
            </a:br>
            <a:r>
              <a:rPr b="0" lang="es-ES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10 casos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794376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IMPUESTO BEBIDAS ALCOHÓLICAS - CE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IMPUESTO BEBIDAS ALCOHÓLICAS-U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PEZ ESPAD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SISTEMA DE BANDAS DE PRECIOS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Argentin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SBP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Guatemal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CHILE REQUERIDO</a:t>
            </a:r>
            <a:br>
              <a:rPr sz="3200"/>
            </a:b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(Continuación)</a:t>
            </a:r>
            <a:br>
              <a:rPr sz="3200"/>
            </a:br>
            <a:r>
              <a:rPr b="0" lang="es-ES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773000"/>
            <a:ext cx="7848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SG (PROV) MEZCLAS DE ACEITES COMESTI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 SG AZÚCAR / MODIFICACIÓN LISTA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SG FRUCTOS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SG PROV. &amp; DEF LÁCTEO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AD HARINA DE TRIGO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2640" y="457200"/>
            <a:ext cx="80010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SCALLOPS</a:t>
            </a:r>
            <a:br>
              <a:rPr sz="3200"/>
            </a:b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COQUILLE SAINT-JACQUES</a:t>
            </a:r>
            <a:br>
              <a:rPr sz="3200"/>
            </a:b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VIEIRAS</a:t>
            </a:r>
            <a:br>
              <a:rPr sz="3200"/>
            </a:b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OSTIONES</a:t>
            </a:r>
            <a:br>
              <a:rPr sz="3200"/>
            </a:b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30477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-19872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ke products (PECTE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8720" indent="-19872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ticles I – III GATT, Article 2 TB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8720" indent="-19872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im Report = mutually agreed s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8720" indent="-19872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5 – 199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8720" indent="-19872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S 7 Can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8720" indent="-19872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S 12 Peru / DS 14 C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8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8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8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8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8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OFFSET ACT</a:t>
            </a:r>
            <a:br>
              <a:rPr sz="4400"/>
            </a:br>
            <a:r>
              <a:rPr b="0" lang="en-GB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(Byrd Amendment)</a:t>
            </a:r>
            <a:br>
              <a:rPr sz="32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-21600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inued Dumping and Subsidy Offset Act of 2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ainants Case 217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tralia, Brazil, Chile, EC, Korea, India, Indonesia, Japan &amp; Thailan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ainants Case 234: Canada &amp; Mex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SALMON - EC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marL="181800" indent="-18180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so Chile DS 3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1800" indent="-18180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so Noruega DS 32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1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1800" indent="-18180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ltas 8 Feb 2005 (medida definitiva con vigencia desde 6 Feb 2005 a agosto 2008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1800" indent="-18180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 de mayo 2005 solicitud retirada porque CE suprimió medida 27 Abril 200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1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1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IMPUESTOS A BEBIDAS ALCOHÓLICAS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23619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I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sky         Pisco        Demá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.11.97                  70%              25%           30%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12.97 =&gt;                   65%             25%            3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12.98 =&gt;                   59%             25%            3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12.99 =&gt; 1.12.00      53%             25%            3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15328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IMPUESTOS A BEBIDAS ALCOHÓLICAS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360" y="23619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enido Alcohol             Impuesto Ad Valor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&lt;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35º                                     27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&lt;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36º                                     31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&lt;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37º                                     35%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&lt;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38º                                     39%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&lt;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39º                                     43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     39º                                     47%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42920" y="1197000"/>
            <a:ext cx="7848720" cy="33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ffff"/>
                </a:solidFill>
                <a:latin typeface="Times New Roman"/>
              </a:rPr>
              <a:t>CHILE y el GATT</a:t>
            </a:r>
            <a:endParaRPr b="0" lang="en-US" sz="6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7280" y="3715920"/>
            <a:ext cx="7755120" cy="23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PEZ ESPAD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* OMC “Medidas que afectan el tránsito e Importación del Pez Espada” (Abril - Diciembre 2000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* Tribunal Hamburgo CONVEMAR Caso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onservación y explotación sostenible de poblaciones de pez espada en Pacífico Sud Este” (Junio 2000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CHILE TERCERA PARTE</a:t>
            </a:r>
            <a:br>
              <a:rPr sz="3200"/>
            </a:b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20 casos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EC — Scallops (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anada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US — AD on Certain Hot-Rolled Steel Products from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Japan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US — AD and CVD on Steel Plate from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ndia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) Egypt — AD on Steel Rebar from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urkey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) EC — AD on Malleable Cast Iron Tube or Pipe Fittings from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Brazil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CHILE TERCERA PARTE</a:t>
            </a:r>
            <a:br>
              <a:rPr sz="3200"/>
            </a:b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(Continuación)</a:t>
            </a:r>
            <a:br>
              <a:rPr sz="3200"/>
            </a:b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) EC — Trade Description of Sardines (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eru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)  Argentina — AD on Poultry from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Brazil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) US — Sunset Review of AD on Corrosion-Resistant Carbon Steel Flat Products from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Japan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) US — Equalizing Excise Tax Imposed by Florida on Processed Orange and Grapefruit Products (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Brazil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) Australia — Certain Measures Affecting the Importation of Fresh Fruit and Vegetables (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hilippine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CHILE TERCERA PARTE</a:t>
            </a:r>
            <a:br>
              <a:rPr sz="3200"/>
            </a:b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(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Continuación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)</a:t>
            </a:r>
            <a:br>
              <a:rPr sz="3200"/>
            </a:b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42560" y="1628640"/>
            <a:ext cx="789948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) Canada — Measures Relating to Exports of Wheat and Treatment of Imported Grain (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U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) Australia — Quarantine Regime for Imports (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C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) EC — Measures Affecting the Approval and Marketing of Biotech Products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US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anada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rgentina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) Dominican Republic — Measures Affecting the Importation and Internal Sale of Cigarettes (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ondura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) US — AD Measure on Shrimp from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cuad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CHILE TERCERA PARTE</a:t>
            </a:r>
            <a:br>
              <a:rPr sz="3200"/>
            </a:b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(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Continuación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)</a:t>
            </a:r>
            <a:br>
              <a:rPr sz="3200"/>
            </a:b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) US — AD Measures relating to Shrimp from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hailand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7) US — AD Measures on Stainless Steel from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exic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) India — Measures Affecting the Importation and Sale of Wines and Spirits from the EC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) India — Additional and Extra-Additional Duties on Imports from the U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)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Australia – Measures affecting the importation of Apples from New Zeala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777564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GATT y sus Códigos (Tokio)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6560" y="1341360"/>
            <a:ext cx="7921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OTC 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CM 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IC 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ompras Públic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arne de Bovi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ácte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V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Aeronaves civ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Consolidación Ronda Tokio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16000" y="2420640"/>
            <a:ext cx="7826400" cy="36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Chile: primer país en consolidar la totalidad de sus líneas arancelarias en un nivel uniforme de 35%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7677000" cy="87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Diferencias en el GAT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6000" y="1557360"/>
            <a:ext cx="7826400" cy="45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ustralia: Subvenciones al Sulfato amón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 (195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EE Restricciones a imp. Manzan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 (198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EE Restricciones a imp. Manzanas me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 (1989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EE Restricciones a imp. Manzan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 (199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E.UU. Taba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 (199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333000"/>
            <a:ext cx="810108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ffff"/>
                </a:solidFill>
                <a:latin typeface="Times New Roman"/>
              </a:rPr>
              <a:t>Consolidación en Ronda Uruguay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15640" y="1125360"/>
            <a:ext cx="755964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hile fija su nivel en 25%, excepto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ácte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Trig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Harina de Trig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zúc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ceites veget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ontraexcepción: AZÚCAR (200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Renegociación de la Lista a 98 % 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upo libre de arancel de 60 mil tons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5008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ffff"/>
                </a:solidFill>
                <a:latin typeface="Times New Roman"/>
              </a:rPr>
              <a:t>Consolidación (cont.)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42920" y="1412640"/>
            <a:ext cx="7850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is líneas arancelarias con tipos &lt; al 25 %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Una a 0 % (cenizas de huesos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otra a 3 % (embarcaciones de más de 3.500 toneladas o 120 metros de eslora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otra a 15 % (varios tipos de materias para tallar trabajadas)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tres líneas a 23 % (varios tipos de turbinas)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5008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ffff"/>
                </a:solidFill>
                <a:latin typeface="Times New Roman"/>
              </a:rPr>
              <a:t>Arancel interno (NMF)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42560" y="1267920"/>
            <a:ext cx="770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structura arancelari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Hasta 1973 dispersa de 0 a 750%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(promedio 150%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n 1982 (crisis deuda extern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 suben a 35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n 1991 se reducen desde 15 % a 11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n 1998 Ley 19.589 rebajó un punto porcentual anual desde 11% a 6 % en 2003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Arancel interno (cont.)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xiste un Arancel 0 (nulo) aplicado a ciertos productos,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a Sección 0 del Arancel en favor de entidades benéficas, públicas y religios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6T23:33:09Z</dcterms:created>
  <dc:creator>Natacha Montalva</dc:creator>
  <dc:description/>
  <dc:language>en-US</dc:language>
  <cp:lastModifiedBy>WinuE</cp:lastModifiedBy>
  <dcterms:modified xsi:type="dcterms:W3CDTF">2009-08-26T20:53:53Z</dcterms:modified>
  <cp:revision>23</cp:revision>
  <dc:subject/>
  <dc:title>http://www.wto.org   http://badicc.eclac.cl </dc:title>
</cp:coreProperties>
</file>