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9C0-7D12-49C2-8091-6AAD490C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743-8BA1-4E0A-B36C-BE576B53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983-5078-4F08-836A-19F73E45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2BC-84D7-476C-B4E9-950A4DD4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CCFB-F0E6-48BD-A320-DA05EE12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90BE-FAE3-471C-AF3E-E4414E9E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BF4E-4C31-48F2-AEEE-B84ED37B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9A46-777C-4489-B2A3-CAA18135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9389-7012-4B10-8EB9-F47BA91F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2416-B286-4042-B158-DFBD35A4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2F23-22D8-42BE-B02E-1EF57216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6DA-8879-47CB-B728-F3DB39D4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6555-86C3-4170-AFA2-9121E262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CE77-CA35-466A-B1F4-F7096A06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E6EC-B067-4320-879D-6F56A1AB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D96B-29B2-4268-A3CF-E03CA482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C5FE-CD46-451C-8583-93D3DAA8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371-0740-4989-9A16-A247C1A5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660-CD78-4C80-9581-9329840E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55D-52AC-4052-B7C5-8F1B68C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5F7-BD66-4ADE-8550-2BA0290F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774-FACE-4A60-8918-7B08B553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512-2131-4D9D-9F53-308A7DE3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C24-F285-472D-9722-CB593A4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EA25-8F4B-4343-80AB-ADE7209FE7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88BF-18AD-4A71-8269-8B208CCBF2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92144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CHILE y la OMC”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2923920"/>
            <a:ext cx="7850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ITUTO DE ESTUDIO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lvaro Espin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7 de julio de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MC  395 casos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(según la OM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nte    10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rido     13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cera Parte     22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CALL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ALMON (CV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OFFSET ACT (BYRD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TAXES ON CIGARETTES (Peru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DURAZNOS ENLATADO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TAX TREATMENT (Peru)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TAX TREATMENT (Urugua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– MEDIUM DENSITY FIBREBOARD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SG – SALMON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437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IMPUESTO BEBIDAS ALCOHÓLICAS - 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IMPUESTO BEBIDAS ALCOHÓLICAS-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PEZ ESPA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SISTEMA DE BANDAS DE PRECI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rgenti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SB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uatemal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(PROV) MEZCLAS DE ACEITES COMEST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SG AZÚCAR / MODIFICACIÓN LISTA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SG FRUCTO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PROV. &amp; DEF LÁCTE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AD HARINA DE TRIG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CALLOP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QUILLE SAINT-JACQUE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IEIRA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STIONE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products (PECT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s I – III GATT, Article 2 T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im Report = mutually agreed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5 –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7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12 Peru / DS 14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FFSET ACT</a:t>
            </a:r>
            <a:br>
              <a:rPr sz="4400"/>
            </a:b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Byrd Amendment)</a:t>
            </a:r>
            <a:br>
              <a:rPr sz="32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d Dumping and Subsidy Offset Act of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17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, Brazil, Chile, EC, Korea, India, Indonesia, Japan &amp; Thail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34: Canada &amp; 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ALMON - EC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Chile DS 3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Noruega DS 3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ltas 8 Feb 2005 (medida definitiva con vigencia desde 6 Feb 2005 a agosto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de mayo 2005 solicitud retirada porque CE suprimió medida 27 Abril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sky         Pisco        Dem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11.97                  70%              25%           30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7 =&gt;                   65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8 =&gt;                   59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9 =&gt; 1.12.00      53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Alcohol             Impuesto Ad Valo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5º                                     2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6º                                     3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7º                                     35%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8º                                     39%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9º                                     4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    39º                                     47%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848720" cy="33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ffff"/>
                </a:solidFill>
                <a:latin typeface="Times New Roman"/>
              </a:rPr>
              <a:t>CHILE y el GATT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3715920"/>
            <a:ext cx="775512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PEZ ESPA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OMC “Medidas que afectan el tránsito e Importación del Pez Espada” (Abril - Diciembre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Tribunal Hamburgo CONVEMAR Caso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ervación y explotación sostenible de poblaciones de pez espada en Pacífico Sud Este” (Junio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EC — Scallop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US — AD on Certain Hot-Rolled Steel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US — AD and CVD on Steel Plate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di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Egypt — AD on Steel Rebar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urke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EC — AD on Malleable Cast Iron Tube or Pipe Fitting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EC — Trade Description of Sardin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 Argentina — AD on Poultry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US — Sunset Review of AD on Corrosion-Resistant Carbon Steel Flat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US — Equalizing Excise Tax Imposed by Florida on Processed Orange and Grapefruit Produc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Australia — Certain Measures Affecting the Importation of Fresh Fruit and Vegetabl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ilippin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8994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Canada — Measures Relating to Exports of Wheat and Treatment of Imported Grain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) Australia — Quarantine Regime for Impor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) EC — Measures Affecting the Approval and Marketing of Biotech Products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rgentin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) Dominican Republic — Measures Affecting the Importation and Internal Sale of Cigarett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ondura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) US — AD Measure on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u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) US — AD Measures relating to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ailan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) US — AD Measures on Stainless Steel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xic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) India — Measures Affecting the Importation and Sale of Wines and Spirits from the E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) India — Additional and Extra-Additional Duties on Imports from the 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ustralia – Measures affecting the importation of Apples from New Zeal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775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GATT y sus Códigos (Tokio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CM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ras Públ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rne de Bov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eronaves civ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solidación Ronda Toki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6000" y="2420640"/>
            <a:ext cx="78264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hile: primer país en consolidar la totalidad de sus líneas arancelarias en un nivel uniforme de 35%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iferencias en el GAT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8264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ustralia: Subvenciones al Sulfato amó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5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 m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E.UU. Taba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en Ronda Urugua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125360"/>
            <a:ext cx="7559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hile fija su nivel en 25%, except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Harina de 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zú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eites vege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raexcepción: AZÚCAR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negociación de la Lista a 98 %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po libre de arancel de 60 mil ton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(cont.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7850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is líneas arancelarias con tipos &lt; al 25 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a 0 % (cenizas de hueso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3 % (embarcaciones de más de 3.500 toneladas o 120 metros de eslora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15 % (varios tipos de materias para tallar trabajadas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es líneas a 23 % (varios tipos de turbinas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Arancel interno (NMF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tructura arancela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asta 1973 dispersa de 0 a 75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(promedio 15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82 (crisis deuda exter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suben a 3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1 se reducen desde 15 % a 1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8 Ley 19.589 rebajó un punto porcentual anual desde 11% a 6 % en 2003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Arancel interno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 un Arancel 0 (nulo) aplicado a ciertos productos,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Sección 0 del Arancel en favor de entidades benéficas, públicas y religios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3:33:09Z</dcterms:created>
  <dc:creator>Natacha Montalva</dc:creator>
  <dc:description/>
  <dc:language>en-US</dc:language>
  <cp:lastModifiedBy>WinuE</cp:lastModifiedBy>
  <dcterms:modified xsi:type="dcterms:W3CDTF">2009-08-26T20:53:53Z</dcterms:modified>
  <cp:revision>23</cp:revision>
  <dc:subject/>
  <dc:title>http://www.wto.org   http://badicc.eclac.cl </dc:title>
</cp:coreProperties>
</file>