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159A-8FCB-4AD2-BAF1-75DF232EE1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cumulación de riqueza era un proxy de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Nula noción de eficiencia (todo se hace en el paí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lta intervención del Estado (Estados Naciones) por lo que hay un una política comercial proteccion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3130-CFE0-41C4-9963-665DC2C0DF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Bodin estudió el influjo que hubo desde las colonias a los países y encontró infl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ustento de los mercantilis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conomía superavitaria X&gt;M mayor inflación, disminuición de la competitividad, luego se revierte el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96F1-FE3C-4755-AF20-B5C34BA21A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Y aquí preguntas que por lo general rondan en cualquier análisis del comercio internacion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as ganancias del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 es el patrón de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os términos de intercamb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0C16-91FC-4715-A18C-A1B2C0556F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comercio mutuamente beneficioso se basa en el concepto de la ventaja absolu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ineficiente que los países produzcan todo de to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pecialízación, eficiencia, mayor producción, exc </a:t>
            </a:r>
            <a:r>
              <a:rPr b="0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exportación, aumento del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roducción del concepto de costo de oportun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2F56-4A27-4081-AEDC-90BFFA2C8A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Hay comercio incluso cuando hay ventaja comparativa (condición más débi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supuestos: 1fp, 2 bienes, 2 pa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557B-7C62-4A36-A651-7676B31B8DA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ntes los costos de oportunidad eran una línea recta: cop consta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 crecientes: frontera de pp conca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ferta neta: cantidad de un bien que un país está dispuesto a expor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países tienden a especializarse pero no hay especialización compl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21FF-2F90-4A36-BBFD-7C0DAEE737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353-B855-4016-B9FC-2F6420E9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C17B-96EC-40C6-B5E0-2F0B585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9F8-4720-4B3A-93DE-5AD54679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F57-9334-48BF-A10E-4D750378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065-DA66-4564-8AB6-63DBCC45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64C-D4E0-42B9-AD8C-DD44946C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FB1-93BB-4564-BB89-DAC284DF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1EF4-544E-4A08-BE8A-86322540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F6B-1637-41CD-8D8F-4D7D5484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4FE8-4CCB-4C00-99D0-C9D2B5A4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A06-A21C-40D4-9164-BBFB1203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412-30AF-44C3-914C-973B098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0568-2280-438B-95D0-4D023D73BA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s críticas se relacionaron con la evidencia empí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ontieff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delo de factores específicos (H-O en el corto plaz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bases del comercio internacional han permitido entender los flujos de come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 pesar de su aparente simplicidad la teoría clásica ha permitido explicar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orqué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los países comercian, cuáles son la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gananci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l intercambio y lo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a que se ge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críticas que han seguido a estos modelos han permitido mejorar aún más las conclusiones derivadas de los modelos pio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mercantilismo y su visión particular del comer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17146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suele ubicar a este sistema económico entre los siglos XVI hasta la mitad del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dea central: acumulación de riqu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comercio era entendido sólo hacia una balanza comercial “superavita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s críticas: importante efecto del dinero en una ec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antidad de dinero y su efecto en la econom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Bodin (1569) aumento de precios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Locke (1700) y la teoría cuantit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. Hume (1800) evolución natural de una economía superav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rítica: ¿riqueza = acumul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iqueza de los países radica en otros factores, como la división del trabajo o recursos natu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dam Smith (177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ienzo de la teoría clásica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dam Smith y las ventajas absolu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mportancia del libre comercio para incrementar la riqueza de las n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ol del factor productivo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delo Ricard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décadas después de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ucede si un país posee ventajas absolutas en la producción de todos los b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 con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ensión del model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introduce la noción de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de oportunidad cre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érminos de inter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curvas de oferta 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Heckscher-Oh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ele llamarse a este modelo a una serie de teoremas (que incluyen el de H-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ybczyn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eckscher-Oh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tolper-Samu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gualación de precio de 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9:45:39Z</dcterms:created>
  <dc:creator>BCCH</dc:creator>
  <dc:description/>
  <dc:language>en-US</dc:language>
  <cp:lastModifiedBy>Gonzalo Becerra</cp:lastModifiedBy>
  <dcterms:modified xsi:type="dcterms:W3CDTF">2009-07-25T12:31:58Z</dcterms:modified>
  <cp:revision>12</cp:revision>
  <dc:subject/>
  <dc:title>Teoría del Comercio Internacional</dc:title>
</cp:coreProperties>
</file>