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A7A-E534-46DC-B2E5-A9CFFDABFD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cumulación de riqueza era un proxy de biene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Nula noción de eficiencia (todo se hace en el paí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lta intervención del Estado (Estados Naciones) por lo que hay un una política comercial proteccion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939E-6266-4947-99A6-FFF51C83E0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Bodin estudió el influjo que hubo desde las colonias a los países y encontró infl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ustento de los mercantilist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conomía superavitaria X&gt;M mayor inflación, disminuición de la competitividad, luego se revierte el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7B33-17E5-46A1-8F81-35280F95E3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Y aquí preguntas que por lo general rondan en cualquier análisis del comercio internacion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es son las ganancias del comerc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 es el patrón de comerc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es son los términos de intercamb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9885-AC99-43C0-A751-0D8C1ADF72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comercio mutuamente beneficioso se basa en el concepto de la ventaja absolu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 ineficiente que los países produzcan todo de to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pecialízación, eficiencia, mayor producción, exc </a:t>
            </a:r>
            <a:r>
              <a:rPr b="0" lang="es-MX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exportación, aumento del biene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troducción del concepto de costo de oportun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1E4E-C87D-4217-933B-CE9F94D8C4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Hay comercio incluso cuando hay ventaja comparativa (condición más débi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os supuestos: 1fp, 2 bienes, 2 pa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F7B2-734E-4970-8908-BDB465BB83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ntes los costos de oportunidad eran una línea recta: cop consta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op crecientes: frontera de pp conca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ferta neta: cantidad de un bien que un país está dispuesto a expor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os países tienden a especializarse pero no hay especialización compl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162A-97ED-4EB6-A490-DA1BFA19CA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82C-5BA2-4E30-9B87-84AC43AA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88D-0AF4-477F-904F-D2F8B577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7C7-E1EB-4FE5-96B5-887BE013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9FD-3376-4E74-A241-4BF3AF68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522-609D-4DEA-8F53-5D7EAAC7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547-8C43-4E02-8597-D814672F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E13-4F3B-4AF7-97F3-797FC830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BE1-40CF-44BA-A20C-36274D99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AB1-C385-49F1-9194-78B435B8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0F4-9504-43D7-9992-F383D14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58C-73C7-4904-833B-6844B9F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586-9E6D-43FF-8E07-6585B3F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6C01-EAA9-42AA-8439-B5342DBA3F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ía del 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ploma Estrategia Internacional y Polític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ábado 25 de Julio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5072040" y="5072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nzalo Becerr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s críticas se relacionaron con la evidencia empí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ontieff (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delo de factores específicos (H-O en el corto plaz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ercio intra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bases del comercio internacional han permitido entender los flujos de comer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 pesar de su aparente simplicidad la teoría clásica ha permitido explicar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orqué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los países comercian, cuáles son las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ganancia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l intercambio y los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recio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a que se gen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críticas que han seguido a estos modelos han permitido mejorar aún más las conclusiones derivadas de los modelos pio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ía del 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ploma Estrategia Internacional y Polític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ábado 25 de Julio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5072040" y="5072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nzalo Becerr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l mercantilismo y su visión particular del comer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17146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suele ubicar a este sistema económico entre los siglos XVI hasta la mitad del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dea central: acumulación de riqu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comercio era entendido sólo hacia una balanza comercial “superavita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s críticas: importante efecto del dinero en una ec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cantidad de dinero y su efecto en la econom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. Bodin (1569) aumento de precios en Europa O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. Locke (1700) y la teoría cuantit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. Hume (1800) evolución natural de una economía superav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rítica: ¿riqueza = acumul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riqueza de los países radica en otros factores, como la división del trabajo o recursos natu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dam Smith (177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ienzo de la teoría clásica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dam Smith y las ventajas absolu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mportancia del libre comercio para incrementar la riqueza de las n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ol del factor productivo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 de espe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lu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delo Ricard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décadas después de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sucede si un país posee ventajas absolutas en la producción de todos los b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lustración con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tensión del model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introduce la noción de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de oportunidad cre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érminos de inter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 de curvas de oferta 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Heckscher-Oh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uele llamarse a este modelo a una serie de teoremas (que incluyen el de H-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ybczyn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eckscher-Oh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tolper-Samu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gualación de precio de fa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9:45:39Z</dcterms:created>
  <dc:creator>BCCH</dc:creator>
  <dc:description/>
  <dc:language>en-US</dc:language>
  <cp:lastModifiedBy>Gonzalo Becerra</cp:lastModifiedBy>
  <dcterms:modified xsi:type="dcterms:W3CDTF">2009-07-25T12:31:58Z</dcterms:modified>
  <cp:revision>12</cp:revision>
  <dc:subject/>
  <dc:title>Teoría del Comercio Internacional</dc:title>
</cp:coreProperties>
</file>